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0.jpeg" ContentType="image/jpeg"/>
  <Override PartName="/ppt/media/image13.jpeg" ContentType="image/jpeg"/>
  <Override PartName="/ppt/media/image36.jpeg" ContentType="image/jpeg"/>
  <Override PartName="/ppt/media/image2.jpeg" ContentType="image/jpeg"/>
  <Override PartName="/ppt/media/image2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6.jpeg" ContentType="image/jpeg"/>
  <Override PartName="/ppt/media/type.wav" ContentType="audio/x-wav"/>
  <Override PartName="/ppt/media/image56.jpeg" ContentType="image/jpeg"/>
  <Override PartName="/ppt/media/image3.png" ContentType="image/png"/>
  <Override PartName="/ppt/media/image18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25.png" ContentType="image/png"/>
  <Override PartName="/ppt/media/image19.jpeg" ContentType="image/jpeg"/>
  <Override PartName="/ppt/media/image58.jpeg" ContentType="image/jpeg"/>
  <Override PartName="/ppt/media/image26.jpeg" ContentType="image/jpeg"/>
  <Override PartName="/ppt/media/image46.png" ContentType="image/png"/>
  <Override PartName="/ppt/media/image42.jpeg" ContentType="image/jpeg"/>
  <Override PartName="/ppt/media/image59.jpeg" ContentType="image/jpeg"/>
  <Override PartName="/ppt/media/camera.wav" ContentType="audio/x-wav"/>
  <Override PartName="/ppt/media/image22.jpeg" ContentType="image/jpeg"/>
  <Override PartName="/ppt/media/image21.jpeg" ContentType="image/jpeg"/>
  <Override PartName="/ppt/media/image49.jpeg" ContentType="image/jpeg"/>
  <Override PartName="/ppt/media/image20.jpeg" ContentType="image/jpeg"/>
  <Override PartName="/ppt/media/image50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9.jpeg" ContentType="image/jpeg"/>
  <Override PartName="/ppt/media/image23.gif" ContentType="image/gif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BE2-864A-4F7E-A7BB-30F183C7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D02-B939-4560-983A-ED4D6731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BDC-C8CD-4B60-B216-1523203B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EC8-7399-44B7-9319-178EB160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428C-25E5-482D-B7B4-C32F00FA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437F-9701-4427-A403-9E9291B8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621F-CF8C-45CD-962F-CFDB6EC4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621F-E894-416B-95DC-F8BFE145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D1F9-A04B-42CA-A889-DA1A6778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3416-274E-4976-BDCC-64FDD12C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149E-220B-4E5A-BD8F-A6F481AA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8A7-C4B3-40A3-A92C-6C811527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6E45-7230-4F57-A607-E4E8A1B6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525C-454B-4646-AAD8-081D5066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298B-36AB-41BB-924B-06ED5F9F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5377-9814-42D0-917E-CACE5B11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5E20-3725-41CB-8D95-16FBEFB0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B0B7-E1DE-4675-AE17-24A097E1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DBCF0-BCBA-4FCD-8EE6-5763A283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A7826-6812-4A5A-A92D-575DE7A3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4DECA-93C9-47AA-8D8F-BC496A26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8AB42-FD7C-411B-A611-7EDF37F0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FD4-BB8E-40D7-9BFC-23D7F422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56638-97A4-4487-B870-CBCE7BEB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E4630-A9B4-4F31-AFA7-CC66174C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17BDE-CA97-452F-BB51-9CEBC519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512D2-4DA1-4BFB-93A6-9E9C83B4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6CC2F-82AC-4E5D-A1AB-9C605291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C0F56-FCEB-4570-92BB-A096A779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AB408-0A4B-46AA-8611-4A16F235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D34-A394-437E-8966-728A9F21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ADB-4B72-44C0-9B82-7F80E6CF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E00-2A27-46E0-B25B-CE4EF2D9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A08-DE30-47AA-9D65-95D84AE4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546-A215-4C5B-B765-053AC64E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447-1CED-46F4-9B34-65458B3C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5040"/>
                <a:ext cx="1833480" cy="1663920"/>
                <a:chOff x="852840" y="4055040"/>
                <a:chExt cx="183348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3440"/>
                  <a:ext cx="47412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7760" y="4972320"/>
                  <a:ext cx="108720" cy="5000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8D70-51B7-46D8-95C3-13F1D26A0D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78B7-EB2B-4F21-BDFA-AF5EC7CDFF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37480" y="1036080"/>
              <a:ext cx="1017000" cy="1263240"/>
              <a:chOff x="4137480" y="103608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3280" y="107388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37880" y="160704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097880" y="196560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2280" y="294840"/>
              <a:ext cx="888120" cy="833760"/>
              <a:chOff x="5642280" y="29484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3520" y="79848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2400" y="47808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0600" y="39528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6400" y="430920"/>
              <a:ext cx="1692720" cy="1147320"/>
              <a:chOff x="356400" y="43092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58440" y="104976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4760" y="57420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59200" y="10886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AB9C-C8AE-46FE-BC3E-A0EA3046155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gugon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WordArt 6"/>
          <p:cNvSpPr txBox="1"/>
          <p:nvPr/>
        </p:nvSpPr>
        <p:spPr>
          <a:xfrm>
            <a:off x="826920" y="1341360"/>
            <a:ext cx="749016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d317"/>
                </a:solidFill>
                <a:latin typeface="宋体"/>
              </a:rPr>
              <a:t>灿烂的中华文化</a:t>
            </a:r>
            <a:r>
              <a:rPr b="1" lang="en-US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d317"/>
                </a:solidFill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d317"/>
                </a:solidFill>
                <a:latin typeface="宋体"/>
              </a:rPr>
              <a:t>课件免费下载</a:t>
            </a:r>
            <a:endParaRPr b="1" lang="en-US" sz="4000" spc="1" strike="noStrike">
              <a:ln w="12600">
                <a:solidFill>
                  <a:srgbClr val="000000"/>
                </a:solidFill>
                <a:round/>
              </a:ln>
              <a:solidFill>
                <a:srgbClr val="ffd317"/>
              </a:solidFill>
              <a:latin typeface="宋体"/>
              <a:ea typeface="宋体"/>
            </a:endParaRPr>
          </a:p>
        </p:txBody>
      </p:sp>
      <p:sp>
        <p:nvSpPr>
          <p:cNvPr id="21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6699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472428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0" y="47973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dffd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28600" y="1413000"/>
            <a:ext cx="861048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宋体"/>
                <a:ea typeface="Times New Roman"/>
              </a:rPr>
              <a:t> </a:t>
            </a:r>
            <a:r>
              <a:rPr b="1" lang="zh-CN" sz="6000" spc="-1" strike="noStrike">
                <a:solidFill>
                  <a:srgbClr val="006699"/>
                </a:solidFill>
                <a:latin typeface="宋体"/>
                <a:ea typeface="Times New Roman"/>
              </a:rPr>
              <a:t>巴比伦文化最悠久，        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99"/>
                </a:solidFill>
                <a:latin typeface="宋体"/>
                <a:ea typeface="Times New Roman"/>
              </a:rPr>
              <a:t> </a:t>
            </a:r>
            <a:r>
              <a:rPr b="1" lang="zh-CN" sz="6000" spc="-1" strike="noStrike">
                <a:solidFill>
                  <a:srgbClr val="006699"/>
                </a:solidFill>
                <a:latin typeface="宋体"/>
                <a:ea typeface="Times New Roman"/>
              </a:rPr>
              <a:t>但巴比伦国家早已夭折。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33520" y="533412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0" y="617220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6,-6,-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wenhuafengsuamoxigeamayawenhua1"/>
          <p:cNvPicPr/>
          <p:nvPr/>
        </p:nvPicPr>
        <p:blipFill>
          <a:blip r:embed="rId1"/>
          <a:stretch/>
        </p:blipFill>
        <p:spPr>
          <a:xfrm>
            <a:off x="0" y="333360"/>
            <a:ext cx="4067280" cy="586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20051111413451"/>
          <p:cNvPicPr/>
          <p:nvPr/>
        </p:nvPicPr>
        <p:blipFill>
          <a:blip r:embed="rId2"/>
          <a:stretch/>
        </p:blipFill>
        <p:spPr>
          <a:xfrm>
            <a:off x="3995640" y="333360"/>
            <a:ext cx="5148360" cy="58672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6051600" y="1066680"/>
            <a:ext cx="219384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印度婆罗门文化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0" y="472428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0" y="47973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dffd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28600" y="1052640"/>
            <a:ext cx="86104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99"/>
                </a:solidFill>
                <a:latin typeface="宋体"/>
                <a:ea typeface="Times New Roman"/>
              </a:rPr>
              <a:t>印度的婆罗门文化极其辉煌，可创造文化的雅利安人却不是本土居民。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33520" y="533412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0" y="617220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2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5423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shishengrenmianxiang1"/>
          <p:cNvPicPr/>
          <p:nvPr/>
        </p:nvPicPr>
        <p:blipFill>
          <a:blip r:embed="rId2"/>
          <a:stretch/>
        </p:blipFill>
        <p:spPr>
          <a:xfrm>
            <a:off x="2057400" y="228600"/>
            <a:ext cx="5016600" cy="63244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shishengrenmianxiang1"/>
          <p:cNvPicPr/>
          <p:nvPr/>
        </p:nvPicPr>
        <p:blipFill>
          <a:blip r:embed="rId3"/>
          <a:stretch/>
        </p:blipFill>
        <p:spPr>
          <a:xfrm>
            <a:off x="6659640" y="765000"/>
            <a:ext cx="19414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13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472428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0" y="47973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dffd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28600" y="765000"/>
            <a:ext cx="86644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99"/>
                </a:solidFill>
                <a:latin typeface="宋体"/>
                <a:ea typeface="Times New Roman"/>
              </a:rPr>
              <a:t>埃及的文化渊源甚古，但历经希腊化、罗马化，直到</a:t>
            </a:r>
            <a:r>
              <a:rPr b="1" lang="en-US" sz="6600" spc="-1" strike="noStrike">
                <a:solidFill>
                  <a:srgbClr val="006699"/>
                </a:solidFill>
                <a:latin typeface="宋体"/>
                <a:ea typeface="Times New Roman"/>
              </a:rPr>
              <a:t>17</a:t>
            </a:r>
            <a:r>
              <a:rPr b="1" lang="zh-CN" sz="6600" spc="-1" strike="noStrike">
                <a:solidFill>
                  <a:srgbClr val="006699"/>
                </a:solidFill>
                <a:latin typeface="宋体"/>
                <a:ea typeface="Times New Roman"/>
              </a:rPr>
              <a:t>世纪伊斯兰化，已与古代面目全非。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533520" y="533412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0" y="617220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263" name="Picture 3" descr="sf_2004112716393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4"/>
            <p:cNvSpPr/>
            <p:nvPr/>
          </p:nvSpPr>
          <p:spPr>
            <a:xfrm>
              <a:off x="6877080" y="280440"/>
              <a:ext cx="1462680" cy="40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</a:rPr>
                <a:t>玛雅文化－－</a:t>
              </a:r>
              <a:endParaRPr b="0" lang="en-US" sz="48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</a:rPr>
                <a:t>飞行器</a:t>
              </a:r>
              <a:endParaRPr b="0" lang="en-US" sz="4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1500" autoRev="1" fill="hold"/>
                                        <p:tgtEl>
                                          <p:spTgt spid="2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472428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0" y="47973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dffd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28600" y="765000"/>
            <a:ext cx="86104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99"/>
                </a:solidFill>
                <a:latin typeface="宋体"/>
                <a:ea typeface="Times New Roman"/>
              </a:rPr>
              <a:t>玛雅的天文数学无与伦比，可这盛极一时的文化早已被湮没，留给后人千古不解之谜。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533520" y="533412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0" y="617220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0" y="1773360"/>
            <a:ext cx="9144000" cy="2708280"/>
          </a:xfrm>
          <a:prstGeom prst="cloudCallout">
            <a:avLst>
              <a:gd name="adj1" fmla="val -52689"/>
              <a:gd name="adj2" fmla="val -22745"/>
            </a:avLst>
          </a:prstGeom>
          <a:solidFill>
            <a:srgbClr val="edfad2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250920" y="2276640"/>
            <a:ext cx="8893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为什么中华文化历经沧桑，饱受磨难，却绵延不绝，历久弥新？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0" y="3573360"/>
            <a:ext cx="91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3" name="Picture 5" descr="2004dx012001"/>
          <p:cNvPicPr/>
          <p:nvPr/>
        </p:nvPicPr>
        <p:blipFill>
          <a:blip r:embed="rId1"/>
          <a:stretch/>
        </p:blipFill>
        <p:spPr>
          <a:xfrm rot="5675400">
            <a:off x="-193680" y="293832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"/>
                            </p:stCondLst>
                            <p:childTnLst>
                              <p:par>
                                <p:cTn id="1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0475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12"/>
          <p:cNvPicPr/>
          <p:nvPr/>
        </p:nvPicPr>
        <p:blipFill>
          <a:blip r:embed="rId3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3132000" y="907920"/>
            <a:ext cx="561672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中华文明绵延不绝的重要原因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文化的力量深深熔铸在中华民族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生命力、创造力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凝聚力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之中</a:t>
            </a: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4140360" y="4869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民族文化是民族的根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843200" y="685800"/>
            <a:ext cx="4571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你认为最能代表中华文化的人物有哪些？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他们的主要成就是什么？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755640" y="2224080"/>
            <a:ext cx="165564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1d"/>
                </a:solidFill>
                <a:latin typeface="Arial"/>
              </a:rPr>
              <a:t>思想家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735120" y="2981160"/>
            <a:ext cx="160488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1d"/>
                </a:solidFill>
                <a:latin typeface="Arial"/>
              </a:rPr>
              <a:t>军事家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723960" y="3773520"/>
            <a:ext cx="154440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1d"/>
                </a:solidFill>
                <a:latin typeface="Arial"/>
              </a:rPr>
              <a:t>文学家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736560" y="4638600"/>
            <a:ext cx="153180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1d"/>
                </a:solidFill>
                <a:latin typeface="Arial"/>
                <a:ea typeface="黑体"/>
              </a:rPr>
              <a:t>科学家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663480" y="5502240"/>
            <a:ext cx="174780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1d"/>
                </a:solidFill>
                <a:latin typeface="Arial"/>
                <a:ea typeface="黑体"/>
              </a:rPr>
              <a:t>医药学家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2556000" y="2205000"/>
            <a:ext cx="13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孔子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3760200" y="2189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孟子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4911120" y="2189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老子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2556000" y="2981160"/>
            <a:ext cx="35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孙武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孙子兵法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5724360" y="2997360"/>
            <a:ext cx="32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孙膑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孙膑兵法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2463840" y="377676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李白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3543480" y="377352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苏轼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4695840" y="3773520"/>
            <a:ext cx="13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曹雪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6351480" y="3776760"/>
            <a:ext cx="12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鲁迅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2844360" y="458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张衡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2824200" y="550224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华佗  麻沸散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5435640" y="551664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李时珍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华文新魏"/>
              </a:rPr>
              <a:t>〈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本草纲目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华文新魏"/>
              </a:rPr>
              <a:t>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832200" y="458136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祖冲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5632560" y="4568760"/>
            <a:ext cx="13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华文新魏"/>
              </a:rPr>
              <a:t>蔡伦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2" name="Picture 4" descr="工作矢量插图 (9)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1332000" y="1484280"/>
            <a:ext cx="38876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一、中华文化  博大精深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457200" y="18288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00" name="Picture 7" descr="0475"/>
          <p:cNvPicPr/>
          <p:nvPr/>
        </p:nvPicPr>
        <p:blipFill>
          <a:blip r:embed="rId1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12"/>
          <p:cNvPicPr/>
          <p:nvPr/>
        </p:nvPicPr>
        <p:blipFill>
          <a:blip r:embed="rId2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5"/>
          <p:cNvSpPr/>
          <p:nvPr/>
        </p:nvSpPr>
        <p:spPr>
          <a:xfrm>
            <a:off x="0" y="228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独具特色的语言文字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03" name="Picture 11" descr="ms_t1_3"/>
          <p:cNvPicPr/>
          <p:nvPr/>
        </p:nvPicPr>
        <p:blipFill>
          <a:blip r:embed="rId3"/>
          <a:stretch/>
        </p:blipFill>
        <p:spPr>
          <a:xfrm>
            <a:off x="2590920" y="3048120"/>
            <a:ext cx="2361960" cy="3429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兰亭集序"/>
          <p:cNvPicPr/>
          <p:nvPr/>
        </p:nvPicPr>
        <p:blipFill>
          <a:blip r:embed="rId4"/>
          <a:stretch/>
        </p:blipFill>
        <p:spPr>
          <a:xfrm>
            <a:off x="5105520" y="3048120"/>
            <a:ext cx="3886200" cy="3429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汉字的演进3"/>
          <p:cNvPicPr/>
          <p:nvPr/>
        </p:nvPicPr>
        <p:blipFill>
          <a:blip r:embed="rId5"/>
          <a:stretch/>
        </p:blipFill>
        <p:spPr>
          <a:xfrm>
            <a:off x="228600" y="990720"/>
            <a:ext cx="8569440" cy="18921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5" descr="甲骨文"/>
          <p:cNvPicPr/>
          <p:nvPr/>
        </p:nvPicPr>
        <p:blipFill>
          <a:blip r:embed="rId6"/>
          <a:stretch/>
        </p:blipFill>
        <p:spPr>
          <a:xfrm>
            <a:off x="228600" y="2971800"/>
            <a:ext cx="22320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3" descr="2007-12-30_%CE%F7%D3%CE%BC%C7"/>
          <p:cNvPicPr/>
          <p:nvPr/>
        </p:nvPicPr>
        <p:blipFill>
          <a:blip r:embed="rId1"/>
          <a:stretch/>
        </p:blipFill>
        <p:spPr>
          <a:xfrm>
            <a:off x="322200" y="4292640"/>
            <a:ext cx="1513080" cy="2087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643x"/>
          <p:cNvPicPr/>
          <p:nvPr/>
        </p:nvPicPr>
        <p:blipFill>
          <a:blip r:embed="rId2"/>
          <a:stretch/>
        </p:blipFill>
        <p:spPr>
          <a:xfrm>
            <a:off x="7378560" y="1555920"/>
            <a:ext cx="1563840" cy="23000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DE9056"/>
          <p:cNvPicPr/>
          <p:nvPr/>
        </p:nvPicPr>
        <p:blipFill>
          <a:blip r:embed="rId3"/>
          <a:stretch/>
        </p:blipFill>
        <p:spPr>
          <a:xfrm>
            <a:off x="2050920" y="4292640"/>
            <a:ext cx="1511280" cy="2087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0145"/>
          <p:cNvPicPr/>
          <p:nvPr/>
        </p:nvPicPr>
        <p:blipFill>
          <a:blip r:embed="rId4"/>
          <a:stretch/>
        </p:blipFill>
        <p:spPr>
          <a:xfrm>
            <a:off x="322200" y="1628640"/>
            <a:ext cx="1533600" cy="2238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b371ccc96aa08357916bf3b83541eed3"/>
          <p:cNvPicPr/>
          <p:nvPr/>
        </p:nvPicPr>
        <p:blipFill>
          <a:blip r:embed="rId5"/>
          <a:stretch/>
        </p:blipFill>
        <p:spPr>
          <a:xfrm>
            <a:off x="5651640" y="4292640"/>
            <a:ext cx="1523880" cy="20876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9787500118121"/>
          <p:cNvPicPr/>
          <p:nvPr/>
        </p:nvPicPr>
        <p:blipFill>
          <a:blip r:embed="rId6"/>
          <a:stretch/>
        </p:blipFill>
        <p:spPr>
          <a:xfrm>
            <a:off x="3851280" y="4292640"/>
            <a:ext cx="1584360" cy="20876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2819451_b"/>
          <p:cNvPicPr/>
          <p:nvPr/>
        </p:nvPicPr>
        <p:blipFill>
          <a:blip r:embed="rId7"/>
          <a:stretch/>
        </p:blipFill>
        <p:spPr>
          <a:xfrm>
            <a:off x="7451640" y="4292640"/>
            <a:ext cx="1511280" cy="2160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NO4795_sml"/>
          <p:cNvPicPr/>
          <p:nvPr/>
        </p:nvPicPr>
        <p:blipFill>
          <a:blip r:embed="rId8"/>
          <a:stretch/>
        </p:blipFill>
        <p:spPr>
          <a:xfrm>
            <a:off x="2050920" y="1628640"/>
            <a:ext cx="1555920" cy="2222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sishuwujing"/>
          <p:cNvPicPr/>
          <p:nvPr/>
        </p:nvPicPr>
        <p:blipFill>
          <a:blip r:embed="rId9"/>
          <a:stretch/>
        </p:blipFill>
        <p:spPr>
          <a:xfrm>
            <a:off x="3851280" y="1628640"/>
            <a:ext cx="1512720" cy="2232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2" descr="zt_20090306115056423"/>
          <p:cNvPicPr/>
          <p:nvPr/>
        </p:nvPicPr>
        <p:blipFill>
          <a:blip r:embed="rId10"/>
          <a:stretch/>
        </p:blipFill>
        <p:spPr>
          <a:xfrm>
            <a:off x="5578560" y="1628640"/>
            <a:ext cx="1584360" cy="22320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3"/>
          <p:cNvSpPr/>
          <p:nvPr/>
        </p:nvSpPr>
        <p:spPr>
          <a:xfrm>
            <a:off x="304920" y="609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浩如烟海的文化典籍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3"/>
          <p:cNvSpPr/>
          <p:nvPr/>
        </p:nvSpPr>
        <p:spPr>
          <a:xfrm>
            <a:off x="228600" y="5335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名扬世界的科技工艺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395280" y="1916280"/>
            <a:ext cx="8140680" cy="3903120"/>
            <a:chOff x="395280" y="1916280"/>
            <a:chExt cx="8140680" cy="3903120"/>
          </a:xfrm>
        </p:grpSpPr>
        <p:pic>
          <p:nvPicPr>
            <p:cNvPr id="320" name="Picture 5" descr="Img240084124"/>
            <p:cNvPicPr/>
            <p:nvPr/>
          </p:nvPicPr>
          <p:blipFill>
            <a:blip r:embed="rId1"/>
            <a:stretch/>
          </p:blipFill>
          <p:spPr>
            <a:xfrm>
              <a:off x="6567480" y="1916280"/>
              <a:ext cx="1968480" cy="39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6" descr="Img240084123"/>
            <p:cNvPicPr/>
            <p:nvPr/>
          </p:nvPicPr>
          <p:blipFill>
            <a:blip r:embed="rId2"/>
            <a:stretch/>
          </p:blipFill>
          <p:spPr>
            <a:xfrm>
              <a:off x="395280" y="1916280"/>
              <a:ext cx="2000160" cy="39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7" descr="Img240084122"/>
            <p:cNvPicPr/>
            <p:nvPr/>
          </p:nvPicPr>
          <p:blipFill>
            <a:blip r:embed="rId3"/>
            <a:stretch/>
          </p:blipFill>
          <p:spPr>
            <a:xfrm>
              <a:off x="4586040" y="1916280"/>
              <a:ext cx="1857600" cy="371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8" descr="Img240084121"/>
            <p:cNvPicPr/>
            <p:nvPr/>
          </p:nvPicPr>
          <p:blipFill>
            <a:blip r:embed="rId4"/>
            <a:stretch/>
          </p:blipFill>
          <p:spPr>
            <a:xfrm>
              <a:off x="2452680" y="1916280"/>
              <a:ext cx="1982520" cy="390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Rectangle 3"/>
          <p:cNvSpPr/>
          <p:nvPr/>
        </p:nvSpPr>
        <p:spPr>
          <a:xfrm>
            <a:off x="990720" y="5791320"/>
            <a:ext cx="6851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  <a:ea typeface="黑体"/>
              </a:rPr>
              <a:t>四大发明（科技）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———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印刷术、指南针、造纸术、火药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25" name="Picture 7" descr="0475"/>
          <p:cNvPicPr/>
          <p:nvPr/>
        </p:nvPicPr>
        <p:blipFill>
          <a:blip r:embed="rId5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3"/>
          <p:cNvSpPr/>
          <p:nvPr/>
        </p:nvSpPr>
        <p:spPr>
          <a:xfrm>
            <a:off x="0" y="152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异彩纷呈的文学艺术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27" name="Picture 4" descr="200682117361097855"/>
          <p:cNvPicPr/>
          <p:nvPr/>
        </p:nvPicPr>
        <p:blipFill>
          <a:blip r:embed="rId1"/>
          <a:stretch/>
        </p:blipFill>
        <p:spPr>
          <a:xfrm>
            <a:off x="0" y="685800"/>
            <a:ext cx="2843280" cy="2325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beihong2_047"/>
          <p:cNvPicPr/>
          <p:nvPr/>
        </p:nvPicPr>
        <p:blipFill>
          <a:blip r:embed="rId2"/>
          <a:stretch/>
        </p:blipFill>
        <p:spPr>
          <a:xfrm>
            <a:off x="3124080" y="68580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daqian2_013"/>
          <p:cNvPicPr/>
          <p:nvPr/>
        </p:nvPicPr>
        <p:blipFill>
          <a:blip r:embed="rId3"/>
          <a:stretch/>
        </p:blipFill>
        <p:spPr>
          <a:xfrm>
            <a:off x="6019920" y="609480"/>
            <a:ext cx="2519280" cy="23036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7"/>
          <p:cNvSpPr/>
          <p:nvPr/>
        </p:nvSpPr>
        <p:spPr>
          <a:xfrm>
            <a:off x="228600" y="29718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Tahoma"/>
              </a:rPr>
              <a:t>齐　白　石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581280" y="29718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Tahoma"/>
              </a:rPr>
              <a:t>徐　悲　鸿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6324480" y="28954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Tahoma"/>
              </a:rPr>
              <a:t>张　大　千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33" name="Picture 4" descr="龙字2"/>
          <p:cNvPicPr/>
          <p:nvPr/>
        </p:nvPicPr>
        <p:blipFill>
          <a:blip r:embed="rId4"/>
          <a:stretch/>
        </p:blipFill>
        <p:spPr>
          <a:xfrm>
            <a:off x="152280" y="3809880"/>
            <a:ext cx="2438640" cy="2286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龙字5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2819520" y="3809880"/>
            <a:ext cx="2595600" cy="2210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龙字4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5486400" y="3809880"/>
            <a:ext cx="2419200" cy="23623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2"/>
          <p:cNvSpPr/>
          <p:nvPr/>
        </p:nvSpPr>
        <p:spPr>
          <a:xfrm>
            <a:off x="8074080" y="2743200"/>
            <a:ext cx="106992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千变万化的“龙”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37" name="Picture 7" descr="0475"/>
          <p:cNvPicPr/>
          <p:nvPr/>
        </p:nvPicPr>
        <p:blipFill>
          <a:blip r:embed="rId7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充满智慧的中国哲学、完备而深刻的道德伦理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152280" y="1447920"/>
            <a:ext cx="1656000" cy="2103480"/>
            <a:chOff x="152280" y="1447920"/>
            <a:chExt cx="1656000" cy="2103480"/>
          </a:xfrm>
        </p:grpSpPr>
        <p:pic>
          <p:nvPicPr>
            <p:cNvPr id="340" name="Picture 5" descr="老自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165600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6"/>
            <p:cNvSpPr/>
            <p:nvPr/>
          </p:nvSpPr>
          <p:spPr>
            <a:xfrm>
              <a:off x="205200" y="1499040"/>
              <a:ext cx="70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99"/>
                  </a:solidFill>
                  <a:latin typeface="华文行楷"/>
                  <a:ea typeface="华文行楷"/>
                </a:rPr>
                <a:t>老子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42" name="Group 7"/>
          <p:cNvGrpSpPr/>
          <p:nvPr/>
        </p:nvGrpSpPr>
        <p:grpSpPr>
          <a:xfrm>
            <a:off x="2438280" y="1447920"/>
            <a:ext cx="1828800" cy="2087280"/>
            <a:chOff x="2438280" y="1447920"/>
            <a:chExt cx="1828800" cy="2087280"/>
          </a:xfrm>
        </p:grpSpPr>
        <p:pic>
          <p:nvPicPr>
            <p:cNvPr id="343" name="Picture 8" descr="5504002"/>
            <p:cNvPicPr/>
            <p:nvPr/>
          </p:nvPicPr>
          <p:blipFill>
            <a:blip r:embed="rId2"/>
            <a:stretch/>
          </p:blipFill>
          <p:spPr>
            <a:xfrm>
              <a:off x="2438280" y="1447920"/>
              <a:ext cx="182880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9"/>
            <p:cNvSpPr/>
            <p:nvPr/>
          </p:nvSpPr>
          <p:spPr>
            <a:xfrm>
              <a:off x="2438280" y="1559160"/>
              <a:ext cx="69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99"/>
                  </a:solidFill>
                  <a:latin typeface="Times New Roman"/>
                  <a:ea typeface="黑体"/>
                </a:rPr>
                <a:t>孔子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45" name="Group 10"/>
          <p:cNvGrpSpPr/>
          <p:nvPr/>
        </p:nvGrpSpPr>
        <p:grpSpPr>
          <a:xfrm>
            <a:off x="4800600" y="1523880"/>
            <a:ext cx="1512720" cy="2087640"/>
            <a:chOff x="4800600" y="1523880"/>
            <a:chExt cx="1512720" cy="2087640"/>
          </a:xfrm>
        </p:grpSpPr>
        <p:pic>
          <p:nvPicPr>
            <p:cNvPr id="346" name="Picture 11" descr="墨子"/>
            <p:cNvPicPr/>
            <p:nvPr/>
          </p:nvPicPr>
          <p:blipFill>
            <a:blip r:embed="rId3"/>
            <a:stretch/>
          </p:blipFill>
          <p:spPr>
            <a:xfrm>
              <a:off x="4800600" y="1523880"/>
              <a:ext cx="151272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12"/>
            <p:cNvSpPr/>
            <p:nvPr/>
          </p:nvSpPr>
          <p:spPr>
            <a:xfrm>
              <a:off x="4800600" y="1640880"/>
              <a:ext cx="68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99"/>
                  </a:solidFill>
                  <a:latin typeface="黑体"/>
                  <a:ea typeface="黑体"/>
                </a:rPr>
                <a:t>墨子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48" name="Group 13"/>
          <p:cNvGrpSpPr/>
          <p:nvPr/>
        </p:nvGrpSpPr>
        <p:grpSpPr>
          <a:xfrm>
            <a:off x="6858000" y="1523880"/>
            <a:ext cx="1828440" cy="2167200"/>
            <a:chOff x="6858000" y="1523880"/>
            <a:chExt cx="1828440" cy="2167200"/>
          </a:xfrm>
        </p:grpSpPr>
        <p:pic>
          <p:nvPicPr>
            <p:cNvPr id="349" name="Picture 14" descr="5504005"/>
            <p:cNvPicPr/>
            <p:nvPr/>
          </p:nvPicPr>
          <p:blipFill>
            <a:blip r:embed="rId4"/>
            <a:stretch/>
          </p:blipFill>
          <p:spPr>
            <a:xfrm>
              <a:off x="6858000" y="1523880"/>
              <a:ext cx="1762200" cy="21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15"/>
            <p:cNvSpPr/>
            <p:nvPr/>
          </p:nvSpPr>
          <p:spPr>
            <a:xfrm>
              <a:off x="7978680" y="1584000"/>
              <a:ext cx="70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99"/>
                  </a:solidFill>
                  <a:latin typeface="Times New Roman"/>
                  <a:ea typeface="黑体"/>
                </a:rPr>
                <a:t>孟子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51" name="Text Box 19"/>
          <p:cNvSpPr/>
          <p:nvPr/>
        </p:nvSpPr>
        <p:spPr>
          <a:xfrm>
            <a:off x="228600" y="3809880"/>
            <a:ext cx="151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为而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辨证法思想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…</a:t>
            </a:r>
            <a:r>
              <a:rPr b="0" lang="en-US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…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2286000" y="3809880"/>
            <a:ext cx="2209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伦理思想：</a:t>
            </a: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主张仁。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品德方面：</a:t>
            </a: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主张</a:t>
            </a:r>
            <a:r>
              <a:rPr b="1" lang="zh-CN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宽、耻、信、敏、惠、温、良、恭、俭、让</a:t>
            </a:r>
            <a:r>
              <a:rPr b="1" lang="zh-CN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”</a:t>
            </a: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等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…</a:t>
            </a:r>
            <a:r>
              <a:rPr b="0" lang="en-US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…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Text Box 21"/>
          <p:cNvSpPr/>
          <p:nvPr/>
        </p:nvSpPr>
        <p:spPr>
          <a:xfrm>
            <a:off x="4724280" y="3962520"/>
            <a:ext cx="190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哲学政治思想：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兼爱、非攻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逻辑思想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楷体_GB2312"/>
              </a:rPr>
              <a:t> </a:t>
            </a: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。</a:t>
            </a:r>
            <a:br>
              <a:rPr sz="1800"/>
            </a:b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…</a:t>
            </a:r>
            <a:r>
              <a:rPr b="0" lang="en-US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…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6934320" y="3962520"/>
            <a:ext cx="1800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民本思想：</a:t>
            </a: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民为贵、君为轻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道德规范：</a:t>
            </a: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即仁、义、礼、智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…</a:t>
            </a:r>
            <a:r>
              <a:rPr b="0" lang="en-US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…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55" name="Picture 7" descr="0475"/>
          <p:cNvPicPr/>
          <p:nvPr/>
        </p:nvPicPr>
        <p:blipFill>
          <a:blip r:embed="rId5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12"/>
          <p:cNvPicPr/>
          <p:nvPr/>
        </p:nvPicPr>
        <p:blipFill>
          <a:blip r:embed="rId6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80" y="836280"/>
            <a:ext cx="47880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Verdana"/>
                <a:ea typeface="隶书"/>
              </a:rPr>
              <a:t>辨证思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3399"/>
                </a:solidFill>
                <a:latin typeface="Verdana"/>
              </a:rPr>
              <a:t>吃一堑，长一智</a:t>
            </a: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，教育我们从失败中总结经验教训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3399"/>
                </a:solidFill>
                <a:latin typeface="Verdana"/>
              </a:rPr>
              <a:t>车到山前必有路</a:t>
            </a: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是激发身处困境中的人们的勇气、鼓舞其斗志，战胜挫折，看到希望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3399"/>
                </a:solidFill>
                <a:latin typeface="Verdana"/>
              </a:rPr>
              <a:t>祸兮福之所倚，福兮祸之所伏</a:t>
            </a: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. </a:t>
            </a: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3399"/>
                </a:solidFill>
                <a:latin typeface="Verdana"/>
              </a:rPr>
              <a:t>寒翁失马，焉知非福</a:t>
            </a: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3399"/>
                </a:solidFill>
                <a:latin typeface="Verdana"/>
              </a:rPr>
              <a:t>人无远虑，必有近忧</a:t>
            </a: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等充满辩证思想的成语，格言，让人们用辩证的全面的眼光长远地看待周围的人和事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58" name="Picture 3" descr="PKJ_152"/>
          <p:cNvPicPr/>
          <p:nvPr/>
        </p:nvPicPr>
        <p:blipFill>
          <a:blip r:embed="rId1"/>
          <a:stretch/>
        </p:blipFill>
        <p:spPr>
          <a:xfrm>
            <a:off x="4572000" y="1600200"/>
            <a:ext cx="4103640" cy="21528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4"/>
          <p:cNvSpPr/>
          <p:nvPr/>
        </p:nvSpPr>
        <p:spPr>
          <a:xfrm>
            <a:off x="8246880" y="2492280"/>
            <a:ext cx="5461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易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60" name="Picture 5" descr="太极图"/>
          <p:cNvPicPr/>
          <p:nvPr/>
        </p:nvPicPr>
        <p:blipFill>
          <a:blip r:embed="rId2"/>
          <a:stretch/>
        </p:blipFill>
        <p:spPr>
          <a:xfrm>
            <a:off x="4500720" y="3933720"/>
            <a:ext cx="4174920" cy="2519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6"/>
          <p:cNvSpPr/>
          <p:nvPr/>
        </p:nvSpPr>
        <p:spPr>
          <a:xfrm>
            <a:off x="7743960" y="443700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太极图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95280" y="620640"/>
            <a:ext cx="8748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隶书"/>
              </a:rPr>
              <a:t>完备而深刻的道德伦理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黑体"/>
              </a:rPr>
              <a:t>先天下之忧而忧，后天下之乐而乐  </a:t>
            </a:r>
            <a:r>
              <a:rPr b="1" lang="en-US" sz="2800" spc="-1" strike="noStrike">
                <a:solidFill>
                  <a:srgbClr val="cc0066"/>
                </a:solidFill>
                <a:latin typeface="Verdana"/>
                <a:ea typeface="黑体"/>
              </a:rPr>
              <a:t>[</a:t>
            </a: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黑体"/>
              </a:rPr>
              <a:t>范仲淹</a:t>
            </a:r>
            <a:r>
              <a:rPr b="1" lang="en-US" sz="2800" spc="-1" strike="noStrike">
                <a:solidFill>
                  <a:srgbClr val="cc0066"/>
                </a:solidFill>
                <a:latin typeface="Verdana"/>
                <a:ea typeface="黑体"/>
              </a:rPr>
              <a:t>]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黑体"/>
              </a:rPr>
              <a:t>天下兴亡，匹夫有责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Verdana"/>
                <a:ea typeface="黑体"/>
              </a:rPr>
              <a:t>[</a:t>
            </a: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黑体"/>
              </a:rPr>
              <a:t>顾炎武</a:t>
            </a:r>
            <a:r>
              <a:rPr b="1" lang="en-US" sz="2800" spc="-1" strike="noStrike">
                <a:solidFill>
                  <a:srgbClr val="cc0066"/>
                </a:solidFill>
                <a:latin typeface="Verdana"/>
                <a:ea typeface="黑体"/>
              </a:rPr>
              <a:t>]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cc3399"/>
                </a:solidFill>
                <a:latin typeface="Verdana"/>
                <a:ea typeface="黑体"/>
              </a:rPr>
              <a:t>道不同不为谋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cc3399"/>
                </a:solidFill>
                <a:latin typeface="Verdana"/>
                <a:ea typeface="黑体"/>
              </a:rPr>
              <a:t>，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cc3399"/>
                </a:solidFill>
                <a:latin typeface="Verdana"/>
                <a:ea typeface="黑体"/>
              </a:rPr>
              <a:t>择良友而交之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cc3399"/>
                </a:solidFill>
                <a:latin typeface="Verdana"/>
                <a:ea typeface="黑体"/>
              </a:rPr>
              <a:t>，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cc3399"/>
                </a:solidFill>
                <a:latin typeface="Verdana"/>
                <a:ea typeface="黑体"/>
              </a:rPr>
              <a:t>君子之交淡如水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cc3399"/>
                </a:solidFill>
                <a:latin typeface="Verdana"/>
                <a:ea typeface="黑体"/>
              </a:rPr>
              <a:t>，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cc3399"/>
                </a:solidFill>
                <a:latin typeface="Verdana"/>
                <a:ea typeface="黑体"/>
              </a:rPr>
              <a:t>交友贵在交心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黑体"/>
              </a:rPr>
              <a:t>横眉冷对千夫指 ，俯首甘为孺子牛    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黑体"/>
              </a:rPr>
              <a:t>[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黑体"/>
              </a:rPr>
              <a:t>鲁迅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黑体"/>
              </a:rPr>
              <a:t>]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黑体"/>
              </a:rPr>
              <a:t>雷锋精神、铁人精神、为人民服务精神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黑体"/>
              </a:rPr>
              <a:t>胡锦涛总书记的“八荣八耻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黑体"/>
              </a:rPr>
              <a:t>　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黑体"/>
              </a:rPr>
              <a:t>　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黑体"/>
              </a:rPr>
              <a:t>…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3564000" y="47628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3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、   中华文化的构成：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5436720" y="2421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浩如烟海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文化典籍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4716360" y="3141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名扬世界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科技工艺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5365440" y="3860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异彩纷呈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文学艺术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4643280" y="450864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充满智慧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中国哲学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5379840" y="53006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完备而深刻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道德伦理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70" name="Picture 7" descr="0475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12"/>
          <p:cNvPicPr/>
          <p:nvPr/>
        </p:nvPicPr>
        <p:blipFill>
          <a:blip r:embed="rId3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未标题-1 拷贝"/>
          <p:cNvPicPr/>
          <p:nvPr/>
        </p:nvPicPr>
        <p:blipFill>
          <a:blip r:embed="rId1"/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0475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12"/>
          <p:cNvPicPr/>
          <p:nvPr/>
        </p:nvPicPr>
        <p:blipFill>
          <a:blip r:embed="rId3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1"/>
          <p:cNvSpPr/>
          <p:nvPr/>
        </p:nvSpPr>
        <p:spPr>
          <a:xfrm>
            <a:off x="3429000" y="865080"/>
            <a:ext cx="510372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4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、中华文化的特点：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           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6699"/>
                </a:solidFill>
                <a:latin typeface="Arial"/>
                <a:ea typeface="楷体_GB2312"/>
              </a:rPr>
              <a:t>源远流长，博大精深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0475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12"/>
          <p:cNvPicPr/>
          <p:nvPr/>
        </p:nvPicPr>
        <p:blipFill>
          <a:blip r:embed="rId3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6"/>
          <p:cNvSpPr/>
          <p:nvPr/>
        </p:nvSpPr>
        <p:spPr>
          <a:xfrm>
            <a:off x="3635280" y="0"/>
            <a:ext cx="518184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、中华文化的影响：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）不但对今天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中国人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的价值观念、生活方式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中国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的发展道路具有深刻影响，（</a:t>
            </a:r>
            <a:r>
              <a:rPr b="1" lang="en-US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）而且对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人类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的进步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世界文化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的发展产生了深远的影响。（</a:t>
            </a:r>
            <a:r>
              <a:rPr b="1" lang="en-US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）中华文化赋予中华民族强大的创造力，使我们在综合国力竞争中奋发图强，蓬勃向上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"/>
          <p:cNvSpPr/>
          <p:nvPr/>
        </p:nvSpPr>
        <p:spPr>
          <a:xfrm>
            <a:off x="457200" y="18288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5" name="Picture 7" descr="0475"/>
          <p:cNvPicPr/>
          <p:nvPr/>
        </p:nvPicPr>
        <p:blipFill>
          <a:blip r:embed="rId1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12"/>
          <p:cNvPicPr/>
          <p:nvPr/>
        </p:nvPicPr>
        <p:blipFill>
          <a:blip r:embed="rId2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中国行政区图02"/>
          <p:cNvPicPr/>
          <p:nvPr/>
        </p:nvPicPr>
        <p:blipFill>
          <a:blip r:embed="rId3"/>
          <a:stretch/>
        </p:blipFill>
        <p:spPr>
          <a:xfrm>
            <a:off x="3124080" y="2637000"/>
            <a:ext cx="6019920" cy="4495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900000" y="765000"/>
            <a:ext cx="74883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5400" spc="-1" strike="noStrike">
                <a:solidFill>
                  <a:srgbClr val="006699"/>
                </a:solidFill>
                <a:latin typeface="黑体"/>
                <a:ea typeface="黑体"/>
              </a:rPr>
              <a:t>中华文化的形成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黑体"/>
                <a:ea typeface="黑体"/>
              </a:rPr>
              <a:t>中华文化是各族人民在长期的历史进程中</a:t>
            </a:r>
            <a:r>
              <a:rPr b="1" lang="en-US" sz="3600" spc="-1" strike="noStrike">
                <a:solidFill>
                  <a:srgbClr val="006699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6699"/>
                </a:solidFill>
                <a:latin typeface="黑体"/>
                <a:ea typeface="黑体"/>
              </a:rPr>
              <a:t>相互团结</a:t>
            </a:r>
            <a:r>
              <a:rPr b="1" lang="en-US" sz="3600" spc="-1" strike="noStrike">
                <a:solidFill>
                  <a:srgbClr val="006699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6699"/>
                </a:solidFill>
                <a:latin typeface="黑体"/>
                <a:ea typeface="黑体"/>
              </a:rPr>
              <a:t>相互学习</a:t>
            </a:r>
            <a:r>
              <a:rPr b="1" lang="en-US" sz="3600" spc="-1" strike="noStrike">
                <a:solidFill>
                  <a:srgbClr val="006699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6699"/>
                </a:solidFill>
                <a:latin typeface="黑体"/>
                <a:ea typeface="黑体"/>
              </a:rPr>
              <a:t>共同创造的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7" descr="0475"/>
          <p:cNvPicPr/>
          <p:nvPr/>
        </p:nvPicPr>
        <p:blipFill>
          <a:blip r:embed="rId1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12"/>
          <p:cNvPicPr/>
          <p:nvPr/>
        </p:nvPicPr>
        <p:blipFill>
          <a:blip r:embed="rId2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533520" y="114300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83" name="Picture 9" descr="11b35e5164ea6265b0351d78"/>
          <p:cNvPicPr/>
          <p:nvPr/>
        </p:nvPicPr>
        <p:blipFill>
          <a:blip r:embed="rId3"/>
          <a:stretch/>
        </p:blipFill>
        <p:spPr>
          <a:xfrm>
            <a:off x="533520" y="304920"/>
            <a:ext cx="5429160" cy="339084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0"/>
          <p:cNvSpPr/>
          <p:nvPr/>
        </p:nvSpPr>
        <p:spPr>
          <a:xfrm>
            <a:off x="152280" y="4191120"/>
            <a:ext cx="864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《 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孙子兵法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一书被翻成英、俄、德、日等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多种语言文字，全世界有数千种刊印本。美国的西点军校和哈佛商学院高级管理人才培训必读教材，被誉为中华千古奇书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未标题-1 拷贝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0475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12"/>
          <p:cNvPicPr/>
          <p:nvPr/>
        </p:nvPicPr>
        <p:blipFill>
          <a:blip r:embed="rId3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4716360" y="1341360"/>
            <a:ext cx="419112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中华文化的地位：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世界文化大花园中一朵璀璨的奇葩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90" name="Picture 3" descr="工作矢量插图 (9)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4"/>
          <p:cNvSpPr/>
          <p:nvPr/>
        </p:nvSpPr>
        <p:spPr>
          <a:xfrm>
            <a:off x="1332000" y="1557360"/>
            <a:ext cx="38876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二、传统美德  薪火相传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2"/>
          <p:cNvPicPr/>
          <p:nvPr/>
        </p:nvPicPr>
        <p:blipFill>
          <a:blip r:embed="rId1"/>
          <a:stretch/>
        </p:blipFill>
        <p:spPr>
          <a:xfrm>
            <a:off x="1332000" y="1268280"/>
            <a:ext cx="3708360" cy="3573720"/>
          </a:xfrm>
          <a:prstGeom prst="rect">
            <a:avLst/>
          </a:prstGeom>
          <a:ln w="0">
            <a:noFill/>
          </a:ln>
        </p:spPr>
      </p:pic>
      <p:sp>
        <p:nvSpPr>
          <p:cNvPr id="393" name="WordArt 4"/>
          <p:cNvSpPr txBox="1"/>
          <p:nvPr/>
        </p:nvSpPr>
        <p:spPr>
          <a:xfrm>
            <a:off x="2916360" y="5373720"/>
            <a:ext cx="287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楷体_GB2312"/>
              </a:rPr>
              <a:t>爱国</a:t>
            </a:r>
            <a:endParaRPr b="1" lang="en-US" sz="40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250920" y="40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6699"/>
                </a:solidFill>
                <a:latin typeface="Arial"/>
                <a:ea typeface="黑体"/>
              </a:rPr>
              <a:t>公元前１００年，中郎将苏武奉命出使匈奴，因其副使张胜参加匈奴内部的斗争而受牵连，汉朝使节全部被囚禁。匈奴单于派人劝苏武投降，苏武以拔剑自刎相抗，誓死不屈。匈奴又采取各种手段，　　　　　迫苏武就范未成，匈奴单于将苏武流放至荒无　　　　　　人烟的北海（今贝加尔湖）牧羊。深陷绝境　　　　　　　　的苏武以草根野鼠为食，面对南方，　　　　　　　　　　怀念祖国，强烈的爱国信念，使他　　　　　　　　　　　顽强地与困境抗争。他孤身一人　　　　　　　　　　　与羊群相伴１９年，始终不辱汉使　　　　　　　　气节。公元前８１年，因匈奴与汉和好，　　　　　　　　白发苍苍的苏武被遣回朝。苏武临大节而不辱，　　　　经磨难而不屈，坚贞不渝的民族气节和爱国之心千百年来一直为人们所传颂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3"/>
          <p:cNvPicPr/>
          <p:nvPr/>
        </p:nvPicPr>
        <p:blipFill>
          <a:blip r:embed="rId1"/>
          <a:stretch/>
        </p:blipFill>
        <p:spPr>
          <a:xfrm>
            <a:off x="2700360" y="160200"/>
            <a:ext cx="3887640" cy="311004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3"/>
          <p:cNvSpPr/>
          <p:nvPr/>
        </p:nvSpPr>
        <p:spPr>
          <a:xfrm>
            <a:off x="1116000" y="3068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黑体"/>
              </a:rPr>
              <a:t>战国时，廉颇为赵国大将，蔺相如后来居上，廉颇不服，想羞辱蔺相如，蔺相如为了赵国的利益，处处退让。“廉颇闻之，肉袒负荆，因宾客至蔺相如门谢罪。”两人遂为刎颈之交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7" name="WordArt 4"/>
          <p:cNvSpPr txBox="1"/>
          <p:nvPr/>
        </p:nvSpPr>
        <p:spPr>
          <a:xfrm>
            <a:off x="3059280" y="5373720"/>
            <a:ext cx="273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楷体_GB2312"/>
              </a:rPr>
              <a:t>贵和</a:t>
            </a:r>
            <a:endParaRPr b="1" lang="en-US" sz="40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4"/>
          <p:cNvPicPr/>
          <p:nvPr/>
        </p:nvPicPr>
        <p:blipFill>
          <a:blip r:embed="rId1"/>
          <a:stretch/>
        </p:blipFill>
        <p:spPr>
          <a:xfrm>
            <a:off x="2484360" y="-316080"/>
            <a:ext cx="3911760" cy="40053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3"/>
          <p:cNvSpPr/>
          <p:nvPr/>
        </p:nvSpPr>
        <p:spPr>
          <a:xfrm>
            <a:off x="900000" y="292428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秦朝的商鞅，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徙木为信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， 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谁把那木头从城的南门移到城的北门就给予重赏</a:t>
            </a:r>
            <a:r>
              <a:rPr b="1" lang="en-US" sz="2800" spc="-1" strike="noStrike">
                <a:solidFill>
                  <a:srgbClr val="006699"/>
                </a:solidFill>
                <a:latin typeface="黑体"/>
                <a:ea typeface="黑体"/>
              </a:rPr>
              <a:t>(10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金</a:t>
            </a:r>
            <a:r>
              <a:rPr b="1" lang="en-US" sz="2800" spc="-1" strike="noStrike">
                <a:solidFill>
                  <a:srgbClr val="006699"/>
                </a:solidFill>
                <a:latin typeface="黑体"/>
                <a:ea typeface="黑体"/>
              </a:rPr>
              <a:t>)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，人们都表示怀疑，这时，一个年轻人将所立之木搬到北城门，商鞅果然赏</a:t>
            </a:r>
            <a:r>
              <a:rPr b="1" lang="en-US" sz="2800" spc="-1" strike="noStrike">
                <a:solidFill>
                  <a:srgbClr val="006699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金。因为他讲诚信</a:t>
            </a:r>
            <a:r>
              <a:rPr b="1" lang="en-US" sz="2800" spc="-1" strike="noStrike">
                <a:solidFill>
                  <a:srgbClr val="006699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取得了国人的信任，从而使变法得以成功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0" name="WordArt 4"/>
          <p:cNvSpPr txBox="1"/>
          <p:nvPr/>
        </p:nvSpPr>
        <p:spPr>
          <a:xfrm>
            <a:off x="3203640" y="5445000"/>
            <a:ext cx="2592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楷体_GB2312"/>
              </a:rPr>
              <a:t>诚信</a:t>
            </a:r>
            <a:endParaRPr b="1" lang="en-US" sz="40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未标题-1 拷贝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0475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12"/>
          <p:cNvPicPr/>
          <p:nvPr/>
        </p:nvPicPr>
        <p:blipFill>
          <a:blip r:embed="rId3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6"/>
          <p:cNvSpPr/>
          <p:nvPr/>
        </p:nvSpPr>
        <p:spPr>
          <a:xfrm>
            <a:off x="4038480" y="2286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代代相传的传统美德有哪些？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3492360" y="1628640"/>
            <a:ext cx="565164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敬业乐群，公而忘私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奉献精神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天下兴亡，匹夫有责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爱国情操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先天下之忧而忧，后天下之乐而乐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            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崇高志趣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自强不息，艰苦奋斗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昂扬锐气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贫贱不能移，富贵不能淫，威武不能屈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            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浩然正气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鞠躬尽瘁，死而后已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为政风范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厚德载物，道济天下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广阔胸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奋不顾身，舍生取义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雄气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大道之行，天下为公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———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社会理想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…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392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追求精神境界和向往理想人格的崇高道德理想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以集体为本位，以国家、民族利益为重的爱国主义精神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捍卫道德尊严，“守死善道”的精神气节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刚健有为，自强不息的奋斗精神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崇尚人伦和谐的道德传统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注重道德内省和躬行践履的道德传统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5651640" y="189000"/>
            <a:ext cx="29509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苟利国家，不求富贵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不降其志，不辱其身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礼之用，和为贵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与人不求备，检身若不及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志存高远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自胜者强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黑体"/>
              </a:rPr>
              <a:t>君子强学而力行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427280" y="476280"/>
            <a:ext cx="1368720" cy="865080"/>
            <a:chOff x="4427280" y="476280"/>
            <a:chExt cx="1368720" cy="865080"/>
          </a:xfrm>
        </p:grpSpPr>
        <p:sp>
          <p:nvSpPr>
            <p:cNvPr id="409" name="Line 4"/>
            <p:cNvSpPr/>
            <p:nvPr/>
          </p:nvSpPr>
          <p:spPr>
            <a:xfrm flipH="1">
              <a:off x="4427280" y="476280"/>
              <a:ext cx="1368360" cy="8650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4427640" y="476280"/>
              <a:ext cx="1368360" cy="86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427640" y="1413000"/>
            <a:ext cx="1296720" cy="1008000"/>
            <a:chOff x="4427640" y="1413000"/>
            <a:chExt cx="1296720" cy="1008000"/>
          </a:xfrm>
        </p:grpSpPr>
        <p:sp>
          <p:nvSpPr>
            <p:cNvPr id="412" name="Line 5"/>
            <p:cNvSpPr/>
            <p:nvPr/>
          </p:nvSpPr>
          <p:spPr>
            <a:xfrm flipH="1">
              <a:off x="4427640" y="1413000"/>
              <a:ext cx="1296720" cy="1008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4427640" y="1413000"/>
              <a:ext cx="129672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276360" y="2349360"/>
            <a:ext cx="2664000" cy="2303640"/>
            <a:chOff x="3276360" y="2349360"/>
            <a:chExt cx="2664000" cy="2303640"/>
          </a:xfrm>
        </p:grpSpPr>
        <p:sp>
          <p:nvSpPr>
            <p:cNvPr id="415" name="Line 6"/>
            <p:cNvSpPr/>
            <p:nvPr/>
          </p:nvSpPr>
          <p:spPr>
            <a:xfrm flipH="1">
              <a:off x="3276360" y="2349360"/>
              <a:ext cx="2663640" cy="23036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3276720" y="2349360"/>
              <a:ext cx="2663640" cy="230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140000" y="3213000"/>
            <a:ext cx="1656000" cy="2303640"/>
            <a:chOff x="4140000" y="3213000"/>
            <a:chExt cx="1656000" cy="2303640"/>
          </a:xfrm>
        </p:grpSpPr>
        <p:sp>
          <p:nvSpPr>
            <p:cNvPr id="418" name="Line 7"/>
            <p:cNvSpPr/>
            <p:nvPr/>
          </p:nvSpPr>
          <p:spPr>
            <a:xfrm flipH="1">
              <a:off x="4140000" y="3213000"/>
              <a:ext cx="1655640" cy="23036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4140360" y="3213000"/>
              <a:ext cx="1655640" cy="230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427280" y="620280"/>
            <a:ext cx="1368360" cy="3816360"/>
            <a:chOff x="4427280" y="620280"/>
            <a:chExt cx="1368360" cy="3816360"/>
          </a:xfrm>
        </p:grpSpPr>
        <p:sp>
          <p:nvSpPr>
            <p:cNvPr id="421" name="Line 8"/>
            <p:cNvSpPr/>
            <p:nvPr/>
          </p:nvSpPr>
          <p:spPr>
            <a:xfrm flipH="1" flipV="1">
              <a:off x="4427280" y="620280"/>
              <a:ext cx="1368360" cy="3816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 rot="10800000">
              <a:off x="4427280" y="620280"/>
              <a:ext cx="1368360" cy="381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780000" y="3860640"/>
            <a:ext cx="2016000" cy="1368720"/>
            <a:chOff x="3780000" y="3860640"/>
            <a:chExt cx="2016000" cy="1368720"/>
          </a:xfrm>
        </p:grpSpPr>
        <p:sp>
          <p:nvSpPr>
            <p:cNvPr id="424" name="Line 9"/>
            <p:cNvSpPr/>
            <p:nvPr/>
          </p:nvSpPr>
          <p:spPr>
            <a:xfrm flipH="1" flipV="1">
              <a:off x="3780000" y="3860640"/>
              <a:ext cx="2016000" cy="13687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 rot="10800000">
              <a:off x="3780000" y="3860640"/>
              <a:ext cx="2016000" cy="136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780000" y="3933720"/>
            <a:ext cx="2016000" cy="2159280"/>
            <a:chOff x="3780000" y="3933720"/>
            <a:chExt cx="2016000" cy="2159280"/>
          </a:xfrm>
        </p:grpSpPr>
        <p:sp>
          <p:nvSpPr>
            <p:cNvPr id="427" name="Line 10"/>
            <p:cNvSpPr/>
            <p:nvPr/>
          </p:nvSpPr>
          <p:spPr>
            <a:xfrm flipH="1" flipV="1">
              <a:off x="3780000" y="3933720"/>
              <a:ext cx="2016000" cy="21592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 rot="10800000">
              <a:off x="3780000" y="3933720"/>
              <a:ext cx="2016000" cy="215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0475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12"/>
          <p:cNvPicPr/>
          <p:nvPr/>
        </p:nvPicPr>
        <p:blipFill>
          <a:blip r:embed="rId3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6"/>
          <p:cNvSpPr/>
          <p:nvPr/>
        </p:nvSpPr>
        <p:spPr>
          <a:xfrm>
            <a:off x="3581280" y="838080"/>
            <a:ext cx="541044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、传统美德的特点：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传统文化，随着时代变迁和社会进步获得发展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作为中华文化的内在组成部分，</a:t>
            </a:r>
            <a:r>
              <a:rPr b="0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中华传统美德同样具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生不息、历久弥新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的品质，随着时代的变化和实践的发展，其内容和形式也在不断地丰富和发展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12"/>
          <p:cNvPicPr/>
          <p:nvPr/>
        </p:nvPicPr>
        <p:blipFill>
          <a:blip r:embed="rId1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0"/>
          <p:cNvSpPr/>
          <p:nvPr/>
        </p:nvSpPr>
        <p:spPr>
          <a:xfrm>
            <a:off x="0" y="0"/>
            <a:ext cx="91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ahoma"/>
                <a:ea typeface="黑体"/>
              </a:rPr>
              <a:t>【</a:t>
            </a:r>
            <a:r>
              <a:rPr b="1" lang="zh-CN" sz="2400" spc="-1" strike="noStrike">
                <a:solidFill>
                  <a:srgbClr val="006699"/>
                </a:solidFill>
                <a:latin typeface="Tahoma"/>
                <a:ea typeface="黑体"/>
              </a:rPr>
              <a:t>现象点击</a:t>
            </a:r>
            <a:r>
              <a:rPr b="1" lang="en-US" sz="2400" spc="-1" strike="noStrike">
                <a:solidFill>
                  <a:srgbClr val="006699"/>
                </a:solidFill>
                <a:latin typeface="Tahoma"/>
                <a:ea typeface="黑体"/>
              </a:rPr>
              <a:t>】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现象</a:t>
            </a:r>
            <a:r>
              <a:rPr b="1" lang="en-US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：近年来，有一些年轻人对我们的近邻韩国、日本的崇拜几乎达到了疯狂的程度，身上挂着日韩饰物，耳朵听着日韩音乐，眼睛看着日韩剧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这些狂热追求韩、日流行娱乐文化的人我们称之为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哈韩哈日族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现象</a:t>
            </a:r>
            <a:r>
              <a:rPr b="1" lang="en-US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：博大精深的中华文明，造就了色彩纷呈的节日文化。但随着市场经济的迅速发展和外来文化的冲击，中国传统节日文化的概念却在现代人心目中逐渐淡漠，甚至延续千年的春节，人们也仿佛日渐难寻那种曾经的感觉。然而，来自西方的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圣诞节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情人节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愚人节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等却大行其事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ahoma"/>
                <a:ea typeface="黑体"/>
              </a:rPr>
              <a:t>   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现象</a:t>
            </a:r>
            <a:r>
              <a:rPr b="1" lang="en-US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：在香港大学，不少内地来的学生们，英语极佳，英文的流行歌曲也唱得比中文好，却常常看不起自己所在的国家，一开口就是批判，还未毕业，就在香港的外资机构四处觅职，且非外资不去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yueqi1b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3357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gugong"/>
          <p:cNvPicPr/>
          <p:nvPr/>
        </p:nvPicPr>
        <p:blipFill>
          <a:blip r:embed="rId2"/>
          <a:stretch/>
        </p:blipFill>
        <p:spPr>
          <a:xfrm>
            <a:off x="2340000" y="0"/>
            <a:ext cx="3635280" cy="3357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兰亭集序"/>
          <p:cNvPicPr/>
          <p:nvPr/>
        </p:nvPicPr>
        <p:blipFill>
          <a:blip r:embed="rId3"/>
          <a:stretch/>
        </p:blipFill>
        <p:spPr>
          <a:xfrm>
            <a:off x="0" y="0"/>
            <a:ext cx="2627280" cy="3357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zhong3"/>
          <p:cNvPicPr/>
          <p:nvPr/>
        </p:nvPicPr>
        <p:blipFill>
          <a:blip r:embed="rId4"/>
          <a:stretch/>
        </p:blipFill>
        <p:spPr>
          <a:xfrm>
            <a:off x="0" y="3357720"/>
            <a:ext cx="4356000" cy="3500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601952_150227079343_2"/>
          <p:cNvPicPr/>
          <p:nvPr/>
        </p:nvPicPr>
        <p:blipFill>
          <a:blip r:embed="rId5"/>
          <a:stretch/>
        </p:blipFill>
        <p:spPr>
          <a:xfrm>
            <a:off x="4284720" y="3357720"/>
            <a:ext cx="4859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8" descr="12"/>
          <p:cNvPicPr/>
          <p:nvPr/>
        </p:nvPicPr>
        <p:blipFill>
          <a:blip r:embed="rId1"/>
          <a:stretch/>
        </p:blipFill>
        <p:spPr>
          <a:xfrm>
            <a:off x="0" y="5516640"/>
            <a:ext cx="1476360" cy="1341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4"/>
          <p:cNvSpPr/>
          <p:nvPr/>
        </p:nvSpPr>
        <p:spPr>
          <a:xfrm>
            <a:off x="609480" y="137160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你怎么看待这一现象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1143000" y="3581280"/>
            <a:ext cx="7604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）了解传统文化的文化背景和底蕴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）加强传统文化的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保护和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传播；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）对传统文化结合新的时代特征加以继承和发扬，做到古为今用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）面对外来文化，在彼此尊重的基础上平等交流，取其精华，弃其糟粕，做到洋为今用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… …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990720" y="1905120"/>
            <a:ext cx="65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这些人丢掉了自己的文化根，迷失了自己的文化与传统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609480" y="2895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、面对外来文化的冲击，我们青少年可以做些什么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ws_19F"/>
          <p:cNvPicPr/>
          <p:nvPr/>
        </p:nvPicPr>
        <p:blipFill>
          <a:blip r:embed="rId1"/>
          <a:stretch/>
        </p:blipFill>
        <p:spPr>
          <a:xfrm>
            <a:off x="1251000" y="1387440"/>
            <a:ext cx="1947960" cy="37008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3"/>
          <p:cNvSpPr/>
          <p:nvPr/>
        </p:nvSpPr>
        <p:spPr>
          <a:xfrm>
            <a:off x="3827520" y="1503360"/>
            <a:ext cx="184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2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黑体"/>
              </a:rPr>
              <a:t>正确对待传统和外来文化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625120" y="2049480"/>
            <a:ext cx="44175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我们必须继承和发扬我国民族文化的</a:t>
            </a:r>
            <a:r>
              <a:rPr b="0" lang="zh-CN" sz="2200" spc="-1" strike="noStrike" u="sng">
                <a:solidFill>
                  <a:srgbClr val="006699"/>
                </a:solidFill>
                <a:uFillTx/>
                <a:latin typeface="Arial"/>
                <a:ea typeface="楷体_GB2312"/>
              </a:rPr>
              <a:t>优良传统</a:t>
            </a: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，对传统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1618560" y="2593800"/>
            <a:ext cx="1558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22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文化中的</a:t>
            </a:r>
            <a:r>
              <a:rPr b="0" lang="zh-CN" sz="2200" spc="-1" strike="noStrike" u="sng">
                <a:solidFill>
                  <a:srgbClr val="006699"/>
                </a:solidFill>
                <a:uFillTx/>
                <a:latin typeface="Arial"/>
                <a:ea typeface="楷体_GB2312"/>
              </a:rPr>
              <a:t>糟粕</a:t>
            </a: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一定要摒弃。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2061000" y="3139920"/>
            <a:ext cx="498204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99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对外来文化也不能</a:t>
            </a:r>
            <a:r>
              <a:rPr b="0" lang="zh-CN" sz="2200" spc="-1" strike="noStrike" u="sng">
                <a:solidFill>
                  <a:srgbClr val="006699"/>
                </a:solidFill>
                <a:uFillTx/>
                <a:latin typeface="Arial"/>
                <a:ea typeface="楷体_GB2312"/>
              </a:rPr>
              <a:t>全盘</a:t>
            </a: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否定，要学习和吸收世界各国所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3149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创造的</a:t>
            </a:r>
            <a:r>
              <a:rPr b="0" lang="zh-CN" sz="2200" spc="-1" strike="noStrike" u="sng">
                <a:solidFill>
                  <a:srgbClr val="006699"/>
                </a:solidFill>
                <a:uFillTx/>
                <a:latin typeface="Arial"/>
                <a:ea typeface="楷体_GB2312"/>
              </a:rPr>
              <a:t>优秀文化成果</a:t>
            </a: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，同时也要坚决抵制各种外来</a:t>
            </a:r>
            <a:r>
              <a:rPr b="0" lang="zh-CN" sz="2200" spc="-1" strike="noStrike" u="sng">
                <a:solidFill>
                  <a:srgbClr val="006699"/>
                </a:solidFill>
                <a:uFillTx/>
                <a:latin typeface="Arial"/>
                <a:ea typeface="楷体_GB2312"/>
              </a:rPr>
              <a:t>腐朽文化</a:t>
            </a: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的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1012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56520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200" spc="-1" strike="noStrike">
                <a:solidFill>
                  <a:srgbClr val="006699"/>
                </a:solidFill>
                <a:latin typeface="Arial"/>
                <a:ea typeface="楷体_GB2312"/>
              </a:rPr>
              <a:t>侵蚀。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900000" y="4046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练习反馈：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755640" y="1052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826920" y="1268280"/>
            <a:ext cx="741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当前，社会上一些人越来越热衷于过愚人节、圣诞节等洋节日，而中华民族的一些传统节日，如端午节、中秋节等，却被逐渐淡忘。上述现象，我们应该怎样认识？（          ）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外国节日比中国节日更时尚、更有意义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弘扬民族文化必须杜绝一切外来文化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不应以外来文化取代中华民族优秀传统文化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改革开放的需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3203640" y="2421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755640" y="692280"/>
            <a:ext cx="7848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中国是一个拥有五千年灿烂文明的古国，下列选项中，能体现源远流长的中国传统文化中极其珍贵的精神财富的是：（         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人不为己，天诛地灭②先天下之忧而忧，后天下之乐而乐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天下兴亡，匹夫有责④富贵不能淫，贫贱不能移，威武不能屈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 ① ②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 ① ② ④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 ① ② ③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 ② ③ ④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5580000" y="1484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755640" y="115920"/>
            <a:ext cx="7924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、中华文化的特点是：                        （        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中华传统美德的特点是：              （        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开拓创新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具有强大的生命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蕴涵传统美德                    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源远流长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博大精深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.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生生不息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历久弥新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与时俱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7093080" y="476280"/>
            <a:ext cx="6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4246b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914400" y="3645000"/>
            <a:ext cx="708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、以汉字为载体的中华文化正日益走向世界。这说明：       （       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中华文化具有强大的生命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B. 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传统美德具有强大的力量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C. 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中华文化是我们的根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D. 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每一个中华儿女都应该宏扬民族文化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211640" y="414972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246b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7236000" y="981000"/>
            <a:ext cx="6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4246b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533520" y="861840"/>
            <a:ext cx="81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、近年来，很多国家都掀起了学习汉语的热潮，“汉语热”源自中国文化散发出的独特魅力。为满足学习者需求和推广中国文化，我国陆续在世界各地开办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所中外合作孔子学院，这体现了：   （       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中国文化已取代了世界各国文化  ②中国文化的发展不能与外界隔绝   ③中国特色社会主义文化面向世界，具有进步性④中国特色社会主义文化正以深厚的东方底蕴，鲜明的民族风格展现在世界舞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A.①②③        B.②③④           C.①③④          D.①②③④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7885080" y="2205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246b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533520" y="2060640"/>
            <a:ext cx="815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、张平数学没学好，父亲安慰他说：“失败乃成功之母。吃一堑长一智。”从张平父亲的话中，我们看到：      （    　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Ａ．中华传统文化对我们的深刻影响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Ｂ．民族精神的巨大作用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Ｃ．先进文化的鼓舞作用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Ｄ．父慈子孝的传统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2700360" y="2924280"/>
            <a:ext cx="4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246b"/>
                </a:solidFill>
                <a:latin typeface="Times New Roman"/>
              </a:rPr>
              <a:t>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C49D-D660-47F1-8535-65FE58FB94F3}" type="slidenum">
              <a:rPr b="0" lang="zh-CN" sz="1400" spc="-1" strike="noStrike">
                <a:solidFill>
                  <a:srgbClr val="00669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505320" y="1981080"/>
            <a:ext cx="1850760" cy="137376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中华文化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源远流长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博大精深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4952880" y="609480"/>
            <a:ext cx="3353040" cy="36828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我国各族人民在长期的历史过程中共同创造的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5943600" y="2057400"/>
            <a:ext cx="2362320" cy="36828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包括语言文字、文化典籍、科技工艺、文学艺术、哲学、道德伦理等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304920" y="2057400"/>
            <a:ext cx="2666880" cy="39888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深刻影响今天中国人的生活方式、价值观念等；</a:t>
            </a: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极大推动了人类进步和世界文化发展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3505320" y="4114800"/>
            <a:ext cx="2057400" cy="36828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是世界文化大花园中一朵璀璨的奇葩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04920" y="609480"/>
            <a:ext cx="3429000" cy="36828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文化的力量深深熔铸在中华民族的生命力、创造力和凝聚力之中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470" name="AutoShape 8"/>
          <p:cNvCxnSpPr/>
          <p:nvPr/>
        </p:nvCxnSpPr>
        <p:spPr>
          <a:xfrm flipV="1">
            <a:off x="5331960" y="1293120"/>
            <a:ext cx="2520" cy="6865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471" name="Rectangle 9"/>
          <p:cNvSpPr/>
          <p:nvPr/>
        </p:nvSpPr>
        <p:spPr>
          <a:xfrm>
            <a:off x="3048120" y="13716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原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因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5334120" y="274320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构成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2895480" y="2743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影响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4" name="Rectangle 12"/>
          <p:cNvSpPr/>
          <p:nvPr/>
        </p:nvSpPr>
        <p:spPr>
          <a:xfrm>
            <a:off x="412272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地 位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5" name="WordArt 13"/>
          <p:cNvSpPr txBox="1"/>
          <p:nvPr/>
        </p:nvSpPr>
        <p:spPr>
          <a:xfrm>
            <a:off x="0" y="0"/>
            <a:ext cx="3429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课堂小结</a:t>
            </a:r>
            <a:endParaRPr b="1" lang="en-US" sz="4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143000" y="510552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中华民族      生生不息、历久弥新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传统美德     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代代相传、与时俱进。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77" name="Picture 7" descr="0475"/>
          <p:cNvPicPr/>
          <p:nvPr/>
        </p:nvPicPr>
        <p:blipFill>
          <a:blip r:embed="rId1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4419720" y="3352680"/>
            <a:ext cx="360" cy="762120"/>
            <a:chOff x="4419720" y="3352680"/>
            <a:chExt cx="360" cy="762120"/>
          </a:xfrm>
        </p:grpSpPr>
        <p:sp>
          <p:nvSpPr>
            <p:cNvPr id="479" name="Line 17"/>
            <p:cNvSpPr/>
            <p:nvPr/>
          </p:nvSpPr>
          <p:spPr>
            <a:xfrm>
              <a:off x="4419720" y="3352680"/>
              <a:ext cx="0" cy="762120"/>
            </a:xfrm>
            <a:prstGeom prst="line">
              <a:avLst/>
            </a:prstGeom>
            <a:ln w="414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4419720" y="335268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895480" y="2666880"/>
            <a:ext cx="609840" cy="360"/>
            <a:chOff x="2895480" y="2666880"/>
            <a:chExt cx="609840" cy="360"/>
          </a:xfrm>
        </p:grpSpPr>
        <p:sp>
          <p:nvSpPr>
            <p:cNvPr id="482" name="Line 18"/>
            <p:cNvSpPr/>
            <p:nvPr/>
          </p:nvSpPr>
          <p:spPr>
            <a:xfrm flipH="1">
              <a:off x="2895480" y="2666880"/>
              <a:ext cx="609840" cy="0"/>
            </a:xfrm>
            <a:prstGeom prst="line">
              <a:avLst/>
            </a:prstGeom>
            <a:ln w="414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>
              <a:off x="2895480" y="266688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334120" y="2666880"/>
            <a:ext cx="609480" cy="360"/>
            <a:chOff x="5334120" y="2666880"/>
            <a:chExt cx="609480" cy="360"/>
          </a:xfrm>
        </p:grpSpPr>
        <p:sp>
          <p:nvSpPr>
            <p:cNvPr id="485" name="Line 19"/>
            <p:cNvSpPr/>
            <p:nvPr/>
          </p:nvSpPr>
          <p:spPr>
            <a:xfrm>
              <a:off x="5334120" y="2666880"/>
              <a:ext cx="609480" cy="0"/>
            </a:xfrm>
            <a:prstGeom prst="line">
              <a:avLst/>
            </a:prstGeom>
            <a:ln w="414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6" name=""/>
            <p:cNvSpPr txBox="1"/>
            <p:nvPr/>
          </p:nvSpPr>
          <p:spPr>
            <a:xfrm>
              <a:off x="5334120" y="26668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04960" y="1294920"/>
            <a:ext cx="360" cy="685800"/>
            <a:chOff x="3504960" y="1294920"/>
            <a:chExt cx="360" cy="685800"/>
          </a:xfrm>
        </p:grpSpPr>
        <p:sp>
          <p:nvSpPr>
            <p:cNvPr id="488" name="Line 20"/>
            <p:cNvSpPr/>
            <p:nvPr/>
          </p:nvSpPr>
          <p:spPr>
            <a:xfrm flipV="1">
              <a:off x="3505320" y="1294920"/>
              <a:ext cx="0" cy="685800"/>
            </a:xfrm>
            <a:prstGeom prst="line">
              <a:avLst/>
            </a:prstGeom>
            <a:ln w="3816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 rot="10800000">
              <a:off x="3504960" y="1294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90" name="Rectangle 21"/>
          <p:cNvSpPr/>
          <p:nvPr/>
        </p:nvSpPr>
        <p:spPr>
          <a:xfrm>
            <a:off x="5410080" y="13716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形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99"/>
                </a:solidFill>
                <a:latin typeface="Arial"/>
                <a:ea typeface="楷体_GB2312"/>
              </a:rPr>
              <a:t>成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7"/>
          <p:cNvSpPr/>
          <p:nvPr/>
        </p:nvSpPr>
        <p:spPr>
          <a:xfrm>
            <a:off x="2357280" y="2708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5" name="Picture 7" descr="剪纸"/>
          <p:cNvPicPr/>
          <p:nvPr/>
        </p:nvPicPr>
        <p:blipFill>
          <a:blip r:embed="rId1"/>
          <a:stretch/>
        </p:blipFill>
        <p:spPr>
          <a:xfrm>
            <a:off x="0" y="0"/>
            <a:ext cx="4716360" cy="3860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古琴"/>
          <p:cNvPicPr/>
          <p:nvPr/>
        </p:nvPicPr>
        <p:blipFill>
          <a:blip r:embed="rId2"/>
          <a:stretch/>
        </p:blipFill>
        <p:spPr>
          <a:xfrm>
            <a:off x="0" y="3933720"/>
            <a:ext cx="4572000" cy="2781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14110511320718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200481318362175990[1]"/>
          <p:cNvPicPr/>
          <p:nvPr/>
        </p:nvPicPr>
        <p:blipFill>
          <a:blip r:embed="rId1"/>
          <a:stretch/>
        </p:blipFill>
        <p:spPr>
          <a:xfrm>
            <a:off x="179280" y="189000"/>
            <a:ext cx="4608720" cy="6480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u=3865116179,3298138327&amp;gp=2[1]"/>
          <p:cNvPicPr/>
          <p:nvPr/>
        </p:nvPicPr>
        <p:blipFill>
          <a:blip r:embed="rId2"/>
          <a:stretch/>
        </p:blipFill>
        <p:spPr>
          <a:xfrm>
            <a:off x="4932360" y="189000"/>
            <a:ext cx="4032360" cy="6480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539640" y="836640"/>
            <a:ext cx="64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中国功夫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403280" y="93672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我国的传统佳节：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258920" y="2565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春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203640" y="256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端午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508720" y="2565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中秋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1835280" y="3716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重阳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0840" cy="10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66"/>
                </a:solidFill>
                <a:latin typeface="Verdana"/>
              </a:rPr>
              <a:t>你知道他们的来历吗？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汉字：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世界上最古老的文字之一，已经有六千多岁了，它是从甲骨文和金文演变而来。在形体上逐渐由图形变为笔划，象形变为象征，复杂变为简单；在造字原则上从表形、表意到形声。一个字一个音节，绝大多数是形声字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故官：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旧称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紫禁城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，是明清两代的皇宫，在北京市中心、南北中轴线上，是我国现存规模最大、最完整的古建筑群。整个建筑群按中轴线对称分布，层次分明，主体突出，集中体现了我国古代建筑艺术的优秀传统和独特风格，凝聚了我国人民的高度智慧和创造才能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京剧：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流行全国的戏曲剧种，表演上唱、做、念、打并重，表现力丰富。广为流传的传统剧目有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《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霸王别姬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》《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群英会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》《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打渔杀家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》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等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编钟：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我国古代击乐器，由悬挂在木架上的一系列铜制的钟组成。湖北随州出土的编钟有六十四枚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棕子：</a:t>
            </a:r>
            <a:r>
              <a:rPr b="0" lang="zh-CN" sz="2400" spc="-1" strike="noStrike">
                <a:solidFill>
                  <a:srgbClr val="0000cc"/>
                </a:solidFill>
                <a:latin typeface="Verdana"/>
                <a:ea typeface="华文新魏"/>
              </a:rPr>
              <a:t>用箬叶包裹糯米而煮成的食品。屈原投江之后，每年农历五月初五湖南等地的人民以赛龙舟、包粽子等方式来表示纪念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20050921154352931"/>
          <p:cNvPicPr/>
          <p:nvPr/>
        </p:nvPicPr>
        <p:blipFill>
          <a:blip r:embed="rId1"/>
          <a:stretch/>
        </p:blipFill>
        <p:spPr>
          <a:xfrm>
            <a:off x="0" y="0"/>
            <a:ext cx="4140360" cy="6093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59500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4450320" y="5943600"/>
            <a:ext cx="7351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巴比伦文化──空中花园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00:00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52Z</dcterms:modified>
  <cp:revision>14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