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gif" ContentType="image/gif"/>
  <Override PartName="/ppt/media/image11.png" ContentType="image/png"/>
  <Override PartName="/ppt/media/image19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308-9798-4F74-9E42-AA2512EA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EC4-4CF2-4F45-9C29-571FEE77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8B5D6-579B-43BE-B821-42FDC4DE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4EEF5-BCB8-49A8-93F8-4E6CE247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47365-AB42-4CA0-8CA3-0A1F521A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D5C93-6487-462F-AF74-02A90D4B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1EC12-53F6-48D2-A718-9FD12D27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8CA90-759E-402C-A947-40885015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049EB-D21F-4451-87E7-9BB9ECDA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80CAB-0E72-462A-9E87-547BA586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B3762-CAFC-4254-B5AF-DD6DA63E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CF529-DBCF-47A2-BDD8-B04DD2B5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8436-D9B1-40E7-8094-C8BEA494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5EB01-0762-4DAD-BEBC-2DADADDA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24B1F-0684-4587-B411-5ACD5C75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DFBC6-7BC6-40EC-A879-E606527D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61579-3920-4ACB-B818-E2C716C6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4DC75-6B07-4331-9C46-7F9D5F70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97F7A-19E4-4E55-B3BD-55292247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DBC86-6E6C-4465-A235-8AC662BF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C08F1-EAA5-4575-BF8A-ECE6040F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FED44-B03D-4BB9-B38A-FCA21291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15BD3-D855-43DE-A5DA-74583D09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B94-60EA-4A2D-8C15-90565521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E6C98-A06B-4A68-B6E5-932462FC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29E82-4EBD-4C1A-8407-F1250097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5E6EB-0139-45EE-A8AA-E7B8BE56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F588B-A1F5-46F1-9D13-E52CB87D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614BA-4198-493A-B770-E6F1962D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817C9-1628-4A18-9259-8F01DD01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8049A-774D-4EF5-94ED-464E8222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8B39F-3972-42AF-802D-F2240C4B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63CBD-3389-4A35-8186-B211849E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3AE8B-1B78-45CE-A1F9-E7E06AA3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6CEF-423F-405E-9EB1-1549DE22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48CC6-2AFB-4541-B332-546C69D8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4EB90-4C1D-4B04-81C5-624DD626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0B401-BB75-4E46-BB10-22F9149A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4DE46-F9B5-4C6F-A4DA-D50851BD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6A507-231C-44FF-B3FB-1B58FAE3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6F34B-FDDF-4404-89B4-F06EAF25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14EA0-2D23-4285-96EF-0ADD396D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3D6F4-B4FD-4FE5-A599-0AFF3028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9A1E8-451A-47A8-B0A7-96D54BB3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0BDBB-2862-4BF4-8703-0C7D4A03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BC40-BE51-4568-812B-5DF8BDE6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ED55C-0B3B-45F3-9BD7-F186C404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EC8C1-7950-40D0-93F2-43A701FB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03884-5AD3-43F1-8DEA-9FA5D3E8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8EF81-F641-46BA-8BD7-D9FEC1AB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11E05-5033-4975-9CFF-80024C24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E40D7-855A-4F82-84AD-9998588C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9D0D6-926D-4CB1-8461-EB70CE27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B4E92-71BC-4E7C-8D26-35C78C56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E1524-1616-4BFF-B203-8327F988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EB745-35DA-4D9E-AF8E-38EBDF37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4C96-C5A3-486C-AD67-07D3007D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CF2AB-4F0D-4BB3-9C3A-6DC53FC1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3293E7-48FF-4D85-AA24-43CE3679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1B061-F3DC-4EE4-B834-44422B03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7A285-5559-40E5-B065-A4E292E1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C7599-8855-4FBE-A611-B2E28CF0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76D8B-34D7-481E-9A50-0AF387E9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95652-92D1-4E55-8081-2400489F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FFDE94-E33D-4F6E-8050-2083D74D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13F76-C5E7-4769-A8C5-30C1D500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99426-8CB3-4CB9-8CF1-2F2C078E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87A3-DD85-417E-98FA-B9E3BD19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6F7DC4-B7E8-4C0A-A9C0-C8136F05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E02E8F-A113-4318-8BC3-41D6BEBD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1F1DA-70D9-47A6-B521-97CA602D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0112B-E2E8-4A5F-8C33-89BF0A43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33AA6-5CC2-4974-8C69-7C1AF085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4BB342-F26E-41AE-AA74-75A8952E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E6CFDC-BDB9-4C1B-9306-A16F1518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AED587-7F34-4FF6-BD0A-7B28B5D6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14A64-5F11-46EF-B701-9C162FC7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0CBE-7F7F-4B38-92BE-925F604F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3E22-2ACE-4553-94BC-E0ED5543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9148-0F9B-4151-BFB2-7177446D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5D3-84AE-48B5-9E22-E218C67B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1DA4-9F71-46A9-90C1-D4E9DB6E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E986-3380-4148-A1EE-1B0441DF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D241-7FCF-4821-AF90-F4064A82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85E1-72EB-463F-8215-EDBF833A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427B-0029-4482-BE34-8D9AD6A7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060E5-5743-4117-89FD-18B5D4C3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B367E-E292-406A-B46F-98000194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9DB49-A81B-4C8C-A919-25999845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76780-A800-43F8-8A1D-3724F85D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15A40-9A40-4375-88D4-C5480BFA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983-87BC-4E43-ABBC-855F3B8C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E1BDB-07A7-4206-AF7E-59348BD4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F7E64-3812-4C65-8F5B-A2F8B231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B08A5-3ED7-4BA5-B705-8355A44C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6124B-C24F-493C-8F50-0704FA97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DCCE2-F6D6-486B-917B-D9AB869F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7BE44-8F8A-4989-BBE4-BB243C74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D92B6-0E57-42F6-AA07-6B6983F0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68F31-9554-4200-B41C-4A316840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EB73A-C94D-42A1-83A0-90DECB35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F581C-6117-4FC0-B314-F48F3883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21A8-181D-4FB1-BD97-9E66968A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17545-3FF6-4DA5-9BEE-4B74124D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93A3D-83B6-4BC1-A8B6-12745DA8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263B5-F00A-47B1-ACA9-D8E8EF41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498B1-48D1-46F3-81AC-B296BE3A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5D32F-80C3-4D5E-98F0-A8D240BB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D706B-7ED0-4FC3-9D3E-FFD1A0F6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8CB21-D8AA-430F-A0DC-F694B56E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F9059-BDBE-49E2-8BEA-E0F78195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B8E1C-AB93-474D-B030-C21A108E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BAB06-0147-4C9C-B379-CC4127EF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D0D-2015-4887-AB02-A4801B6D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4A1FB-9590-4172-85EF-C94C8EDF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F8B98-A590-423F-A052-5F84DA9E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16C76-641D-4DDA-8046-47676BDE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2C118-59AF-4478-9AA3-B064AE34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7B0C4-93B7-44EB-8A66-A68C3C37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015F1-EC3C-4747-9399-2170DD5D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1EA49-A3AB-462F-80FA-E13CA6D4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B4D57-E6E3-434B-A489-648EECB1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3B638-1389-4DFA-9D45-4D0E47D3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928EF-BAB7-499D-88C7-4A6F0A43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8F7-70D2-41D6-BE91-C0A6DBC7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F6793-789A-4DB9-A096-05050132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2954E-DB3A-42DC-9BC8-85520FA8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3611E-CC37-402D-829E-C2BE0E75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03F69-F78C-405C-B902-79FBB4FE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0DD53-ECE7-4254-96C2-615B0AC6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AE80D-205D-4217-8040-A014308A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AD3AA-00B8-4CA3-AED3-52792493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45BAD-1732-4D0A-863E-16220697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CEC94-A981-45C9-BC51-C4535DB8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54840-2AA4-41CE-9CCF-D020A1C2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BC1D-5F55-42BE-8606-484B7C5B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716FB-E9C1-473E-9FD6-90785ABF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2C7A9-5166-4D1F-B4AE-57B005FE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89008-46E9-4DC5-B214-E830744E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BC24F-7659-4C00-B8A7-DE3457AB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9E52B-FAB8-41F2-B75E-9E5B3603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CB674-DCAB-453E-95FE-78AA14D3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5CAF6-C9EC-4C7C-B0D8-160810B9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29289-0716-40D2-9FD6-922CD5ED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8384C-418A-4C38-94A3-E1770ADA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FE203-EF0F-43DF-B54A-B04DA377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627-0168-4E87-94E1-CD7893B5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64B11-32A9-4B07-9671-45A2ED6F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26EE1-154A-4FB3-8144-AE3FF907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87A63-F8FC-4321-8AC7-5A395CE3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4477F-3F63-4F85-B17D-A5EC2D91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63DBE-68CE-4334-9138-1725CA60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ACC38-EC60-4DBD-8F9C-E8F619B0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3CB55-6500-4B76-A6AC-C9F1D2E6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C5103-8660-44DA-9254-F3E07F52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03FB8-50D7-4322-9720-B831838E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74D87-0D41-472B-9C3B-F2F827D4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321-DDE2-433E-9B70-B6FA8FEE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BE1D9-053E-4D64-A82D-6D3D7924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41418-13C9-40A0-885B-8993EBD0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77C2C-242E-41CE-B569-8D58E962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9F6B4-B2E4-47A8-9B67-986E6161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82A7B-9DE2-4342-A799-79CF1B3D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C8B9F-811A-413D-B0CA-335F5CB4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929DD-F180-46FC-81E0-66F04E6C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4DF78-BF24-45BD-8929-68926A91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3CAA8-1EFE-46C1-874D-C28AC147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C7CF0-A79D-49D3-9DB4-33B768B4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49B1-0531-48AC-B160-231556DEF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C9F4-F2D1-4A55-BB06-817E80D3D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3EFB-0BA8-4BC6-A287-0C30BD655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F87D-8289-44D1-BCE9-93E232FEE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F8E9-43EC-49E0-931A-756C2EABA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95AC-CF69-4A83-B988-DE803213F63D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A1E7-A5EA-4DAB-974E-FA9E9F6040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0478-988C-463D-8DFD-3EF0BF7E4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B91B-CFC9-422B-B815-A2BF53E8F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E359-459E-41EB-8ABD-76FEF09AC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9D9F-43B8-4C3A-8EC9-53ED05058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FCB1-7CAA-4D28-A6D0-C7A80DC57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C74C-3BF4-44B5-9973-D8AE24746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9967-35E3-4885-B08E-2CFD6E422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ic00.com/gif/gif2/5354.html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58720" y="764640"/>
            <a:ext cx="777240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教科版科学三年级上册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WordArt 16"/>
          <p:cNvSpPr txBox="1"/>
          <p:nvPr/>
        </p:nvSpPr>
        <p:spPr>
          <a:xfrm>
            <a:off x="900000" y="2637000"/>
            <a:ext cx="7272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2060"/>
                </a:solidFill>
                <a:latin typeface="宋体"/>
              </a:rPr>
              <a:t>材料在水中的沉浮课件</a:t>
            </a:r>
            <a:r>
              <a:rPr b="1" lang="en-US" sz="4000" spc="-1" strike="noStrike">
                <a:ln w="0">
                  <a:noFill/>
                </a:ln>
                <a:solidFill>
                  <a:srgbClr val="002060"/>
                </a:solidFill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002060"/>
                </a:solidFill>
                <a:latin typeface="宋体"/>
              </a:rPr>
              <a:t>模板下载</a:t>
            </a:r>
            <a:endParaRPr b="1" lang="en-US" sz="4000" spc="-1" strike="noStrike">
              <a:ln w="0">
                <a:noFill/>
              </a:ln>
              <a:solidFill>
                <a:srgbClr val="002060"/>
              </a:solidFill>
              <a:latin typeface="宋体"/>
              <a:ea typeface="宋体"/>
            </a:endParaRPr>
          </a:p>
        </p:txBody>
      </p:sp>
      <p:sp>
        <p:nvSpPr>
          <p:cNvPr id="576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6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7" descr="图片1"/>
          <p:cNvPicPr/>
          <p:nvPr/>
        </p:nvPicPr>
        <p:blipFill>
          <a:blip r:embed="rId2"/>
          <a:stretch/>
        </p:blipFill>
        <p:spPr>
          <a:xfrm>
            <a:off x="0" y="0"/>
            <a:ext cx="9360000" cy="7074000"/>
          </a:xfrm>
          <a:prstGeom prst="rect">
            <a:avLst/>
          </a:prstGeom>
          <a:ln w="0">
            <a:noFill/>
          </a:ln>
        </p:spPr>
      </p:pic>
      <p:sp>
        <p:nvSpPr>
          <p:cNvPr id="671" name="文本框 8199"/>
          <p:cNvSpPr/>
          <p:nvPr/>
        </p:nvSpPr>
        <p:spPr>
          <a:xfrm>
            <a:off x="90360" y="6648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保护树木　人人有责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73" name="Picture 12" descr="图片13"/>
          <p:cNvPicPr/>
          <p:nvPr/>
        </p:nvPicPr>
        <p:blipFill>
          <a:blip r:embed="rId1"/>
          <a:stretch/>
        </p:blipFill>
        <p:spPr>
          <a:xfrm>
            <a:off x="0" y="0"/>
            <a:ext cx="4138560" cy="2925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3" descr="图片14"/>
          <p:cNvPicPr/>
          <p:nvPr/>
        </p:nvPicPr>
        <p:blipFill>
          <a:blip r:embed="rId2"/>
          <a:stretch/>
        </p:blipFill>
        <p:spPr>
          <a:xfrm>
            <a:off x="4500720" y="0"/>
            <a:ext cx="4103640" cy="29242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图片15"/>
          <p:cNvPicPr/>
          <p:nvPr/>
        </p:nvPicPr>
        <p:blipFill>
          <a:blip r:embed="rId3"/>
          <a:stretch/>
        </p:blipFill>
        <p:spPr>
          <a:xfrm>
            <a:off x="0" y="3905280"/>
            <a:ext cx="4140360" cy="29527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5" descr="图片16"/>
          <p:cNvPicPr/>
          <p:nvPr/>
        </p:nvPicPr>
        <p:blipFill>
          <a:blip r:embed="rId4"/>
          <a:stretch/>
        </p:blipFill>
        <p:spPr>
          <a:xfrm>
            <a:off x="4500720" y="3716280"/>
            <a:ext cx="4140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07640" y="836640"/>
            <a:ext cx="2808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拓展研究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979280" y="1196640"/>
            <a:ext cx="65530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如何杜绝生活中浪费木材资源的现象？你有什么好办法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2050920" y="4221000"/>
            <a:ext cx="5834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同学们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你们还知道哪些木材的替代品呢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7484-A412-4CBB-BDE3-18D73F6E574B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8"/>
          <p:cNvSpPr/>
          <p:nvPr/>
        </p:nvSpPr>
        <p:spPr>
          <a:xfrm>
            <a:off x="2916360" y="3068640"/>
            <a:ext cx="496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85" name="Picture 12" descr="58ff652098eebc75935807c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13"/>
          <p:cNvSpPr/>
          <p:nvPr/>
        </p:nvSpPr>
        <p:spPr>
          <a:xfrm>
            <a:off x="2987640" y="3357720"/>
            <a:ext cx="41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7" name="WordArt 14"/>
          <p:cNvSpPr txBox="1"/>
          <p:nvPr/>
        </p:nvSpPr>
        <p:spPr>
          <a:xfrm>
            <a:off x="2700360" y="2997360"/>
            <a:ext cx="446724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谢谢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!</a:t>
            </a: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再见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!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78920" y="5805000"/>
            <a:ext cx="230508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塑料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50920" y="2781000"/>
            <a:ext cx="8540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木头　　　　　金属　　　　　　　纸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9" name="Picture 13" descr="20073161025205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292640"/>
            <a:ext cx="1979640" cy="1800360"/>
          </a:xfrm>
          <a:prstGeom prst="rect">
            <a:avLst/>
          </a:prstGeom>
          <a:ln w="0">
            <a:noFill/>
          </a:ln>
        </p:spPr>
      </p:pic>
      <p:sp>
        <p:nvSpPr>
          <p:cNvPr id="580" name="AutoShape 14"/>
          <p:cNvSpPr/>
          <p:nvPr/>
        </p:nvSpPr>
        <p:spPr>
          <a:xfrm>
            <a:off x="3203640" y="3500280"/>
            <a:ext cx="4537080" cy="2521080"/>
          </a:xfrm>
          <a:prstGeom prst="cloudCallout">
            <a:avLst>
              <a:gd name="adj1" fmla="val 41495"/>
              <a:gd name="adj2" fmla="val 54722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猜一猜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这些材料在水中是沉还是浮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15" descr="图片3"/>
          <p:cNvPicPr/>
          <p:nvPr/>
        </p:nvPicPr>
        <p:blipFill>
          <a:blip r:embed="rId3"/>
          <a:stretch/>
        </p:blipFill>
        <p:spPr>
          <a:xfrm>
            <a:off x="250920" y="620640"/>
            <a:ext cx="2176200" cy="1878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6" descr="图片4"/>
          <p:cNvPicPr/>
          <p:nvPr/>
        </p:nvPicPr>
        <p:blipFill>
          <a:blip r:embed="rId4"/>
          <a:stretch/>
        </p:blipFill>
        <p:spPr>
          <a:xfrm>
            <a:off x="2987640" y="549360"/>
            <a:ext cx="2378160" cy="1944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7" descr="图片5"/>
          <p:cNvPicPr/>
          <p:nvPr/>
        </p:nvPicPr>
        <p:blipFill>
          <a:blip r:embed="rId5"/>
          <a:stretch/>
        </p:blipFill>
        <p:spPr>
          <a:xfrm>
            <a:off x="6084720" y="549360"/>
            <a:ext cx="2590920" cy="2017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8" descr="图片6"/>
          <p:cNvPicPr/>
          <p:nvPr/>
        </p:nvPicPr>
        <p:blipFill>
          <a:blip r:embed="rId6"/>
          <a:stretch/>
        </p:blipFill>
        <p:spPr>
          <a:xfrm>
            <a:off x="179280" y="3284640"/>
            <a:ext cx="25606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250920" y="404280"/>
            <a:ext cx="860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想一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怎样来判断材料的沉浮？如何算沉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物体向下碰到水槽底部，就代表它在水中是沉的，如果物体不能碰到水槽底部，就代表它在水中是浮的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0" y="3789360"/>
            <a:ext cx="9325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一切推理都必须从观察与实验中得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　　　　　　　　　　　　　　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伽利略 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矩形 5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1907640" y="475920"/>
            <a:ext cx="65516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实验要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填写实验记录表，</a:t>
            </a: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先预测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再实验，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做好记录。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沉，浮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表示）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按照顺序一个一个测试材料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种材料测试完之后即取出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再进行下一种材料的测试，同一种物品至少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实验三次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做实验时请同学们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拿轻放到水中央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防止水滴溅到桌面上。</a:t>
            </a:r>
            <a:r>
              <a:rPr b="0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9" name="Picture 7" descr=""/>
          <p:cNvPicPr/>
          <p:nvPr/>
        </p:nvPicPr>
        <p:blipFill>
          <a:blip r:embed="rId1"/>
          <a:stretch/>
        </p:blipFill>
        <p:spPr>
          <a:xfrm>
            <a:off x="0" y="549360"/>
            <a:ext cx="1800360" cy="2160360"/>
          </a:xfrm>
          <a:prstGeom prst="rect">
            <a:avLst/>
          </a:prstGeom>
          <a:ln w="0">
            <a:noFill/>
          </a:ln>
        </p:spPr>
      </p:pic>
      <p:pic>
        <p:nvPicPr>
          <p:cNvPr id="590" name="azm.wma" descr=""/>
          <p:cNvPicPr/>
          <p:nvPr/>
        </p:nvPicPr>
        <p:blipFill>
          <a:blip r:embed="rId2"/>
          <a:stretch/>
        </p:blipFill>
        <p:spPr>
          <a:xfrm>
            <a:off x="755640" y="616572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94159" fill="hold"/>
                                        <p:tgtEl>
                                          <p:spTgt spid="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常见材料在水中的沉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395280" y="1052640"/>
          <a:ext cx="7583400" cy="4824360"/>
        </p:xfrm>
        <a:graphic>
          <a:graphicData uri="http://schemas.openxmlformats.org/drawingml/2006/table">
            <a:tbl>
              <a:tblPr/>
              <a:tblGrid>
                <a:gridCol w="2529000"/>
                <a:gridCol w="2525760"/>
                <a:gridCol w="2528640"/>
              </a:tblGrid>
              <a:tr h="100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材料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预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实验结果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金属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金属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塑料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木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泡沫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3" name="Text Box 202"/>
          <p:cNvSpPr/>
          <p:nvPr/>
        </p:nvSpPr>
        <p:spPr>
          <a:xfrm>
            <a:off x="6588000" y="3645000"/>
            <a:ext cx="13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4" name="Picture 211" descr="u=3914128146,2146593543&amp;fm=0&amp;gp=4[1]"/>
          <p:cNvPicPr/>
          <p:nvPr/>
        </p:nvPicPr>
        <p:blipFill>
          <a:blip r:embed="rId1"/>
          <a:stretch/>
        </p:blipFill>
        <p:spPr>
          <a:xfrm>
            <a:off x="8101080" y="5445000"/>
            <a:ext cx="1042920" cy="107964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212"/>
          <p:cNvSpPr/>
          <p:nvPr/>
        </p:nvSpPr>
        <p:spPr>
          <a:xfrm>
            <a:off x="3780000" y="5877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通过实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你发现了什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6" name="Text Box 258"/>
          <p:cNvSpPr/>
          <p:nvPr/>
        </p:nvSpPr>
        <p:spPr>
          <a:xfrm>
            <a:off x="6012000" y="213372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Text Box 259"/>
          <p:cNvSpPr/>
          <p:nvPr/>
        </p:nvSpPr>
        <p:spPr>
          <a:xfrm>
            <a:off x="6012000" y="2781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Text Box 260"/>
          <p:cNvSpPr/>
          <p:nvPr/>
        </p:nvSpPr>
        <p:spPr>
          <a:xfrm>
            <a:off x="6732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Text Box 261"/>
          <p:cNvSpPr/>
          <p:nvPr/>
        </p:nvSpPr>
        <p:spPr>
          <a:xfrm>
            <a:off x="6012000" y="3429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Text Box 262"/>
          <p:cNvSpPr/>
          <p:nvPr/>
        </p:nvSpPr>
        <p:spPr>
          <a:xfrm>
            <a:off x="5867280" y="4076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Text Box 263"/>
          <p:cNvSpPr/>
          <p:nvPr/>
        </p:nvSpPr>
        <p:spPr>
          <a:xfrm>
            <a:off x="5796000" y="4724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Text Box 264"/>
          <p:cNvSpPr/>
          <p:nvPr/>
        </p:nvSpPr>
        <p:spPr>
          <a:xfrm>
            <a:off x="6227640" y="472428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03" name="azm.wma" descr=""/>
          <p:cNvPicPr/>
          <p:nvPr/>
        </p:nvPicPr>
        <p:blipFill>
          <a:blip r:embed="rId2"/>
          <a:stretch/>
        </p:blipFill>
        <p:spPr>
          <a:xfrm>
            <a:off x="7812000" y="5950080"/>
            <a:ext cx="432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94159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我们的发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2349000"/>
            <a:ext cx="8893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像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金属类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材料制成的物体在水中大都     　　； 像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木头、塑料、泡沫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类材料制成的物体在水中         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6948360" y="2349360"/>
            <a:ext cx="1511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容易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826920" y="3284640"/>
            <a:ext cx="151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容易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250920" y="4508640"/>
            <a:ext cx="806616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物体在水中的沉浮与构成物体的　　　有关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9" name="Text Box 11"/>
          <p:cNvSpPr/>
          <p:nvPr/>
        </p:nvSpPr>
        <p:spPr>
          <a:xfrm>
            <a:off x="7093080" y="3789360"/>
            <a:ext cx="59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5651640" y="4437000"/>
            <a:ext cx="122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材料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7020000" y="2924280"/>
            <a:ext cx="1441440" cy="360"/>
            <a:chOff x="7020000" y="2924280"/>
            <a:chExt cx="1441440" cy="360"/>
          </a:xfrm>
        </p:grpSpPr>
        <p:sp>
          <p:nvSpPr>
            <p:cNvPr id="612" name="Line 13"/>
            <p:cNvSpPr/>
            <p:nvPr/>
          </p:nvSpPr>
          <p:spPr>
            <a:xfrm>
              <a:off x="7020000" y="2924280"/>
              <a:ext cx="144144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7020000" y="2924280"/>
              <a:ext cx="144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755640" y="3860640"/>
            <a:ext cx="1512720" cy="360"/>
            <a:chOff x="755640" y="3860640"/>
            <a:chExt cx="1512720" cy="360"/>
          </a:xfrm>
        </p:grpSpPr>
        <p:sp>
          <p:nvSpPr>
            <p:cNvPr id="615" name="Line 14"/>
            <p:cNvSpPr/>
            <p:nvPr/>
          </p:nvSpPr>
          <p:spPr>
            <a:xfrm>
              <a:off x="755640" y="3860640"/>
              <a:ext cx="151272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755640" y="3860640"/>
              <a:ext cx="151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508720" y="5084640"/>
            <a:ext cx="1079280" cy="360"/>
            <a:chOff x="5508720" y="5084640"/>
            <a:chExt cx="1079280" cy="360"/>
          </a:xfrm>
        </p:grpSpPr>
        <p:sp>
          <p:nvSpPr>
            <p:cNvPr id="618" name="Line 15"/>
            <p:cNvSpPr/>
            <p:nvPr/>
          </p:nvSpPr>
          <p:spPr>
            <a:xfrm>
              <a:off x="5508720" y="5084640"/>
              <a:ext cx="107928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9" name=""/>
            <p:cNvSpPr txBox="1"/>
            <p:nvPr/>
          </p:nvSpPr>
          <p:spPr>
            <a:xfrm>
              <a:off x="5508720" y="5084640"/>
              <a:ext cx="107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20" name="文本框 8199"/>
          <p:cNvSpPr/>
          <p:nvPr/>
        </p:nvSpPr>
        <p:spPr>
          <a:xfrm>
            <a:off x="826920" y="1644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4"/>
          <p:cNvSpPr/>
          <p:nvPr/>
        </p:nvSpPr>
        <p:spPr>
          <a:xfrm>
            <a:off x="3924360" y="544500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0" y="4508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一定的柔韧性，易加工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6732720" y="4508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468360" y="4581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3419640" y="45086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能浮在水面上，轻巧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5796000" y="450864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坚实、耐用，易加工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27" name="Picture 18" descr="图片7"/>
          <p:cNvPicPr/>
          <p:nvPr/>
        </p:nvPicPr>
        <p:blipFill>
          <a:blip r:embed="rId1"/>
          <a:stretch/>
        </p:blipFill>
        <p:spPr>
          <a:xfrm>
            <a:off x="0" y="1052640"/>
            <a:ext cx="2847960" cy="28699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9" descr="图片8"/>
          <p:cNvPicPr/>
          <p:nvPr/>
        </p:nvPicPr>
        <p:blipFill>
          <a:blip r:embed="rId2"/>
          <a:stretch/>
        </p:blipFill>
        <p:spPr>
          <a:xfrm>
            <a:off x="2987640" y="1052640"/>
            <a:ext cx="2743200" cy="28573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0" descr="图片9"/>
          <p:cNvPicPr/>
          <p:nvPr/>
        </p:nvPicPr>
        <p:blipFill>
          <a:blip r:embed="rId3"/>
          <a:stretch/>
        </p:blipFill>
        <p:spPr>
          <a:xfrm>
            <a:off x="5940360" y="1052640"/>
            <a:ext cx="284976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7"/>
          <p:cNvSpPr/>
          <p:nvPr/>
        </p:nvSpPr>
        <p:spPr>
          <a:xfrm>
            <a:off x="250920" y="4653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承重能力强，坚实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3635280" y="4653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容易加工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6372360" y="4581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轻巧，耐用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3" name="Picture 11" descr="图片10"/>
          <p:cNvPicPr/>
          <p:nvPr/>
        </p:nvPicPr>
        <p:blipFill>
          <a:blip r:embed="rId1"/>
          <a:stretch/>
        </p:blipFill>
        <p:spPr>
          <a:xfrm>
            <a:off x="179280" y="1341360"/>
            <a:ext cx="2414520" cy="28861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2" descr="图片11"/>
          <p:cNvPicPr/>
          <p:nvPr/>
        </p:nvPicPr>
        <p:blipFill>
          <a:blip r:embed="rId2"/>
          <a:stretch/>
        </p:blipFill>
        <p:spPr>
          <a:xfrm>
            <a:off x="3276720" y="1341360"/>
            <a:ext cx="2670120" cy="28162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3" descr="图片12"/>
          <p:cNvPicPr/>
          <p:nvPr/>
        </p:nvPicPr>
        <p:blipFill>
          <a:blip r:embed="rId3"/>
          <a:stretch/>
        </p:blipFill>
        <p:spPr>
          <a:xfrm>
            <a:off x="6227640" y="1413000"/>
            <a:ext cx="2605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266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木头的性质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684360" y="1125720"/>
            <a:ext cx="7271640" cy="4894200"/>
            <a:chOff x="684360" y="1125720"/>
            <a:chExt cx="7271640" cy="4894200"/>
          </a:xfrm>
        </p:grpSpPr>
        <p:sp>
          <p:nvSpPr>
            <p:cNvPr id="638" name="Oval 5"/>
            <p:cNvSpPr/>
            <p:nvPr/>
          </p:nvSpPr>
          <p:spPr>
            <a:xfrm>
              <a:off x="3450600" y="2966040"/>
              <a:ext cx="1731240" cy="121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木头</a:t>
              </a:r>
              <a:r>
                <a:rPr b="0" lang="zh-CN" sz="1200" spc="-1" strike="noStrike">
                  <a:solidFill>
                    <a:srgbClr val="007a77"/>
                  </a:solidFill>
                  <a:latin typeface="宋体"/>
                </a:rPr>
                <a:t>	</a:t>
              </a:r>
              <a:endParaRPr b="0" lang="en-US" sz="1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9" name="Oval 6"/>
            <p:cNvSpPr/>
            <p:nvPr/>
          </p:nvSpPr>
          <p:spPr>
            <a:xfrm>
              <a:off x="6224760" y="2972520"/>
              <a:ext cx="1731240" cy="121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坚实耐用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5186160" y="3575880"/>
              <a:ext cx="1034640" cy="5760"/>
              <a:chOff x="5186160" y="3575880"/>
              <a:chExt cx="1034640" cy="5760"/>
            </a:xfrm>
          </p:grpSpPr>
          <p:sp>
            <p:nvSpPr>
              <p:cNvPr id="641" name="Line 7"/>
              <p:cNvSpPr/>
              <p:nvPr/>
            </p:nvSpPr>
            <p:spPr>
              <a:xfrm flipV="1">
                <a:off x="5186160" y="3575880"/>
                <a:ext cx="103464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 txBox="1"/>
              <p:nvPr/>
            </p:nvSpPr>
            <p:spPr>
              <a:xfrm rot="10800000">
                <a:off x="5186160" y="3575880"/>
                <a:ext cx="1034640" cy="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2412000" y="3575880"/>
              <a:ext cx="1038600" cy="360"/>
              <a:chOff x="2412000" y="3575880"/>
              <a:chExt cx="1038600" cy="360"/>
            </a:xfrm>
          </p:grpSpPr>
          <p:sp>
            <p:nvSpPr>
              <p:cNvPr id="644" name="Line 8"/>
              <p:cNvSpPr/>
              <p:nvPr/>
            </p:nvSpPr>
            <p:spPr>
              <a:xfrm>
                <a:off x="2412000" y="3575880"/>
                <a:ext cx="103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 txBox="1"/>
              <p:nvPr/>
            </p:nvSpPr>
            <p:spPr>
              <a:xfrm>
                <a:off x="2412000" y="3575880"/>
                <a:ext cx="103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646" name="Oval 9"/>
            <p:cNvSpPr/>
            <p:nvPr/>
          </p:nvSpPr>
          <p:spPr>
            <a:xfrm>
              <a:off x="684360" y="2972520"/>
              <a:ext cx="1731240" cy="121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承重能力强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647" name="Group 10"/>
            <p:cNvGrpSpPr/>
            <p:nvPr/>
          </p:nvGrpSpPr>
          <p:grpSpPr>
            <a:xfrm>
              <a:off x="2069280" y="4179960"/>
              <a:ext cx="4493160" cy="1839960"/>
              <a:chOff x="2069280" y="4179960"/>
              <a:chExt cx="4493160" cy="1839960"/>
            </a:xfrm>
          </p:grpSpPr>
          <p:grpSp>
            <p:nvGrpSpPr>
              <p:cNvPr id="648" name="Group 11"/>
              <p:cNvGrpSpPr/>
              <p:nvPr/>
            </p:nvGrpSpPr>
            <p:grpSpPr>
              <a:xfrm>
                <a:off x="2069280" y="4185720"/>
                <a:ext cx="2073240" cy="1834200"/>
                <a:chOff x="2069280" y="4185720"/>
                <a:chExt cx="2073240" cy="1834200"/>
              </a:xfrm>
            </p:grpSpPr>
            <p:grpSp>
              <p:nvGrpSpPr>
                <p:cNvPr id="649" name=""/>
                <p:cNvGrpSpPr/>
                <p:nvPr/>
              </p:nvGrpSpPr>
              <p:grpSpPr>
                <a:xfrm>
                  <a:off x="3453480" y="4185720"/>
                  <a:ext cx="689040" cy="919800"/>
                  <a:chOff x="3453480" y="4185720"/>
                  <a:chExt cx="689040" cy="919800"/>
                </a:xfrm>
              </p:grpSpPr>
              <p:sp>
                <p:nvSpPr>
                  <p:cNvPr id="650" name="Line 12"/>
                  <p:cNvSpPr/>
                  <p:nvPr/>
                </p:nvSpPr>
                <p:spPr>
                  <a:xfrm flipH="1">
                    <a:off x="3453480" y="4185720"/>
                    <a:ext cx="688680" cy="919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 txBox="1"/>
                  <p:nvPr/>
                </p:nvSpPr>
                <p:spPr>
                  <a:xfrm>
                    <a:off x="3453840" y="4185720"/>
                    <a:ext cx="688680" cy="91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" name="Oval 13"/>
                <p:cNvSpPr/>
                <p:nvPr/>
              </p:nvSpPr>
              <p:spPr>
                <a:xfrm>
                  <a:off x="2069280" y="4800960"/>
                  <a:ext cx="1730880" cy="1218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a77"/>
                      </a:solidFill>
                      <a:latin typeface="Arial"/>
                    </a:rPr>
                    <a:t>轻巧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" name="Group 14"/>
              <p:cNvGrpSpPr/>
              <p:nvPr/>
            </p:nvGrpSpPr>
            <p:grpSpPr>
              <a:xfrm>
                <a:off x="4489560" y="4179960"/>
                <a:ext cx="2072880" cy="1834200"/>
                <a:chOff x="4489560" y="4179960"/>
                <a:chExt cx="2072880" cy="1834200"/>
              </a:xfrm>
            </p:grpSpPr>
            <p:grpSp>
              <p:nvGrpSpPr>
                <p:cNvPr id="654" name=""/>
                <p:cNvGrpSpPr/>
                <p:nvPr/>
              </p:nvGrpSpPr>
              <p:grpSpPr>
                <a:xfrm>
                  <a:off x="4489560" y="4179960"/>
                  <a:ext cx="688320" cy="919800"/>
                  <a:chOff x="4489560" y="4179960"/>
                  <a:chExt cx="688320" cy="919800"/>
                </a:xfrm>
              </p:grpSpPr>
              <p:sp>
                <p:nvSpPr>
                  <p:cNvPr id="655" name="Line 15"/>
                  <p:cNvSpPr/>
                  <p:nvPr/>
                </p:nvSpPr>
                <p:spPr>
                  <a:xfrm>
                    <a:off x="4489560" y="4179960"/>
                    <a:ext cx="688320" cy="919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 txBox="1"/>
                  <p:nvPr/>
                </p:nvSpPr>
                <p:spPr>
                  <a:xfrm>
                    <a:off x="4489560" y="4179960"/>
                    <a:ext cx="688320" cy="91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7" name="Oval 16"/>
                <p:cNvSpPr/>
                <p:nvPr/>
              </p:nvSpPr>
              <p:spPr>
                <a:xfrm flipH="1">
                  <a:off x="4831560" y="4795200"/>
                  <a:ext cx="1730520" cy="1218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Arial"/>
                    </a:rPr>
                    <a:t>容易加工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8" name="Group 17"/>
            <p:cNvGrpSpPr/>
            <p:nvPr/>
          </p:nvGrpSpPr>
          <p:grpSpPr>
            <a:xfrm>
              <a:off x="2073240" y="1125720"/>
              <a:ext cx="4493160" cy="1839960"/>
              <a:chOff x="2073240" y="1125720"/>
              <a:chExt cx="4493160" cy="1839960"/>
            </a:xfrm>
          </p:grpSpPr>
          <p:grpSp>
            <p:nvGrpSpPr>
              <p:cNvPr id="659" name="Group 18"/>
              <p:cNvGrpSpPr/>
              <p:nvPr/>
            </p:nvGrpSpPr>
            <p:grpSpPr>
              <a:xfrm>
                <a:off x="2073240" y="1125720"/>
                <a:ext cx="2073240" cy="1834200"/>
                <a:chOff x="2073240" y="1125720"/>
                <a:chExt cx="2073240" cy="1834200"/>
              </a:xfrm>
            </p:grpSpPr>
            <p:grpSp>
              <p:nvGrpSpPr>
                <p:cNvPr id="660" name=""/>
                <p:cNvGrpSpPr/>
                <p:nvPr/>
              </p:nvGrpSpPr>
              <p:grpSpPr>
                <a:xfrm>
                  <a:off x="3457440" y="2040120"/>
                  <a:ext cx="689040" cy="919800"/>
                  <a:chOff x="3457440" y="2040120"/>
                  <a:chExt cx="689040" cy="919800"/>
                </a:xfrm>
              </p:grpSpPr>
              <p:sp>
                <p:nvSpPr>
                  <p:cNvPr id="661" name="Line 19"/>
                  <p:cNvSpPr/>
                  <p:nvPr/>
                </p:nvSpPr>
                <p:spPr>
                  <a:xfrm flipH="1" flipV="1">
                    <a:off x="3457440" y="2040120"/>
                    <a:ext cx="688680" cy="919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 txBox="1"/>
                  <p:nvPr/>
                </p:nvSpPr>
                <p:spPr>
                  <a:xfrm rot="10800000">
                    <a:off x="3457800" y="2040120"/>
                    <a:ext cx="688680" cy="91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3" name="Oval 20"/>
                <p:cNvSpPr/>
                <p:nvPr/>
              </p:nvSpPr>
              <p:spPr>
                <a:xfrm flipV="1">
                  <a:off x="2073240" y="1125360"/>
                  <a:ext cx="1730880" cy="1218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Arial"/>
                    </a:rPr>
                    <a:t>有柔韧性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4" name="Group 21"/>
              <p:cNvGrpSpPr/>
              <p:nvPr/>
            </p:nvGrpSpPr>
            <p:grpSpPr>
              <a:xfrm>
                <a:off x="4493520" y="1131480"/>
                <a:ext cx="2072880" cy="1834200"/>
                <a:chOff x="4493520" y="1131480"/>
                <a:chExt cx="2072880" cy="1834200"/>
              </a:xfrm>
            </p:grpSpPr>
            <p:grpSp>
              <p:nvGrpSpPr>
                <p:cNvPr id="665" name=""/>
                <p:cNvGrpSpPr/>
                <p:nvPr/>
              </p:nvGrpSpPr>
              <p:grpSpPr>
                <a:xfrm>
                  <a:off x="4493520" y="2045880"/>
                  <a:ext cx="688320" cy="919800"/>
                  <a:chOff x="4493520" y="2045880"/>
                  <a:chExt cx="688320" cy="919800"/>
                </a:xfrm>
              </p:grpSpPr>
              <p:sp>
                <p:nvSpPr>
                  <p:cNvPr id="666" name="Line 22"/>
                  <p:cNvSpPr/>
                  <p:nvPr/>
                </p:nvSpPr>
                <p:spPr>
                  <a:xfrm flipV="1">
                    <a:off x="4493520" y="2045880"/>
                    <a:ext cx="688320" cy="919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 txBox="1"/>
                  <p:nvPr/>
                </p:nvSpPr>
                <p:spPr>
                  <a:xfrm rot="10800000">
                    <a:off x="4493520" y="2045880"/>
                    <a:ext cx="688320" cy="91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8" name="Oval 23"/>
                <p:cNvSpPr/>
                <p:nvPr/>
              </p:nvSpPr>
              <p:spPr>
                <a:xfrm flipH="1" flipV="1">
                  <a:off x="4835520" y="1131480"/>
                  <a:ext cx="1730520" cy="1218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Arial"/>
                    </a:rPr>
                    <a:t>能浮在水面上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23:34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41Z</dcterms:modified>
  <cp:revision>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