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95E-ADD4-472A-8DE9-4BB1B3A2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A25-75B5-4B12-9683-AE03F80D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882-40FF-4BE4-93B6-59E407B0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DF8-62FE-420E-81E3-5E6A664A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0595-750D-4AC0-93E4-51893A2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3B99-C71E-49B7-BED0-5CB2A27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5E7-98B1-4CF8-A552-A7705117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10D-F558-4F7D-B2F2-A120565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B2B-5F34-4AB3-868E-FA74C8A5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AE9-84F4-4A16-8BFF-EA9BCBA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BA94-8C7A-4075-A5CC-77FD677D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194-6C44-4403-94D2-14A95E44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2D3-B26A-4DCA-9A27-5608B6C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035-A89D-4900-80C6-55B9B84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588A-725D-4EDA-8036-96EA6F1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0AB-96CE-4208-A2D8-6D2782F8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6620-DC35-4AEE-B9E1-652CC081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448B-5CF1-47A3-9BE5-A79F538B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EB71-B343-4B35-A120-3B39FD06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230C-6A35-430B-B996-20A0CDD1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BBAE-3B18-4F1D-A7ED-D84B956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F877-350A-4B2F-9E3A-E4B76F0E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69B-2202-4C67-B052-45827F9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F20F-B467-4553-9EE0-7FA0F721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0717-742A-443E-9BD3-71A034D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1E07-6204-4CCE-BDFC-C1C353B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E375-3733-4750-B927-E255C14B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87BA-D019-4ADF-B3A8-50DB9831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2AD3-53E2-48B2-ABD9-D95A00F5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CFF7-07FA-468F-AB91-3749BBDD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53-1F6E-4B95-8EC2-7362748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DE6-5CAD-47EF-B2FC-24681EAE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6B6-FDD3-4D71-B9C8-6AA828F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7B4-BD60-4D6D-87A7-E017515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25A-A8D9-49EC-83CC-CCF8398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DA6-B9EB-484E-A91A-4065A74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E65-3DBB-43EB-83E9-59A435F9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B89-3ACC-4C68-AC05-AC0C60590D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74E-3537-437C-8E49-7346E6F1BB8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20132;&#27969;&#21457;&#30005;&#26426;1.swf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&#20132;&#30452;&#27969;&#21457;&#30005;&#26426;.sw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itch.adsldns.org/prod01-1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&#21457;&#30005;&#21407;&#29702;&#21160;&#30011;&#21152;&#23454;&#26223;.mpe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00280" y="2131920"/>
            <a:ext cx="5638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磁生电</a:t>
            </a:r>
            <a:r>
              <a:rPr b="1" lang="en-US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785880" y="838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第二十章　电与磁   第五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38280" y="19044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交流发电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ShockwaveFlash1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286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、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线圈转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，电流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改变两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5228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２、这种周期性改变方向的电流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流电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57200" y="2743200"/>
            <a:ext cx="80773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隶书"/>
                <a:hlinkClick r:id="rId1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：若将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两铜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改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换向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，则电流方向如何变化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52280" y="43434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３、方向不发生改变的电流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直流电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例电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52280" y="525780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４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发电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是把机械能转化为电能的机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12"/>
          <p:cNvPicPr/>
          <p:nvPr/>
        </p:nvPicPr>
        <p:blipFill>
          <a:blip r:embed="rId1"/>
          <a:stretch/>
        </p:blipFill>
        <p:spPr>
          <a:xfrm>
            <a:off x="3809880" y="685800"/>
            <a:ext cx="49532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304920" y="685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发电机由转子和定子两部分组成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般采用线圈不动、磁极旋转的方法来发电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还用电磁体代替永磁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01480" y="0"/>
            <a:ext cx="8642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际使用的交流发电机（旋转磁场式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组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定子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线圈；转子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电磁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24000" y="242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线圈匝数多，导线很粗，高速旋转　　　　　困难；使用电磁铁可得到强磁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80880" y="396252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应用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动力机：水轮机、汽轮机（核电站）、内燃机、蒸汽轮机（火力发电站）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7010280" y="1143000"/>
            <a:ext cx="185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scania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4648320" cy="31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qlfadjji2"/>
          <p:cNvPicPr/>
          <p:nvPr/>
        </p:nvPicPr>
        <p:blipFill>
          <a:blip r:embed="rId3"/>
          <a:stretch/>
        </p:blipFill>
        <p:spPr>
          <a:xfrm>
            <a:off x="4952880" y="914400"/>
            <a:ext cx="4191120" cy="3051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mall-station-s"/>
          <p:cNvPicPr/>
          <p:nvPr/>
        </p:nvPicPr>
        <p:blipFill>
          <a:blip r:embed="rId4"/>
          <a:stretch/>
        </p:blipFill>
        <p:spPr>
          <a:xfrm>
            <a:off x="0" y="4079880"/>
            <a:ext cx="4648320" cy="277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turbine-s"/>
          <p:cNvPicPr/>
          <p:nvPr/>
        </p:nvPicPr>
        <p:blipFill>
          <a:blip r:embed="rId5"/>
          <a:stretch/>
        </p:blipFill>
        <p:spPr>
          <a:xfrm>
            <a:off x="4648320" y="4114800"/>
            <a:ext cx="4572000" cy="2720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3657600" y="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发电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52280" y="68580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认识我国的交流电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周期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0.0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秒，频率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赫兹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z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即每秒电流方向改变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40384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流电的周期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交流电完成一次周期性变化需要的时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流电的频率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一秒内交流电完成周期性变化的次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457200" y="3352680"/>
            <a:ext cx="1857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4343400" y="228600"/>
            <a:ext cx="3887640" cy="581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电动机与发电机比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643280" y="141300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871880" y="1219320"/>
            <a:ext cx="373860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电机的结构原则上和电动机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全相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52280" y="3862440"/>
            <a:ext cx="4105440" cy="1810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电动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消耗电能而输出机械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电能转化成机械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发电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消耗机械能而输出电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7286760" y="609480"/>
            <a:ext cx="1857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28" name="ShockwaveFlash1" descr=""/>
          <p:cNvPicPr/>
          <p:nvPr/>
        </p:nvPicPr>
        <p:blipFill>
          <a:blip r:embed="rId1"/>
          <a:stretch/>
        </p:blipFill>
        <p:spPr>
          <a:xfrm>
            <a:off x="0" y="228600"/>
            <a:ext cx="4419720" cy="3344760"/>
          </a:xfrm>
          <a:prstGeom prst="rect">
            <a:avLst/>
          </a:prstGeom>
          <a:ln w="0">
            <a:noFill/>
          </a:ln>
        </p:spPr>
      </p:pic>
      <p:pic>
        <p:nvPicPr>
          <p:cNvPr id="229" name="ShockwaveFlash2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交流发电机的工作原理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33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电动机"/>
          <p:cNvPicPr/>
          <p:nvPr/>
        </p:nvPicPr>
        <p:blipFill>
          <a:blip r:embed="rId2"/>
          <a:stretch/>
        </p:blipFill>
        <p:spPr>
          <a:xfrm>
            <a:off x="4648320" y="1676520"/>
            <a:ext cx="4343400" cy="33890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5"/>
          <p:cNvSpPr/>
          <p:nvPr/>
        </p:nvSpPr>
        <p:spPr>
          <a:xfrm>
            <a:off x="7924680" y="617220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10800"/>
                </a:moveTo>
                <a:lnTo>
                  <a:pt x="31640" y="3794"/>
                </a:lnTo>
                <a:lnTo>
                  <a:pt x="3164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762120"/>
          <a:ext cx="8610480" cy="4800600"/>
        </p:xfrm>
        <a:graphic>
          <a:graphicData uri="http://schemas.openxmlformats.org/drawingml/2006/table">
            <a:tbl>
              <a:tblPr/>
              <a:tblGrid>
                <a:gridCol w="2232000"/>
                <a:gridCol w="3198960"/>
                <a:gridCol w="3179520"/>
              </a:tblGrid>
              <a:tr h="78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电动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发电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96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原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99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构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能量转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线圈外部电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外部电路元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844200" y="44280"/>
            <a:ext cx="37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Times New Roman"/>
              </a:rPr>
              <a:t>直流电动机和交流发电机的比较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514600" y="1600200"/>
            <a:ext cx="312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通电线圈在磁场中受到力的作用转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6248520" y="1752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磁感应现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2666880" y="2590920"/>
            <a:ext cx="269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磁铁、线圈、换向器、电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943600" y="25909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磁铁、线圈、圆环、电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2514600" y="3581280"/>
            <a:ext cx="31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能转化为机械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715000" y="3581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械能转化为电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3124080" y="42670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流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6324480" y="42670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交流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312408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流电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5867280" y="4952880"/>
            <a:ext cx="296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用电器（电流表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95280" y="669960"/>
            <a:ext cx="8748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周期性改变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电流叫交流电，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变的电流叫直流电，发电机提供的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电，电池提供的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电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国的交流发电机的转子每秒转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周，即交流电的变化频率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赫，因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流电的方向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每秒要改变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0" y="-171360"/>
            <a:ext cx="1295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8120" y="53352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704000" y="5335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80880" y="16765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交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181480" y="167652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直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467480" y="327672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943600" y="3886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334120" y="449568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133720" y="0"/>
            <a:ext cx="13411080" cy="335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-7505640" y="3346560"/>
            <a:ext cx="15011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24000" y="40464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3.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发电机的主要构造分成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和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两部分，大型发电机的线圈作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，电磁铁作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24000" y="1341360"/>
            <a:ext cx="25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627280" y="1341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643280" y="206064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403280" y="2924280"/>
            <a:ext cx="221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文本框 8196"/>
          <p:cNvSpPr/>
          <p:nvPr/>
        </p:nvSpPr>
        <p:spPr>
          <a:xfrm>
            <a:off x="849240" y="4125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2602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交流发电机制造的原理是（  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流的磁效应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流的磁现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磁感应现象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磁铁原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我国使用的交流电的频率为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赫兹，在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秒内电流方向改变了（   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086600" y="30492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848720" y="36576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E98-55C2-4B89-B485-C421C190AEE1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butu47"/>
          <p:cNvPicPr/>
          <p:nvPr/>
        </p:nvPicPr>
        <p:blipFill>
          <a:blip r:embed="rId1"/>
          <a:stretch/>
        </p:blipFill>
        <p:spPr>
          <a:xfrm>
            <a:off x="34920" y="4076640"/>
            <a:ext cx="4608360" cy="26971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179280" y="0"/>
            <a:ext cx="896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交流发电机线圈内和外电路中的电流分别是（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交流电和直流电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交流电和交流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直流电和交流电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直流电和直流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50920" y="306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此装置是什么机器？工作原理是什么？工作时能量的转化情况怎样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19320" y="5335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219640" y="4581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电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076720" y="5373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磁感应原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003640" y="602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机械能转化为电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772400" y="762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576360" y="835560"/>
            <a:ext cx="67388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什么叫电磁感应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感应电流的大小跟哪些因素有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0" y="-27000"/>
            <a:ext cx="14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1" name="ShockwaveFlash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6769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207108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产生感生电流的条件是：电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部分导线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体在磁场中作切割磁感应线运动，一定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不一定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。若电路是闭合的，则一定也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7816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闭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971800" y="2209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切割磁感线的运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14300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29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91320" y="4191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533520" y="228600"/>
            <a:ext cx="2514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练习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发电原理动画加实景.mpeg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77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505320" y="0"/>
            <a:ext cx="2133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发电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交流发电机"/>
          <p:cNvPicPr/>
          <p:nvPr/>
        </p:nvPicPr>
        <p:blipFill>
          <a:blip r:embed="rId1"/>
          <a:stretch/>
        </p:blipFill>
        <p:spPr>
          <a:xfrm>
            <a:off x="6335640" y="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交流发电机的工作原理"/>
          <p:cNvPicPr/>
          <p:nvPr/>
        </p:nvPicPr>
        <p:blipFill>
          <a:blip r:embed="rId2"/>
          <a:stretch/>
        </p:blipFill>
        <p:spPr>
          <a:xfrm>
            <a:off x="971640" y="2417760"/>
            <a:ext cx="5257800" cy="3786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609120"/>
            <a:ext cx="56390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交流发电机的原理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308720" y="37846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线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52720" y="3784680"/>
            <a:ext cx="3311640" cy="216000"/>
            <a:chOff x="3852720" y="3784680"/>
            <a:chExt cx="3311640" cy="216000"/>
          </a:xfrm>
        </p:grpSpPr>
        <p:sp>
          <p:nvSpPr>
            <p:cNvPr id="146" name="Line 6"/>
            <p:cNvSpPr/>
            <p:nvPr/>
          </p:nvSpPr>
          <p:spPr>
            <a:xfrm>
              <a:off x="3852720" y="3784680"/>
              <a:ext cx="3311640" cy="21600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852720" y="3784680"/>
              <a:ext cx="3311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7308720" y="486576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圆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00360" y="4721400"/>
            <a:ext cx="4537080" cy="431640"/>
            <a:chOff x="2700360" y="4721400"/>
            <a:chExt cx="4537080" cy="431640"/>
          </a:xfrm>
        </p:grpSpPr>
        <p:sp>
          <p:nvSpPr>
            <p:cNvPr id="150" name="Line 8"/>
            <p:cNvSpPr/>
            <p:nvPr/>
          </p:nvSpPr>
          <p:spPr>
            <a:xfrm>
              <a:off x="2700360" y="4721400"/>
              <a:ext cx="4537080" cy="43164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700360" y="4721400"/>
              <a:ext cx="45370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2" name="Rectangle 9"/>
          <p:cNvSpPr/>
          <p:nvPr/>
        </p:nvSpPr>
        <p:spPr>
          <a:xfrm>
            <a:off x="7308720" y="5729400"/>
            <a:ext cx="11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电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197080" y="5873760"/>
            <a:ext cx="4896000" cy="71280"/>
            <a:chOff x="2197080" y="5873760"/>
            <a:chExt cx="4896000" cy="71280"/>
          </a:xfrm>
        </p:grpSpPr>
        <p:sp>
          <p:nvSpPr>
            <p:cNvPr id="154" name="Line 10"/>
            <p:cNvSpPr/>
            <p:nvPr/>
          </p:nvSpPr>
          <p:spPr>
            <a:xfrm>
              <a:off x="2197080" y="5873760"/>
              <a:ext cx="4896000" cy="712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197080" y="5873760"/>
              <a:ext cx="4896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6" name="Rectangle 11"/>
          <p:cNvSpPr/>
          <p:nvPr/>
        </p:nvSpPr>
        <p:spPr>
          <a:xfrm>
            <a:off x="7237440" y="3281400"/>
            <a:ext cx="11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磁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24360" y="3497400"/>
            <a:ext cx="1440000" cy="71280"/>
            <a:chOff x="5724360" y="3497400"/>
            <a:chExt cx="1440000" cy="71280"/>
          </a:xfrm>
        </p:grpSpPr>
        <p:sp>
          <p:nvSpPr>
            <p:cNvPr id="158" name="Line 12"/>
            <p:cNvSpPr/>
            <p:nvPr/>
          </p:nvSpPr>
          <p:spPr>
            <a:xfrm>
              <a:off x="5724360" y="3497400"/>
              <a:ext cx="1440000" cy="712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724360" y="3497400"/>
              <a:ext cx="1440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0" name="Rectangle 13"/>
          <p:cNvSpPr/>
          <p:nvPr/>
        </p:nvSpPr>
        <p:spPr>
          <a:xfrm>
            <a:off x="1905120" y="1600200"/>
            <a:ext cx="38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磁感应现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57200" y="1828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呈闭合回路的矩形线圈在磁场中</a:t>
            </a:r>
            <a:r>
              <a:rPr b="1" lang="zh-CN" sz="3200" spc="-1" strike="noStrike">
                <a:solidFill>
                  <a:srgbClr val="fa6298"/>
                </a:solidFill>
                <a:latin typeface="Arial"/>
                <a:ea typeface="黑体"/>
              </a:rPr>
              <a:t>不断地转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时，线圈中就有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断改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感应电流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" y="990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交流发电机原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电磁感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04920" y="4005360"/>
            <a:ext cx="171432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思考：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209680" y="49831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发电机是如何工作的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交流发电机的工作原理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5275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763640" y="26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484360" y="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514600" y="114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905120" y="14479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187280" y="205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763640" y="17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692360" y="227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76320" y="525780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的运动方向与磁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线圈中没有电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6320" y="5791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的运动方向与磁场</a:t>
            </a:r>
            <a:r>
              <a:rPr b="1" lang="zh-CN" sz="2800" spc="-1" strike="noStrike">
                <a:solidFill>
                  <a:srgbClr val="fa6298"/>
                </a:solidFill>
                <a:latin typeface="黑体"/>
                <a:ea typeface="黑体"/>
              </a:rPr>
              <a:t>垂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右手定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判断出，线圈中的电流方向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486400" y="914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172200" y="22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7391520" y="152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6934320" y="990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6019920" y="22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29200" y="6553080"/>
            <a:ext cx="304920" cy="360"/>
            <a:chOff x="5029200" y="6553080"/>
            <a:chExt cx="304920" cy="360"/>
          </a:xfrm>
        </p:grpSpPr>
        <p:sp>
          <p:nvSpPr>
            <p:cNvPr id="181" name="Line 22"/>
            <p:cNvSpPr/>
            <p:nvPr/>
          </p:nvSpPr>
          <p:spPr>
            <a:xfrm>
              <a:off x="502920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02920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486400" y="6553080"/>
            <a:ext cx="304920" cy="360"/>
            <a:chOff x="5486400" y="6553080"/>
            <a:chExt cx="304920" cy="360"/>
          </a:xfrm>
        </p:grpSpPr>
        <p:sp>
          <p:nvSpPr>
            <p:cNvPr id="184" name="Line 23"/>
            <p:cNvSpPr/>
            <p:nvPr/>
          </p:nvSpPr>
          <p:spPr>
            <a:xfrm>
              <a:off x="548640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48640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095880" y="6553080"/>
            <a:ext cx="304920" cy="360"/>
            <a:chOff x="6095880" y="6553080"/>
            <a:chExt cx="304920" cy="360"/>
          </a:xfrm>
        </p:grpSpPr>
        <p:sp>
          <p:nvSpPr>
            <p:cNvPr id="187" name="Line 24"/>
            <p:cNvSpPr/>
            <p:nvPr/>
          </p:nvSpPr>
          <p:spPr>
            <a:xfrm>
              <a:off x="609588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09588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交流发电机的工作原理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50920" y="5300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断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切割磁感线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运动，由于磁感线方向是不变的，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运动方向总是相反，并且不断改变，于是线圈和外部电路就有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不断改变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感应电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692360" y="22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58800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486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51672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63640" y="26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484360" y="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97964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2728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18728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763640" y="17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文本框 8196"/>
          <p:cNvSpPr/>
          <p:nvPr/>
        </p:nvSpPr>
        <p:spPr>
          <a:xfrm>
            <a:off x="1082520" y="6494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51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7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