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3.png" ContentType="image/png"/>
  <Override PartName="/ppt/media/image9.gif" ContentType="image/gif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519-8D97-486D-B882-1D860890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D8D-2E7C-4DB9-BE8F-D0A22A25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A2D-5A32-4946-B04E-EFC3B9E7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413-0469-4FC3-B9AA-C0B51AB35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9198-A536-4DBC-8527-C67C481D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736E-08BA-4F97-8327-0326A24E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BEF4-DB45-434E-9B60-6CA026BB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D632-C1C8-458A-A0A2-02A076AE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6FB1-A421-426B-875B-E9D0147D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8A3B-6EF0-4E4E-A406-BFCCAF50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30F0-8001-41B8-943A-39D5C851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5CF-9703-45AE-9169-790A5E6E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3029-81B6-47ED-82A7-2B991807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6027-AE1D-4102-81F4-363FDEEC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3C3F-9B63-455B-8430-E66D83E5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D0F-0F94-479A-899F-D368E631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5F7B-EA2D-4E14-9E83-85917B51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AE026-B3EE-4E40-ACAE-1D609D73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6D4F9-DCBB-4430-BFAF-3421A8CF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D6B0-C81A-4DCE-8EE8-CA2E6049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A4F92-0B08-46E8-8133-B5B5F8CD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B9EFF-E572-49A3-885D-2FD0E0D6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1C4-92A5-4BEF-9270-D895E720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0280-98DB-426A-8579-1973CDF5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DF82-5556-458F-A852-0A4EAA4F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78D1-C252-49ED-A71F-E5678AAB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4675-E7D8-43F5-A70C-4A20CBC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0D70-B4D9-49B1-B737-66647D4B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9E87-9463-4B40-9365-93093CC9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8C5E9-2E19-4E9D-8700-301F921A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4D3-A12B-4910-A0D1-239E3FB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76D-508D-4F27-B00C-709125EA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1C7-4A14-46BB-BACF-83154AF8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3E8-4B36-4047-8BC4-40A4B0C0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5C4-DA26-4F28-BCEF-B95A08F1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6B1-7726-4435-B67C-39DEE614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7A58-5A2F-4309-94CA-D5BBE75854FD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BD66-205B-439A-A7C6-6908577F77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ABB2-4E9C-416C-8E61-755E106DA8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5,3,&#24187;&#28783;&#29255; 3" TargetMode="External"/><Relationship Id="rId2" Type="http://schemas.openxmlformats.org/officeDocument/2006/relationships/hyperlink" Target="275,6,&#24187;&#28783;&#29255; 6" TargetMode="External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hyperlink" Target="277,7,&#24187;&#28783;&#29255; 7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0110323113447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《品德与社会》三年级下册第四单元 第三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</a:t>
            </a:r>
            <a:endParaRPr b="1" lang="en-US" sz="32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27" name="Text Box 6" descr=""/>
          <p:cNvPicPr/>
          <p:nvPr/>
        </p:nvPicPr>
        <p:blipFill>
          <a:blip r:embed="rId2"/>
          <a:stretch/>
        </p:blipFill>
        <p:spPr>
          <a:xfrm>
            <a:off x="2138400" y="1428840"/>
            <a:ext cx="6819840" cy="701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5149800" y="4129200"/>
            <a:ext cx="3743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3635640" y="5389560"/>
            <a:ext cx="441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1" lang="en-US" sz="20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333399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MG_0826"/>
          <p:cNvPicPr/>
          <p:nvPr/>
        </p:nvPicPr>
        <p:blipFill>
          <a:blip r:embed="rId1"/>
          <a:stretch/>
        </p:blipFill>
        <p:spPr>
          <a:xfrm>
            <a:off x="-12600" y="9360"/>
            <a:ext cx="9156600" cy="797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IMG_08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20080430062000_new"/>
          <p:cNvPicPr/>
          <p:nvPr/>
        </p:nvPicPr>
        <p:blipFill>
          <a:blip r:embed="rId1"/>
          <a:stretch/>
        </p:blipFill>
        <p:spPr>
          <a:xfrm>
            <a:off x="0" y="9360"/>
            <a:ext cx="9118440" cy="67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2011-5-2512014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20100618154421977"/>
          <p:cNvPicPr/>
          <p:nvPr/>
        </p:nvPicPr>
        <p:blipFill>
          <a:blip r:embed="rId1"/>
          <a:stretch/>
        </p:blipFill>
        <p:spPr>
          <a:xfrm>
            <a:off x="0" y="0"/>
            <a:ext cx="9163080" cy="68500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1511280" y="-37800"/>
            <a:ext cx="596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学会问路</a:t>
            </a:r>
            <a:endParaRPr b="1" lang="en-US" sz="48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pic093"/>
          <p:cNvPicPr/>
          <p:nvPr/>
        </p:nvPicPr>
        <p:blipFill>
          <a:blip r:embed="rId1"/>
          <a:stretch/>
        </p:blipFill>
        <p:spPr>
          <a:xfrm>
            <a:off x="-14400" y="-4680"/>
            <a:ext cx="9139320" cy="6853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33520" y="838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讨论：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347920" y="19051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向谁问？怎么问？问完之后怎样做？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222" name="Picture 5" descr="G:\鸦片战争\第一节鸦片战争\images\back1.gif"/>
          <p:cNvPicPr/>
          <p:nvPr/>
        </p:nvPicPr>
        <p:blipFill>
          <a:blip r:embed="rId2"/>
          <a:stretch/>
        </p:blipFill>
        <p:spPr>
          <a:xfrm>
            <a:off x="7696080" y="5715000"/>
            <a:ext cx="1257480" cy="1143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522360" y="3022200"/>
            <a:ext cx="8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表演：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089080" y="3667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师生表演 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25" name="文本框 8198"/>
          <p:cNvSpPr/>
          <p:nvPr/>
        </p:nvSpPr>
        <p:spPr>
          <a:xfrm>
            <a:off x="803160" y="12952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G:\课件图片素材\美术边框\PM_047.jpg"/>
          <p:cNvPicPr/>
          <p:nvPr/>
        </p:nvPicPr>
        <p:blipFill>
          <a:blip r:embed="rId1"/>
          <a:stretch/>
        </p:blipFill>
        <p:spPr>
          <a:xfrm>
            <a:off x="-1440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3330720" y="2824560"/>
            <a:ext cx="335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</a:rPr>
              <a:t>交通工具</a:t>
            </a:r>
            <a:endParaRPr b="1" lang="en-US" sz="48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2944-75EA-4BA3-B96B-5F6360B3B8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G:\蓝小曼\课件\200462975342472.jpg"/>
          <p:cNvPicPr/>
          <p:nvPr/>
        </p:nvPicPr>
        <p:blipFill>
          <a:blip r:embed="rId1"/>
          <a:stretch/>
        </p:blipFill>
        <p:spPr>
          <a:xfrm>
            <a:off x="-14400" y="936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Oval 3"/>
          <p:cNvSpPr/>
          <p:nvPr/>
        </p:nvSpPr>
        <p:spPr>
          <a:xfrm>
            <a:off x="3841920" y="465840"/>
            <a:ext cx="2253960" cy="6498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板书设计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031840" y="2925720"/>
            <a:ext cx="508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出         看懂交通图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行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         看清站牌和路牌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学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问         学会问路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038480" y="2057400"/>
            <a:ext cx="3048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教材分析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495680" y="2819520"/>
            <a:ext cx="2895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教法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32360" y="365436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学法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791320" y="5334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板书设计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35" name="Picture 6" descr="G:\鸦片战争\第一节鸦片战争\images\TBALL.GIF"/>
          <p:cNvPicPr/>
          <p:nvPr/>
        </p:nvPicPr>
        <p:blipFill>
          <a:blip r:embed="rId3"/>
          <a:stretch/>
        </p:blipFill>
        <p:spPr>
          <a:xfrm>
            <a:off x="38862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G:\鸦片战争\第一节鸦片战争\images\TBALL.GIF"/>
          <p:cNvPicPr/>
          <p:nvPr/>
        </p:nvPicPr>
        <p:blipFill>
          <a:blip r:embed="rId4"/>
          <a:stretch/>
        </p:blipFill>
        <p:spPr>
          <a:xfrm>
            <a:off x="35812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G:\鸦片战争\第一节鸦片战争\images\TBALL.GIF"/>
          <p:cNvPicPr/>
          <p:nvPr/>
        </p:nvPicPr>
        <p:blipFill>
          <a:blip r:embed="rId5"/>
          <a:stretch/>
        </p:blipFill>
        <p:spPr>
          <a:xfrm>
            <a:off x="42670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G:\鸦片战争\第一节鸦片战争\images\TBALL.GIF"/>
          <p:cNvPicPr/>
          <p:nvPr/>
        </p:nvPicPr>
        <p:blipFill>
          <a:blip r:embed="rId6"/>
          <a:stretch/>
        </p:blipFill>
        <p:spPr>
          <a:xfrm>
            <a:off x="47242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G:\鸦片战争\第一节鸦片战争\images\TBALL.GIF"/>
          <p:cNvPicPr/>
          <p:nvPr/>
        </p:nvPicPr>
        <p:blipFill>
          <a:blip r:embed="rId7"/>
          <a:stretch/>
        </p:blipFill>
        <p:spPr>
          <a:xfrm>
            <a:off x="5334120" y="5638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1"/>
          <p:cNvSpPr/>
          <p:nvPr/>
        </p:nvSpPr>
        <p:spPr>
          <a:xfrm>
            <a:off x="662040" y="623520"/>
            <a:ext cx="597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</a:rPr>
              <a:t>《出行的学问》</a:t>
            </a:r>
            <a:endParaRPr b="1" lang="en-US" sz="48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430960" y="4520880"/>
            <a:ext cx="2066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黑体"/>
                <a:hlinkClick r:id="rId8"/>
              </a:rPr>
              <a:t>教学过程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:\蓝小曼\课件\200457171342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2457331_000235916331_2"/>
          <p:cNvPicPr/>
          <p:nvPr/>
        </p:nvPicPr>
        <p:blipFill>
          <a:blip r:embed="rId2"/>
          <a:stretch/>
        </p:blipFill>
        <p:spPr>
          <a:xfrm>
            <a:off x="-1260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523880" y="35812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28600" y="2286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"/>
              </a:rPr>
              <a:t>《出行的学问》一课是九年义务教育课程标准实验教科书三年级下册第四单元《寻路和行路》中的第三课。本课的学习内容是在学生认识平面图和路线图之后，所以对于利用交通图选择简单的出行路线应该难度不大，但看站牌对于三年级小学生来说，学习难度较大。再加上还要落实如何问路和如何乘车这两个教学目标，所以知识点显得有点多，容量比较大，学生掌握起来有点困难。因此，课堂的合理设计要突破重难点，既要让学生自己掌握这些出行的学问、又要让学生乐于去运用这些学问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28600" y="1295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一、说教材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8503920" cy="6858000"/>
            <a:chOff x="0" y="0"/>
            <a:chExt cx="8503920" cy="6858000"/>
          </a:xfrm>
        </p:grpSpPr>
        <p:pic>
          <p:nvPicPr>
            <p:cNvPr id="148" name="Picture 3" descr="CORNR015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745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" descr="CORNR015"/>
            <p:cNvPicPr/>
            <p:nvPr/>
          </p:nvPicPr>
          <p:blipFill>
            <a:blip r:embed="rId2"/>
            <a:stretch/>
          </p:blipFill>
          <p:spPr>
            <a:xfrm rot="16200000">
              <a:off x="5887080" y="4231440"/>
              <a:ext cx="1729080" cy="350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Rectangle 5"/>
          <p:cNvSpPr/>
          <p:nvPr/>
        </p:nvSpPr>
        <p:spPr>
          <a:xfrm>
            <a:off x="1920960" y="30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目标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171880" y="1314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宋体"/>
              </a:rPr>
              <a:t>知识目标：</a:t>
            </a:r>
            <a:endParaRPr b="1" lang="en-US" sz="20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宋体"/>
              </a:rPr>
              <a:t>能力目标</a:t>
            </a:r>
            <a:r>
              <a:rPr b="0" lang="zh-CN" sz="2000" spc="-1" strike="noStrike">
                <a:solidFill>
                  <a:srgbClr val="990099"/>
                </a:solidFill>
                <a:latin typeface="Times New Roman"/>
                <a:ea typeface="宋体"/>
              </a:rPr>
              <a:t>：</a:t>
            </a:r>
            <a:endParaRPr b="1" lang="en-US" sz="20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716280" y="419400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知道乘车时要注意的安全和礼貌。      知道问路的基本礼貌和要注意的事项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672000" y="1314360"/>
            <a:ext cx="405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"/>
              </a:rPr>
              <a:t>尝试利用交通图选择简单的出行路线，学会看站牌、路牌，以及寻路、问路的一般方法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286000" y="4343400"/>
            <a:ext cx="13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宋体"/>
              </a:rPr>
              <a:t>情感目标：</a:t>
            </a:r>
            <a:endParaRPr b="1" lang="en-US" sz="20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716280" y="3159000"/>
            <a:ext cx="495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"/>
              </a:rPr>
              <a:t>培养学生识路、行路的一些基本常识和技能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57" name="Picture 12" descr="旋转的小花3＃"/>
          <p:cNvPicPr/>
          <p:nvPr/>
        </p:nvPicPr>
        <p:blipFill>
          <a:blip r:embed="rId3"/>
          <a:stretch/>
        </p:blipFill>
        <p:spPr>
          <a:xfrm>
            <a:off x="990720" y="58672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旋转的小花＃"/>
          <p:cNvPicPr/>
          <p:nvPr/>
        </p:nvPicPr>
        <p:blipFill>
          <a:blip r:embed="rId4"/>
          <a:stretch/>
        </p:blipFill>
        <p:spPr>
          <a:xfrm>
            <a:off x="914400" y="38088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旋转的小花＃"/>
          <p:cNvPicPr/>
          <p:nvPr/>
        </p:nvPicPr>
        <p:blipFill>
          <a:blip r:embed="rId5"/>
          <a:stretch/>
        </p:blipFill>
        <p:spPr>
          <a:xfrm>
            <a:off x="2133720" y="55627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旋转的小花3＃"/>
          <p:cNvPicPr/>
          <p:nvPr/>
        </p:nvPicPr>
        <p:blipFill>
          <a:blip r:embed="rId6"/>
          <a:stretch/>
        </p:blipFill>
        <p:spPr>
          <a:xfrm>
            <a:off x="762120" y="29718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旋转的小花＃"/>
          <p:cNvPicPr/>
          <p:nvPr/>
        </p:nvPicPr>
        <p:blipFill>
          <a:blip r:embed="rId7"/>
          <a:stretch/>
        </p:blipFill>
        <p:spPr>
          <a:xfrm>
            <a:off x="914400" y="441972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162" name="王力宏-龙的传人.mp3" descr=""/>
          <p:cNvPicPr/>
          <p:nvPr/>
        </p:nvPicPr>
        <p:blipFill>
          <a:blip r:embed="rId8"/>
          <a:stretch/>
        </p:blipFill>
        <p:spPr>
          <a:xfrm>
            <a:off x="10666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09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教学重点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143000" y="1523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65" name="Picture 4" descr="pic093"/>
          <p:cNvPicPr/>
          <p:nvPr/>
        </p:nvPicPr>
        <p:blipFill>
          <a:blip r:embed="rId1"/>
          <a:stretch/>
        </p:blipFill>
        <p:spPr>
          <a:xfrm>
            <a:off x="-1440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2411280" y="1943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"/>
              </a:rPr>
              <a:t>让学生学会看交通图，看路牌和站牌，学会问路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232000" y="3610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"/>
              </a:rPr>
              <a:t>看懂交通图，会在路牌上找到起点、终点和所在位置，认清方向；掌握问路的方法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33520" y="228600"/>
            <a:ext cx="4495680" cy="1066680"/>
          </a:xfrm>
          <a:prstGeom prst="cloudCallout">
            <a:avLst>
              <a:gd name="adj1" fmla="val -47314"/>
              <a:gd name="adj2" fmla="val 6473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教学重点、难点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838080" y="2057400"/>
            <a:ext cx="1295640" cy="5335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ff"/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重点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838080" y="3886200"/>
            <a:ext cx="1219320" cy="5335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难点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20"/>
          <p:cNvSpPr/>
          <p:nvPr/>
        </p:nvSpPr>
        <p:spPr>
          <a:xfrm>
            <a:off x="822240" y="2028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      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论坛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语文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uwen/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数学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英语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ingyu/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美术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科学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kexue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物理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化学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huaxue/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生物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地理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dili/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历史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3" name="Picture 3" descr="b13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b132"/>
            <p:cNvPicPr/>
            <p:nvPr/>
          </p:nvPicPr>
          <p:blipFill>
            <a:blip r:embed="rId2"/>
            <a:stretch/>
          </p:blipFill>
          <p:spPr>
            <a:xfrm>
              <a:off x="0" y="879480"/>
              <a:ext cx="91440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5" descr="b132"/>
            <p:cNvPicPr/>
            <p:nvPr/>
          </p:nvPicPr>
          <p:blipFill>
            <a:blip r:embed="rId3"/>
            <a:stretch/>
          </p:blipFill>
          <p:spPr>
            <a:xfrm>
              <a:off x="0" y="1700280"/>
              <a:ext cx="914400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b132"/>
            <p:cNvPicPr/>
            <p:nvPr/>
          </p:nvPicPr>
          <p:blipFill>
            <a:blip r:embed="rId4"/>
            <a:stretch/>
          </p:blipFill>
          <p:spPr>
            <a:xfrm>
              <a:off x="0" y="2606760"/>
              <a:ext cx="914400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7" descr="b132"/>
            <p:cNvPicPr/>
            <p:nvPr/>
          </p:nvPicPr>
          <p:blipFill>
            <a:blip r:embed="rId5"/>
            <a:stretch/>
          </p:blipFill>
          <p:spPr>
            <a:xfrm>
              <a:off x="0" y="3471840"/>
              <a:ext cx="91440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8" descr="b132"/>
            <p:cNvPicPr/>
            <p:nvPr/>
          </p:nvPicPr>
          <p:blipFill>
            <a:blip r:embed="rId6"/>
            <a:stretch/>
          </p:blipFill>
          <p:spPr>
            <a:xfrm>
              <a:off x="0" y="4365720"/>
              <a:ext cx="914400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9" descr="b132"/>
            <p:cNvPicPr/>
            <p:nvPr/>
          </p:nvPicPr>
          <p:blipFill>
            <a:blip r:embed="rId7"/>
            <a:stretch/>
          </p:blipFill>
          <p:spPr>
            <a:xfrm>
              <a:off x="0" y="5229360"/>
              <a:ext cx="914400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0" descr="b132"/>
            <p:cNvPicPr/>
            <p:nvPr/>
          </p:nvPicPr>
          <p:blipFill>
            <a:blip r:embed="rId8"/>
            <a:stretch/>
          </p:blipFill>
          <p:spPr>
            <a:xfrm>
              <a:off x="0" y="5964120"/>
              <a:ext cx="914400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Text Box 11"/>
          <p:cNvSpPr/>
          <p:nvPr/>
        </p:nvSpPr>
        <p:spPr>
          <a:xfrm>
            <a:off x="76212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法：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1629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学法：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557360" y="458640"/>
            <a:ext cx="4648320" cy="2057400"/>
          </a:xfrm>
          <a:prstGeom prst="cloudCallout">
            <a:avLst>
              <a:gd name="adj1" fmla="val -41768"/>
              <a:gd name="adj2" fmla="val 66513"/>
            </a:avLst>
          </a:prstGeom>
          <a:solidFill>
            <a:srgbClr val="00ffff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情景设计法  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现实演绎法     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多媒体辅助教学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124080" y="3048120"/>
            <a:ext cx="4419720" cy="14475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4952880" y="2057400"/>
            <a:ext cx="4343400" cy="22096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743200" y="3352680"/>
            <a:ext cx="6095880" cy="1447920"/>
          </a:xfrm>
          <a:prstGeom prst="cloudCallout">
            <a:avLst>
              <a:gd name="adj1" fmla="val -43750"/>
              <a:gd name="adj2" fmla="val 6995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514600" y="3352680"/>
            <a:ext cx="4800600" cy="1828800"/>
          </a:xfrm>
          <a:prstGeom prst="cloudCallout">
            <a:avLst>
              <a:gd name="adj1" fmla="val -35814"/>
              <a:gd name="adj2" fmla="val 658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2590920" y="3276720"/>
            <a:ext cx="4495680" cy="2133360"/>
          </a:xfrm>
          <a:prstGeom prst="cloudCallout">
            <a:avLst>
              <a:gd name="adj1" fmla="val -28495"/>
              <a:gd name="adj2" fmla="val 1485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4114800" y="2895480"/>
            <a:ext cx="3517920" cy="2057400"/>
          </a:xfrm>
          <a:prstGeom prst="cloudCallout">
            <a:avLst>
              <a:gd name="adj1" fmla="val 55157"/>
              <a:gd name="adj2" fmla="val 48611"/>
            </a:avLst>
          </a:prstGeom>
          <a:solidFill>
            <a:srgbClr val="00ffff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课前准备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讨论法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练习法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90" name="Picture 20" descr="G:\鸦片战争\第一节鸦片战争\images\back1.gif"/>
          <p:cNvPicPr/>
          <p:nvPr/>
        </p:nvPicPr>
        <p:blipFill>
          <a:blip r:embed="rId9"/>
          <a:stretch/>
        </p:blipFill>
        <p:spPr>
          <a:xfrm>
            <a:off x="2666880" y="5715000"/>
            <a:ext cx="1257480" cy="7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005_JPG"/>
          <p:cNvPicPr/>
          <p:nvPr/>
        </p:nvPicPr>
        <p:blipFill>
          <a:blip r:embed="rId1"/>
          <a:stretch/>
        </p:blipFill>
        <p:spPr>
          <a:xfrm>
            <a:off x="-12600" y="5400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3809880" y="2514600"/>
            <a:ext cx="32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"/>
              </a:rPr>
              <a:t>看懂交通图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886200" y="33526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"/>
              </a:rPr>
              <a:t>看清站牌、路牌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886200" y="419112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"/>
              </a:rPr>
              <a:t>乘车安全和礼仪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941640" y="4915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"/>
              </a:rPr>
              <a:t>学会问路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886200" y="1676520"/>
            <a:ext cx="31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"/>
              </a:rPr>
              <a:t>设置情境，导出课题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057400" y="2514600"/>
            <a:ext cx="4572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教学过程设计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3124080" y="1752480"/>
            <a:ext cx="304920" cy="3886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99" name="Picture 10" descr="旋转的小花3＃"/>
          <p:cNvPicPr/>
          <p:nvPr/>
        </p:nvPicPr>
        <p:blipFill>
          <a:blip r:embed="rId2"/>
          <a:stretch/>
        </p:blipFill>
        <p:spPr>
          <a:xfrm>
            <a:off x="3505320" y="17524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旋转的小花3＃"/>
          <p:cNvPicPr/>
          <p:nvPr/>
        </p:nvPicPr>
        <p:blipFill>
          <a:blip r:embed="rId3"/>
          <a:stretch/>
        </p:blipFill>
        <p:spPr>
          <a:xfrm>
            <a:off x="3505320" y="2590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旋转的小花3＃"/>
          <p:cNvPicPr/>
          <p:nvPr/>
        </p:nvPicPr>
        <p:blipFill>
          <a:blip r:embed="rId4"/>
          <a:stretch/>
        </p:blipFill>
        <p:spPr>
          <a:xfrm>
            <a:off x="3505320" y="34290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旋转的小花3＃"/>
          <p:cNvPicPr/>
          <p:nvPr/>
        </p:nvPicPr>
        <p:blipFill>
          <a:blip r:embed="rId5"/>
          <a:stretch/>
        </p:blipFill>
        <p:spPr>
          <a:xfrm>
            <a:off x="3505320" y="42670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旋转的小花3＃"/>
          <p:cNvPicPr/>
          <p:nvPr/>
        </p:nvPicPr>
        <p:blipFill>
          <a:blip r:embed="rId6"/>
          <a:stretch/>
        </p:blipFill>
        <p:spPr>
          <a:xfrm>
            <a:off x="3492360" y="4959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旋转的小花3＃"/>
          <p:cNvPicPr/>
          <p:nvPr/>
        </p:nvPicPr>
        <p:blipFill>
          <a:blip r:embed="rId7"/>
          <a:stretch/>
        </p:blipFill>
        <p:spPr>
          <a:xfrm>
            <a:off x="3492360" y="558972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6"/>
          <p:cNvSpPr/>
          <p:nvPr/>
        </p:nvSpPr>
        <p:spPr>
          <a:xfrm>
            <a:off x="4059360" y="552240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楷体"/>
              </a:rPr>
              <a:t>总结延伸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066680" y="762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7200" y="114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457200" y="22860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209" name="Picture 5" descr="2008123164029855_2"/>
          <p:cNvPicPr/>
          <p:nvPr/>
        </p:nvPicPr>
        <p:blipFill>
          <a:blip r:embed="rId1"/>
          <a:stretch/>
        </p:blipFill>
        <p:spPr>
          <a:xfrm>
            <a:off x="-14400" y="-31680"/>
            <a:ext cx="9139320" cy="6853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-58680" y="330120"/>
            <a:ext cx="48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导入语：同学们你们平时外出过吗？如果外出，你不知道路，怎么办？引出课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出行的学问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创设情境，解决问题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11" name="文本框 8198"/>
          <p:cNvSpPr/>
          <p:nvPr/>
        </p:nvSpPr>
        <p:spPr>
          <a:xfrm>
            <a:off x="977760" y="1413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IMG_08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2:28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07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