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4BD-D2BE-4DE1-B4E8-2984630D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A23-32D8-46F6-BFB4-06D3474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D64-9B80-428B-8977-1C9EB9F68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2D9-7A22-4E3D-96D0-B824C3FB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7E81-AB68-440F-A672-4F2AAECD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7D31-856C-41BF-BDD7-18833050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F282-F18F-40C5-A7D2-19FBB8AA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C15A-3DF0-40E4-976B-261AF51F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B43F-988F-4259-8B79-48CDB1E7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D825-39B9-4874-8CBD-3BD82B8A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BCBB-DC3C-44A4-AD61-609D6E76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780-184E-4FAB-BFA7-9768EB39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AC68-B58C-4BD7-BB7E-C83CC6F8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8250-8AD6-4AE6-966C-81590877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C97D-4464-47DF-ADF6-6EA60EC1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F9BA-252E-43F8-BD74-D95A037C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8E82-5040-4108-A440-07125D56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2668-4137-4E50-ADA0-E6210859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5B19-CA57-4DE8-ACB2-6672979B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3F8EF-8D27-4A29-A6AD-40D8AB9D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06F4-018F-4AF6-AC57-9BF0FCB8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6BFA-AC9D-4BB1-B65C-862BCA2E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06D-96DF-46E8-8C2F-BC16A47B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36FD-EFA3-4405-BD82-9CB48189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1B46-7C50-47F9-9806-7DB4B6DE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8C72-7E94-4B53-8436-7BFC6B0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D42D-FB4A-4888-9C10-599E036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2EEE-19FE-4C2B-830F-6CABC8E3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737D-CD3D-4521-8D24-2E33FBFB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96B5-52B3-42E7-8F8E-445845D7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3335-9E03-4703-A5BC-C39052AB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10E49-B33F-42D2-8626-5E5023C7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3166-F9D2-48B7-B2CC-9E290CA3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430-EA5A-4A51-AA56-DF298831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3E4B-9439-4EAE-B8D9-383EE75D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19C54-3817-4786-AC3C-80520C89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13CC-5015-42E9-93F1-300CDB6A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16A2-8917-44CA-AF13-2F6CE2D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92F5-787D-42D7-8CF5-D2611149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110C-B314-4C3D-8CB9-FF76A17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6BF8-CD2A-4CD3-88A9-000F5FE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4A51-7C5F-4565-AC07-3CA73086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BDB66-DFD7-4D65-880C-A91EB812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5F6-179C-4CAF-95E1-3076A403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E56-60BB-4D89-AAA5-66863364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11F-45E9-425F-BF65-8A142E64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803-7098-4E7B-BAA1-AF1C195D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770-BAC7-4167-AC5B-49A3BD9C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BF90-E839-4F70-ADE0-C895ADA31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54FD-B0F9-4520-B64E-3021381182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2A18-59E2-4F57-BA61-06C207408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1AE8-28A2-4B46-902A-7D331F171D23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2"/>
          <p:cNvSpPr/>
          <p:nvPr/>
        </p:nvSpPr>
        <p:spPr>
          <a:xfrm>
            <a:off x="2152800" y="148428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中宋"/>
                <a:ea typeface="华文中宋"/>
              </a:rPr>
              <a:t>抽样课件</a:t>
            </a:r>
            <a:r>
              <a:rPr b="1" lang="en-US" sz="4000" spc="-1" strike="noStrike">
                <a:solidFill>
                  <a:srgbClr val="080808"/>
                </a:solidFill>
                <a:latin typeface="华文中宋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080808"/>
                </a:solidFill>
                <a:latin typeface="华文中宋"/>
                <a:ea typeface="华文中宋"/>
              </a:rPr>
              <a:t>模板打包下载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7989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  <a:ea typeface="方正姚体"/>
              </a:rPr>
              <a:t>4</a:t>
            </a:r>
            <a:r>
              <a:rPr b="1" lang="zh-CN" sz="5400" spc="-1" strike="noStrike">
                <a:solidFill>
                  <a:srgbClr val="00cc99"/>
                </a:solidFill>
                <a:latin typeface="Arial"/>
                <a:ea typeface="方正姚体"/>
              </a:rPr>
              <a:t>、探究提高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84328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9640" y="1844640"/>
            <a:ext cx="8280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猪八戒卖西瓜的故事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猪八戒挑了一担西瓜去卖．有人问：你的西瓜甜吗？猪八戒说：当然了，个个都甜．那人问：你是怎么确定的？猪八戒说：我每个都尝了一遍．那人转身就走了．猪八戒顶着烈日，卖了一天的瓜，但一个也没卖掉，猪八戒实在想不通，为什么他的西瓜会卖不掉？你能帮猪八戒想想为什么吗？如果是你去卖西瓜，你会怎样告诉顾客你的西瓜是甜的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0" name="Picture 6" descr="57"/>
          <p:cNvPicPr/>
          <p:nvPr/>
        </p:nvPicPr>
        <p:blipFill>
          <a:blip r:embed="rId1"/>
          <a:stretch/>
        </p:blipFill>
        <p:spPr>
          <a:xfrm>
            <a:off x="500364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HaoSc19_806_200524224742371"/>
          <p:cNvPicPr/>
          <p:nvPr/>
        </p:nvPicPr>
        <p:blipFill>
          <a:blip r:embed="rId2"/>
          <a:stretch/>
        </p:blipFill>
        <p:spPr>
          <a:xfrm>
            <a:off x="0" y="2781360"/>
            <a:ext cx="714240" cy="57132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9"/>
          <p:cNvGrpSpPr/>
          <p:nvPr/>
        </p:nvGrpSpPr>
        <p:grpSpPr>
          <a:xfrm>
            <a:off x="6588000" y="549360"/>
            <a:ext cx="2232000" cy="1872720"/>
            <a:chOff x="6588000" y="549360"/>
            <a:chExt cx="2232000" cy="1872720"/>
          </a:xfrm>
        </p:grpSpPr>
        <p:pic>
          <p:nvPicPr>
            <p:cNvPr id="243" name="Picture 8" descr="u=4202495749,2245564389&amp;gp=1"/>
            <p:cNvPicPr/>
            <p:nvPr/>
          </p:nvPicPr>
          <p:blipFill>
            <a:blip r:embed="rId3"/>
            <a:stretch/>
          </p:blipFill>
          <p:spPr>
            <a:xfrm>
              <a:off x="6588000" y="549360"/>
              <a:ext cx="2106720" cy="18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3" descr="u=827787602,3667177475&amp;gp=2"/>
            <p:cNvPicPr/>
            <p:nvPr/>
          </p:nvPicPr>
          <p:blipFill>
            <a:blip r:embed="rId4"/>
            <a:stretch/>
          </p:blipFill>
          <p:spPr>
            <a:xfrm>
              <a:off x="7812000" y="14144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5"/>
          <p:cNvSpPr txBox="1"/>
          <p:nvPr/>
        </p:nvSpPr>
        <p:spPr>
          <a:xfrm>
            <a:off x="1763640" y="1844640"/>
            <a:ext cx="61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谈谈这堂课你的收获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817236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5"/>
          <p:cNvSpPr txBox="1"/>
          <p:nvPr/>
        </p:nvSpPr>
        <p:spPr>
          <a:xfrm>
            <a:off x="539640" y="62064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课后任务：</a:t>
            </a:r>
            <a:endParaRPr b="0" lang="en-US" sz="2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1413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要了解我校同学中有多少学生知道父母的生日，请同学们设计调查方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0" name="Picture 8" descr="u=2088086157,2025069223&amp;gp=1"/>
          <p:cNvPicPr/>
          <p:nvPr/>
        </p:nvPicPr>
        <p:blipFill>
          <a:blip r:embed="rId3"/>
          <a:stretch/>
        </p:blipFill>
        <p:spPr>
          <a:xfrm>
            <a:off x="6443640" y="1052640"/>
            <a:ext cx="16207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1692360" y="2205000"/>
            <a:ext cx="597528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再见</a:t>
            </a:r>
            <a:endParaRPr b="0" lang="en-US" sz="2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8B13-8A45-484F-9185-ABB439AAC9D7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755640" y="1125360"/>
            <a:ext cx="74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知识窗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人们在研究某个自然现象或社会现象时，往往会遇到不方便、不可能或不必要对所有的对象作调查的情况，于是从中抽取一部分对象作调查分析，这就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抽样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AutoShape 7">
            <a:hlinkClick r:id="" action="ppaction://hlinkshowjump?jump=previousslide"/>
          </p:cNvPr>
          <p:cNvSpPr/>
          <p:nvPr/>
        </p:nvSpPr>
        <p:spPr>
          <a:xfrm>
            <a:off x="7885080" y="602136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19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1116000" y="2565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调查方法一：像这样为一定目的而全面的调查叫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普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例如人口普查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11280" y="3645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小知识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人口普查是指在国家统一规定的时间内，按照统一的方法、统一的项目、统一的调查表和统一的标准，对全国人口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逐户逐人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进行的一次性调查登记。它包括对人口普查资料的搜集、数据汇总、资料评价、分析研究等全部过程。 </a:t>
            </a:r>
            <a:br>
              <a:rPr sz="2400"/>
            </a:b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250920" y="1484280"/>
            <a:ext cx="201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任务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9" name="WordArt 11"/>
          <p:cNvSpPr txBox="1"/>
          <p:nvPr/>
        </p:nvSpPr>
        <p:spPr>
          <a:xfrm>
            <a:off x="2411280" y="177336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调查我班所以同学的身高情况。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bj1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7545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1143000" y="228600"/>
            <a:ext cx="5805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隶书"/>
              </a:rPr>
              <a:t>生活中的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小插曲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85800" y="1371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“孩子，再帮妈妈买鸡蛋去”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85800" y="19051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“这次注意点，上次你买的鸡蛋有好几个是坏的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8580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……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5800" y="28954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孩子高兴地跑回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685800" y="3352680"/>
            <a:ext cx="5715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孩子：“妈妈，这次的鸡蛋全是好的，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每个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都打开看过了”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685800" y="41911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“啊！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……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8" name="Picture 10" descr="107360_1_small_jpg"/>
          <p:cNvPicPr/>
          <p:nvPr/>
        </p:nvPicPr>
        <p:blipFill>
          <a:blip r:embed="rId2"/>
          <a:stretch/>
        </p:blipFill>
        <p:spPr>
          <a:xfrm>
            <a:off x="6553080" y="3873600"/>
            <a:ext cx="1828800" cy="1460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121701"/>
          <p:cNvPicPr/>
          <p:nvPr/>
        </p:nvPicPr>
        <p:blipFill>
          <a:blip r:embed="rId3"/>
          <a:stretch/>
        </p:blipFill>
        <p:spPr>
          <a:xfrm>
            <a:off x="6553080" y="2359080"/>
            <a:ext cx="1828800" cy="1450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684360" y="54450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注：这种调查方法具有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破坏性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，一般不采取普查的方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611280" y="692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要了解全国初中生的身高情况，明明、红红、丁丁三位同学设计了下面三种调查方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2" name="Picture 5" descr="5200541174843"/>
          <p:cNvPicPr/>
          <p:nvPr/>
        </p:nvPicPr>
        <p:blipFill>
          <a:blip r:embed="rId1"/>
          <a:stretch/>
        </p:blipFill>
        <p:spPr>
          <a:xfrm>
            <a:off x="684360" y="1484280"/>
            <a:ext cx="419040" cy="1104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1187280" y="184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明明：我将全国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所有的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初中生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4" name="Picture 7" descr="11200541173909"/>
          <p:cNvPicPr/>
          <p:nvPr/>
        </p:nvPicPr>
        <p:blipFill>
          <a:blip r:embed="rId2"/>
          <a:stretch/>
        </p:blipFill>
        <p:spPr>
          <a:xfrm>
            <a:off x="684360" y="2637000"/>
            <a:ext cx="438120" cy="971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1116000" y="292428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红红：我只要对飞云镇中学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一所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学校的学生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6" name="Picture 9" descr="14200541144012"/>
          <p:cNvPicPr/>
          <p:nvPr/>
        </p:nvPicPr>
        <p:blipFill>
          <a:blip r:embed="rId3"/>
          <a:stretch/>
        </p:blipFill>
        <p:spPr>
          <a:xfrm>
            <a:off x="539640" y="3645000"/>
            <a:ext cx="50328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0"/>
          <p:cNvSpPr/>
          <p:nvPr/>
        </p:nvSpPr>
        <p:spPr>
          <a:xfrm>
            <a:off x="1116000" y="3573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丁丁：我要在全国按东、西、南、北、中分片，每个区域各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抽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所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中学，对这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所中学的全体初中生（共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500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名）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39640" y="4724280"/>
            <a:ext cx="799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问题：（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明明采用什么调查方法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332000" y="5084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红红、丁丁的调查方 法有什么共同特点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332000" y="5516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你认为采用哪一种调查方法比较合适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WordArt 14"/>
          <p:cNvSpPr txBox="1"/>
          <p:nvPr/>
        </p:nvSpPr>
        <p:spPr>
          <a:xfrm>
            <a:off x="291960" y="379440"/>
            <a:ext cx="122400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2" name="AutoShape 15">
            <a:hlinkClick r:id="" action="ppaction://hlinkshowjump?jump=las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258920" y="227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属于普查，工作量太大，不方便，没有必要</a:t>
            </a: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332000" y="328464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这种抽样调查方法缺乏普遍性，不合适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2411280" y="429264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这种抽样调查方法具有可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操作性</a:t>
            </a: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及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代表性</a:t>
            </a: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468360" y="549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95280" y="162864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指出下列调查哪些应作普查，哪些应作抽样调查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68360" y="2276640"/>
            <a:ext cx="806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日光灯管厂要检测一批灯管的寿命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了解居民对废电池的处理情况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了解现代大学生的主要娱乐方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防治某种突发性传染病期间，某校对学生测量体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360" y="436572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一锅水饺的味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68360" y="4797360"/>
            <a:ext cx="44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旅客上飞机前的安全检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24000" y="404640"/>
            <a:ext cx="8207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要了解全国初中生的身高情况，丁丁同学设计了下面的调查方案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①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按东、西、南、北、中分片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②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每个区域各抽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所中学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③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对这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所中学的全部初中生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5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人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0" y="270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我们把所要考察的对象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全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叫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总体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0" y="3141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把组成总体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每一个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考察对象叫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个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0" y="3645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从总体中抽取出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一部分个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集体叫做一个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样本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4920" y="422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样本中个体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数目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叫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样本的容量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24000" y="46530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(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注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样本的容量是个体的数目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所以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不带单位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084720" y="2637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全国初中生的身高</a:t>
            </a:r>
            <a:r>
              <a:rPr b="1" lang="zh-CN" sz="2000" spc="-1" strike="noStrike">
                <a:solidFill>
                  <a:srgbClr val="33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084720" y="314172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每一个初中生的身高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020000" y="37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抽取的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500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名学生身高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5003640" y="4292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1500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9" descr="104494_083948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5865840" y="1773360"/>
            <a:ext cx="3278160" cy="5084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790560" y="4762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日，“蒙牛城市之间”来温海选，中央电视台为了调查“蒙牛城市之间”节目在我市满意程度 ，请同学帮忙设计调查方案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WordArt 17"/>
          <p:cNvSpPr txBox="1"/>
          <p:nvPr/>
        </p:nvSpPr>
        <p:spPr>
          <a:xfrm>
            <a:off x="0" y="0"/>
            <a:ext cx="1467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例题 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WordArt 22"/>
          <p:cNvSpPr txBox="1"/>
          <p:nvPr/>
        </p:nvSpPr>
        <p:spPr>
          <a:xfrm>
            <a:off x="0" y="191628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2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0" y="2924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一。试比较普查和抽样调查的优缺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0" y="5157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二。如何提高抽样调查的准确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0" y="3357720"/>
            <a:ext cx="575928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普查的准确度高，但工作量大。一般”不方便“或”不必要“的事件调查都不会采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0" y="4149720"/>
            <a:ext cx="576108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抽样调查可以减少工作量，对事件的调查快捷、方便，但准确度没有普查高，且对重大事件，如”传染病的检查“、”人口调查“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0" y="5661000"/>
            <a:ext cx="583416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抽样应具有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代表性</a:t>
            </a: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、样本要有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足够的容量</a:t>
            </a: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等基本原则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8423280" y="6354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395280" y="260280"/>
            <a:ext cx="201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合作学习 </a:t>
            </a:r>
            <a:endParaRPr b="0" lang="en-US" sz="2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556000" y="836640"/>
            <a:ext cx="532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50920" y="836640"/>
            <a:ext cx="8642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瑞安市今年约有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5 0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学生参加初中毕业升学考试。为了了解数学考试成绩，从中抽取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份学生的答卷来统计合格率、优秀率和平均分，问应怎样取这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份答卷，使所了解的数据具有代表性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抽样在卷头拆封前进行（即看不见考生的姓名、所在学校、准考证号码等；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每个考场有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考生，每个考场考生的答卷装订成一叠，包装袋写有考场编号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参加考试的同一所学校的各个考场连续编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395280" y="3789360"/>
            <a:ext cx="813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第（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）条信息表明不能按所在学校或准考证号码抽样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95280" y="414972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第（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）条信息表明有考场约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25000÷25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（个），也就是约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答卷，从中抽取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份学生答卷也就是从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试卷中抽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答卷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95280" y="508464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第（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）条信息说明抽取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答卷时，不能根据试卷袋的序号连续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抽取，连续抽取可能使抽取的答卷集中在少数学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95280" y="569916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注意：抽样时既要抽足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袋答卷，又要使抽取的样本具有代表性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随机性，普遍性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468360" y="333360"/>
            <a:ext cx="194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一练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468360" y="981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为了了解学生对学校伙食的满意程度，制定了以下方案，你认为哪种最好？（       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女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11280" y="21337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男生和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女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11280" y="2492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七年级、八年级和九年级各个年级的男生和女生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11280" y="2924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七年级、八年级和九年级各个年级的男生和女生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611280" y="4797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要了解市民对自来水水质的满意程度，是否需要问遍每个市民？对一个居民区的调查结果是否能代表全市市民的意见？你认为怎样的抽样调查比较合理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611280" y="33577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某厂家在某城市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个经销该厂产品的大商场进行调查，发现该厂产品的销售量占这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个大商场同类产品销售量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40%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，于是该厂声称，他们的产品占国内同类产品销售量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40%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你认为这种宣传可信吗？为什么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0:1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55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