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2D2-F587-40FD-830E-910FA3DD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387-7302-46DB-A82F-22C36D9D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E03-4D68-4764-9F45-F678E8CB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A02-22C6-4E1C-BBEE-6DA894C0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1FE3-E6E3-4B3D-9AC4-739419F5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C97E-D3A6-418C-A68B-64B1EC17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6B1-4F8D-44BD-98A8-AB9C72A4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94B0-74F6-47B4-9482-6344622F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B74-8A44-459D-99C9-BB5F9F84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5D59-7B5D-4F52-BA52-F81FDC4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85DF-EB69-4E68-8E4A-1C99160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8CD-A81A-4CE5-AD11-99272D7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43C3-0BDE-4B65-9F3A-5363EC5C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877-A759-4236-89F4-B5464F0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03E5-7D70-4428-ACA6-CD3EFECB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ADBA-8269-47DE-817A-B89AA729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F37-1941-42F7-8700-5F12B0CB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45B-4F66-428B-B8FB-6F51306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0BF-F460-499E-A545-44771F9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E4A-DDA4-46CE-B1E9-2A83129F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0AE-5502-4A2D-BA6C-463E8C91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4B3-F8DE-489F-BA6F-9B2CEF2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AF5-27C2-4D0E-A892-A41D0D5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EA8-EB7E-40CD-992D-C2FEFA7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D8A2-5AC8-4500-B7D1-298A87EEE2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2A2-0FFD-443E-ADBA-03B10C8C7B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B54-0FD4-4FB2-8ED4-E999FF994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720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实验活动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8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粗盐中难溶性杂质的去除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1913040" y="3068640"/>
            <a:ext cx="5400720" cy="30384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60360" y="2781360"/>
            <a:ext cx="60120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-39600" y="3240"/>
            <a:ext cx="64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粗盐中难溶性杂质的去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74772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、溶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09760" y="765000"/>
            <a:ext cx="20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、过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448160" y="76500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、蒸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0920" y="3789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过滤中应注意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黑体"/>
              </a:rPr>
              <a:t>:“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黑体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贴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黑体"/>
              </a:rPr>
              <a:t>两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低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黑体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靠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81040" y="4724280"/>
            <a:ext cx="16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  <a:ea typeface="黑体"/>
              </a:rPr>
              <a:t>4.</a:t>
            </a: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黑体"/>
              </a:rPr>
              <a:t>产率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25440" y="292572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黑体"/>
              </a:rPr>
              <a:t>除去粗盐中的不溶性杂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482920" y="1628640"/>
            <a:ext cx="504720" cy="100836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762280" y="45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黑体"/>
              </a:rPr>
              <a:t>精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76228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alibri"/>
                <a:ea typeface="黑体"/>
              </a:rPr>
              <a:t>粗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66560" y="5301720"/>
            <a:ext cx="1800720" cy="360"/>
            <a:chOff x="2266560" y="5301720"/>
            <a:chExt cx="1800720" cy="360"/>
          </a:xfrm>
        </p:grpSpPr>
        <p:sp>
          <p:nvSpPr>
            <p:cNvPr id="97" name="Line 16"/>
            <p:cNvSpPr/>
            <p:nvPr/>
          </p:nvSpPr>
          <p:spPr>
            <a:xfrm>
              <a:off x="2266920" y="5302080"/>
              <a:ext cx="1800360" cy="0"/>
            </a:xfrm>
            <a:prstGeom prst="line">
              <a:avLst/>
            </a:prstGeom>
            <a:ln w="572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10800000">
              <a:off x="2266560" y="5301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 Box 17"/>
          <p:cNvSpPr/>
          <p:nvPr/>
        </p:nvSpPr>
        <p:spPr>
          <a:xfrm>
            <a:off x="3851280" y="458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×100</a:t>
            </a:r>
            <a:r>
              <a:rPr b="1" lang="en-US" sz="7200" spc="-1" strike="noStrike">
                <a:solidFill>
                  <a:srgbClr val="3333ff"/>
                </a:solidFill>
                <a:latin typeface="黑体"/>
                <a:ea typeface="黑体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8" descr="过滤食盐水"/>
          <p:cNvPicPr/>
          <p:nvPr/>
        </p:nvPicPr>
        <p:blipFill>
          <a:blip r:embed="rId1"/>
          <a:stretch/>
        </p:blipFill>
        <p:spPr>
          <a:xfrm>
            <a:off x="6580080" y="189000"/>
            <a:ext cx="2563920" cy="278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蒸发食盐水"/>
          <p:cNvPicPr/>
          <p:nvPr/>
        </p:nvPicPr>
        <p:blipFill>
          <a:blip r:embed="rId2"/>
          <a:stretch/>
        </p:blipFill>
        <p:spPr>
          <a:xfrm>
            <a:off x="6580080" y="2997360"/>
            <a:ext cx="2563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684360" y="476280"/>
            <a:ext cx="25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溶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87240" y="141300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仪器：</a:t>
            </a: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烧杯、玻璃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7240" y="2276640"/>
            <a:ext cx="798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237200" y="2276640"/>
            <a:ext cx="44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加快粗盐的溶解速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7240" y="3284640"/>
          <a:ext cx="7988400" cy="1592280"/>
        </p:xfrm>
        <a:graphic>
          <a:graphicData uri="http://schemas.openxmlformats.org/drawingml/2006/table">
            <a:tbl>
              <a:tblPr/>
              <a:tblGrid>
                <a:gridCol w="2664000"/>
                <a:gridCol w="2662200"/>
                <a:gridCol w="26622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称取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剩余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溶解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15"/>
          <p:cNvSpPr/>
          <p:nvPr/>
        </p:nvSpPr>
        <p:spPr>
          <a:xfrm>
            <a:off x="3348000" y="41497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25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012000" y="414972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75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9"/>
          <p:cNvSpPr/>
          <p:nvPr/>
        </p:nvSpPr>
        <p:spPr>
          <a:xfrm>
            <a:off x="701640" y="476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过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650880" y="1341360"/>
            <a:ext cx="8242200" cy="1290240"/>
            <a:chOff x="650880" y="1341360"/>
            <a:chExt cx="8242200" cy="1290240"/>
          </a:xfrm>
        </p:grpSpPr>
        <p:sp>
          <p:nvSpPr>
            <p:cNvPr id="111" name="Text Box 11"/>
            <p:cNvSpPr/>
            <p:nvPr/>
          </p:nvSpPr>
          <p:spPr>
            <a:xfrm>
              <a:off x="650880" y="1341360"/>
              <a:ext cx="824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Goudy Old Style"/>
                  <a:ea typeface="华文中宋"/>
                </a:rPr>
                <a:t>①</a:t>
              </a:r>
              <a:r>
                <a:rPr b="1" lang="zh-CN" sz="3600" spc="-1" strike="noStrike">
                  <a:solidFill>
                    <a:srgbClr val="3333cc"/>
                  </a:solidFill>
                  <a:latin typeface="Goudy Old Style"/>
                  <a:ea typeface="华文中宋"/>
                </a:rPr>
                <a:t>仪器：</a:t>
              </a: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带铁圈的铁架台、漏斗、烧杯、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2484720" y="1989000"/>
              <a:ext cx="36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滤纸、玻璃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 Box 13"/>
          <p:cNvSpPr/>
          <p:nvPr/>
        </p:nvSpPr>
        <p:spPr>
          <a:xfrm>
            <a:off x="657360" y="2781360"/>
            <a:ext cx="5032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oudy Old Style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Goudy Old Style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284720" y="2781360"/>
            <a:ext cx="16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引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57360" y="3716280"/>
            <a:ext cx="61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Goudy Old Style"/>
                <a:ea typeface="华文中宋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一贴、二低、三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720720" y="1268280"/>
            <a:ext cx="838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滤纸紧贴漏斗内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滤纸边缘低于漏斗边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滤液边缘低于滤纸边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烧杯口紧靠玻璃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玻璃棒紧靠三层滤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漏斗尖嘴紧靠烧杯内壁。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4360" y="5000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过  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23960" y="476280"/>
            <a:ext cx="24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蒸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757080" y="1341360"/>
            <a:ext cx="8386920" cy="1220400"/>
            <a:chOff x="757080" y="1341360"/>
            <a:chExt cx="8386920" cy="1220400"/>
          </a:xfrm>
        </p:grpSpPr>
        <p:sp>
          <p:nvSpPr>
            <p:cNvPr id="120" name="Text Box 6"/>
            <p:cNvSpPr/>
            <p:nvPr/>
          </p:nvSpPr>
          <p:spPr>
            <a:xfrm>
              <a:off x="757080" y="1341360"/>
              <a:ext cx="838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①</a:t>
              </a:r>
              <a:r>
                <a:rPr b="1" lang="zh-CN" sz="3600" spc="-1" strike="noStrike">
                  <a:solidFill>
                    <a:srgbClr val="0000ff"/>
                  </a:solidFill>
                  <a:latin typeface="Goudy Old Style"/>
                  <a:ea typeface="华文中宋"/>
                </a:rPr>
                <a:t>仪器：</a:t>
              </a: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带铁圈的铁架台、蒸发皿、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4139640" y="191916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酒精灯、玻璃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 Box 8"/>
          <p:cNvSpPr/>
          <p:nvPr/>
        </p:nvSpPr>
        <p:spPr>
          <a:xfrm>
            <a:off x="647640" y="2781360"/>
            <a:ext cx="781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49560" y="278136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防止液体由于受热不均，造成液滴飞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576360" y="4292640"/>
            <a:ext cx="8567280" cy="1220400"/>
            <a:chOff x="576360" y="4292640"/>
            <a:chExt cx="8567280" cy="1220400"/>
          </a:xfrm>
        </p:grpSpPr>
        <p:sp>
          <p:nvSpPr>
            <p:cNvPr id="125" name="Text Box 11"/>
            <p:cNvSpPr/>
            <p:nvPr/>
          </p:nvSpPr>
          <p:spPr>
            <a:xfrm>
              <a:off x="576360" y="4292640"/>
              <a:ext cx="856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③</a:t>
              </a:r>
              <a:r>
                <a:rPr b="1" lang="zh-CN" sz="3600" spc="-1" strike="noStrike">
                  <a:solidFill>
                    <a:srgbClr val="0000ff"/>
                  </a:solidFill>
                  <a:latin typeface="Goudy Old Style"/>
                  <a:ea typeface="华文中宋"/>
                </a:rPr>
                <a:t>注意：</a:t>
              </a: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待蒸发皿中出现较多固体时，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2862000" y="48704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Goudy Old Style"/>
                  <a:ea typeface="华文中宋"/>
                </a:rPr>
                <a:t>停止加热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文本框 8199"/>
          <p:cNvSpPr/>
          <p:nvPr/>
        </p:nvSpPr>
        <p:spPr>
          <a:xfrm>
            <a:off x="2590920" y="804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35B-2FC2-4CB6-8580-E4EE06D78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1"/>
          <p:cNvSpPr/>
          <p:nvPr/>
        </p:nvSpPr>
        <p:spPr>
          <a:xfrm>
            <a:off x="682560" y="48420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计算产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87240" y="1392120"/>
            <a:ext cx="74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玻璃棒把固体食盐转移到纸上，称量计算产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39800" y="2852640"/>
            <a:ext cx="6064200" cy="642600"/>
          </a:xfrm>
          <a:prstGeom prst="rect">
            <a:avLst/>
          </a:prstGeom>
          <a:solidFill>
            <a:srgbClr val="b7dee8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玻璃棒的作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4788000" y="28526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oudy Old Style"/>
                <a:ea typeface="华文中宋"/>
              </a:rPr>
              <a:t>转移固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7240" y="3852720"/>
          <a:ext cx="7988400" cy="1592280"/>
        </p:xfrm>
        <a:graphic>
          <a:graphicData uri="http://schemas.openxmlformats.org/drawingml/2006/table">
            <a:tbl>
              <a:tblPr/>
              <a:tblGrid>
                <a:gridCol w="2664000"/>
                <a:gridCol w="2662200"/>
                <a:gridCol w="26622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溶解粗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精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精盐产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6"/>
          <p:cNvSpPr/>
          <p:nvPr/>
        </p:nvSpPr>
        <p:spPr>
          <a:xfrm>
            <a:off x="755640" y="47372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75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348000" y="47372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4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6012000" y="47372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.7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1:1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4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