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8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498-3A65-4A07-832C-481D0959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360-4039-45B9-96E7-7681E065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A5C-6AE1-4295-9241-439ECF53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33D-3506-4946-A717-4D5B915D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69E5-8195-4180-BFC5-9BF6EB13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6A2C-4946-4962-AF18-7F24B6AB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DEFD-D2B4-487A-9000-5507476B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F15D-E207-4939-B098-01E27E04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2CA4-FEE3-4CC5-801D-855E83E8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7778-17C7-4D36-B06C-68065286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AEEC-3DDD-4384-8124-9057ED4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EB0-47F4-4807-AD04-00337A3F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9CCD-7A1E-47D4-9E70-1864CA68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BCD4-CA38-4010-81B5-BBAEB83D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5AED-6CC1-48A2-A1B7-2FD921D4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7704-185E-4986-9147-143CB741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D6A5-09BF-42E2-A775-4DA3E2C7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26E-409F-4CD7-B658-79765C06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811-DDCB-4872-9E4D-AFFE04BF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C06-2714-4F1F-BF62-C6843FB6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5DD-3526-4793-8B72-46A4FC40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20D-7971-4183-9930-DC9B3ADB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0DD-2224-437D-A627-11801F97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A44-E760-4B56-9FC2-88B8463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6303-C913-4A87-BC2C-D1D6E3CBA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2DB4-F1FD-474E-8EB3-D6B774B168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WordArt 5" descr=""/>
          <p:cNvPicPr/>
          <p:nvPr/>
        </p:nvPicPr>
        <p:blipFill>
          <a:blip r:embed="rId1"/>
          <a:stretch/>
        </p:blipFill>
        <p:spPr>
          <a:xfrm>
            <a:off x="503280" y="1681200"/>
            <a:ext cx="8246880" cy="16970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7277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7277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（二）拒绝和战胜不良诱惑的方法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27320" y="1700280"/>
            <a:ext cx="12776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72776"/>
                </a:solidFill>
                <a:latin typeface="Tahoma"/>
                <a:ea typeface="黑体"/>
              </a:rPr>
              <a:t>战胜不良诱惑的方法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2124000" y="184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916360" y="17683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ahoma"/>
                <a:ea typeface="黑体"/>
              </a:rPr>
              <a:t>联想后果抵制诱惑法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916360" y="248904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ahoma"/>
                <a:ea typeface="黑体"/>
              </a:rPr>
              <a:t>主动请人帮助法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916360" y="32097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ahoma"/>
                <a:ea typeface="黑体"/>
              </a:rPr>
              <a:t>避开诱因法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987640" y="40021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ahoma"/>
                <a:ea typeface="黑体"/>
              </a:rPr>
              <a:t>婉言谢绝法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987640" y="47941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ahoma"/>
                <a:ea typeface="黑体"/>
              </a:rPr>
              <a:t>专时专用法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132000" y="52974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096"/>
          <p:cNvPicPr/>
          <p:nvPr/>
        </p:nvPicPr>
        <p:blipFill>
          <a:blip r:embed="rId1"/>
          <a:stretch/>
        </p:blipFill>
        <p:spPr>
          <a:xfrm>
            <a:off x="466560" y="765000"/>
            <a:ext cx="7993080" cy="5759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763640" y="2843640"/>
            <a:ext cx="57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086b"/>
                </a:solidFill>
                <a:latin typeface="Arial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78086b"/>
                </a:solidFill>
                <a:latin typeface="Arial"/>
                <a:ea typeface="华文中宋"/>
              </a:rPr>
              <a:t>不良诱惑犹如病毒，我们要拒绝和抵制不良诱惑，需要我们结合自己的实际，充分发挥自己的聪明才智，用科学的态度、清醒的头脑和正确的方法，摆脱它们的干扰，避免其对自己的危害。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pic011"/>
          <p:cNvPicPr/>
          <p:nvPr/>
        </p:nvPicPr>
        <p:blipFill>
          <a:blip r:embed="rId1"/>
          <a:stretch/>
        </p:blipFill>
        <p:spPr>
          <a:xfrm>
            <a:off x="34920" y="-27000"/>
            <a:ext cx="9001080" cy="6783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042920" y="1197000"/>
            <a:ext cx="73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332000" y="1125360"/>
            <a:ext cx="6553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非洲夏夜的草原上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一头强壮的驴子在安祥地吃草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.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一只小小的吸血蝙蝠悄悄地落在驴子的后蹄处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用它细小的舌尖轻轻地舔着驴子的脚踝处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.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起初驴子不断抬蹄或用尾巴来回扫动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渐渐地被舔得很舒适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不再烦躁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仍继续吃草。就这样，驴子被麻醉了，蝙蝠一会儿就咬了个小口，与同伴轮流喝干了驴子的血，“杀人蝙蝠”仅仅施以舒适而致命的诱惑，在驴子陶醉沉迷之中杀死了比自己大千百倍的对手。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108000" y="189000"/>
            <a:ext cx="345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四、课堂深化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763560"/>
            <a:ext cx="5977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       </a:t>
            </a:r>
            <a:r>
              <a:rPr b="1" lang="zh-CN" sz="3600" spc="-1" strike="noStrike">
                <a:solidFill>
                  <a:srgbClr val="78086b"/>
                </a:solidFill>
                <a:latin typeface="Century Gothic"/>
              </a:rPr>
              <a:t>驴子为什么会死在比自己小千百倍的对手手里呢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4" name="WordArt 4"/>
          <p:cNvSpPr txBox="1"/>
          <p:nvPr/>
        </p:nvSpPr>
        <p:spPr>
          <a:xfrm rot="721800">
            <a:off x="468000" y="333000"/>
            <a:ext cx="24480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900000"/>
                </a:gradFill>
                <a:latin typeface="宋体"/>
              </a:rPr>
              <a:t>想一想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900000"/>
              </a:gradFill>
              <a:latin typeface="宋体"/>
              <a:ea typeface="宋体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84360" y="31788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在我们看似平静的生活环境中，却隐藏着很多诱惑我们的因素，这就需要我们中学生自己时时刻刻提高警惕，积极参加有意义的各项活动，丰富自己的课余生活，保持清醒的头脑，自觉抵制这些诱惑。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36" name="Picture 6" descr="10"/>
          <p:cNvPicPr/>
          <p:nvPr/>
        </p:nvPicPr>
        <p:blipFill>
          <a:blip r:embed="rId1"/>
          <a:stretch/>
        </p:blipFill>
        <p:spPr>
          <a:xfrm>
            <a:off x="34920" y="5156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37"/>
          <p:cNvPicPr/>
          <p:nvPr/>
        </p:nvPicPr>
        <p:blipFill>
          <a:blip r:embed="rId2"/>
          <a:stretch/>
        </p:blipFill>
        <p:spPr>
          <a:xfrm>
            <a:off x="7216920" y="4930920"/>
            <a:ext cx="19270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8086b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通过今天我们大家的互相交流和讨论，我们懂得了如何分辨不良诱惑和怎么拒绝不良诱惑。在今后的人生道路上，我们都还会再遇到各种形形色色的诱惑，有些可以也非常具有隐藏性，我们一定要掌握好自己人生的方向，愉快的学习，健康的成长，拥有幸福的生活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324000" y="260280"/>
            <a:ext cx="374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6600"/>
                  </a:solidFill>
                  <a:round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五、课堂小结</a:t>
            </a:r>
            <a:endParaRPr b="0" lang="en-US" sz="1800" spc="1" strike="noStrike">
              <a:ln w="25560">
                <a:solidFill>
                  <a:srgbClr val="ff6600"/>
                </a:solidFill>
                <a:round/>
              </a:ln>
              <a:solidFill>
                <a:srgbClr val="99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0" y="5769000"/>
            <a:ext cx="9144000" cy="1115640"/>
            <a:chOff x="0" y="5769000"/>
            <a:chExt cx="9144000" cy="1115640"/>
          </a:xfrm>
        </p:grpSpPr>
        <p:pic>
          <p:nvPicPr>
            <p:cNvPr id="141" name="Picture 7" descr="baby63"/>
            <p:cNvPicPr/>
            <p:nvPr/>
          </p:nvPicPr>
          <p:blipFill>
            <a:blip r:embed="rId1"/>
            <a:stretch/>
          </p:blipFill>
          <p:spPr>
            <a:xfrm>
              <a:off x="1835280" y="5935320"/>
              <a:ext cx="6300720" cy="88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8" descr="houseline"/>
            <p:cNvPicPr/>
            <p:nvPr/>
          </p:nvPicPr>
          <p:blipFill>
            <a:blip r:embed="rId2"/>
            <a:stretch/>
          </p:blipFill>
          <p:spPr>
            <a:xfrm>
              <a:off x="0" y="5769000"/>
              <a:ext cx="9144000" cy="111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0"/>
          <p:cNvGrpSpPr/>
          <p:nvPr/>
        </p:nvGrpSpPr>
        <p:grpSpPr>
          <a:xfrm>
            <a:off x="1187280" y="1700280"/>
            <a:ext cx="7057800" cy="4254840"/>
            <a:chOff x="1187280" y="1700280"/>
            <a:chExt cx="7057800" cy="4254840"/>
          </a:xfrm>
        </p:grpSpPr>
        <p:sp>
          <p:nvSpPr>
            <p:cNvPr id="144" name="Text Box 4"/>
            <p:cNvSpPr/>
            <p:nvPr/>
          </p:nvSpPr>
          <p:spPr>
            <a:xfrm>
              <a:off x="1187280" y="1842840"/>
              <a:ext cx="1152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学会拒绝不良的诱惑</a:t>
              </a:r>
              <a:endParaRPr b="0" lang="en-US" sz="32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5" name="AutoShape 5"/>
            <p:cNvSpPr/>
            <p:nvPr/>
          </p:nvSpPr>
          <p:spPr>
            <a:xfrm>
              <a:off x="2266560" y="1915920"/>
              <a:ext cx="360360" cy="25189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18920"/>
                <a:gd name="textAreaBottom" fmla="*/ 2453400 h 25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727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2842920" y="170028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不良诱惑能战胜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2842920" y="3495600"/>
              <a:ext cx="144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战胜不良诱惑的方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8" name="AutoShape 8"/>
            <p:cNvSpPr/>
            <p:nvPr/>
          </p:nvSpPr>
          <p:spPr>
            <a:xfrm>
              <a:off x="4066920" y="3068280"/>
              <a:ext cx="216000" cy="19429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727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9" name="Text Box 9"/>
            <p:cNvSpPr/>
            <p:nvPr/>
          </p:nvSpPr>
          <p:spPr>
            <a:xfrm>
              <a:off x="4356000" y="3079440"/>
              <a:ext cx="3889080" cy="28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联想后果抵制诱惑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主动请人帮助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避开诱因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婉言谢绝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专时专用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  <p:sp>
        <p:nvSpPr>
          <p:cNvPr id="150" name="Text Box 11"/>
          <p:cNvSpPr/>
          <p:nvPr/>
        </p:nvSpPr>
        <p:spPr>
          <a:xfrm>
            <a:off x="971640" y="54936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板书：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1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8"/>
          <p:cNvGrpSpPr/>
          <p:nvPr/>
        </p:nvGrpSpPr>
        <p:grpSpPr>
          <a:xfrm>
            <a:off x="66960" y="0"/>
            <a:ext cx="8610480" cy="6723360"/>
            <a:chOff x="66960" y="0"/>
            <a:chExt cx="8610480" cy="6723360"/>
          </a:xfrm>
        </p:grpSpPr>
        <p:sp>
          <p:nvSpPr>
            <p:cNvPr id="153" name="Rectangle 2"/>
            <p:cNvSpPr/>
            <p:nvPr/>
          </p:nvSpPr>
          <p:spPr>
            <a:xfrm>
              <a:off x="2843280" y="0"/>
              <a:ext cx="242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ff0000"/>
                  </a:solidFill>
                  <a:uFillTx/>
                  <a:latin typeface="Tahoma"/>
                  <a:ea typeface="黑体"/>
                </a:rPr>
                <a:t>学会拒绝</a:t>
              </a:r>
              <a:endParaRPr b="0" lang="en-US" sz="44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4" name="Text Box 3"/>
            <p:cNvSpPr/>
            <p:nvPr/>
          </p:nvSpPr>
          <p:spPr>
            <a:xfrm>
              <a:off x="1692360" y="1125360"/>
              <a:ext cx="6985080" cy="55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该拒绝不拒绝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就会变成懦夫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有可能永无出头之日。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你拒绝不良诱惑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人生就得到一次升华；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你拒绝过早享乐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人生就多一次希望；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你拒绝违心做恶事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就为自己赢得了一份尊严。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适时说“不”很重要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我们一定要学会拒绝。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66960" y="2205000"/>
              <a:ext cx="127764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272776"/>
                  </a:solidFill>
                  <a:latin typeface="Verdana"/>
                </a:rPr>
                <a:t>教师寄语</a:t>
              </a:r>
              <a:endParaRPr b="0" lang="en-US" sz="36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  <p:pic>
        <p:nvPicPr>
          <p:cNvPr id="156" name="Picture 7" descr="A242"/>
          <p:cNvPicPr/>
          <p:nvPr/>
        </p:nvPicPr>
        <p:blipFill>
          <a:blip r:embed="rId1"/>
          <a:stretch/>
        </p:blipFill>
        <p:spPr>
          <a:xfrm>
            <a:off x="6145200" y="1700280"/>
            <a:ext cx="303516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80FB-77DD-4BF7-B512-EB3088DEF812}" type="slidenum">
              <a:rPr b="0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574560" y="1140480"/>
            <a:ext cx="81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8086b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78086b"/>
                </a:solidFill>
                <a:latin typeface="Arial"/>
              </a:rPr>
              <a:t>不历风雨难以长成参天大树，面对诱惑我们要学会拒绝，这样我们才能成长成为快乐的小使！！！  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1619280" y="3357720"/>
            <a:ext cx="541008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观赏！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324000" y="861840"/>
            <a:ext cx="842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潘多拉魔盒”的传说故事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从前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有个人捡到了一个精美的盒子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上面写着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:”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记住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无论何时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都不要打开这个盒子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否则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人类将要遭到灭顶之灾。”这人开始吓了一跳，没敢打开盒子。可不久就恢复了正常：“这盒子里面究竟装的是什么东西呢？什么东西有如此强大的力量呢？”最终他经受不住诱惑打开了盒 子。结果，这盒子里的东西跑出来了。从此，人类就有了洪水、瘟疫、疾病、犯罪等等灾难。原来审一个“潘多拉”魔盒，里面装的都是邪恶。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-36360" y="187200"/>
            <a:ext cx="4032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、情景呈现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7" name="Picture 7" descr="9111881644281ff78d9a52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2629080" y="117360"/>
            <a:ext cx="424800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16286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272776"/>
                </a:solidFill>
                <a:latin typeface="华文中宋"/>
                <a:ea typeface="华文中宋"/>
              </a:rPr>
              <a:t>传说古希腊有一个海峡女巫，她用自己的歌声诱惑所有经过这里的船只，使它们触礁沉没。智勇双全的奥德赛船长勇敢的接受了横渡海峡的任务。为了抵御女巫的歌声，他想出了一个办法：让船员把自己紧紧地帮在桅杆上，这样即使他听到歌声也无法指挥水手，让所有的的船员把耳朵堵上，使他们听不到女巫的歌声。结果，船只顺利的渡过了海峡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771640" y="1350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99"/>
                </a:solidFill>
                <a:latin typeface="Times New Roman"/>
                <a:ea typeface="华文彩云"/>
              </a:rPr>
              <a:t>神话故事的启示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flipH="1">
            <a:off x="0" y="0"/>
            <a:ext cx="2449440" cy="1773360"/>
          </a:xfrm>
          <a:prstGeom prst="cloudCallout">
            <a:avLst>
              <a:gd name="adj1" fmla="val -259398"/>
              <a:gd name="adj2" fmla="val 64861"/>
            </a:avLst>
          </a:prstGeom>
          <a:solidFill>
            <a:srgbClr val="99ccff"/>
          </a:solidFill>
          <a:ln w="93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听故事，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想办法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68360" y="21384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1</a:t>
            </a:r>
            <a:r>
              <a:rPr b="1" i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奥德赛船长在这个过程中受到诱惑了吗？他又是靠什么使船只顺利通过了海峡？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2</a:t>
            </a:r>
            <a:r>
              <a:rPr b="1" i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这个传说告诉我们不能抵制不良诱惑的后果是什么？、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3</a:t>
            </a:r>
            <a:r>
              <a:rPr b="1" i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这二个事例共同说明了什么？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 rot="21231000">
            <a:off x="128160" y="403200"/>
            <a:ext cx="42274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8440">
                  <a:solidFill>
                    <a:srgbClr val="9933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你说我说</a:t>
            </a:r>
            <a:endParaRPr b="0" lang="en-US" sz="1800" spc="1" strike="noStrike">
              <a:ln w="28440">
                <a:solidFill>
                  <a:srgbClr val="9933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11280" y="497520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华文中宋"/>
              </a:rPr>
              <a:t>我们在面对不良诱惑时要有信心、勇气和坚强的意志，并用智慧去战胜它。</a:t>
            </a:r>
            <a:r>
              <a:rPr b="0" lang="zh-CN" sz="2400" spc="-1" strike="noStrike">
                <a:solidFill>
                  <a:srgbClr val="27277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6978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（一）不良诱惑可以战胜</a:t>
            </a: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2133360"/>
            <a:ext cx="8569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8086b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不良诱惑是可以战胜的，关键看自己是否有抵制这些诱惑的能力。奥德赛船长是勇于并善于抵制不良诱惑的人。那么，我们应该如何去抵制身边的一些不良诱惑呢？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97" name="Picture 4" descr="q5"/>
          <p:cNvPicPr/>
          <p:nvPr/>
        </p:nvPicPr>
        <p:blipFill>
          <a:blip r:embed="rId1"/>
          <a:stretch/>
        </p:blipFill>
        <p:spPr>
          <a:xfrm>
            <a:off x="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q2"/>
          <p:cNvPicPr/>
          <p:nvPr/>
        </p:nvPicPr>
        <p:blipFill>
          <a:blip r:embed="rId2"/>
          <a:stretch/>
        </p:blipFill>
        <p:spPr>
          <a:xfrm rot="20747400">
            <a:off x="6914880" y="269640"/>
            <a:ext cx="1820880" cy="200664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109440" y="22716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272776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温馨小提醒：</a:t>
            </a:r>
            <a:endParaRPr b="1" lang="en-US" sz="1800" spc="1" strike="noStrike">
              <a:ln w="12600">
                <a:solidFill>
                  <a:srgbClr val="272776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9"/>
          <p:cNvSpPr/>
          <p:nvPr/>
        </p:nvSpPr>
        <p:spPr>
          <a:xfrm>
            <a:off x="682560" y="5661000"/>
            <a:ext cx="7777080" cy="7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阅读课本</a:t>
            </a:r>
            <a:r>
              <a:rPr b="1" lang="en-US" sz="36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88</a:t>
            </a:r>
            <a:r>
              <a:rPr b="1" lang="zh-CN" sz="36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页材料内容，并交流讨论：</a:t>
            </a: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2" name="WordArt 4"/>
          <p:cNvSpPr txBox="1"/>
          <p:nvPr/>
        </p:nvSpPr>
        <p:spPr>
          <a:xfrm rot="452400">
            <a:off x="-108000" y="115560"/>
            <a:ext cx="640872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70000"/>
                </a:gradFill>
                <a:latin typeface="宋体"/>
              </a:rPr>
              <a:t>三、  实话实说、战胜诱惑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70000"/>
              </a:gradFill>
              <a:latin typeface="宋体"/>
              <a:ea typeface="宋体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68360" y="24177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小玉这样的情况你遇到过吗？你在日常生活中遇到的最大的诱惑是什么？你又能否抵制这些诱惑？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241880" y="34282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请你帮助小玉出出主意，想办法战胜这种诱惑。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9640" y="4221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有的同学难以拒绝诱惑较多，有的较少；有的能婉言拒绝，有的却陷入其中不能自拔，这又说明了什么？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828720" y="5661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学们的自控能力较弱，控制诱惑的方法不多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u=1344391079,1505966293&amp;gp=0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989000"/>
            <a:ext cx="6299280" cy="27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_20000912"/>
          <p:cNvPicPr/>
          <p:nvPr/>
        </p:nvPicPr>
        <p:blipFill>
          <a:blip r:embed="rId2"/>
          <a:stretch/>
        </p:blipFill>
        <p:spPr>
          <a:xfrm>
            <a:off x="6858000" y="3213000"/>
            <a:ext cx="2286000" cy="1749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猴子"/>
          <p:cNvPicPr/>
          <p:nvPr/>
        </p:nvPicPr>
        <p:blipFill>
          <a:blip r:embed="rId3"/>
          <a:stretch/>
        </p:blipFill>
        <p:spPr>
          <a:xfrm>
            <a:off x="468360" y="549360"/>
            <a:ext cx="3927600" cy="22543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"/>
          <p:cNvSpPr/>
          <p:nvPr/>
        </p:nvSpPr>
        <p:spPr>
          <a:xfrm>
            <a:off x="250920" y="3141720"/>
            <a:ext cx="2819160" cy="1523880"/>
          </a:xfrm>
          <a:prstGeom prst="wedgeRoundRectCallout">
            <a:avLst>
              <a:gd name="adj1" fmla="val 7263"/>
              <a:gd name="adj2" fmla="val -122291"/>
              <a:gd name="adj3" fmla="val 16667"/>
            </a:avLst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2776"/>
                </a:solidFill>
                <a:latin typeface="Times New Roman"/>
              </a:rPr>
              <a:t>你们这些家伙，想诱捕我们，我们决不上当。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4140360" y="189000"/>
            <a:ext cx="3124080" cy="1371600"/>
          </a:xfrm>
          <a:prstGeom prst="wedgeEllipseCallout">
            <a:avLst>
              <a:gd name="adj1" fmla="val -48171"/>
              <a:gd name="adj2" fmla="val 86689"/>
            </a:avLst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2776"/>
                </a:solidFill>
                <a:latin typeface="Times New Roman"/>
              </a:rPr>
              <a:t>没有关系，喝一点不会醉的。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292720" y="4869000"/>
            <a:ext cx="3851280" cy="15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219640" y="50133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2776"/>
                </a:solidFill>
                <a:latin typeface="Arial"/>
              </a:rPr>
              <a:t>请你把故事继续下去，设想这些猩猩最后的结局，并说明设想的理由。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539640" y="404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2776"/>
                </a:solidFill>
                <a:latin typeface="Arial"/>
              </a:rPr>
              <a:t>猩猩是一种喜欢喝酒的野兽。山脚下的人摆下装满甜酒的酒壶，旁边放着大大小小的酒杯。同时还编了许多草鞋，把它们勾连编缀起来，放在道路旁边。猩猩一看，就知道这都是引诱自己上当的，它们还不知道设这些圈套的人的姓名和他们的父母祖先，便一一指名骂起来。可是骂完以后，有的猩猩就对同伴说：“为什么不去稍微尝它一点呢？不过要小心，千万不要多喝了！”于是就一同拿起小杯来喝。喝完了，还一边骂着一边把酒杯扔掉。可是过了一会儿，又拿起比较大的酒杯来喝。喝完了，又骂着把酒杯扔掉。这样重复多次，喝得嘴唇边甜蜜蜜的，再也克制不住了，就干脆拿起最大的酒杯大喝起来，根本忘了会喝醉的事。喝醉以后，便在一起挤眉弄眼地嬉笑，还把草鞋拿来穿上。这时候山脚下的人就出来追捕它们，结果互相践踏，乱作一团，一个个都被捉住。以后来的猩猩也是同样的下场。 </a:t>
            </a:r>
            <a:br>
              <a:rPr sz="2400"/>
            </a:br>
            <a:r>
              <a:rPr b="0" lang="zh-CN" sz="2400" spc="-1" strike="noStrike">
                <a:solidFill>
                  <a:srgbClr val="272776"/>
                </a:solidFill>
                <a:latin typeface="Arial"/>
              </a:rPr>
              <a:t>猩猩可算是很聪明了，知道憎恨人家的引诱，可是最终还免不了一死，这是贪心造成的啊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457200" y="2276640"/>
            <a:ext cx="8507520" cy="28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272776"/>
                  </a:solidFill>
                  <a:round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战胜不良诱惑的法宝有哪些？</a:t>
            </a:r>
            <a:endParaRPr b="0" lang="en-US" sz="1800" spc="1" strike="noStrike">
              <a:ln w="12600">
                <a:solidFill>
                  <a:srgbClr val="272776"/>
                </a:solidFill>
                <a:round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755640" y="549360"/>
            <a:ext cx="33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272776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帮我出主意</a:t>
            </a:r>
            <a:endParaRPr b="1" lang="en-US" sz="1800" spc="1" strike="noStrike">
              <a:ln w="12600">
                <a:solidFill>
                  <a:srgbClr val="272776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文本框 8199"/>
          <p:cNvSpPr/>
          <p:nvPr/>
        </p:nvSpPr>
        <p:spPr>
          <a:xfrm>
            <a:off x="755640" y="2085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0:29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44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1205000000000001024120</vt:lpwstr>
  </property>
</Properties>
</file>