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2.png" ContentType="image/png"/>
  <Override PartName="/ppt/media/image1.jpeg" ContentType="image/jpeg"/>
  <Override PartName="/ppt/media/image21.gif" ContentType="image/gif"/>
  <Override PartName="/ppt/media/image6.jpeg" ContentType="image/jpeg"/>
  <Override PartName="/ppt/media/image19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19A-C9BD-4392-A904-0CE2B256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AC5-AA98-4731-8430-CB34A81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65A-9AAE-4A59-92E9-AE48138F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FA1-DEE1-4FE5-A787-7BFA3DCA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876-6D79-42A4-9FE2-7B498323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C1FF-00C0-4875-9180-747625F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EA7D-FDD9-4CCA-8336-1CA88E8A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160B-255B-4B26-82E4-8671A83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6DC4-A46B-4D14-AEAF-EC6B5A3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2EB-B8E0-4DEC-9E87-1A17334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7782-D18E-4A0F-A9F9-AE47703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590-E8F6-4B50-8BEC-400F30EE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A70-8634-4273-9471-888C030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EA1-BD41-4075-A5E5-79F9E9F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486-4846-4CEF-AD44-E11264F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B44-0D1B-4D2C-BEBD-E314AEC5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A7F5-E4DF-4122-9855-6E962A0A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65A-D0C9-415F-BB74-3092DE79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CE0-2561-423B-A5F4-5FB69E6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782-027C-4738-873D-E86E68A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A14-E151-49B9-987D-61D3D3E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D80-1CCE-4D7E-BE9D-753F788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45F-63DB-494C-8EFA-8473237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74E-7D99-42CB-94A9-38BEAEB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1C4-BA63-4BF9-A21B-0DC9EA9D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54F-3AAD-441D-AA16-1AB135BEFA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4" descr=""/>
          <p:cNvPicPr/>
          <p:nvPr/>
        </p:nvPicPr>
        <p:blipFill>
          <a:blip r:embed="rId2"/>
          <a:stretch/>
        </p:blipFill>
        <p:spPr>
          <a:xfrm>
            <a:off x="2141640" y="685800"/>
            <a:ext cx="4935600" cy="1173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258920" y="1916280"/>
            <a:ext cx="66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.</a:t>
            </a:r>
            <a:r>
              <a:rPr b="1" lang="zh-CN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懂爸爸妈妈的心</a:t>
            </a:r>
            <a:r>
              <a:rPr b="1" lang="en-US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1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20110905012318650"/>
          <p:cNvPicPr/>
          <p:nvPr/>
        </p:nvPicPr>
        <p:blipFill>
          <a:blip r:embed="rId2"/>
          <a:stretch/>
        </p:blipFill>
        <p:spPr>
          <a:xfrm>
            <a:off x="0" y="3933720"/>
            <a:ext cx="2843280" cy="2664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419640" y="350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为什么发这么大的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611280" y="333360"/>
            <a:ext cx="2435040" cy="6793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7885080" y="6021360"/>
            <a:ext cx="1258920" cy="836640"/>
          </a:xfrm>
          <a:custGeom>
            <a:avLst/>
            <a:gdLst>
              <a:gd name="textAreaLeft" fmla="*/ 54000 w 1258920"/>
              <a:gd name="textAreaRight" fmla="*/ 1204920 w 1258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2498" h="21600">
                <a:moveTo>
                  <a:pt x="0" y="0"/>
                </a:moveTo>
                <a:lnTo>
                  <a:pt x="32498" y="0"/>
                </a:lnTo>
                <a:lnTo>
                  <a:pt x="32498" y="21600"/>
                </a:lnTo>
                <a:lnTo>
                  <a:pt x="0" y="21600"/>
                </a:lnTo>
                <a:close/>
              </a:path>
              <a:path fill="lightenLess" w="32498" h="21600">
                <a:moveTo>
                  <a:pt x="0" y="0"/>
                </a:moveTo>
                <a:lnTo>
                  <a:pt x="32498" y="0"/>
                </a:lnTo>
                <a:lnTo>
                  <a:pt x="31098" y="1400"/>
                </a:lnTo>
                <a:lnTo>
                  <a:pt x="1400" y="1400"/>
                </a:lnTo>
                <a:close/>
              </a:path>
              <a:path fill="darken" w="32498" h="21600">
                <a:moveTo>
                  <a:pt x="32498" y="0"/>
                </a:moveTo>
                <a:lnTo>
                  <a:pt x="32498" y="21600"/>
                </a:lnTo>
                <a:lnTo>
                  <a:pt x="31098" y="20200"/>
                </a:lnTo>
                <a:lnTo>
                  <a:pt x="31098" y="1400"/>
                </a:lnTo>
                <a:close/>
              </a:path>
              <a:path fill="darkenLess" w="32498" h="21600">
                <a:moveTo>
                  <a:pt x="32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8" y="20200"/>
                </a:lnTo>
                <a:close/>
              </a:path>
              <a:path fill="lighten" w="32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8" h="21600">
                <a:moveTo>
                  <a:pt x="16249" y="3837"/>
                </a:moveTo>
                <a:lnTo>
                  <a:pt x="18825" y="6448"/>
                </a:lnTo>
                <a:lnTo>
                  <a:pt x="18825" y="4707"/>
                </a:lnTo>
                <a:lnTo>
                  <a:pt x="20601" y="4707"/>
                </a:lnTo>
                <a:lnTo>
                  <a:pt x="20601" y="8224"/>
                </a:lnTo>
                <a:lnTo>
                  <a:pt x="23212" y="10800"/>
                </a:lnTo>
                <a:lnTo>
                  <a:pt x="21558" y="10800"/>
                </a:lnTo>
                <a:lnTo>
                  <a:pt x="21558" y="17989"/>
                </a:lnTo>
                <a:lnTo>
                  <a:pt x="10940" y="17989"/>
                </a:lnTo>
                <a:lnTo>
                  <a:pt x="10940" y="10800"/>
                </a:lnTo>
                <a:lnTo>
                  <a:pt x="9286" y="10800"/>
                </a:lnTo>
                <a:close/>
              </a:path>
              <a:path fill="darkenLess" w="32498" h="21600">
                <a:moveTo>
                  <a:pt x="18825" y="6448"/>
                </a:moveTo>
                <a:lnTo>
                  <a:pt x="18825" y="4707"/>
                </a:lnTo>
                <a:lnTo>
                  <a:pt x="20601" y="4707"/>
                </a:lnTo>
                <a:lnTo>
                  <a:pt x="20601" y="8224"/>
                </a:lnTo>
                <a:close/>
              </a:path>
              <a:path fill="darkenLess" w="32498" h="21600">
                <a:moveTo>
                  <a:pt x="15326" y="14299"/>
                </a:moveTo>
                <a:lnTo>
                  <a:pt x="17171" y="14299"/>
                </a:lnTo>
                <a:lnTo>
                  <a:pt x="17171" y="17989"/>
                </a:lnTo>
                <a:lnTo>
                  <a:pt x="21558" y="17989"/>
                </a:lnTo>
                <a:lnTo>
                  <a:pt x="21558" y="10800"/>
                </a:lnTo>
                <a:lnTo>
                  <a:pt x="10940" y="10800"/>
                </a:lnTo>
                <a:lnTo>
                  <a:pt x="10940" y="17989"/>
                </a:lnTo>
                <a:lnTo>
                  <a:pt x="153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3276720" y="141300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03"/>
          <p:cNvPicPr/>
          <p:nvPr/>
        </p:nvPicPr>
        <p:blipFill>
          <a:blip r:embed="rId2"/>
          <a:stretch/>
        </p:blipFill>
        <p:spPr>
          <a:xfrm>
            <a:off x="0" y="260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484360" y="1484280"/>
            <a:ext cx="3395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背靠背，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63640" y="2438280"/>
          <a:ext cx="6696000" cy="3116160"/>
        </p:xfrm>
        <a:graphic>
          <a:graphicData uri="http://schemas.openxmlformats.org/drawingml/2006/table">
            <a:tbl>
              <a:tblPr/>
              <a:tblGrid>
                <a:gridCol w="2087640"/>
                <a:gridCol w="2305080"/>
                <a:gridCol w="1224000"/>
                <a:gridCol w="107928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爸爸或妈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最大的愿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苦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楷体_GB2312"/>
                        </a:rPr>
                        <a:t>爱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49" descr="r05"/>
          <p:cNvPicPr/>
          <p:nvPr/>
        </p:nvPicPr>
        <p:blipFill>
          <a:blip r:embed="rId3"/>
          <a:stretch/>
        </p:blipFill>
        <p:spPr>
          <a:xfrm>
            <a:off x="468360" y="3645000"/>
            <a:ext cx="168588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4000" cy="5975280"/>
            <a:chOff x="0" y="0"/>
            <a:chExt cx="9144000" cy="5975280"/>
          </a:xfrm>
        </p:grpSpPr>
        <p:pic>
          <p:nvPicPr>
            <p:cNvPr id="150" name="Picture 3" descr="fe649b26b7b6022e908f9d6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4"/>
            <p:cNvSpPr/>
            <p:nvPr/>
          </p:nvSpPr>
          <p:spPr>
            <a:xfrm>
              <a:off x="1955160" y="2276640"/>
              <a:ext cx="35334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看看谁对爸爸妈妈最了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"/>
            <p:cNvSpPr/>
            <p:nvPr/>
          </p:nvSpPr>
          <p:spPr>
            <a:xfrm>
              <a:off x="2843280" y="1484280"/>
              <a:ext cx="2233440" cy="825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Arial"/>
                  <a:ea typeface="方正小标宋简体"/>
                </a:rPr>
                <a:t>比一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6" descr="10001722_200812282236421"/>
          <p:cNvPicPr/>
          <p:nvPr/>
        </p:nvPicPr>
        <p:blipFill>
          <a:blip r:embed="rId2"/>
          <a:stretch/>
        </p:blipFill>
        <p:spPr>
          <a:xfrm>
            <a:off x="3780000" y="3429000"/>
            <a:ext cx="51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03"/>
          <p:cNvPicPr/>
          <p:nvPr/>
        </p:nvPicPr>
        <p:blipFill>
          <a:blip r:embed="rId3"/>
          <a:stretch/>
        </p:blipFill>
        <p:spPr>
          <a:xfrm>
            <a:off x="0" y="26028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3"/>
          <p:cNvSpPr txBox="1"/>
          <p:nvPr/>
        </p:nvSpPr>
        <p:spPr>
          <a:xfrm>
            <a:off x="1979640" y="620640"/>
            <a:ext cx="54007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爸爸妈妈我想对你说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7" name="Picture 4" descr="20100506154449179"/>
          <p:cNvPicPr/>
          <p:nvPr/>
        </p:nvPicPr>
        <p:blipFill>
          <a:blip r:embed="rId2"/>
          <a:stretch/>
        </p:blipFill>
        <p:spPr>
          <a:xfrm>
            <a:off x="3419640" y="2924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79280" y="2512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谢谢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宝贵的生命，让我来到了这美丽世界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健康的体魄，让我享受了这五彩生活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你们给了我执着的精神，让我勇敢地面对挑战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我懂了 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懂得了，没有阳光，就没有温暖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懂得了，没有水源，就没有生命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你们的关爱，就不会有我的健康成长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，我想对你们说：你们放心吧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堂堂正正诚实做人 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踏踏实实努力学习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心吧，爸爸妈妈！我会的。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20100506154449179"/>
          <p:cNvPicPr/>
          <p:nvPr/>
        </p:nvPicPr>
        <p:blipFill>
          <a:blip r:embed="rId2"/>
          <a:stretch/>
        </p:blipFill>
        <p:spPr>
          <a:xfrm>
            <a:off x="7524720" y="2133720"/>
            <a:ext cx="1619280" cy="215892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8200"/>
          <p:cNvSpPr/>
          <p:nvPr/>
        </p:nvSpPr>
        <p:spPr>
          <a:xfrm>
            <a:off x="954000" y="1911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38DC-AB3B-41C4-BD98-FBDFC840A3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58510dc803337ba8c817681f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1763640" y="1484280"/>
            <a:ext cx="47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懂得了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.....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68" name="Picture 4" descr="20100506154449179"/>
          <p:cNvPicPr/>
          <p:nvPr/>
        </p:nvPicPr>
        <p:blipFill>
          <a:blip r:embed="rId2"/>
          <a:stretch/>
        </p:blipFill>
        <p:spPr>
          <a:xfrm>
            <a:off x="0" y="4221000"/>
            <a:ext cx="356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924680" cy="1067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大家想一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小狐狸的爸爸、妈妈为什么那样对待小狐狸呢？小狐狸能读懂爸爸妈妈的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62320" y="609480"/>
            <a:ext cx="3581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66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狐狸的故事</a:t>
            </a:r>
            <a:endParaRPr b="0" lang="en-US" sz="1800" spc="1" strike="noStrike">
              <a:ln w="9360">
                <a:solidFill>
                  <a:srgbClr val="003366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cc6600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1"/>
          <p:cNvPicPr/>
          <p:nvPr/>
        </p:nvPicPr>
        <p:blipFill>
          <a:blip r:embed="rId2"/>
          <a:stretch/>
        </p:blipFill>
        <p:spPr>
          <a:xfrm>
            <a:off x="250920" y="33336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-0.02917 0.37133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539640" y="7650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茫茫的原野中有两只狐狸走到了一起，狐狸妈妈怀孕了，狐狸爸爸便主动承担起觅食的职责。为了觅食，狐狸爸爸被群狼咬得遍体鳞伤，但还是拖着被咬伤的后腿把食物叼回家来让怀孕的妻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春天，狐狸妈妈顺利地生下了五只可爱的小狐狸。五只小狐狸在妈妈爸爸的精心呵护下渐渐长大。一个早晨，狐狸的爸爸、妈妈像往常一样领着它们的孩子走向了草原的深处。狐狸的爸爸妈妈们趁着它们还在好奇地张望时，向回家的路飞奔而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828800" y="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狐狸的故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5" descr="01"/>
          <p:cNvPicPr/>
          <p:nvPr/>
        </p:nvPicPr>
        <p:blipFill>
          <a:blip r:embed="rId2"/>
          <a:stretch/>
        </p:blipFill>
        <p:spPr>
          <a:xfrm>
            <a:off x="179280" y="26028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-0.02917 0.37133 E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6836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幕悄悄降临时，它们的孩子找回了家。但是它们却挡在了洞口不让自己的孩子回来。天渐渐地黑了下来，在洞口争执的父母也都疲倦了，突然，狐狸的父亲发出了凄凉而威严的吼声，并开始凶猛地向自己的孩子愤怒地扑了过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们被惊吓得连连后退，在狐狸爸爸的紧紧驱逐下小狐狸们也凄惨地叫着向后退着，边叫边跑边回头，它们想着曾是那么疼爱自己的爸爸妈妈为什么把自己撵出了家门，看着孩子们渐渐消失的身影，狐狸爸爸妈妈顿时昂起了头仰天长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1"/>
          <p:cNvPicPr/>
          <p:nvPr/>
        </p:nvPicPr>
        <p:blipFill>
          <a:blip r:embed="rId2"/>
          <a:stretch/>
        </p:blipFill>
        <p:spPr>
          <a:xfrm>
            <a:off x="0" y="0"/>
            <a:ext cx="24796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e649b26b7b6022e908f9d6a"/>
          <p:cNvPicPr/>
          <p:nvPr/>
        </p:nvPicPr>
        <p:blipFill>
          <a:blip r:embed="rId1"/>
          <a:stretch/>
        </p:blipFill>
        <p:spPr>
          <a:xfrm>
            <a:off x="0" y="0"/>
            <a:ext cx="9144000" cy="597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01"/>
          <p:cNvPicPr/>
          <p:nvPr/>
        </p:nvPicPr>
        <p:blipFill>
          <a:blip r:embed="rId2"/>
          <a:stretch/>
        </p:blipFill>
        <p:spPr>
          <a:xfrm>
            <a:off x="539640" y="620640"/>
            <a:ext cx="2737080" cy="765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727360" y="1905120"/>
            <a:ext cx="5578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在生活中，你对爸爸、妈妈的某些行为有不理解的地方吗？说说你的心里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05"/>
          <p:cNvPicPr/>
          <p:nvPr/>
        </p:nvPicPr>
        <p:blipFill>
          <a:blip r:embed="rId3"/>
          <a:stretch/>
        </p:blipFill>
        <p:spPr>
          <a:xfrm>
            <a:off x="1371600" y="2975040"/>
            <a:ext cx="1685880" cy="2816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28720" y="22766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20103120133793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527cf2b3f2f039f4"/>
          <p:cNvPicPr/>
          <p:nvPr/>
        </p:nvPicPr>
        <p:blipFill>
          <a:blip r:embed="rId2"/>
          <a:stretch/>
        </p:blipFill>
        <p:spPr>
          <a:xfrm>
            <a:off x="161928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2034846_180844506408_2"/>
          <p:cNvPicPr/>
          <p:nvPr/>
        </p:nvPicPr>
        <p:blipFill>
          <a:blip r:embed="rId3"/>
          <a:stretch/>
        </p:blipFill>
        <p:spPr>
          <a:xfrm>
            <a:off x="5148360" y="155736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2034846_180844506408_2"/>
          <p:cNvPicPr/>
          <p:nvPr/>
        </p:nvPicPr>
        <p:blipFill>
          <a:blip r:embed="rId4"/>
          <a:stretch/>
        </p:blipFill>
        <p:spPr>
          <a:xfrm>
            <a:off x="4067280" y="2708280"/>
            <a:ext cx="143964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2034846_180844506408_2"/>
          <p:cNvPicPr/>
          <p:nvPr/>
        </p:nvPicPr>
        <p:blipFill>
          <a:blip r:embed="rId5"/>
          <a:stretch/>
        </p:blipFill>
        <p:spPr>
          <a:xfrm>
            <a:off x="5867280" y="2637000"/>
            <a:ext cx="1511280" cy="100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0" y="836640"/>
            <a:ext cx="1619280" cy="527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小标宋简体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3276720" y="1628640"/>
            <a:ext cx="1511280" cy="1008360"/>
            <a:chOff x="3276720" y="1628640"/>
            <a:chExt cx="1511280" cy="1008360"/>
          </a:xfrm>
        </p:grpSpPr>
        <p:pic>
          <p:nvPicPr>
            <p:cNvPr id="112" name="Picture 10" descr="2034846_180844506408_2"/>
            <p:cNvPicPr/>
            <p:nvPr/>
          </p:nvPicPr>
          <p:blipFill>
            <a:blip r:embed="rId6"/>
            <a:stretch/>
          </p:blipFill>
          <p:spPr>
            <a:xfrm>
              <a:off x="3276720" y="1628640"/>
              <a:ext cx="1511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8"/>
            <p:cNvSpPr/>
            <p:nvPr/>
          </p:nvSpPr>
          <p:spPr>
            <a:xfrm>
              <a:off x="3851280" y="1916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小标宋简体"/>
                  <a:ea typeface="方正小标宋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3"/>
          <p:cNvSpPr/>
          <p:nvPr/>
        </p:nvSpPr>
        <p:spPr>
          <a:xfrm>
            <a:off x="572436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43640" y="29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57200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Y:\四年级上(三)\让爷爷奶奶高兴(下)\02.gif"/>
          <p:cNvPicPr/>
          <p:nvPr/>
        </p:nvPicPr>
        <p:blipFill>
          <a:blip r:embed="rId7"/>
          <a:stretch/>
        </p:blipFill>
        <p:spPr>
          <a:xfrm>
            <a:off x="0" y="0"/>
            <a:ext cx="2435400" cy="8683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28"/>
          <p:cNvSpPr txBox="1"/>
          <p:nvPr/>
        </p:nvSpPr>
        <p:spPr>
          <a:xfrm>
            <a:off x="3564000" y="54936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09"/>
          <p:cNvPicPr/>
          <p:nvPr/>
        </p:nvPicPr>
        <p:blipFill>
          <a:blip r:embed="rId2"/>
          <a:srcRect l="0" t="0" r="-874" b="0"/>
          <a:stretch/>
        </p:blipFill>
        <p:spPr>
          <a:xfrm>
            <a:off x="611280" y="404640"/>
            <a:ext cx="7921440" cy="576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0" y="0"/>
            <a:ext cx="2435400" cy="868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3780000" y="549360"/>
            <a:ext cx="2879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0103120133793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12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250920" y="260280"/>
            <a:ext cx="2435040" cy="6796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3924360" y="1628640"/>
            <a:ext cx="28796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908079168903895165"/>
          <p:cNvPicPr/>
          <p:nvPr/>
        </p:nvPicPr>
        <p:blipFill>
          <a:blip r:embed="rId2"/>
          <a:stretch/>
        </p:blipFill>
        <p:spPr>
          <a:xfrm>
            <a:off x="2124000" y="2060640"/>
            <a:ext cx="5112000" cy="39322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0"/>
          <p:cNvSpPr/>
          <p:nvPr/>
        </p:nvSpPr>
        <p:spPr>
          <a:xfrm>
            <a:off x="4572000" y="1052640"/>
            <a:ext cx="4103640" cy="2160360"/>
          </a:xfrm>
          <a:prstGeom prst="wedgeEllipseCallout">
            <a:avLst>
              <a:gd name="adj1" fmla="val -44740"/>
              <a:gd name="adj2" fmla="val 58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859280" y="141300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做的味道不如妈妈，他们为什么说好吃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Y:\四年级上(三)\让爷爷奶奶高兴(下)\02.gif"/>
          <p:cNvPicPr/>
          <p:nvPr/>
        </p:nvPicPr>
        <p:blipFill>
          <a:blip r:embed="rId3"/>
          <a:stretch/>
        </p:blipFill>
        <p:spPr>
          <a:xfrm>
            <a:off x="468360" y="260280"/>
            <a:ext cx="2435040" cy="6796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3"/>
          <p:cNvSpPr/>
          <p:nvPr/>
        </p:nvSpPr>
        <p:spPr>
          <a:xfrm>
            <a:off x="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1187280" y="1125360"/>
            <a:ext cx="288000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小组合作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6" name="文本框 8200"/>
          <p:cNvSpPr/>
          <p:nvPr/>
        </p:nvSpPr>
        <p:spPr>
          <a:xfrm>
            <a:off x="3076560" y="431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1:09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3Z</dcterms:modified>
  <cp:revision>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