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635C-CE2C-4B56-8050-EA2B00BF2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6D92-A340-4889-8AD9-C943DEFFB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DF06-DDF0-415C-B483-C6E2FCD99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62D0-BF73-4B43-881A-52FE00C26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425CF-352C-437E-8725-B13FC8AB9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55FF6-E8FD-4AD1-BB16-724AB12B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25998-AF2C-45C8-866A-D8F8045EE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EDAB8-F697-44B9-B628-ED30590E7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31024-E6FA-43D9-92B3-B486BDC60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1F5F8-E8DF-4880-9EA7-D327EF8E2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36758-5E9F-4337-B20C-7EB362FF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B8FD-3487-4270-BD3D-96F91A467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9C265-105A-4369-B247-311F1B64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0ADA7-6B03-44B8-99C7-AA64D22B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016A4-E1E4-4147-852D-DFCB8BF18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252C9-7E7D-4ECA-BDB2-F6F0C007F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A0C1E-87FF-4989-A4CD-6EB21D9C4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0CC0F-0FB3-4B1D-8105-497070098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12D17-DECD-4147-8061-44C9C924F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E94D2-FBF9-4263-BA4B-502E8DA25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954F6-BBA5-4FCD-868C-A114BDA8A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49B37-E1A2-4ED4-9471-0B2A96A9F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D45E-0D41-42D5-AF30-8AFA6CD7D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F598B-25EB-4B2C-B67E-CE5CA2E70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C9900-B2A3-4F08-9DBC-69098F78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F7BD3-C407-4D49-8A7B-AA252227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20ED2-7B55-419B-B463-807023DA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FF615-1CC2-476B-8B83-B2EBF923D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3E15C-3B4E-468A-A5E9-CFF3EB82D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092FB-A62E-4FC7-A6C7-03F7E25A3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29D6-3FFE-4F4A-8A73-78819DFC9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8ADF-48D4-4699-BD6A-1B31B8445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5C68-F3CE-4612-8C36-5FEAFA0F6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5717-BA4D-450C-B376-0A768220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3456-3627-4726-8062-FFF8FD27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F08E-71B4-4F73-8EA9-64BB54C1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44967-166C-4729-B679-CB6EBA8DE03D}" type="slidenum">
              <a:rPr b="0" lang="zh-CN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4370A-79CA-443C-9FF9-3789696B2B7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BFAC5-73E4-4E80-87C0-E333F897F161}" type="slidenum">
              <a:rPr b="0" lang="zh-CN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5"/>
          <p:cNvSpPr/>
          <p:nvPr/>
        </p:nvSpPr>
        <p:spPr>
          <a:xfrm>
            <a:off x="2414880" y="620640"/>
            <a:ext cx="430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三年级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《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品德与社会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》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上册  第二单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WordArt 8"/>
          <p:cNvSpPr txBox="1"/>
          <p:nvPr/>
        </p:nvSpPr>
        <p:spPr>
          <a:xfrm>
            <a:off x="1279440" y="2057400"/>
            <a:ext cx="65534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2600">
                  <a:solidFill>
                    <a:srgbClr val="9900ff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大家都在学</a:t>
            </a:r>
            <a:r>
              <a:rPr b="0" lang="en-US" sz="4000" spc="1" strike="noStrike">
                <a:ln w="12600">
                  <a:solidFill>
                    <a:srgbClr val="9900ff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PPT</a:t>
            </a:r>
            <a:r>
              <a:rPr b="0" lang="zh-CN" sz="4000" spc="1" strike="noStrike">
                <a:ln w="12600">
                  <a:solidFill>
                    <a:srgbClr val="9900ff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课件打包下载</a:t>
            </a:r>
            <a:endParaRPr b="0" lang="en-US" sz="4000" spc="1" strike="noStrike">
              <a:ln w="12600">
                <a:solidFill>
                  <a:srgbClr val="9900ff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3" descr=""/>
          <p:cNvPicPr/>
          <p:nvPr/>
        </p:nvPicPr>
        <p:blipFill>
          <a:blip r:embed="rId1"/>
          <a:stretch/>
        </p:blipFill>
        <p:spPr>
          <a:xfrm>
            <a:off x="1908000" y="293760"/>
            <a:ext cx="4248360" cy="6872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4" descr=""/>
          <p:cNvPicPr/>
          <p:nvPr/>
        </p:nvPicPr>
        <p:blipFill>
          <a:blip r:embed="rId2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5" descr=""/>
          <p:cNvPicPr/>
          <p:nvPr/>
        </p:nvPicPr>
        <p:blipFill>
          <a:blip r:embed="rId3"/>
          <a:stretch/>
        </p:blipFill>
        <p:spPr>
          <a:xfrm>
            <a:off x="108000" y="0"/>
            <a:ext cx="1835280" cy="181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14" descr=""/>
          <p:cNvPicPr/>
          <p:nvPr/>
        </p:nvPicPr>
        <p:blipFill>
          <a:blip r:embed="rId1"/>
          <a:stretch/>
        </p:blipFill>
        <p:spPr>
          <a:xfrm>
            <a:off x="-28440" y="1628640"/>
            <a:ext cx="4841640" cy="5229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5" descr=""/>
          <p:cNvPicPr/>
          <p:nvPr/>
        </p:nvPicPr>
        <p:blipFill>
          <a:blip r:embed="rId2"/>
          <a:stretch/>
        </p:blipFill>
        <p:spPr>
          <a:xfrm>
            <a:off x="5070600" y="1484280"/>
            <a:ext cx="4109760" cy="50403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6" descr=""/>
          <p:cNvPicPr/>
          <p:nvPr/>
        </p:nvPicPr>
        <p:blipFill>
          <a:blip r:embed="rId3"/>
          <a:stretch/>
        </p:blipFill>
        <p:spPr>
          <a:xfrm>
            <a:off x="468360" y="438120"/>
            <a:ext cx="4248000" cy="68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5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34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4"/>
          <p:cNvSpPr/>
          <p:nvPr/>
        </p:nvSpPr>
        <p:spPr>
          <a:xfrm>
            <a:off x="1850400" y="757080"/>
            <a:ext cx="2466720" cy="1008360"/>
          </a:xfrm>
          <a:prstGeom prst="rect">
            <a:avLst/>
          </a:prstGeom>
          <a:noFill/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ahoma"/>
                <a:ea typeface="经典空趣体简"/>
              </a:rPr>
              <a:t>怎么学？ 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292760" y="234936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33"/>
                </a:solidFill>
                <a:latin typeface="Tahoma"/>
                <a:ea typeface="经典叠圆体简"/>
              </a:rPr>
              <a:t>养成良好学习习惯；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927000" y="35002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33"/>
                </a:solidFill>
                <a:latin typeface="Tahoma"/>
                <a:ea typeface="经典叠圆体简"/>
              </a:rPr>
              <a:t>主动学习；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927000" y="46530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33"/>
                </a:solidFill>
                <a:latin typeface="Tahoma"/>
                <a:ea typeface="经典叠圆体简"/>
              </a:rPr>
              <a:t>独立思考；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1109880" y="580536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33"/>
                </a:solidFill>
                <a:latin typeface="Tahoma"/>
                <a:ea typeface="经典叠圆体简"/>
              </a:rPr>
              <a:t>讲求学习效率；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5581800" y="24210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33"/>
                </a:solidFill>
                <a:latin typeface="Tahoma"/>
                <a:ea typeface="经典叠圆体简"/>
              </a:rPr>
              <a:t>终身学习；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5581800" y="36813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33"/>
                </a:solidFill>
                <a:latin typeface="Tahoma"/>
                <a:ea typeface="经典叠圆体简"/>
              </a:rPr>
              <a:t>全民学习；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5856120" y="494172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33"/>
                </a:solidFill>
                <a:latin typeface="Tahoma"/>
                <a:ea typeface="经典叠圆体简"/>
              </a:rPr>
              <a:t>构建学习型社会；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176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8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1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9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9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201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206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502C6-DFA1-4170-9F22-05BB0B8E34F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3"/>
          <p:cNvSpPr txBox="1"/>
          <p:nvPr/>
        </p:nvSpPr>
        <p:spPr>
          <a:xfrm>
            <a:off x="2050920" y="1341360"/>
            <a:ext cx="4896000" cy="29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ccff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再见</a:t>
            </a:r>
            <a:endParaRPr b="1" lang="en-US" sz="1800" spc="1" strike="noStrike">
              <a:ln w="9360">
                <a:solidFill>
                  <a:srgbClr val="ccccff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2219760" y="1062000"/>
            <a:ext cx="2821680" cy="7034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活动一  我的小调查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4318560" y="2260440"/>
            <a:ext cx="99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、每个同学调查自己的家里人或亲戚朋友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635120" y="3213000"/>
            <a:ext cx="58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他们这两年来学到了哪些知识和本领？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1542960" y="4149720"/>
            <a:ext cx="561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他们现在还在学什么？为什么要学？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804960" y="5229360"/>
            <a:ext cx="341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他们还想学什么？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2219760" y="1062000"/>
            <a:ext cx="2821680" cy="7034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活动一  我的小调查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3265560" y="2421000"/>
            <a:ext cx="243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访问社区干部，了解大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们的学习情况。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3208680" y="4465800"/>
            <a:ext cx="243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课上，大家交流自己的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调查情况。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6" descr=""/>
          <p:cNvPicPr/>
          <p:nvPr/>
        </p:nvPicPr>
        <p:blipFill>
          <a:blip r:embed="rId1"/>
          <a:stretch/>
        </p:blipFill>
        <p:spPr>
          <a:xfrm>
            <a:off x="2411280" y="476280"/>
            <a:ext cx="6410520" cy="792000"/>
          </a:xfrm>
          <a:prstGeom prst="rect">
            <a:avLst/>
          </a:prstGeom>
          <a:ln w="28440">
            <a:solidFill>
              <a:srgbClr val="000066"/>
            </a:solidFill>
            <a:miter/>
          </a:ln>
        </p:spPr>
      </p:pic>
      <p:sp>
        <p:nvSpPr>
          <p:cNvPr id="135" name="Text Box 7"/>
          <p:cNvSpPr/>
          <p:nvPr/>
        </p:nvSpPr>
        <p:spPr>
          <a:xfrm>
            <a:off x="108000" y="299880"/>
            <a:ext cx="31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Arial"/>
                <a:ea typeface="楷体_GB2312"/>
              </a:rPr>
              <a:t>看一看：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Picture 8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8640720" cy="54007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9"/>
          <p:cNvSpPr/>
          <p:nvPr/>
        </p:nvSpPr>
        <p:spPr>
          <a:xfrm>
            <a:off x="1070280" y="1574640"/>
            <a:ext cx="2619000" cy="7034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ahoma"/>
                <a:ea typeface="楷体_GB2312"/>
              </a:rPr>
              <a:t>学习使用电子家具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6889680" y="4941720"/>
            <a:ext cx="1704600" cy="7034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  <a:ea typeface="楷体_GB2312"/>
              </a:rPr>
              <a:t>学书法绘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4222800" y="974160"/>
            <a:ext cx="1003320" cy="66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ahoma"/>
                <a:ea typeface="隶书"/>
              </a:rPr>
              <a:t>为充实生活学习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矩形 10"/>
          <p:cNvSpPr/>
          <p:nvPr/>
        </p:nvSpPr>
        <p:spPr>
          <a:xfrm>
            <a:off x="2909880" y="2492280"/>
            <a:ext cx="7333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2411280" y="476280"/>
            <a:ext cx="6410520" cy="792000"/>
          </a:xfrm>
          <a:prstGeom prst="rect">
            <a:avLst/>
          </a:prstGeom>
          <a:ln w="28440">
            <a:solidFill>
              <a:srgbClr val="000066"/>
            </a:solidFill>
            <a:miter/>
          </a:ln>
        </p:spPr>
      </p:pic>
      <p:sp>
        <p:nvSpPr>
          <p:cNvPr id="142" name="Text Box 3"/>
          <p:cNvSpPr/>
          <p:nvPr/>
        </p:nvSpPr>
        <p:spPr>
          <a:xfrm>
            <a:off x="108000" y="299880"/>
            <a:ext cx="31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Arial"/>
                <a:ea typeface="楷体_GB2312"/>
              </a:rPr>
              <a:t>看一看：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2"/>
          <a:stretch/>
        </p:blipFill>
        <p:spPr>
          <a:xfrm>
            <a:off x="395280" y="1341360"/>
            <a:ext cx="8352000" cy="49672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6"/>
          <p:cNvSpPr/>
          <p:nvPr/>
        </p:nvSpPr>
        <p:spPr>
          <a:xfrm>
            <a:off x="1084320" y="1484280"/>
            <a:ext cx="2009520" cy="7034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ahoma"/>
                <a:ea typeface="楷体_GB2312"/>
              </a:rPr>
              <a:t>学习使用电脑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7007040" y="4724280"/>
            <a:ext cx="1400040" cy="7034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ahoma"/>
                <a:ea typeface="楷体_GB2312"/>
              </a:rPr>
              <a:t>学习外语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4243680" y="560880"/>
            <a:ext cx="850680" cy="69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ahoma"/>
                <a:ea typeface="隶书"/>
              </a:rPr>
              <a:t>为跟上时代发展学习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2411280" y="476280"/>
            <a:ext cx="6410520" cy="792000"/>
          </a:xfrm>
          <a:prstGeom prst="rect">
            <a:avLst/>
          </a:prstGeom>
          <a:ln w="28440">
            <a:solidFill>
              <a:srgbClr val="000066"/>
            </a:solidFill>
            <a:miter/>
          </a:ln>
        </p:spPr>
      </p:pic>
      <p:sp>
        <p:nvSpPr>
          <p:cNvPr id="148" name="Text Box 3"/>
          <p:cNvSpPr/>
          <p:nvPr/>
        </p:nvSpPr>
        <p:spPr>
          <a:xfrm>
            <a:off x="108000" y="299880"/>
            <a:ext cx="30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Arial"/>
                <a:ea typeface="楷体_GB2312"/>
              </a:rPr>
              <a:t>看一看：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Picture 5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8280360" cy="48960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6"/>
          <p:cNvSpPr/>
          <p:nvPr/>
        </p:nvSpPr>
        <p:spPr>
          <a:xfrm>
            <a:off x="1630440" y="1341360"/>
            <a:ext cx="1704600" cy="7034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ahoma"/>
                <a:ea typeface="楷体_GB2312"/>
              </a:rPr>
              <a:t>上夜校补习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5908680" y="1413000"/>
            <a:ext cx="2009520" cy="7034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ahoma"/>
                <a:ea typeface="楷体_GB2312"/>
              </a:rPr>
              <a:t>学习驾驶技术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4215960" y="3780000"/>
            <a:ext cx="91152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ahoma"/>
                <a:ea typeface="隶书"/>
              </a:rPr>
              <a:t>为进一步发展学习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2411280" y="476280"/>
            <a:ext cx="6410520" cy="792000"/>
          </a:xfrm>
          <a:prstGeom prst="rect">
            <a:avLst/>
          </a:prstGeom>
          <a:ln w="28440">
            <a:solidFill>
              <a:srgbClr val="000066"/>
            </a:solidFill>
            <a:miter/>
          </a:ln>
        </p:spPr>
      </p:pic>
      <p:sp>
        <p:nvSpPr>
          <p:cNvPr id="154" name="Text Box 3"/>
          <p:cNvSpPr/>
          <p:nvPr/>
        </p:nvSpPr>
        <p:spPr>
          <a:xfrm>
            <a:off x="108000" y="299880"/>
            <a:ext cx="31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Arial"/>
                <a:ea typeface="楷体_GB2312"/>
              </a:rPr>
              <a:t>看一看：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2"/>
          <a:stretch/>
        </p:blipFill>
        <p:spPr>
          <a:xfrm>
            <a:off x="395280" y="1413000"/>
            <a:ext cx="8353440" cy="51116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5"/>
          <p:cNvSpPr/>
          <p:nvPr/>
        </p:nvSpPr>
        <p:spPr>
          <a:xfrm>
            <a:off x="1231920" y="1484280"/>
            <a:ext cx="3533400" cy="7034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ahoma"/>
                <a:ea typeface="楷体_GB2312"/>
              </a:rPr>
              <a:t>学新手艺，拓宽就业门路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5264280" y="4941720"/>
            <a:ext cx="2923920" cy="7034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ahoma"/>
                <a:ea typeface="楷体_GB2312"/>
              </a:rPr>
              <a:t>学新科技，提高产量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204480" y="1535400"/>
            <a:ext cx="911520" cy="59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ahoma"/>
                <a:ea typeface="隶书"/>
              </a:rPr>
              <a:t>为就业致富学习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8" descr=""/>
          <p:cNvPicPr/>
          <p:nvPr/>
        </p:nvPicPr>
        <p:blipFill>
          <a:blip r:embed="rId1"/>
          <a:stretch/>
        </p:blipFill>
        <p:spPr>
          <a:xfrm>
            <a:off x="533520" y="549360"/>
            <a:ext cx="7993080" cy="4751280"/>
          </a:xfrm>
          <a:prstGeom prst="rect">
            <a:avLst/>
          </a:prstGeom>
          <a:ln w="0">
            <a:noFill/>
          </a:ln>
        </p:spPr>
      </p:pic>
      <p:sp>
        <p:nvSpPr>
          <p:cNvPr id="160" name="文本框 8199"/>
          <p:cNvSpPr/>
          <p:nvPr/>
        </p:nvSpPr>
        <p:spPr>
          <a:xfrm>
            <a:off x="2097000" y="2142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3551400" y="217332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楷体_GB2312"/>
              </a:rPr>
              <a:t>为充实生活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3798360" y="339732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楷体_GB2312"/>
              </a:rPr>
              <a:t>为跟上时代发展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4467240" y="4621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楷体_GB2312"/>
              </a:rPr>
              <a:t>为进一步发展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3551400" y="584532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楷体_GB2312"/>
              </a:rPr>
              <a:t>为就业致富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2559600" y="949320"/>
            <a:ext cx="3472560" cy="8251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0033"/>
                </a:solidFill>
                <a:latin typeface="Tahoma"/>
                <a:ea typeface="楷体_GB2312"/>
              </a:rPr>
              <a:t>大家为什么还要学？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6" name="Group 11"/>
          <p:cNvGrpSpPr/>
          <p:nvPr/>
        </p:nvGrpSpPr>
        <p:grpSpPr>
          <a:xfrm>
            <a:off x="851040" y="2403360"/>
            <a:ext cx="1849320" cy="3960720"/>
            <a:chOff x="851040" y="2403360"/>
            <a:chExt cx="1849320" cy="3960720"/>
          </a:xfrm>
        </p:grpSpPr>
        <p:sp>
          <p:nvSpPr>
            <p:cNvPr id="167" name="Text Box 9"/>
            <p:cNvSpPr/>
            <p:nvPr/>
          </p:nvSpPr>
          <p:spPr>
            <a:xfrm>
              <a:off x="851040" y="3690720"/>
              <a:ext cx="1095120" cy="100836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solidFill>
                    <a:srgbClr val="ff0000"/>
                  </a:solidFill>
                  <a:latin typeface="Tahoma"/>
                  <a:ea typeface="汉仪雪峰体简"/>
                </a:rPr>
                <a:t>学习</a:t>
              </a:r>
              <a:endParaRPr b="0" lang="en-US" sz="6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" name="AutoShape 10"/>
            <p:cNvSpPr/>
            <p:nvPr/>
          </p:nvSpPr>
          <p:spPr>
            <a:xfrm>
              <a:off x="2556000" y="2403360"/>
              <a:ext cx="144360" cy="396072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102960 h 3960720"/>
                <a:gd name="textAreaBottom" fmla="*/ 3857760 h 396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7"/>
                  </a:cubicBezTo>
                  <a:lnTo>
                    <a:pt x="10800" y="9003"/>
                  </a:lnTo>
                  <a:cubicBezTo>
                    <a:pt x="10800" y="9902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7"/>
                  </a:cubicBezTo>
                  <a:lnTo>
                    <a:pt x="10800" y="19803"/>
                  </a:lnTo>
                  <a:cubicBezTo>
                    <a:pt x="10800" y="20702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66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09:15:5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7:48Z</dcterms:modified>
  <cp:revision>6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