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camera.wav" ContentType="audio/x-wav"/>
  <Override PartName="/ppt/media/image6.png" ContentType="image/pn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E8C-326C-45E3-B611-8D1FA837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F10-AA0F-47EB-822D-FBEFC017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47F-36AB-415A-BA8E-D9FDC91A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4B7-8E27-421C-8294-0A2E57B6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4DD5-6BFC-4A37-9F9E-039BB24A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E9B0-8087-464B-9FF1-61CB59E3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9B64-1652-43EB-A2D4-4DF5235E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BC7C-896C-45E4-A94B-1C5DB69B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5965-7D54-470C-B2B2-09889056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236A-950D-4C6D-B767-AA190789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D5CE-E438-4246-AB6A-D003D45E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A689-853E-45BE-891F-79FBB97A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78CF-5CB9-46C1-83D0-4A006256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C590-B59E-440F-9710-BD47B754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C4A5-6248-434C-B6A0-79B7A21F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0DC5-66C2-49CE-AFC2-1E3150CB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5DE7-4C16-423E-ADD9-3B7EACB9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163C9-8992-49ED-8969-846A8DD4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08B13-306D-44F5-8E7B-C81E118E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624A4-5FB0-48ED-AB50-22313310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0EEC4-6CF9-47D7-A730-BE95C39C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A6610-02FE-4D0E-A931-BF76D010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DF1B-68D9-4F44-8BE2-32E2D9CF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829B2-F03D-453B-974E-52AE3EF8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AE383-2919-402A-84C0-572848B8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85C3F-7DD7-4106-B652-23A16997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1CA8E-6347-4E72-8881-FAB195E7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D18B7-1998-48EC-A407-5B555207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09CE3-4567-4DE8-A7D2-4F43C1F8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07449-F565-4738-83CE-3396463C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59D-9EBD-451E-B744-79F31EF7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6DE-BC79-4381-9C77-F7251CFF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77C-4E58-4DCD-9B34-7BFC6DBF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1C9-C270-4ABF-8449-503AFC76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18B-E55E-4203-9968-9C5670DF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984-AB79-46BF-BA8F-5C4B31C8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0E77-E4F4-40E2-A47F-576BDFF35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F1C6-2DCF-4CC9-9748-B5B248F94F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86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8AE7-1BBB-44D5-9641-395F2601B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jx3"/>
          <p:cNvPicPr/>
          <p:nvPr/>
        </p:nvPicPr>
        <p:blipFill>
          <a:blip r:embed="rId1"/>
          <a:stretch/>
        </p:blipFill>
        <p:spPr>
          <a:xfrm>
            <a:off x="293760" y="260280"/>
            <a:ext cx="4998960" cy="6330960"/>
          </a:xfrm>
          <a:prstGeom prst="rect">
            <a:avLst/>
          </a:prstGeom>
          <a:ln w="203040">
            <a:solidFill>
              <a:srgbClr val="ffffff"/>
            </a:solidFill>
            <a:miter/>
          </a:ln>
        </p:spPr>
      </p:pic>
      <p:sp>
        <p:nvSpPr>
          <p:cNvPr id="130" name="文本框 6155"/>
          <p:cNvSpPr/>
          <p:nvPr/>
        </p:nvSpPr>
        <p:spPr>
          <a:xfrm>
            <a:off x="324000" y="6237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文本框 1"/>
          <p:cNvSpPr/>
          <p:nvPr/>
        </p:nvSpPr>
        <p:spPr>
          <a:xfrm>
            <a:off x="2690640" y="33336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邓稼先语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课件免费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9144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66"/>
                </a:solidFill>
                <a:latin typeface="Arial"/>
              </a:rPr>
              <a:t>作业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762120" y="2438280"/>
            <a:ext cx="8001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熟悉全文，思考课后练习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巩固生字词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114800" y="304812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站起来了”又是如何写的？联系现实中的事情说一说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6" descr="{319FDB19-0701-450E-9996-A4C752A16C6E}0"/>
          <p:cNvPicPr/>
          <p:nvPr/>
        </p:nvPicPr>
        <p:blipFill>
          <a:blip r:embed="rId1"/>
          <a:stretch/>
        </p:blipFill>
        <p:spPr>
          <a:xfrm>
            <a:off x="0" y="304920"/>
            <a:ext cx="3809880" cy="4743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4114800" y="1066680"/>
            <a:ext cx="4800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任人宰割”在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章中是如何写的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0" y="51814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Arial"/>
              </a:rPr>
              <a:t>虎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代表英国      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</a:rPr>
              <a:t>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代表俄国  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</a:rPr>
              <a:t>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代表德国      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</a:rPr>
              <a:t>蛙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代表法国  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</a:rPr>
              <a:t>老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代表美国  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</a:rPr>
              <a:t>太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代表日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amera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304920" y="3049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邓稼先与奥本海默比较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380880" y="990720"/>
            <a:ext cx="2774880" cy="2666880"/>
            <a:chOff x="380880" y="990720"/>
            <a:chExt cx="2774880" cy="2666880"/>
          </a:xfrm>
        </p:grpSpPr>
        <p:sp>
          <p:nvSpPr>
            <p:cNvPr id="179" name="Rectangle 4"/>
            <p:cNvSpPr/>
            <p:nvPr/>
          </p:nvSpPr>
          <p:spPr>
            <a:xfrm>
              <a:off x="380880" y="1981080"/>
              <a:ext cx="18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AutoShape 5"/>
            <p:cNvSpPr/>
            <p:nvPr/>
          </p:nvSpPr>
          <p:spPr>
            <a:xfrm>
              <a:off x="2438280" y="990720"/>
              <a:ext cx="457200" cy="26668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69480 h 2666880"/>
                <a:gd name="textAreaBottom" fmla="*/ 259740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>
              <a:off x="2971800" y="990720"/>
              <a:ext cx="183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7"/>
            <p:cNvSpPr/>
            <p:nvPr/>
          </p:nvSpPr>
          <p:spPr>
            <a:xfrm>
              <a:off x="2971800" y="1981080"/>
              <a:ext cx="183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Rectangle 8"/>
            <p:cNvSpPr/>
            <p:nvPr/>
          </p:nvSpPr>
          <p:spPr>
            <a:xfrm>
              <a:off x="2971800" y="2971800"/>
              <a:ext cx="183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Group 9"/>
          <p:cNvGrpSpPr/>
          <p:nvPr/>
        </p:nvGrpSpPr>
        <p:grpSpPr>
          <a:xfrm>
            <a:off x="914400" y="3657600"/>
            <a:ext cx="3962520" cy="2746080"/>
            <a:chOff x="914400" y="3657600"/>
            <a:chExt cx="3962520" cy="2746080"/>
          </a:xfrm>
        </p:grpSpPr>
        <p:sp>
          <p:nvSpPr>
            <p:cNvPr id="185" name="Rectangle 10"/>
            <p:cNvSpPr/>
            <p:nvPr/>
          </p:nvSpPr>
          <p:spPr>
            <a:xfrm>
              <a:off x="914400" y="4647960"/>
              <a:ext cx="18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2438640" y="3657600"/>
              <a:ext cx="457200" cy="26668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69480 h 2666880"/>
                <a:gd name="textAreaBottom" fmla="*/ 259740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12"/>
            <p:cNvSpPr/>
            <p:nvPr/>
          </p:nvSpPr>
          <p:spPr>
            <a:xfrm>
              <a:off x="2971800" y="3733560"/>
              <a:ext cx="1905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13"/>
            <p:cNvSpPr/>
            <p:nvPr/>
          </p:nvSpPr>
          <p:spPr>
            <a:xfrm>
              <a:off x="2971800" y="5029200"/>
              <a:ext cx="184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14"/>
            <p:cNvSpPr/>
            <p:nvPr/>
          </p:nvSpPr>
          <p:spPr>
            <a:xfrm>
              <a:off x="3124440" y="5762520"/>
              <a:ext cx="183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AutoShape 15"/>
          <p:cNvSpPr/>
          <p:nvPr/>
        </p:nvSpPr>
        <p:spPr>
          <a:xfrm>
            <a:off x="4876920" y="4800600"/>
            <a:ext cx="83808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791320" y="4114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更能突出邓稼先的性格品质和奉献精神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380880" y="1752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奥本海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3048120" y="10666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锋芒毕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3048120" y="2057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善于辞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3124080" y="30481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复杂的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380880" y="45720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邓稼先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2819520" y="36576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最不引人注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2743200" y="4495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忠厚平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2971800" y="5562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纯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23880" y="449568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Times New Roman"/>
                <a:ea typeface="幼圆"/>
              </a:rPr>
              <a:t>对这两句话你是怎样理解的，用课文中的话回答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676520" y="533520"/>
            <a:ext cx="67816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Times New Roman"/>
                <a:ea typeface="幼圆"/>
              </a:rPr>
              <a:t>“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幼圆"/>
              </a:rPr>
              <a:t>邓稼先是中国几千年传统文化孕育出来的有最高奉献精神的儿子。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676520" y="29718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Times New Roman"/>
                <a:ea typeface="幼圆"/>
              </a:rPr>
              <a:t>“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幼圆"/>
              </a:rPr>
              <a:t>邓稼先是中国共产党的理      想党员。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often_055"/>
          <p:cNvPicPr/>
          <p:nvPr/>
        </p:nvPicPr>
        <p:blipFill>
          <a:blip r:embed="rId1"/>
          <a:stretch/>
        </p:blipFill>
        <p:spPr>
          <a:xfrm>
            <a:off x="331920" y="609480"/>
            <a:ext cx="12920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380880" y="457200"/>
            <a:ext cx="7772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幼圆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幼圆"/>
              </a:rPr>
              <a:t>中国几千年的传统文化讲究人与人之间关系和谐，和睦相处，讲究为人忠厚、谦虚、真诚、朴实。邓稼先汲取了中国传统文化中的优秀部分，并变成了自己的气质品格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04920" y="281952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幼圆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幼圆"/>
              </a:rPr>
              <a:t>他没有私心，人们绝对相信他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幼圆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幼圆"/>
              </a:rPr>
              <a:t>文革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幼圆"/>
              </a:rPr>
              <a:t>中能说服两派群众组织，能说服工宣队、军宣队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幼圆"/>
              </a:rPr>
              <a:t>中国共产党的宗旨是全心全意为人民服务，邓稼先就是把这些奉为自己的行动准则，因此他是理想的党员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533520" y="6094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如果稼先再次选择他的人生的话，他仍会走他已走过的道路。这是他的性格与品质。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00ffff"/>
                </a:solidFill>
                <a:latin typeface="Tahoma"/>
                <a:ea typeface="幼圆"/>
              </a:rPr>
              <a:t>试说说你对这两句话的理解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57200" y="2895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幼圆"/>
              </a:rPr>
              <a:t>为中华民族的崛起，为广大人民的利益，奉献自己的一生，这是邓稼先的人生。走这样的人生道路，是邓稼先的性格与品质决定的。所以作者说，如果邓稼先再次选择人还会这么走。这两句话总写出了邓稼先的伟大之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0202[1].mid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8"/>
          <p:cNvSpPr/>
          <p:nvPr/>
        </p:nvSpPr>
        <p:spPr>
          <a:xfrm>
            <a:off x="609480" y="838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</a:rPr>
              <a:t>世界上不断涌现一些杰出的人物。这些人物在不同的领域开拓进取，对人类文明的发展产生了很大影响。邓稼先就是这样一位在核武器领域里奋斗一生的卓越的科学家。掩卷沉思，我们对邓稼先的敬佩仰慕之情油然而生。这真是一篇荡气回肠的元勋颂，一曲情文并茂的正气歌。在我国，邓稼先这样的英雄你能想到几个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2" descr="诸葛亮"/>
          <p:cNvPicPr/>
          <p:nvPr/>
        </p:nvPicPr>
        <p:blipFill>
          <a:blip r:embed="rId1"/>
          <a:stretch/>
        </p:blipFill>
        <p:spPr>
          <a:xfrm>
            <a:off x="457200" y="457200"/>
            <a:ext cx="4686480" cy="5943600"/>
          </a:xfrm>
          <a:prstGeom prst="rect">
            <a:avLst/>
          </a:prstGeom>
          <a:ln w="0">
            <a:noFill/>
          </a:ln>
        </p:spPr>
      </p:pic>
      <p:sp>
        <p:nvSpPr>
          <p:cNvPr id="216" name="WordArt 3"/>
          <p:cNvSpPr txBox="1"/>
          <p:nvPr/>
        </p:nvSpPr>
        <p:spPr>
          <a:xfrm rot="5400000">
            <a:off x="3885840" y="2438280"/>
            <a:ext cx="541008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鞠躬尽瘁 死而后已</a:t>
            </a:r>
            <a:endParaRPr b="0" lang="en-US" sz="80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7" name="文本框 8200"/>
          <p:cNvSpPr/>
          <p:nvPr/>
        </p:nvSpPr>
        <p:spPr>
          <a:xfrm>
            <a:off x="682560" y="117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2" descr="jyl"/>
          <p:cNvPicPr/>
          <p:nvPr/>
        </p:nvPicPr>
        <p:blipFill>
          <a:blip r:embed="rId1"/>
          <a:stretch/>
        </p:blipFill>
        <p:spPr>
          <a:xfrm>
            <a:off x="380880" y="457200"/>
            <a:ext cx="3733920" cy="4876920"/>
          </a:xfrm>
          <a:prstGeom prst="rect">
            <a:avLst/>
          </a:prstGeom>
          <a:ln w="0">
            <a:noFill/>
          </a:ln>
        </p:spPr>
      </p:pic>
      <p:sp>
        <p:nvSpPr>
          <p:cNvPr id="220" name="WordArt 3"/>
          <p:cNvSpPr txBox="1"/>
          <p:nvPr/>
        </p:nvSpPr>
        <p:spPr>
          <a:xfrm>
            <a:off x="533520" y="5562720"/>
            <a:ext cx="3276360" cy="78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焦裕禄</a:t>
            </a:r>
            <a:endParaRPr b="0" lang="en-US" sz="5400" spc="1" strike="noStrike">
              <a:ln w="12600">
                <a:solidFill>
                  <a:srgbClr val="ffffff"/>
                </a:solidFill>
                <a:round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4191120" y="990720"/>
            <a:ext cx="38862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幼圆"/>
                <a:ea typeface="幼圆"/>
              </a:rPr>
              <a:t>党的好干部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幼圆"/>
                <a:ea typeface="幼圆"/>
              </a:rPr>
              <a:t>为人民而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幼圆"/>
                <a:ea typeface="幼圆"/>
              </a:rPr>
              <a:t>虽死犹荣</a:t>
            </a:r>
            <a:r>
              <a:rPr b="1" lang="zh-CN" sz="4800" spc="-1" strike="noStrike">
                <a:solidFill>
                  <a:srgbClr val="00ffff"/>
                </a:solidFill>
                <a:latin typeface="幼圆"/>
                <a:ea typeface="幼圆"/>
              </a:rPr>
              <a:t>                          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707C-0EC9-4506-AE18-5EA01AD1E267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7"/>
          <p:cNvSpPr/>
          <p:nvPr/>
        </p:nvSpPr>
        <p:spPr>
          <a:xfrm>
            <a:off x="612720" y="2708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3048120" y="160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NewsMedia_114288"/>
          <p:cNvPicPr/>
          <p:nvPr/>
        </p:nvPicPr>
        <p:blipFill>
          <a:blip r:embed="rId1"/>
          <a:stretch/>
        </p:blipFill>
        <p:spPr>
          <a:xfrm>
            <a:off x="0" y="838080"/>
            <a:ext cx="4379760" cy="5410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4419720" y="619200"/>
            <a:ext cx="4267080" cy="40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Arial"/>
                <a:ea typeface="幼圆"/>
              </a:rPr>
              <a:t>邓稼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_x000b__x000c_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_x000b__x000c_"/>
              </a:rPr>
              <a:t>192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_x000b__x000c_"/>
              </a:rPr>
              <a:t>年出生于安徽怀宁县一个书香门第之家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岁便在学生运动中担任了北大教职工联合会主席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岁在美国成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娃娃博士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；取得学位后第九天便回国，进入中国科学院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5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以后神秘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消失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。在戈壁大漠中，创造出世界上研制氢弹的最快速度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■临终前叮咛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不要让人家把我们落得太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2514600" y="68580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33"/>
                </a:solidFill>
                <a:latin typeface="Times New Roman"/>
              </a:rPr>
              <a:t>作业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838080" y="2286000"/>
            <a:ext cx="83059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学习本文的写法，写一篇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于人物的随笔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查找贝多芬和闻一多的资料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5867280" y="114300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1964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年</a:t>
            </a: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10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月</a:t>
            </a: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16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日中国爆炸了第一颗原子弹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3" descr="k129061210981825292"/>
          <p:cNvPicPr/>
          <p:nvPr/>
        </p:nvPicPr>
        <p:blipFill>
          <a:blip r:embed="rId1"/>
          <a:stretch/>
        </p:blipFill>
        <p:spPr>
          <a:xfrm>
            <a:off x="609480" y="380880"/>
            <a:ext cx="4953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867280" y="114300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1967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年</a:t>
            </a: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6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月</a:t>
            </a:r>
            <a:r>
              <a:rPr b="0" lang="en-US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17</a:t>
            </a:r>
            <a:r>
              <a:rPr b="0" lang="zh-CN" sz="4800" spc="-1" strike="noStrike">
                <a:solidFill>
                  <a:srgbClr val="00ccff"/>
                </a:solidFill>
                <a:latin typeface="Times New Roman"/>
                <a:ea typeface="黑体"/>
              </a:rPr>
              <a:t>日中国爆炸了第一颗氢弹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3" descr="yz1"/>
          <p:cNvPicPr/>
          <p:nvPr/>
        </p:nvPicPr>
        <p:blipFill>
          <a:blip r:embed="rId1"/>
          <a:stretch/>
        </p:blipFill>
        <p:spPr>
          <a:xfrm>
            <a:off x="380880" y="457200"/>
            <a:ext cx="5238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2" descr="hr_yangzhn_a"/>
          <p:cNvPicPr/>
          <p:nvPr/>
        </p:nvPicPr>
        <p:blipFill>
          <a:blip r:embed="rId1"/>
          <a:stretch/>
        </p:blipFill>
        <p:spPr>
          <a:xfrm>
            <a:off x="457200" y="533520"/>
            <a:ext cx="3429000" cy="4724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3962520" y="160020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4000" spc="-1" strike="noStrike">
                <a:solidFill>
                  <a:srgbClr val="00ffff"/>
                </a:solidFill>
                <a:latin typeface="幼圆"/>
                <a:ea typeface="幼圆"/>
              </a:rPr>
              <a:t>美籍华裔物理学家，获</a:t>
            </a:r>
            <a:r>
              <a:rPr b="1" lang="en-US" sz="4000" spc="-1" strike="noStrike">
                <a:solidFill>
                  <a:srgbClr val="00ffff"/>
                </a:solidFill>
                <a:latin typeface="幼圆"/>
                <a:ea typeface="幼圆"/>
              </a:rPr>
              <a:t>1957</a:t>
            </a:r>
            <a:r>
              <a:rPr b="1" lang="zh-CN" sz="4000" spc="-1" strike="noStrike">
                <a:solidFill>
                  <a:srgbClr val="00ffff"/>
                </a:solidFill>
                <a:latin typeface="幼圆"/>
                <a:ea typeface="幼圆"/>
              </a:rPr>
              <a:t>年诺贝尔物理学奖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WordArt 4"/>
          <p:cNvSpPr txBox="1"/>
          <p:nvPr/>
        </p:nvSpPr>
        <p:spPr>
          <a:xfrm>
            <a:off x="1143000" y="5715000"/>
            <a:ext cx="18288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0033"/>
                </a:solidFill>
                <a:latin typeface="方正魏碑简体"/>
              </a:rPr>
              <a:t>杨振宁</a:t>
            </a:r>
            <a:endParaRPr b="0" lang="en-US" sz="4800" spc="1" strike="noStrike">
              <a:ln w="9360">
                <a:solidFill>
                  <a:srgbClr val="ffffff"/>
                </a:solidFill>
                <a:round/>
              </a:ln>
              <a:solidFill>
                <a:srgbClr val="ff0033"/>
              </a:solidFill>
              <a:latin typeface="方正魏碑简体"/>
              <a:ea typeface="方正魏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28600" y="1143000"/>
            <a:ext cx="8915400" cy="36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一正音识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热泪盈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可歌可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泣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鞠躬尽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瘁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彷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殷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红                      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殷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切                      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为人知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066680" y="175248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uàng          qì                cuì pánghuá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2209680" y="32004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ā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315200" y="3124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xiā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2209680" y="41148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ī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315200" y="40384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xiǎ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143000" y="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邓稼先对中国从“任人宰割”到“中华人民站起来了”的转变做出了巨大贡献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066680" y="12193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简介邓稼先的生平经历和贡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赞扬了他光辉的一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066680" y="2286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通过和奥本海默的对比来突出表现邓稼先的气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品格和精神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066680" y="3505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四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作者得知原子弹是由中国人自力更生搞出来的而为民族自豪，为朋友傲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990720" y="4876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在荒凉无边的沙漠中，邓稼先率领部下进行核研究，身先士卒，不怕牺牲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066680" y="6019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六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总体评价邓稼先，也是全文的总结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960" y="1371600"/>
            <a:ext cx="10947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33"/>
                </a:solidFill>
                <a:latin typeface="Times New Roman"/>
              </a:rPr>
              <a:t>整体感知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3352680" y="1066680"/>
            <a:ext cx="624852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最感人的事迹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最深刻的感受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最精彩的段落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5" descr="思考"/>
          <p:cNvPicPr/>
          <p:nvPr/>
        </p:nvPicPr>
        <p:blipFill>
          <a:blip r:embed="rId1"/>
          <a:stretch/>
        </p:blipFill>
        <p:spPr>
          <a:xfrm>
            <a:off x="0" y="0"/>
            <a:ext cx="3695760" cy="3301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380880" y="304920"/>
            <a:ext cx="201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33"/>
                </a:solidFill>
                <a:latin typeface="Times New Roman"/>
              </a:rPr>
              <a:t>思考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文本框 8200"/>
          <p:cNvSpPr/>
          <p:nvPr/>
        </p:nvSpPr>
        <p:spPr>
          <a:xfrm>
            <a:off x="1187280" y="57340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371600" y="1143000"/>
            <a:ext cx="6629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33"/>
                </a:solidFill>
                <a:latin typeface="Times New Roman"/>
              </a:rPr>
              <a:t>问题探讨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最突出的写法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最难懂的部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03:16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16Z</dcterms:modified>
  <cp:revision>1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