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8.png" ContentType="image/png"/>
  <Override PartName="/ppt/media/image8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29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97B-3072-4D25-944E-4F892B1D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0B2-90C7-45E1-B193-A9042734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2E6-7CAE-457B-A7E6-264620CF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66A-1AEA-4521-A380-9877EC5A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E7D1-AC17-4D67-9DB5-A53AEC83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FF71-26E3-4C4E-995C-A995AE10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2F8F-142C-4DDA-A254-6F7ABD6F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61B8-BA72-4100-A77D-5F31CB1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4489-F4A4-47A8-A607-1B60CA0E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104B-7DF8-4E2B-B4F1-CEC89604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B6C9-5E10-413C-97C3-A2595EE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C21-BA21-4D24-A04E-D80960EA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2BB2-B583-4FE2-98A4-02E8075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DEC9-AFAB-49B5-9A61-7959297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F8D-8A1B-48D8-AA97-0C3BF3E3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87A4-3663-4E51-AFF5-05F360C2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44BD-D3F3-485C-AE16-D3C36126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938-ED4C-4792-A646-780261CF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C01-4E14-40B0-B567-D5619CE2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5DD-8D85-4162-860F-1FA8F8AA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1A4-2A97-4973-8EBF-C3939BDC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CB9-7A80-4491-AA38-4DAF681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49E-7B3B-41A4-9BB1-42EF523C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776-6F96-4337-959D-CFE7DDA8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AB0D-523A-4F09-B4A1-3CC76302EC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3FB-953A-466B-B785-CFBEA2F22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2.jpe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42920" y="1557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电流的测量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76360" y="7491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第十五章 第</a:t>
            </a:r>
            <a:r>
              <a:rPr b="1" lang="zh-CN" sz="2800" spc="-1" strike="noStrike">
                <a:solidFill>
                  <a:srgbClr val="111111"/>
                </a:solidFill>
                <a:latin typeface="Times New Roman"/>
                <a:ea typeface="楷体_GB2312"/>
              </a:rPr>
              <a:t>４</a:t>
            </a:r>
            <a:r>
              <a:rPr b="1" lang="zh-CN" sz="28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5"/>
          <p:cNvSpPr/>
          <p:nvPr/>
        </p:nvSpPr>
        <p:spPr>
          <a:xfrm>
            <a:off x="431640" y="608040"/>
            <a:ext cx="6558120" cy="67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使用电流表测量电路中的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6"/>
          <p:cNvGrpSpPr/>
          <p:nvPr/>
        </p:nvGrpSpPr>
        <p:grpSpPr>
          <a:xfrm>
            <a:off x="5184720" y="1268280"/>
            <a:ext cx="3816360" cy="2773440"/>
            <a:chOff x="5184720" y="1268280"/>
            <a:chExt cx="3816360" cy="2773440"/>
          </a:xfrm>
        </p:grpSpPr>
        <p:pic>
          <p:nvPicPr>
            <p:cNvPr id="305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7153920" y="1558080"/>
              <a:ext cx="139068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0" descr="H:\2\人教教参资源\九\图\电池组.JPG"/>
            <p:cNvPicPr/>
            <p:nvPr/>
          </p:nvPicPr>
          <p:blipFill>
            <a:blip r:embed="rId2"/>
            <a:stretch/>
          </p:blipFill>
          <p:spPr>
            <a:xfrm>
              <a:off x="7092720" y="2880360"/>
              <a:ext cx="18036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AutoShape 9"/>
            <p:cNvSpPr/>
            <p:nvPr/>
          </p:nvSpPr>
          <p:spPr>
            <a:xfrm>
              <a:off x="5184720" y="1268280"/>
              <a:ext cx="3816360" cy="2773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3" descr="H:\2\人教教参资源\九\图\铡刀开关.JPG"/>
            <p:cNvPicPr/>
            <p:nvPr/>
          </p:nvPicPr>
          <p:blipFill>
            <a:blip r:embed="rId3"/>
            <a:stretch/>
          </p:blipFill>
          <p:spPr>
            <a:xfrm>
              <a:off x="5645880" y="1332000"/>
              <a:ext cx="1305360" cy="8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1" descr=""/>
            <p:cNvPicPr/>
            <p:nvPr/>
          </p:nvPicPr>
          <p:blipFill>
            <a:blip r:embed="rId4"/>
            <a:stretch/>
          </p:blipFill>
          <p:spPr>
            <a:xfrm>
              <a:off x="5677200" y="2300040"/>
              <a:ext cx="119664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Box 15"/>
          <p:cNvSpPr/>
          <p:nvPr/>
        </p:nvSpPr>
        <p:spPr>
          <a:xfrm>
            <a:off x="404640" y="1592280"/>
            <a:ext cx="5234040" cy="180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画出实验电路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按电路图连接实验器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行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423720" y="4257720"/>
            <a:ext cx="8153640" cy="1719720"/>
          </a:xfrm>
          <a:prstGeom prst="roundRect">
            <a:avLst>
              <a:gd name="adj" fmla="val 8958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避免电流过大损坏电流表，在不能事先估算电流的情况下，要先闭合开关然后迅速断开（叫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看看在开关闭合的瞬间指针的偏转是否在最大测量值之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-252360" y="1305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7"/>
          <p:cNvGrpSpPr/>
          <p:nvPr/>
        </p:nvGrpSpPr>
        <p:grpSpPr>
          <a:xfrm>
            <a:off x="1438200" y="2349360"/>
            <a:ext cx="2735280" cy="2143080"/>
            <a:chOff x="1438200" y="2349360"/>
            <a:chExt cx="2735280" cy="2143080"/>
          </a:xfrm>
        </p:grpSpPr>
        <p:sp>
          <p:nvSpPr>
            <p:cNvPr id="315" name="Rectangle 8"/>
            <p:cNvSpPr/>
            <p:nvPr/>
          </p:nvSpPr>
          <p:spPr>
            <a:xfrm>
              <a:off x="1690560" y="2890800"/>
              <a:ext cx="2482920" cy="1368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1"/>
            <p:cNvSpPr/>
            <p:nvPr/>
          </p:nvSpPr>
          <p:spPr>
            <a:xfrm>
              <a:off x="2698560" y="4006800"/>
              <a:ext cx="490680" cy="48564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24"/>
            <p:cNvSpPr/>
            <p:nvPr/>
          </p:nvSpPr>
          <p:spPr>
            <a:xfrm flipV="1">
              <a:off x="1678680" y="2883960"/>
              <a:ext cx="11160" cy="1119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1"/>
            <p:cNvSpPr/>
            <p:nvPr/>
          </p:nvSpPr>
          <p:spPr>
            <a:xfrm>
              <a:off x="3384720" y="23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2"/>
            <p:cNvSpPr/>
            <p:nvPr/>
          </p:nvSpPr>
          <p:spPr>
            <a:xfrm>
              <a:off x="3240360" y="371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13"/>
            <p:cNvGrpSpPr/>
            <p:nvPr/>
          </p:nvGrpSpPr>
          <p:grpSpPr>
            <a:xfrm>
              <a:off x="1438200" y="3301920"/>
              <a:ext cx="539640" cy="559800"/>
              <a:chOff x="1438200" y="3301920"/>
              <a:chExt cx="539640" cy="559800"/>
            </a:xfrm>
          </p:grpSpPr>
          <p:sp>
            <p:nvSpPr>
              <p:cNvPr id="321" name="Oval 14"/>
              <p:cNvSpPr/>
              <p:nvPr/>
            </p:nvSpPr>
            <p:spPr>
              <a:xfrm>
                <a:off x="1438200" y="3322080"/>
                <a:ext cx="539640" cy="539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15"/>
              <p:cNvSpPr/>
              <p:nvPr/>
            </p:nvSpPr>
            <p:spPr>
              <a:xfrm>
                <a:off x="1488960" y="3301920"/>
                <a:ext cx="45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16"/>
            <p:cNvGrpSpPr/>
            <p:nvPr/>
          </p:nvGrpSpPr>
          <p:grpSpPr>
            <a:xfrm>
              <a:off x="3238560" y="2745720"/>
              <a:ext cx="448920" cy="270000"/>
              <a:chOff x="3238560" y="2745720"/>
              <a:chExt cx="448920" cy="270000"/>
            </a:xfrm>
          </p:grpSpPr>
          <p:sp>
            <p:nvSpPr>
              <p:cNvPr id="324" name="Rectangle 15"/>
              <p:cNvSpPr/>
              <p:nvPr/>
            </p:nvSpPr>
            <p:spPr>
              <a:xfrm>
                <a:off x="3289320" y="2746080"/>
                <a:ext cx="39600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3289320" y="2745720"/>
                <a:ext cx="398160" cy="163080"/>
                <a:chOff x="3289320" y="2745720"/>
                <a:chExt cx="398160" cy="163080"/>
              </a:xfrm>
            </p:grpSpPr>
            <p:sp>
              <p:nvSpPr>
                <p:cNvPr id="326" name="Line 16"/>
                <p:cNvSpPr/>
                <p:nvPr/>
              </p:nvSpPr>
              <p:spPr>
                <a:xfrm flipV="1">
                  <a:off x="3289320" y="2745720"/>
                  <a:ext cx="398160" cy="16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 rot="10800000">
                  <a:off x="3289320" y="2745720"/>
                  <a:ext cx="3981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Oval 17"/>
              <p:cNvSpPr/>
              <p:nvPr/>
            </p:nvSpPr>
            <p:spPr>
              <a:xfrm>
                <a:off x="3238560" y="285408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0"/>
            <p:cNvGrpSpPr/>
            <p:nvPr/>
          </p:nvGrpSpPr>
          <p:grpSpPr>
            <a:xfrm>
              <a:off x="2697840" y="2638440"/>
              <a:ext cx="135360" cy="539640"/>
              <a:chOff x="2697840" y="2638440"/>
              <a:chExt cx="135360" cy="539640"/>
            </a:xfrm>
          </p:grpSpPr>
          <p:sp>
            <p:nvSpPr>
              <p:cNvPr id="330" name="Rectangle 19"/>
              <p:cNvSpPr/>
              <p:nvPr/>
            </p:nvSpPr>
            <p:spPr>
              <a:xfrm flipH="1">
                <a:off x="2697840" y="2817720"/>
                <a:ext cx="13500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832840" y="2638440"/>
                <a:ext cx="360" cy="539640"/>
                <a:chOff x="2832840" y="2638440"/>
                <a:chExt cx="360" cy="539640"/>
              </a:xfrm>
            </p:grpSpPr>
            <p:sp>
              <p:nvSpPr>
                <p:cNvPr id="332" name="Line 20"/>
                <p:cNvSpPr/>
                <p:nvPr/>
              </p:nvSpPr>
              <p:spPr>
                <a:xfrm>
                  <a:off x="2833200" y="2638440"/>
                  <a:ext cx="0" cy="5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2832840" y="263844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697840" y="2773440"/>
                <a:ext cx="360" cy="269640"/>
                <a:chOff x="2697840" y="2773440"/>
                <a:chExt cx="360" cy="269640"/>
              </a:xfrm>
            </p:grpSpPr>
            <p:sp>
              <p:nvSpPr>
                <p:cNvPr id="335" name="Line 21"/>
                <p:cNvSpPr/>
                <p:nvPr/>
              </p:nvSpPr>
              <p:spPr>
                <a:xfrm>
                  <a:off x="2698200" y="2773440"/>
                  <a:ext cx="0" cy="26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 txBox="1"/>
                <p:nvPr/>
              </p:nvSpPr>
              <p:spPr>
                <a:xfrm>
                  <a:off x="2697840" y="2773440"/>
                  <a:ext cx="3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24"/>
          <p:cNvGrpSpPr/>
          <p:nvPr/>
        </p:nvGrpSpPr>
        <p:grpSpPr>
          <a:xfrm>
            <a:off x="5182560" y="2349360"/>
            <a:ext cx="2737440" cy="2143080"/>
            <a:chOff x="5182560" y="2349360"/>
            <a:chExt cx="2737440" cy="2143080"/>
          </a:xfrm>
        </p:grpSpPr>
        <p:sp>
          <p:nvSpPr>
            <p:cNvPr id="338" name="Rectangle 25"/>
            <p:cNvSpPr/>
            <p:nvPr/>
          </p:nvSpPr>
          <p:spPr>
            <a:xfrm>
              <a:off x="5183280" y="2890800"/>
              <a:ext cx="2482920" cy="1368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1"/>
            <p:cNvSpPr/>
            <p:nvPr/>
          </p:nvSpPr>
          <p:spPr>
            <a:xfrm>
              <a:off x="6191280" y="4006800"/>
              <a:ext cx="490680" cy="485640"/>
            </a:xfrm>
            <a:prstGeom prst="flowChartSummingJunction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24"/>
            <p:cNvSpPr/>
            <p:nvPr/>
          </p:nvSpPr>
          <p:spPr>
            <a:xfrm flipV="1">
              <a:off x="5182560" y="2883960"/>
              <a:ext cx="11160" cy="1119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8"/>
            <p:cNvSpPr/>
            <p:nvPr/>
          </p:nvSpPr>
          <p:spPr>
            <a:xfrm>
              <a:off x="6877440" y="234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9"/>
            <p:cNvSpPr/>
            <p:nvPr/>
          </p:nvSpPr>
          <p:spPr>
            <a:xfrm>
              <a:off x="6732720" y="371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0"/>
            <p:cNvGrpSpPr/>
            <p:nvPr/>
          </p:nvGrpSpPr>
          <p:grpSpPr>
            <a:xfrm>
              <a:off x="7380360" y="3249360"/>
              <a:ext cx="539640" cy="560520"/>
              <a:chOff x="7380360" y="3249360"/>
              <a:chExt cx="539640" cy="560520"/>
            </a:xfrm>
          </p:grpSpPr>
          <p:sp>
            <p:nvSpPr>
              <p:cNvPr id="344" name="Oval 31"/>
              <p:cNvSpPr/>
              <p:nvPr/>
            </p:nvSpPr>
            <p:spPr>
              <a:xfrm>
                <a:off x="7380360" y="3269880"/>
                <a:ext cx="539640" cy="540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32"/>
              <p:cNvSpPr/>
              <p:nvPr/>
            </p:nvSpPr>
            <p:spPr>
              <a:xfrm>
                <a:off x="7431120" y="3249360"/>
                <a:ext cx="45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33"/>
            <p:cNvGrpSpPr/>
            <p:nvPr/>
          </p:nvGrpSpPr>
          <p:grpSpPr>
            <a:xfrm>
              <a:off x="6730920" y="2745720"/>
              <a:ext cx="448920" cy="270000"/>
              <a:chOff x="6730920" y="2745720"/>
              <a:chExt cx="448920" cy="270000"/>
            </a:xfrm>
          </p:grpSpPr>
          <p:sp>
            <p:nvSpPr>
              <p:cNvPr id="347" name="Rectangle 15"/>
              <p:cNvSpPr/>
              <p:nvPr/>
            </p:nvSpPr>
            <p:spPr>
              <a:xfrm>
                <a:off x="6781680" y="2746080"/>
                <a:ext cx="39600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6781680" y="2745720"/>
                <a:ext cx="398160" cy="163080"/>
                <a:chOff x="6781680" y="2745720"/>
                <a:chExt cx="398160" cy="163080"/>
              </a:xfrm>
            </p:grpSpPr>
            <p:sp>
              <p:nvSpPr>
                <p:cNvPr id="349" name="Line 16"/>
                <p:cNvSpPr/>
                <p:nvPr/>
              </p:nvSpPr>
              <p:spPr>
                <a:xfrm flipV="1">
                  <a:off x="6781680" y="2745720"/>
                  <a:ext cx="398160" cy="16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 txBox="1"/>
                <p:nvPr/>
              </p:nvSpPr>
              <p:spPr>
                <a:xfrm rot="10800000">
                  <a:off x="6781680" y="2745720"/>
                  <a:ext cx="3981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Oval 17"/>
              <p:cNvSpPr/>
              <p:nvPr/>
            </p:nvSpPr>
            <p:spPr>
              <a:xfrm>
                <a:off x="6730920" y="2854080"/>
                <a:ext cx="997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37"/>
            <p:cNvGrpSpPr/>
            <p:nvPr/>
          </p:nvGrpSpPr>
          <p:grpSpPr>
            <a:xfrm>
              <a:off x="6190560" y="2638440"/>
              <a:ext cx="135360" cy="539640"/>
              <a:chOff x="6190560" y="2638440"/>
              <a:chExt cx="135360" cy="53964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6190560" y="2817720"/>
                <a:ext cx="13500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6325560" y="2638440"/>
                <a:ext cx="360" cy="539640"/>
                <a:chOff x="6325560" y="2638440"/>
                <a:chExt cx="360" cy="539640"/>
              </a:xfrm>
            </p:grpSpPr>
            <p:sp>
              <p:nvSpPr>
                <p:cNvPr id="355" name="Line 20"/>
                <p:cNvSpPr/>
                <p:nvPr/>
              </p:nvSpPr>
              <p:spPr>
                <a:xfrm>
                  <a:off x="6325920" y="2638440"/>
                  <a:ext cx="0" cy="53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 txBox="1"/>
                <p:nvPr/>
              </p:nvSpPr>
              <p:spPr>
                <a:xfrm>
                  <a:off x="6325560" y="263844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190560" y="2773440"/>
                <a:ext cx="360" cy="269640"/>
                <a:chOff x="6190560" y="2773440"/>
                <a:chExt cx="360" cy="269640"/>
              </a:xfrm>
            </p:grpSpPr>
            <p:sp>
              <p:nvSpPr>
                <p:cNvPr id="358" name="Line 21"/>
                <p:cNvSpPr/>
                <p:nvPr/>
              </p:nvSpPr>
              <p:spPr>
                <a:xfrm>
                  <a:off x="6190920" y="2773440"/>
                  <a:ext cx="0" cy="26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>
                  <a:off x="6190560" y="2773440"/>
                  <a:ext cx="3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0" name="Rectangle 42"/>
          <p:cNvSpPr/>
          <p:nvPr/>
        </p:nvSpPr>
        <p:spPr>
          <a:xfrm>
            <a:off x="534240" y="750960"/>
            <a:ext cx="8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3"/>
          <p:cNvSpPr/>
          <p:nvPr/>
        </p:nvSpPr>
        <p:spPr>
          <a:xfrm>
            <a:off x="431640" y="1268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改变电流表在电路中的位置，比较电流表两次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4"/>
          <p:cNvSpPr/>
          <p:nvPr/>
        </p:nvSpPr>
        <p:spPr>
          <a:xfrm>
            <a:off x="3651120" y="51926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　　想一想，两次电流表的示数相同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8"/>
          <p:cNvSpPr/>
          <p:nvPr/>
        </p:nvSpPr>
        <p:spPr>
          <a:xfrm>
            <a:off x="431640" y="1268280"/>
            <a:ext cx="7993080" cy="11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接实物图，要求两灯并联，开关控制两盏灯，电流表测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（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并画出电路图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728640" y="3201840"/>
            <a:ext cx="4248000" cy="2743200"/>
            <a:chOff x="728640" y="3201840"/>
            <a:chExt cx="4248000" cy="2743200"/>
          </a:xfrm>
        </p:grpSpPr>
        <p:pic>
          <p:nvPicPr>
            <p:cNvPr id="366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1390680" y="3305160"/>
              <a:ext cx="122400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728640" y="4259160"/>
              <a:ext cx="130500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6" descr="H:\2\人教教参资源\九\图\电流表.JPG"/>
            <p:cNvPicPr/>
            <p:nvPr/>
          </p:nvPicPr>
          <p:blipFill>
            <a:blip r:embed="rId3"/>
            <a:stretch/>
          </p:blipFill>
          <p:spPr>
            <a:xfrm>
              <a:off x="3749760" y="4427280"/>
              <a:ext cx="1179360" cy="14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10" descr="H:\2\人教教参资源\九\图\电池组.JPG"/>
            <p:cNvPicPr/>
            <p:nvPr/>
          </p:nvPicPr>
          <p:blipFill>
            <a:blip r:embed="rId4"/>
            <a:stretch/>
          </p:blipFill>
          <p:spPr>
            <a:xfrm>
              <a:off x="3286080" y="3338280"/>
              <a:ext cx="169056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5" descr="H:\2\人教教参资源\九\图\小灯泡.JPG"/>
            <p:cNvPicPr/>
            <p:nvPr/>
          </p:nvPicPr>
          <p:blipFill>
            <a:blip r:embed="rId5"/>
            <a:stretch/>
          </p:blipFill>
          <p:spPr>
            <a:xfrm>
              <a:off x="1736640" y="5013000"/>
              <a:ext cx="130356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9"/>
            <p:cNvSpPr/>
            <p:nvPr/>
          </p:nvSpPr>
          <p:spPr>
            <a:xfrm>
              <a:off x="2500200" y="4775040"/>
              <a:ext cx="6606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"/>
            <p:cNvSpPr/>
            <p:nvPr/>
          </p:nvSpPr>
          <p:spPr>
            <a:xfrm>
              <a:off x="1458720" y="4101840"/>
              <a:ext cx="660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1797120" y="3201840"/>
              <a:ext cx="6602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76280" y="3789360"/>
            <a:ext cx="4527000" cy="2208240"/>
            <a:chOff x="476280" y="3789360"/>
            <a:chExt cx="4527000" cy="2208240"/>
          </a:xfrm>
        </p:grpSpPr>
        <p:sp>
          <p:nvSpPr>
            <p:cNvPr id="375" name="未知"/>
            <p:cNvSpPr/>
            <p:nvPr/>
          </p:nvSpPr>
          <p:spPr>
            <a:xfrm>
              <a:off x="2815920" y="5475240"/>
              <a:ext cx="1676160" cy="522360"/>
            </a:xfrm>
            <a:custGeom>
              <a:avLst/>
              <a:gdLst/>
              <a:ahLst/>
              <a:rect l="l" t="t" r="r" b="b"/>
              <a:pathLst>
                <a:path w="1056" h="329">
                  <a:moveTo>
                    <a:pt x="14" y="91"/>
                  </a:moveTo>
                  <a:cubicBezTo>
                    <a:pt x="25" y="118"/>
                    <a:pt x="0" y="225"/>
                    <a:pt x="75" y="262"/>
                  </a:cubicBezTo>
                  <a:cubicBezTo>
                    <a:pt x="150" y="299"/>
                    <a:pt x="313" y="329"/>
                    <a:pt x="462" y="314"/>
                  </a:cubicBezTo>
                  <a:cubicBezTo>
                    <a:pt x="611" y="299"/>
                    <a:pt x="886" y="227"/>
                    <a:pt x="971" y="175"/>
                  </a:cubicBezTo>
                  <a:cubicBezTo>
                    <a:pt x="1056" y="123"/>
                    <a:pt x="972" y="36"/>
                    <a:pt x="972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76280" y="4905360"/>
              <a:ext cx="1553760" cy="1062000"/>
            </a:xfrm>
            <a:custGeom>
              <a:avLst/>
              <a:gdLst/>
              <a:ahLst/>
              <a:rect l="l" t="t" r="r" b="b"/>
              <a:pathLst>
                <a:path w="979" h="669">
                  <a:moveTo>
                    <a:pt x="287" y="0"/>
                  </a:moveTo>
                  <a:cubicBezTo>
                    <a:pt x="246" y="62"/>
                    <a:pt x="0" y="266"/>
                    <a:pt x="37" y="375"/>
                  </a:cubicBezTo>
                  <a:cubicBezTo>
                    <a:pt x="74" y="484"/>
                    <a:pt x="374" y="639"/>
                    <a:pt x="506" y="654"/>
                  </a:cubicBezTo>
                  <a:cubicBezTo>
                    <a:pt x="638" y="669"/>
                    <a:pt x="752" y="499"/>
                    <a:pt x="831" y="463"/>
                  </a:cubicBezTo>
                  <a:cubicBezTo>
                    <a:pt x="910" y="427"/>
                    <a:pt x="948" y="444"/>
                    <a:pt x="979" y="439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336400" y="3789360"/>
              <a:ext cx="1117440" cy="430200"/>
            </a:xfrm>
            <a:custGeom>
              <a:avLst/>
              <a:gdLst/>
              <a:ahLst/>
              <a:rect l="l" t="t" r="r" b="b"/>
              <a:pathLst>
                <a:path w="704" h="271">
                  <a:moveTo>
                    <a:pt x="0" y="69"/>
                  </a:moveTo>
                  <a:cubicBezTo>
                    <a:pt x="5" y="96"/>
                    <a:pt x="0" y="197"/>
                    <a:pt x="42" y="229"/>
                  </a:cubicBezTo>
                  <a:cubicBezTo>
                    <a:pt x="84" y="261"/>
                    <a:pt x="191" y="271"/>
                    <a:pt x="254" y="261"/>
                  </a:cubicBezTo>
                  <a:cubicBezTo>
                    <a:pt x="317" y="251"/>
                    <a:pt x="373" y="202"/>
                    <a:pt x="420" y="172"/>
                  </a:cubicBezTo>
                  <a:cubicBezTo>
                    <a:pt x="467" y="142"/>
                    <a:pt x="492" y="112"/>
                    <a:pt x="539" y="83"/>
                  </a:cubicBezTo>
                  <a:cubicBezTo>
                    <a:pt x="586" y="54"/>
                    <a:pt x="670" y="17"/>
                    <a:pt x="704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92280" y="3789360"/>
              <a:ext cx="1611000" cy="1738440"/>
            </a:xfrm>
            <a:custGeom>
              <a:avLst/>
              <a:gdLst/>
              <a:ahLst/>
              <a:rect l="l" t="t" r="r" b="b"/>
              <a:pathLst>
                <a:path w="1015" h="1095">
                  <a:moveTo>
                    <a:pt x="463" y="1095"/>
                  </a:moveTo>
                  <a:cubicBezTo>
                    <a:pt x="421" y="1087"/>
                    <a:pt x="283" y="1067"/>
                    <a:pt x="213" y="1039"/>
                  </a:cubicBezTo>
                  <a:cubicBezTo>
                    <a:pt x="143" y="1011"/>
                    <a:pt x="73" y="986"/>
                    <a:pt x="41" y="927"/>
                  </a:cubicBezTo>
                  <a:cubicBezTo>
                    <a:pt x="9" y="868"/>
                    <a:pt x="0" y="771"/>
                    <a:pt x="21" y="688"/>
                  </a:cubicBezTo>
                  <a:cubicBezTo>
                    <a:pt x="42" y="605"/>
                    <a:pt x="21" y="514"/>
                    <a:pt x="167" y="430"/>
                  </a:cubicBezTo>
                  <a:cubicBezTo>
                    <a:pt x="313" y="346"/>
                    <a:pt x="775" y="257"/>
                    <a:pt x="895" y="185"/>
                  </a:cubicBezTo>
                  <a:cubicBezTo>
                    <a:pt x="1015" y="113"/>
                    <a:pt x="889" y="39"/>
                    <a:pt x="888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1709280" y="4600440"/>
              <a:ext cx="2428560" cy="912960"/>
            </a:xfrm>
            <a:custGeom>
              <a:avLst/>
              <a:gdLst/>
              <a:ahLst/>
              <a:rect l="l" t="t" r="r" b="b"/>
              <a:pathLst>
                <a:path w="1530" h="575">
                  <a:moveTo>
                    <a:pt x="89" y="199"/>
                  </a:moveTo>
                  <a:cubicBezTo>
                    <a:pt x="84" y="199"/>
                    <a:pt x="0" y="230"/>
                    <a:pt x="56" y="199"/>
                  </a:cubicBezTo>
                  <a:cubicBezTo>
                    <a:pt x="112" y="168"/>
                    <a:pt x="301" y="30"/>
                    <a:pt x="424" y="15"/>
                  </a:cubicBezTo>
                  <a:cubicBezTo>
                    <a:pt x="547" y="0"/>
                    <a:pt x="711" y="28"/>
                    <a:pt x="795" y="108"/>
                  </a:cubicBezTo>
                  <a:cubicBezTo>
                    <a:pt x="879" y="188"/>
                    <a:pt x="804" y="421"/>
                    <a:pt x="927" y="498"/>
                  </a:cubicBezTo>
                  <a:cubicBezTo>
                    <a:pt x="1050" y="575"/>
                    <a:pt x="1405" y="556"/>
                    <a:pt x="1530" y="571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547200" y="3825720"/>
              <a:ext cx="1139760" cy="1246320"/>
            </a:xfrm>
            <a:custGeom>
              <a:avLst/>
              <a:gdLst/>
              <a:ahLst/>
              <a:rect l="l" t="t" r="r" b="b"/>
              <a:pathLst>
                <a:path w="718" h="785">
                  <a:moveTo>
                    <a:pt x="718" y="6"/>
                  </a:moveTo>
                  <a:cubicBezTo>
                    <a:pt x="684" y="9"/>
                    <a:pt x="582" y="0"/>
                    <a:pt x="510" y="21"/>
                  </a:cubicBezTo>
                  <a:cubicBezTo>
                    <a:pt x="438" y="42"/>
                    <a:pt x="343" y="78"/>
                    <a:pt x="283" y="135"/>
                  </a:cubicBezTo>
                  <a:cubicBezTo>
                    <a:pt x="223" y="192"/>
                    <a:pt x="188" y="286"/>
                    <a:pt x="147" y="361"/>
                  </a:cubicBezTo>
                  <a:cubicBezTo>
                    <a:pt x="106" y="436"/>
                    <a:pt x="53" y="520"/>
                    <a:pt x="34" y="588"/>
                  </a:cubicBezTo>
                  <a:cubicBezTo>
                    <a:pt x="15" y="656"/>
                    <a:pt x="0" y="755"/>
                    <a:pt x="34" y="770"/>
                  </a:cubicBezTo>
                  <a:cubicBezTo>
                    <a:pt x="68" y="785"/>
                    <a:pt x="153" y="732"/>
                    <a:pt x="238" y="679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9"/>
          <p:cNvGrpSpPr/>
          <p:nvPr/>
        </p:nvGrpSpPr>
        <p:grpSpPr>
          <a:xfrm>
            <a:off x="5651640" y="3537000"/>
            <a:ext cx="2719080" cy="2376000"/>
            <a:chOff x="5651640" y="3537000"/>
            <a:chExt cx="2719080" cy="2376000"/>
          </a:xfrm>
        </p:grpSpPr>
        <p:sp>
          <p:nvSpPr>
            <p:cNvPr id="382" name="Text Box 20"/>
            <p:cNvSpPr/>
            <p:nvPr/>
          </p:nvSpPr>
          <p:spPr>
            <a:xfrm>
              <a:off x="6408360" y="5265720"/>
              <a:ext cx="657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1"/>
            <p:cNvSpPr/>
            <p:nvPr/>
          </p:nvSpPr>
          <p:spPr>
            <a:xfrm>
              <a:off x="7127640" y="4257720"/>
              <a:ext cx="6062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02"/>
            <p:cNvSpPr/>
            <p:nvPr/>
          </p:nvSpPr>
          <p:spPr>
            <a:xfrm>
              <a:off x="5651640" y="3789360"/>
              <a:ext cx="2719080" cy="1901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3"/>
            <p:cNvGrpSpPr/>
            <p:nvPr/>
          </p:nvGrpSpPr>
          <p:grpSpPr>
            <a:xfrm>
              <a:off x="7559280" y="3537000"/>
              <a:ext cx="114480" cy="474840"/>
              <a:chOff x="7559280" y="3537000"/>
              <a:chExt cx="114480" cy="474840"/>
            </a:xfrm>
          </p:grpSpPr>
          <p:sp>
            <p:nvSpPr>
              <p:cNvPr id="386" name="Rectangle 23"/>
              <p:cNvSpPr/>
              <p:nvPr/>
            </p:nvSpPr>
            <p:spPr>
              <a:xfrm>
                <a:off x="7559280" y="3694680"/>
                <a:ext cx="114120" cy="11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7559280" y="3537000"/>
                <a:ext cx="360" cy="474840"/>
                <a:chOff x="7559280" y="3537000"/>
                <a:chExt cx="360" cy="474840"/>
              </a:xfrm>
            </p:grpSpPr>
            <p:sp>
              <p:nvSpPr>
                <p:cNvPr id="388" name="Line 24"/>
                <p:cNvSpPr/>
                <p:nvPr/>
              </p:nvSpPr>
              <p:spPr>
                <a:xfrm>
                  <a:off x="7559280" y="3537000"/>
                  <a:ext cx="0" cy="47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 txBox="1"/>
                <p:nvPr/>
              </p:nvSpPr>
              <p:spPr>
                <a:xfrm>
                  <a:off x="7559280" y="3537000"/>
                  <a:ext cx="3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673400" y="3655800"/>
                <a:ext cx="360" cy="237240"/>
                <a:chOff x="7673400" y="3655800"/>
                <a:chExt cx="360" cy="237240"/>
              </a:xfrm>
            </p:grpSpPr>
            <p:sp>
              <p:nvSpPr>
                <p:cNvPr id="391" name="Line 25"/>
                <p:cNvSpPr/>
                <p:nvPr/>
              </p:nvSpPr>
              <p:spPr>
                <a:xfrm>
                  <a:off x="7673400" y="3655800"/>
                  <a:ext cx="0" cy="23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 txBox="1"/>
                <p:nvPr/>
              </p:nvSpPr>
              <p:spPr>
                <a:xfrm>
                  <a:off x="7673400" y="3655800"/>
                  <a:ext cx="360" cy="2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Group 27"/>
            <p:cNvGrpSpPr/>
            <p:nvPr/>
          </p:nvGrpSpPr>
          <p:grpSpPr>
            <a:xfrm>
              <a:off x="6227640" y="3659400"/>
              <a:ext cx="380160" cy="237600"/>
              <a:chOff x="6227640" y="3659400"/>
              <a:chExt cx="380160" cy="237600"/>
            </a:xfrm>
          </p:grpSpPr>
          <p:sp>
            <p:nvSpPr>
              <p:cNvPr id="394" name="Rectangle 15"/>
              <p:cNvSpPr/>
              <p:nvPr/>
            </p:nvSpPr>
            <p:spPr>
              <a:xfrm>
                <a:off x="6270480" y="3659400"/>
                <a:ext cx="335520" cy="23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6270120" y="3659400"/>
                <a:ext cx="337680" cy="144000"/>
                <a:chOff x="6270120" y="3659400"/>
                <a:chExt cx="337680" cy="144000"/>
              </a:xfrm>
            </p:grpSpPr>
            <p:sp>
              <p:nvSpPr>
                <p:cNvPr id="396" name="Line 16"/>
                <p:cNvSpPr/>
                <p:nvPr/>
              </p:nvSpPr>
              <p:spPr>
                <a:xfrm flipV="1">
                  <a:off x="6270480" y="3659400"/>
                  <a:ext cx="337320" cy="144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 rot="10800000">
                  <a:off x="6270120" y="3659400"/>
                  <a:ext cx="3373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Oval 17"/>
              <p:cNvSpPr/>
              <p:nvPr/>
            </p:nvSpPr>
            <p:spPr>
              <a:xfrm>
                <a:off x="6227640" y="3754800"/>
                <a:ext cx="84600" cy="93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651640" y="4803840"/>
              <a:ext cx="2719080" cy="360"/>
              <a:chOff x="5651640" y="4803840"/>
              <a:chExt cx="2719080" cy="360"/>
            </a:xfrm>
          </p:grpSpPr>
          <p:sp>
            <p:nvSpPr>
              <p:cNvPr id="400" name="Line 51"/>
              <p:cNvSpPr/>
              <p:nvPr/>
            </p:nvSpPr>
            <p:spPr>
              <a:xfrm>
                <a:off x="5651640" y="4803840"/>
                <a:ext cx="271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5651640" y="4803840"/>
                <a:ext cx="271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AutoShape 187"/>
            <p:cNvSpPr/>
            <p:nvPr/>
          </p:nvSpPr>
          <p:spPr>
            <a:xfrm>
              <a:off x="6779880" y="4592520"/>
              <a:ext cx="420480" cy="43344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87"/>
            <p:cNvSpPr/>
            <p:nvPr/>
          </p:nvSpPr>
          <p:spPr>
            <a:xfrm>
              <a:off x="6108480" y="5469120"/>
              <a:ext cx="418680" cy="43308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34"/>
            <p:cNvGrpSpPr/>
            <p:nvPr/>
          </p:nvGrpSpPr>
          <p:grpSpPr>
            <a:xfrm>
              <a:off x="7422840" y="5370480"/>
              <a:ext cx="657000" cy="542520"/>
              <a:chOff x="7422840" y="5370480"/>
              <a:chExt cx="657000" cy="542520"/>
            </a:xfrm>
          </p:grpSpPr>
          <p:sp>
            <p:nvSpPr>
              <p:cNvPr id="405" name="Oval 197"/>
              <p:cNvSpPr/>
              <p:nvPr/>
            </p:nvSpPr>
            <p:spPr>
              <a:xfrm>
                <a:off x="7422840" y="5437440"/>
                <a:ext cx="458640" cy="475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98"/>
              <p:cNvSpPr/>
              <p:nvPr/>
            </p:nvSpPr>
            <p:spPr>
              <a:xfrm>
                <a:off x="7422840" y="5370480"/>
                <a:ext cx="65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7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41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409" name="圆角矩形 1" descr=""/>
            <p:cNvPicPr/>
            <p:nvPr/>
          </p:nvPicPr>
          <p:blipFill>
            <a:blip r:embed="rId7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43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8"/>
          <p:cNvSpPr/>
          <p:nvPr/>
        </p:nvSpPr>
        <p:spPr>
          <a:xfrm>
            <a:off x="431640" y="1268280"/>
            <a:ext cx="716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所给电路图连接实物图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H:\2\人教教参资源\九\图\铡刀开关.JPG"/>
          <p:cNvPicPr/>
          <p:nvPr/>
        </p:nvPicPr>
        <p:blipFill>
          <a:blip r:embed="rId1"/>
          <a:stretch/>
        </p:blipFill>
        <p:spPr>
          <a:xfrm>
            <a:off x="4390920" y="2529000"/>
            <a:ext cx="1148040" cy="733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H:\2\人教教参资源\九\图\小灯泡.JPG"/>
          <p:cNvPicPr/>
          <p:nvPr/>
        </p:nvPicPr>
        <p:blipFill>
          <a:blip r:embed="rId2"/>
          <a:stretch/>
        </p:blipFill>
        <p:spPr>
          <a:xfrm>
            <a:off x="6912000" y="3573360"/>
            <a:ext cx="1224000" cy="854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H:\2\人教教参资源\九\图\电池组.JPG"/>
          <p:cNvPicPr/>
          <p:nvPr/>
        </p:nvPicPr>
        <p:blipFill>
          <a:blip r:embed="rId3"/>
          <a:stretch/>
        </p:blipFill>
        <p:spPr>
          <a:xfrm>
            <a:off x="6624720" y="2600280"/>
            <a:ext cx="1832040" cy="72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H:\2\人教教参资源\九\图\小灯泡.JPG"/>
          <p:cNvPicPr/>
          <p:nvPr/>
        </p:nvPicPr>
        <p:blipFill>
          <a:blip r:embed="rId4"/>
          <a:stretch/>
        </p:blipFill>
        <p:spPr>
          <a:xfrm>
            <a:off x="7164360" y="4976640"/>
            <a:ext cx="1224000" cy="8542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7775640" y="4724280"/>
            <a:ext cx="71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7601040" y="3284640"/>
            <a:ext cx="71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9"/>
          <p:cNvGrpSpPr/>
          <p:nvPr/>
        </p:nvGrpSpPr>
        <p:grpSpPr>
          <a:xfrm>
            <a:off x="719280" y="3068640"/>
            <a:ext cx="2743200" cy="2184480"/>
            <a:chOff x="719280" y="3068640"/>
            <a:chExt cx="2743200" cy="2184480"/>
          </a:xfrm>
        </p:grpSpPr>
        <p:sp>
          <p:nvSpPr>
            <p:cNvPr id="419" name="Text Box 10"/>
            <p:cNvSpPr/>
            <p:nvPr/>
          </p:nvSpPr>
          <p:spPr>
            <a:xfrm>
              <a:off x="2843280" y="4421160"/>
              <a:ext cx="6127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2195640" y="3594240"/>
              <a:ext cx="5652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2"/>
            <p:cNvSpPr/>
            <p:nvPr/>
          </p:nvSpPr>
          <p:spPr>
            <a:xfrm>
              <a:off x="935280" y="3270240"/>
              <a:ext cx="2527200" cy="1670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3"/>
            <p:cNvGrpSpPr/>
            <p:nvPr/>
          </p:nvGrpSpPr>
          <p:grpSpPr>
            <a:xfrm>
              <a:off x="1871640" y="3068640"/>
              <a:ext cx="106920" cy="417600"/>
              <a:chOff x="1871640" y="3068640"/>
              <a:chExt cx="106920" cy="417600"/>
            </a:xfrm>
          </p:grpSpPr>
          <p:sp>
            <p:nvSpPr>
              <p:cNvPr id="423" name="Rectangle 23"/>
              <p:cNvSpPr/>
              <p:nvPr/>
            </p:nvSpPr>
            <p:spPr>
              <a:xfrm>
                <a:off x="1871640" y="3207240"/>
                <a:ext cx="106560" cy="10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1871640" y="3068640"/>
                <a:ext cx="360" cy="417600"/>
                <a:chOff x="1871640" y="3068640"/>
                <a:chExt cx="360" cy="417600"/>
              </a:xfrm>
            </p:grpSpPr>
            <p:sp>
              <p:nvSpPr>
                <p:cNvPr id="425" name="Line 24"/>
                <p:cNvSpPr/>
                <p:nvPr/>
              </p:nvSpPr>
              <p:spPr>
                <a:xfrm>
                  <a:off x="1871640" y="3068640"/>
                  <a:ext cx="0" cy="41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 txBox="1"/>
                <p:nvPr/>
              </p:nvSpPr>
              <p:spPr>
                <a:xfrm>
                  <a:off x="1871640" y="3068640"/>
                  <a:ext cx="360" cy="41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978200" y="3173040"/>
                <a:ext cx="360" cy="208440"/>
                <a:chOff x="1978200" y="3173040"/>
                <a:chExt cx="360" cy="208440"/>
              </a:xfrm>
            </p:grpSpPr>
            <p:sp>
              <p:nvSpPr>
                <p:cNvPr id="428" name="Line 25"/>
                <p:cNvSpPr/>
                <p:nvPr/>
              </p:nvSpPr>
              <p:spPr>
                <a:xfrm>
                  <a:off x="1978200" y="3173040"/>
                  <a:ext cx="0" cy="20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 txBox="1"/>
                <p:nvPr/>
              </p:nvSpPr>
              <p:spPr>
                <a:xfrm>
                  <a:off x="1978200" y="3173040"/>
                  <a:ext cx="360" cy="20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17"/>
            <p:cNvGrpSpPr/>
            <p:nvPr/>
          </p:nvGrpSpPr>
          <p:grpSpPr>
            <a:xfrm>
              <a:off x="2519640" y="3132000"/>
              <a:ext cx="353520" cy="209520"/>
              <a:chOff x="2519640" y="3132000"/>
              <a:chExt cx="353520" cy="209520"/>
            </a:xfrm>
          </p:grpSpPr>
          <p:sp>
            <p:nvSpPr>
              <p:cNvPr id="431" name="Rectangle 15"/>
              <p:cNvSpPr/>
              <p:nvPr/>
            </p:nvSpPr>
            <p:spPr>
              <a:xfrm>
                <a:off x="2559600" y="3132000"/>
                <a:ext cx="312120" cy="20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559240" y="3132000"/>
                <a:ext cx="313920" cy="126720"/>
                <a:chOff x="2559240" y="3132000"/>
                <a:chExt cx="313920" cy="126720"/>
              </a:xfrm>
            </p:grpSpPr>
            <p:sp>
              <p:nvSpPr>
                <p:cNvPr id="433" name="Line 16"/>
                <p:cNvSpPr/>
                <p:nvPr/>
              </p:nvSpPr>
              <p:spPr>
                <a:xfrm flipV="1">
                  <a:off x="2559600" y="3132000"/>
                  <a:ext cx="313560" cy="12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 txBox="1"/>
                <p:nvPr/>
              </p:nvSpPr>
              <p:spPr>
                <a:xfrm rot="10800000">
                  <a:off x="2559240" y="3132000"/>
                  <a:ext cx="313560" cy="12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Oval 17"/>
              <p:cNvSpPr/>
              <p:nvPr/>
            </p:nvSpPr>
            <p:spPr>
              <a:xfrm>
                <a:off x="2519640" y="3215880"/>
                <a:ext cx="78480" cy="82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"/>
            <p:cNvGrpSpPr/>
            <p:nvPr/>
          </p:nvGrpSpPr>
          <p:grpSpPr>
            <a:xfrm>
              <a:off x="719280" y="3413160"/>
              <a:ext cx="561960" cy="579600"/>
              <a:chOff x="719280" y="3413160"/>
              <a:chExt cx="561960" cy="579600"/>
            </a:xfrm>
          </p:grpSpPr>
          <p:sp>
            <p:nvSpPr>
              <p:cNvPr id="437" name="Oval 197"/>
              <p:cNvSpPr/>
              <p:nvPr/>
            </p:nvSpPr>
            <p:spPr>
              <a:xfrm>
                <a:off x="719280" y="3481920"/>
                <a:ext cx="455400" cy="475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198"/>
              <p:cNvSpPr/>
              <p:nvPr/>
            </p:nvSpPr>
            <p:spPr>
              <a:xfrm>
                <a:off x="719280" y="3413160"/>
                <a:ext cx="561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935280" y="4132440"/>
              <a:ext cx="2527200" cy="360"/>
              <a:chOff x="935280" y="4132440"/>
              <a:chExt cx="2527200" cy="360"/>
            </a:xfrm>
          </p:grpSpPr>
          <p:sp>
            <p:nvSpPr>
              <p:cNvPr id="440" name="Line 51"/>
              <p:cNvSpPr/>
              <p:nvPr/>
            </p:nvSpPr>
            <p:spPr>
              <a:xfrm>
                <a:off x="935280" y="4132440"/>
                <a:ext cx="252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935280" y="4132440"/>
                <a:ext cx="252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AutoShape 187"/>
            <p:cNvSpPr/>
            <p:nvPr/>
          </p:nvSpPr>
          <p:spPr>
            <a:xfrm>
              <a:off x="1906560" y="3917880"/>
              <a:ext cx="432000" cy="43200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87"/>
            <p:cNvSpPr/>
            <p:nvPr/>
          </p:nvSpPr>
          <p:spPr>
            <a:xfrm>
              <a:off x="2482920" y="4710240"/>
              <a:ext cx="432000" cy="43164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27"/>
            <p:cNvGrpSpPr/>
            <p:nvPr/>
          </p:nvGrpSpPr>
          <p:grpSpPr>
            <a:xfrm>
              <a:off x="1403640" y="4673520"/>
              <a:ext cx="684000" cy="579600"/>
              <a:chOff x="1403640" y="4673520"/>
              <a:chExt cx="684000" cy="579600"/>
            </a:xfrm>
          </p:grpSpPr>
          <p:sp>
            <p:nvSpPr>
              <p:cNvPr id="445" name="Oval 197"/>
              <p:cNvSpPr/>
              <p:nvPr/>
            </p:nvSpPr>
            <p:spPr>
              <a:xfrm>
                <a:off x="1403640" y="4740120"/>
                <a:ext cx="477360" cy="473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198"/>
              <p:cNvSpPr/>
              <p:nvPr/>
            </p:nvSpPr>
            <p:spPr>
              <a:xfrm>
                <a:off x="1403640" y="4673520"/>
                <a:ext cx="684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30"/>
          <p:cNvGrpSpPr/>
          <p:nvPr/>
        </p:nvGrpSpPr>
        <p:grpSpPr>
          <a:xfrm>
            <a:off x="5543640" y="4545000"/>
            <a:ext cx="1095120" cy="1297080"/>
            <a:chOff x="5543640" y="4545000"/>
            <a:chExt cx="1095120" cy="1297080"/>
          </a:xfrm>
        </p:grpSpPr>
        <p:pic>
          <p:nvPicPr>
            <p:cNvPr id="448" name="Picture 6" descr="H:\2\人教教参资源\九\图\电流表.JPG"/>
            <p:cNvPicPr/>
            <p:nvPr/>
          </p:nvPicPr>
          <p:blipFill>
            <a:blip r:embed="rId5"/>
            <a:stretch/>
          </p:blipFill>
          <p:spPr>
            <a:xfrm>
              <a:off x="5543640" y="4545000"/>
              <a:ext cx="10951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Rectangle 32"/>
            <p:cNvSpPr/>
            <p:nvPr/>
          </p:nvSpPr>
          <p:spPr>
            <a:xfrm>
              <a:off x="6011640" y="4834080"/>
              <a:ext cx="144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3"/>
            <p:cNvSpPr/>
            <p:nvPr/>
          </p:nvSpPr>
          <p:spPr>
            <a:xfrm>
              <a:off x="5908320" y="4695840"/>
              <a:ext cx="71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34"/>
          <p:cNvGrpSpPr/>
          <p:nvPr/>
        </p:nvGrpSpPr>
        <p:grpSpPr>
          <a:xfrm>
            <a:off x="4406760" y="3537000"/>
            <a:ext cx="1065240" cy="1260360"/>
            <a:chOff x="4406760" y="3537000"/>
            <a:chExt cx="1065240" cy="1260360"/>
          </a:xfrm>
        </p:grpSpPr>
        <p:pic>
          <p:nvPicPr>
            <p:cNvPr id="452" name="Picture 6" descr="H:\2\人教教参资源\九\图\电流表.JPG"/>
            <p:cNvPicPr/>
            <p:nvPr/>
          </p:nvPicPr>
          <p:blipFill>
            <a:blip r:embed="rId6"/>
            <a:stretch/>
          </p:blipFill>
          <p:spPr>
            <a:xfrm>
              <a:off x="4406760" y="3537000"/>
              <a:ext cx="106524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Rectangle 36"/>
            <p:cNvSpPr/>
            <p:nvPr/>
          </p:nvSpPr>
          <p:spPr>
            <a:xfrm>
              <a:off x="4859280" y="3824280"/>
              <a:ext cx="14436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37"/>
            <p:cNvSpPr/>
            <p:nvPr/>
          </p:nvSpPr>
          <p:spPr>
            <a:xfrm>
              <a:off x="4716360" y="3651480"/>
              <a:ext cx="716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39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457" name="圆角矩形 1" descr=""/>
            <p:cNvPicPr/>
            <p:nvPr/>
          </p:nvPicPr>
          <p:blipFill>
            <a:blip r:embed="rId8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41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8"/>
          <p:cNvSpPr/>
          <p:nvPr/>
        </p:nvSpPr>
        <p:spPr>
          <a:xfrm>
            <a:off x="431640" y="1268280"/>
            <a:ext cx="8101080" cy="12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关控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流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，电流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电流。再画出电路图。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309840" y="1341360"/>
            <a:ext cx="12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干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767640" y="1305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3240000" y="1881360"/>
            <a:ext cx="12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干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539640" y="2816280"/>
            <a:ext cx="4533480" cy="3406320"/>
            <a:chOff x="539640" y="2816280"/>
            <a:chExt cx="4533480" cy="3406320"/>
          </a:xfrm>
        </p:grpSpPr>
        <p:pic>
          <p:nvPicPr>
            <p:cNvPr id="464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 flipH="1">
              <a:off x="3358080" y="2816280"/>
              <a:ext cx="123624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8" descr="H:\2\人教教参资源\九\图\电池.JPG"/>
            <p:cNvPicPr/>
            <p:nvPr/>
          </p:nvPicPr>
          <p:blipFill>
            <a:blip r:embed="rId2"/>
            <a:stretch/>
          </p:blipFill>
          <p:spPr>
            <a:xfrm flipH="1">
              <a:off x="1914120" y="2988000"/>
              <a:ext cx="1134720" cy="61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" name="Group 9"/>
            <p:cNvGrpSpPr/>
            <p:nvPr/>
          </p:nvGrpSpPr>
          <p:grpSpPr>
            <a:xfrm>
              <a:off x="712440" y="3842640"/>
              <a:ext cx="1133280" cy="853920"/>
              <a:chOff x="712440" y="3842640"/>
              <a:chExt cx="1133280" cy="853920"/>
            </a:xfrm>
          </p:grpSpPr>
          <p:pic>
            <p:nvPicPr>
              <p:cNvPr id="467" name="Picture 5" descr="H:\2\人教教参资源\九\图\小灯泡.JPG"/>
              <p:cNvPicPr/>
              <p:nvPr/>
            </p:nvPicPr>
            <p:blipFill>
              <a:blip r:embed="rId3"/>
              <a:stretch/>
            </p:blipFill>
            <p:spPr>
              <a:xfrm>
                <a:off x="712440" y="3909960"/>
                <a:ext cx="113328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Text Box 11"/>
              <p:cNvSpPr/>
              <p:nvPr/>
            </p:nvSpPr>
            <p:spPr>
              <a:xfrm>
                <a:off x="1295640" y="3842640"/>
                <a:ext cx="51372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1021320" y="5039280"/>
              <a:ext cx="1133280" cy="888840"/>
              <a:chOff x="1021320" y="5039280"/>
              <a:chExt cx="1133280" cy="888840"/>
            </a:xfrm>
          </p:grpSpPr>
          <p:pic>
            <p:nvPicPr>
              <p:cNvPr id="470" name="Picture 5" descr="H:\2\人教教参资源\九\图\小灯泡.JPG"/>
              <p:cNvPicPr/>
              <p:nvPr/>
            </p:nvPicPr>
            <p:blipFill>
              <a:blip r:embed="rId4"/>
              <a:stretch/>
            </p:blipFill>
            <p:spPr>
              <a:xfrm>
                <a:off x="1021320" y="5141520"/>
                <a:ext cx="1133280" cy="78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4"/>
              <p:cNvSpPr/>
              <p:nvPr/>
            </p:nvSpPr>
            <p:spPr>
              <a:xfrm>
                <a:off x="1639440" y="5039280"/>
                <a:ext cx="48024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15"/>
            <p:cNvGrpSpPr/>
            <p:nvPr/>
          </p:nvGrpSpPr>
          <p:grpSpPr>
            <a:xfrm>
              <a:off x="3667320" y="3773160"/>
              <a:ext cx="1065240" cy="1162080"/>
              <a:chOff x="3667320" y="3773160"/>
              <a:chExt cx="1065240" cy="1162080"/>
            </a:xfrm>
          </p:grpSpPr>
          <p:pic>
            <p:nvPicPr>
              <p:cNvPr id="473" name="Picture 6" descr="H:\2\人教教参资源\九\图\电流表.JPG"/>
              <p:cNvPicPr/>
              <p:nvPr/>
            </p:nvPicPr>
            <p:blipFill>
              <a:blip r:embed="rId5"/>
              <a:stretch/>
            </p:blipFill>
            <p:spPr>
              <a:xfrm>
                <a:off x="3667320" y="3773160"/>
                <a:ext cx="1065240" cy="11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Rectangle 17"/>
              <p:cNvSpPr/>
              <p:nvPr/>
            </p:nvSpPr>
            <p:spPr>
              <a:xfrm>
                <a:off x="4139280" y="4033080"/>
                <a:ext cx="12636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8"/>
              <p:cNvSpPr/>
              <p:nvPr/>
            </p:nvSpPr>
            <p:spPr>
              <a:xfrm>
                <a:off x="4077000" y="4003560"/>
                <a:ext cx="31500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19"/>
            <p:cNvGrpSpPr/>
            <p:nvPr/>
          </p:nvGrpSpPr>
          <p:grpSpPr>
            <a:xfrm>
              <a:off x="2566800" y="5004720"/>
              <a:ext cx="1030320" cy="1127160"/>
              <a:chOff x="2566800" y="5004720"/>
              <a:chExt cx="1030320" cy="1127160"/>
            </a:xfrm>
          </p:grpSpPr>
          <p:pic>
            <p:nvPicPr>
              <p:cNvPr id="477" name="Picture 6" descr="H:\2\人教教参资源\九\图\电流表.JPG"/>
              <p:cNvPicPr/>
              <p:nvPr/>
            </p:nvPicPr>
            <p:blipFill>
              <a:blip r:embed="rId6"/>
              <a:stretch/>
            </p:blipFill>
            <p:spPr>
              <a:xfrm>
                <a:off x="2566800" y="5004720"/>
                <a:ext cx="103032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Rectangle 21"/>
              <p:cNvSpPr/>
              <p:nvPr/>
            </p:nvSpPr>
            <p:spPr>
              <a:xfrm>
                <a:off x="3023280" y="5286600"/>
                <a:ext cx="12240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961360" y="5230800"/>
                <a:ext cx="30492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未知"/>
            <p:cNvSpPr/>
            <p:nvPr/>
          </p:nvSpPr>
          <p:spPr>
            <a:xfrm>
              <a:off x="1948680" y="5689080"/>
              <a:ext cx="927360" cy="533520"/>
            </a:xfrm>
            <a:custGeom>
              <a:avLst/>
              <a:gdLst/>
              <a:ahLst/>
              <a:rect l="l" t="t" r="r" b="b"/>
              <a:pathLst>
                <a:path w="612" h="354">
                  <a:moveTo>
                    <a:pt x="0" y="0"/>
                  </a:moveTo>
                  <a:cubicBezTo>
                    <a:pt x="44" y="5"/>
                    <a:pt x="88" y="11"/>
                    <a:pt x="114" y="45"/>
                  </a:cubicBezTo>
                  <a:cubicBezTo>
                    <a:pt x="140" y="79"/>
                    <a:pt x="130" y="157"/>
                    <a:pt x="159" y="204"/>
                  </a:cubicBezTo>
                  <a:cubicBezTo>
                    <a:pt x="188" y="251"/>
                    <a:pt x="225" y="307"/>
                    <a:pt x="287" y="326"/>
                  </a:cubicBezTo>
                  <a:cubicBezTo>
                    <a:pt x="349" y="345"/>
                    <a:pt x="478" y="354"/>
                    <a:pt x="532" y="319"/>
                  </a:cubicBezTo>
                  <a:cubicBezTo>
                    <a:pt x="586" y="284"/>
                    <a:pt x="599" y="147"/>
                    <a:pt x="612" y="1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3358080" y="4627800"/>
              <a:ext cx="824040" cy="1334160"/>
            </a:xfrm>
            <a:custGeom>
              <a:avLst/>
              <a:gdLst/>
              <a:ahLst/>
              <a:rect l="l" t="t" r="r" b="b"/>
              <a:pathLst>
                <a:path w="544" h="885">
                  <a:moveTo>
                    <a:pt x="0" y="838"/>
                  </a:moveTo>
                  <a:cubicBezTo>
                    <a:pt x="44" y="843"/>
                    <a:pt x="59" y="881"/>
                    <a:pt x="114" y="883"/>
                  </a:cubicBezTo>
                  <a:cubicBezTo>
                    <a:pt x="169" y="885"/>
                    <a:pt x="262" y="884"/>
                    <a:pt x="330" y="851"/>
                  </a:cubicBezTo>
                  <a:cubicBezTo>
                    <a:pt x="398" y="818"/>
                    <a:pt x="500" y="740"/>
                    <a:pt x="522" y="682"/>
                  </a:cubicBezTo>
                  <a:cubicBezTo>
                    <a:pt x="544" y="624"/>
                    <a:pt x="504" y="562"/>
                    <a:pt x="463" y="500"/>
                  </a:cubicBezTo>
                  <a:cubicBezTo>
                    <a:pt x="422" y="438"/>
                    <a:pt x="317" y="367"/>
                    <a:pt x="277" y="311"/>
                  </a:cubicBezTo>
                  <a:cubicBezTo>
                    <a:pt x="237" y="255"/>
                    <a:pt x="205" y="214"/>
                    <a:pt x="225" y="162"/>
                  </a:cubicBezTo>
                  <a:cubicBezTo>
                    <a:pt x="245" y="110"/>
                    <a:pt x="361" y="34"/>
                    <a:pt x="39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539640" y="4457520"/>
              <a:ext cx="680040" cy="1264680"/>
            </a:xfrm>
            <a:custGeom>
              <a:avLst/>
              <a:gdLst/>
              <a:ahLst/>
              <a:rect l="l" t="t" r="r" b="b"/>
              <a:pathLst>
                <a:path w="449" h="839">
                  <a:moveTo>
                    <a:pt x="204" y="0"/>
                  </a:moveTo>
                  <a:cubicBezTo>
                    <a:pt x="174" y="25"/>
                    <a:pt x="50" y="71"/>
                    <a:pt x="25" y="149"/>
                  </a:cubicBezTo>
                  <a:cubicBezTo>
                    <a:pt x="0" y="227"/>
                    <a:pt x="12" y="362"/>
                    <a:pt x="52" y="467"/>
                  </a:cubicBezTo>
                  <a:cubicBezTo>
                    <a:pt x="92" y="572"/>
                    <a:pt x="198" y="717"/>
                    <a:pt x="264" y="778"/>
                  </a:cubicBezTo>
                  <a:cubicBezTo>
                    <a:pt x="330" y="839"/>
                    <a:pt x="411" y="820"/>
                    <a:pt x="449" y="83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1674360" y="4457520"/>
              <a:ext cx="2277360" cy="452160"/>
            </a:xfrm>
            <a:custGeom>
              <a:avLst/>
              <a:gdLst/>
              <a:ahLst/>
              <a:rect l="l" t="t" r="r" b="b"/>
              <a:pathLst>
                <a:path w="1503" h="300">
                  <a:moveTo>
                    <a:pt x="0" y="0"/>
                  </a:moveTo>
                  <a:cubicBezTo>
                    <a:pt x="45" y="20"/>
                    <a:pt x="206" y="77"/>
                    <a:pt x="272" y="119"/>
                  </a:cubicBezTo>
                  <a:cubicBezTo>
                    <a:pt x="338" y="161"/>
                    <a:pt x="322" y="223"/>
                    <a:pt x="397" y="251"/>
                  </a:cubicBezTo>
                  <a:cubicBezTo>
                    <a:pt x="472" y="279"/>
                    <a:pt x="626" y="280"/>
                    <a:pt x="722" y="284"/>
                  </a:cubicBezTo>
                  <a:cubicBezTo>
                    <a:pt x="818" y="288"/>
                    <a:pt x="891" y="300"/>
                    <a:pt x="976" y="276"/>
                  </a:cubicBezTo>
                  <a:cubicBezTo>
                    <a:pt x="1061" y="252"/>
                    <a:pt x="1142" y="166"/>
                    <a:pt x="1230" y="143"/>
                  </a:cubicBezTo>
                  <a:cubicBezTo>
                    <a:pt x="1318" y="120"/>
                    <a:pt x="1446" y="140"/>
                    <a:pt x="1503" y="13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4320000" y="3425400"/>
              <a:ext cx="753120" cy="1217880"/>
            </a:xfrm>
            <a:custGeom>
              <a:avLst/>
              <a:gdLst/>
              <a:ahLst/>
              <a:rect l="l" t="t" r="r" b="b"/>
              <a:pathLst>
                <a:path w="497" h="808">
                  <a:moveTo>
                    <a:pt x="99" y="808"/>
                  </a:moveTo>
                  <a:cubicBezTo>
                    <a:pt x="139" y="800"/>
                    <a:pt x="283" y="790"/>
                    <a:pt x="338" y="762"/>
                  </a:cubicBezTo>
                  <a:cubicBezTo>
                    <a:pt x="393" y="734"/>
                    <a:pt x="411" y="691"/>
                    <a:pt x="430" y="642"/>
                  </a:cubicBezTo>
                  <a:cubicBezTo>
                    <a:pt x="449" y="593"/>
                    <a:pt x="445" y="532"/>
                    <a:pt x="450" y="470"/>
                  </a:cubicBezTo>
                  <a:cubicBezTo>
                    <a:pt x="455" y="408"/>
                    <a:pt x="497" y="342"/>
                    <a:pt x="463" y="272"/>
                  </a:cubicBezTo>
                  <a:cubicBezTo>
                    <a:pt x="429" y="202"/>
                    <a:pt x="322" y="92"/>
                    <a:pt x="245" y="47"/>
                  </a:cubicBezTo>
                  <a:cubicBezTo>
                    <a:pt x="168" y="2"/>
                    <a:pt x="51" y="10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2895840" y="3355920"/>
              <a:ext cx="772560" cy="324000"/>
            </a:xfrm>
            <a:custGeom>
              <a:avLst/>
              <a:gdLst/>
              <a:ahLst/>
              <a:rect l="l" t="t" r="r" b="b"/>
              <a:pathLst>
                <a:path w="510" h="215">
                  <a:moveTo>
                    <a:pt x="510" y="26"/>
                  </a:moveTo>
                  <a:cubicBezTo>
                    <a:pt x="482" y="26"/>
                    <a:pt x="395" y="5"/>
                    <a:pt x="344" y="33"/>
                  </a:cubicBezTo>
                  <a:cubicBezTo>
                    <a:pt x="293" y="61"/>
                    <a:pt x="250" y="169"/>
                    <a:pt x="205" y="192"/>
                  </a:cubicBezTo>
                  <a:cubicBezTo>
                    <a:pt x="160" y="215"/>
                    <a:pt x="107" y="204"/>
                    <a:pt x="73" y="172"/>
                  </a:cubicBezTo>
                  <a:cubicBezTo>
                    <a:pt x="39" y="140"/>
                    <a:pt x="15" y="3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565200" y="3375360"/>
              <a:ext cx="1477080" cy="1074600"/>
            </a:xfrm>
            <a:custGeom>
              <a:avLst/>
              <a:gdLst/>
              <a:ahLst/>
              <a:rect l="l" t="t" r="r" b="b"/>
              <a:pathLst>
                <a:path w="975" h="713">
                  <a:moveTo>
                    <a:pt x="227" y="709"/>
                  </a:moveTo>
                  <a:cubicBezTo>
                    <a:pt x="204" y="702"/>
                    <a:pt x="119" y="713"/>
                    <a:pt x="88" y="669"/>
                  </a:cubicBezTo>
                  <a:cubicBezTo>
                    <a:pt x="57" y="625"/>
                    <a:pt x="0" y="514"/>
                    <a:pt x="42" y="444"/>
                  </a:cubicBezTo>
                  <a:cubicBezTo>
                    <a:pt x="84" y="374"/>
                    <a:pt x="227" y="299"/>
                    <a:pt x="338" y="250"/>
                  </a:cubicBezTo>
                  <a:cubicBezTo>
                    <a:pt x="449" y="201"/>
                    <a:pt x="613" y="173"/>
                    <a:pt x="709" y="150"/>
                  </a:cubicBezTo>
                  <a:cubicBezTo>
                    <a:pt x="805" y="127"/>
                    <a:pt x="872" y="138"/>
                    <a:pt x="916" y="113"/>
                  </a:cubicBezTo>
                  <a:cubicBezTo>
                    <a:pt x="960" y="88"/>
                    <a:pt x="963" y="24"/>
                    <a:pt x="97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30"/>
          <p:cNvGrpSpPr/>
          <p:nvPr/>
        </p:nvGrpSpPr>
        <p:grpSpPr>
          <a:xfrm>
            <a:off x="5400720" y="3357720"/>
            <a:ext cx="3313080" cy="2523960"/>
            <a:chOff x="5400720" y="3357720"/>
            <a:chExt cx="3313080" cy="2523960"/>
          </a:xfrm>
        </p:grpSpPr>
        <p:sp>
          <p:nvSpPr>
            <p:cNvPr id="488" name="Text Box 31"/>
            <p:cNvSpPr/>
            <p:nvPr/>
          </p:nvSpPr>
          <p:spPr>
            <a:xfrm>
              <a:off x="6912000" y="4149360"/>
              <a:ext cx="495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32"/>
            <p:cNvSpPr/>
            <p:nvPr/>
          </p:nvSpPr>
          <p:spPr>
            <a:xfrm>
              <a:off x="6192720" y="5121000"/>
              <a:ext cx="657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33"/>
            <p:cNvGrpSpPr/>
            <p:nvPr/>
          </p:nvGrpSpPr>
          <p:grpSpPr>
            <a:xfrm>
              <a:off x="5400720" y="3357720"/>
              <a:ext cx="3313080" cy="2523960"/>
              <a:chOff x="5400720" y="3357720"/>
              <a:chExt cx="3313080" cy="2523960"/>
            </a:xfrm>
          </p:grpSpPr>
          <p:sp>
            <p:nvSpPr>
              <p:cNvPr id="491" name="Rectangle 102"/>
              <p:cNvSpPr/>
              <p:nvPr/>
            </p:nvSpPr>
            <p:spPr>
              <a:xfrm>
                <a:off x="5400720" y="3625560"/>
                <a:ext cx="2943360" cy="2016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35"/>
              <p:cNvGrpSpPr/>
              <p:nvPr/>
            </p:nvGrpSpPr>
            <p:grpSpPr>
              <a:xfrm>
                <a:off x="6459120" y="3357720"/>
                <a:ext cx="124200" cy="502920"/>
                <a:chOff x="6459120" y="3357720"/>
                <a:chExt cx="124200" cy="502920"/>
              </a:xfrm>
            </p:grpSpPr>
            <p:sp>
              <p:nvSpPr>
                <p:cNvPr id="493" name="Rectangle 23"/>
                <p:cNvSpPr/>
                <p:nvPr/>
              </p:nvSpPr>
              <p:spPr>
                <a:xfrm flipH="1">
                  <a:off x="6459480" y="3524760"/>
                  <a:ext cx="123840" cy="12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4" name=""/>
                <p:cNvGrpSpPr/>
                <p:nvPr/>
              </p:nvGrpSpPr>
              <p:grpSpPr>
                <a:xfrm>
                  <a:off x="6582960" y="3357720"/>
                  <a:ext cx="360" cy="502920"/>
                  <a:chOff x="6582960" y="3357720"/>
                  <a:chExt cx="360" cy="502920"/>
                </a:xfrm>
              </p:grpSpPr>
              <p:sp>
                <p:nvSpPr>
                  <p:cNvPr id="495" name="Line 24"/>
                  <p:cNvSpPr/>
                  <p:nvPr/>
                </p:nvSpPr>
                <p:spPr>
                  <a:xfrm>
                    <a:off x="6583320" y="3357720"/>
                    <a:ext cx="0" cy="502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 txBox="1"/>
                  <p:nvPr/>
                </p:nvSpPr>
                <p:spPr>
                  <a:xfrm>
                    <a:off x="6582960" y="3357720"/>
                    <a:ext cx="360" cy="50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6459120" y="3483360"/>
                  <a:ext cx="360" cy="251280"/>
                  <a:chOff x="6459120" y="3483360"/>
                  <a:chExt cx="360" cy="251280"/>
                </a:xfrm>
              </p:grpSpPr>
              <p:sp>
                <p:nvSpPr>
                  <p:cNvPr id="498" name="Line 25"/>
                  <p:cNvSpPr/>
                  <p:nvPr/>
                </p:nvSpPr>
                <p:spPr>
                  <a:xfrm>
                    <a:off x="6459480" y="3483360"/>
                    <a:ext cx="0" cy="251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 txBox="1"/>
                  <p:nvPr/>
                </p:nvSpPr>
                <p:spPr>
                  <a:xfrm>
                    <a:off x="6459120" y="3483360"/>
                    <a:ext cx="36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9"/>
              <p:cNvGrpSpPr/>
              <p:nvPr/>
            </p:nvGrpSpPr>
            <p:grpSpPr>
              <a:xfrm>
                <a:off x="7251840" y="3457080"/>
                <a:ext cx="412200" cy="252000"/>
                <a:chOff x="7251840" y="3457080"/>
                <a:chExt cx="412200" cy="252000"/>
              </a:xfrm>
            </p:grpSpPr>
            <p:sp>
              <p:nvSpPr>
                <p:cNvPr id="501" name="Rectangle 15"/>
                <p:cNvSpPr/>
                <p:nvPr/>
              </p:nvSpPr>
              <p:spPr>
                <a:xfrm>
                  <a:off x="7298280" y="3457440"/>
                  <a:ext cx="363600" cy="25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7298280" y="3457080"/>
                  <a:ext cx="365760" cy="152280"/>
                  <a:chOff x="7298280" y="3457080"/>
                  <a:chExt cx="365760" cy="152280"/>
                </a:xfrm>
              </p:grpSpPr>
              <p:sp>
                <p:nvSpPr>
                  <p:cNvPr id="503" name="Line 16"/>
                  <p:cNvSpPr/>
                  <p:nvPr/>
                </p:nvSpPr>
                <p:spPr>
                  <a:xfrm flipV="1">
                    <a:off x="7298280" y="3457080"/>
                    <a:ext cx="36576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 txBox="1"/>
                  <p:nvPr/>
                </p:nvSpPr>
                <p:spPr>
                  <a:xfrm rot="10800000">
                    <a:off x="7298280" y="3457080"/>
                    <a:ext cx="3657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Oval 17"/>
                <p:cNvSpPr/>
                <p:nvPr/>
              </p:nvSpPr>
              <p:spPr>
                <a:xfrm>
                  <a:off x="7251840" y="3558240"/>
                  <a:ext cx="91440" cy="993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3"/>
              <p:cNvGrpSpPr/>
              <p:nvPr/>
            </p:nvGrpSpPr>
            <p:grpSpPr>
              <a:xfrm>
                <a:off x="8101080" y="3825720"/>
                <a:ext cx="612720" cy="579600"/>
                <a:chOff x="8101080" y="3825720"/>
                <a:chExt cx="612720" cy="579600"/>
              </a:xfrm>
            </p:grpSpPr>
            <p:sp>
              <p:nvSpPr>
                <p:cNvPr id="507" name="Oval 197"/>
                <p:cNvSpPr/>
                <p:nvPr/>
              </p:nvSpPr>
              <p:spPr>
                <a:xfrm>
                  <a:off x="8101080" y="3898440"/>
                  <a:ext cx="496800" cy="502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198"/>
                <p:cNvSpPr/>
                <p:nvPr/>
              </p:nvSpPr>
              <p:spPr>
                <a:xfrm>
                  <a:off x="8101080" y="3825720"/>
                  <a:ext cx="6127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400720" y="4701960"/>
                <a:ext cx="2943360" cy="360"/>
                <a:chOff x="5400720" y="4701960"/>
                <a:chExt cx="2943360" cy="360"/>
              </a:xfrm>
            </p:grpSpPr>
            <p:sp>
              <p:nvSpPr>
                <p:cNvPr id="510" name="Line 51"/>
                <p:cNvSpPr/>
                <p:nvPr/>
              </p:nvSpPr>
              <p:spPr>
                <a:xfrm>
                  <a:off x="5400720" y="4701960"/>
                  <a:ext cx="2943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 txBox="1"/>
                <p:nvPr/>
              </p:nvSpPr>
              <p:spPr>
                <a:xfrm>
                  <a:off x="5400720" y="4701960"/>
                  <a:ext cx="2943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AutoShape 187"/>
              <p:cNvSpPr/>
              <p:nvPr/>
            </p:nvSpPr>
            <p:spPr>
              <a:xfrm>
                <a:off x="6622920" y="4476600"/>
                <a:ext cx="454320" cy="46008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187"/>
              <p:cNvSpPr/>
              <p:nvPr/>
            </p:nvSpPr>
            <p:spPr>
              <a:xfrm>
                <a:off x="5896080" y="5406840"/>
                <a:ext cx="453960" cy="46008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Group 49"/>
              <p:cNvGrpSpPr/>
              <p:nvPr/>
            </p:nvGrpSpPr>
            <p:grpSpPr>
              <a:xfrm>
                <a:off x="7318440" y="5302080"/>
                <a:ext cx="711360" cy="579600"/>
                <a:chOff x="7318440" y="5302080"/>
                <a:chExt cx="711360" cy="579600"/>
              </a:xfrm>
            </p:grpSpPr>
            <p:sp>
              <p:nvSpPr>
                <p:cNvPr id="515" name="Oval 197"/>
                <p:cNvSpPr/>
                <p:nvPr/>
              </p:nvSpPr>
              <p:spPr>
                <a:xfrm>
                  <a:off x="7318440" y="5373000"/>
                  <a:ext cx="496800" cy="5047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198"/>
                <p:cNvSpPr/>
                <p:nvPr/>
              </p:nvSpPr>
              <p:spPr>
                <a:xfrm>
                  <a:off x="7318440" y="5302080"/>
                  <a:ext cx="711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17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518" name="Group 53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519" name="圆角矩形 1" descr=""/>
            <p:cNvPicPr/>
            <p:nvPr/>
          </p:nvPicPr>
          <p:blipFill>
            <a:blip r:embed="rId8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 Box 55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5A68-A104-40C4-9C36-30803F54BA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3"/>
          <p:cNvGrpSpPr/>
          <p:nvPr/>
        </p:nvGrpSpPr>
        <p:grpSpPr>
          <a:xfrm>
            <a:off x="2152800" y="2330280"/>
            <a:ext cx="2657160" cy="2468520"/>
            <a:chOff x="2152800" y="2330280"/>
            <a:chExt cx="2657160" cy="2468520"/>
          </a:xfrm>
        </p:grpSpPr>
        <p:pic>
          <p:nvPicPr>
            <p:cNvPr id="526" name="单圆角矩形 2" descr=""/>
            <p:cNvPicPr/>
            <p:nvPr/>
          </p:nvPicPr>
          <p:blipFill>
            <a:blip r:embed="rId1"/>
            <a:stretch/>
          </p:blipFill>
          <p:spPr>
            <a:xfrm>
              <a:off x="2152800" y="2330280"/>
              <a:ext cx="265716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5"/>
            <p:cNvSpPr/>
            <p:nvPr/>
          </p:nvSpPr>
          <p:spPr>
            <a:xfrm>
              <a:off x="2336760" y="2435040"/>
              <a:ext cx="14868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电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的强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6"/>
          <p:cNvGrpSpPr/>
          <p:nvPr/>
        </p:nvGrpSpPr>
        <p:grpSpPr>
          <a:xfrm>
            <a:off x="5048280" y="2313000"/>
            <a:ext cx="1828800" cy="2468520"/>
            <a:chOff x="5048280" y="2313000"/>
            <a:chExt cx="1828800" cy="2468520"/>
          </a:xfrm>
        </p:grpSpPr>
        <p:pic>
          <p:nvPicPr>
            <p:cNvPr id="529" name="单圆角矩形 3" descr=""/>
            <p:cNvPicPr/>
            <p:nvPr/>
          </p:nvPicPr>
          <p:blipFill>
            <a:blip r:embed="rId2"/>
            <a:stretch/>
          </p:blipFill>
          <p:spPr>
            <a:xfrm>
              <a:off x="5048280" y="2313000"/>
              <a:ext cx="18288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8"/>
            <p:cNvSpPr/>
            <p:nvPr/>
          </p:nvSpPr>
          <p:spPr>
            <a:xfrm>
              <a:off x="5194440" y="2435400"/>
              <a:ext cx="1487520" cy="22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电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楷体_GB2312"/>
                </a:rPr>
                <a:t>的测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9"/>
          <p:cNvGrpSpPr/>
          <p:nvPr/>
        </p:nvGrpSpPr>
        <p:grpSpPr>
          <a:xfrm>
            <a:off x="4262400" y="2886120"/>
            <a:ext cx="615960" cy="1322280"/>
            <a:chOff x="4262400" y="2886120"/>
            <a:chExt cx="615960" cy="1322280"/>
          </a:xfrm>
        </p:grpSpPr>
        <p:pic>
          <p:nvPicPr>
            <p:cNvPr id="532" name="燕尾形 5" descr=""/>
            <p:cNvPicPr/>
            <p:nvPr/>
          </p:nvPicPr>
          <p:blipFill>
            <a:blip r:embed="rId3"/>
            <a:stretch/>
          </p:blipFill>
          <p:spPr>
            <a:xfrm>
              <a:off x="4262400" y="2886120"/>
              <a:ext cx="6159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Text Box 11"/>
            <p:cNvSpPr/>
            <p:nvPr/>
          </p:nvSpPr>
          <p:spPr>
            <a:xfrm>
              <a:off x="4324320" y="2922480"/>
              <a:ext cx="5000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4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13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536" name="圆角矩形 1" descr=""/>
            <p:cNvPicPr/>
            <p:nvPr/>
          </p:nvPicPr>
          <p:blipFill>
            <a:blip r:embed="rId5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3"/>
          <p:cNvGrpSpPr/>
          <p:nvPr/>
        </p:nvGrpSpPr>
        <p:grpSpPr>
          <a:xfrm>
            <a:off x="539640" y="276120"/>
            <a:ext cx="2789280" cy="920880"/>
            <a:chOff x="539640" y="276120"/>
            <a:chExt cx="2789280" cy="920880"/>
          </a:xfrm>
        </p:grpSpPr>
        <p:pic>
          <p:nvPicPr>
            <p:cNvPr id="86" name="圆角矩形 1" descr=""/>
            <p:cNvPicPr/>
            <p:nvPr/>
          </p:nvPicPr>
          <p:blipFill>
            <a:blip r:embed="rId1"/>
            <a:stretch/>
          </p:blipFill>
          <p:spPr>
            <a:xfrm>
              <a:off x="539640" y="276120"/>
              <a:ext cx="27892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5"/>
            <p:cNvSpPr/>
            <p:nvPr/>
          </p:nvSpPr>
          <p:spPr>
            <a:xfrm>
              <a:off x="613080" y="442800"/>
              <a:ext cx="2645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想一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21"/>
          <p:cNvSpPr/>
          <p:nvPr/>
        </p:nvSpPr>
        <p:spPr>
          <a:xfrm>
            <a:off x="2786760" y="3681360"/>
            <a:ext cx="2576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电流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表示电流强弱的物理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31640" y="4329000"/>
            <a:ext cx="8172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单位：安培，简称安，符号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电流的常用单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毫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mA=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微安（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672000" y="1521000"/>
            <a:ext cx="3392280" cy="123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Times New Roman"/>
              </a:rPr>
              <a:t>　　你认为电力机车和手机工作时的电流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9-电力机车"/>
          <p:cNvPicPr/>
          <p:nvPr/>
        </p:nvPicPr>
        <p:blipFill>
          <a:blip r:embed="rId2"/>
          <a:stretch/>
        </p:blipFill>
        <p:spPr>
          <a:xfrm>
            <a:off x="647640" y="1484280"/>
            <a:ext cx="2624040" cy="196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5ab7b0af563e3beef0300707c7860ce2"/>
          <p:cNvPicPr/>
          <p:nvPr/>
        </p:nvPicPr>
        <p:blipFill>
          <a:blip r:embed="rId3"/>
          <a:stretch/>
        </p:blipFill>
        <p:spPr>
          <a:xfrm>
            <a:off x="7343640" y="1665360"/>
            <a:ext cx="1198800" cy="150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1012680" y="411120"/>
            <a:ext cx="1887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电流的强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PQ][]BV8PV3U6ET5H`N{%N6"/>
          <p:cNvPicPr/>
          <p:nvPr/>
        </p:nvPicPr>
        <p:blipFill>
          <a:blip r:embed="rId2"/>
          <a:stretch/>
        </p:blipFill>
        <p:spPr>
          <a:xfrm>
            <a:off x="1114560" y="800280"/>
            <a:ext cx="64483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人体对电的感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066680"/>
          <a:ext cx="8839080" cy="5425920"/>
        </p:xfrm>
        <a:graphic>
          <a:graphicData uri="http://schemas.openxmlformats.org/drawingml/2006/table">
            <a:tbl>
              <a:tblPr/>
              <a:tblGrid>
                <a:gridCol w="1473120"/>
                <a:gridCol w="3478320"/>
                <a:gridCol w="388764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电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交流电（如家庭电路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直流电（如电池 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轻微颤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无感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指强烈颤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无感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部痉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感觉痒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难于摆脱电极，能摆脱手指剧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热感觉增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迅速麻痹，不能摆脱电极，剧痛，呼吸困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热感觉大大增强，手部肌肉不强烈收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麻痹，心房震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烈的热感觉，手部肌肉收缩、痉挛，呼吸困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麻痹，延续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心脏麻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麻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呼吸心脏麻痹，肌体组织遭到电流的热破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067280" y="2075040"/>
            <a:ext cx="2262240" cy="3024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2"/>
          <p:cNvSpPr/>
          <p:nvPr/>
        </p:nvSpPr>
        <p:spPr>
          <a:xfrm>
            <a:off x="6769080" y="1679400"/>
            <a:ext cx="1619280" cy="649440"/>
          </a:xfrm>
          <a:prstGeom prst="wedgeRoundRectCallout">
            <a:avLst>
              <a:gd name="adj1" fmla="val -113333"/>
              <a:gd name="adj2" fmla="val 5391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刻度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1943280" y="2759040"/>
            <a:ext cx="1906560" cy="576360"/>
          </a:xfrm>
          <a:prstGeom prst="wedgeRoundRectCallout">
            <a:avLst>
              <a:gd name="adj1" fmla="val 114361"/>
              <a:gd name="adj2" fmla="val -20800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数值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2"/>
          <p:cNvSpPr/>
          <p:nvPr/>
        </p:nvSpPr>
        <p:spPr>
          <a:xfrm>
            <a:off x="2303640" y="3537000"/>
            <a:ext cx="1042920" cy="504720"/>
          </a:xfrm>
          <a:prstGeom prst="wedgeRoundRectCallout">
            <a:avLst>
              <a:gd name="adj1" fmla="val 166134"/>
              <a:gd name="adj2" fmla="val -13459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指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6626160" y="2724120"/>
            <a:ext cx="1981440" cy="649440"/>
          </a:xfrm>
          <a:prstGeom prst="wedgeRoundRectCallout">
            <a:avLst>
              <a:gd name="adj1" fmla="val -122837"/>
              <a:gd name="adj2" fmla="val 113324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调零螺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>
            <a:off x="6877080" y="3516480"/>
            <a:ext cx="1981080" cy="649080"/>
          </a:xfrm>
          <a:prstGeom prst="wedgeRoundRectCallout">
            <a:avLst>
              <a:gd name="adj1" fmla="val -101763"/>
              <a:gd name="adj2" fmla="val 68828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正接线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2"/>
          <p:cNvSpPr/>
          <p:nvPr/>
        </p:nvSpPr>
        <p:spPr>
          <a:xfrm>
            <a:off x="1835280" y="4164120"/>
            <a:ext cx="1836720" cy="647640"/>
          </a:xfrm>
          <a:prstGeom prst="wedgeRoundRectCallout">
            <a:avLst>
              <a:gd name="adj1" fmla="val 99611"/>
              <a:gd name="adj2" fmla="val -2990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负接线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3492360" y="5064120"/>
            <a:ext cx="2808360" cy="611280"/>
          </a:xfrm>
          <a:prstGeom prst="wedgeRoundRectCallout">
            <a:avLst>
              <a:gd name="adj1" fmla="val 11731"/>
              <a:gd name="adj2" fmla="val -147662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量程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.6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6480000" y="4400640"/>
            <a:ext cx="2664000" cy="649080"/>
          </a:xfrm>
          <a:prstGeom prst="wedgeRoundRectCallout">
            <a:avLst>
              <a:gd name="adj1" fmla="val -68833"/>
              <a:gd name="adj2" fmla="val -43888"/>
              <a:gd name="adj3" fmla="val 16667"/>
            </a:avLst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量程为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2529360" y="12682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表：测量电流的仪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5472000" y="5913360"/>
            <a:ext cx="1584360" cy="720720"/>
            <a:chOff x="5472000" y="5913360"/>
            <a:chExt cx="1584360" cy="720720"/>
          </a:xfrm>
        </p:grpSpPr>
        <p:grpSp>
          <p:nvGrpSpPr>
            <p:cNvPr id="110" name=""/>
            <p:cNvGrpSpPr/>
            <p:nvPr/>
          </p:nvGrpSpPr>
          <p:grpSpPr>
            <a:xfrm>
              <a:off x="5472000" y="6345000"/>
              <a:ext cx="1584360" cy="360"/>
              <a:chOff x="5472000" y="6345000"/>
              <a:chExt cx="1584360" cy="360"/>
            </a:xfrm>
          </p:grpSpPr>
          <p:sp>
            <p:nvSpPr>
              <p:cNvPr id="111" name="Line 16"/>
              <p:cNvSpPr/>
              <p:nvPr/>
            </p:nvSpPr>
            <p:spPr>
              <a:xfrm>
                <a:off x="5472000" y="634500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5472000" y="63450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7"/>
            <p:cNvGrpSpPr/>
            <p:nvPr/>
          </p:nvGrpSpPr>
          <p:grpSpPr>
            <a:xfrm>
              <a:off x="5940360" y="6021360"/>
              <a:ext cx="611280" cy="612720"/>
              <a:chOff x="5940360" y="6021360"/>
              <a:chExt cx="611280" cy="612720"/>
            </a:xfrm>
          </p:grpSpPr>
          <p:sp>
            <p:nvSpPr>
              <p:cNvPr id="114" name="Oval 18"/>
              <p:cNvSpPr/>
              <p:nvPr/>
            </p:nvSpPr>
            <p:spPr>
              <a:xfrm>
                <a:off x="5940360" y="6021360"/>
                <a:ext cx="611280" cy="612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6013440" y="6057720"/>
                <a:ext cx="43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 Box 20"/>
            <p:cNvSpPr/>
            <p:nvPr/>
          </p:nvSpPr>
          <p:spPr>
            <a:xfrm>
              <a:off x="5545080" y="5913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553080" y="591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9" name="矩形 4"/>
          <p:cNvSpPr/>
          <p:nvPr/>
        </p:nvSpPr>
        <p:spPr>
          <a:xfrm>
            <a:off x="177336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电流的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431640" y="188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认识电流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431640" y="5877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流表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8"/>
          <p:cNvSpPr/>
          <p:nvPr/>
        </p:nvSpPr>
        <p:spPr>
          <a:xfrm>
            <a:off x="431640" y="749160"/>
            <a:ext cx="378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表的连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433440" y="1270080"/>
            <a:ext cx="8232840" cy="199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电流表必须和被测的用电器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电流必须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线柱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从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线柱流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必须正确选择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量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不允许把电流表直接连到电源的两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677880" y="3933720"/>
            <a:ext cx="4835520" cy="2540160"/>
            <a:chOff x="677880" y="3933720"/>
            <a:chExt cx="4835520" cy="2540160"/>
          </a:xfrm>
        </p:grpSpPr>
        <p:pic>
          <p:nvPicPr>
            <p:cNvPr id="125" name="Picture 3" descr="H:\2\人教教参资源\九\图\铡刀开关.JPG"/>
            <p:cNvPicPr/>
            <p:nvPr/>
          </p:nvPicPr>
          <p:blipFill>
            <a:blip r:embed="rId1"/>
            <a:stretch/>
          </p:blipFill>
          <p:spPr>
            <a:xfrm>
              <a:off x="684360" y="4400280"/>
              <a:ext cx="152712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H:\2\人教教参资源\九\图\小灯泡.JPG"/>
            <p:cNvPicPr/>
            <p:nvPr/>
          </p:nvPicPr>
          <p:blipFill>
            <a:blip r:embed="rId2"/>
            <a:stretch/>
          </p:blipFill>
          <p:spPr>
            <a:xfrm>
              <a:off x="1836720" y="5338800"/>
              <a:ext cx="162720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H:\2\人教教参资源\九\图\电流表.JPG"/>
            <p:cNvPicPr/>
            <p:nvPr/>
          </p:nvPicPr>
          <p:blipFill>
            <a:blip r:embed="rId3"/>
            <a:stretch/>
          </p:blipFill>
          <p:spPr>
            <a:xfrm>
              <a:off x="3960720" y="4367160"/>
              <a:ext cx="155268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8" descr="H:\2\人教教参资源\九\图\电池.JPG"/>
            <p:cNvPicPr/>
            <p:nvPr/>
          </p:nvPicPr>
          <p:blipFill>
            <a:blip r:embed="rId4"/>
            <a:stretch/>
          </p:blipFill>
          <p:spPr>
            <a:xfrm>
              <a:off x="2303640" y="3933720"/>
              <a:ext cx="1441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未知"/>
            <p:cNvSpPr/>
            <p:nvPr/>
          </p:nvSpPr>
          <p:spPr>
            <a:xfrm>
              <a:off x="1871640" y="4402080"/>
              <a:ext cx="576360" cy="684000"/>
            </a:xfrm>
            <a:custGeom>
              <a:avLst/>
              <a:gdLst/>
              <a:ahLst/>
              <a:rect l="l" t="t" r="r" b="b"/>
              <a:pathLst>
                <a:path w="363" h="431">
                  <a:moveTo>
                    <a:pt x="363" y="0"/>
                  </a:moveTo>
                  <a:cubicBezTo>
                    <a:pt x="291" y="21"/>
                    <a:pt x="219" y="42"/>
                    <a:pt x="159" y="114"/>
                  </a:cubicBezTo>
                  <a:cubicBezTo>
                    <a:pt x="99" y="186"/>
                    <a:pt x="49" y="308"/>
                    <a:pt x="0" y="431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677880" y="5051160"/>
              <a:ext cx="1446120" cy="1027440"/>
            </a:xfrm>
            <a:custGeom>
              <a:avLst/>
              <a:gdLst/>
              <a:ahLst/>
              <a:rect l="l" t="t" r="r" b="b"/>
              <a:pathLst>
                <a:path w="911" h="647">
                  <a:moveTo>
                    <a:pt x="230" y="0"/>
                  </a:moveTo>
                  <a:cubicBezTo>
                    <a:pt x="115" y="32"/>
                    <a:pt x="0" y="64"/>
                    <a:pt x="26" y="158"/>
                  </a:cubicBezTo>
                  <a:cubicBezTo>
                    <a:pt x="52" y="252"/>
                    <a:pt x="241" y="487"/>
                    <a:pt x="389" y="567"/>
                  </a:cubicBezTo>
                  <a:cubicBezTo>
                    <a:pt x="537" y="647"/>
                    <a:pt x="724" y="641"/>
                    <a:pt x="911" y="635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3166920" y="5734080"/>
              <a:ext cx="1944720" cy="595080"/>
            </a:xfrm>
            <a:custGeom>
              <a:avLst/>
              <a:gdLst/>
              <a:ahLst/>
              <a:rect l="l" t="t" r="r" b="b"/>
              <a:pathLst>
                <a:path w="1225" h="375">
                  <a:moveTo>
                    <a:pt x="0" y="205"/>
                  </a:moveTo>
                  <a:cubicBezTo>
                    <a:pt x="408" y="290"/>
                    <a:pt x="817" y="375"/>
                    <a:pt x="1021" y="341"/>
                  </a:cubicBezTo>
                  <a:cubicBezTo>
                    <a:pt x="1225" y="307"/>
                    <a:pt x="1225" y="153"/>
                    <a:pt x="1225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583080" y="4367160"/>
              <a:ext cx="772920" cy="1366920"/>
            </a:xfrm>
            <a:custGeom>
              <a:avLst/>
              <a:gdLst/>
              <a:ahLst/>
              <a:rect l="l" t="t" r="r" b="b"/>
              <a:pathLst>
                <a:path w="487" h="861">
                  <a:moveTo>
                    <a:pt x="487" y="861"/>
                  </a:moveTo>
                  <a:cubicBezTo>
                    <a:pt x="322" y="762"/>
                    <a:pt x="158" y="664"/>
                    <a:pt x="79" y="521"/>
                  </a:cubicBezTo>
                  <a:cubicBezTo>
                    <a:pt x="0" y="378"/>
                    <a:pt x="5" y="189"/>
                    <a:pt x="11" y="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6516720" y="3933720"/>
            <a:ext cx="1730520" cy="2443320"/>
            <a:chOff x="6516720" y="3933720"/>
            <a:chExt cx="1730520" cy="2443320"/>
          </a:xfrm>
        </p:grpSpPr>
        <p:pic>
          <p:nvPicPr>
            <p:cNvPr id="134" name="Picture 6" descr="H:\2\人教教参资源\九\图\电流表.JPG"/>
            <p:cNvPicPr/>
            <p:nvPr/>
          </p:nvPicPr>
          <p:blipFill>
            <a:blip r:embed="rId5"/>
            <a:stretch/>
          </p:blipFill>
          <p:spPr>
            <a:xfrm>
              <a:off x="6734160" y="3933720"/>
              <a:ext cx="133992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H:\2\人教教参资源\九\图\电池.JPG"/>
            <p:cNvPicPr/>
            <p:nvPr/>
          </p:nvPicPr>
          <p:blipFill>
            <a:blip r:embed="rId6"/>
            <a:stretch/>
          </p:blipFill>
          <p:spPr>
            <a:xfrm flipH="1">
              <a:off x="6697800" y="5591160"/>
              <a:ext cx="1441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未知"/>
            <p:cNvSpPr/>
            <p:nvPr/>
          </p:nvSpPr>
          <p:spPr>
            <a:xfrm>
              <a:off x="7777080" y="5086080"/>
              <a:ext cx="470160" cy="936720"/>
            </a:xfrm>
            <a:custGeom>
              <a:avLst/>
              <a:gdLst/>
              <a:ahLst/>
              <a:rect l="l" t="t" r="r" b="b"/>
              <a:pathLst>
                <a:path w="296" h="590">
                  <a:moveTo>
                    <a:pt x="0" y="0"/>
                  </a:moveTo>
                  <a:cubicBezTo>
                    <a:pt x="125" y="42"/>
                    <a:pt x="250" y="84"/>
                    <a:pt x="273" y="182"/>
                  </a:cubicBezTo>
                  <a:cubicBezTo>
                    <a:pt x="296" y="280"/>
                    <a:pt x="216" y="435"/>
                    <a:pt x="137" y="590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6516720" y="5025960"/>
              <a:ext cx="541440" cy="1033560"/>
            </a:xfrm>
            <a:custGeom>
              <a:avLst/>
              <a:gdLst/>
              <a:ahLst/>
              <a:rect l="l" t="t" r="r" b="b"/>
              <a:pathLst>
                <a:path w="341" h="651">
                  <a:moveTo>
                    <a:pt x="341" y="16"/>
                  </a:moveTo>
                  <a:cubicBezTo>
                    <a:pt x="193" y="8"/>
                    <a:pt x="46" y="0"/>
                    <a:pt x="23" y="106"/>
                  </a:cubicBezTo>
                  <a:cubicBezTo>
                    <a:pt x="0" y="212"/>
                    <a:pt x="102" y="431"/>
                    <a:pt x="205" y="651"/>
                  </a:cubicBezTo>
                </a:path>
              </a:pathLst>
            </a:cu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8"/>
          <p:cNvGrpSpPr/>
          <p:nvPr/>
        </p:nvGrpSpPr>
        <p:grpSpPr>
          <a:xfrm>
            <a:off x="6335640" y="4114800"/>
            <a:ext cx="2232000" cy="2052720"/>
            <a:chOff x="6335640" y="4114800"/>
            <a:chExt cx="2232000" cy="2052720"/>
          </a:xfrm>
        </p:grpSpPr>
        <p:grpSp>
          <p:nvGrpSpPr>
            <p:cNvPr id="139" name=""/>
            <p:cNvGrpSpPr/>
            <p:nvPr/>
          </p:nvGrpSpPr>
          <p:grpSpPr>
            <a:xfrm>
              <a:off x="6371640" y="4114800"/>
              <a:ext cx="2088000" cy="2052720"/>
              <a:chOff x="6371640" y="4114800"/>
              <a:chExt cx="2088000" cy="2052720"/>
            </a:xfrm>
          </p:grpSpPr>
          <p:sp>
            <p:nvSpPr>
              <p:cNvPr id="140" name="Line 19"/>
              <p:cNvSpPr/>
              <p:nvPr/>
            </p:nvSpPr>
            <p:spPr>
              <a:xfrm flipH="1">
                <a:off x="6371640" y="4114800"/>
                <a:ext cx="2087640" cy="20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6372000" y="4114800"/>
                <a:ext cx="2087640" cy="205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335640" y="4222800"/>
              <a:ext cx="2232000" cy="1908000"/>
              <a:chOff x="6335640" y="4222800"/>
              <a:chExt cx="2232000" cy="1908000"/>
            </a:xfrm>
          </p:grpSpPr>
          <p:sp>
            <p:nvSpPr>
              <p:cNvPr id="143" name="Line 20"/>
              <p:cNvSpPr/>
              <p:nvPr/>
            </p:nvSpPr>
            <p:spPr>
              <a:xfrm>
                <a:off x="6335640" y="4222800"/>
                <a:ext cx="2232000" cy="190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6335640" y="4222800"/>
                <a:ext cx="2232000" cy="19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8"/>
          <p:cNvSpPr/>
          <p:nvPr/>
        </p:nvSpPr>
        <p:spPr>
          <a:xfrm>
            <a:off x="431640" y="1268280"/>
            <a:ext cx="831708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以下电路中，电流表连接方法正确的是（       ）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742160" y="1301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368360" y="2071800"/>
            <a:ext cx="5903280" cy="2150280"/>
            <a:chOff x="1368360" y="2071800"/>
            <a:chExt cx="5903280" cy="2150280"/>
          </a:xfrm>
        </p:grpSpPr>
        <p:grpSp>
          <p:nvGrpSpPr>
            <p:cNvPr id="149" name="Group 5"/>
            <p:cNvGrpSpPr/>
            <p:nvPr/>
          </p:nvGrpSpPr>
          <p:grpSpPr>
            <a:xfrm>
              <a:off x="1368360" y="2071800"/>
              <a:ext cx="2262600" cy="1621800"/>
              <a:chOff x="1368360" y="2071800"/>
              <a:chExt cx="2262600" cy="1621800"/>
            </a:xfrm>
          </p:grpSpPr>
          <p:sp>
            <p:nvSpPr>
              <p:cNvPr id="150" name="Rectangle 102"/>
              <p:cNvSpPr/>
              <p:nvPr/>
            </p:nvSpPr>
            <p:spPr>
              <a:xfrm>
                <a:off x="1652040" y="2243160"/>
                <a:ext cx="1978920" cy="130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Group 7"/>
              <p:cNvGrpSpPr/>
              <p:nvPr/>
            </p:nvGrpSpPr>
            <p:grpSpPr>
              <a:xfrm>
                <a:off x="2357640" y="2071800"/>
                <a:ext cx="95400" cy="381240"/>
                <a:chOff x="2357640" y="2071800"/>
                <a:chExt cx="95400" cy="381240"/>
              </a:xfrm>
            </p:grpSpPr>
            <p:sp>
              <p:nvSpPr>
                <p:cNvPr id="152" name="Rectangle 23"/>
                <p:cNvSpPr/>
                <p:nvPr/>
              </p:nvSpPr>
              <p:spPr>
                <a:xfrm>
                  <a:off x="2357640" y="2198160"/>
                  <a:ext cx="9504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2357640" y="2071800"/>
                  <a:ext cx="360" cy="381240"/>
                  <a:chOff x="2357640" y="2071800"/>
                  <a:chExt cx="360" cy="381240"/>
                </a:xfrm>
              </p:grpSpPr>
              <p:sp>
                <p:nvSpPr>
                  <p:cNvPr id="154" name="Line 24"/>
                  <p:cNvSpPr/>
                  <p:nvPr/>
                </p:nvSpPr>
                <p:spPr>
                  <a:xfrm>
                    <a:off x="2357640" y="207180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 txBox="1"/>
                  <p:nvPr/>
                </p:nvSpPr>
                <p:spPr>
                  <a:xfrm>
                    <a:off x="2357640" y="2071800"/>
                    <a:ext cx="36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2452680" y="2167200"/>
                  <a:ext cx="360" cy="190440"/>
                  <a:chOff x="2452680" y="2167200"/>
                  <a:chExt cx="360" cy="190440"/>
                </a:xfrm>
              </p:grpSpPr>
              <p:sp>
                <p:nvSpPr>
                  <p:cNvPr id="157" name="Line 25"/>
                  <p:cNvSpPr/>
                  <p:nvPr/>
                </p:nvSpPr>
                <p:spPr>
                  <a:xfrm>
                    <a:off x="2452680" y="2167200"/>
                    <a:ext cx="0" cy="190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 txBox="1"/>
                  <p:nvPr/>
                </p:nvSpPr>
                <p:spPr>
                  <a:xfrm>
                    <a:off x="2452680" y="2167200"/>
                    <a:ext cx="360" cy="1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" name="Group 11"/>
              <p:cNvGrpSpPr/>
              <p:nvPr/>
            </p:nvGrpSpPr>
            <p:grpSpPr>
              <a:xfrm>
                <a:off x="2995200" y="2122920"/>
                <a:ext cx="318960" cy="190080"/>
                <a:chOff x="2995200" y="2122920"/>
                <a:chExt cx="318960" cy="190080"/>
              </a:xfrm>
            </p:grpSpPr>
            <p:sp>
              <p:nvSpPr>
                <p:cNvPr id="160" name="Rectangle 15"/>
                <p:cNvSpPr/>
                <p:nvPr/>
              </p:nvSpPr>
              <p:spPr>
                <a:xfrm>
                  <a:off x="3031200" y="2123280"/>
                  <a:ext cx="281520" cy="18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3031200" y="2122920"/>
                  <a:ext cx="282960" cy="114840"/>
                  <a:chOff x="3031200" y="2122920"/>
                  <a:chExt cx="282960" cy="114840"/>
                </a:xfrm>
              </p:grpSpPr>
              <p:sp>
                <p:nvSpPr>
                  <p:cNvPr id="162" name="Line 16"/>
                  <p:cNvSpPr/>
                  <p:nvPr/>
                </p:nvSpPr>
                <p:spPr>
                  <a:xfrm flipV="1">
                    <a:off x="3031200" y="2122920"/>
                    <a:ext cx="28296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 txBox="1"/>
                  <p:nvPr/>
                </p:nvSpPr>
                <p:spPr>
                  <a:xfrm rot="10800000">
                    <a:off x="3031200" y="2122920"/>
                    <a:ext cx="282960" cy="11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Oval 17"/>
                <p:cNvSpPr/>
                <p:nvPr/>
              </p:nvSpPr>
              <p:spPr>
                <a:xfrm>
                  <a:off x="2995200" y="2199240"/>
                  <a:ext cx="70920" cy="74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15"/>
              <p:cNvGrpSpPr/>
              <p:nvPr/>
            </p:nvGrpSpPr>
            <p:grpSpPr>
              <a:xfrm>
                <a:off x="1440000" y="2642760"/>
                <a:ext cx="428400" cy="520560"/>
                <a:chOff x="1440000" y="2642760"/>
                <a:chExt cx="428400" cy="520560"/>
              </a:xfrm>
            </p:grpSpPr>
            <p:sp>
              <p:nvSpPr>
                <p:cNvPr id="166" name="Oval 197"/>
                <p:cNvSpPr/>
                <p:nvPr/>
              </p:nvSpPr>
              <p:spPr>
                <a:xfrm>
                  <a:off x="1470960" y="2716920"/>
                  <a:ext cx="384480" cy="380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198"/>
                <p:cNvSpPr/>
                <p:nvPr/>
              </p:nvSpPr>
              <p:spPr>
                <a:xfrm>
                  <a:off x="1440000" y="2642760"/>
                  <a:ext cx="428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AutoShape 187"/>
              <p:cNvSpPr/>
              <p:nvPr/>
            </p:nvSpPr>
            <p:spPr>
              <a:xfrm>
                <a:off x="2499480" y="3345840"/>
                <a:ext cx="350640" cy="34776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368360" y="3207600"/>
                <a:ext cx="212040" cy="360"/>
                <a:chOff x="1368360" y="3207600"/>
                <a:chExt cx="212040" cy="360"/>
              </a:xfrm>
            </p:grpSpPr>
            <p:sp>
              <p:nvSpPr>
                <p:cNvPr id="170" name="Line 19"/>
                <p:cNvSpPr/>
                <p:nvPr/>
              </p:nvSpPr>
              <p:spPr>
                <a:xfrm>
                  <a:off x="1368360" y="3207600"/>
                  <a:ext cx="212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>
                  <a:off x="1368360" y="3207600"/>
                  <a:ext cx="212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20"/>
              <p:cNvGrpSpPr/>
              <p:nvPr/>
            </p:nvGrpSpPr>
            <p:grpSpPr>
              <a:xfrm>
                <a:off x="1404000" y="2484720"/>
                <a:ext cx="212040" cy="206640"/>
                <a:chOff x="1404000" y="2484720"/>
                <a:chExt cx="212040" cy="20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1404000" y="2588040"/>
                  <a:ext cx="212040" cy="360"/>
                  <a:chOff x="1404000" y="2588040"/>
                  <a:chExt cx="212040" cy="360"/>
                </a:xfrm>
              </p:grpSpPr>
              <p:sp>
                <p:nvSpPr>
                  <p:cNvPr id="174" name="Line 21"/>
                  <p:cNvSpPr/>
                  <p:nvPr/>
                </p:nvSpPr>
                <p:spPr>
                  <a:xfrm>
                    <a:off x="1404000" y="2588040"/>
                    <a:ext cx="212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 txBox="1"/>
                  <p:nvPr/>
                </p:nvSpPr>
                <p:spPr>
                  <a:xfrm>
                    <a:off x="1404000" y="2588040"/>
                    <a:ext cx="212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511280" y="2484720"/>
                  <a:ext cx="360" cy="206640"/>
                  <a:chOff x="1511280" y="2484720"/>
                  <a:chExt cx="360" cy="206640"/>
                </a:xfrm>
              </p:grpSpPr>
              <p:sp>
                <p:nvSpPr>
                  <p:cNvPr id="177" name="Line 22"/>
                  <p:cNvSpPr/>
                  <p:nvPr/>
                </p:nvSpPr>
                <p:spPr>
                  <a:xfrm>
                    <a:off x="1511280" y="2484720"/>
                    <a:ext cx="0" cy="206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 txBox="1"/>
                  <p:nvPr/>
                </p:nvSpPr>
                <p:spPr>
                  <a:xfrm>
                    <a:off x="1511280" y="2484720"/>
                    <a:ext cx="360" cy="20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9" name="Group 23"/>
            <p:cNvGrpSpPr/>
            <p:nvPr/>
          </p:nvGrpSpPr>
          <p:grpSpPr>
            <a:xfrm>
              <a:off x="5045040" y="2071800"/>
              <a:ext cx="2226600" cy="1623240"/>
              <a:chOff x="5045040" y="2071800"/>
              <a:chExt cx="2226600" cy="1623240"/>
            </a:xfrm>
          </p:grpSpPr>
          <p:sp>
            <p:nvSpPr>
              <p:cNvPr id="180" name="Rectangle 102"/>
              <p:cNvSpPr/>
              <p:nvPr/>
            </p:nvSpPr>
            <p:spPr>
              <a:xfrm>
                <a:off x="5292720" y="2244960"/>
                <a:ext cx="1978920" cy="1308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25"/>
              <p:cNvGrpSpPr/>
              <p:nvPr/>
            </p:nvGrpSpPr>
            <p:grpSpPr>
              <a:xfrm>
                <a:off x="6000120" y="2071800"/>
                <a:ext cx="95400" cy="381240"/>
                <a:chOff x="6000120" y="2071800"/>
                <a:chExt cx="95400" cy="381240"/>
              </a:xfrm>
            </p:grpSpPr>
            <p:sp>
              <p:nvSpPr>
                <p:cNvPr id="182" name="Rectangle 23"/>
                <p:cNvSpPr/>
                <p:nvPr/>
              </p:nvSpPr>
              <p:spPr>
                <a:xfrm>
                  <a:off x="6000120" y="2198160"/>
                  <a:ext cx="95040" cy="9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00120" y="2071800"/>
                  <a:ext cx="360" cy="381240"/>
                  <a:chOff x="6000120" y="2071800"/>
                  <a:chExt cx="360" cy="381240"/>
                </a:xfrm>
              </p:grpSpPr>
              <p:sp>
                <p:nvSpPr>
                  <p:cNvPr id="184" name="Line 24"/>
                  <p:cNvSpPr/>
                  <p:nvPr/>
                </p:nvSpPr>
                <p:spPr>
                  <a:xfrm>
                    <a:off x="6000120" y="207180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>
                    <a:off x="6000120" y="2071800"/>
                    <a:ext cx="36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95160" y="2167200"/>
                  <a:ext cx="360" cy="190440"/>
                  <a:chOff x="6095160" y="2167200"/>
                  <a:chExt cx="360" cy="190440"/>
                </a:xfrm>
              </p:grpSpPr>
              <p:sp>
                <p:nvSpPr>
                  <p:cNvPr id="187" name="Line 25"/>
                  <p:cNvSpPr/>
                  <p:nvPr/>
                </p:nvSpPr>
                <p:spPr>
                  <a:xfrm>
                    <a:off x="6095160" y="2167200"/>
                    <a:ext cx="0" cy="190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 txBox="1"/>
                  <p:nvPr/>
                </p:nvSpPr>
                <p:spPr>
                  <a:xfrm>
                    <a:off x="6095160" y="2167200"/>
                    <a:ext cx="360" cy="1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" name="Group 29"/>
              <p:cNvGrpSpPr/>
              <p:nvPr/>
            </p:nvGrpSpPr>
            <p:grpSpPr>
              <a:xfrm>
                <a:off x="6635880" y="2124360"/>
                <a:ext cx="318960" cy="190440"/>
                <a:chOff x="6635880" y="2124360"/>
                <a:chExt cx="318960" cy="190440"/>
              </a:xfrm>
            </p:grpSpPr>
            <p:sp>
              <p:nvSpPr>
                <p:cNvPr id="190" name="Rectangle 15"/>
                <p:cNvSpPr/>
                <p:nvPr/>
              </p:nvSpPr>
              <p:spPr>
                <a:xfrm>
                  <a:off x="6671880" y="2124720"/>
                  <a:ext cx="281520" cy="190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6671880" y="2124360"/>
                  <a:ext cx="282960" cy="114840"/>
                  <a:chOff x="6671880" y="2124360"/>
                  <a:chExt cx="282960" cy="114840"/>
                </a:xfrm>
              </p:grpSpPr>
              <p:sp>
                <p:nvSpPr>
                  <p:cNvPr id="192" name="Line 16"/>
                  <p:cNvSpPr/>
                  <p:nvPr/>
                </p:nvSpPr>
                <p:spPr>
                  <a:xfrm flipV="1">
                    <a:off x="6671880" y="2124360"/>
                    <a:ext cx="28296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671880" y="2124360"/>
                    <a:ext cx="282960" cy="11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Oval 17"/>
                <p:cNvSpPr/>
                <p:nvPr/>
              </p:nvSpPr>
              <p:spPr>
                <a:xfrm>
                  <a:off x="6635880" y="2200680"/>
                  <a:ext cx="70920" cy="748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33"/>
              <p:cNvGrpSpPr/>
              <p:nvPr/>
            </p:nvGrpSpPr>
            <p:grpSpPr>
              <a:xfrm>
                <a:off x="5080680" y="2644200"/>
                <a:ext cx="428400" cy="520560"/>
                <a:chOff x="5080680" y="2644200"/>
                <a:chExt cx="428400" cy="520560"/>
              </a:xfrm>
            </p:grpSpPr>
            <p:sp>
              <p:nvSpPr>
                <p:cNvPr id="196" name="Oval 197"/>
                <p:cNvSpPr/>
                <p:nvPr/>
              </p:nvSpPr>
              <p:spPr>
                <a:xfrm>
                  <a:off x="5111640" y="2718360"/>
                  <a:ext cx="384480" cy="3812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98"/>
                <p:cNvSpPr/>
                <p:nvPr/>
              </p:nvSpPr>
              <p:spPr>
                <a:xfrm>
                  <a:off x="5080680" y="2644200"/>
                  <a:ext cx="428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187"/>
              <p:cNvSpPr/>
              <p:nvPr/>
            </p:nvSpPr>
            <p:spPr>
              <a:xfrm>
                <a:off x="6140520" y="3347280"/>
                <a:ext cx="350280" cy="347760"/>
              </a:xfrm>
              <a:prstGeom prst="flowChartSummingJunction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045040" y="2589480"/>
                <a:ext cx="212040" cy="360"/>
                <a:chOff x="5045040" y="2589480"/>
                <a:chExt cx="212040" cy="360"/>
              </a:xfrm>
            </p:grpSpPr>
            <p:sp>
              <p:nvSpPr>
                <p:cNvPr id="200" name="Line 37"/>
                <p:cNvSpPr/>
                <p:nvPr/>
              </p:nvSpPr>
              <p:spPr>
                <a:xfrm>
                  <a:off x="5045040" y="2589480"/>
                  <a:ext cx="212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5045040" y="2589480"/>
                  <a:ext cx="212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8"/>
              <p:cNvGrpSpPr/>
              <p:nvPr/>
            </p:nvGrpSpPr>
            <p:grpSpPr>
              <a:xfrm>
                <a:off x="5045040" y="3106080"/>
                <a:ext cx="212040" cy="206640"/>
                <a:chOff x="5045040" y="3106080"/>
                <a:chExt cx="212040" cy="20664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045040" y="3209400"/>
                  <a:ext cx="212040" cy="360"/>
                  <a:chOff x="5045040" y="3209400"/>
                  <a:chExt cx="212040" cy="360"/>
                </a:xfrm>
              </p:grpSpPr>
              <p:sp>
                <p:nvSpPr>
                  <p:cNvPr id="204" name="Line 39"/>
                  <p:cNvSpPr/>
                  <p:nvPr/>
                </p:nvSpPr>
                <p:spPr>
                  <a:xfrm>
                    <a:off x="5045040" y="3209400"/>
                    <a:ext cx="212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 txBox="1"/>
                  <p:nvPr/>
                </p:nvSpPr>
                <p:spPr>
                  <a:xfrm>
                    <a:off x="5045040" y="3209400"/>
                    <a:ext cx="212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5152320" y="3106080"/>
                  <a:ext cx="360" cy="206640"/>
                  <a:chOff x="5152320" y="3106080"/>
                  <a:chExt cx="360" cy="206640"/>
                </a:xfrm>
              </p:grpSpPr>
              <p:sp>
                <p:nvSpPr>
                  <p:cNvPr id="207" name="Line 40"/>
                  <p:cNvSpPr/>
                  <p:nvPr/>
                </p:nvSpPr>
                <p:spPr>
                  <a:xfrm>
                    <a:off x="5152320" y="3106080"/>
                    <a:ext cx="0" cy="206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 txBox="1"/>
                  <p:nvPr/>
                </p:nvSpPr>
                <p:spPr>
                  <a:xfrm>
                    <a:off x="5152320" y="3106080"/>
                    <a:ext cx="360" cy="20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Text Box 41"/>
            <p:cNvSpPr/>
            <p:nvPr/>
          </p:nvSpPr>
          <p:spPr>
            <a:xfrm>
              <a:off x="2325600" y="3701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2"/>
            <p:cNvSpPr/>
            <p:nvPr/>
          </p:nvSpPr>
          <p:spPr>
            <a:xfrm>
              <a:off x="6108480" y="3692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43"/>
          <p:cNvGrpSpPr/>
          <p:nvPr/>
        </p:nvGrpSpPr>
        <p:grpSpPr>
          <a:xfrm>
            <a:off x="1547640" y="4400640"/>
            <a:ext cx="5732280" cy="2177640"/>
            <a:chOff x="1547640" y="4400640"/>
            <a:chExt cx="5732280" cy="2177640"/>
          </a:xfrm>
        </p:grpSpPr>
        <p:grpSp>
          <p:nvGrpSpPr>
            <p:cNvPr id="212" name="Group 44"/>
            <p:cNvGrpSpPr/>
            <p:nvPr/>
          </p:nvGrpSpPr>
          <p:grpSpPr>
            <a:xfrm>
              <a:off x="1547640" y="4400640"/>
              <a:ext cx="5732280" cy="2177640"/>
              <a:chOff x="1547640" y="4400640"/>
              <a:chExt cx="5732280" cy="2177640"/>
            </a:xfrm>
          </p:grpSpPr>
          <p:grpSp>
            <p:nvGrpSpPr>
              <p:cNvPr id="213" name="Group 45"/>
              <p:cNvGrpSpPr/>
              <p:nvPr/>
            </p:nvGrpSpPr>
            <p:grpSpPr>
              <a:xfrm>
                <a:off x="1547640" y="4439880"/>
                <a:ext cx="2062080" cy="1640880"/>
                <a:chOff x="1547640" y="4439880"/>
                <a:chExt cx="2062080" cy="1640880"/>
              </a:xfrm>
            </p:grpSpPr>
            <p:sp>
              <p:nvSpPr>
                <p:cNvPr id="214" name="Rectangle 102"/>
                <p:cNvSpPr/>
                <p:nvPr/>
              </p:nvSpPr>
              <p:spPr>
                <a:xfrm>
                  <a:off x="1547640" y="4645800"/>
                  <a:ext cx="2062080" cy="12621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Group 47"/>
                <p:cNvGrpSpPr/>
                <p:nvPr/>
              </p:nvGrpSpPr>
              <p:grpSpPr>
                <a:xfrm>
                  <a:off x="2259000" y="4439880"/>
                  <a:ext cx="95760" cy="377640"/>
                  <a:chOff x="2259000" y="4439880"/>
                  <a:chExt cx="95760" cy="377640"/>
                </a:xfrm>
              </p:grpSpPr>
              <p:sp>
                <p:nvSpPr>
                  <p:cNvPr id="216" name="Rectangle 23"/>
                  <p:cNvSpPr/>
                  <p:nvPr/>
                </p:nvSpPr>
                <p:spPr>
                  <a:xfrm>
                    <a:off x="2259000" y="4565160"/>
                    <a:ext cx="9540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2259000" y="4439880"/>
                    <a:ext cx="360" cy="377640"/>
                    <a:chOff x="2259000" y="4439880"/>
                    <a:chExt cx="360" cy="377640"/>
                  </a:xfrm>
                </p:grpSpPr>
                <p:sp>
                  <p:nvSpPr>
                    <p:cNvPr id="218" name="Line 24"/>
                    <p:cNvSpPr/>
                    <p:nvPr/>
                  </p:nvSpPr>
                  <p:spPr>
                    <a:xfrm>
                      <a:off x="2259000" y="4439880"/>
                      <a:ext cx="0" cy="3776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 txBox="1"/>
                    <p:nvPr/>
                  </p:nvSpPr>
                  <p:spPr>
                    <a:xfrm>
                      <a:off x="2259000" y="4439880"/>
                      <a:ext cx="360" cy="37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2354400" y="4534200"/>
                    <a:ext cx="360" cy="188640"/>
                    <a:chOff x="2354400" y="4534200"/>
                    <a:chExt cx="360" cy="188640"/>
                  </a:xfrm>
                </p:grpSpPr>
                <p:sp>
                  <p:nvSpPr>
                    <p:cNvPr id="221" name="Line 25"/>
                    <p:cNvSpPr/>
                    <p:nvPr/>
                  </p:nvSpPr>
                  <p:spPr>
                    <a:xfrm>
                      <a:off x="2354400" y="4534200"/>
                      <a:ext cx="0" cy="18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 txBox="1"/>
                    <p:nvPr/>
                  </p:nvSpPr>
                  <p:spPr>
                    <a:xfrm>
                      <a:off x="2354400" y="4534200"/>
                      <a:ext cx="360" cy="18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3" name="Group 51"/>
                <p:cNvGrpSpPr/>
                <p:nvPr/>
              </p:nvGrpSpPr>
              <p:grpSpPr>
                <a:xfrm>
                  <a:off x="2934360" y="4543560"/>
                  <a:ext cx="321120" cy="187920"/>
                  <a:chOff x="2934360" y="4543560"/>
                  <a:chExt cx="321120" cy="187920"/>
                </a:xfrm>
              </p:grpSpPr>
              <p:sp>
                <p:nvSpPr>
                  <p:cNvPr id="224" name="Rectangle 15"/>
                  <p:cNvSpPr/>
                  <p:nvPr/>
                </p:nvSpPr>
                <p:spPr>
                  <a:xfrm>
                    <a:off x="2970720" y="4543560"/>
                    <a:ext cx="2833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970360" y="4543560"/>
                    <a:ext cx="285120" cy="113760"/>
                    <a:chOff x="2970360" y="4543560"/>
                    <a:chExt cx="285120" cy="113760"/>
                  </a:xfrm>
                </p:grpSpPr>
                <p:sp>
                  <p:nvSpPr>
                    <p:cNvPr id="226" name="Line 16"/>
                    <p:cNvSpPr/>
                    <p:nvPr/>
                  </p:nvSpPr>
                  <p:spPr>
                    <a:xfrm flipV="1">
                      <a:off x="2970720" y="4543560"/>
                      <a:ext cx="284760" cy="113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 txBox="1"/>
                    <p:nvPr/>
                  </p:nvSpPr>
                  <p:spPr>
                    <a:xfrm rot="10800000">
                      <a:off x="2970360" y="4543560"/>
                      <a:ext cx="2847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" name="Oval 17"/>
                  <p:cNvSpPr/>
                  <p:nvPr/>
                </p:nvSpPr>
                <p:spPr>
                  <a:xfrm>
                    <a:off x="2934360" y="4618800"/>
                    <a:ext cx="712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547640" y="5292720"/>
                  <a:ext cx="2062080" cy="360"/>
                  <a:chOff x="1547640" y="5292720"/>
                  <a:chExt cx="2062080" cy="360"/>
                </a:xfrm>
              </p:grpSpPr>
              <p:sp>
                <p:nvSpPr>
                  <p:cNvPr id="230" name="Line 51"/>
                  <p:cNvSpPr/>
                  <p:nvPr/>
                </p:nvSpPr>
                <p:spPr>
                  <a:xfrm>
                    <a:off x="1547640" y="5292720"/>
                    <a:ext cx="2062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 txBox="1"/>
                  <p:nvPr/>
                </p:nvSpPr>
                <p:spPr>
                  <a:xfrm>
                    <a:off x="1547640" y="5292720"/>
                    <a:ext cx="2062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AutoShape 187"/>
                <p:cNvSpPr/>
                <p:nvPr/>
              </p:nvSpPr>
              <p:spPr>
                <a:xfrm>
                  <a:off x="2329200" y="5736240"/>
                  <a:ext cx="352800" cy="34452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2755800" y="5157000"/>
                  <a:ext cx="213120" cy="360"/>
                  <a:chOff x="2755800" y="5157000"/>
                  <a:chExt cx="213120" cy="360"/>
                </a:xfrm>
              </p:grpSpPr>
              <p:sp>
                <p:nvSpPr>
                  <p:cNvPr id="234" name="Line 57"/>
                  <p:cNvSpPr/>
                  <p:nvPr/>
                </p:nvSpPr>
                <p:spPr>
                  <a:xfrm>
                    <a:off x="2755800" y="5157000"/>
                    <a:ext cx="2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 txBox="1"/>
                  <p:nvPr/>
                </p:nvSpPr>
                <p:spPr>
                  <a:xfrm>
                    <a:off x="2755800" y="5157000"/>
                    <a:ext cx="213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58"/>
                <p:cNvGrpSpPr/>
                <p:nvPr/>
              </p:nvGrpSpPr>
              <p:grpSpPr>
                <a:xfrm>
                  <a:off x="2080080" y="5055120"/>
                  <a:ext cx="213120" cy="204120"/>
                  <a:chOff x="2080080" y="5055120"/>
                  <a:chExt cx="213120" cy="204120"/>
                </a:xfrm>
              </p:grpSpPr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2080080" y="5157000"/>
                    <a:ext cx="213120" cy="360"/>
                    <a:chOff x="2080080" y="5157000"/>
                    <a:chExt cx="213120" cy="360"/>
                  </a:xfrm>
                </p:grpSpPr>
                <p:sp>
                  <p:nvSpPr>
                    <p:cNvPr id="238" name="Line 59"/>
                    <p:cNvSpPr/>
                    <p:nvPr/>
                  </p:nvSpPr>
                  <p:spPr>
                    <a:xfrm>
                      <a:off x="2080080" y="5157000"/>
                      <a:ext cx="2131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080080" y="5157000"/>
                      <a:ext cx="213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187720" y="5055120"/>
                    <a:ext cx="360" cy="204120"/>
                    <a:chOff x="2187720" y="5055120"/>
                    <a:chExt cx="360" cy="204120"/>
                  </a:xfrm>
                </p:grpSpPr>
                <p:sp>
                  <p:nvSpPr>
                    <p:cNvPr id="241" name="Line 60"/>
                    <p:cNvSpPr/>
                    <p:nvPr/>
                  </p:nvSpPr>
                  <p:spPr>
                    <a:xfrm>
                      <a:off x="2187720" y="5055120"/>
                      <a:ext cx="0" cy="204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 txBox="1"/>
                    <p:nvPr/>
                  </p:nvSpPr>
                  <p:spPr>
                    <a:xfrm>
                      <a:off x="2187720" y="5055120"/>
                      <a:ext cx="360" cy="204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3" name="Group 61"/>
                <p:cNvGrpSpPr/>
                <p:nvPr/>
              </p:nvGrpSpPr>
              <p:grpSpPr>
                <a:xfrm>
                  <a:off x="2294640" y="5020200"/>
                  <a:ext cx="430920" cy="520560"/>
                  <a:chOff x="2294640" y="5020200"/>
                  <a:chExt cx="430920" cy="520560"/>
                </a:xfrm>
              </p:grpSpPr>
              <p:sp>
                <p:nvSpPr>
                  <p:cNvPr id="244" name="Oval 197"/>
                  <p:cNvSpPr/>
                  <p:nvPr/>
                </p:nvSpPr>
                <p:spPr>
                  <a:xfrm>
                    <a:off x="2325600" y="5093640"/>
                    <a:ext cx="386640" cy="377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Text Box 198"/>
                  <p:cNvSpPr/>
                  <p:nvPr/>
                </p:nvSpPr>
                <p:spPr>
                  <a:xfrm>
                    <a:off x="2294640" y="5020200"/>
                    <a:ext cx="430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64"/>
              <p:cNvGrpSpPr/>
              <p:nvPr/>
            </p:nvGrpSpPr>
            <p:grpSpPr>
              <a:xfrm>
                <a:off x="5040000" y="4400640"/>
                <a:ext cx="2239920" cy="1635840"/>
                <a:chOff x="5040000" y="4400640"/>
                <a:chExt cx="2239920" cy="1635840"/>
              </a:xfrm>
            </p:grpSpPr>
            <p:sp>
              <p:nvSpPr>
                <p:cNvPr id="247" name="Rectangle 102"/>
                <p:cNvSpPr/>
                <p:nvPr/>
              </p:nvSpPr>
              <p:spPr>
                <a:xfrm>
                  <a:off x="5289120" y="4572000"/>
                  <a:ext cx="1990800" cy="129600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6"/>
                <p:cNvGrpSpPr/>
                <p:nvPr/>
              </p:nvGrpSpPr>
              <p:grpSpPr>
                <a:xfrm>
                  <a:off x="5998680" y="4400640"/>
                  <a:ext cx="95760" cy="377280"/>
                  <a:chOff x="5998680" y="4400640"/>
                  <a:chExt cx="95760" cy="377280"/>
                </a:xfrm>
              </p:grpSpPr>
              <p:sp>
                <p:nvSpPr>
                  <p:cNvPr id="249" name="Rectangle 23"/>
                  <p:cNvSpPr/>
                  <p:nvPr/>
                </p:nvSpPr>
                <p:spPr>
                  <a:xfrm flipH="1">
                    <a:off x="5998680" y="4525920"/>
                    <a:ext cx="9540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6094080" y="4400640"/>
                    <a:ext cx="360" cy="377280"/>
                    <a:chOff x="6094080" y="4400640"/>
                    <a:chExt cx="360" cy="377280"/>
                  </a:xfrm>
                </p:grpSpPr>
                <p:sp>
                  <p:nvSpPr>
                    <p:cNvPr id="251" name="Line 24"/>
                    <p:cNvSpPr/>
                    <p:nvPr/>
                  </p:nvSpPr>
                  <p:spPr>
                    <a:xfrm>
                      <a:off x="6094440" y="4400640"/>
                      <a:ext cx="0" cy="377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 txBox="1"/>
                    <p:nvPr/>
                  </p:nvSpPr>
                  <p:spPr>
                    <a:xfrm>
                      <a:off x="6094080" y="4400640"/>
                      <a:ext cx="360" cy="377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5998680" y="4494960"/>
                    <a:ext cx="360" cy="188280"/>
                    <a:chOff x="5998680" y="4494960"/>
                    <a:chExt cx="360" cy="188280"/>
                  </a:xfrm>
                </p:grpSpPr>
                <p:sp>
                  <p:nvSpPr>
                    <p:cNvPr id="254" name="Line 25"/>
                    <p:cNvSpPr/>
                    <p:nvPr/>
                  </p:nvSpPr>
                  <p:spPr>
                    <a:xfrm>
                      <a:off x="5999040" y="4494960"/>
                      <a:ext cx="0" cy="188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 txBox="1"/>
                    <p:nvPr/>
                  </p:nvSpPr>
                  <p:spPr>
                    <a:xfrm>
                      <a:off x="5998680" y="4494960"/>
                      <a:ext cx="360" cy="18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Group 70"/>
                <p:cNvGrpSpPr/>
                <p:nvPr/>
              </p:nvGrpSpPr>
              <p:grpSpPr>
                <a:xfrm>
                  <a:off x="6640560" y="4452840"/>
                  <a:ext cx="321120" cy="187920"/>
                  <a:chOff x="6640560" y="4452840"/>
                  <a:chExt cx="321120" cy="187920"/>
                </a:xfrm>
              </p:grpSpPr>
              <p:sp>
                <p:nvSpPr>
                  <p:cNvPr id="257" name="Rectangle 15"/>
                  <p:cNvSpPr/>
                  <p:nvPr/>
                </p:nvSpPr>
                <p:spPr>
                  <a:xfrm>
                    <a:off x="6676920" y="4452840"/>
                    <a:ext cx="283320" cy="18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6676560" y="4452840"/>
                    <a:ext cx="285120" cy="113760"/>
                    <a:chOff x="6676560" y="4452840"/>
                    <a:chExt cx="285120" cy="113760"/>
                  </a:xfrm>
                </p:grpSpPr>
                <p:sp>
                  <p:nvSpPr>
                    <p:cNvPr id="259" name="Line 16"/>
                    <p:cNvSpPr/>
                    <p:nvPr/>
                  </p:nvSpPr>
                  <p:spPr>
                    <a:xfrm flipV="1">
                      <a:off x="6676920" y="4452840"/>
                      <a:ext cx="284760" cy="113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 txBox="1"/>
                    <p:nvPr/>
                  </p:nvSpPr>
                  <p:spPr>
                    <a:xfrm rot="10800000">
                      <a:off x="6676560" y="4452840"/>
                      <a:ext cx="284760" cy="113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" name="Oval 17"/>
                  <p:cNvSpPr/>
                  <p:nvPr/>
                </p:nvSpPr>
                <p:spPr>
                  <a:xfrm>
                    <a:off x="6640560" y="4528080"/>
                    <a:ext cx="71280" cy="7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74"/>
                <p:cNvGrpSpPr/>
                <p:nvPr/>
              </p:nvGrpSpPr>
              <p:grpSpPr>
                <a:xfrm>
                  <a:off x="5075640" y="4967280"/>
                  <a:ext cx="430920" cy="520560"/>
                  <a:chOff x="5075640" y="4967280"/>
                  <a:chExt cx="430920" cy="520560"/>
                </a:xfrm>
              </p:grpSpPr>
              <p:sp>
                <p:nvSpPr>
                  <p:cNvPr id="263" name="Oval 197"/>
                  <p:cNvSpPr/>
                  <p:nvPr/>
                </p:nvSpPr>
                <p:spPr>
                  <a:xfrm>
                    <a:off x="5106600" y="5040720"/>
                    <a:ext cx="386640" cy="377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Text Box 198"/>
                  <p:cNvSpPr/>
                  <p:nvPr/>
                </p:nvSpPr>
                <p:spPr>
                  <a:xfrm>
                    <a:off x="5075640" y="4967280"/>
                    <a:ext cx="430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AutoShape 187"/>
                <p:cNvSpPr/>
                <p:nvPr/>
              </p:nvSpPr>
              <p:spPr>
                <a:xfrm>
                  <a:off x="5786280" y="5692320"/>
                  <a:ext cx="352440" cy="34416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5040000" y="5492160"/>
                  <a:ext cx="213120" cy="360"/>
                  <a:chOff x="5040000" y="5492160"/>
                  <a:chExt cx="213120" cy="360"/>
                </a:xfrm>
              </p:grpSpPr>
              <p:sp>
                <p:nvSpPr>
                  <p:cNvPr id="267" name="Line 78"/>
                  <p:cNvSpPr/>
                  <p:nvPr/>
                </p:nvSpPr>
                <p:spPr>
                  <a:xfrm>
                    <a:off x="5040000" y="5492160"/>
                    <a:ext cx="2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>
                    <a:off x="5040000" y="5492160"/>
                    <a:ext cx="213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79"/>
                <p:cNvGrpSpPr/>
                <p:nvPr/>
              </p:nvGrpSpPr>
              <p:grpSpPr>
                <a:xfrm>
                  <a:off x="5040000" y="4811040"/>
                  <a:ext cx="213120" cy="204480"/>
                  <a:chOff x="5040000" y="4811040"/>
                  <a:chExt cx="213120" cy="204480"/>
                </a:xfrm>
              </p:grpSpPr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040000" y="4913280"/>
                    <a:ext cx="213120" cy="360"/>
                    <a:chOff x="5040000" y="4913280"/>
                    <a:chExt cx="213120" cy="360"/>
                  </a:xfrm>
                </p:grpSpPr>
                <p:sp>
                  <p:nvSpPr>
                    <p:cNvPr id="271" name="Line 80"/>
                    <p:cNvSpPr/>
                    <p:nvPr/>
                  </p:nvSpPr>
                  <p:spPr>
                    <a:xfrm>
                      <a:off x="5040000" y="4913280"/>
                      <a:ext cx="2131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 txBox="1"/>
                    <p:nvPr/>
                  </p:nvSpPr>
                  <p:spPr>
                    <a:xfrm>
                      <a:off x="5040000" y="4913280"/>
                      <a:ext cx="213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147640" y="4811040"/>
                    <a:ext cx="360" cy="204480"/>
                    <a:chOff x="5147640" y="4811040"/>
                    <a:chExt cx="360" cy="204480"/>
                  </a:xfrm>
                </p:grpSpPr>
                <p:sp>
                  <p:nvSpPr>
                    <p:cNvPr id="274" name="Line 81"/>
                    <p:cNvSpPr/>
                    <p:nvPr/>
                  </p:nvSpPr>
                  <p:spPr>
                    <a:xfrm>
                      <a:off x="5147640" y="4811040"/>
                      <a:ext cx="0" cy="204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 txBox="1"/>
                    <p:nvPr/>
                  </p:nvSpPr>
                  <p:spPr>
                    <a:xfrm>
                      <a:off x="5147640" y="4811040"/>
                      <a:ext cx="360" cy="204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6" name="AutoShape 187"/>
                <p:cNvSpPr/>
                <p:nvPr/>
              </p:nvSpPr>
              <p:spPr>
                <a:xfrm>
                  <a:off x="6532560" y="5662080"/>
                  <a:ext cx="352440" cy="34416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Text Box 83"/>
              <p:cNvSpPr/>
              <p:nvPr/>
            </p:nvSpPr>
            <p:spPr>
              <a:xfrm>
                <a:off x="2296080" y="6057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84"/>
            <p:cNvSpPr/>
            <p:nvPr/>
          </p:nvSpPr>
          <p:spPr>
            <a:xfrm>
              <a:off x="6229800" y="6000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89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81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91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8"/>
          <p:cNvSpPr/>
          <p:nvPr/>
        </p:nvSpPr>
        <p:spPr>
          <a:xfrm>
            <a:off x="431640" y="749160"/>
            <a:ext cx="378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流表的读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431640" y="1268280"/>
            <a:ext cx="7991640" cy="180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明确所选电流表的量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确定电流表的分度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由指针位置读出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792000" y="3321000"/>
            <a:ext cx="3002040" cy="316872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4067280" y="4041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~0.6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067280" y="46162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~3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6227640" y="4041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2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6229440" y="4616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4285800" y="3522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6373800" y="352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度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8200"/>
          <p:cNvSpPr/>
          <p:nvPr/>
        </p:nvSpPr>
        <p:spPr>
          <a:xfrm>
            <a:off x="2133720" y="414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8"/>
          <p:cNvSpPr/>
          <p:nvPr/>
        </p:nvSpPr>
        <p:spPr>
          <a:xfrm>
            <a:off x="431640" y="1268280"/>
            <a:ext cx="568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请读出下列电流表的示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1"/>
          <a:stretch/>
        </p:blipFill>
        <p:spPr>
          <a:xfrm>
            <a:off x="1366920" y="2239920"/>
            <a:ext cx="3120840" cy="3781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15-4-7丙"/>
          <p:cNvPicPr/>
          <p:nvPr/>
        </p:nvPicPr>
        <p:blipFill>
          <a:blip r:embed="rId2"/>
          <a:stretch/>
        </p:blipFill>
        <p:spPr>
          <a:xfrm>
            <a:off x="5146560" y="2203560"/>
            <a:ext cx="3294000" cy="3960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8"/>
          <p:cNvSpPr/>
          <p:nvPr/>
        </p:nvSpPr>
        <p:spPr>
          <a:xfrm>
            <a:off x="2266560" y="6048360"/>
            <a:ext cx="12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58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6227640" y="604836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.4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1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300" name="圆角矩形 1" descr=""/>
            <p:cNvPicPr/>
            <p:nvPr/>
          </p:nvPicPr>
          <p:blipFill>
            <a:blip r:embed="rId3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3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33Z</dcterms:modified>
  <cp:revision>4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