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98E-58D3-4BB5-B41D-4638CEE2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035-0491-449B-A944-F5229633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FCA-134E-4DD2-A9E0-9260987D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728-0801-469E-84D1-57A69E62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B3B9-8AF3-4B0B-ACF7-1517CF1A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EF64-CB23-40E4-A2B2-AED755F0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1B6F-6711-44E2-89AD-BF971F62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D3CC-0EA6-494D-BF51-0CB6585F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71DD-0D47-4DA4-940B-44282D63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F8C4-E50D-4E01-B1F2-12A2DC7E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CDE8-B3C3-4689-87DA-32FBE1F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25C-D1DB-4D0B-86AE-BCABEEDC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914D-F706-4740-8BEE-0FFBBAE9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A124-42D4-408A-B2E7-D6B29EFB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8A6F-6A83-47A8-9B14-9DD8497C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2B33-D0A1-42F4-8F5E-86CCC2D0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D08F-78B9-4342-8EFE-8EAAFE0A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9A0-7AF6-492C-937D-F53FA03D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EF1-4E1A-46F4-90D5-731C213A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070-51C7-4CD3-B882-0E0E20BD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5A0-9BDB-4955-8E02-CAFA69B7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C40-0AAF-42AA-B01A-AE428643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DEB-A751-4008-811B-B2D00DF6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C3A-2F27-4BB1-BA19-7349BDB6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9047-25F6-42C4-8AFA-B60C3A202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75FE-BD55-4A22-BEC4-8A63667E1D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&#36890;&#36335;.avi" TargetMode="External"/><Relationship Id="rId2" Type="http://schemas.openxmlformats.org/officeDocument/2006/relationships/hyperlink" Target="&#30701;&#36335;.avi" TargetMode="External"/><Relationship Id="rId3" Type="http://schemas.openxmlformats.org/officeDocument/2006/relationships/hyperlink" Target="&#26029;&#36335;&#21644;&#36890;&#36335;&#30340;&#28436;&#31034;.asf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矩形 1" descr=""/>
          <p:cNvPicPr/>
          <p:nvPr/>
        </p:nvPicPr>
        <p:blipFill>
          <a:blip r:embed="rId2"/>
          <a:stretch/>
        </p:blipFill>
        <p:spPr>
          <a:xfrm>
            <a:off x="1247760" y="1123920"/>
            <a:ext cx="6730920" cy="7016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3503520" cy="29480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6" name="Group 4"/>
          <p:cNvGrpSpPr/>
          <p:nvPr/>
        </p:nvGrpSpPr>
        <p:grpSpPr>
          <a:xfrm>
            <a:off x="250920" y="1268280"/>
            <a:ext cx="8713800" cy="1368720"/>
            <a:chOff x="250920" y="1268280"/>
            <a:chExt cx="8713800" cy="1368720"/>
          </a:xfrm>
        </p:grpSpPr>
        <p:sp>
          <p:nvSpPr>
            <p:cNvPr id="1437" name="Rectangle 5"/>
            <p:cNvSpPr/>
            <p:nvPr/>
          </p:nvSpPr>
          <p:spPr>
            <a:xfrm>
              <a:off x="250920" y="1268280"/>
              <a:ext cx="8713800" cy="1368720"/>
            </a:xfrm>
            <a:prstGeom prst="rect">
              <a:avLst/>
            </a:prstGeom>
            <a:solidFill>
              <a:srgbClr val="eefe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Group 6"/>
            <p:cNvGrpSpPr/>
            <p:nvPr/>
          </p:nvGrpSpPr>
          <p:grpSpPr>
            <a:xfrm>
              <a:off x="826920" y="1977480"/>
              <a:ext cx="142920" cy="101520"/>
              <a:chOff x="826920" y="1977480"/>
              <a:chExt cx="142920" cy="101520"/>
            </a:xfrm>
          </p:grpSpPr>
          <p:sp>
            <p:nvSpPr>
              <p:cNvPr id="1439" name="Oval 7"/>
              <p:cNvSpPr/>
              <p:nvPr/>
            </p:nvSpPr>
            <p:spPr>
              <a:xfrm>
                <a:off x="826920" y="197748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"/>
              <p:cNvGrpSpPr/>
              <p:nvPr/>
            </p:nvGrpSpPr>
            <p:grpSpPr>
              <a:xfrm>
                <a:off x="826920" y="2027520"/>
                <a:ext cx="142920" cy="360"/>
                <a:chOff x="826920" y="2027520"/>
                <a:chExt cx="142920" cy="360"/>
              </a:xfrm>
            </p:grpSpPr>
            <p:sp>
              <p:nvSpPr>
                <p:cNvPr id="1441" name="Line 8"/>
                <p:cNvSpPr/>
                <p:nvPr/>
              </p:nvSpPr>
              <p:spPr>
                <a:xfrm>
                  <a:off x="826920" y="20275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 txBox="1"/>
                <p:nvPr/>
              </p:nvSpPr>
              <p:spPr>
                <a:xfrm>
                  <a:off x="826920" y="20275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3" name="Group 9"/>
            <p:cNvGrpSpPr/>
            <p:nvPr/>
          </p:nvGrpSpPr>
          <p:grpSpPr>
            <a:xfrm>
              <a:off x="1763640" y="2079360"/>
              <a:ext cx="142920" cy="101520"/>
              <a:chOff x="1763640" y="2079360"/>
              <a:chExt cx="142920" cy="101520"/>
            </a:xfrm>
          </p:grpSpPr>
          <p:sp>
            <p:nvSpPr>
              <p:cNvPr id="1444" name="Oval 10"/>
              <p:cNvSpPr/>
              <p:nvPr/>
            </p:nvSpPr>
            <p:spPr>
              <a:xfrm>
                <a:off x="1763640" y="207936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5" name=""/>
              <p:cNvGrpSpPr/>
              <p:nvPr/>
            </p:nvGrpSpPr>
            <p:grpSpPr>
              <a:xfrm>
                <a:off x="1763640" y="2129400"/>
                <a:ext cx="142920" cy="360"/>
                <a:chOff x="1763640" y="2129400"/>
                <a:chExt cx="142920" cy="360"/>
              </a:xfrm>
            </p:grpSpPr>
            <p:sp>
              <p:nvSpPr>
                <p:cNvPr id="1446" name="Line 11"/>
                <p:cNvSpPr/>
                <p:nvPr/>
              </p:nvSpPr>
              <p:spPr>
                <a:xfrm>
                  <a:off x="1763640" y="21294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 txBox="1"/>
                <p:nvPr/>
              </p:nvSpPr>
              <p:spPr>
                <a:xfrm>
                  <a:off x="1763640" y="21294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8" name="Group 12"/>
            <p:cNvGrpSpPr/>
            <p:nvPr/>
          </p:nvGrpSpPr>
          <p:grpSpPr>
            <a:xfrm>
              <a:off x="1763640" y="1825560"/>
              <a:ext cx="142920" cy="101520"/>
              <a:chOff x="1763640" y="1825560"/>
              <a:chExt cx="142920" cy="101520"/>
            </a:xfrm>
          </p:grpSpPr>
          <p:sp>
            <p:nvSpPr>
              <p:cNvPr id="1449" name="Oval 13"/>
              <p:cNvSpPr/>
              <p:nvPr/>
            </p:nvSpPr>
            <p:spPr>
              <a:xfrm>
                <a:off x="1763640" y="182556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1763640" y="1875600"/>
                <a:ext cx="142920" cy="360"/>
                <a:chOff x="1763640" y="1875600"/>
                <a:chExt cx="142920" cy="360"/>
              </a:xfrm>
            </p:grpSpPr>
            <p:sp>
              <p:nvSpPr>
                <p:cNvPr id="1451" name="Line 14"/>
                <p:cNvSpPr/>
                <p:nvPr/>
              </p:nvSpPr>
              <p:spPr>
                <a:xfrm>
                  <a:off x="1763640" y="18756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 txBox="1"/>
                <p:nvPr/>
              </p:nvSpPr>
              <p:spPr>
                <a:xfrm>
                  <a:off x="1763640" y="18756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3" name="Group 15"/>
            <p:cNvGrpSpPr/>
            <p:nvPr/>
          </p:nvGrpSpPr>
          <p:grpSpPr>
            <a:xfrm>
              <a:off x="1979640" y="1470240"/>
              <a:ext cx="142920" cy="101520"/>
              <a:chOff x="1979640" y="1470240"/>
              <a:chExt cx="142920" cy="101520"/>
            </a:xfrm>
          </p:grpSpPr>
          <p:sp>
            <p:nvSpPr>
              <p:cNvPr id="1454" name="Oval 16"/>
              <p:cNvSpPr/>
              <p:nvPr/>
            </p:nvSpPr>
            <p:spPr>
              <a:xfrm>
                <a:off x="1979640" y="147024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5" name=""/>
              <p:cNvGrpSpPr/>
              <p:nvPr/>
            </p:nvGrpSpPr>
            <p:grpSpPr>
              <a:xfrm>
                <a:off x="1979640" y="1520280"/>
                <a:ext cx="142920" cy="360"/>
                <a:chOff x="1979640" y="1520280"/>
                <a:chExt cx="142920" cy="360"/>
              </a:xfrm>
            </p:grpSpPr>
            <p:sp>
              <p:nvSpPr>
                <p:cNvPr id="1456" name="Line 17"/>
                <p:cNvSpPr/>
                <p:nvPr/>
              </p:nvSpPr>
              <p:spPr>
                <a:xfrm>
                  <a:off x="1979640" y="15202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 txBox="1"/>
                <p:nvPr/>
              </p:nvSpPr>
              <p:spPr>
                <a:xfrm>
                  <a:off x="1979640" y="15202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8" name="Group 18"/>
            <p:cNvGrpSpPr/>
            <p:nvPr/>
          </p:nvGrpSpPr>
          <p:grpSpPr>
            <a:xfrm>
              <a:off x="2411280" y="2129760"/>
              <a:ext cx="142920" cy="101520"/>
              <a:chOff x="2411280" y="2129760"/>
              <a:chExt cx="142920" cy="101520"/>
            </a:xfrm>
          </p:grpSpPr>
          <p:sp>
            <p:nvSpPr>
              <p:cNvPr id="1459" name="Oval 19"/>
              <p:cNvSpPr/>
              <p:nvPr/>
            </p:nvSpPr>
            <p:spPr>
              <a:xfrm>
                <a:off x="2411280" y="212976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"/>
              <p:cNvGrpSpPr/>
              <p:nvPr/>
            </p:nvGrpSpPr>
            <p:grpSpPr>
              <a:xfrm>
                <a:off x="2411280" y="2179800"/>
                <a:ext cx="142920" cy="360"/>
                <a:chOff x="2411280" y="2179800"/>
                <a:chExt cx="142920" cy="360"/>
              </a:xfrm>
            </p:grpSpPr>
            <p:sp>
              <p:nvSpPr>
                <p:cNvPr id="1461" name="Line 20"/>
                <p:cNvSpPr/>
                <p:nvPr/>
              </p:nvSpPr>
              <p:spPr>
                <a:xfrm>
                  <a:off x="2411280" y="21798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 txBox="1"/>
                <p:nvPr/>
              </p:nvSpPr>
              <p:spPr>
                <a:xfrm>
                  <a:off x="2411280" y="21798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3" name="Group 21"/>
            <p:cNvGrpSpPr/>
            <p:nvPr/>
          </p:nvGrpSpPr>
          <p:grpSpPr>
            <a:xfrm>
              <a:off x="6877080" y="1724040"/>
              <a:ext cx="142920" cy="101520"/>
              <a:chOff x="6877080" y="1724040"/>
              <a:chExt cx="142920" cy="101520"/>
            </a:xfrm>
          </p:grpSpPr>
          <p:sp>
            <p:nvSpPr>
              <p:cNvPr id="1464" name="Oval 22"/>
              <p:cNvSpPr/>
              <p:nvPr/>
            </p:nvSpPr>
            <p:spPr>
              <a:xfrm>
                <a:off x="6877080" y="172404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5" name=""/>
              <p:cNvGrpSpPr/>
              <p:nvPr/>
            </p:nvGrpSpPr>
            <p:grpSpPr>
              <a:xfrm>
                <a:off x="6877080" y="1774080"/>
                <a:ext cx="142920" cy="360"/>
                <a:chOff x="6877080" y="1774080"/>
                <a:chExt cx="142920" cy="360"/>
              </a:xfrm>
            </p:grpSpPr>
            <p:sp>
              <p:nvSpPr>
                <p:cNvPr id="1466" name="Line 23"/>
                <p:cNvSpPr/>
                <p:nvPr/>
              </p:nvSpPr>
              <p:spPr>
                <a:xfrm>
                  <a:off x="6877080" y="1774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 txBox="1"/>
                <p:nvPr/>
              </p:nvSpPr>
              <p:spPr>
                <a:xfrm>
                  <a:off x="6877080" y="17740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8" name="Group 24"/>
            <p:cNvGrpSpPr/>
            <p:nvPr/>
          </p:nvGrpSpPr>
          <p:grpSpPr>
            <a:xfrm>
              <a:off x="4716360" y="1724040"/>
              <a:ext cx="142920" cy="101520"/>
              <a:chOff x="4716360" y="1724040"/>
              <a:chExt cx="142920" cy="101520"/>
            </a:xfrm>
          </p:grpSpPr>
          <p:sp>
            <p:nvSpPr>
              <p:cNvPr id="1469" name="Oval 25"/>
              <p:cNvSpPr/>
              <p:nvPr/>
            </p:nvSpPr>
            <p:spPr>
              <a:xfrm>
                <a:off x="4716360" y="172404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0" name=""/>
              <p:cNvGrpSpPr/>
              <p:nvPr/>
            </p:nvGrpSpPr>
            <p:grpSpPr>
              <a:xfrm>
                <a:off x="4716360" y="1774080"/>
                <a:ext cx="142920" cy="360"/>
                <a:chOff x="4716360" y="1774080"/>
                <a:chExt cx="142920" cy="360"/>
              </a:xfrm>
            </p:grpSpPr>
            <p:sp>
              <p:nvSpPr>
                <p:cNvPr id="1471" name="Line 26"/>
                <p:cNvSpPr/>
                <p:nvPr/>
              </p:nvSpPr>
              <p:spPr>
                <a:xfrm>
                  <a:off x="4716360" y="1774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 txBox="1"/>
                <p:nvPr/>
              </p:nvSpPr>
              <p:spPr>
                <a:xfrm>
                  <a:off x="4716360" y="17740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3" name="Group 27"/>
            <p:cNvGrpSpPr/>
            <p:nvPr/>
          </p:nvGrpSpPr>
          <p:grpSpPr>
            <a:xfrm>
              <a:off x="971640" y="1622520"/>
              <a:ext cx="142920" cy="101520"/>
              <a:chOff x="971640" y="1622520"/>
              <a:chExt cx="142920" cy="101520"/>
            </a:xfrm>
          </p:grpSpPr>
          <p:sp>
            <p:nvSpPr>
              <p:cNvPr id="1474" name="Oval 28"/>
              <p:cNvSpPr/>
              <p:nvPr/>
            </p:nvSpPr>
            <p:spPr>
              <a:xfrm>
                <a:off x="971640" y="162252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5" name=""/>
              <p:cNvGrpSpPr/>
              <p:nvPr/>
            </p:nvGrpSpPr>
            <p:grpSpPr>
              <a:xfrm>
                <a:off x="971640" y="1672560"/>
                <a:ext cx="142920" cy="360"/>
                <a:chOff x="971640" y="1672560"/>
                <a:chExt cx="142920" cy="360"/>
              </a:xfrm>
            </p:grpSpPr>
            <p:sp>
              <p:nvSpPr>
                <p:cNvPr id="1476" name="Line 29"/>
                <p:cNvSpPr/>
                <p:nvPr/>
              </p:nvSpPr>
              <p:spPr>
                <a:xfrm>
                  <a:off x="971640" y="1672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 txBox="1"/>
                <p:nvPr/>
              </p:nvSpPr>
              <p:spPr>
                <a:xfrm>
                  <a:off x="971640" y="1672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8" name="Group 30"/>
            <p:cNvGrpSpPr/>
            <p:nvPr/>
          </p:nvGrpSpPr>
          <p:grpSpPr>
            <a:xfrm>
              <a:off x="2916360" y="1673640"/>
              <a:ext cx="142920" cy="101520"/>
              <a:chOff x="2916360" y="1673640"/>
              <a:chExt cx="142920" cy="101520"/>
            </a:xfrm>
          </p:grpSpPr>
          <p:sp>
            <p:nvSpPr>
              <p:cNvPr id="1479" name="Oval 31"/>
              <p:cNvSpPr/>
              <p:nvPr/>
            </p:nvSpPr>
            <p:spPr>
              <a:xfrm>
                <a:off x="2916360" y="167364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0" name=""/>
              <p:cNvGrpSpPr/>
              <p:nvPr/>
            </p:nvGrpSpPr>
            <p:grpSpPr>
              <a:xfrm>
                <a:off x="2916360" y="1723680"/>
                <a:ext cx="142920" cy="360"/>
                <a:chOff x="2916360" y="1723680"/>
                <a:chExt cx="142920" cy="360"/>
              </a:xfrm>
            </p:grpSpPr>
            <p:sp>
              <p:nvSpPr>
                <p:cNvPr id="1481" name="Line 32"/>
                <p:cNvSpPr/>
                <p:nvPr/>
              </p:nvSpPr>
              <p:spPr>
                <a:xfrm>
                  <a:off x="2916360" y="17236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 txBox="1"/>
                <p:nvPr/>
              </p:nvSpPr>
              <p:spPr>
                <a:xfrm>
                  <a:off x="2916360" y="17236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3" name="Group 33"/>
            <p:cNvGrpSpPr/>
            <p:nvPr/>
          </p:nvGrpSpPr>
          <p:grpSpPr>
            <a:xfrm>
              <a:off x="3492360" y="1977480"/>
              <a:ext cx="142920" cy="101520"/>
              <a:chOff x="3492360" y="1977480"/>
              <a:chExt cx="142920" cy="101520"/>
            </a:xfrm>
          </p:grpSpPr>
          <p:sp>
            <p:nvSpPr>
              <p:cNvPr id="1484" name="Oval 34"/>
              <p:cNvSpPr/>
              <p:nvPr/>
            </p:nvSpPr>
            <p:spPr>
              <a:xfrm>
                <a:off x="3492360" y="197748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"/>
              <p:cNvGrpSpPr/>
              <p:nvPr/>
            </p:nvGrpSpPr>
            <p:grpSpPr>
              <a:xfrm>
                <a:off x="3492360" y="2027520"/>
                <a:ext cx="142920" cy="360"/>
                <a:chOff x="3492360" y="2027520"/>
                <a:chExt cx="142920" cy="360"/>
              </a:xfrm>
            </p:grpSpPr>
            <p:sp>
              <p:nvSpPr>
                <p:cNvPr id="1486" name="Line 35"/>
                <p:cNvSpPr/>
                <p:nvPr/>
              </p:nvSpPr>
              <p:spPr>
                <a:xfrm>
                  <a:off x="3492360" y="20275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 txBox="1"/>
                <p:nvPr/>
              </p:nvSpPr>
              <p:spPr>
                <a:xfrm>
                  <a:off x="3492360" y="20275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8" name="Group 36"/>
            <p:cNvGrpSpPr/>
            <p:nvPr/>
          </p:nvGrpSpPr>
          <p:grpSpPr>
            <a:xfrm>
              <a:off x="4572000" y="2179800"/>
              <a:ext cx="142920" cy="101520"/>
              <a:chOff x="4572000" y="2179800"/>
              <a:chExt cx="142920" cy="101520"/>
            </a:xfrm>
          </p:grpSpPr>
          <p:sp>
            <p:nvSpPr>
              <p:cNvPr id="1489" name="Oval 37"/>
              <p:cNvSpPr/>
              <p:nvPr/>
            </p:nvSpPr>
            <p:spPr>
              <a:xfrm>
                <a:off x="4572000" y="217980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0" name=""/>
              <p:cNvGrpSpPr/>
              <p:nvPr/>
            </p:nvGrpSpPr>
            <p:grpSpPr>
              <a:xfrm>
                <a:off x="4572000" y="2229840"/>
                <a:ext cx="142920" cy="360"/>
                <a:chOff x="4572000" y="2229840"/>
                <a:chExt cx="142920" cy="360"/>
              </a:xfrm>
            </p:grpSpPr>
            <p:sp>
              <p:nvSpPr>
                <p:cNvPr id="1491" name="Line 38"/>
                <p:cNvSpPr/>
                <p:nvPr/>
              </p:nvSpPr>
              <p:spPr>
                <a:xfrm>
                  <a:off x="4572000" y="2229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 txBox="1"/>
                <p:nvPr/>
              </p:nvSpPr>
              <p:spPr>
                <a:xfrm>
                  <a:off x="4572000" y="2229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3" name="Group 39"/>
            <p:cNvGrpSpPr/>
            <p:nvPr/>
          </p:nvGrpSpPr>
          <p:grpSpPr>
            <a:xfrm>
              <a:off x="5724360" y="1673640"/>
              <a:ext cx="142920" cy="101520"/>
              <a:chOff x="5724360" y="1673640"/>
              <a:chExt cx="142920" cy="101520"/>
            </a:xfrm>
          </p:grpSpPr>
          <p:sp>
            <p:nvSpPr>
              <p:cNvPr id="1494" name="Oval 40"/>
              <p:cNvSpPr/>
              <p:nvPr/>
            </p:nvSpPr>
            <p:spPr>
              <a:xfrm>
                <a:off x="5724360" y="167364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5" name=""/>
              <p:cNvGrpSpPr/>
              <p:nvPr/>
            </p:nvGrpSpPr>
            <p:grpSpPr>
              <a:xfrm>
                <a:off x="5724360" y="1723680"/>
                <a:ext cx="142920" cy="360"/>
                <a:chOff x="5724360" y="1723680"/>
                <a:chExt cx="142920" cy="360"/>
              </a:xfrm>
            </p:grpSpPr>
            <p:sp>
              <p:nvSpPr>
                <p:cNvPr id="1496" name="Line 41"/>
                <p:cNvSpPr/>
                <p:nvPr/>
              </p:nvSpPr>
              <p:spPr>
                <a:xfrm>
                  <a:off x="5724360" y="17236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 txBox="1"/>
                <p:nvPr/>
              </p:nvSpPr>
              <p:spPr>
                <a:xfrm>
                  <a:off x="5724360" y="17236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8" name="Group 42"/>
            <p:cNvGrpSpPr/>
            <p:nvPr/>
          </p:nvGrpSpPr>
          <p:grpSpPr>
            <a:xfrm>
              <a:off x="3924360" y="1571760"/>
              <a:ext cx="142920" cy="101520"/>
              <a:chOff x="3924360" y="1571760"/>
              <a:chExt cx="142920" cy="101520"/>
            </a:xfrm>
          </p:grpSpPr>
          <p:sp>
            <p:nvSpPr>
              <p:cNvPr id="1499" name="Oval 43"/>
              <p:cNvSpPr/>
              <p:nvPr/>
            </p:nvSpPr>
            <p:spPr>
              <a:xfrm>
                <a:off x="3924360" y="157176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0" name=""/>
              <p:cNvGrpSpPr/>
              <p:nvPr/>
            </p:nvGrpSpPr>
            <p:grpSpPr>
              <a:xfrm>
                <a:off x="3924360" y="1621800"/>
                <a:ext cx="142920" cy="360"/>
                <a:chOff x="3924360" y="1621800"/>
                <a:chExt cx="142920" cy="360"/>
              </a:xfrm>
            </p:grpSpPr>
            <p:sp>
              <p:nvSpPr>
                <p:cNvPr id="1501" name="Line 44"/>
                <p:cNvSpPr/>
                <p:nvPr/>
              </p:nvSpPr>
              <p:spPr>
                <a:xfrm>
                  <a:off x="3924360" y="16218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 txBox="1"/>
                <p:nvPr/>
              </p:nvSpPr>
              <p:spPr>
                <a:xfrm>
                  <a:off x="3924360" y="16218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03" name="Group 45"/>
            <p:cNvGrpSpPr/>
            <p:nvPr/>
          </p:nvGrpSpPr>
          <p:grpSpPr>
            <a:xfrm>
              <a:off x="3276720" y="2179800"/>
              <a:ext cx="142920" cy="101520"/>
              <a:chOff x="3276720" y="2179800"/>
              <a:chExt cx="142920" cy="101520"/>
            </a:xfrm>
          </p:grpSpPr>
          <p:sp>
            <p:nvSpPr>
              <p:cNvPr id="1504" name="Oval 46"/>
              <p:cNvSpPr/>
              <p:nvPr/>
            </p:nvSpPr>
            <p:spPr>
              <a:xfrm>
                <a:off x="3276720" y="217980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5" name=""/>
              <p:cNvGrpSpPr/>
              <p:nvPr/>
            </p:nvGrpSpPr>
            <p:grpSpPr>
              <a:xfrm>
                <a:off x="3276720" y="2229840"/>
                <a:ext cx="142920" cy="360"/>
                <a:chOff x="3276720" y="2229840"/>
                <a:chExt cx="142920" cy="360"/>
              </a:xfrm>
            </p:grpSpPr>
            <p:sp>
              <p:nvSpPr>
                <p:cNvPr id="1506" name="Line 47"/>
                <p:cNvSpPr/>
                <p:nvPr/>
              </p:nvSpPr>
              <p:spPr>
                <a:xfrm>
                  <a:off x="3276720" y="2229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 txBox="1"/>
                <p:nvPr/>
              </p:nvSpPr>
              <p:spPr>
                <a:xfrm>
                  <a:off x="3276720" y="2229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08" name="Group 48"/>
            <p:cNvGrpSpPr/>
            <p:nvPr/>
          </p:nvGrpSpPr>
          <p:grpSpPr>
            <a:xfrm>
              <a:off x="7451640" y="2079360"/>
              <a:ext cx="142920" cy="101520"/>
              <a:chOff x="7451640" y="2079360"/>
              <a:chExt cx="142920" cy="101520"/>
            </a:xfrm>
          </p:grpSpPr>
          <p:sp>
            <p:nvSpPr>
              <p:cNvPr id="1509" name="Oval 49"/>
              <p:cNvSpPr/>
              <p:nvPr/>
            </p:nvSpPr>
            <p:spPr>
              <a:xfrm>
                <a:off x="7451640" y="207936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0" name=""/>
              <p:cNvGrpSpPr/>
              <p:nvPr/>
            </p:nvGrpSpPr>
            <p:grpSpPr>
              <a:xfrm>
                <a:off x="7451640" y="2129400"/>
                <a:ext cx="142920" cy="360"/>
                <a:chOff x="7451640" y="2129400"/>
                <a:chExt cx="142920" cy="360"/>
              </a:xfrm>
            </p:grpSpPr>
            <p:sp>
              <p:nvSpPr>
                <p:cNvPr id="1511" name="Line 50"/>
                <p:cNvSpPr/>
                <p:nvPr/>
              </p:nvSpPr>
              <p:spPr>
                <a:xfrm>
                  <a:off x="7451640" y="21294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 txBox="1"/>
                <p:nvPr/>
              </p:nvSpPr>
              <p:spPr>
                <a:xfrm>
                  <a:off x="7451640" y="21294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3" name="Group 51"/>
            <p:cNvGrpSpPr/>
            <p:nvPr/>
          </p:nvGrpSpPr>
          <p:grpSpPr>
            <a:xfrm>
              <a:off x="7236000" y="1571760"/>
              <a:ext cx="142560" cy="101520"/>
              <a:chOff x="7236000" y="1571760"/>
              <a:chExt cx="142560" cy="101520"/>
            </a:xfrm>
          </p:grpSpPr>
          <p:sp>
            <p:nvSpPr>
              <p:cNvPr id="1514" name="Oval 52"/>
              <p:cNvSpPr/>
              <p:nvPr/>
            </p:nvSpPr>
            <p:spPr>
              <a:xfrm>
                <a:off x="7236000" y="1571760"/>
                <a:ext cx="14256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5" name=""/>
              <p:cNvGrpSpPr/>
              <p:nvPr/>
            </p:nvGrpSpPr>
            <p:grpSpPr>
              <a:xfrm>
                <a:off x="7236000" y="1621800"/>
                <a:ext cx="142560" cy="360"/>
                <a:chOff x="7236000" y="1621800"/>
                <a:chExt cx="142560" cy="360"/>
              </a:xfrm>
            </p:grpSpPr>
            <p:sp>
              <p:nvSpPr>
                <p:cNvPr id="1516" name="Line 53"/>
                <p:cNvSpPr/>
                <p:nvPr/>
              </p:nvSpPr>
              <p:spPr>
                <a:xfrm>
                  <a:off x="7236000" y="16218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 txBox="1"/>
                <p:nvPr/>
              </p:nvSpPr>
              <p:spPr>
                <a:xfrm>
                  <a:off x="7236000" y="162180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8" name="Group 54"/>
            <p:cNvGrpSpPr/>
            <p:nvPr/>
          </p:nvGrpSpPr>
          <p:grpSpPr>
            <a:xfrm>
              <a:off x="4211640" y="1875960"/>
              <a:ext cx="142920" cy="101520"/>
              <a:chOff x="4211640" y="1875960"/>
              <a:chExt cx="142920" cy="101520"/>
            </a:xfrm>
          </p:grpSpPr>
          <p:sp>
            <p:nvSpPr>
              <p:cNvPr id="1519" name="Oval 55"/>
              <p:cNvSpPr/>
              <p:nvPr/>
            </p:nvSpPr>
            <p:spPr>
              <a:xfrm>
                <a:off x="4211640" y="187596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0" name=""/>
              <p:cNvGrpSpPr/>
              <p:nvPr/>
            </p:nvGrpSpPr>
            <p:grpSpPr>
              <a:xfrm>
                <a:off x="4211640" y="1926000"/>
                <a:ext cx="142920" cy="360"/>
                <a:chOff x="4211640" y="1926000"/>
                <a:chExt cx="142920" cy="360"/>
              </a:xfrm>
            </p:grpSpPr>
            <p:sp>
              <p:nvSpPr>
                <p:cNvPr id="1521" name="Line 56"/>
                <p:cNvSpPr/>
                <p:nvPr/>
              </p:nvSpPr>
              <p:spPr>
                <a:xfrm>
                  <a:off x="4211640" y="19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 txBox="1"/>
                <p:nvPr/>
              </p:nvSpPr>
              <p:spPr>
                <a:xfrm>
                  <a:off x="4211640" y="19260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3" name="Group 57"/>
            <p:cNvGrpSpPr/>
            <p:nvPr/>
          </p:nvGrpSpPr>
          <p:grpSpPr>
            <a:xfrm>
              <a:off x="5219640" y="1927440"/>
              <a:ext cx="142920" cy="101520"/>
              <a:chOff x="5219640" y="1927440"/>
              <a:chExt cx="142920" cy="101520"/>
            </a:xfrm>
          </p:grpSpPr>
          <p:sp>
            <p:nvSpPr>
              <p:cNvPr id="1524" name="Oval 58"/>
              <p:cNvSpPr/>
              <p:nvPr/>
            </p:nvSpPr>
            <p:spPr>
              <a:xfrm>
                <a:off x="5219640" y="192744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5219640" y="1977480"/>
                <a:ext cx="142920" cy="360"/>
                <a:chOff x="5219640" y="1977480"/>
                <a:chExt cx="142920" cy="360"/>
              </a:xfrm>
            </p:grpSpPr>
            <p:sp>
              <p:nvSpPr>
                <p:cNvPr id="1526" name="Line 59"/>
                <p:cNvSpPr/>
                <p:nvPr/>
              </p:nvSpPr>
              <p:spPr>
                <a:xfrm>
                  <a:off x="5219640" y="1977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 txBox="1"/>
                <p:nvPr/>
              </p:nvSpPr>
              <p:spPr>
                <a:xfrm>
                  <a:off x="5219640" y="19774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8" name="Group 60"/>
            <p:cNvGrpSpPr/>
            <p:nvPr/>
          </p:nvGrpSpPr>
          <p:grpSpPr>
            <a:xfrm>
              <a:off x="5796000" y="2129760"/>
              <a:ext cx="142920" cy="101520"/>
              <a:chOff x="5796000" y="2129760"/>
              <a:chExt cx="142920" cy="101520"/>
            </a:xfrm>
          </p:grpSpPr>
          <p:sp>
            <p:nvSpPr>
              <p:cNvPr id="1529" name="Oval 61"/>
              <p:cNvSpPr/>
              <p:nvPr/>
            </p:nvSpPr>
            <p:spPr>
              <a:xfrm>
                <a:off x="5796000" y="212976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0" name=""/>
              <p:cNvGrpSpPr/>
              <p:nvPr/>
            </p:nvGrpSpPr>
            <p:grpSpPr>
              <a:xfrm>
                <a:off x="5796000" y="2179800"/>
                <a:ext cx="142920" cy="360"/>
                <a:chOff x="5796000" y="2179800"/>
                <a:chExt cx="142920" cy="360"/>
              </a:xfrm>
            </p:grpSpPr>
            <p:sp>
              <p:nvSpPr>
                <p:cNvPr id="1531" name="Line 62"/>
                <p:cNvSpPr/>
                <p:nvPr/>
              </p:nvSpPr>
              <p:spPr>
                <a:xfrm>
                  <a:off x="5796000" y="21798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 txBox="1"/>
                <p:nvPr/>
              </p:nvSpPr>
              <p:spPr>
                <a:xfrm>
                  <a:off x="5796000" y="21798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3" name="Group 63"/>
            <p:cNvGrpSpPr/>
            <p:nvPr/>
          </p:nvGrpSpPr>
          <p:grpSpPr>
            <a:xfrm>
              <a:off x="7885080" y="1673640"/>
              <a:ext cx="142920" cy="101520"/>
              <a:chOff x="7885080" y="1673640"/>
              <a:chExt cx="142920" cy="101520"/>
            </a:xfrm>
          </p:grpSpPr>
          <p:sp>
            <p:nvSpPr>
              <p:cNvPr id="1534" name="Oval 64"/>
              <p:cNvSpPr/>
              <p:nvPr/>
            </p:nvSpPr>
            <p:spPr>
              <a:xfrm>
                <a:off x="7885080" y="167364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7885080" y="1723680"/>
                <a:ext cx="142920" cy="360"/>
                <a:chOff x="7885080" y="1723680"/>
                <a:chExt cx="142920" cy="360"/>
              </a:xfrm>
            </p:grpSpPr>
            <p:sp>
              <p:nvSpPr>
                <p:cNvPr id="1536" name="Line 65"/>
                <p:cNvSpPr/>
                <p:nvPr/>
              </p:nvSpPr>
              <p:spPr>
                <a:xfrm>
                  <a:off x="7885080" y="17236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 txBox="1"/>
                <p:nvPr/>
              </p:nvSpPr>
              <p:spPr>
                <a:xfrm>
                  <a:off x="7885080" y="17236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8" name="Group 66"/>
            <p:cNvGrpSpPr/>
            <p:nvPr/>
          </p:nvGrpSpPr>
          <p:grpSpPr>
            <a:xfrm>
              <a:off x="6372360" y="1875960"/>
              <a:ext cx="142920" cy="101520"/>
              <a:chOff x="6372360" y="1875960"/>
              <a:chExt cx="142920" cy="101520"/>
            </a:xfrm>
          </p:grpSpPr>
          <p:sp>
            <p:nvSpPr>
              <p:cNvPr id="1539" name="Oval 67"/>
              <p:cNvSpPr/>
              <p:nvPr/>
            </p:nvSpPr>
            <p:spPr>
              <a:xfrm>
                <a:off x="6372360" y="187596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"/>
              <p:cNvGrpSpPr/>
              <p:nvPr/>
            </p:nvGrpSpPr>
            <p:grpSpPr>
              <a:xfrm>
                <a:off x="6372360" y="1926000"/>
                <a:ext cx="142920" cy="360"/>
                <a:chOff x="6372360" y="1926000"/>
                <a:chExt cx="142920" cy="360"/>
              </a:xfrm>
            </p:grpSpPr>
            <p:sp>
              <p:nvSpPr>
                <p:cNvPr id="1541" name="Line 68"/>
                <p:cNvSpPr/>
                <p:nvPr/>
              </p:nvSpPr>
              <p:spPr>
                <a:xfrm>
                  <a:off x="6372360" y="19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 txBox="1"/>
                <p:nvPr/>
              </p:nvSpPr>
              <p:spPr>
                <a:xfrm>
                  <a:off x="6372360" y="19260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3" name="Group 69"/>
            <p:cNvGrpSpPr/>
            <p:nvPr/>
          </p:nvGrpSpPr>
          <p:grpSpPr>
            <a:xfrm>
              <a:off x="684360" y="1724040"/>
              <a:ext cx="287280" cy="201960"/>
              <a:chOff x="684360" y="1724040"/>
              <a:chExt cx="287280" cy="201960"/>
            </a:xfrm>
          </p:grpSpPr>
          <p:sp>
            <p:nvSpPr>
              <p:cNvPr id="1544" name="Oval 70"/>
              <p:cNvSpPr/>
              <p:nvPr/>
            </p:nvSpPr>
            <p:spPr>
              <a:xfrm>
                <a:off x="684360" y="1724040"/>
                <a:ext cx="287280" cy="2019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5" name=""/>
              <p:cNvGrpSpPr/>
              <p:nvPr/>
            </p:nvGrpSpPr>
            <p:grpSpPr>
              <a:xfrm>
                <a:off x="684360" y="1824840"/>
                <a:ext cx="287280" cy="360"/>
                <a:chOff x="684360" y="1824840"/>
                <a:chExt cx="287280" cy="360"/>
              </a:xfrm>
            </p:grpSpPr>
            <p:sp>
              <p:nvSpPr>
                <p:cNvPr id="1546" name="Line 71"/>
                <p:cNvSpPr/>
                <p:nvPr/>
              </p:nvSpPr>
              <p:spPr>
                <a:xfrm>
                  <a:off x="684360" y="182484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 txBox="1"/>
                <p:nvPr/>
              </p:nvSpPr>
              <p:spPr>
                <a:xfrm>
                  <a:off x="684360" y="182484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828000" y="1724040"/>
                <a:ext cx="360" cy="201960"/>
                <a:chOff x="828000" y="1724040"/>
                <a:chExt cx="360" cy="201960"/>
              </a:xfrm>
            </p:grpSpPr>
            <p:sp>
              <p:nvSpPr>
                <p:cNvPr id="1549" name="Line 72"/>
                <p:cNvSpPr/>
                <p:nvPr/>
              </p:nvSpPr>
              <p:spPr>
                <a:xfrm>
                  <a:off x="828000" y="1724040"/>
                  <a:ext cx="0" cy="20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 txBox="1"/>
                <p:nvPr/>
              </p:nvSpPr>
              <p:spPr>
                <a:xfrm>
                  <a:off x="828000" y="1724040"/>
                  <a:ext cx="3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1" name="Group 73"/>
            <p:cNvGrpSpPr/>
            <p:nvPr/>
          </p:nvGrpSpPr>
          <p:grpSpPr>
            <a:xfrm>
              <a:off x="2124000" y="1622520"/>
              <a:ext cx="287280" cy="201960"/>
              <a:chOff x="2124000" y="1622520"/>
              <a:chExt cx="287280" cy="201960"/>
            </a:xfrm>
          </p:grpSpPr>
          <p:sp>
            <p:nvSpPr>
              <p:cNvPr id="1552" name="Oval 74"/>
              <p:cNvSpPr/>
              <p:nvPr/>
            </p:nvSpPr>
            <p:spPr>
              <a:xfrm>
                <a:off x="2124000" y="1622520"/>
                <a:ext cx="287280" cy="2019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"/>
              <p:cNvGrpSpPr/>
              <p:nvPr/>
            </p:nvGrpSpPr>
            <p:grpSpPr>
              <a:xfrm>
                <a:off x="2124000" y="1723320"/>
                <a:ext cx="287280" cy="360"/>
                <a:chOff x="2124000" y="1723320"/>
                <a:chExt cx="287280" cy="360"/>
              </a:xfrm>
            </p:grpSpPr>
            <p:sp>
              <p:nvSpPr>
                <p:cNvPr id="1554" name="Line 75"/>
                <p:cNvSpPr/>
                <p:nvPr/>
              </p:nvSpPr>
              <p:spPr>
                <a:xfrm>
                  <a:off x="2124000" y="172332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 txBox="1"/>
                <p:nvPr/>
              </p:nvSpPr>
              <p:spPr>
                <a:xfrm>
                  <a:off x="2124000" y="172332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2267640" y="1622520"/>
                <a:ext cx="360" cy="201960"/>
                <a:chOff x="2267640" y="1622520"/>
                <a:chExt cx="360" cy="201960"/>
              </a:xfrm>
            </p:grpSpPr>
            <p:sp>
              <p:nvSpPr>
                <p:cNvPr id="1557" name="Line 76"/>
                <p:cNvSpPr/>
                <p:nvPr/>
              </p:nvSpPr>
              <p:spPr>
                <a:xfrm>
                  <a:off x="2267640" y="1622520"/>
                  <a:ext cx="0" cy="20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 txBox="1"/>
                <p:nvPr/>
              </p:nvSpPr>
              <p:spPr>
                <a:xfrm>
                  <a:off x="2267640" y="1622520"/>
                  <a:ext cx="3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9" name="Group 77"/>
            <p:cNvGrpSpPr/>
            <p:nvPr/>
          </p:nvGrpSpPr>
          <p:grpSpPr>
            <a:xfrm>
              <a:off x="2771640" y="1927440"/>
              <a:ext cx="287640" cy="201960"/>
              <a:chOff x="2771640" y="1927440"/>
              <a:chExt cx="287640" cy="201960"/>
            </a:xfrm>
          </p:grpSpPr>
          <p:sp>
            <p:nvSpPr>
              <p:cNvPr id="1560" name="Oval 78"/>
              <p:cNvSpPr/>
              <p:nvPr/>
            </p:nvSpPr>
            <p:spPr>
              <a:xfrm>
                <a:off x="2771640" y="1927440"/>
                <a:ext cx="287640" cy="2019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1" name=""/>
              <p:cNvGrpSpPr/>
              <p:nvPr/>
            </p:nvGrpSpPr>
            <p:grpSpPr>
              <a:xfrm>
                <a:off x="2771640" y="2028240"/>
                <a:ext cx="287640" cy="360"/>
                <a:chOff x="2771640" y="2028240"/>
                <a:chExt cx="287640" cy="360"/>
              </a:xfrm>
            </p:grpSpPr>
            <p:sp>
              <p:nvSpPr>
                <p:cNvPr id="1562" name="Line 79"/>
                <p:cNvSpPr/>
                <p:nvPr/>
              </p:nvSpPr>
              <p:spPr>
                <a:xfrm>
                  <a:off x="2771640" y="2028240"/>
                  <a:ext cx="28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 txBox="1"/>
                <p:nvPr/>
              </p:nvSpPr>
              <p:spPr>
                <a:xfrm>
                  <a:off x="2771640" y="2028240"/>
                  <a:ext cx="28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2915280" y="1927440"/>
                <a:ext cx="360" cy="201960"/>
                <a:chOff x="2915280" y="1927440"/>
                <a:chExt cx="360" cy="201960"/>
              </a:xfrm>
            </p:grpSpPr>
            <p:sp>
              <p:nvSpPr>
                <p:cNvPr id="1565" name="Line 80"/>
                <p:cNvSpPr/>
                <p:nvPr/>
              </p:nvSpPr>
              <p:spPr>
                <a:xfrm>
                  <a:off x="2915280" y="1927440"/>
                  <a:ext cx="0" cy="20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 txBox="1"/>
                <p:nvPr/>
              </p:nvSpPr>
              <p:spPr>
                <a:xfrm>
                  <a:off x="2915280" y="1927440"/>
                  <a:ext cx="3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7" name="Group 81"/>
            <p:cNvGrpSpPr/>
            <p:nvPr/>
          </p:nvGrpSpPr>
          <p:grpSpPr>
            <a:xfrm>
              <a:off x="3708360" y="2179800"/>
              <a:ext cx="287280" cy="201960"/>
              <a:chOff x="3708360" y="2179800"/>
              <a:chExt cx="287280" cy="201960"/>
            </a:xfrm>
          </p:grpSpPr>
          <p:sp>
            <p:nvSpPr>
              <p:cNvPr id="1568" name="Oval 82"/>
              <p:cNvSpPr/>
              <p:nvPr/>
            </p:nvSpPr>
            <p:spPr>
              <a:xfrm>
                <a:off x="3708360" y="2179800"/>
                <a:ext cx="287280" cy="2019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9" name=""/>
              <p:cNvGrpSpPr/>
              <p:nvPr/>
            </p:nvGrpSpPr>
            <p:grpSpPr>
              <a:xfrm>
                <a:off x="3708360" y="2280600"/>
                <a:ext cx="287280" cy="360"/>
                <a:chOff x="3708360" y="2280600"/>
                <a:chExt cx="287280" cy="360"/>
              </a:xfrm>
            </p:grpSpPr>
            <p:sp>
              <p:nvSpPr>
                <p:cNvPr id="1570" name="Line 83"/>
                <p:cNvSpPr/>
                <p:nvPr/>
              </p:nvSpPr>
              <p:spPr>
                <a:xfrm>
                  <a:off x="3708360" y="228060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 txBox="1"/>
                <p:nvPr/>
              </p:nvSpPr>
              <p:spPr>
                <a:xfrm>
                  <a:off x="3708360" y="228060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3852000" y="2179800"/>
                <a:ext cx="360" cy="201960"/>
                <a:chOff x="3852000" y="2179800"/>
                <a:chExt cx="360" cy="201960"/>
              </a:xfrm>
            </p:grpSpPr>
            <p:sp>
              <p:nvSpPr>
                <p:cNvPr id="1573" name="Line 84"/>
                <p:cNvSpPr/>
                <p:nvPr/>
              </p:nvSpPr>
              <p:spPr>
                <a:xfrm>
                  <a:off x="3852000" y="2179800"/>
                  <a:ext cx="0" cy="20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 txBox="1"/>
                <p:nvPr/>
              </p:nvSpPr>
              <p:spPr>
                <a:xfrm>
                  <a:off x="3852000" y="2179800"/>
                  <a:ext cx="3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5" name="Group 85"/>
            <p:cNvGrpSpPr/>
            <p:nvPr/>
          </p:nvGrpSpPr>
          <p:grpSpPr>
            <a:xfrm>
              <a:off x="4284720" y="1622520"/>
              <a:ext cx="287280" cy="201960"/>
              <a:chOff x="4284720" y="1622520"/>
              <a:chExt cx="287280" cy="201960"/>
            </a:xfrm>
          </p:grpSpPr>
          <p:sp>
            <p:nvSpPr>
              <p:cNvPr id="1576" name="Oval 86"/>
              <p:cNvSpPr/>
              <p:nvPr/>
            </p:nvSpPr>
            <p:spPr>
              <a:xfrm>
                <a:off x="4284720" y="1622520"/>
                <a:ext cx="287280" cy="2019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7" name=""/>
              <p:cNvGrpSpPr/>
              <p:nvPr/>
            </p:nvGrpSpPr>
            <p:grpSpPr>
              <a:xfrm>
                <a:off x="4284720" y="1723320"/>
                <a:ext cx="287280" cy="360"/>
                <a:chOff x="4284720" y="1723320"/>
                <a:chExt cx="287280" cy="360"/>
              </a:xfrm>
            </p:grpSpPr>
            <p:sp>
              <p:nvSpPr>
                <p:cNvPr id="1578" name="Line 87"/>
                <p:cNvSpPr/>
                <p:nvPr/>
              </p:nvSpPr>
              <p:spPr>
                <a:xfrm>
                  <a:off x="4284720" y="172332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 txBox="1"/>
                <p:nvPr/>
              </p:nvSpPr>
              <p:spPr>
                <a:xfrm>
                  <a:off x="4284720" y="172332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0" name=""/>
              <p:cNvGrpSpPr/>
              <p:nvPr/>
            </p:nvGrpSpPr>
            <p:grpSpPr>
              <a:xfrm>
                <a:off x="4428360" y="1622520"/>
                <a:ext cx="360" cy="201960"/>
                <a:chOff x="4428360" y="1622520"/>
                <a:chExt cx="360" cy="201960"/>
              </a:xfrm>
            </p:grpSpPr>
            <p:sp>
              <p:nvSpPr>
                <p:cNvPr id="1581" name="Line 88"/>
                <p:cNvSpPr/>
                <p:nvPr/>
              </p:nvSpPr>
              <p:spPr>
                <a:xfrm>
                  <a:off x="4428360" y="1622520"/>
                  <a:ext cx="0" cy="20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 txBox="1"/>
                <p:nvPr/>
              </p:nvSpPr>
              <p:spPr>
                <a:xfrm>
                  <a:off x="4428360" y="1622520"/>
                  <a:ext cx="3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3" name="Group 89"/>
            <p:cNvGrpSpPr/>
            <p:nvPr/>
          </p:nvGrpSpPr>
          <p:grpSpPr>
            <a:xfrm>
              <a:off x="5292720" y="2129760"/>
              <a:ext cx="287280" cy="201960"/>
              <a:chOff x="5292720" y="2129760"/>
              <a:chExt cx="287280" cy="201960"/>
            </a:xfrm>
          </p:grpSpPr>
          <p:sp>
            <p:nvSpPr>
              <p:cNvPr id="1584" name="Oval 90"/>
              <p:cNvSpPr/>
              <p:nvPr/>
            </p:nvSpPr>
            <p:spPr>
              <a:xfrm>
                <a:off x="5292720" y="2129760"/>
                <a:ext cx="287280" cy="2019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5" name=""/>
              <p:cNvGrpSpPr/>
              <p:nvPr/>
            </p:nvGrpSpPr>
            <p:grpSpPr>
              <a:xfrm>
                <a:off x="5292720" y="2230560"/>
                <a:ext cx="287280" cy="360"/>
                <a:chOff x="5292720" y="2230560"/>
                <a:chExt cx="287280" cy="360"/>
              </a:xfrm>
            </p:grpSpPr>
            <p:sp>
              <p:nvSpPr>
                <p:cNvPr id="1586" name="Line 91"/>
                <p:cNvSpPr/>
                <p:nvPr/>
              </p:nvSpPr>
              <p:spPr>
                <a:xfrm>
                  <a:off x="5292720" y="223056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 txBox="1"/>
                <p:nvPr/>
              </p:nvSpPr>
              <p:spPr>
                <a:xfrm>
                  <a:off x="5292720" y="223056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8" name=""/>
              <p:cNvGrpSpPr/>
              <p:nvPr/>
            </p:nvGrpSpPr>
            <p:grpSpPr>
              <a:xfrm>
                <a:off x="5436360" y="2129760"/>
                <a:ext cx="360" cy="201960"/>
                <a:chOff x="5436360" y="2129760"/>
                <a:chExt cx="360" cy="201960"/>
              </a:xfrm>
            </p:grpSpPr>
            <p:sp>
              <p:nvSpPr>
                <p:cNvPr id="1589" name="Line 92"/>
                <p:cNvSpPr/>
                <p:nvPr/>
              </p:nvSpPr>
              <p:spPr>
                <a:xfrm>
                  <a:off x="5436360" y="2129760"/>
                  <a:ext cx="0" cy="20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 txBox="1"/>
                <p:nvPr/>
              </p:nvSpPr>
              <p:spPr>
                <a:xfrm>
                  <a:off x="5436360" y="2129760"/>
                  <a:ext cx="3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1" name="Group 93"/>
            <p:cNvGrpSpPr/>
            <p:nvPr/>
          </p:nvGrpSpPr>
          <p:grpSpPr>
            <a:xfrm>
              <a:off x="6516720" y="1571760"/>
              <a:ext cx="287280" cy="201960"/>
              <a:chOff x="6516720" y="1571760"/>
              <a:chExt cx="287280" cy="201960"/>
            </a:xfrm>
          </p:grpSpPr>
          <p:sp>
            <p:nvSpPr>
              <p:cNvPr id="1592" name="Oval 94"/>
              <p:cNvSpPr/>
              <p:nvPr/>
            </p:nvSpPr>
            <p:spPr>
              <a:xfrm>
                <a:off x="6516720" y="1571760"/>
                <a:ext cx="287280" cy="2019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3" name=""/>
              <p:cNvGrpSpPr/>
              <p:nvPr/>
            </p:nvGrpSpPr>
            <p:grpSpPr>
              <a:xfrm>
                <a:off x="6516720" y="1672560"/>
                <a:ext cx="287280" cy="360"/>
                <a:chOff x="6516720" y="1672560"/>
                <a:chExt cx="287280" cy="360"/>
              </a:xfrm>
            </p:grpSpPr>
            <p:sp>
              <p:nvSpPr>
                <p:cNvPr id="1594" name="Line 95"/>
                <p:cNvSpPr/>
                <p:nvPr/>
              </p:nvSpPr>
              <p:spPr>
                <a:xfrm>
                  <a:off x="6516720" y="167256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 txBox="1"/>
                <p:nvPr/>
              </p:nvSpPr>
              <p:spPr>
                <a:xfrm>
                  <a:off x="6516720" y="167256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6660360" y="1571760"/>
                <a:ext cx="360" cy="201960"/>
                <a:chOff x="6660360" y="1571760"/>
                <a:chExt cx="360" cy="201960"/>
              </a:xfrm>
            </p:grpSpPr>
            <p:sp>
              <p:nvSpPr>
                <p:cNvPr id="1597" name="Line 96"/>
                <p:cNvSpPr/>
                <p:nvPr/>
              </p:nvSpPr>
              <p:spPr>
                <a:xfrm>
                  <a:off x="6660360" y="1571760"/>
                  <a:ext cx="0" cy="20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 txBox="1"/>
                <p:nvPr/>
              </p:nvSpPr>
              <p:spPr>
                <a:xfrm>
                  <a:off x="6660360" y="1571760"/>
                  <a:ext cx="3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9" name="Group 97"/>
            <p:cNvGrpSpPr/>
            <p:nvPr/>
          </p:nvGrpSpPr>
          <p:grpSpPr>
            <a:xfrm>
              <a:off x="6588000" y="2079360"/>
              <a:ext cx="287640" cy="201960"/>
              <a:chOff x="6588000" y="2079360"/>
              <a:chExt cx="287640" cy="201960"/>
            </a:xfrm>
          </p:grpSpPr>
          <p:sp>
            <p:nvSpPr>
              <p:cNvPr id="1600" name="Oval 98"/>
              <p:cNvSpPr/>
              <p:nvPr/>
            </p:nvSpPr>
            <p:spPr>
              <a:xfrm>
                <a:off x="6588000" y="2079360"/>
                <a:ext cx="287640" cy="2019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1" name=""/>
              <p:cNvGrpSpPr/>
              <p:nvPr/>
            </p:nvGrpSpPr>
            <p:grpSpPr>
              <a:xfrm>
                <a:off x="6588000" y="2180160"/>
                <a:ext cx="287640" cy="360"/>
                <a:chOff x="6588000" y="2180160"/>
                <a:chExt cx="287640" cy="360"/>
              </a:xfrm>
            </p:grpSpPr>
            <p:sp>
              <p:nvSpPr>
                <p:cNvPr id="1602" name="Line 99"/>
                <p:cNvSpPr/>
                <p:nvPr/>
              </p:nvSpPr>
              <p:spPr>
                <a:xfrm>
                  <a:off x="6588000" y="2180160"/>
                  <a:ext cx="28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 txBox="1"/>
                <p:nvPr/>
              </p:nvSpPr>
              <p:spPr>
                <a:xfrm>
                  <a:off x="6588000" y="2180160"/>
                  <a:ext cx="28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4" name=""/>
              <p:cNvGrpSpPr/>
              <p:nvPr/>
            </p:nvGrpSpPr>
            <p:grpSpPr>
              <a:xfrm>
                <a:off x="6731640" y="2079360"/>
                <a:ext cx="360" cy="201960"/>
                <a:chOff x="6731640" y="2079360"/>
                <a:chExt cx="360" cy="201960"/>
              </a:xfrm>
            </p:grpSpPr>
            <p:sp>
              <p:nvSpPr>
                <p:cNvPr id="1605" name="Line 100"/>
                <p:cNvSpPr/>
                <p:nvPr/>
              </p:nvSpPr>
              <p:spPr>
                <a:xfrm>
                  <a:off x="6731640" y="2079360"/>
                  <a:ext cx="0" cy="20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 txBox="1"/>
                <p:nvPr/>
              </p:nvSpPr>
              <p:spPr>
                <a:xfrm>
                  <a:off x="6731640" y="2079360"/>
                  <a:ext cx="3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7" name="Group 101"/>
            <p:cNvGrpSpPr/>
            <p:nvPr/>
          </p:nvGrpSpPr>
          <p:grpSpPr>
            <a:xfrm>
              <a:off x="1403280" y="2179800"/>
              <a:ext cx="287280" cy="201960"/>
              <a:chOff x="1403280" y="2179800"/>
              <a:chExt cx="287280" cy="201960"/>
            </a:xfrm>
          </p:grpSpPr>
          <p:sp>
            <p:nvSpPr>
              <p:cNvPr id="1608" name="Oval 102"/>
              <p:cNvSpPr/>
              <p:nvPr/>
            </p:nvSpPr>
            <p:spPr>
              <a:xfrm>
                <a:off x="1403280" y="2179800"/>
                <a:ext cx="287280" cy="2019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"/>
              <p:cNvGrpSpPr/>
              <p:nvPr/>
            </p:nvGrpSpPr>
            <p:grpSpPr>
              <a:xfrm>
                <a:off x="1403280" y="2280600"/>
                <a:ext cx="287280" cy="360"/>
                <a:chOff x="1403280" y="2280600"/>
                <a:chExt cx="287280" cy="360"/>
              </a:xfrm>
            </p:grpSpPr>
            <p:sp>
              <p:nvSpPr>
                <p:cNvPr id="1610" name="Line 103"/>
                <p:cNvSpPr/>
                <p:nvPr/>
              </p:nvSpPr>
              <p:spPr>
                <a:xfrm>
                  <a:off x="1403280" y="228060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 txBox="1"/>
                <p:nvPr/>
              </p:nvSpPr>
              <p:spPr>
                <a:xfrm>
                  <a:off x="1403280" y="228060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1546920" y="2179800"/>
                <a:ext cx="360" cy="201960"/>
                <a:chOff x="1546920" y="2179800"/>
                <a:chExt cx="360" cy="201960"/>
              </a:xfrm>
            </p:grpSpPr>
            <p:sp>
              <p:nvSpPr>
                <p:cNvPr id="1613" name="Line 104"/>
                <p:cNvSpPr/>
                <p:nvPr/>
              </p:nvSpPr>
              <p:spPr>
                <a:xfrm>
                  <a:off x="1546920" y="2179800"/>
                  <a:ext cx="0" cy="20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 txBox="1"/>
                <p:nvPr/>
              </p:nvSpPr>
              <p:spPr>
                <a:xfrm>
                  <a:off x="1546920" y="2179800"/>
                  <a:ext cx="3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15" name="Group 105"/>
            <p:cNvGrpSpPr/>
            <p:nvPr/>
          </p:nvGrpSpPr>
          <p:grpSpPr>
            <a:xfrm>
              <a:off x="7885080" y="1825560"/>
              <a:ext cx="287280" cy="201960"/>
              <a:chOff x="7885080" y="1825560"/>
              <a:chExt cx="287280" cy="201960"/>
            </a:xfrm>
          </p:grpSpPr>
          <p:sp>
            <p:nvSpPr>
              <p:cNvPr id="1616" name="Oval 106"/>
              <p:cNvSpPr/>
              <p:nvPr/>
            </p:nvSpPr>
            <p:spPr>
              <a:xfrm>
                <a:off x="7885080" y="1825560"/>
                <a:ext cx="287280" cy="2019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7" name=""/>
              <p:cNvGrpSpPr/>
              <p:nvPr/>
            </p:nvGrpSpPr>
            <p:grpSpPr>
              <a:xfrm>
                <a:off x="7885080" y="1926360"/>
                <a:ext cx="287280" cy="360"/>
                <a:chOff x="7885080" y="1926360"/>
                <a:chExt cx="287280" cy="360"/>
              </a:xfrm>
            </p:grpSpPr>
            <p:sp>
              <p:nvSpPr>
                <p:cNvPr id="1618" name="Line 107"/>
                <p:cNvSpPr/>
                <p:nvPr/>
              </p:nvSpPr>
              <p:spPr>
                <a:xfrm>
                  <a:off x="7885080" y="192636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 txBox="1"/>
                <p:nvPr/>
              </p:nvSpPr>
              <p:spPr>
                <a:xfrm>
                  <a:off x="7885080" y="192636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8028720" y="1825560"/>
                <a:ext cx="360" cy="201960"/>
                <a:chOff x="8028720" y="1825560"/>
                <a:chExt cx="360" cy="201960"/>
              </a:xfrm>
            </p:grpSpPr>
            <p:sp>
              <p:nvSpPr>
                <p:cNvPr id="1621" name="Line 108"/>
                <p:cNvSpPr/>
                <p:nvPr/>
              </p:nvSpPr>
              <p:spPr>
                <a:xfrm>
                  <a:off x="8028720" y="1825560"/>
                  <a:ext cx="0" cy="20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 txBox="1"/>
                <p:nvPr/>
              </p:nvSpPr>
              <p:spPr>
                <a:xfrm>
                  <a:off x="8028720" y="1825560"/>
                  <a:ext cx="3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3" name="Group 109"/>
            <p:cNvGrpSpPr/>
            <p:nvPr/>
          </p:nvGrpSpPr>
          <p:grpSpPr>
            <a:xfrm>
              <a:off x="971640" y="2179800"/>
              <a:ext cx="142920" cy="101520"/>
              <a:chOff x="971640" y="2179800"/>
              <a:chExt cx="142920" cy="101520"/>
            </a:xfrm>
          </p:grpSpPr>
          <p:sp>
            <p:nvSpPr>
              <p:cNvPr id="1624" name="Oval 110"/>
              <p:cNvSpPr/>
              <p:nvPr/>
            </p:nvSpPr>
            <p:spPr>
              <a:xfrm>
                <a:off x="971640" y="217980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5" name=""/>
              <p:cNvGrpSpPr/>
              <p:nvPr/>
            </p:nvGrpSpPr>
            <p:grpSpPr>
              <a:xfrm>
                <a:off x="971640" y="2229840"/>
                <a:ext cx="142920" cy="360"/>
                <a:chOff x="971640" y="2229840"/>
                <a:chExt cx="142920" cy="360"/>
              </a:xfrm>
            </p:grpSpPr>
            <p:sp>
              <p:nvSpPr>
                <p:cNvPr id="1626" name="Line 111"/>
                <p:cNvSpPr/>
                <p:nvPr/>
              </p:nvSpPr>
              <p:spPr>
                <a:xfrm>
                  <a:off x="971640" y="2229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 txBox="1"/>
                <p:nvPr/>
              </p:nvSpPr>
              <p:spPr>
                <a:xfrm>
                  <a:off x="971640" y="2229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8" name="Group 112"/>
            <p:cNvGrpSpPr/>
            <p:nvPr/>
          </p:nvGrpSpPr>
          <p:grpSpPr>
            <a:xfrm>
              <a:off x="1547640" y="1571760"/>
              <a:ext cx="142920" cy="101520"/>
              <a:chOff x="1547640" y="1571760"/>
              <a:chExt cx="142920" cy="101520"/>
            </a:xfrm>
          </p:grpSpPr>
          <p:sp>
            <p:nvSpPr>
              <p:cNvPr id="1629" name="Oval 113"/>
              <p:cNvSpPr/>
              <p:nvPr/>
            </p:nvSpPr>
            <p:spPr>
              <a:xfrm>
                <a:off x="1547640" y="157176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0" name=""/>
              <p:cNvGrpSpPr/>
              <p:nvPr/>
            </p:nvGrpSpPr>
            <p:grpSpPr>
              <a:xfrm>
                <a:off x="1547640" y="1621800"/>
                <a:ext cx="142920" cy="360"/>
                <a:chOff x="1547640" y="1621800"/>
                <a:chExt cx="142920" cy="360"/>
              </a:xfrm>
            </p:grpSpPr>
            <p:sp>
              <p:nvSpPr>
                <p:cNvPr id="1631" name="Line 114"/>
                <p:cNvSpPr/>
                <p:nvPr/>
              </p:nvSpPr>
              <p:spPr>
                <a:xfrm>
                  <a:off x="1547640" y="16218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 txBox="1"/>
                <p:nvPr/>
              </p:nvSpPr>
              <p:spPr>
                <a:xfrm>
                  <a:off x="1547640" y="16218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3" name="Group 115"/>
            <p:cNvGrpSpPr/>
            <p:nvPr/>
          </p:nvGrpSpPr>
          <p:grpSpPr>
            <a:xfrm>
              <a:off x="4859280" y="1521720"/>
              <a:ext cx="142920" cy="101520"/>
              <a:chOff x="4859280" y="1521720"/>
              <a:chExt cx="142920" cy="101520"/>
            </a:xfrm>
          </p:grpSpPr>
          <p:sp>
            <p:nvSpPr>
              <p:cNvPr id="1634" name="Oval 116"/>
              <p:cNvSpPr/>
              <p:nvPr/>
            </p:nvSpPr>
            <p:spPr>
              <a:xfrm>
                <a:off x="4859280" y="152172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5" name=""/>
              <p:cNvGrpSpPr/>
              <p:nvPr/>
            </p:nvGrpSpPr>
            <p:grpSpPr>
              <a:xfrm>
                <a:off x="4859280" y="1571760"/>
                <a:ext cx="142920" cy="360"/>
                <a:chOff x="4859280" y="1571760"/>
                <a:chExt cx="142920" cy="360"/>
              </a:xfrm>
            </p:grpSpPr>
            <p:sp>
              <p:nvSpPr>
                <p:cNvPr id="1636" name="Line 117"/>
                <p:cNvSpPr/>
                <p:nvPr/>
              </p:nvSpPr>
              <p:spPr>
                <a:xfrm>
                  <a:off x="4859280" y="15717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 txBox="1"/>
                <p:nvPr/>
              </p:nvSpPr>
              <p:spPr>
                <a:xfrm>
                  <a:off x="4859280" y="15717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8" name="Group 118"/>
            <p:cNvGrpSpPr/>
            <p:nvPr/>
          </p:nvGrpSpPr>
          <p:grpSpPr>
            <a:xfrm>
              <a:off x="5292720" y="1724040"/>
              <a:ext cx="142920" cy="101520"/>
              <a:chOff x="5292720" y="1724040"/>
              <a:chExt cx="142920" cy="101520"/>
            </a:xfrm>
          </p:grpSpPr>
          <p:sp>
            <p:nvSpPr>
              <p:cNvPr id="1639" name="Oval 119"/>
              <p:cNvSpPr/>
              <p:nvPr/>
            </p:nvSpPr>
            <p:spPr>
              <a:xfrm>
                <a:off x="5292720" y="172404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0" name=""/>
              <p:cNvGrpSpPr/>
              <p:nvPr/>
            </p:nvGrpSpPr>
            <p:grpSpPr>
              <a:xfrm>
                <a:off x="5292720" y="1774080"/>
                <a:ext cx="142920" cy="360"/>
                <a:chOff x="5292720" y="1774080"/>
                <a:chExt cx="142920" cy="360"/>
              </a:xfrm>
            </p:grpSpPr>
            <p:sp>
              <p:nvSpPr>
                <p:cNvPr id="1641" name="Line 120"/>
                <p:cNvSpPr/>
                <p:nvPr/>
              </p:nvSpPr>
              <p:spPr>
                <a:xfrm>
                  <a:off x="5292720" y="1774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 txBox="1"/>
                <p:nvPr/>
              </p:nvSpPr>
              <p:spPr>
                <a:xfrm>
                  <a:off x="5292720" y="17740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3" name="Group 121"/>
            <p:cNvGrpSpPr/>
            <p:nvPr/>
          </p:nvGrpSpPr>
          <p:grpSpPr>
            <a:xfrm>
              <a:off x="7020000" y="1875960"/>
              <a:ext cx="142920" cy="101520"/>
              <a:chOff x="7020000" y="1875960"/>
              <a:chExt cx="142920" cy="101520"/>
            </a:xfrm>
          </p:grpSpPr>
          <p:sp>
            <p:nvSpPr>
              <p:cNvPr id="1644" name="Oval 122"/>
              <p:cNvSpPr/>
              <p:nvPr/>
            </p:nvSpPr>
            <p:spPr>
              <a:xfrm>
                <a:off x="7020000" y="187596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5" name=""/>
              <p:cNvGrpSpPr/>
              <p:nvPr/>
            </p:nvGrpSpPr>
            <p:grpSpPr>
              <a:xfrm>
                <a:off x="7020000" y="1926000"/>
                <a:ext cx="142920" cy="360"/>
                <a:chOff x="7020000" y="1926000"/>
                <a:chExt cx="142920" cy="360"/>
              </a:xfrm>
            </p:grpSpPr>
            <p:sp>
              <p:nvSpPr>
                <p:cNvPr id="1646" name="Line 123"/>
                <p:cNvSpPr/>
                <p:nvPr/>
              </p:nvSpPr>
              <p:spPr>
                <a:xfrm>
                  <a:off x="7020000" y="19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 txBox="1"/>
                <p:nvPr/>
              </p:nvSpPr>
              <p:spPr>
                <a:xfrm>
                  <a:off x="7020000" y="19260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8" name="Group 124"/>
            <p:cNvGrpSpPr/>
            <p:nvPr/>
          </p:nvGrpSpPr>
          <p:grpSpPr>
            <a:xfrm>
              <a:off x="7451640" y="2281320"/>
              <a:ext cx="142920" cy="101520"/>
              <a:chOff x="7451640" y="2281320"/>
              <a:chExt cx="142920" cy="101520"/>
            </a:xfrm>
          </p:grpSpPr>
          <p:sp>
            <p:nvSpPr>
              <p:cNvPr id="1649" name="Oval 125"/>
              <p:cNvSpPr/>
              <p:nvPr/>
            </p:nvSpPr>
            <p:spPr>
              <a:xfrm>
                <a:off x="7451640" y="228132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7451640" y="2331360"/>
                <a:ext cx="142920" cy="360"/>
                <a:chOff x="7451640" y="2331360"/>
                <a:chExt cx="142920" cy="360"/>
              </a:xfrm>
            </p:grpSpPr>
            <p:sp>
              <p:nvSpPr>
                <p:cNvPr id="1651" name="Line 126"/>
                <p:cNvSpPr/>
                <p:nvPr/>
              </p:nvSpPr>
              <p:spPr>
                <a:xfrm>
                  <a:off x="7451640" y="23313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 txBox="1"/>
                <p:nvPr/>
              </p:nvSpPr>
              <p:spPr>
                <a:xfrm>
                  <a:off x="7451640" y="23313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3" name="Group 127"/>
            <p:cNvGrpSpPr/>
            <p:nvPr/>
          </p:nvGrpSpPr>
          <p:grpSpPr>
            <a:xfrm>
              <a:off x="611280" y="1521720"/>
              <a:ext cx="142920" cy="101520"/>
              <a:chOff x="611280" y="1521720"/>
              <a:chExt cx="142920" cy="101520"/>
            </a:xfrm>
          </p:grpSpPr>
          <p:sp>
            <p:nvSpPr>
              <p:cNvPr id="1654" name="Oval 128"/>
              <p:cNvSpPr/>
              <p:nvPr/>
            </p:nvSpPr>
            <p:spPr>
              <a:xfrm>
                <a:off x="611280" y="152172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5" name=""/>
              <p:cNvGrpSpPr/>
              <p:nvPr/>
            </p:nvGrpSpPr>
            <p:grpSpPr>
              <a:xfrm>
                <a:off x="611280" y="1571760"/>
                <a:ext cx="142920" cy="360"/>
                <a:chOff x="611280" y="1571760"/>
                <a:chExt cx="142920" cy="360"/>
              </a:xfrm>
            </p:grpSpPr>
            <p:sp>
              <p:nvSpPr>
                <p:cNvPr id="1656" name="Line 129"/>
                <p:cNvSpPr/>
                <p:nvPr/>
              </p:nvSpPr>
              <p:spPr>
                <a:xfrm>
                  <a:off x="611280" y="15717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 txBox="1"/>
                <p:nvPr/>
              </p:nvSpPr>
              <p:spPr>
                <a:xfrm>
                  <a:off x="611280" y="15717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8" name="Group 130"/>
            <p:cNvGrpSpPr/>
            <p:nvPr/>
          </p:nvGrpSpPr>
          <p:grpSpPr>
            <a:xfrm>
              <a:off x="3276720" y="1775520"/>
              <a:ext cx="142920" cy="101520"/>
              <a:chOff x="3276720" y="1775520"/>
              <a:chExt cx="142920" cy="101520"/>
            </a:xfrm>
          </p:grpSpPr>
          <p:sp>
            <p:nvSpPr>
              <p:cNvPr id="1659" name="Oval 131"/>
              <p:cNvSpPr/>
              <p:nvPr/>
            </p:nvSpPr>
            <p:spPr>
              <a:xfrm>
                <a:off x="3276720" y="177552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0" name=""/>
              <p:cNvGrpSpPr/>
              <p:nvPr/>
            </p:nvGrpSpPr>
            <p:grpSpPr>
              <a:xfrm>
                <a:off x="3276720" y="1825560"/>
                <a:ext cx="142920" cy="360"/>
                <a:chOff x="3276720" y="1825560"/>
                <a:chExt cx="142920" cy="360"/>
              </a:xfrm>
            </p:grpSpPr>
            <p:sp>
              <p:nvSpPr>
                <p:cNvPr id="1661" name="Line 132"/>
                <p:cNvSpPr/>
                <p:nvPr/>
              </p:nvSpPr>
              <p:spPr>
                <a:xfrm>
                  <a:off x="3276720" y="1825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 txBox="1"/>
                <p:nvPr/>
              </p:nvSpPr>
              <p:spPr>
                <a:xfrm>
                  <a:off x="3276720" y="1825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3" name="Group 133"/>
            <p:cNvGrpSpPr/>
            <p:nvPr/>
          </p:nvGrpSpPr>
          <p:grpSpPr>
            <a:xfrm>
              <a:off x="2484360" y="1420200"/>
              <a:ext cx="142920" cy="101520"/>
              <a:chOff x="2484360" y="1420200"/>
              <a:chExt cx="142920" cy="101520"/>
            </a:xfrm>
          </p:grpSpPr>
          <p:sp>
            <p:nvSpPr>
              <p:cNvPr id="1664" name="Oval 134"/>
              <p:cNvSpPr/>
              <p:nvPr/>
            </p:nvSpPr>
            <p:spPr>
              <a:xfrm>
                <a:off x="2484360" y="142020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5" name=""/>
              <p:cNvGrpSpPr/>
              <p:nvPr/>
            </p:nvGrpSpPr>
            <p:grpSpPr>
              <a:xfrm>
                <a:off x="2484360" y="1470240"/>
                <a:ext cx="142920" cy="360"/>
                <a:chOff x="2484360" y="1470240"/>
                <a:chExt cx="142920" cy="360"/>
              </a:xfrm>
            </p:grpSpPr>
            <p:sp>
              <p:nvSpPr>
                <p:cNvPr id="1666" name="Line 135"/>
                <p:cNvSpPr/>
                <p:nvPr/>
              </p:nvSpPr>
              <p:spPr>
                <a:xfrm>
                  <a:off x="2484360" y="14702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 txBox="1"/>
                <p:nvPr/>
              </p:nvSpPr>
              <p:spPr>
                <a:xfrm>
                  <a:off x="2484360" y="14702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8" name="Group 136"/>
            <p:cNvGrpSpPr/>
            <p:nvPr/>
          </p:nvGrpSpPr>
          <p:grpSpPr>
            <a:xfrm>
              <a:off x="4284720" y="2383200"/>
              <a:ext cx="142920" cy="101520"/>
              <a:chOff x="4284720" y="2383200"/>
              <a:chExt cx="142920" cy="101520"/>
            </a:xfrm>
          </p:grpSpPr>
          <p:sp>
            <p:nvSpPr>
              <p:cNvPr id="1669" name="Oval 137"/>
              <p:cNvSpPr/>
              <p:nvPr/>
            </p:nvSpPr>
            <p:spPr>
              <a:xfrm>
                <a:off x="4284720" y="238320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4284720" y="2433240"/>
                <a:ext cx="142920" cy="360"/>
                <a:chOff x="4284720" y="2433240"/>
                <a:chExt cx="142920" cy="360"/>
              </a:xfrm>
            </p:grpSpPr>
            <p:sp>
              <p:nvSpPr>
                <p:cNvPr id="1671" name="Line 138"/>
                <p:cNvSpPr/>
                <p:nvPr/>
              </p:nvSpPr>
              <p:spPr>
                <a:xfrm>
                  <a:off x="4284720" y="24332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 txBox="1"/>
                <p:nvPr/>
              </p:nvSpPr>
              <p:spPr>
                <a:xfrm>
                  <a:off x="4284720" y="24332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3" name="Group 139"/>
            <p:cNvGrpSpPr/>
            <p:nvPr/>
          </p:nvGrpSpPr>
          <p:grpSpPr>
            <a:xfrm>
              <a:off x="5867280" y="2383200"/>
              <a:ext cx="142920" cy="101520"/>
              <a:chOff x="5867280" y="2383200"/>
              <a:chExt cx="142920" cy="101520"/>
            </a:xfrm>
          </p:grpSpPr>
          <p:sp>
            <p:nvSpPr>
              <p:cNvPr id="1674" name="Oval 140"/>
              <p:cNvSpPr/>
              <p:nvPr/>
            </p:nvSpPr>
            <p:spPr>
              <a:xfrm>
                <a:off x="5867280" y="238320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5" name=""/>
              <p:cNvGrpSpPr/>
              <p:nvPr/>
            </p:nvGrpSpPr>
            <p:grpSpPr>
              <a:xfrm>
                <a:off x="5867280" y="2433240"/>
                <a:ext cx="142920" cy="360"/>
                <a:chOff x="5867280" y="2433240"/>
                <a:chExt cx="142920" cy="360"/>
              </a:xfrm>
            </p:grpSpPr>
            <p:sp>
              <p:nvSpPr>
                <p:cNvPr id="1676" name="Line 141"/>
                <p:cNvSpPr/>
                <p:nvPr/>
              </p:nvSpPr>
              <p:spPr>
                <a:xfrm>
                  <a:off x="5867280" y="24332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 txBox="1"/>
                <p:nvPr/>
              </p:nvSpPr>
              <p:spPr>
                <a:xfrm>
                  <a:off x="5867280" y="24332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8" name="Group 142"/>
            <p:cNvGrpSpPr/>
            <p:nvPr/>
          </p:nvGrpSpPr>
          <p:grpSpPr>
            <a:xfrm>
              <a:off x="6227640" y="1470240"/>
              <a:ext cx="142920" cy="101520"/>
              <a:chOff x="6227640" y="1470240"/>
              <a:chExt cx="142920" cy="101520"/>
            </a:xfrm>
          </p:grpSpPr>
          <p:sp>
            <p:nvSpPr>
              <p:cNvPr id="1679" name="Oval 143"/>
              <p:cNvSpPr/>
              <p:nvPr/>
            </p:nvSpPr>
            <p:spPr>
              <a:xfrm>
                <a:off x="6227640" y="147024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0" name=""/>
              <p:cNvGrpSpPr/>
              <p:nvPr/>
            </p:nvGrpSpPr>
            <p:grpSpPr>
              <a:xfrm>
                <a:off x="6227640" y="1520280"/>
                <a:ext cx="142920" cy="360"/>
                <a:chOff x="6227640" y="1520280"/>
                <a:chExt cx="142920" cy="360"/>
              </a:xfrm>
            </p:grpSpPr>
            <p:sp>
              <p:nvSpPr>
                <p:cNvPr id="1681" name="Line 144"/>
                <p:cNvSpPr/>
                <p:nvPr/>
              </p:nvSpPr>
              <p:spPr>
                <a:xfrm>
                  <a:off x="6227640" y="15202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 txBox="1"/>
                <p:nvPr/>
              </p:nvSpPr>
              <p:spPr>
                <a:xfrm>
                  <a:off x="6227640" y="15202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3" name="Group 145"/>
            <p:cNvGrpSpPr/>
            <p:nvPr/>
          </p:nvGrpSpPr>
          <p:grpSpPr>
            <a:xfrm>
              <a:off x="8317080" y="2332800"/>
              <a:ext cx="142560" cy="101520"/>
              <a:chOff x="8317080" y="2332800"/>
              <a:chExt cx="142560" cy="101520"/>
            </a:xfrm>
          </p:grpSpPr>
          <p:sp>
            <p:nvSpPr>
              <p:cNvPr id="1684" name="Oval 146"/>
              <p:cNvSpPr/>
              <p:nvPr/>
            </p:nvSpPr>
            <p:spPr>
              <a:xfrm>
                <a:off x="8317080" y="2332800"/>
                <a:ext cx="14256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5" name=""/>
              <p:cNvGrpSpPr/>
              <p:nvPr/>
            </p:nvGrpSpPr>
            <p:grpSpPr>
              <a:xfrm>
                <a:off x="8317080" y="2382840"/>
                <a:ext cx="142560" cy="360"/>
                <a:chOff x="8317080" y="2382840"/>
                <a:chExt cx="142560" cy="360"/>
              </a:xfrm>
            </p:grpSpPr>
            <p:sp>
              <p:nvSpPr>
                <p:cNvPr id="1686" name="Line 147"/>
                <p:cNvSpPr/>
                <p:nvPr/>
              </p:nvSpPr>
              <p:spPr>
                <a:xfrm>
                  <a:off x="8317080" y="2382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 txBox="1"/>
                <p:nvPr/>
              </p:nvSpPr>
              <p:spPr>
                <a:xfrm>
                  <a:off x="8317080" y="23828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8" name="Group 148"/>
            <p:cNvGrpSpPr/>
            <p:nvPr/>
          </p:nvGrpSpPr>
          <p:grpSpPr>
            <a:xfrm>
              <a:off x="6084720" y="2179800"/>
              <a:ext cx="142920" cy="101520"/>
              <a:chOff x="6084720" y="2179800"/>
              <a:chExt cx="142920" cy="101520"/>
            </a:xfrm>
          </p:grpSpPr>
          <p:sp>
            <p:nvSpPr>
              <p:cNvPr id="1689" name="Oval 149"/>
              <p:cNvSpPr/>
              <p:nvPr/>
            </p:nvSpPr>
            <p:spPr>
              <a:xfrm>
                <a:off x="6084720" y="217980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0" name=""/>
              <p:cNvGrpSpPr/>
              <p:nvPr/>
            </p:nvGrpSpPr>
            <p:grpSpPr>
              <a:xfrm>
                <a:off x="6084720" y="2229840"/>
                <a:ext cx="142920" cy="360"/>
                <a:chOff x="6084720" y="2229840"/>
                <a:chExt cx="142920" cy="360"/>
              </a:xfrm>
            </p:grpSpPr>
            <p:sp>
              <p:nvSpPr>
                <p:cNvPr id="1691" name="Line 150"/>
                <p:cNvSpPr/>
                <p:nvPr/>
              </p:nvSpPr>
              <p:spPr>
                <a:xfrm>
                  <a:off x="6084720" y="2229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 txBox="1"/>
                <p:nvPr/>
              </p:nvSpPr>
              <p:spPr>
                <a:xfrm>
                  <a:off x="6084720" y="2229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3" name="Group 151"/>
            <p:cNvGrpSpPr/>
            <p:nvPr/>
          </p:nvGrpSpPr>
          <p:grpSpPr>
            <a:xfrm>
              <a:off x="7885080" y="1420200"/>
              <a:ext cx="142920" cy="101520"/>
              <a:chOff x="7885080" y="1420200"/>
              <a:chExt cx="142920" cy="101520"/>
            </a:xfrm>
          </p:grpSpPr>
          <p:sp>
            <p:nvSpPr>
              <p:cNvPr id="1694" name="Oval 152"/>
              <p:cNvSpPr/>
              <p:nvPr/>
            </p:nvSpPr>
            <p:spPr>
              <a:xfrm>
                <a:off x="7885080" y="1420200"/>
                <a:ext cx="142920" cy="101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5" name=""/>
              <p:cNvGrpSpPr/>
              <p:nvPr/>
            </p:nvGrpSpPr>
            <p:grpSpPr>
              <a:xfrm>
                <a:off x="7885080" y="1470240"/>
                <a:ext cx="142920" cy="360"/>
                <a:chOff x="7885080" y="1470240"/>
                <a:chExt cx="142920" cy="360"/>
              </a:xfrm>
            </p:grpSpPr>
            <p:sp>
              <p:nvSpPr>
                <p:cNvPr id="1696" name="Line 153"/>
                <p:cNvSpPr/>
                <p:nvPr/>
              </p:nvSpPr>
              <p:spPr>
                <a:xfrm>
                  <a:off x="7885080" y="14702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 txBox="1"/>
                <p:nvPr/>
              </p:nvSpPr>
              <p:spPr>
                <a:xfrm>
                  <a:off x="7885080" y="14702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8" name="Group 154"/>
            <p:cNvGrpSpPr/>
            <p:nvPr/>
          </p:nvGrpSpPr>
          <p:grpSpPr>
            <a:xfrm>
              <a:off x="2556000" y="1571760"/>
              <a:ext cx="142920" cy="101520"/>
              <a:chOff x="2556000" y="1571760"/>
              <a:chExt cx="142920" cy="101520"/>
            </a:xfrm>
          </p:grpSpPr>
          <p:sp>
            <p:nvSpPr>
              <p:cNvPr id="1699" name="Oval 155"/>
              <p:cNvSpPr/>
              <p:nvPr/>
            </p:nvSpPr>
            <p:spPr>
              <a:xfrm>
                <a:off x="2556000" y="157176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0" name=""/>
              <p:cNvGrpSpPr/>
              <p:nvPr/>
            </p:nvGrpSpPr>
            <p:grpSpPr>
              <a:xfrm>
                <a:off x="2556000" y="1621800"/>
                <a:ext cx="142920" cy="360"/>
                <a:chOff x="2556000" y="1621800"/>
                <a:chExt cx="142920" cy="360"/>
              </a:xfrm>
            </p:grpSpPr>
            <p:sp>
              <p:nvSpPr>
                <p:cNvPr id="1701" name="Line 156"/>
                <p:cNvSpPr/>
                <p:nvPr/>
              </p:nvSpPr>
              <p:spPr>
                <a:xfrm>
                  <a:off x="2556000" y="16218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 txBox="1"/>
                <p:nvPr/>
              </p:nvSpPr>
              <p:spPr>
                <a:xfrm>
                  <a:off x="2556000" y="16218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3" name="Group 157"/>
            <p:cNvGrpSpPr/>
            <p:nvPr/>
          </p:nvGrpSpPr>
          <p:grpSpPr>
            <a:xfrm>
              <a:off x="2411280" y="1774080"/>
              <a:ext cx="142920" cy="101520"/>
              <a:chOff x="2411280" y="1774080"/>
              <a:chExt cx="142920" cy="101520"/>
            </a:xfrm>
          </p:grpSpPr>
          <p:sp>
            <p:nvSpPr>
              <p:cNvPr id="1704" name="Oval 158"/>
              <p:cNvSpPr/>
              <p:nvPr/>
            </p:nvSpPr>
            <p:spPr>
              <a:xfrm>
                <a:off x="2411280" y="177408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5" name=""/>
              <p:cNvGrpSpPr/>
              <p:nvPr/>
            </p:nvGrpSpPr>
            <p:grpSpPr>
              <a:xfrm>
                <a:off x="2411280" y="1824120"/>
                <a:ext cx="142920" cy="360"/>
                <a:chOff x="2411280" y="1824120"/>
                <a:chExt cx="142920" cy="360"/>
              </a:xfrm>
            </p:grpSpPr>
            <p:sp>
              <p:nvSpPr>
                <p:cNvPr id="1706" name="Line 159"/>
                <p:cNvSpPr/>
                <p:nvPr/>
              </p:nvSpPr>
              <p:spPr>
                <a:xfrm>
                  <a:off x="2411280" y="1824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 txBox="1"/>
                <p:nvPr/>
              </p:nvSpPr>
              <p:spPr>
                <a:xfrm>
                  <a:off x="2411280" y="18241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8" name="Group 160"/>
            <p:cNvGrpSpPr/>
            <p:nvPr/>
          </p:nvGrpSpPr>
          <p:grpSpPr>
            <a:xfrm>
              <a:off x="8317080" y="1470240"/>
              <a:ext cx="142560" cy="101520"/>
              <a:chOff x="8317080" y="1470240"/>
              <a:chExt cx="142560" cy="101520"/>
            </a:xfrm>
          </p:grpSpPr>
          <p:sp>
            <p:nvSpPr>
              <p:cNvPr id="1709" name="Oval 161"/>
              <p:cNvSpPr/>
              <p:nvPr/>
            </p:nvSpPr>
            <p:spPr>
              <a:xfrm>
                <a:off x="8317080" y="1470240"/>
                <a:ext cx="14256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0" name=""/>
              <p:cNvGrpSpPr/>
              <p:nvPr/>
            </p:nvGrpSpPr>
            <p:grpSpPr>
              <a:xfrm>
                <a:off x="8317080" y="1520280"/>
                <a:ext cx="142560" cy="360"/>
                <a:chOff x="8317080" y="1520280"/>
                <a:chExt cx="142560" cy="360"/>
              </a:xfrm>
            </p:grpSpPr>
            <p:sp>
              <p:nvSpPr>
                <p:cNvPr id="1711" name="Line 162"/>
                <p:cNvSpPr/>
                <p:nvPr/>
              </p:nvSpPr>
              <p:spPr>
                <a:xfrm>
                  <a:off x="8317080" y="15202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"/>
                <p:cNvSpPr txBox="1"/>
                <p:nvPr/>
              </p:nvSpPr>
              <p:spPr>
                <a:xfrm>
                  <a:off x="8317080" y="152028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3" name="Group 163"/>
            <p:cNvGrpSpPr/>
            <p:nvPr/>
          </p:nvGrpSpPr>
          <p:grpSpPr>
            <a:xfrm>
              <a:off x="2411280" y="2535120"/>
              <a:ext cx="142920" cy="101520"/>
              <a:chOff x="2411280" y="2535120"/>
              <a:chExt cx="142920" cy="101520"/>
            </a:xfrm>
          </p:grpSpPr>
          <p:sp>
            <p:nvSpPr>
              <p:cNvPr id="1714" name="Oval 164"/>
              <p:cNvSpPr/>
              <p:nvPr/>
            </p:nvSpPr>
            <p:spPr>
              <a:xfrm>
                <a:off x="2411280" y="253512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5" name=""/>
              <p:cNvGrpSpPr/>
              <p:nvPr/>
            </p:nvGrpSpPr>
            <p:grpSpPr>
              <a:xfrm>
                <a:off x="2411280" y="2585160"/>
                <a:ext cx="142920" cy="360"/>
                <a:chOff x="2411280" y="2585160"/>
                <a:chExt cx="142920" cy="360"/>
              </a:xfrm>
            </p:grpSpPr>
            <p:sp>
              <p:nvSpPr>
                <p:cNvPr id="1716" name="Line 165"/>
                <p:cNvSpPr/>
                <p:nvPr/>
              </p:nvSpPr>
              <p:spPr>
                <a:xfrm>
                  <a:off x="2411280" y="25851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 txBox="1"/>
                <p:nvPr/>
              </p:nvSpPr>
              <p:spPr>
                <a:xfrm>
                  <a:off x="2411280" y="25851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8" name="Group 166"/>
            <p:cNvGrpSpPr/>
            <p:nvPr/>
          </p:nvGrpSpPr>
          <p:grpSpPr>
            <a:xfrm>
              <a:off x="2916360" y="2332800"/>
              <a:ext cx="142920" cy="101520"/>
              <a:chOff x="2916360" y="2332800"/>
              <a:chExt cx="142920" cy="101520"/>
            </a:xfrm>
          </p:grpSpPr>
          <p:sp>
            <p:nvSpPr>
              <p:cNvPr id="1719" name="Oval 167"/>
              <p:cNvSpPr/>
              <p:nvPr/>
            </p:nvSpPr>
            <p:spPr>
              <a:xfrm>
                <a:off x="2916360" y="233280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0" name=""/>
              <p:cNvGrpSpPr/>
              <p:nvPr/>
            </p:nvGrpSpPr>
            <p:grpSpPr>
              <a:xfrm>
                <a:off x="2916360" y="2382840"/>
                <a:ext cx="142920" cy="360"/>
                <a:chOff x="2916360" y="2382840"/>
                <a:chExt cx="142920" cy="360"/>
              </a:xfrm>
            </p:grpSpPr>
            <p:sp>
              <p:nvSpPr>
                <p:cNvPr id="1721" name="Line 168"/>
                <p:cNvSpPr/>
                <p:nvPr/>
              </p:nvSpPr>
              <p:spPr>
                <a:xfrm>
                  <a:off x="2916360" y="2382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 txBox="1"/>
                <p:nvPr/>
              </p:nvSpPr>
              <p:spPr>
                <a:xfrm>
                  <a:off x="2916360" y="2382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3" name="Group 169"/>
            <p:cNvGrpSpPr/>
            <p:nvPr/>
          </p:nvGrpSpPr>
          <p:grpSpPr>
            <a:xfrm>
              <a:off x="5003640" y="1318320"/>
              <a:ext cx="142920" cy="101520"/>
              <a:chOff x="5003640" y="1318320"/>
              <a:chExt cx="142920" cy="101520"/>
            </a:xfrm>
          </p:grpSpPr>
          <p:sp>
            <p:nvSpPr>
              <p:cNvPr id="1724" name="Oval 170"/>
              <p:cNvSpPr/>
              <p:nvPr/>
            </p:nvSpPr>
            <p:spPr>
              <a:xfrm>
                <a:off x="5003640" y="131832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5" name=""/>
              <p:cNvGrpSpPr/>
              <p:nvPr/>
            </p:nvGrpSpPr>
            <p:grpSpPr>
              <a:xfrm>
                <a:off x="5003640" y="1368360"/>
                <a:ext cx="142920" cy="360"/>
                <a:chOff x="5003640" y="1368360"/>
                <a:chExt cx="142920" cy="360"/>
              </a:xfrm>
            </p:grpSpPr>
            <p:sp>
              <p:nvSpPr>
                <p:cNvPr id="1726" name="Line 171"/>
                <p:cNvSpPr/>
                <p:nvPr/>
              </p:nvSpPr>
              <p:spPr>
                <a:xfrm>
                  <a:off x="5003640" y="13683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 txBox="1"/>
                <p:nvPr/>
              </p:nvSpPr>
              <p:spPr>
                <a:xfrm>
                  <a:off x="5003640" y="13683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8" name="Group 172"/>
            <p:cNvGrpSpPr/>
            <p:nvPr/>
          </p:nvGrpSpPr>
          <p:grpSpPr>
            <a:xfrm>
              <a:off x="5724360" y="1927440"/>
              <a:ext cx="142920" cy="101520"/>
              <a:chOff x="5724360" y="1927440"/>
              <a:chExt cx="142920" cy="101520"/>
            </a:xfrm>
          </p:grpSpPr>
          <p:sp>
            <p:nvSpPr>
              <p:cNvPr id="1729" name="Oval 173"/>
              <p:cNvSpPr/>
              <p:nvPr/>
            </p:nvSpPr>
            <p:spPr>
              <a:xfrm>
                <a:off x="5724360" y="192744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0" name=""/>
              <p:cNvGrpSpPr/>
              <p:nvPr/>
            </p:nvGrpSpPr>
            <p:grpSpPr>
              <a:xfrm>
                <a:off x="5724360" y="1977480"/>
                <a:ext cx="142920" cy="360"/>
                <a:chOff x="5724360" y="1977480"/>
                <a:chExt cx="142920" cy="360"/>
              </a:xfrm>
            </p:grpSpPr>
            <p:sp>
              <p:nvSpPr>
                <p:cNvPr id="1731" name="Line 174"/>
                <p:cNvSpPr/>
                <p:nvPr/>
              </p:nvSpPr>
              <p:spPr>
                <a:xfrm>
                  <a:off x="5724360" y="1977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 txBox="1"/>
                <p:nvPr/>
              </p:nvSpPr>
              <p:spPr>
                <a:xfrm>
                  <a:off x="5724360" y="19774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3" name="Group 175"/>
            <p:cNvGrpSpPr/>
            <p:nvPr/>
          </p:nvGrpSpPr>
          <p:grpSpPr>
            <a:xfrm>
              <a:off x="8532720" y="1622520"/>
              <a:ext cx="142920" cy="101520"/>
              <a:chOff x="8532720" y="1622520"/>
              <a:chExt cx="142920" cy="101520"/>
            </a:xfrm>
          </p:grpSpPr>
          <p:sp>
            <p:nvSpPr>
              <p:cNvPr id="1734" name="Oval 176"/>
              <p:cNvSpPr/>
              <p:nvPr/>
            </p:nvSpPr>
            <p:spPr>
              <a:xfrm>
                <a:off x="8532720" y="162252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8532720" y="1672560"/>
                <a:ext cx="142920" cy="360"/>
                <a:chOff x="8532720" y="1672560"/>
                <a:chExt cx="142920" cy="360"/>
              </a:xfrm>
            </p:grpSpPr>
            <p:sp>
              <p:nvSpPr>
                <p:cNvPr id="1736" name="Line 177"/>
                <p:cNvSpPr/>
                <p:nvPr/>
              </p:nvSpPr>
              <p:spPr>
                <a:xfrm>
                  <a:off x="8532720" y="1672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 txBox="1"/>
                <p:nvPr/>
              </p:nvSpPr>
              <p:spPr>
                <a:xfrm>
                  <a:off x="8532720" y="1672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8" name="Group 178"/>
            <p:cNvGrpSpPr/>
            <p:nvPr/>
          </p:nvGrpSpPr>
          <p:grpSpPr>
            <a:xfrm>
              <a:off x="2124000" y="2231280"/>
              <a:ext cx="142920" cy="101520"/>
              <a:chOff x="2124000" y="2231280"/>
              <a:chExt cx="142920" cy="101520"/>
            </a:xfrm>
          </p:grpSpPr>
          <p:sp>
            <p:nvSpPr>
              <p:cNvPr id="1739" name="Oval 179"/>
              <p:cNvSpPr/>
              <p:nvPr/>
            </p:nvSpPr>
            <p:spPr>
              <a:xfrm>
                <a:off x="2124000" y="223128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0" name=""/>
              <p:cNvGrpSpPr/>
              <p:nvPr/>
            </p:nvGrpSpPr>
            <p:grpSpPr>
              <a:xfrm>
                <a:off x="2124000" y="2281320"/>
                <a:ext cx="142920" cy="360"/>
                <a:chOff x="2124000" y="2281320"/>
                <a:chExt cx="142920" cy="360"/>
              </a:xfrm>
            </p:grpSpPr>
            <p:sp>
              <p:nvSpPr>
                <p:cNvPr id="1741" name="Line 180"/>
                <p:cNvSpPr/>
                <p:nvPr/>
              </p:nvSpPr>
              <p:spPr>
                <a:xfrm>
                  <a:off x="2124000" y="22813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 txBox="1"/>
                <p:nvPr/>
              </p:nvSpPr>
              <p:spPr>
                <a:xfrm>
                  <a:off x="2124000" y="22813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3" name="Group 181"/>
            <p:cNvGrpSpPr/>
            <p:nvPr/>
          </p:nvGrpSpPr>
          <p:grpSpPr>
            <a:xfrm>
              <a:off x="4067280" y="1369800"/>
              <a:ext cx="142920" cy="101520"/>
              <a:chOff x="4067280" y="1369800"/>
              <a:chExt cx="142920" cy="101520"/>
            </a:xfrm>
          </p:grpSpPr>
          <p:sp>
            <p:nvSpPr>
              <p:cNvPr id="1744" name="Oval 182"/>
              <p:cNvSpPr/>
              <p:nvPr/>
            </p:nvSpPr>
            <p:spPr>
              <a:xfrm>
                <a:off x="4067280" y="136980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5" name=""/>
              <p:cNvGrpSpPr/>
              <p:nvPr/>
            </p:nvGrpSpPr>
            <p:grpSpPr>
              <a:xfrm>
                <a:off x="4067280" y="1419840"/>
                <a:ext cx="142920" cy="360"/>
                <a:chOff x="4067280" y="1419840"/>
                <a:chExt cx="142920" cy="360"/>
              </a:xfrm>
            </p:grpSpPr>
            <p:sp>
              <p:nvSpPr>
                <p:cNvPr id="1746" name="Line 183"/>
                <p:cNvSpPr/>
                <p:nvPr/>
              </p:nvSpPr>
              <p:spPr>
                <a:xfrm>
                  <a:off x="4067280" y="1419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"/>
                <p:cNvSpPr txBox="1"/>
                <p:nvPr/>
              </p:nvSpPr>
              <p:spPr>
                <a:xfrm>
                  <a:off x="4067280" y="1419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8" name="Group 184"/>
            <p:cNvGrpSpPr/>
            <p:nvPr/>
          </p:nvGrpSpPr>
          <p:grpSpPr>
            <a:xfrm>
              <a:off x="6588000" y="2383200"/>
              <a:ext cx="142920" cy="101520"/>
              <a:chOff x="6588000" y="2383200"/>
              <a:chExt cx="142920" cy="101520"/>
            </a:xfrm>
          </p:grpSpPr>
          <p:sp>
            <p:nvSpPr>
              <p:cNvPr id="1749" name="Oval 185"/>
              <p:cNvSpPr/>
              <p:nvPr/>
            </p:nvSpPr>
            <p:spPr>
              <a:xfrm>
                <a:off x="6588000" y="238320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0" name=""/>
              <p:cNvGrpSpPr/>
              <p:nvPr/>
            </p:nvGrpSpPr>
            <p:grpSpPr>
              <a:xfrm>
                <a:off x="6588000" y="2433240"/>
                <a:ext cx="142920" cy="360"/>
                <a:chOff x="6588000" y="2433240"/>
                <a:chExt cx="142920" cy="360"/>
              </a:xfrm>
            </p:grpSpPr>
            <p:sp>
              <p:nvSpPr>
                <p:cNvPr id="1751" name="Line 186"/>
                <p:cNvSpPr/>
                <p:nvPr/>
              </p:nvSpPr>
              <p:spPr>
                <a:xfrm>
                  <a:off x="6588000" y="24332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"/>
                <p:cNvSpPr txBox="1"/>
                <p:nvPr/>
              </p:nvSpPr>
              <p:spPr>
                <a:xfrm>
                  <a:off x="6588000" y="24332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3" name="Group 187"/>
            <p:cNvGrpSpPr/>
            <p:nvPr/>
          </p:nvGrpSpPr>
          <p:grpSpPr>
            <a:xfrm>
              <a:off x="1763640" y="1318320"/>
              <a:ext cx="142920" cy="101520"/>
              <a:chOff x="1763640" y="1318320"/>
              <a:chExt cx="142920" cy="101520"/>
            </a:xfrm>
          </p:grpSpPr>
          <p:sp>
            <p:nvSpPr>
              <p:cNvPr id="1754" name="Oval 188"/>
              <p:cNvSpPr/>
              <p:nvPr/>
            </p:nvSpPr>
            <p:spPr>
              <a:xfrm>
                <a:off x="1763640" y="131832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5" name=""/>
              <p:cNvGrpSpPr/>
              <p:nvPr/>
            </p:nvGrpSpPr>
            <p:grpSpPr>
              <a:xfrm>
                <a:off x="1763640" y="1368360"/>
                <a:ext cx="142920" cy="360"/>
                <a:chOff x="1763640" y="1368360"/>
                <a:chExt cx="142920" cy="360"/>
              </a:xfrm>
            </p:grpSpPr>
            <p:sp>
              <p:nvSpPr>
                <p:cNvPr id="1756" name="Line 189"/>
                <p:cNvSpPr/>
                <p:nvPr/>
              </p:nvSpPr>
              <p:spPr>
                <a:xfrm>
                  <a:off x="1763640" y="13683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 txBox="1"/>
                <p:nvPr/>
              </p:nvSpPr>
              <p:spPr>
                <a:xfrm>
                  <a:off x="1763640" y="13683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8" name="Group 190"/>
            <p:cNvGrpSpPr/>
            <p:nvPr/>
          </p:nvGrpSpPr>
          <p:grpSpPr>
            <a:xfrm>
              <a:off x="900000" y="1369800"/>
              <a:ext cx="142920" cy="101520"/>
              <a:chOff x="900000" y="1369800"/>
              <a:chExt cx="142920" cy="101520"/>
            </a:xfrm>
          </p:grpSpPr>
          <p:sp>
            <p:nvSpPr>
              <p:cNvPr id="1759" name="Oval 191"/>
              <p:cNvSpPr/>
              <p:nvPr/>
            </p:nvSpPr>
            <p:spPr>
              <a:xfrm>
                <a:off x="900000" y="136980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0" name=""/>
              <p:cNvGrpSpPr/>
              <p:nvPr/>
            </p:nvGrpSpPr>
            <p:grpSpPr>
              <a:xfrm>
                <a:off x="900000" y="1419840"/>
                <a:ext cx="142920" cy="360"/>
                <a:chOff x="900000" y="1419840"/>
                <a:chExt cx="142920" cy="360"/>
              </a:xfrm>
            </p:grpSpPr>
            <p:sp>
              <p:nvSpPr>
                <p:cNvPr id="1761" name="Line 192"/>
                <p:cNvSpPr/>
                <p:nvPr/>
              </p:nvSpPr>
              <p:spPr>
                <a:xfrm>
                  <a:off x="900000" y="1419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 txBox="1"/>
                <p:nvPr/>
              </p:nvSpPr>
              <p:spPr>
                <a:xfrm>
                  <a:off x="900000" y="1419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3" name="Group 193"/>
            <p:cNvGrpSpPr/>
            <p:nvPr/>
          </p:nvGrpSpPr>
          <p:grpSpPr>
            <a:xfrm>
              <a:off x="1187280" y="2027880"/>
              <a:ext cx="142920" cy="101520"/>
              <a:chOff x="1187280" y="2027880"/>
              <a:chExt cx="142920" cy="101520"/>
            </a:xfrm>
          </p:grpSpPr>
          <p:sp>
            <p:nvSpPr>
              <p:cNvPr id="1764" name="Oval 194"/>
              <p:cNvSpPr/>
              <p:nvPr/>
            </p:nvSpPr>
            <p:spPr>
              <a:xfrm>
                <a:off x="1187280" y="202788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5" name=""/>
              <p:cNvGrpSpPr/>
              <p:nvPr/>
            </p:nvGrpSpPr>
            <p:grpSpPr>
              <a:xfrm>
                <a:off x="1187280" y="2077920"/>
                <a:ext cx="142920" cy="360"/>
                <a:chOff x="1187280" y="2077920"/>
                <a:chExt cx="142920" cy="360"/>
              </a:xfrm>
            </p:grpSpPr>
            <p:sp>
              <p:nvSpPr>
                <p:cNvPr id="1766" name="Line 195"/>
                <p:cNvSpPr/>
                <p:nvPr/>
              </p:nvSpPr>
              <p:spPr>
                <a:xfrm>
                  <a:off x="1187280" y="2077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"/>
                <p:cNvSpPr txBox="1"/>
                <p:nvPr/>
              </p:nvSpPr>
              <p:spPr>
                <a:xfrm>
                  <a:off x="1187280" y="2077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8" name="Group 196"/>
            <p:cNvGrpSpPr/>
            <p:nvPr/>
          </p:nvGrpSpPr>
          <p:grpSpPr>
            <a:xfrm>
              <a:off x="684360" y="2433600"/>
              <a:ext cx="142560" cy="101520"/>
              <a:chOff x="684360" y="2433600"/>
              <a:chExt cx="142560" cy="101520"/>
            </a:xfrm>
          </p:grpSpPr>
          <p:sp>
            <p:nvSpPr>
              <p:cNvPr id="1769" name="Oval 197"/>
              <p:cNvSpPr/>
              <p:nvPr/>
            </p:nvSpPr>
            <p:spPr>
              <a:xfrm>
                <a:off x="684360" y="2433600"/>
                <a:ext cx="14256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0" name=""/>
              <p:cNvGrpSpPr/>
              <p:nvPr/>
            </p:nvGrpSpPr>
            <p:grpSpPr>
              <a:xfrm>
                <a:off x="684360" y="2483640"/>
                <a:ext cx="142560" cy="360"/>
                <a:chOff x="684360" y="2483640"/>
                <a:chExt cx="142560" cy="360"/>
              </a:xfrm>
            </p:grpSpPr>
            <p:sp>
              <p:nvSpPr>
                <p:cNvPr id="1771" name="Line 198"/>
                <p:cNvSpPr/>
                <p:nvPr/>
              </p:nvSpPr>
              <p:spPr>
                <a:xfrm>
                  <a:off x="684360" y="24836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 txBox="1"/>
                <p:nvPr/>
              </p:nvSpPr>
              <p:spPr>
                <a:xfrm>
                  <a:off x="684360" y="24836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3" name="Group 199"/>
            <p:cNvGrpSpPr/>
            <p:nvPr/>
          </p:nvGrpSpPr>
          <p:grpSpPr>
            <a:xfrm>
              <a:off x="6300720" y="2433600"/>
              <a:ext cx="142920" cy="101520"/>
              <a:chOff x="6300720" y="2433600"/>
              <a:chExt cx="142920" cy="101520"/>
            </a:xfrm>
          </p:grpSpPr>
          <p:sp>
            <p:nvSpPr>
              <p:cNvPr id="1774" name="Oval 200"/>
              <p:cNvSpPr/>
              <p:nvPr/>
            </p:nvSpPr>
            <p:spPr>
              <a:xfrm>
                <a:off x="6300720" y="243360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5" name=""/>
              <p:cNvGrpSpPr/>
              <p:nvPr/>
            </p:nvGrpSpPr>
            <p:grpSpPr>
              <a:xfrm>
                <a:off x="6300720" y="2483640"/>
                <a:ext cx="142920" cy="360"/>
                <a:chOff x="6300720" y="2483640"/>
                <a:chExt cx="142920" cy="360"/>
              </a:xfrm>
            </p:grpSpPr>
            <p:sp>
              <p:nvSpPr>
                <p:cNvPr id="1776" name="Line 201"/>
                <p:cNvSpPr/>
                <p:nvPr/>
              </p:nvSpPr>
              <p:spPr>
                <a:xfrm>
                  <a:off x="6300720" y="24836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 txBox="1"/>
                <p:nvPr/>
              </p:nvSpPr>
              <p:spPr>
                <a:xfrm>
                  <a:off x="6300720" y="24836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8" name="Group 202"/>
            <p:cNvGrpSpPr/>
            <p:nvPr/>
          </p:nvGrpSpPr>
          <p:grpSpPr>
            <a:xfrm>
              <a:off x="5219640" y="2332800"/>
              <a:ext cx="142920" cy="101520"/>
              <a:chOff x="5219640" y="2332800"/>
              <a:chExt cx="142920" cy="101520"/>
            </a:xfrm>
          </p:grpSpPr>
          <p:sp>
            <p:nvSpPr>
              <p:cNvPr id="1779" name="Oval 203"/>
              <p:cNvSpPr/>
              <p:nvPr/>
            </p:nvSpPr>
            <p:spPr>
              <a:xfrm>
                <a:off x="5219640" y="233280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0" name=""/>
              <p:cNvGrpSpPr/>
              <p:nvPr/>
            </p:nvGrpSpPr>
            <p:grpSpPr>
              <a:xfrm>
                <a:off x="5219640" y="2382840"/>
                <a:ext cx="142920" cy="360"/>
                <a:chOff x="5219640" y="2382840"/>
                <a:chExt cx="142920" cy="360"/>
              </a:xfrm>
            </p:grpSpPr>
            <p:sp>
              <p:nvSpPr>
                <p:cNvPr id="1781" name="Line 204"/>
                <p:cNvSpPr/>
                <p:nvPr/>
              </p:nvSpPr>
              <p:spPr>
                <a:xfrm>
                  <a:off x="5219640" y="2382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 txBox="1"/>
                <p:nvPr/>
              </p:nvSpPr>
              <p:spPr>
                <a:xfrm>
                  <a:off x="5219640" y="2382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3" name="Group 205"/>
            <p:cNvGrpSpPr/>
            <p:nvPr/>
          </p:nvGrpSpPr>
          <p:grpSpPr>
            <a:xfrm>
              <a:off x="3492360" y="1521720"/>
              <a:ext cx="142920" cy="101520"/>
              <a:chOff x="3492360" y="1521720"/>
              <a:chExt cx="142920" cy="101520"/>
            </a:xfrm>
          </p:grpSpPr>
          <p:sp>
            <p:nvSpPr>
              <p:cNvPr id="1784" name="Oval 206"/>
              <p:cNvSpPr/>
              <p:nvPr/>
            </p:nvSpPr>
            <p:spPr>
              <a:xfrm>
                <a:off x="3492360" y="152172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5" name=""/>
              <p:cNvGrpSpPr/>
              <p:nvPr/>
            </p:nvGrpSpPr>
            <p:grpSpPr>
              <a:xfrm>
                <a:off x="3492360" y="1571760"/>
                <a:ext cx="142920" cy="360"/>
                <a:chOff x="3492360" y="1571760"/>
                <a:chExt cx="142920" cy="360"/>
              </a:xfrm>
            </p:grpSpPr>
            <p:sp>
              <p:nvSpPr>
                <p:cNvPr id="1786" name="Line 207"/>
                <p:cNvSpPr/>
                <p:nvPr/>
              </p:nvSpPr>
              <p:spPr>
                <a:xfrm>
                  <a:off x="3492360" y="15717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 txBox="1"/>
                <p:nvPr/>
              </p:nvSpPr>
              <p:spPr>
                <a:xfrm>
                  <a:off x="3492360" y="15717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8" name="Group 208"/>
            <p:cNvGrpSpPr/>
            <p:nvPr/>
          </p:nvGrpSpPr>
          <p:grpSpPr>
            <a:xfrm>
              <a:off x="3203640" y="1420200"/>
              <a:ext cx="142920" cy="101520"/>
              <a:chOff x="3203640" y="1420200"/>
              <a:chExt cx="142920" cy="101520"/>
            </a:xfrm>
          </p:grpSpPr>
          <p:sp>
            <p:nvSpPr>
              <p:cNvPr id="1789" name="Oval 209"/>
              <p:cNvSpPr/>
              <p:nvPr/>
            </p:nvSpPr>
            <p:spPr>
              <a:xfrm>
                <a:off x="3203640" y="142020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0" name=""/>
              <p:cNvGrpSpPr/>
              <p:nvPr/>
            </p:nvGrpSpPr>
            <p:grpSpPr>
              <a:xfrm>
                <a:off x="3203640" y="1470240"/>
                <a:ext cx="142920" cy="360"/>
                <a:chOff x="3203640" y="1470240"/>
                <a:chExt cx="142920" cy="360"/>
              </a:xfrm>
            </p:grpSpPr>
            <p:sp>
              <p:nvSpPr>
                <p:cNvPr id="1791" name="Line 210"/>
                <p:cNvSpPr/>
                <p:nvPr/>
              </p:nvSpPr>
              <p:spPr>
                <a:xfrm>
                  <a:off x="3203640" y="14702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 txBox="1"/>
                <p:nvPr/>
              </p:nvSpPr>
              <p:spPr>
                <a:xfrm>
                  <a:off x="3203640" y="14702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3" name="Group 211"/>
            <p:cNvGrpSpPr/>
            <p:nvPr/>
          </p:nvGrpSpPr>
          <p:grpSpPr>
            <a:xfrm>
              <a:off x="4716360" y="2433600"/>
              <a:ext cx="142920" cy="101520"/>
              <a:chOff x="4716360" y="2433600"/>
              <a:chExt cx="142920" cy="101520"/>
            </a:xfrm>
          </p:grpSpPr>
          <p:sp>
            <p:nvSpPr>
              <p:cNvPr id="1794" name="Oval 212"/>
              <p:cNvSpPr/>
              <p:nvPr/>
            </p:nvSpPr>
            <p:spPr>
              <a:xfrm>
                <a:off x="4716360" y="243360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5" name=""/>
              <p:cNvGrpSpPr/>
              <p:nvPr/>
            </p:nvGrpSpPr>
            <p:grpSpPr>
              <a:xfrm>
                <a:off x="4716360" y="2483640"/>
                <a:ext cx="142920" cy="360"/>
                <a:chOff x="4716360" y="2483640"/>
                <a:chExt cx="142920" cy="360"/>
              </a:xfrm>
            </p:grpSpPr>
            <p:sp>
              <p:nvSpPr>
                <p:cNvPr id="1796" name="Line 213"/>
                <p:cNvSpPr/>
                <p:nvPr/>
              </p:nvSpPr>
              <p:spPr>
                <a:xfrm>
                  <a:off x="4716360" y="24836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 txBox="1"/>
                <p:nvPr/>
              </p:nvSpPr>
              <p:spPr>
                <a:xfrm>
                  <a:off x="4716360" y="24836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8" name="Group 214"/>
            <p:cNvGrpSpPr/>
            <p:nvPr/>
          </p:nvGrpSpPr>
          <p:grpSpPr>
            <a:xfrm>
              <a:off x="6300720" y="2027880"/>
              <a:ext cx="142920" cy="101520"/>
              <a:chOff x="6300720" y="2027880"/>
              <a:chExt cx="142920" cy="101520"/>
            </a:xfrm>
          </p:grpSpPr>
          <p:sp>
            <p:nvSpPr>
              <p:cNvPr id="1799" name="Oval 215"/>
              <p:cNvSpPr/>
              <p:nvPr/>
            </p:nvSpPr>
            <p:spPr>
              <a:xfrm>
                <a:off x="6300720" y="202788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0" name=""/>
              <p:cNvGrpSpPr/>
              <p:nvPr/>
            </p:nvGrpSpPr>
            <p:grpSpPr>
              <a:xfrm>
                <a:off x="6300720" y="2077920"/>
                <a:ext cx="142920" cy="360"/>
                <a:chOff x="6300720" y="2077920"/>
                <a:chExt cx="142920" cy="360"/>
              </a:xfrm>
            </p:grpSpPr>
            <p:sp>
              <p:nvSpPr>
                <p:cNvPr id="1801" name="Line 216"/>
                <p:cNvSpPr/>
                <p:nvPr/>
              </p:nvSpPr>
              <p:spPr>
                <a:xfrm>
                  <a:off x="6300720" y="2077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 txBox="1"/>
                <p:nvPr/>
              </p:nvSpPr>
              <p:spPr>
                <a:xfrm>
                  <a:off x="6300720" y="2077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3" name="Group 217"/>
            <p:cNvGrpSpPr/>
            <p:nvPr/>
          </p:nvGrpSpPr>
          <p:grpSpPr>
            <a:xfrm>
              <a:off x="6732720" y="1369800"/>
              <a:ext cx="142920" cy="101520"/>
              <a:chOff x="6732720" y="1369800"/>
              <a:chExt cx="142920" cy="101520"/>
            </a:xfrm>
          </p:grpSpPr>
          <p:sp>
            <p:nvSpPr>
              <p:cNvPr id="1804" name="Oval 218"/>
              <p:cNvSpPr/>
              <p:nvPr/>
            </p:nvSpPr>
            <p:spPr>
              <a:xfrm>
                <a:off x="6732720" y="136980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5" name=""/>
              <p:cNvGrpSpPr/>
              <p:nvPr/>
            </p:nvGrpSpPr>
            <p:grpSpPr>
              <a:xfrm>
                <a:off x="6732720" y="1419840"/>
                <a:ext cx="142920" cy="360"/>
                <a:chOff x="6732720" y="1419840"/>
                <a:chExt cx="142920" cy="360"/>
              </a:xfrm>
            </p:grpSpPr>
            <p:sp>
              <p:nvSpPr>
                <p:cNvPr id="1806" name="Line 219"/>
                <p:cNvSpPr/>
                <p:nvPr/>
              </p:nvSpPr>
              <p:spPr>
                <a:xfrm>
                  <a:off x="6732720" y="1419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 txBox="1"/>
                <p:nvPr/>
              </p:nvSpPr>
              <p:spPr>
                <a:xfrm>
                  <a:off x="6732720" y="1419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8" name="Group 220"/>
            <p:cNvGrpSpPr/>
            <p:nvPr/>
          </p:nvGrpSpPr>
          <p:grpSpPr>
            <a:xfrm>
              <a:off x="8532720" y="1927440"/>
              <a:ext cx="142920" cy="101520"/>
              <a:chOff x="8532720" y="1927440"/>
              <a:chExt cx="142920" cy="101520"/>
            </a:xfrm>
          </p:grpSpPr>
          <p:sp>
            <p:nvSpPr>
              <p:cNvPr id="1809" name="Oval 221"/>
              <p:cNvSpPr/>
              <p:nvPr/>
            </p:nvSpPr>
            <p:spPr>
              <a:xfrm>
                <a:off x="8532720" y="192744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0" name=""/>
              <p:cNvGrpSpPr/>
              <p:nvPr/>
            </p:nvGrpSpPr>
            <p:grpSpPr>
              <a:xfrm>
                <a:off x="8532720" y="1977480"/>
                <a:ext cx="142920" cy="360"/>
                <a:chOff x="8532720" y="1977480"/>
                <a:chExt cx="142920" cy="360"/>
              </a:xfrm>
            </p:grpSpPr>
            <p:sp>
              <p:nvSpPr>
                <p:cNvPr id="1811" name="Line 222"/>
                <p:cNvSpPr/>
                <p:nvPr/>
              </p:nvSpPr>
              <p:spPr>
                <a:xfrm>
                  <a:off x="8532720" y="1977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 txBox="1"/>
                <p:nvPr/>
              </p:nvSpPr>
              <p:spPr>
                <a:xfrm>
                  <a:off x="8532720" y="19774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3" name="Group 223"/>
            <p:cNvGrpSpPr/>
            <p:nvPr/>
          </p:nvGrpSpPr>
          <p:grpSpPr>
            <a:xfrm>
              <a:off x="8028000" y="2079360"/>
              <a:ext cx="142920" cy="101520"/>
              <a:chOff x="8028000" y="2079360"/>
              <a:chExt cx="142920" cy="101520"/>
            </a:xfrm>
          </p:grpSpPr>
          <p:sp>
            <p:nvSpPr>
              <p:cNvPr id="1814" name="Oval 224"/>
              <p:cNvSpPr/>
              <p:nvPr/>
            </p:nvSpPr>
            <p:spPr>
              <a:xfrm>
                <a:off x="8028000" y="2079360"/>
                <a:ext cx="1429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5" name=""/>
              <p:cNvGrpSpPr/>
              <p:nvPr/>
            </p:nvGrpSpPr>
            <p:grpSpPr>
              <a:xfrm>
                <a:off x="8028000" y="2129400"/>
                <a:ext cx="142920" cy="360"/>
                <a:chOff x="8028000" y="2129400"/>
                <a:chExt cx="142920" cy="360"/>
              </a:xfrm>
            </p:grpSpPr>
            <p:sp>
              <p:nvSpPr>
                <p:cNvPr id="1816" name="Line 225"/>
                <p:cNvSpPr/>
                <p:nvPr/>
              </p:nvSpPr>
              <p:spPr>
                <a:xfrm>
                  <a:off x="8028000" y="21294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 txBox="1"/>
                <p:nvPr/>
              </p:nvSpPr>
              <p:spPr>
                <a:xfrm>
                  <a:off x="8028000" y="21294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8" name="Group 226"/>
          <p:cNvGrpSpPr/>
          <p:nvPr/>
        </p:nvGrpSpPr>
        <p:grpSpPr>
          <a:xfrm>
            <a:off x="1258920" y="3213000"/>
            <a:ext cx="6552720" cy="2952720"/>
            <a:chOff x="1258920" y="3213000"/>
            <a:chExt cx="6552720" cy="2952720"/>
          </a:xfrm>
        </p:grpSpPr>
        <p:sp>
          <p:nvSpPr>
            <p:cNvPr id="1819" name="Rectangle 227"/>
            <p:cNvSpPr/>
            <p:nvPr/>
          </p:nvSpPr>
          <p:spPr>
            <a:xfrm>
              <a:off x="1771200" y="4716000"/>
              <a:ext cx="5471640" cy="1449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Rectangle 228"/>
            <p:cNvSpPr/>
            <p:nvPr/>
          </p:nvSpPr>
          <p:spPr>
            <a:xfrm>
              <a:off x="1771200" y="3657240"/>
              <a:ext cx="5471640" cy="10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Rectangle 229"/>
            <p:cNvSpPr/>
            <p:nvPr/>
          </p:nvSpPr>
          <p:spPr>
            <a:xfrm>
              <a:off x="1942200" y="3213000"/>
              <a:ext cx="170640" cy="295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230"/>
            <p:cNvSpPr/>
            <p:nvPr/>
          </p:nvSpPr>
          <p:spPr>
            <a:xfrm>
              <a:off x="6899760" y="3213000"/>
              <a:ext cx="170640" cy="295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3" name="Group 231"/>
            <p:cNvGrpSpPr/>
            <p:nvPr/>
          </p:nvGrpSpPr>
          <p:grpSpPr>
            <a:xfrm>
              <a:off x="2626920" y="4995000"/>
              <a:ext cx="341640" cy="334080"/>
              <a:chOff x="2626920" y="4995000"/>
              <a:chExt cx="341640" cy="334080"/>
            </a:xfrm>
          </p:grpSpPr>
          <p:sp>
            <p:nvSpPr>
              <p:cNvPr id="1824" name="Oval 232"/>
              <p:cNvSpPr/>
              <p:nvPr/>
            </p:nvSpPr>
            <p:spPr>
              <a:xfrm>
                <a:off x="2626920" y="4995000"/>
                <a:ext cx="341640" cy="33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5" name=""/>
              <p:cNvGrpSpPr/>
              <p:nvPr/>
            </p:nvGrpSpPr>
            <p:grpSpPr>
              <a:xfrm>
                <a:off x="2626920" y="5162040"/>
                <a:ext cx="341640" cy="360"/>
                <a:chOff x="2626920" y="5162040"/>
                <a:chExt cx="341640" cy="360"/>
              </a:xfrm>
            </p:grpSpPr>
            <p:sp>
              <p:nvSpPr>
                <p:cNvPr id="1826" name="Line 233"/>
                <p:cNvSpPr/>
                <p:nvPr/>
              </p:nvSpPr>
              <p:spPr>
                <a:xfrm>
                  <a:off x="2626920" y="5162040"/>
                  <a:ext cx="34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 txBox="1"/>
                <p:nvPr/>
              </p:nvSpPr>
              <p:spPr>
                <a:xfrm>
                  <a:off x="2626920" y="5162040"/>
                  <a:ext cx="34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2797920" y="4995000"/>
                <a:ext cx="360" cy="334080"/>
                <a:chOff x="2797920" y="4995000"/>
                <a:chExt cx="360" cy="334080"/>
              </a:xfrm>
            </p:grpSpPr>
            <p:sp>
              <p:nvSpPr>
                <p:cNvPr id="1829" name="Line 234"/>
                <p:cNvSpPr/>
                <p:nvPr/>
              </p:nvSpPr>
              <p:spPr>
                <a:xfrm>
                  <a:off x="2797920" y="4995000"/>
                  <a:ext cx="0" cy="33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 txBox="1"/>
                <p:nvPr/>
              </p:nvSpPr>
              <p:spPr>
                <a:xfrm>
                  <a:off x="2797920" y="4995000"/>
                  <a:ext cx="36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1" name="Group 235"/>
            <p:cNvGrpSpPr/>
            <p:nvPr/>
          </p:nvGrpSpPr>
          <p:grpSpPr>
            <a:xfrm>
              <a:off x="5817960" y="5329080"/>
              <a:ext cx="341640" cy="333720"/>
              <a:chOff x="5817960" y="5329080"/>
              <a:chExt cx="341640" cy="333720"/>
            </a:xfrm>
          </p:grpSpPr>
          <p:sp>
            <p:nvSpPr>
              <p:cNvPr id="1832" name="Oval 236"/>
              <p:cNvSpPr/>
              <p:nvPr/>
            </p:nvSpPr>
            <p:spPr>
              <a:xfrm>
                <a:off x="5817960" y="5329080"/>
                <a:ext cx="341640" cy="33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3" name=""/>
              <p:cNvGrpSpPr/>
              <p:nvPr/>
            </p:nvGrpSpPr>
            <p:grpSpPr>
              <a:xfrm>
                <a:off x="5817960" y="5496120"/>
                <a:ext cx="341640" cy="360"/>
                <a:chOff x="5817960" y="5496120"/>
                <a:chExt cx="341640" cy="360"/>
              </a:xfrm>
            </p:grpSpPr>
            <p:sp>
              <p:nvSpPr>
                <p:cNvPr id="1834" name="Line 237"/>
                <p:cNvSpPr/>
                <p:nvPr/>
              </p:nvSpPr>
              <p:spPr>
                <a:xfrm>
                  <a:off x="5817960" y="5496120"/>
                  <a:ext cx="34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 txBox="1"/>
                <p:nvPr/>
              </p:nvSpPr>
              <p:spPr>
                <a:xfrm>
                  <a:off x="5817960" y="5496120"/>
                  <a:ext cx="34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6" name=""/>
              <p:cNvGrpSpPr/>
              <p:nvPr/>
            </p:nvGrpSpPr>
            <p:grpSpPr>
              <a:xfrm>
                <a:off x="5988960" y="5329080"/>
                <a:ext cx="360" cy="333720"/>
                <a:chOff x="5988960" y="5329080"/>
                <a:chExt cx="360" cy="333720"/>
              </a:xfrm>
            </p:grpSpPr>
            <p:sp>
              <p:nvSpPr>
                <p:cNvPr id="1837" name="Line 238"/>
                <p:cNvSpPr/>
                <p:nvPr/>
              </p:nvSpPr>
              <p:spPr>
                <a:xfrm>
                  <a:off x="5988960" y="532908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 txBox="1"/>
                <p:nvPr/>
              </p:nvSpPr>
              <p:spPr>
                <a:xfrm>
                  <a:off x="5988960" y="5329080"/>
                  <a:ext cx="360" cy="33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9" name="Group 239"/>
            <p:cNvGrpSpPr/>
            <p:nvPr/>
          </p:nvGrpSpPr>
          <p:grpSpPr>
            <a:xfrm>
              <a:off x="4906080" y="4883400"/>
              <a:ext cx="341280" cy="333720"/>
              <a:chOff x="4906080" y="4883400"/>
              <a:chExt cx="341280" cy="333720"/>
            </a:xfrm>
          </p:grpSpPr>
          <p:sp>
            <p:nvSpPr>
              <p:cNvPr id="1840" name="Oval 240"/>
              <p:cNvSpPr/>
              <p:nvPr/>
            </p:nvSpPr>
            <p:spPr>
              <a:xfrm>
                <a:off x="4906080" y="4883400"/>
                <a:ext cx="341280" cy="33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4906080" y="5050440"/>
                <a:ext cx="341280" cy="360"/>
                <a:chOff x="4906080" y="5050440"/>
                <a:chExt cx="341280" cy="360"/>
              </a:xfrm>
            </p:grpSpPr>
            <p:sp>
              <p:nvSpPr>
                <p:cNvPr id="1842" name="Line 241"/>
                <p:cNvSpPr/>
                <p:nvPr/>
              </p:nvSpPr>
              <p:spPr>
                <a:xfrm>
                  <a:off x="4906080" y="5050440"/>
                  <a:ext cx="34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 txBox="1"/>
                <p:nvPr/>
              </p:nvSpPr>
              <p:spPr>
                <a:xfrm>
                  <a:off x="4906080" y="5050440"/>
                  <a:ext cx="34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4" name=""/>
              <p:cNvGrpSpPr/>
              <p:nvPr/>
            </p:nvGrpSpPr>
            <p:grpSpPr>
              <a:xfrm>
                <a:off x="5076720" y="4883400"/>
                <a:ext cx="360" cy="333720"/>
                <a:chOff x="5076720" y="4883400"/>
                <a:chExt cx="360" cy="333720"/>
              </a:xfrm>
            </p:grpSpPr>
            <p:sp>
              <p:nvSpPr>
                <p:cNvPr id="1845" name="Line 242"/>
                <p:cNvSpPr/>
                <p:nvPr/>
              </p:nvSpPr>
              <p:spPr>
                <a:xfrm>
                  <a:off x="5076720" y="488340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 txBox="1"/>
                <p:nvPr/>
              </p:nvSpPr>
              <p:spPr>
                <a:xfrm>
                  <a:off x="5076720" y="4883400"/>
                  <a:ext cx="360" cy="33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7" name="Group 243"/>
            <p:cNvGrpSpPr/>
            <p:nvPr/>
          </p:nvGrpSpPr>
          <p:grpSpPr>
            <a:xfrm>
              <a:off x="3937320" y="4939920"/>
              <a:ext cx="341280" cy="333720"/>
              <a:chOff x="3937320" y="4939920"/>
              <a:chExt cx="341280" cy="333720"/>
            </a:xfrm>
          </p:grpSpPr>
          <p:sp>
            <p:nvSpPr>
              <p:cNvPr id="1848" name="Oval 244"/>
              <p:cNvSpPr/>
              <p:nvPr/>
            </p:nvSpPr>
            <p:spPr>
              <a:xfrm>
                <a:off x="3937320" y="4939920"/>
                <a:ext cx="341280" cy="33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9" name=""/>
              <p:cNvGrpSpPr/>
              <p:nvPr/>
            </p:nvGrpSpPr>
            <p:grpSpPr>
              <a:xfrm>
                <a:off x="3937320" y="5106960"/>
                <a:ext cx="341280" cy="360"/>
                <a:chOff x="3937320" y="5106960"/>
                <a:chExt cx="341280" cy="360"/>
              </a:xfrm>
            </p:grpSpPr>
            <p:sp>
              <p:nvSpPr>
                <p:cNvPr id="1850" name="Line 245"/>
                <p:cNvSpPr/>
                <p:nvPr/>
              </p:nvSpPr>
              <p:spPr>
                <a:xfrm>
                  <a:off x="3937320" y="5106960"/>
                  <a:ext cx="34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 txBox="1"/>
                <p:nvPr/>
              </p:nvSpPr>
              <p:spPr>
                <a:xfrm>
                  <a:off x="3937320" y="5106960"/>
                  <a:ext cx="34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2" name=""/>
              <p:cNvGrpSpPr/>
              <p:nvPr/>
            </p:nvGrpSpPr>
            <p:grpSpPr>
              <a:xfrm>
                <a:off x="4107960" y="4939920"/>
                <a:ext cx="360" cy="333720"/>
                <a:chOff x="4107960" y="4939920"/>
                <a:chExt cx="360" cy="333720"/>
              </a:xfrm>
            </p:grpSpPr>
            <p:sp>
              <p:nvSpPr>
                <p:cNvPr id="1853" name="Line 246"/>
                <p:cNvSpPr/>
                <p:nvPr/>
              </p:nvSpPr>
              <p:spPr>
                <a:xfrm>
                  <a:off x="4107960" y="493992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 txBox="1"/>
                <p:nvPr/>
              </p:nvSpPr>
              <p:spPr>
                <a:xfrm>
                  <a:off x="4107960" y="4939920"/>
                  <a:ext cx="360" cy="33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5" name="Group 247"/>
            <p:cNvGrpSpPr/>
            <p:nvPr/>
          </p:nvGrpSpPr>
          <p:grpSpPr>
            <a:xfrm>
              <a:off x="4564080" y="5552640"/>
              <a:ext cx="341640" cy="334080"/>
              <a:chOff x="4564080" y="5552640"/>
              <a:chExt cx="341640" cy="334080"/>
            </a:xfrm>
          </p:grpSpPr>
          <p:sp>
            <p:nvSpPr>
              <p:cNvPr id="1856" name="Oval 248"/>
              <p:cNvSpPr/>
              <p:nvPr/>
            </p:nvSpPr>
            <p:spPr>
              <a:xfrm>
                <a:off x="4564080" y="5552640"/>
                <a:ext cx="341640" cy="33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7" name=""/>
              <p:cNvGrpSpPr/>
              <p:nvPr/>
            </p:nvGrpSpPr>
            <p:grpSpPr>
              <a:xfrm>
                <a:off x="4564080" y="5719680"/>
                <a:ext cx="341640" cy="360"/>
                <a:chOff x="4564080" y="5719680"/>
                <a:chExt cx="341640" cy="360"/>
              </a:xfrm>
            </p:grpSpPr>
            <p:sp>
              <p:nvSpPr>
                <p:cNvPr id="1858" name="Line 249"/>
                <p:cNvSpPr/>
                <p:nvPr/>
              </p:nvSpPr>
              <p:spPr>
                <a:xfrm>
                  <a:off x="4564080" y="5719680"/>
                  <a:ext cx="34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 txBox="1"/>
                <p:nvPr/>
              </p:nvSpPr>
              <p:spPr>
                <a:xfrm>
                  <a:off x="4564080" y="5719680"/>
                  <a:ext cx="34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0" name=""/>
              <p:cNvGrpSpPr/>
              <p:nvPr/>
            </p:nvGrpSpPr>
            <p:grpSpPr>
              <a:xfrm>
                <a:off x="4735080" y="5552640"/>
                <a:ext cx="360" cy="334080"/>
                <a:chOff x="4735080" y="5552640"/>
                <a:chExt cx="360" cy="334080"/>
              </a:xfrm>
            </p:grpSpPr>
            <p:sp>
              <p:nvSpPr>
                <p:cNvPr id="1861" name="Line 250"/>
                <p:cNvSpPr/>
                <p:nvPr/>
              </p:nvSpPr>
              <p:spPr>
                <a:xfrm>
                  <a:off x="4735080" y="5552640"/>
                  <a:ext cx="0" cy="33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 txBox="1"/>
                <p:nvPr/>
              </p:nvSpPr>
              <p:spPr>
                <a:xfrm>
                  <a:off x="4735080" y="5552640"/>
                  <a:ext cx="36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3" name="Group 251"/>
            <p:cNvGrpSpPr/>
            <p:nvPr/>
          </p:nvGrpSpPr>
          <p:grpSpPr>
            <a:xfrm>
              <a:off x="3310200" y="5552640"/>
              <a:ext cx="341640" cy="334080"/>
              <a:chOff x="3310200" y="5552640"/>
              <a:chExt cx="341640" cy="334080"/>
            </a:xfrm>
          </p:grpSpPr>
          <p:sp>
            <p:nvSpPr>
              <p:cNvPr id="1864" name="Oval 252"/>
              <p:cNvSpPr/>
              <p:nvPr/>
            </p:nvSpPr>
            <p:spPr>
              <a:xfrm>
                <a:off x="3310200" y="5552640"/>
                <a:ext cx="341640" cy="33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5" name=""/>
              <p:cNvGrpSpPr/>
              <p:nvPr/>
            </p:nvGrpSpPr>
            <p:grpSpPr>
              <a:xfrm>
                <a:off x="3310200" y="5719680"/>
                <a:ext cx="341640" cy="360"/>
                <a:chOff x="3310200" y="5719680"/>
                <a:chExt cx="341640" cy="360"/>
              </a:xfrm>
            </p:grpSpPr>
            <p:sp>
              <p:nvSpPr>
                <p:cNvPr id="1866" name="Line 253"/>
                <p:cNvSpPr/>
                <p:nvPr/>
              </p:nvSpPr>
              <p:spPr>
                <a:xfrm>
                  <a:off x="3310200" y="5719680"/>
                  <a:ext cx="34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 txBox="1"/>
                <p:nvPr/>
              </p:nvSpPr>
              <p:spPr>
                <a:xfrm>
                  <a:off x="3310200" y="5719680"/>
                  <a:ext cx="34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8" name=""/>
              <p:cNvGrpSpPr/>
              <p:nvPr/>
            </p:nvGrpSpPr>
            <p:grpSpPr>
              <a:xfrm>
                <a:off x="3481200" y="5552640"/>
                <a:ext cx="360" cy="334080"/>
                <a:chOff x="3481200" y="5552640"/>
                <a:chExt cx="360" cy="334080"/>
              </a:xfrm>
            </p:grpSpPr>
            <p:sp>
              <p:nvSpPr>
                <p:cNvPr id="1869" name="Line 254"/>
                <p:cNvSpPr/>
                <p:nvPr/>
              </p:nvSpPr>
              <p:spPr>
                <a:xfrm>
                  <a:off x="3481200" y="5552640"/>
                  <a:ext cx="0" cy="33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 txBox="1"/>
                <p:nvPr/>
              </p:nvSpPr>
              <p:spPr>
                <a:xfrm>
                  <a:off x="3481200" y="5552640"/>
                  <a:ext cx="36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1" name="Group 255"/>
            <p:cNvGrpSpPr/>
            <p:nvPr/>
          </p:nvGrpSpPr>
          <p:grpSpPr>
            <a:xfrm>
              <a:off x="3081960" y="4939920"/>
              <a:ext cx="227160" cy="222120"/>
              <a:chOff x="3081960" y="4939920"/>
              <a:chExt cx="227160" cy="222120"/>
            </a:xfrm>
          </p:grpSpPr>
          <p:sp>
            <p:nvSpPr>
              <p:cNvPr id="1872" name="Oval 256"/>
              <p:cNvSpPr/>
              <p:nvPr/>
            </p:nvSpPr>
            <p:spPr>
              <a:xfrm>
                <a:off x="3081960" y="4939920"/>
                <a:ext cx="227160" cy="22212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3" name=""/>
              <p:cNvGrpSpPr/>
              <p:nvPr/>
            </p:nvGrpSpPr>
            <p:grpSpPr>
              <a:xfrm>
                <a:off x="3099600" y="5059440"/>
                <a:ext cx="192240" cy="360"/>
                <a:chOff x="3099600" y="5059440"/>
                <a:chExt cx="192240" cy="360"/>
              </a:xfrm>
            </p:grpSpPr>
            <p:sp>
              <p:nvSpPr>
                <p:cNvPr id="1874" name="Line 257"/>
                <p:cNvSpPr/>
                <p:nvPr/>
              </p:nvSpPr>
              <p:spPr>
                <a:xfrm>
                  <a:off x="3099600" y="5059440"/>
                  <a:ext cx="19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 txBox="1"/>
                <p:nvPr/>
              </p:nvSpPr>
              <p:spPr>
                <a:xfrm>
                  <a:off x="3099600" y="5059440"/>
                  <a:ext cx="192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6" name="Group 258"/>
            <p:cNvGrpSpPr/>
            <p:nvPr/>
          </p:nvGrpSpPr>
          <p:grpSpPr>
            <a:xfrm>
              <a:off x="2626920" y="5663160"/>
              <a:ext cx="227520" cy="222120"/>
              <a:chOff x="2626920" y="5663160"/>
              <a:chExt cx="227520" cy="222120"/>
            </a:xfrm>
          </p:grpSpPr>
          <p:sp>
            <p:nvSpPr>
              <p:cNvPr id="1877" name="Oval 259"/>
              <p:cNvSpPr/>
              <p:nvPr/>
            </p:nvSpPr>
            <p:spPr>
              <a:xfrm>
                <a:off x="2626920" y="5663160"/>
                <a:ext cx="227520" cy="22212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8" name=""/>
              <p:cNvGrpSpPr/>
              <p:nvPr/>
            </p:nvGrpSpPr>
            <p:grpSpPr>
              <a:xfrm>
                <a:off x="2644560" y="5782680"/>
                <a:ext cx="192240" cy="360"/>
                <a:chOff x="2644560" y="5782680"/>
                <a:chExt cx="192240" cy="360"/>
              </a:xfrm>
            </p:grpSpPr>
            <p:sp>
              <p:nvSpPr>
                <p:cNvPr id="1879" name="Line 260"/>
                <p:cNvSpPr/>
                <p:nvPr/>
              </p:nvSpPr>
              <p:spPr>
                <a:xfrm>
                  <a:off x="2644560" y="5782680"/>
                  <a:ext cx="19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 txBox="1"/>
                <p:nvPr/>
              </p:nvSpPr>
              <p:spPr>
                <a:xfrm>
                  <a:off x="2644560" y="5782680"/>
                  <a:ext cx="192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1" name="Group 261"/>
            <p:cNvGrpSpPr/>
            <p:nvPr/>
          </p:nvGrpSpPr>
          <p:grpSpPr>
            <a:xfrm>
              <a:off x="4393440" y="4995000"/>
              <a:ext cx="227160" cy="222120"/>
              <a:chOff x="4393440" y="4995000"/>
              <a:chExt cx="227160" cy="222120"/>
            </a:xfrm>
          </p:grpSpPr>
          <p:sp>
            <p:nvSpPr>
              <p:cNvPr id="1882" name="Oval 262"/>
              <p:cNvSpPr/>
              <p:nvPr/>
            </p:nvSpPr>
            <p:spPr>
              <a:xfrm>
                <a:off x="4393440" y="4995000"/>
                <a:ext cx="227160" cy="22212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3" name=""/>
              <p:cNvGrpSpPr/>
              <p:nvPr/>
            </p:nvGrpSpPr>
            <p:grpSpPr>
              <a:xfrm>
                <a:off x="4411080" y="5114520"/>
                <a:ext cx="192240" cy="360"/>
                <a:chOff x="4411080" y="5114520"/>
                <a:chExt cx="192240" cy="360"/>
              </a:xfrm>
            </p:grpSpPr>
            <p:sp>
              <p:nvSpPr>
                <p:cNvPr id="1884" name="Line 263"/>
                <p:cNvSpPr/>
                <p:nvPr/>
              </p:nvSpPr>
              <p:spPr>
                <a:xfrm>
                  <a:off x="4411080" y="5114520"/>
                  <a:ext cx="19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 txBox="1"/>
                <p:nvPr/>
              </p:nvSpPr>
              <p:spPr>
                <a:xfrm>
                  <a:off x="4411080" y="5114520"/>
                  <a:ext cx="192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6" name="Group 264"/>
            <p:cNvGrpSpPr/>
            <p:nvPr/>
          </p:nvGrpSpPr>
          <p:grpSpPr>
            <a:xfrm>
              <a:off x="3937320" y="5719680"/>
              <a:ext cx="227160" cy="222120"/>
              <a:chOff x="3937320" y="5719680"/>
              <a:chExt cx="227160" cy="222120"/>
            </a:xfrm>
          </p:grpSpPr>
          <p:sp>
            <p:nvSpPr>
              <p:cNvPr id="1887" name="Oval 265"/>
              <p:cNvSpPr/>
              <p:nvPr/>
            </p:nvSpPr>
            <p:spPr>
              <a:xfrm>
                <a:off x="3937320" y="5719680"/>
                <a:ext cx="227160" cy="22212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8" name=""/>
              <p:cNvGrpSpPr/>
              <p:nvPr/>
            </p:nvGrpSpPr>
            <p:grpSpPr>
              <a:xfrm>
                <a:off x="3954960" y="5839200"/>
                <a:ext cx="192240" cy="360"/>
                <a:chOff x="3954960" y="5839200"/>
                <a:chExt cx="192240" cy="360"/>
              </a:xfrm>
            </p:grpSpPr>
            <p:sp>
              <p:nvSpPr>
                <p:cNvPr id="1889" name="Line 266"/>
                <p:cNvSpPr/>
                <p:nvPr/>
              </p:nvSpPr>
              <p:spPr>
                <a:xfrm>
                  <a:off x="3954960" y="5839200"/>
                  <a:ext cx="19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 txBox="1"/>
                <p:nvPr/>
              </p:nvSpPr>
              <p:spPr>
                <a:xfrm>
                  <a:off x="3954960" y="5839200"/>
                  <a:ext cx="192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1" name="Group 267"/>
            <p:cNvGrpSpPr/>
            <p:nvPr/>
          </p:nvGrpSpPr>
          <p:grpSpPr>
            <a:xfrm>
              <a:off x="5133600" y="5496120"/>
              <a:ext cx="227160" cy="222480"/>
              <a:chOff x="5133600" y="5496120"/>
              <a:chExt cx="227160" cy="222480"/>
            </a:xfrm>
          </p:grpSpPr>
          <p:sp>
            <p:nvSpPr>
              <p:cNvPr id="1892" name="Oval 268"/>
              <p:cNvSpPr/>
              <p:nvPr/>
            </p:nvSpPr>
            <p:spPr>
              <a:xfrm>
                <a:off x="5133600" y="5496120"/>
                <a:ext cx="227160" cy="2224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3" name=""/>
              <p:cNvGrpSpPr/>
              <p:nvPr/>
            </p:nvGrpSpPr>
            <p:grpSpPr>
              <a:xfrm>
                <a:off x="5151240" y="5615640"/>
                <a:ext cx="192240" cy="360"/>
                <a:chOff x="5151240" y="5615640"/>
                <a:chExt cx="192240" cy="360"/>
              </a:xfrm>
            </p:grpSpPr>
            <p:sp>
              <p:nvSpPr>
                <p:cNvPr id="1894" name="Line 269"/>
                <p:cNvSpPr/>
                <p:nvPr/>
              </p:nvSpPr>
              <p:spPr>
                <a:xfrm>
                  <a:off x="5151240" y="5615640"/>
                  <a:ext cx="19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"/>
                <p:cNvSpPr txBox="1"/>
                <p:nvPr/>
              </p:nvSpPr>
              <p:spPr>
                <a:xfrm>
                  <a:off x="5151240" y="5615640"/>
                  <a:ext cx="192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6" name="Group 270"/>
            <p:cNvGrpSpPr/>
            <p:nvPr/>
          </p:nvGrpSpPr>
          <p:grpSpPr>
            <a:xfrm>
              <a:off x="5475240" y="4827960"/>
              <a:ext cx="227160" cy="222480"/>
              <a:chOff x="5475240" y="4827960"/>
              <a:chExt cx="227160" cy="222480"/>
            </a:xfrm>
          </p:grpSpPr>
          <p:sp>
            <p:nvSpPr>
              <p:cNvPr id="1897" name="Oval 271"/>
              <p:cNvSpPr/>
              <p:nvPr/>
            </p:nvSpPr>
            <p:spPr>
              <a:xfrm>
                <a:off x="5475240" y="4827960"/>
                <a:ext cx="227160" cy="2224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8" name=""/>
              <p:cNvGrpSpPr/>
              <p:nvPr/>
            </p:nvGrpSpPr>
            <p:grpSpPr>
              <a:xfrm>
                <a:off x="5492880" y="4947480"/>
                <a:ext cx="192240" cy="360"/>
                <a:chOff x="5492880" y="4947480"/>
                <a:chExt cx="192240" cy="360"/>
              </a:xfrm>
            </p:grpSpPr>
            <p:sp>
              <p:nvSpPr>
                <p:cNvPr id="1899" name="Line 272"/>
                <p:cNvSpPr/>
                <p:nvPr/>
              </p:nvSpPr>
              <p:spPr>
                <a:xfrm>
                  <a:off x="5492880" y="4947480"/>
                  <a:ext cx="19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 txBox="1"/>
                <p:nvPr/>
              </p:nvSpPr>
              <p:spPr>
                <a:xfrm>
                  <a:off x="5492880" y="4947480"/>
                  <a:ext cx="192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1" name="Group 273"/>
            <p:cNvGrpSpPr/>
            <p:nvPr/>
          </p:nvGrpSpPr>
          <p:grpSpPr>
            <a:xfrm>
              <a:off x="6216480" y="5106600"/>
              <a:ext cx="227160" cy="222480"/>
              <a:chOff x="6216480" y="5106600"/>
              <a:chExt cx="227160" cy="222480"/>
            </a:xfrm>
          </p:grpSpPr>
          <p:sp>
            <p:nvSpPr>
              <p:cNvPr id="1902" name="Oval 274"/>
              <p:cNvSpPr/>
              <p:nvPr/>
            </p:nvSpPr>
            <p:spPr>
              <a:xfrm>
                <a:off x="6216480" y="5106600"/>
                <a:ext cx="227160" cy="2224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3" name=""/>
              <p:cNvGrpSpPr/>
              <p:nvPr/>
            </p:nvGrpSpPr>
            <p:grpSpPr>
              <a:xfrm>
                <a:off x="6234120" y="5226120"/>
                <a:ext cx="192240" cy="360"/>
                <a:chOff x="6234120" y="5226120"/>
                <a:chExt cx="192240" cy="360"/>
              </a:xfrm>
            </p:grpSpPr>
            <p:sp>
              <p:nvSpPr>
                <p:cNvPr id="1904" name="Line 275"/>
                <p:cNvSpPr/>
                <p:nvPr/>
              </p:nvSpPr>
              <p:spPr>
                <a:xfrm>
                  <a:off x="6234120" y="5226120"/>
                  <a:ext cx="19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"/>
                <p:cNvSpPr txBox="1"/>
                <p:nvPr/>
              </p:nvSpPr>
              <p:spPr>
                <a:xfrm>
                  <a:off x="6234120" y="5226120"/>
                  <a:ext cx="192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6" name="Group 276"/>
            <p:cNvGrpSpPr/>
            <p:nvPr/>
          </p:nvGrpSpPr>
          <p:grpSpPr>
            <a:xfrm>
              <a:off x="7355880" y="3435120"/>
              <a:ext cx="455760" cy="445680"/>
              <a:chOff x="7355880" y="3435120"/>
              <a:chExt cx="455760" cy="445680"/>
            </a:xfrm>
          </p:grpSpPr>
          <p:grpSp>
            <p:nvGrpSpPr>
              <p:cNvPr id="1907" name=""/>
              <p:cNvGrpSpPr/>
              <p:nvPr/>
            </p:nvGrpSpPr>
            <p:grpSpPr>
              <a:xfrm>
                <a:off x="7355880" y="3658320"/>
                <a:ext cx="455760" cy="360"/>
                <a:chOff x="7355880" y="3658320"/>
                <a:chExt cx="455760" cy="360"/>
              </a:xfrm>
            </p:grpSpPr>
            <p:sp>
              <p:nvSpPr>
                <p:cNvPr id="1908" name="Line 277"/>
                <p:cNvSpPr/>
                <p:nvPr/>
              </p:nvSpPr>
              <p:spPr>
                <a:xfrm>
                  <a:off x="7355880" y="3658320"/>
                  <a:ext cx="455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 txBox="1"/>
                <p:nvPr/>
              </p:nvSpPr>
              <p:spPr>
                <a:xfrm>
                  <a:off x="7355880" y="3658320"/>
                  <a:ext cx="455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0" name=""/>
              <p:cNvGrpSpPr/>
              <p:nvPr/>
            </p:nvGrpSpPr>
            <p:grpSpPr>
              <a:xfrm>
                <a:off x="7584120" y="3435120"/>
                <a:ext cx="360" cy="445680"/>
                <a:chOff x="7584120" y="3435120"/>
                <a:chExt cx="360" cy="445680"/>
              </a:xfrm>
            </p:grpSpPr>
            <p:sp>
              <p:nvSpPr>
                <p:cNvPr id="1911" name="Line 278"/>
                <p:cNvSpPr/>
                <p:nvPr/>
              </p:nvSpPr>
              <p:spPr>
                <a:xfrm>
                  <a:off x="7584120" y="3435120"/>
                  <a:ext cx="0" cy="44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 txBox="1"/>
                <p:nvPr/>
              </p:nvSpPr>
              <p:spPr>
                <a:xfrm>
                  <a:off x="7584120" y="3435120"/>
                  <a:ext cx="360" cy="44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3" name=""/>
            <p:cNvGrpSpPr/>
            <p:nvPr/>
          </p:nvGrpSpPr>
          <p:grpSpPr>
            <a:xfrm>
              <a:off x="1258920" y="3657240"/>
              <a:ext cx="398160" cy="360"/>
              <a:chOff x="1258920" y="3657240"/>
              <a:chExt cx="398160" cy="360"/>
            </a:xfrm>
          </p:grpSpPr>
          <p:sp>
            <p:nvSpPr>
              <p:cNvPr id="1914" name="Line 279"/>
              <p:cNvSpPr/>
              <p:nvPr/>
            </p:nvSpPr>
            <p:spPr>
              <a:xfrm>
                <a:off x="1258920" y="3657240"/>
                <a:ext cx="398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 txBox="1"/>
              <p:nvPr/>
            </p:nvSpPr>
            <p:spPr>
              <a:xfrm>
                <a:off x="1258920" y="3657240"/>
                <a:ext cx="398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6" name="AutoShape 280"/>
          <p:cNvSpPr/>
          <p:nvPr/>
        </p:nvSpPr>
        <p:spPr>
          <a:xfrm>
            <a:off x="3203640" y="4869000"/>
            <a:ext cx="1008000" cy="288720"/>
          </a:xfrm>
          <a:prstGeom prst="rightArrow">
            <a:avLst>
              <a:gd name="adj1" fmla="val 50000"/>
              <a:gd name="adj2" fmla="val 872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AutoShape 281"/>
          <p:cNvSpPr/>
          <p:nvPr/>
        </p:nvSpPr>
        <p:spPr>
          <a:xfrm>
            <a:off x="5076720" y="5300640"/>
            <a:ext cx="935280" cy="360360"/>
          </a:xfrm>
          <a:prstGeom prst="leftArrow">
            <a:avLst>
              <a:gd name="adj1" fmla="val 50000"/>
              <a:gd name="adj2" fmla="val 648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AutoShape 282"/>
          <p:cNvSpPr/>
          <p:nvPr/>
        </p:nvSpPr>
        <p:spPr>
          <a:xfrm>
            <a:off x="2987640" y="4076640"/>
            <a:ext cx="2232000" cy="432000"/>
          </a:xfrm>
          <a:prstGeom prst="leftArrow">
            <a:avLst>
              <a:gd name="adj1" fmla="val 50000"/>
              <a:gd name="adj2" fmla="val 129119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AutoShape 283"/>
          <p:cNvSpPr/>
          <p:nvPr/>
        </p:nvSpPr>
        <p:spPr>
          <a:xfrm>
            <a:off x="1692360" y="1628640"/>
            <a:ext cx="3598920" cy="360360"/>
          </a:xfrm>
          <a:prstGeom prst="leftArrow">
            <a:avLst>
              <a:gd name="adj1" fmla="val 50000"/>
              <a:gd name="adj2" fmla="val 2495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AutoShape 284"/>
          <p:cNvSpPr/>
          <p:nvPr/>
        </p:nvSpPr>
        <p:spPr>
          <a:xfrm>
            <a:off x="3492360" y="549360"/>
            <a:ext cx="4248360" cy="503280"/>
          </a:xfrm>
          <a:prstGeom prst="rightArrow">
            <a:avLst>
              <a:gd name="adj1" fmla="val 50000"/>
              <a:gd name="adj2" fmla="val 210955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Text Box 285"/>
          <p:cNvSpPr/>
          <p:nvPr/>
        </p:nvSpPr>
        <p:spPr>
          <a:xfrm>
            <a:off x="145404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流方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Text Box 286"/>
          <p:cNvSpPr/>
          <p:nvPr/>
        </p:nvSpPr>
        <p:spPr>
          <a:xfrm>
            <a:off x="181620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Text Box 287"/>
          <p:cNvSpPr/>
          <p:nvPr/>
        </p:nvSpPr>
        <p:spPr>
          <a:xfrm>
            <a:off x="3398760" y="3284640"/>
            <a:ext cx="1400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流方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"/>
                            </p:stCondLst>
                            <p:childTnLst>
                              <p:par>
                                <p:cTn id="193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"/>
                            </p:stCondLst>
                            <p:childTnLst>
                              <p:par>
                                <p:cTn id="204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-1765440" y="475920"/>
            <a:ext cx="8352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电流的方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755640" y="1484280"/>
            <a:ext cx="8145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当电路闭合时，在电源外部的电流的方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Rectangle 4"/>
          <p:cNvSpPr/>
          <p:nvPr/>
        </p:nvSpPr>
        <p:spPr>
          <a:xfrm>
            <a:off x="1116000" y="2276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电源正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7" name=""/>
          <p:cNvGrpSpPr/>
          <p:nvPr/>
        </p:nvGrpSpPr>
        <p:grpSpPr>
          <a:xfrm>
            <a:off x="3059280" y="2565360"/>
            <a:ext cx="502920" cy="360"/>
            <a:chOff x="3059280" y="2565360"/>
            <a:chExt cx="502920" cy="360"/>
          </a:xfrm>
        </p:grpSpPr>
        <p:sp>
          <p:nvSpPr>
            <p:cNvPr id="1928" name="Line 5"/>
            <p:cNvSpPr/>
            <p:nvPr/>
          </p:nvSpPr>
          <p:spPr>
            <a:xfrm>
              <a:off x="3059280" y="2565360"/>
              <a:ext cx="502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 txBox="1"/>
            <p:nvPr/>
          </p:nvSpPr>
          <p:spPr>
            <a:xfrm>
              <a:off x="3059280" y="2565360"/>
              <a:ext cx="50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0" name="Rectangle 6"/>
          <p:cNvSpPr/>
          <p:nvPr/>
        </p:nvSpPr>
        <p:spPr>
          <a:xfrm>
            <a:off x="3419640" y="227664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用电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1" name=""/>
          <p:cNvGrpSpPr/>
          <p:nvPr/>
        </p:nvGrpSpPr>
        <p:grpSpPr>
          <a:xfrm>
            <a:off x="5003640" y="2565360"/>
            <a:ext cx="503280" cy="360"/>
            <a:chOff x="5003640" y="2565360"/>
            <a:chExt cx="503280" cy="360"/>
          </a:xfrm>
        </p:grpSpPr>
        <p:sp>
          <p:nvSpPr>
            <p:cNvPr id="1932" name="Line 7"/>
            <p:cNvSpPr/>
            <p:nvPr/>
          </p:nvSpPr>
          <p:spPr>
            <a:xfrm>
              <a:off x="5003640" y="2565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 txBox="1"/>
            <p:nvPr/>
          </p:nvSpPr>
          <p:spPr>
            <a:xfrm>
              <a:off x="5003640" y="256536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4" name="Rectangle 8"/>
          <p:cNvSpPr/>
          <p:nvPr/>
        </p:nvSpPr>
        <p:spPr>
          <a:xfrm>
            <a:off x="5361120" y="2276640"/>
            <a:ext cx="23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电源负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Text Box 9"/>
          <p:cNvSpPr/>
          <p:nvPr/>
        </p:nvSpPr>
        <p:spPr>
          <a:xfrm>
            <a:off x="684360" y="364500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Arial"/>
                <a:ea typeface="楷体_GB2312"/>
              </a:rPr>
              <a:t>想一想：</a:t>
            </a:r>
            <a:r>
              <a:rPr b="1" lang="zh-CN" sz="3200" spc="-1" strike="noStrike">
                <a:solidFill>
                  <a:srgbClr val="8e163e"/>
                </a:solidFill>
                <a:latin typeface="Arial"/>
                <a:ea typeface="楷体_GB2312"/>
              </a:rPr>
              <a:t>当电流方向发生改变时，灯还会亮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Rectangle 10"/>
          <p:cNvSpPr/>
          <p:nvPr/>
        </p:nvSpPr>
        <p:spPr>
          <a:xfrm>
            <a:off x="3851280" y="6922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电荷移动的方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7" name="Picture 11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3240360" cy="3240000"/>
          </a:xfrm>
          <a:prstGeom prst="rect">
            <a:avLst/>
          </a:prstGeom>
          <a:ln w="0">
            <a:noFill/>
          </a:ln>
        </p:spPr>
      </p:pic>
      <p:sp>
        <p:nvSpPr>
          <p:cNvPr id="1938" name="Rectangle 12"/>
          <p:cNvSpPr/>
          <p:nvPr/>
        </p:nvSpPr>
        <p:spPr>
          <a:xfrm>
            <a:off x="14400" y="0"/>
            <a:ext cx="8229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电荷的定向移动就形成了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电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10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9" name="Picture 3" descr="wla211"/>
          <p:cNvPicPr/>
          <p:nvPr/>
        </p:nvPicPr>
        <p:blipFill>
          <a:blip r:embed="rId1"/>
          <a:stretch/>
        </p:blipFill>
        <p:spPr>
          <a:xfrm>
            <a:off x="682560" y="4879800"/>
            <a:ext cx="2411640" cy="1249560"/>
          </a:xfrm>
          <a:prstGeom prst="rect">
            <a:avLst/>
          </a:prstGeom>
          <a:ln w="0">
            <a:noFill/>
          </a:ln>
        </p:spPr>
      </p:pic>
      <p:grpSp>
        <p:nvGrpSpPr>
          <p:cNvPr id="1940" name="Group 4"/>
          <p:cNvGrpSpPr/>
          <p:nvPr/>
        </p:nvGrpSpPr>
        <p:grpSpPr>
          <a:xfrm>
            <a:off x="824040" y="4371840"/>
            <a:ext cx="1986480" cy="609120"/>
            <a:chOff x="824040" y="4371840"/>
            <a:chExt cx="1986480" cy="609120"/>
          </a:xfrm>
        </p:grpSpPr>
        <p:grpSp>
          <p:nvGrpSpPr>
            <p:cNvPr id="1941" name=""/>
            <p:cNvGrpSpPr/>
            <p:nvPr/>
          </p:nvGrpSpPr>
          <p:grpSpPr>
            <a:xfrm>
              <a:off x="824040" y="4828680"/>
              <a:ext cx="442080" cy="152280"/>
              <a:chOff x="824040" y="4828680"/>
              <a:chExt cx="442080" cy="152280"/>
            </a:xfrm>
          </p:grpSpPr>
          <p:sp>
            <p:nvSpPr>
              <p:cNvPr id="1942" name="Line 5"/>
              <p:cNvSpPr/>
              <p:nvPr/>
            </p:nvSpPr>
            <p:spPr>
              <a:xfrm>
                <a:off x="824040" y="4828680"/>
                <a:ext cx="442080" cy="152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 txBox="1"/>
              <p:nvPr/>
            </p:nvSpPr>
            <p:spPr>
              <a:xfrm>
                <a:off x="824040" y="4828680"/>
                <a:ext cx="4420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1266120" y="4371840"/>
              <a:ext cx="219960" cy="304200"/>
              <a:chOff x="1266120" y="4371840"/>
              <a:chExt cx="219960" cy="304200"/>
            </a:xfrm>
          </p:grpSpPr>
          <p:sp>
            <p:nvSpPr>
              <p:cNvPr id="1945" name="Line 6"/>
              <p:cNvSpPr/>
              <p:nvPr/>
            </p:nvSpPr>
            <p:spPr>
              <a:xfrm>
                <a:off x="1266120" y="4371840"/>
                <a:ext cx="219960" cy="304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 txBox="1"/>
              <p:nvPr/>
            </p:nvSpPr>
            <p:spPr>
              <a:xfrm>
                <a:off x="1266120" y="4371840"/>
                <a:ext cx="219960" cy="30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1928160" y="4371840"/>
              <a:ext cx="220320" cy="304200"/>
              <a:chOff x="1928160" y="4371840"/>
              <a:chExt cx="220320" cy="304200"/>
            </a:xfrm>
          </p:grpSpPr>
          <p:sp>
            <p:nvSpPr>
              <p:cNvPr id="1948" name="Line 7"/>
              <p:cNvSpPr/>
              <p:nvPr/>
            </p:nvSpPr>
            <p:spPr>
              <a:xfrm flipH="1">
                <a:off x="1928160" y="4371840"/>
                <a:ext cx="219960" cy="304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 txBox="1"/>
              <p:nvPr/>
            </p:nvSpPr>
            <p:spPr>
              <a:xfrm>
                <a:off x="1928520" y="4371840"/>
                <a:ext cx="219960" cy="30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2369520" y="4524120"/>
              <a:ext cx="221040" cy="151560"/>
              <a:chOff x="2369520" y="4524120"/>
              <a:chExt cx="221040" cy="151560"/>
            </a:xfrm>
          </p:grpSpPr>
          <p:sp>
            <p:nvSpPr>
              <p:cNvPr id="1951" name="Line 8"/>
              <p:cNvSpPr/>
              <p:nvPr/>
            </p:nvSpPr>
            <p:spPr>
              <a:xfrm flipH="1">
                <a:off x="2369520" y="4524120"/>
                <a:ext cx="221040" cy="1515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 txBox="1"/>
              <p:nvPr/>
            </p:nvSpPr>
            <p:spPr>
              <a:xfrm>
                <a:off x="2369520" y="4524120"/>
                <a:ext cx="22104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2590200" y="4828680"/>
              <a:ext cx="220320" cy="152280"/>
              <a:chOff x="2590200" y="4828680"/>
              <a:chExt cx="220320" cy="152280"/>
            </a:xfrm>
          </p:grpSpPr>
          <p:sp>
            <p:nvSpPr>
              <p:cNvPr id="1954" name="Line 9"/>
              <p:cNvSpPr/>
              <p:nvPr/>
            </p:nvSpPr>
            <p:spPr>
              <a:xfrm flipH="1">
                <a:off x="2590200" y="4828680"/>
                <a:ext cx="219960" cy="152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 txBox="1"/>
              <p:nvPr/>
            </p:nvSpPr>
            <p:spPr>
              <a:xfrm>
                <a:off x="2590560" y="4828680"/>
                <a:ext cx="2199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56" name="Picture 10" descr="2222"/>
          <p:cNvPicPr/>
          <p:nvPr/>
        </p:nvPicPr>
        <p:blipFill>
          <a:blip r:embed="rId2"/>
          <a:stretch/>
        </p:blipFill>
        <p:spPr>
          <a:xfrm>
            <a:off x="5506920" y="3654360"/>
            <a:ext cx="3394080" cy="297504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11" descr="电池"/>
          <p:cNvPicPr/>
          <p:nvPr/>
        </p:nvPicPr>
        <p:blipFill>
          <a:blip r:embed="rId3"/>
          <a:stretch/>
        </p:blipFill>
        <p:spPr>
          <a:xfrm>
            <a:off x="3182760" y="2057400"/>
            <a:ext cx="3573720" cy="1725480"/>
          </a:xfrm>
          <a:prstGeom prst="rect">
            <a:avLst/>
          </a:prstGeom>
          <a:ln w="0">
            <a:noFill/>
          </a:ln>
        </p:spPr>
      </p:pic>
      <p:sp>
        <p:nvSpPr>
          <p:cNvPr id="1958" name="Freeform 12"/>
          <p:cNvSpPr/>
          <p:nvPr/>
        </p:nvSpPr>
        <p:spPr>
          <a:xfrm>
            <a:off x="6191280" y="2897280"/>
            <a:ext cx="255600" cy="2448000"/>
          </a:xfrm>
          <a:custGeom>
            <a:avLst/>
            <a:gdLst/>
            <a:ahLst/>
            <a:rect l="l" t="t" r="r" b="b"/>
            <a:pathLst>
              <a:path w="137" h="1472">
                <a:moveTo>
                  <a:pt x="0" y="0"/>
                </a:moveTo>
                <a:cubicBezTo>
                  <a:pt x="15" y="120"/>
                  <a:pt x="44" y="238"/>
                  <a:pt x="64" y="357"/>
                </a:cubicBezTo>
                <a:cubicBezTo>
                  <a:pt x="98" y="565"/>
                  <a:pt x="88" y="781"/>
                  <a:pt x="128" y="988"/>
                </a:cubicBezTo>
                <a:cubicBezTo>
                  <a:pt x="124" y="1068"/>
                  <a:pt x="137" y="1240"/>
                  <a:pt x="64" y="1317"/>
                </a:cubicBezTo>
                <a:cubicBezTo>
                  <a:pt x="58" y="1335"/>
                  <a:pt x="52" y="1354"/>
                  <a:pt x="46" y="1372"/>
                </a:cubicBezTo>
                <a:cubicBezTo>
                  <a:pt x="43" y="1381"/>
                  <a:pt x="37" y="1399"/>
                  <a:pt x="37" y="1399"/>
                </a:cubicBezTo>
                <a:cubicBezTo>
                  <a:pt x="43" y="1417"/>
                  <a:pt x="49" y="1441"/>
                  <a:pt x="64" y="1454"/>
                </a:cubicBezTo>
                <a:cubicBezTo>
                  <a:pt x="71" y="1460"/>
                  <a:pt x="82" y="1459"/>
                  <a:pt x="91" y="1463"/>
                </a:cubicBezTo>
                <a:cubicBezTo>
                  <a:pt x="95" y="1465"/>
                  <a:pt x="98" y="1469"/>
                  <a:pt x="101" y="147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Freeform 13"/>
          <p:cNvSpPr/>
          <p:nvPr/>
        </p:nvSpPr>
        <p:spPr>
          <a:xfrm>
            <a:off x="2395440" y="5300640"/>
            <a:ext cx="5394600" cy="925560"/>
          </a:xfrm>
          <a:custGeom>
            <a:avLst/>
            <a:gdLst/>
            <a:ahLst/>
            <a:rect l="l" t="t" r="r" b="b"/>
            <a:pathLst>
              <a:path w="2898" h="557">
                <a:moveTo>
                  <a:pt x="2898" y="0"/>
                </a:moveTo>
                <a:cubicBezTo>
                  <a:pt x="2895" y="24"/>
                  <a:pt x="2895" y="49"/>
                  <a:pt x="2889" y="73"/>
                </a:cubicBezTo>
                <a:cubicBezTo>
                  <a:pt x="2874" y="133"/>
                  <a:pt x="2819" y="162"/>
                  <a:pt x="2780" y="201"/>
                </a:cubicBezTo>
                <a:cubicBezTo>
                  <a:pt x="2742" y="239"/>
                  <a:pt x="2706" y="290"/>
                  <a:pt x="2661" y="320"/>
                </a:cubicBezTo>
                <a:cubicBezTo>
                  <a:pt x="2647" y="329"/>
                  <a:pt x="2630" y="331"/>
                  <a:pt x="2615" y="338"/>
                </a:cubicBezTo>
                <a:cubicBezTo>
                  <a:pt x="2599" y="346"/>
                  <a:pt x="2584" y="356"/>
                  <a:pt x="2569" y="365"/>
                </a:cubicBezTo>
                <a:cubicBezTo>
                  <a:pt x="2560" y="371"/>
                  <a:pt x="2552" y="379"/>
                  <a:pt x="2542" y="384"/>
                </a:cubicBezTo>
                <a:cubicBezTo>
                  <a:pt x="2482" y="414"/>
                  <a:pt x="2413" y="418"/>
                  <a:pt x="2350" y="439"/>
                </a:cubicBezTo>
                <a:cubicBezTo>
                  <a:pt x="2274" y="464"/>
                  <a:pt x="2221" y="484"/>
                  <a:pt x="2140" y="493"/>
                </a:cubicBezTo>
                <a:cubicBezTo>
                  <a:pt x="1989" y="538"/>
                  <a:pt x="1839" y="548"/>
                  <a:pt x="1682" y="557"/>
                </a:cubicBezTo>
                <a:cubicBezTo>
                  <a:pt x="1523" y="552"/>
                  <a:pt x="1365" y="552"/>
                  <a:pt x="1207" y="530"/>
                </a:cubicBezTo>
                <a:cubicBezTo>
                  <a:pt x="1132" y="505"/>
                  <a:pt x="1066" y="494"/>
                  <a:pt x="988" y="484"/>
                </a:cubicBezTo>
                <a:cubicBezTo>
                  <a:pt x="963" y="475"/>
                  <a:pt x="940" y="463"/>
                  <a:pt x="914" y="457"/>
                </a:cubicBezTo>
                <a:cubicBezTo>
                  <a:pt x="872" y="448"/>
                  <a:pt x="786" y="439"/>
                  <a:pt x="786" y="439"/>
                </a:cubicBezTo>
                <a:cubicBezTo>
                  <a:pt x="765" y="433"/>
                  <a:pt x="744" y="425"/>
                  <a:pt x="722" y="420"/>
                </a:cubicBezTo>
                <a:cubicBezTo>
                  <a:pt x="701" y="415"/>
                  <a:pt x="679" y="416"/>
                  <a:pt x="658" y="411"/>
                </a:cubicBezTo>
                <a:cubicBezTo>
                  <a:pt x="577" y="391"/>
                  <a:pt x="504" y="361"/>
                  <a:pt x="421" y="347"/>
                </a:cubicBezTo>
                <a:cubicBezTo>
                  <a:pt x="397" y="324"/>
                  <a:pt x="336" y="300"/>
                  <a:pt x="302" y="292"/>
                </a:cubicBezTo>
                <a:cubicBezTo>
                  <a:pt x="242" y="252"/>
                  <a:pt x="187" y="206"/>
                  <a:pt x="119" y="183"/>
                </a:cubicBezTo>
                <a:cubicBezTo>
                  <a:pt x="113" y="177"/>
                  <a:pt x="109" y="168"/>
                  <a:pt x="101" y="164"/>
                </a:cubicBezTo>
                <a:cubicBezTo>
                  <a:pt x="84" y="155"/>
                  <a:pt x="46" y="146"/>
                  <a:pt x="46" y="146"/>
                </a:cubicBezTo>
                <a:cubicBezTo>
                  <a:pt x="10" y="158"/>
                  <a:pt x="25" y="148"/>
                  <a:pt x="0" y="173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Freeform 14"/>
          <p:cNvSpPr/>
          <p:nvPr/>
        </p:nvSpPr>
        <p:spPr>
          <a:xfrm>
            <a:off x="665280" y="2776680"/>
            <a:ext cx="3109680" cy="2842920"/>
          </a:xfrm>
          <a:custGeom>
            <a:avLst/>
            <a:gdLst/>
            <a:ahLst/>
            <a:rect l="l" t="t" r="r" b="b"/>
            <a:pathLst>
              <a:path w="1671" h="1710">
                <a:moveTo>
                  <a:pt x="263" y="1710"/>
                </a:moveTo>
                <a:cubicBezTo>
                  <a:pt x="248" y="1695"/>
                  <a:pt x="232" y="1679"/>
                  <a:pt x="217" y="1664"/>
                </a:cubicBezTo>
                <a:cubicBezTo>
                  <a:pt x="208" y="1655"/>
                  <a:pt x="190" y="1637"/>
                  <a:pt x="190" y="1637"/>
                </a:cubicBezTo>
                <a:cubicBezTo>
                  <a:pt x="174" y="1591"/>
                  <a:pt x="146" y="1553"/>
                  <a:pt x="126" y="1509"/>
                </a:cubicBezTo>
                <a:cubicBezTo>
                  <a:pt x="99" y="1449"/>
                  <a:pt x="70" y="1390"/>
                  <a:pt x="34" y="1335"/>
                </a:cubicBezTo>
                <a:cubicBezTo>
                  <a:pt x="6" y="1222"/>
                  <a:pt x="0" y="1101"/>
                  <a:pt x="34" y="987"/>
                </a:cubicBezTo>
                <a:cubicBezTo>
                  <a:pt x="49" y="935"/>
                  <a:pt x="89" y="895"/>
                  <a:pt x="107" y="841"/>
                </a:cubicBezTo>
                <a:cubicBezTo>
                  <a:pt x="110" y="830"/>
                  <a:pt x="126" y="830"/>
                  <a:pt x="135" y="823"/>
                </a:cubicBezTo>
                <a:cubicBezTo>
                  <a:pt x="145" y="815"/>
                  <a:pt x="153" y="805"/>
                  <a:pt x="162" y="795"/>
                </a:cubicBezTo>
                <a:cubicBezTo>
                  <a:pt x="177" y="779"/>
                  <a:pt x="219" y="725"/>
                  <a:pt x="244" y="704"/>
                </a:cubicBezTo>
                <a:cubicBezTo>
                  <a:pt x="310" y="649"/>
                  <a:pt x="395" y="609"/>
                  <a:pt x="455" y="549"/>
                </a:cubicBezTo>
                <a:cubicBezTo>
                  <a:pt x="542" y="462"/>
                  <a:pt x="641" y="411"/>
                  <a:pt x="738" y="338"/>
                </a:cubicBezTo>
                <a:cubicBezTo>
                  <a:pt x="780" y="306"/>
                  <a:pt x="808" y="271"/>
                  <a:pt x="857" y="247"/>
                </a:cubicBezTo>
                <a:cubicBezTo>
                  <a:pt x="907" y="195"/>
                  <a:pt x="969" y="158"/>
                  <a:pt x="1022" y="110"/>
                </a:cubicBezTo>
                <a:cubicBezTo>
                  <a:pt x="1048" y="87"/>
                  <a:pt x="1063" y="49"/>
                  <a:pt x="1095" y="37"/>
                </a:cubicBezTo>
                <a:cubicBezTo>
                  <a:pt x="1153" y="15"/>
                  <a:pt x="1206" y="7"/>
                  <a:pt x="1268" y="0"/>
                </a:cubicBezTo>
                <a:cubicBezTo>
                  <a:pt x="1353" y="6"/>
                  <a:pt x="1440" y="9"/>
                  <a:pt x="1524" y="27"/>
                </a:cubicBezTo>
                <a:cubicBezTo>
                  <a:pt x="1546" y="32"/>
                  <a:pt x="1566" y="42"/>
                  <a:pt x="1588" y="46"/>
                </a:cubicBezTo>
                <a:cubicBezTo>
                  <a:pt x="1615" y="50"/>
                  <a:pt x="1671" y="55"/>
                  <a:pt x="1671" y="55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1" name="Group 25"/>
          <p:cNvGrpSpPr/>
          <p:nvPr/>
        </p:nvGrpSpPr>
        <p:grpSpPr>
          <a:xfrm>
            <a:off x="611280" y="3213000"/>
            <a:ext cx="6670080" cy="3071880"/>
            <a:chOff x="611280" y="3213000"/>
            <a:chExt cx="6670080" cy="3071880"/>
          </a:xfrm>
        </p:grpSpPr>
        <p:sp>
          <p:nvSpPr>
            <p:cNvPr id="1962" name="Freeform 16"/>
            <p:cNvSpPr/>
            <p:nvPr/>
          </p:nvSpPr>
          <p:spPr>
            <a:xfrm>
              <a:off x="6210000" y="3213000"/>
              <a:ext cx="88560" cy="181080"/>
            </a:xfrm>
            <a:custGeom>
              <a:avLst/>
              <a:gdLst/>
              <a:ahLst/>
              <a:rect l="l" t="t" r="r" b="b"/>
              <a:pathLst>
                <a:path w="48" h="109">
                  <a:moveTo>
                    <a:pt x="46" y="0"/>
                  </a:moveTo>
                  <a:cubicBezTo>
                    <a:pt x="43" y="30"/>
                    <a:pt x="48" y="63"/>
                    <a:pt x="37" y="91"/>
                  </a:cubicBezTo>
                  <a:cubicBezTo>
                    <a:pt x="30" y="109"/>
                    <a:pt x="0" y="46"/>
                    <a:pt x="0" y="46"/>
                  </a:cubicBezTo>
                </a:path>
              </a:pathLst>
            </a:cu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6311880" y="4064040"/>
              <a:ext cx="118440" cy="7776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0" y="0"/>
                  </a:moveTo>
                  <a:cubicBezTo>
                    <a:pt x="2" y="2"/>
                    <a:pt x="28" y="46"/>
                    <a:pt x="37" y="46"/>
                  </a:cubicBezTo>
                  <a:cubicBezTo>
                    <a:pt x="48" y="46"/>
                    <a:pt x="60" y="16"/>
                    <a:pt x="64" y="9"/>
                  </a:cubicBezTo>
                </a:path>
              </a:pathLst>
            </a:cu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6345000" y="4869000"/>
              <a:ext cx="102960" cy="12528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0" y="0"/>
                  </a:moveTo>
                  <a:cubicBezTo>
                    <a:pt x="8" y="25"/>
                    <a:pt x="7" y="75"/>
                    <a:pt x="46" y="46"/>
                  </a:cubicBezTo>
                  <a:cubicBezTo>
                    <a:pt x="51" y="42"/>
                    <a:pt x="52" y="34"/>
                    <a:pt x="55" y="28"/>
                  </a:cubicBezTo>
                </a:path>
              </a:pathLst>
            </a:cu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7138800" y="5843520"/>
              <a:ext cx="142560" cy="13500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1" y="0"/>
                  </a:moveTo>
                  <a:cubicBezTo>
                    <a:pt x="38" y="9"/>
                    <a:pt x="37" y="20"/>
                    <a:pt x="31" y="27"/>
                  </a:cubicBezTo>
                  <a:cubicBezTo>
                    <a:pt x="24" y="35"/>
                    <a:pt x="8" y="35"/>
                    <a:pt x="4" y="45"/>
                  </a:cubicBezTo>
                  <a:cubicBezTo>
                    <a:pt x="0" y="54"/>
                    <a:pt x="4" y="69"/>
                    <a:pt x="13" y="73"/>
                  </a:cubicBezTo>
                  <a:cubicBezTo>
                    <a:pt x="33" y="81"/>
                    <a:pt x="56" y="73"/>
                    <a:pt x="77" y="73"/>
                  </a:cubicBezTo>
                </a:path>
              </a:pathLst>
            </a:cu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5749920" y="6132600"/>
              <a:ext cx="153360" cy="15228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64" y="0"/>
                  </a:moveTo>
                  <a:cubicBezTo>
                    <a:pt x="52" y="38"/>
                    <a:pt x="37" y="43"/>
                    <a:pt x="0" y="55"/>
                  </a:cubicBezTo>
                  <a:cubicBezTo>
                    <a:pt x="23" y="77"/>
                    <a:pt x="50" y="92"/>
                    <a:pt x="83" y="92"/>
                  </a:cubicBezTo>
                </a:path>
              </a:pathLst>
            </a:cu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4371840" y="6102360"/>
              <a:ext cx="221760" cy="150840"/>
            </a:xfrm>
            <a:custGeom>
              <a:avLst/>
              <a:gdLst/>
              <a:ahLst/>
              <a:rect l="l" t="t" r="r" b="b"/>
              <a:pathLst>
                <a:path w="119" h="91">
                  <a:moveTo>
                    <a:pt x="119" y="0"/>
                  </a:moveTo>
                  <a:cubicBezTo>
                    <a:pt x="78" y="10"/>
                    <a:pt x="42" y="20"/>
                    <a:pt x="0" y="27"/>
                  </a:cubicBezTo>
                  <a:cubicBezTo>
                    <a:pt x="36" y="40"/>
                    <a:pt x="101" y="58"/>
                    <a:pt x="119" y="91"/>
                  </a:cubicBezTo>
                </a:path>
              </a:pathLst>
            </a:cu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22"/>
            <p:cNvSpPr/>
            <p:nvPr/>
          </p:nvSpPr>
          <p:spPr>
            <a:xfrm>
              <a:off x="611280" y="4419720"/>
              <a:ext cx="171360" cy="100080"/>
            </a:xfrm>
            <a:custGeom>
              <a:avLst/>
              <a:gdLst/>
              <a:ahLst/>
              <a:rect l="l" t="t" r="r" b="b"/>
              <a:pathLst>
                <a:path w="92" h="61">
                  <a:moveTo>
                    <a:pt x="0" y="52"/>
                  </a:moveTo>
                  <a:cubicBezTo>
                    <a:pt x="48" y="37"/>
                    <a:pt x="58" y="0"/>
                    <a:pt x="92" y="61"/>
                  </a:cubicBezTo>
                </a:path>
              </a:pathLst>
            </a:cu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23"/>
            <p:cNvSpPr/>
            <p:nvPr/>
          </p:nvSpPr>
          <p:spPr>
            <a:xfrm>
              <a:off x="1819080" y="3408480"/>
              <a:ext cx="169560" cy="14436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0" y="2"/>
                  </a:moveTo>
                  <a:cubicBezTo>
                    <a:pt x="28" y="5"/>
                    <a:pt x="57" y="0"/>
                    <a:pt x="83" y="11"/>
                  </a:cubicBezTo>
                  <a:cubicBezTo>
                    <a:pt x="91" y="14"/>
                    <a:pt x="69" y="22"/>
                    <a:pt x="64" y="29"/>
                  </a:cubicBezTo>
                  <a:cubicBezTo>
                    <a:pt x="18" y="87"/>
                    <a:pt x="64" y="39"/>
                    <a:pt x="37" y="66"/>
                  </a:cubicBezTo>
                </a:path>
              </a:pathLst>
            </a:cu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源外部电流的方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极流向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极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荷的运动方向：从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极流向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Oval 27"/>
          <p:cNvSpPr/>
          <p:nvPr/>
        </p:nvSpPr>
        <p:spPr>
          <a:xfrm>
            <a:off x="3492360" y="2708280"/>
            <a:ext cx="287640" cy="289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ext Box 28"/>
          <p:cNvSpPr/>
          <p:nvPr/>
        </p:nvSpPr>
        <p:spPr>
          <a:xfrm>
            <a:off x="5612760" y="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正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29"/>
          <p:cNvSpPr/>
          <p:nvPr/>
        </p:nvSpPr>
        <p:spPr>
          <a:xfrm>
            <a:off x="7771680" y="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30"/>
          <p:cNvSpPr/>
          <p:nvPr/>
        </p:nvSpPr>
        <p:spPr>
          <a:xfrm>
            <a:off x="4892040" y="76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31"/>
          <p:cNvSpPr/>
          <p:nvPr/>
        </p:nvSpPr>
        <p:spPr>
          <a:xfrm>
            <a:off x="7268400" y="76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正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"/>
                            </p:stCondLst>
                            <p:childTnLst>
                              <p:par>
                                <p:cTn id="250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1221E-006 C -0.02049 -0.00208 -0.01215 0.00069 -0.02587 -0.00555 C -0.04236 -0.01295 -0.06076 -0.0074 -0.07795 -0.00925 C -0.08611 -0.01295 -0.08958 -0.01249 -0.09861 -0.0111 C -0.10469 -0.00833 -0.10903 -0.00277 -0.11493 -2.81221E-006 C -0.12135 0.01249 -0.11736 0.00948 -0.12465 0.01272 C -0.125 0.01341 -0.12934 0.02313 -0.13021 0.02359 C -0.1342 0.02706 -0.14201 0.02821 -0.14653 0.02914 C -0.15417 0.03261 -0.16042 0.03955 -0.16701 0.04556 C -0.1684 0.04672 -0.16979 0.0481 -0.17118 0.04926 C -0.17257 0.05042 -0.17535 0.05296 -0.17535 0.05296 C -0.17621 0.05481 -0.17691 0.05689 -0.17795 0.05828 C -0.17917 0.0599 -0.18108 0.06013 -0.18212 0.06198 C -0.18663 0.06961 -0.17934 0.06661 -0.18767 0.07123 C -0.18941 0.07216 -0.19132 0.07216 -0.19305 0.07285 C -0.19583 0.07401 -0.20121 0.07655 -0.20121 0.07655 C -0.20989 0.09389 -0.22205 0.09251 -0.23559 0.09852 C -0.24271 0.11378 -0.23333 0.09621 -0.24253 0.10569 C -0.25191 0.1154 -0.23837 0.10823 -0.2493 0.11309 C -0.25364 0.11725 -0.25642 0.12165 -0.26163 0.12396 C -0.27101 0.13252 -0.26667 0.12997 -0.27396 0.13321 C -0.27934 0.13807 -0.28437 0.145 -0.29028 0.14778 C -0.29219 0.15518 -0.29375 0.15796 -0.29861 0.16235 C -0.30191 0.16929 -0.30382 0.16906 -0.30955 0.17137 C -0.31285 0.17784 -0.3184 0.18548 -0.32326 0.18964 C -0.32483 0.19565 -0.32569 0.2019 -0.32726 0.20791 C -0.32812 0.22109 -0.3276 0.22502 -0.33003 0.23543 C -0.3309 0.23913 -0.33281 0.2463 -0.33281 0.2463 C -0.33351 0.26619 -0.34288 0.31938 -0.32326 0.3284 C -0.32066 0.33834 -0.3191 0.34852 -0.31094 0.35222 C -0.30937 0.35846 -0.30903 0.36563 -0.30538 0.37049 C -0.30174 0.37512 -0.30121 0.37303 -0.29722 0.37581 C -0.29566 0.37673 -0.29462 0.37858 -0.29305 0.37951 C -0.29045 0.38113 -0.28489 0.38321 -0.28489 0.38321 C -0.28142 0.39662 -0.2842 0.3913 -0.27795 0.39963 C -0.26198 0.39871 -0.24549 0.40125 -0.23003 0.39593 C -0.22847 0.39547 -0.2283 0.392 -0.22726 0.39038 C -0.22465 0.38645 -0.2191 0.37951 -0.2191 0.37951 C -0.21649 0.36933 -0.21701 0.35893 -0.21493 0.34852 C -0.21719 0.33927 -0.21667 0.34621 -0.21354 0.33765 C -0.21059 0.32956 -0.2151 0.33326 -0.20816 0.33025 C -0.20486 0.34366 -0.20816 0.32701 -0.20816 0.34297 C -0.20816 0.36008 -0.20868 0.38298 -0.19444 0.38853 C -0.19028 0.38737 -0.18628 0.38622 -0.18212 0.38506 C -0.18055 0.3846 -0.17951 0.38229 -0.17795 0.38136 C -0.17621 0.38044 -0.1743 0.3802 -0.17257 0.37951 C -0.16233 0.38414 -0.1526 0.38945 -0.14236 0.39408 C -0.13802 0.40587 -0.13507 0.40287 -0.12587 0.40495 C -0.10989 0.41605 -0.13715 0.39894 -0.10833 0.4068 C -0.10503 0.40772 -0.10017 0.4142 -0.10017 0.4142 C -0.09948 0.41651 -0.09983 0.41929 -0.09861 0.42137 C -0.09531 0.42761 -0.09132 0.42761 -0.08646 0.42877 C -0.07674 0.43108 -0.06736 0.43386 -0.05764 0.43617 C -0.04809 0.44403 -0.03819 0.44403 -0.02726 0.44519 C -0.02153 0.45028 -0.01562 0.4556 -0.00955 0.45976 C 0.00417 0.46901 0.02118 0.46716 0.03576 0.47433 C 0.0533 0.47317 0.06632 0.46924 0.08229 0.47433 C 0.08837 0.47294 0.09288 0.47017 0.09879 0.47248 C 0.10156 0.47502 0.10434 0.4771 0.10695 0.47988 C 0.10851 0.48173 0.11024 0.48381 0.11233 0.48543 C 0.11511 0.48797 0.12066 0.4926 0.12066 0.4926 C 0.13767 0.49075 0.14427 0.49283 0.16042 0.49815 C 0.19375 0.49584 0.21701 0.49376 0.25347 0.4926 C 0.26076 0.49075 0.26528 0.48636 0.27257 0.48358 C 0.28351 0.47942 0.28281 0.48011 0.29323 0.47803 C 0.29774 0.47387 0.30174 0.4734 0.30695 0.47086 C 0.31632 0.466 0.32431 0.46207 0.33438 0.45976 C 0.3408 0.45837 0.35347 0.45606 0.35347 0.45606 C 0.3658 0.4512 0.37587 0.44056 0.38767 0.43432 C 0.39722 0.42923 0.40642 0.42738 0.41511 0.41975 C 0.41945 0.41119 0.4217 0.40495 0.42465 0.39593 C 0.42795 0.38575 0.42726 0.3765 0.4342 0.37049 C 0.43611 0.36355 0.43524 0.36587 0.43837 0.35939 C 0.43906 0.35754 0.44254 0.35523 0.44115 0.35407 C 0.43802 0.35106 0.42847 0.35893 0.42604 0.36124 C 0.40799 0.35638 0.42379 0.33881 0.41372 0.31938 C 0.41233 0.3136 0.4099 0.30874 0.40833 0.30296 C 0.38733 0.30342 0.36632 0.30365 0.34531 0.30458 C 0.34167 0.30481 0.33611 0.30227 0.33438 0.30643 C 0.33108 0.31452 0.3342 0.32493 0.33299 0.33395 C 0.33264 0.33603 0.33108 0.33742 0.33021 0.33927 C 0.32691 0.35268 0.3316 0.33626 0.32465 0.35037 C 0.32101 0.35777 0.32326 0.35939 0.31511 0.36309 C 0.30833 0.3624 0.30139 0.36216 0.29445 0.36124 C 0.29184 0.36078 0.28854 0.3617 0.28629 0.35939 C 0.28594 0.3587 0.27986 0.33996 0.27951 0.33765 C 0.28073 0.32724 0.27986 0.32331 0.28629 0.31753 C 0.29445 0.27983 0.29514 0.23867 0.28629 0.20074 C 0.28837 0.16004 0.28715 0.12026 0.28212 0.08025 C 0.2816 0.06799 0.28264 0.05574 0.28073 0.04371 C 0.28056 0.04163 0.27795 0.04163 0.27656 0.04001 C 0.27083 0.03238 0.26736 0.02012 0.25886 0.01642 C 0.25451 0.01434 0.24965 0.01434 0.24531 0.01272 C 0.23576 0.00439 0.23281 0.00555 0.22049 0.00717 C 0.19011 0.00648 0.15938 0.00601 0.12882 0.00532 C 0.06788 0.00393 0.07969 -0.00277 0.04531 0.01272 C 0.03576 0.0111 0.0257 0.01156 0.01649 0.00717 C 0.01406 0.00601 -0.00434 -0.01318 1.11111E-006 -2.81221E-006 Z">
                                      <p:cBhvr>
                                        <p:cTn id="261" dur="3000" fill="hold"/>
                                        <p:tgtEl>
                                          <p:spTgt spid="19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Text Box 13"/>
          <p:cNvSpPr/>
          <p:nvPr/>
        </p:nvSpPr>
        <p:spPr>
          <a:xfrm>
            <a:off x="179280" y="333360"/>
            <a:ext cx="8642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最简单的电路有哪几部分组成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各个部分的作用是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部分你在生活中见过或者听说过哪些？请举几个例子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电路中有持续电流的条件是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Rectangle 2"/>
          <p:cNvSpPr/>
          <p:nvPr/>
        </p:nvSpPr>
        <p:spPr>
          <a:xfrm>
            <a:off x="468360" y="443700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关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Text Box 3"/>
          <p:cNvSpPr/>
          <p:nvPr/>
        </p:nvSpPr>
        <p:spPr>
          <a:xfrm>
            <a:off x="1979640" y="4437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e163e"/>
                </a:solidFill>
                <a:latin typeface="Arial"/>
                <a:ea typeface="楷体_GB2312"/>
              </a:rPr>
              <a:t>控制电路通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4"/>
          <p:cNvSpPr/>
          <p:nvPr/>
        </p:nvSpPr>
        <p:spPr>
          <a:xfrm>
            <a:off x="673920" y="5421240"/>
            <a:ext cx="13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线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5"/>
          <p:cNvSpPr/>
          <p:nvPr/>
        </p:nvSpPr>
        <p:spPr>
          <a:xfrm>
            <a:off x="2124000" y="5445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e163e"/>
                </a:solidFill>
                <a:latin typeface="Arial"/>
                <a:ea typeface="楷体_GB2312"/>
              </a:rPr>
              <a:t>提供电荷的流动路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6"/>
          <p:cNvSpPr/>
          <p:nvPr/>
        </p:nvSpPr>
        <p:spPr>
          <a:xfrm>
            <a:off x="758520" y="3189240"/>
            <a:ext cx="15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电器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7"/>
          <p:cNvSpPr/>
          <p:nvPr/>
        </p:nvSpPr>
        <p:spPr>
          <a:xfrm>
            <a:off x="2340000" y="3213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e163e"/>
                </a:solidFill>
                <a:latin typeface="Arial"/>
                <a:ea typeface="楷体_GB2312"/>
              </a:rPr>
              <a:t>消耗电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电路的构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 Box 10"/>
          <p:cNvSpPr/>
          <p:nvPr/>
        </p:nvSpPr>
        <p:spPr>
          <a:xfrm>
            <a:off x="1979640" y="191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e163e"/>
                </a:solidFill>
                <a:latin typeface="Arial"/>
                <a:ea typeface="楷体_GB2312"/>
              </a:rPr>
              <a:t>提供电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6" name="Picture 11" descr="111"/>
          <p:cNvPicPr/>
          <p:nvPr/>
        </p:nvPicPr>
        <p:blipFill>
          <a:blip r:embed="rId1"/>
          <a:stretch/>
        </p:blipFill>
        <p:spPr>
          <a:xfrm>
            <a:off x="6804000" y="1628640"/>
            <a:ext cx="1736640" cy="1476360"/>
          </a:xfrm>
          <a:prstGeom prst="rect">
            <a:avLst/>
          </a:prstGeom>
          <a:ln w="0">
            <a:noFill/>
          </a:ln>
        </p:spPr>
      </p:pic>
      <p:sp>
        <p:nvSpPr>
          <p:cNvPr id="1987" name="Freeform 12"/>
          <p:cNvSpPr/>
          <p:nvPr/>
        </p:nvSpPr>
        <p:spPr>
          <a:xfrm>
            <a:off x="6372360" y="5734080"/>
            <a:ext cx="2168280" cy="237960"/>
          </a:xfrm>
          <a:custGeom>
            <a:avLst/>
            <a:gdLst/>
            <a:ahLst/>
            <a:rect l="l" t="t" r="r" b="b"/>
            <a:pathLst>
              <a:path w="1366" h="150">
                <a:moveTo>
                  <a:pt x="0" y="71"/>
                </a:moveTo>
                <a:cubicBezTo>
                  <a:pt x="12" y="60"/>
                  <a:pt x="20" y="44"/>
                  <a:pt x="35" y="36"/>
                </a:cubicBezTo>
                <a:cubicBezTo>
                  <a:pt x="62" y="22"/>
                  <a:pt x="101" y="20"/>
                  <a:pt x="131" y="10"/>
                </a:cubicBezTo>
                <a:cubicBezTo>
                  <a:pt x="233" y="14"/>
                  <a:pt x="338" y="0"/>
                  <a:pt x="437" y="27"/>
                </a:cubicBezTo>
                <a:cubicBezTo>
                  <a:pt x="510" y="47"/>
                  <a:pt x="451" y="41"/>
                  <a:pt x="515" y="62"/>
                </a:cubicBezTo>
                <a:cubicBezTo>
                  <a:pt x="608" y="93"/>
                  <a:pt x="716" y="97"/>
                  <a:pt x="812" y="106"/>
                </a:cubicBezTo>
                <a:cubicBezTo>
                  <a:pt x="863" y="116"/>
                  <a:pt x="906" y="126"/>
                  <a:pt x="952" y="150"/>
                </a:cubicBezTo>
                <a:cubicBezTo>
                  <a:pt x="1018" y="141"/>
                  <a:pt x="1071" y="119"/>
                  <a:pt x="1135" y="106"/>
                </a:cubicBezTo>
                <a:cubicBezTo>
                  <a:pt x="1165" y="86"/>
                  <a:pt x="1187" y="80"/>
                  <a:pt x="1222" y="71"/>
                </a:cubicBezTo>
                <a:cubicBezTo>
                  <a:pt x="1275" y="79"/>
                  <a:pt x="1275" y="70"/>
                  <a:pt x="1309" y="97"/>
                </a:cubicBezTo>
                <a:cubicBezTo>
                  <a:pt x="1316" y="102"/>
                  <a:pt x="1320" y="111"/>
                  <a:pt x="1327" y="115"/>
                </a:cubicBezTo>
                <a:cubicBezTo>
                  <a:pt x="1366" y="138"/>
                  <a:pt x="1344" y="105"/>
                  <a:pt x="1362" y="141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Group 13"/>
          <p:cNvGrpSpPr/>
          <p:nvPr/>
        </p:nvGrpSpPr>
        <p:grpSpPr>
          <a:xfrm>
            <a:off x="6156360" y="5734080"/>
            <a:ext cx="2584440" cy="271440"/>
            <a:chOff x="6156360" y="5734080"/>
            <a:chExt cx="2584440" cy="271440"/>
          </a:xfrm>
        </p:grpSpPr>
        <p:sp>
          <p:nvSpPr>
            <p:cNvPr id="1989" name="Freeform 14"/>
            <p:cNvSpPr/>
            <p:nvPr/>
          </p:nvSpPr>
          <p:spPr>
            <a:xfrm>
              <a:off x="6372360" y="5734080"/>
              <a:ext cx="2168280" cy="237960"/>
            </a:xfrm>
            <a:custGeom>
              <a:avLst/>
              <a:gdLst/>
              <a:ahLst/>
              <a:rect l="l" t="t" r="r" b="b"/>
              <a:pathLst>
                <a:path w="1366" h="150">
                  <a:moveTo>
                    <a:pt x="0" y="71"/>
                  </a:moveTo>
                  <a:cubicBezTo>
                    <a:pt x="12" y="60"/>
                    <a:pt x="20" y="44"/>
                    <a:pt x="35" y="36"/>
                  </a:cubicBezTo>
                  <a:cubicBezTo>
                    <a:pt x="62" y="22"/>
                    <a:pt x="101" y="20"/>
                    <a:pt x="131" y="10"/>
                  </a:cubicBezTo>
                  <a:cubicBezTo>
                    <a:pt x="233" y="14"/>
                    <a:pt x="338" y="0"/>
                    <a:pt x="437" y="27"/>
                  </a:cubicBezTo>
                  <a:cubicBezTo>
                    <a:pt x="510" y="47"/>
                    <a:pt x="451" y="41"/>
                    <a:pt x="515" y="62"/>
                  </a:cubicBezTo>
                  <a:cubicBezTo>
                    <a:pt x="608" y="93"/>
                    <a:pt x="716" y="97"/>
                    <a:pt x="812" y="106"/>
                  </a:cubicBezTo>
                  <a:cubicBezTo>
                    <a:pt x="863" y="116"/>
                    <a:pt x="906" y="126"/>
                    <a:pt x="952" y="150"/>
                  </a:cubicBezTo>
                  <a:cubicBezTo>
                    <a:pt x="1018" y="141"/>
                    <a:pt x="1071" y="119"/>
                    <a:pt x="1135" y="106"/>
                  </a:cubicBezTo>
                  <a:cubicBezTo>
                    <a:pt x="1165" y="86"/>
                    <a:pt x="1187" y="80"/>
                    <a:pt x="1222" y="71"/>
                  </a:cubicBezTo>
                  <a:cubicBezTo>
                    <a:pt x="1275" y="79"/>
                    <a:pt x="1275" y="70"/>
                    <a:pt x="1309" y="97"/>
                  </a:cubicBezTo>
                  <a:cubicBezTo>
                    <a:pt x="1316" y="102"/>
                    <a:pt x="1320" y="111"/>
                    <a:pt x="1327" y="115"/>
                  </a:cubicBezTo>
                  <a:cubicBezTo>
                    <a:pt x="1366" y="138"/>
                    <a:pt x="1344" y="105"/>
                    <a:pt x="1362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5"/>
            <p:cNvSpPr/>
            <p:nvPr/>
          </p:nvSpPr>
          <p:spPr>
            <a:xfrm>
              <a:off x="6156360" y="5805360"/>
              <a:ext cx="263520" cy="123840"/>
            </a:xfrm>
            <a:custGeom>
              <a:avLst/>
              <a:gdLst/>
              <a:ahLst/>
              <a:rect l="l" t="t" r="r" b="b"/>
              <a:pathLst>
                <a:path w="166" h="78">
                  <a:moveTo>
                    <a:pt x="166" y="0"/>
                  </a:moveTo>
                  <a:cubicBezTo>
                    <a:pt x="143" y="21"/>
                    <a:pt x="135" y="34"/>
                    <a:pt x="104" y="43"/>
                  </a:cubicBezTo>
                  <a:cubicBezTo>
                    <a:pt x="75" y="73"/>
                    <a:pt x="41" y="78"/>
                    <a:pt x="0" y="7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6"/>
            <p:cNvSpPr/>
            <p:nvPr/>
          </p:nvSpPr>
          <p:spPr>
            <a:xfrm>
              <a:off x="8532720" y="5949720"/>
              <a:ext cx="208080" cy="55800"/>
            </a:xfrm>
            <a:custGeom>
              <a:avLst/>
              <a:gdLst/>
              <a:ahLst/>
              <a:rect l="l" t="t" r="r" b="b"/>
              <a:pathLst>
                <a:path w="131" h="35">
                  <a:moveTo>
                    <a:pt x="0" y="0"/>
                  </a:moveTo>
                  <a:cubicBezTo>
                    <a:pt x="43" y="15"/>
                    <a:pt x="85" y="35"/>
                    <a:pt x="131" y="3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2" name="Picture 17" descr=""/>
          <p:cNvPicPr/>
          <p:nvPr/>
        </p:nvPicPr>
        <p:blipFill>
          <a:blip r:embed="rId2"/>
          <a:stretch/>
        </p:blipFill>
        <p:spPr>
          <a:xfrm>
            <a:off x="4211640" y="981000"/>
            <a:ext cx="2019240" cy="1855800"/>
          </a:xfrm>
          <a:prstGeom prst="rect">
            <a:avLst/>
          </a:prstGeom>
          <a:ln w="0">
            <a:noFill/>
          </a:ln>
        </p:spPr>
      </p:pic>
      <p:pic>
        <p:nvPicPr>
          <p:cNvPr id="1993" name="Picture 18" descr=""/>
          <p:cNvPicPr/>
          <p:nvPr/>
        </p:nvPicPr>
        <p:blipFill>
          <a:blip r:embed="rId3"/>
          <a:stretch/>
        </p:blipFill>
        <p:spPr>
          <a:xfrm>
            <a:off x="6588000" y="836640"/>
            <a:ext cx="1944720" cy="830160"/>
          </a:xfrm>
          <a:prstGeom prst="rect">
            <a:avLst/>
          </a:prstGeom>
          <a:ln w="0">
            <a:noFill/>
          </a:ln>
        </p:spPr>
      </p:pic>
      <p:pic>
        <p:nvPicPr>
          <p:cNvPr id="1994" name="Picture 19" descr=""/>
          <p:cNvPicPr/>
          <p:nvPr/>
        </p:nvPicPr>
        <p:blipFill>
          <a:blip r:embed="rId4"/>
          <a:stretch/>
        </p:blipFill>
        <p:spPr>
          <a:xfrm>
            <a:off x="4716360" y="2997360"/>
            <a:ext cx="1582920" cy="1122120"/>
          </a:xfrm>
          <a:prstGeom prst="rect">
            <a:avLst/>
          </a:prstGeom>
          <a:ln w="0">
            <a:noFill/>
          </a:ln>
        </p:spPr>
      </p:pic>
      <p:pic>
        <p:nvPicPr>
          <p:cNvPr id="1995" name="Picture 20" descr=""/>
          <p:cNvPicPr/>
          <p:nvPr/>
        </p:nvPicPr>
        <p:blipFill>
          <a:blip r:embed="rId5"/>
          <a:stretch/>
        </p:blipFill>
        <p:spPr>
          <a:xfrm>
            <a:off x="5148360" y="4292640"/>
            <a:ext cx="1655640" cy="1144440"/>
          </a:xfrm>
          <a:prstGeom prst="rect">
            <a:avLst/>
          </a:prstGeom>
          <a:ln w="0">
            <a:noFill/>
          </a:ln>
        </p:spPr>
      </p:pic>
      <p:grpSp>
        <p:nvGrpSpPr>
          <p:cNvPr id="1996" name="Group 21"/>
          <p:cNvGrpSpPr/>
          <p:nvPr/>
        </p:nvGrpSpPr>
        <p:grpSpPr>
          <a:xfrm>
            <a:off x="6300720" y="5950080"/>
            <a:ext cx="1108080" cy="541800"/>
            <a:chOff x="6300720" y="5950080"/>
            <a:chExt cx="1108080" cy="541800"/>
          </a:xfrm>
        </p:grpSpPr>
        <p:grpSp>
          <p:nvGrpSpPr>
            <p:cNvPr id="1997" name=""/>
            <p:cNvGrpSpPr/>
            <p:nvPr/>
          </p:nvGrpSpPr>
          <p:grpSpPr>
            <a:xfrm>
              <a:off x="6300720" y="5950080"/>
              <a:ext cx="503280" cy="287280"/>
              <a:chOff x="6300720" y="5950080"/>
              <a:chExt cx="503280" cy="287280"/>
            </a:xfrm>
          </p:grpSpPr>
          <p:sp>
            <p:nvSpPr>
              <p:cNvPr id="1998" name="Line 22"/>
              <p:cNvSpPr/>
              <p:nvPr/>
            </p:nvSpPr>
            <p:spPr>
              <a:xfrm flipH="1" flipV="1">
                <a:off x="6300720" y="5950080"/>
                <a:ext cx="50328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 txBox="1"/>
              <p:nvPr/>
            </p:nvSpPr>
            <p:spPr>
              <a:xfrm rot="10800000">
                <a:off x="6300720" y="5950080"/>
                <a:ext cx="50328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0" name="Rectangle 23"/>
            <p:cNvSpPr/>
            <p:nvPr/>
          </p:nvSpPr>
          <p:spPr>
            <a:xfrm>
              <a:off x="6923160" y="6093000"/>
              <a:ext cx="485640" cy="3988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e327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导体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1" name="Group 24"/>
          <p:cNvGrpSpPr/>
          <p:nvPr/>
        </p:nvGrpSpPr>
        <p:grpSpPr>
          <a:xfrm>
            <a:off x="6948000" y="4869000"/>
            <a:ext cx="1024920" cy="863640"/>
            <a:chOff x="6948000" y="4869000"/>
            <a:chExt cx="1024920" cy="863640"/>
          </a:xfrm>
        </p:grpSpPr>
        <p:sp>
          <p:nvSpPr>
            <p:cNvPr id="2002" name="Rectangle 25"/>
            <p:cNvSpPr/>
            <p:nvPr/>
          </p:nvSpPr>
          <p:spPr>
            <a:xfrm>
              <a:off x="7335000" y="4869000"/>
              <a:ext cx="637920" cy="3988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e327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绝缘体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3" name=""/>
            <p:cNvGrpSpPr/>
            <p:nvPr/>
          </p:nvGrpSpPr>
          <p:grpSpPr>
            <a:xfrm>
              <a:off x="6948000" y="5300640"/>
              <a:ext cx="648000" cy="432000"/>
              <a:chOff x="6948000" y="5300640"/>
              <a:chExt cx="648000" cy="432000"/>
            </a:xfrm>
          </p:grpSpPr>
          <p:sp>
            <p:nvSpPr>
              <p:cNvPr id="2004" name="Line 26"/>
              <p:cNvSpPr/>
              <p:nvPr/>
            </p:nvSpPr>
            <p:spPr>
              <a:xfrm flipH="1">
                <a:off x="6948000" y="5300640"/>
                <a:ext cx="647640" cy="432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 txBox="1"/>
              <p:nvPr/>
            </p:nvSpPr>
            <p:spPr>
              <a:xfrm>
                <a:off x="6948360" y="5300640"/>
                <a:ext cx="64764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2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29512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电路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611280" y="1125360"/>
            <a:ext cx="8029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规定的元件符号来表示电路连接情况的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8" name="Group 4"/>
          <p:cNvGrpSpPr/>
          <p:nvPr/>
        </p:nvGrpSpPr>
        <p:grpSpPr>
          <a:xfrm>
            <a:off x="7380360" y="2421000"/>
            <a:ext cx="1098000" cy="304560"/>
            <a:chOff x="7380360" y="2421000"/>
            <a:chExt cx="1098000" cy="304560"/>
          </a:xfrm>
        </p:grpSpPr>
        <p:grpSp>
          <p:nvGrpSpPr>
            <p:cNvPr id="2009" name=""/>
            <p:cNvGrpSpPr/>
            <p:nvPr/>
          </p:nvGrpSpPr>
          <p:grpSpPr>
            <a:xfrm>
              <a:off x="7990560" y="2572920"/>
              <a:ext cx="487800" cy="360"/>
              <a:chOff x="7990560" y="2572920"/>
              <a:chExt cx="487800" cy="360"/>
            </a:xfrm>
          </p:grpSpPr>
          <p:sp>
            <p:nvSpPr>
              <p:cNvPr id="2010" name="Line 5"/>
              <p:cNvSpPr/>
              <p:nvPr/>
            </p:nvSpPr>
            <p:spPr>
              <a:xfrm flipH="1">
                <a:off x="7990560" y="2572920"/>
                <a:ext cx="48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 txBox="1"/>
              <p:nvPr/>
            </p:nvSpPr>
            <p:spPr>
              <a:xfrm>
                <a:off x="7990560" y="2572920"/>
                <a:ext cx="487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2" name=""/>
            <p:cNvGrpSpPr/>
            <p:nvPr/>
          </p:nvGrpSpPr>
          <p:grpSpPr>
            <a:xfrm>
              <a:off x="7990200" y="2496960"/>
              <a:ext cx="360" cy="151920"/>
              <a:chOff x="7990200" y="2496960"/>
              <a:chExt cx="360" cy="151920"/>
            </a:xfrm>
          </p:grpSpPr>
          <p:sp>
            <p:nvSpPr>
              <p:cNvPr id="2013" name="Line 6"/>
              <p:cNvSpPr/>
              <p:nvPr/>
            </p:nvSpPr>
            <p:spPr>
              <a:xfrm>
                <a:off x="7990560" y="24969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 txBox="1"/>
              <p:nvPr/>
            </p:nvSpPr>
            <p:spPr>
              <a:xfrm>
                <a:off x="7990200" y="2496960"/>
                <a:ext cx="36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5" name=""/>
            <p:cNvGrpSpPr/>
            <p:nvPr/>
          </p:nvGrpSpPr>
          <p:grpSpPr>
            <a:xfrm>
              <a:off x="7867800" y="2421000"/>
              <a:ext cx="360" cy="304560"/>
              <a:chOff x="7867800" y="2421000"/>
              <a:chExt cx="360" cy="304560"/>
            </a:xfrm>
          </p:grpSpPr>
          <p:sp>
            <p:nvSpPr>
              <p:cNvPr id="2016" name="Line 7"/>
              <p:cNvSpPr/>
              <p:nvPr/>
            </p:nvSpPr>
            <p:spPr>
              <a:xfrm>
                <a:off x="7868160" y="2421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 txBox="1"/>
              <p:nvPr/>
            </p:nvSpPr>
            <p:spPr>
              <a:xfrm>
                <a:off x="7867800" y="242100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7380360" y="2572920"/>
              <a:ext cx="487800" cy="360"/>
              <a:chOff x="7380360" y="2572920"/>
              <a:chExt cx="487800" cy="360"/>
            </a:xfrm>
          </p:grpSpPr>
          <p:sp>
            <p:nvSpPr>
              <p:cNvPr id="2019" name="Line 8"/>
              <p:cNvSpPr/>
              <p:nvPr/>
            </p:nvSpPr>
            <p:spPr>
              <a:xfrm flipH="1">
                <a:off x="7380360" y="2572920"/>
                <a:ext cx="48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 txBox="1"/>
              <p:nvPr/>
            </p:nvSpPr>
            <p:spPr>
              <a:xfrm>
                <a:off x="7380360" y="2572920"/>
                <a:ext cx="487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1" name="Text Box 9"/>
          <p:cNvSpPr/>
          <p:nvPr/>
        </p:nvSpPr>
        <p:spPr>
          <a:xfrm flipH="1">
            <a:off x="7450920" y="2060640"/>
            <a:ext cx="7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Text Box 10"/>
          <p:cNvSpPr/>
          <p:nvPr/>
        </p:nvSpPr>
        <p:spPr>
          <a:xfrm flipH="1">
            <a:off x="7956720" y="1989000"/>
            <a:ext cx="3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Group 11"/>
          <p:cNvGrpSpPr/>
          <p:nvPr/>
        </p:nvGrpSpPr>
        <p:grpSpPr>
          <a:xfrm>
            <a:off x="6804000" y="3789360"/>
            <a:ext cx="533520" cy="533160"/>
            <a:chOff x="6804000" y="3789360"/>
            <a:chExt cx="533520" cy="533160"/>
          </a:xfrm>
        </p:grpSpPr>
        <p:sp>
          <p:nvSpPr>
            <p:cNvPr id="2024" name="Oval 12"/>
            <p:cNvSpPr/>
            <p:nvPr/>
          </p:nvSpPr>
          <p:spPr>
            <a:xfrm>
              <a:off x="6804000" y="3789360"/>
              <a:ext cx="533520" cy="533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5" name=""/>
            <p:cNvGrpSpPr/>
            <p:nvPr/>
          </p:nvGrpSpPr>
          <p:grpSpPr>
            <a:xfrm>
              <a:off x="6880320" y="3865320"/>
              <a:ext cx="380880" cy="381240"/>
              <a:chOff x="6880320" y="3865320"/>
              <a:chExt cx="380880" cy="381240"/>
            </a:xfrm>
          </p:grpSpPr>
          <p:sp>
            <p:nvSpPr>
              <p:cNvPr id="2026" name="Line 13"/>
              <p:cNvSpPr/>
              <p:nvPr/>
            </p:nvSpPr>
            <p:spPr>
              <a:xfrm flipH="1">
                <a:off x="6880320" y="3865320"/>
                <a:ext cx="38088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 txBox="1"/>
              <p:nvPr/>
            </p:nvSpPr>
            <p:spPr>
              <a:xfrm>
                <a:off x="6880320" y="3865320"/>
                <a:ext cx="38088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6880320" y="3865320"/>
              <a:ext cx="380880" cy="381240"/>
              <a:chOff x="6880320" y="3865320"/>
              <a:chExt cx="380880" cy="381240"/>
            </a:xfrm>
          </p:grpSpPr>
          <p:sp>
            <p:nvSpPr>
              <p:cNvPr id="2029" name="Line 14"/>
              <p:cNvSpPr/>
              <p:nvPr/>
            </p:nvSpPr>
            <p:spPr>
              <a:xfrm>
                <a:off x="6880320" y="3865320"/>
                <a:ext cx="38088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 txBox="1"/>
              <p:nvPr/>
            </p:nvSpPr>
            <p:spPr>
              <a:xfrm>
                <a:off x="6880320" y="3865320"/>
                <a:ext cx="38088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1" name="Group 15"/>
          <p:cNvGrpSpPr/>
          <p:nvPr/>
        </p:nvGrpSpPr>
        <p:grpSpPr>
          <a:xfrm>
            <a:off x="5580000" y="2349000"/>
            <a:ext cx="1523880" cy="304920"/>
            <a:chOff x="5580000" y="2349000"/>
            <a:chExt cx="1523880" cy="304920"/>
          </a:xfrm>
        </p:grpSpPr>
        <p:grpSp>
          <p:nvGrpSpPr>
            <p:cNvPr id="2032" name=""/>
            <p:cNvGrpSpPr/>
            <p:nvPr/>
          </p:nvGrpSpPr>
          <p:grpSpPr>
            <a:xfrm>
              <a:off x="5580000" y="2577960"/>
              <a:ext cx="533160" cy="360"/>
              <a:chOff x="5580000" y="2577960"/>
              <a:chExt cx="533160" cy="360"/>
            </a:xfrm>
          </p:grpSpPr>
          <p:sp>
            <p:nvSpPr>
              <p:cNvPr id="2033" name="Line 16"/>
              <p:cNvSpPr/>
              <p:nvPr/>
            </p:nvSpPr>
            <p:spPr>
              <a:xfrm>
                <a:off x="5580000" y="257796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 txBox="1"/>
              <p:nvPr/>
            </p:nvSpPr>
            <p:spPr>
              <a:xfrm>
                <a:off x="5580000" y="2577960"/>
                <a:ext cx="53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5" name="Oval 17"/>
            <p:cNvSpPr/>
            <p:nvPr/>
          </p:nvSpPr>
          <p:spPr>
            <a:xfrm>
              <a:off x="6037200" y="2501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6" name=""/>
            <p:cNvGrpSpPr/>
            <p:nvPr/>
          </p:nvGrpSpPr>
          <p:grpSpPr>
            <a:xfrm>
              <a:off x="6189120" y="2349000"/>
              <a:ext cx="305280" cy="228600"/>
              <a:chOff x="6189120" y="2349000"/>
              <a:chExt cx="305280" cy="228600"/>
            </a:xfrm>
          </p:grpSpPr>
          <p:sp>
            <p:nvSpPr>
              <p:cNvPr id="2037" name="Line 18"/>
              <p:cNvSpPr/>
              <p:nvPr/>
            </p:nvSpPr>
            <p:spPr>
              <a:xfrm flipV="1">
                <a:off x="6189480" y="23490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 txBox="1"/>
              <p:nvPr/>
            </p:nvSpPr>
            <p:spPr>
              <a:xfrm rot="10800000">
                <a:off x="6189120" y="234900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9" name=""/>
            <p:cNvGrpSpPr/>
            <p:nvPr/>
          </p:nvGrpSpPr>
          <p:grpSpPr>
            <a:xfrm>
              <a:off x="6494400" y="2577960"/>
              <a:ext cx="609480" cy="360"/>
              <a:chOff x="6494400" y="2577960"/>
              <a:chExt cx="609480" cy="360"/>
            </a:xfrm>
          </p:grpSpPr>
          <p:sp>
            <p:nvSpPr>
              <p:cNvPr id="2040" name="Line 19"/>
              <p:cNvSpPr/>
              <p:nvPr/>
            </p:nvSpPr>
            <p:spPr>
              <a:xfrm>
                <a:off x="6494400" y="25779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 txBox="1"/>
              <p:nvPr/>
            </p:nvSpPr>
            <p:spPr>
              <a:xfrm>
                <a:off x="6494400" y="257796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2" name="Text Box 20"/>
          <p:cNvSpPr/>
          <p:nvPr/>
        </p:nvSpPr>
        <p:spPr>
          <a:xfrm>
            <a:off x="3071880" y="4680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3" name=""/>
          <p:cNvGrpSpPr/>
          <p:nvPr/>
        </p:nvGrpSpPr>
        <p:grpSpPr>
          <a:xfrm>
            <a:off x="7093080" y="2565360"/>
            <a:ext cx="287280" cy="360"/>
            <a:chOff x="7093080" y="2565360"/>
            <a:chExt cx="287280" cy="360"/>
          </a:xfrm>
        </p:grpSpPr>
        <p:sp>
          <p:nvSpPr>
            <p:cNvPr id="2044" name="Line 21"/>
            <p:cNvSpPr/>
            <p:nvPr/>
          </p:nvSpPr>
          <p:spPr>
            <a:xfrm flipH="1">
              <a:off x="7093080" y="2565360"/>
              <a:ext cx="2872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 txBox="1"/>
            <p:nvPr/>
          </p:nvSpPr>
          <p:spPr>
            <a:xfrm>
              <a:off x="7093080" y="256536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292720" y="4076640"/>
            <a:ext cx="1511280" cy="360"/>
            <a:chOff x="5292720" y="4076640"/>
            <a:chExt cx="1511280" cy="360"/>
          </a:xfrm>
        </p:grpSpPr>
        <p:sp>
          <p:nvSpPr>
            <p:cNvPr id="2047" name="Line 22"/>
            <p:cNvSpPr/>
            <p:nvPr/>
          </p:nvSpPr>
          <p:spPr>
            <a:xfrm flipH="1">
              <a:off x="5292720" y="4076640"/>
              <a:ext cx="15112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 txBox="1"/>
            <p:nvPr/>
          </p:nvSpPr>
          <p:spPr>
            <a:xfrm>
              <a:off x="5292720" y="4076640"/>
              <a:ext cx="151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5292360" y="2565360"/>
            <a:ext cx="360" cy="1511280"/>
            <a:chOff x="5292360" y="2565360"/>
            <a:chExt cx="360" cy="1511280"/>
          </a:xfrm>
        </p:grpSpPr>
        <p:sp>
          <p:nvSpPr>
            <p:cNvPr id="2050" name="Line 23"/>
            <p:cNvSpPr/>
            <p:nvPr/>
          </p:nvSpPr>
          <p:spPr>
            <a:xfrm flipV="1">
              <a:off x="5292720" y="2565360"/>
              <a:ext cx="0" cy="15112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 txBox="1"/>
            <p:nvPr/>
          </p:nvSpPr>
          <p:spPr>
            <a:xfrm rot="10800000">
              <a:off x="5292360" y="2565360"/>
              <a:ext cx="360" cy="15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292720" y="2565360"/>
            <a:ext cx="287280" cy="360"/>
            <a:chOff x="5292720" y="2565360"/>
            <a:chExt cx="287280" cy="360"/>
          </a:xfrm>
        </p:grpSpPr>
        <p:sp>
          <p:nvSpPr>
            <p:cNvPr id="2053" name="Line 24"/>
            <p:cNvSpPr/>
            <p:nvPr/>
          </p:nvSpPr>
          <p:spPr>
            <a:xfrm flipH="1">
              <a:off x="5292720" y="2565360"/>
              <a:ext cx="2872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 txBox="1"/>
            <p:nvPr/>
          </p:nvSpPr>
          <p:spPr>
            <a:xfrm>
              <a:off x="5292720" y="256536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8459640" y="2565360"/>
            <a:ext cx="360" cy="1511280"/>
            <a:chOff x="8459640" y="2565360"/>
            <a:chExt cx="360" cy="1511280"/>
          </a:xfrm>
        </p:grpSpPr>
        <p:sp>
          <p:nvSpPr>
            <p:cNvPr id="2056" name="Line 25"/>
            <p:cNvSpPr/>
            <p:nvPr/>
          </p:nvSpPr>
          <p:spPr>
            <a:xfrm>
              <a:off x="8459640" y="2565360"/>
              <a:ext cx="0" cy="15112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 txBox="1"/>
            <p:nvPr/>
          </p:nvSpPr>
          <p:spPr>
            <a:xfrm>
              <a:off x="8459640" y="2565360"/>
              <a:ext cx="360" cy="15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7308720" y="4076640"/>
            <a:ext cx="1150920" cy="360"/>
            <a:chOff x="7308720" y="4076640"/>
            <a:chExt cx="1150920" cy="360"/>
          </a:xfrm>
        </p:grpSpPr>
        <p:sp>
          <p:nvSpPr>
            <p:cNvPr id="2059" name="Line 26"/>
            <p:cNvSpPr/>
            <p:nvPr/>
          </p:nvSpPr>
          <p:spPr>
            <a:xfrm>
              <a:off x="7308720" y="4076640"/>
              <a:ext cx="11509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 txBox="1"/>
            <p:nvPr/>
          </p:nvSpPr>
          <p:spPr>
            <a:xfrm>
              <a:off x="7308720" y="407664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1" name="Rectangle 27"/>
          <p:cNvSpPr/>
          <p:nvPr/>
        </p:nvSpPr>
        <p:spPr>
          <a:xfrm>
            <a:off x="1763640" y="450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楷体_GB2312"/>
              </a:rPr>
              <a:t>实物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28"/>
          <p:cNvSpPr/>
          <p:nvPr/>
        </p:nvSpPr>
        <p:spPr>
          <a:xfrm>
            <a:off x="3851280" y="508464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画成矩形，横竖要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元件符号不能画在角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连接之间不能断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29"/>
          <p:cNvSpPr/>
          <p:nvPr/>
        </p:nvSpPr>
        <p:spPr>
          <a:xfrm>
            <a:off x="6227640" y="4508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楷体_GB2312"/>
              </a:rPr>
              <a:t>电路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30"/>
          <p:cNvSpPr/>
          <p:nvPr/>
        </p:nvSpPr>
        <p:spPr>
          <a:xfrm>
            <a:off x="611280" y="5445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画电路图的要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AutoShape 31"/>
          <p:cNvSpPr/>
          <p:nvPr/>
        </p:nvSpPr>
        <p:spPr>
          <a:xfrm>
            <a:off x="3564000" y="5373720"/>
            <a:ext cx="216000" cy="93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6" name="Picture 32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4248000" cy="24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1000"/>
                                        <p:tgtEl>
                                          <p:spTgt spid="2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7" name="Picture 34" descr="12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42920" y="57240"/>
            <a:ext cx="7128000" cy="68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Text Box 2"/>
          <p:cNvSpPr/>
          <p:nvPr/>
        </p:nvSpPr>
        <p:spPr>
          <a:xfrm>
            <a:off x="468360" y="549360"/>
            <a:ext cx="41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电路的三种状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3"/>
          <p:cNvSpPr/>
          <p:nvPr/>
        </p:nvSpPr>
        <p:spPr>
          <a:xfrm>
            <a:off x="1513440" y="15573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通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处处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连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电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4"/>
          <p:cNvSpPr/>
          <p:nvPr/>
        </p:nvSpPr>
        <p:spPr>
          <a:xfrm>
            <a:off x="395280" y="3213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断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开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某处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断开没有电流通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电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Rectangle 5"/>
          <p:cNvSpPr/>
          <p:nvPr/>
        </p:nvSpPr>
        <p:spPr>
          <a:xfrm>
            <a:off x="395280" y="5013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短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用导线把电源正负极连接起来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中间不经过用电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电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2" name="Picture 6" descr=""/>
          <p:cNvPicPr/>
          <p:nvPr/>
        </p:nvPicPr>
        <p:blipFill>
          <a:blip r:embed="rId1"/>
          <a:stretch/>
        </p:blipFill>
        <p:spPr>
          <a:xfrm>
            <a:off x="5508720" y="907920"/>
            <a:ext cx="2495520" cy="1533600"/>
          </a:xfrm>
          <a:prstGeom prst="rect">
            <a:avLst/>
          </a:prstGeom>
          <a:ln w="0">
            <a:noFill/>
          </a:ln>
        </p:spPr>
      </p:pic>
      <p:pic>
        <p:nvPicPr>
          <p:cNvPr id="2073" name="Picture 7" descr=""/>
          <p:cNvPicPr/>
          <p:nvPr/>
        </p:nvPicPr>
        <p:blipFill>
          <a:blip r:embed="rId2"/>
          <a:stretch/>
        </p:blipFill>
        <p:spPr>
          <a:xfrm>
            <a:off x="5580000" y="2781360"/>
            <a:ext cx="2467080" cy="1476360"/>
          </a:xfrm>
          <a:prstGeom prst="rect">
            <a:avLst/>
          </a:prstGeom>
          <a:ln w="0">
            <a:noFill/>
          </a:ln>
        </p:spPr>
      </p:pic>
      <p:pic>
        <p:nvPicPr>
          <p:cNvPr id="2074" name="Picture 8" descr=""/>
          <p:cNvPicPr/>
          <p:nvPr/>
        </p:nvPicPr>
        <p:blipFill>
          <a:blip r:embed="rId3"/>
          <a:stretch/>
        </p:blipFill>
        <p:spPr>
          <a:xfrm>
            <a:off x="6877080" y="5229360"/>
            <a:ext cx="1714320" cy="1085760"/>
          </a:xfrm>
          <a:prstGeom prst="rect">
            <a:avLst/>
          </a:prstGeom>
          <a:ln w="0">
            <a:noFill/>
          </a:ln>
        </p:spPr>
      </p:pic>
      <p:sp>
        <p:nvSpPr>
          <p:cNvPr id="2075" name="Rectangle 9"/>
          <p:cNvSpPr/>
          <p:nvPr/>
        </p:nvSpPr>
        <p:spPr>
          <a:xfrm>
            <a:off x="7429680" y="522936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  <a:ea typeface="黑体"/>
              </a:rPr>
              <a:t>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10"/>
          <p:cNvSpPr/>
          <p:nvPr/>
        </p:nvSpPr>
        <p:spPr>
          <a:xfrm>
            <a:off x="1878480" y="5950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（出现短路会损坏电源，是不允许的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通路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短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通路和断路的演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Text Box 3"/>
          <p:cNvSpPr/>
          <p:nvPr/>
        </p:nvSpPr>
        <p:spPr>
          <a:xfrm>
            <a:off x="898560" y="5540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根据实物图画出电路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Group 4"/>
          <p:cNvGrpSpPr/>
          <p:nvPr/>
        </p:nvGrpSpPr>
        <p:grpSpPr>
          <a:xfrm>
            <a:off x="2411280" y="1989000"/>
            <a:ext cx="3730680" cy="2635200"/>
            <a:chOff x="2411280" y="1989000"/>
            <a:chExt cx="3730680" cy="2635200"/>
          </a:xfrm>
        </p:grpSpPr>
        <p:sp>
          <p:nvSpPr>
            <p:cNvPr id="2080" name="Rectangle 5"/>
            <p:cNvSpPr/>
            <p:nvPr/>
          </p:nvSpPr>
          <p:spPr>
            <a:xfrm>
              <a:off x="2760480" y="1989000"/>
              <a:ext cx="550800" cy="358560"/>
            </a:xfrm>
            <a:prstGeom prst="rect">
              <a:avLst/>
            </a:prstGeom>
            <a:solidFill>
              <a:srgbClr val="cc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6"/>
            <p:cNvSpPr/>
            <p:nvPr/>
          </p:nvSpPr>
          <p:spPr>
            <a:xfrm>
              <a:off x="3311280" y="2107800"/>
              <a:ext cx="150840" cy="1206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2" name="Group 7"/>
            <p:cNvGrpSpPr/>
            <p:nvPr/>
          </p:nvGrpSpPr>
          <p:grpSpPr>
            <a:xfrm>
              <a:off x="4865400" y="2012400"/>
              <a:ext cx="1103400" cy="1114200"/>
              <a:chOff x="4865400" y="2012400"/>
              <a:chExt cx="1103400" cy="1114200"/>
            </a:xfrm>
          </p:grpSpPr>
          <p:sp>
            <p:nvSpPr>
              <p:cNvPr id="2083" name="Rectangle 8"/>
              <p:cNvSpPr/>
              <p:nvPr/>
            </p:nvSpPr>
            <p:spPr>
              <a:xfrm>
                <a:off x="4865400" y="2887920"/>
                <a:ext cx="1103400" cy="2386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Rectangle 9"/>
              <p:cNvSpPr/>
              <p:nvPr/>
            </p:nvSpPr>
            <p:spPr>
              <a:xfrm>
                <a:off x="5116320" y="2410200"/>
                <a:ext cx="100080" cy="477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10"/>
              <p:cNvSpPr/>
              <p:nvPr/>
            </p:nvSpPr>
            <p:spPr>
              <a:xfrm>
                <a:off x="5567040" y="2410200"/>
                <a:ext cx="100080" cy="477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Rectangle 11"/>
              <p:cNvSpPr/>
              <p:nvPr/>
            </p:nvSpPr>
            <p:spPr>
              <a:xfrm>
                <a:off x="4916160" y="2589120"/>
                <a:ext cx="100080" cy="29880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Rectangle 12"/>
              <p:cNvSpPr/>
              <p:nvPr/>
            </p:nvSpPr>
            <p:spPr>
              <a:xfrm>
                <a:off x="5767200" y="2589120"/>
                <a:ext cx="101520" cy="29880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AutoShape 13"/>
              <p:cNvSpPr/>
              <p:nvPr/>
            </p:nvSpPr>
            <p:spPr>
              <a:xfrm rot="14112000">
                <a:off x="5324400" y="1956600"/>
                <a:ext cx="178560" cy="60156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9" name="Group 14"/>
            <p:cNvGrpSpPr/>
            <p:nvPr/>
          </p:nvGrpSpPr>
          <p:grpSpPr>
            <a:xfrm>
              <a:off x="3362040" y="3546000"/>
              <a:ext cx="1101600" cy="1078200"/>
              <a:chOff x="3362040" y="3546000"/>
              <a:chExt cx="1101600" cy="1078200"/>
            </a:xfrm>
          </p:grpSpPr>
          <p:sp>
            <p:nvSpPr>
              <p:cNvPr id="2090" name="Rectangle 15"/>
              <p:cNvSpPr/>
              <p:nvPr/>
            </p:nvSpPr>
            <p:spPr>
              <a:xfrm>
                <a:off x="3362040" y="4384440"/>
                <a:ext cx="1101600" cy="2397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Rectangle 16"/>
              <p:cNvSpPr/>
              <p:nvPr/>
            </p:nvSpPr>
            <p:spPr>
              <a:xfrm flipH="1">
                <a:off x="3462120" y="4025520"/>
                <a:ext cx="100080" cy="3589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7"/>
              <p:cNvSpPr/>
              <p:nvPr/>
            </p:nvSpPr>
            <p:spPr>
              <a:xfrm flipH="1">
                <a:off x="4263840" y="4025520"/>
                <a:ext cx="100080" cy="3589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Rectangle 18"/>
              <p:cNvSpPr/>
              <p:nvPr/>
            </p:nvSpPr>
            <p:spPr>
              <a:xfrm>
                <a:off x="3812760" y="4025520"/>
                <a:ext cx="200160" cy="358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Oval 19"/>
              <p:cNvSpPr/>
              <p:nvPr/>
            </p:nvSpPr>
            <p:spPr>
              <a:xfrm>
                <a:off x="3713040" y="3546000"/>
                <a:ext cx="399960" cy="4795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5" name=""/>
              <p:cNvGrpSpPr/>
              <p:nvPr/>
            </p:nvGrpSpPr>
            <p:grpSpPr>
              <a:xfrm>
                <a:off x="3762000" y="3725640"/>
                <a:ext cx="100080" cy="120600"/>
                <a:chOff x="3762000" y="3725640"/>
                <a:chExt cx="100080" cy="120600"/>
              </a:xfrm>
            </p:grpSpPr>
            <p:sp>
              <p:nvSpPr>
                <p:cNvPr id="2096" name="Line 20"/>
                <p:cNvSpPr/>
                <p:nvPr/>
              </p:nvSpPr>
              <p:spPr>
                <a:xfrm>
                  <a:off x="3762000" y="3725640"/>
                  <a:ext cx="100080" cy="120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 txBox="1"/>
                <p:nvPr/>
              </p:nvSpPr>
              <p:spPr>
                <a:xfrm>
                  <a:off x="3762000" y="3725640"/>
                  <a:ext cx="10008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8" name=""/>
              <p:cNvGrpSpPr/>
              <p:nvPr/>
            </p:nvGrpSpPr>
            <p:grpSpPr>
              <a:xfrm>
                <a:off x="3861720" y="3725280"/>
                <a:ext cx="51120" cy="120600"/>
                <a:chOff x="3861720" y="3725280"/>
                <a:chExt cx="51120" cy="120600"/>
              </a:xfrm>
            </p:grpSpPr>
            <p:sp>
              <p:nvSpPr>
                <p:cNvPr id="2099" name="Line 21"/>
                <p:cNvSpPr/>
                <p:nvPr/>
              </p:nvSpPr>
              <p:spPr>
                <a:xfrm flipV="1">
                  <a:off x="3862080" y="3725280"/>
                  <a:ext cx="50760" cy="120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 txBox="1"/>
                <p:nvPr/>
              </p:nvSpPr>
              <p:spPr>
                <a:xfrm rot="10800000">
                  <a:off x="3861720" y="3725280"/>
                  <a:ext cx="5076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1" name=""/>
              <p:cNvGrpSpPr/>
              <p:nvPr/>
            </p:nvGrpSpPr>
            <p:grpSpPr>
              <a:xfrm>
                <a:off x="3912840" y="3725640"/>
                <a:ext cx="50760" cy="120600"/>
                <a:chOff x="3912840" y="3725640"/>
                <a:chExt cx="50760" cy="120600"/>
              </a:xfrm>
            </p:grpSpPr>
            <p:sp>
              <p:nvSpPr>
                <p:cNvPr id="2102" name="Line 22"/>
                <p:cNvSpPr/>
                <p:nvPr/>
              </p:nvSpPr>
              <p:spPr>
                <a:xfrm>
                  <a:off x="3912840" y="3725640"/>
                  <a:ext cx="50760" cy="120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 txBox="1"/>
                <p:nvPr/>
              </p:nvSpPr>
              <p:spPr>
                <a:xfrm>
                  <a:off x="3912840" y="3725640"/>
                  <a:ext cx="5076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4" name=""/>
              <p:cNvGrpSpPr/>
              <p:nvPr/>
            </p:nvGrpSpPr>
            <p:grpSpPr>
              <a:xfrm>
                <a:off x="3963600" y="3664800"/>
                <a:ext cx="100080" cy="181080"/>
                <a:chOff x="3963600" y="3664800"/>
                <a:chExt cx="100080" cy="181080"/>
              </a:xfrm>
            </p:grpSpPr>
            <p:sp>
              <p:nvSpPr>
                <p:cNvPr id="2105" name="Line 23"/>
                <p:cNvSpPr/>
                <p:nvPr/>
              </p:nvSpPr>
              <p:spPr>
                <a:xfrm flipV="1">
                  <a:off x="3963600" y="3664800"/>
                  <a:ext cx="10008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 txBox="1"/>
                <p:nvPr/>
              </p:nvSpPr>
              <p:spPr>
                <a:xfrm rot="10800000">
                  <a:off x="3963600" y="3664800"/>
                  <a:ext cx="100080" cy="18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7" name="Freeform 24"/>
            <p:cNvSpPr/>
            <p:nvPr/>
          </p:nvSpPr>
          <p:spPr>
            <a:xfrm>
              <a:off x="4373280" y="2728440"/>
              <a:ext cx="1768680" cy="1406520"/>
            </a:xfrm>
            <a:custGeom>
              <a:avLst/>
              <a:gdLst/>
              <a:ahLst/>
              <a:rect l="l" t="t" r="r" b="b"/>
              <a:pathLst>
                <a:path w="1694" h="1127">
                  <a:moveTo>
                    <a:pt x="1428" y="0"/>
                  </a:moveTo>
                  <a:cubicBezTo>
                    <a:pt x="1461" y="5"/>
                    <a:pt x="1508" y="9"/>
                    <a:pt x="1541" y="25"/>
                  </a:cubicBezTo>
                  <a:cubicBezTo>
                    <a:pt x="1632" y="71"/>
                    <a:pt x="1526" y="34"/>
                    <a:pt x="1616" y="62"/>
                  </a:cubicBezTo>
                  <a:cubicBezTo>
                    <a:pt x="1624" y="75"/>
                    <a:pt x="1635" y="86"/>
                    <a:pt x="1641" y="100"/>
                  </a:cubicBezTo>
                  <a:cubicBezTo>
                    <a:pt x="1652" y="124"/>
                    <a:pt x="1666" y="175"/>
                    <a:pt x="1666" y="175"/>
                  </a:cubicBezTo>
                  <a:cubicBezTo>
                    <a:pt x="1659" y="324"/>
                    <a:pt x="1694" y="508"/>
                    <a:pt x="1553" y="601"/>
                  </a:cubicBezTo>
                  <a:cubicBezTo>
                    <a:pt x="1501" y="678"/>
                    <a:pt x="1403" y="717"/>
                    <a:pt x="1315" y="738"/>
                  </a:cubicBezTo>
                  <a:cubicBezTo>
                    <a:pt x="1189" y="826"/>
                    <a:pt x="1063" y="845"/>
                    <a:pt x="914" y="864"/>
                  </a:cubicBezTo>
                  <a:cubicBezTo>
                    <a:pt x="861" y="881"/>
                    <a:pt x="806" y="888"/>
                    <a:pt x="752" y="901"/>
                  </a:cubicBezTo>
                  <a:cubicBezTo>
                    <a:pt x="688" y="943"/>
                    <a:pt x="642" y="957"/>
                    <a:pt x="564" y="976"/>
                  </a:cubicBezTo>
                  <a:cubicBezTo>
                    <a:pt x="451" y="1062"/>
                    <a:pt x="312" y="1075"/>
                    <a:pt x="176" y="1102"/>
                  </a:cubicBezTo>
                  <a:cubicBezTo>
                    <a:pt x="117" y="1114"/>
                    <a:pt x="61" y="1127"/>
                    <a:pt x="0" y="112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5"/>
            <p:cNvSpPr/>
            <p:nvPr/>
          </p:nvSpPr>
          <p:spPr>
            <a:xfrm>
              <a:off x="2411280" y="2166480"/>
              <a:ext cx="1073160" cy="2092320"/>
            </a:xfrm>
            <a:custGeom>
              <a:avLst/>
              <a:gdLst/>
              <a:ahLst/>
              <a:rect l="l" t="t" r="r" b="b"/>
              <a:pathLst>
                <a:path w="1027" h="1678">
                  <a:moveTo>
                    <a:pt x="338" y="0"/>
                  </a:moveTo>
                  <a:cubicBezTo>
                    <a:pt x="262" y="51"/>
                    <a:pt x="221" y="48"/>
                    <a:pt x="138" y="75"/>
                  </a:cubicBezTo>
                  <a:cubicBezTo>
                    <a:pt x="82" y="112"/>
                    <a:pt x="47" y="163"/>
                    <a:pt x="25" y="225"/>
                  </a:cubicBezTo>
                  <a:cubicBezTo>
                    <a:pt x="18" y="267"/>
                    <a:pt x="0" y="308"/>
                    <a:pt x="0" y="351"/>
                  </a:cubicBezTo>
                  <a:cubicBezTo>
                    <a:pt x="0" y="414"/>
                    <a:pt x="22" y="456"/>
                    <a:pt x="38" y="513"/>
                  </a:cubicBezTo>
                  <a:cubicBezTo>
                    <a:pt x="66" y="614"/>
                    <a:pt x="93" y="714"/>
                    <a:pt x="125" y="814"/>
                  </a:cubicBezTo>
                  <a:cubicBezTo>
                    <a:pt x="134" y="880"/>
                    <a:pt x="134" y="930"/>
                    <a:pt x="163" y="989"/>
                  </a:cubicBezTo>
                  <a:cubicBezTo>
                    <a:pt x="187" y="1038"/>
                    <a:pt x="235" y="1080"/>
                    <a:pt x="263" y="1127"/>
                  </a:cubicBezTo>
                  <a:cubicBezTo>
                    <a:pt x="311" y="1209"/>
                    <a:pt x="314" y="1240"/>
                    <a:pt x="388" y="1290"/>
                  </a:cubicBezTo>
                  <a:cubicBezTo>
                    <a:pt x="396" y="1302"/>
                    <a:pt x="400" y="1320"/>
                    <a:pt x="413" y="1327"/>
                  </a:cubicBezTo>
                  <a:cubicBezTo>
                    <a:pt x="461" y="1350"/>
                    <a:pt x="564" y="1377"/>
                    <a:pt x="564" y="1377"/>
                  </a:cubicBezTo>
                  <a:cubicBezTo>
                    <a:pt x="679" y="1463"/>
                    <a:pt x="627" y="1433"/>
                    <a:pt x="714" y="1477"/>
                  </a:cubicBezTo>
                  <a:cubicBezTo>
                    <a:pt x="761" y="1525"/>
                    <a:pt x="801" y="1590"/>
                    <a:pt x="864" y="1615"/>
                  </a:cubicBezTo>
                  <a:cubicBezTo>
                    <a:pt x="888" y="1625"/>
                    <a:pt x="915" y="1630"/>
                    <a:pt x="939" y="1640"/>
                  </a:cubicBezTo>
                  <a:cubicBezTo>
                    <a:pt x="956" y="1647"/>
                    <a:pt x="972" y="1658"/>
                    <a:pt x="989" y="1665"/>
                  </a:cubicBezTo>
                  <a:cubicBezTo>
                    <a:pt x="1001" y="1670"/>
                    <a:pt x="1027" y="1678"/>
                    <a:pt x="1027" y="167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6"/>
            <p:cNvSpPr/>
            <p:nvPr/>
          </p:nvSpPr>
          <p:spPr>
            <a:xfrm>
              <a:off x="3465360" y="2174400"/>
              <a:ext cx="1487520" cy="516240"/>
            </a:xfrm>
            <a:custGeom>
              <a:avLst/>
              <a:gdLst/>
              <a:ahLst/>
              <a:rect l="l" t="t" r="r" b="b"/>
              <a:pathLst>
                <a:path w="937" h="325">
                  <a:moveTo>
                    <a:pt x="0" y="9"/>
                  </a:moveTo>
                  <a:cubicBezTo>
                    <a:pt x="147" y="0"/>
                    <a:pt x="263" y="2"/>
                    <a:pt x="406" y="20"/>
                  </a:cubicBezTo>
                  <a:cubicBezTo>
                    <a:pt x="475" y="67"/>
                    <a:pt x="588" y="119"/>
                    <a:pt x="666" y="144"/>
                  </a:cubicBezTo>
                  <a:cubicBezTo>
                    <a:pt x="712" y="175"/>
                    <a:pt x="765" y="184"/>
                    <a:pt x="813" y="212"/>
                  </a:cubicBezTo>
                  <a:cubicBezTo>
                    <a:pt x="851" y="234"/>
                    <a:pt x="878" y="267"/>
                    <a:pt x="914" y="291"/>
                  </a:cubicBezTo>
                  <a:cubicBezTo>
                    <a:pt x="922" y="302"/>
                    <a:pt x="937" y="325"/>
                    <a:pt x="937" y="32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0" name="Text Box 47"/>
          <p:cNvSpPr/>
          <p:nvPr/>
        </p:nvSpPr>
        <p:spPr>
          <a:xfrm>
            <a:off x="3883320" y="5157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实物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9810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识电流是怎样形成的？ 知道电流的方向是如何规定的？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道电路有哪些部分组成和各部分作用是什么？ 电流形成的条件是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识通路、断路、短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画简单的电路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感态度与价值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过连接电路的活动，激发学生的学习兴趣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771640" y="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 txBox="1"/>
          <p:nvPr/>
        </p:nvSpPr>
        <p:spPr>
          <a:xfrm>
            <a:off x="0" y="189000"/>
            <a:ext cx="91440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电路图的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 Box 30"/>
          <p:cNvSpPr/>
          <p:nvPr/>
        </p:nvSpPr>
        <p:spPr>
          <a:xfrm>
            <a:off x="324000" y="9810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整个电路图最好呈长方形，有棱有角，导线要横平竖直。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件不要画在拐角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Text Box 31"/>
          <p:cNvSpPr/>
          <p:nvPr/>
        </p:nvSpPr>
        <p:spPr>
          <a:xfrm>
            <a:off x="324000" y="206064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元件位置安排要适当，分布要均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线连接电路符号时要画到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如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4" name="Group 51"/>
          <p:cNvGrpSpPr/>
          <p:nvPr/>
        </p:nvGrpSpPr>
        <p:grpSpPr>
          <a:xfrm>
            <a:off x="2340000" y="3428640"/>
            <a:ext cx="3959280" cy="2878920"/>
            <a:chOff x="2340000" y="3428640"/>
            <a:chExt cx="3959280" cy="2878920"/>
          </a:xfrm>
        </p:grpSpPr>
        <p:grpSp>
          <p:nvGrpSpPr>
            <p:cNvPr id="2115" name=""/>
            <p:cNvGrpSpPr/>
            <p:nvPr/>
          </p:nvGrpSpPr>
          <p:grpSpPr>
            <a:xfrm>
              <a:off x="4100400" y="5851800"/>
              <a:ext cx="1404720" cy="360"/>
              <a:chOff x="4100400" y="5851800"/>
              <a:chExt cx="1404720" cy="360"/>
            </a:xfrm>
          </p:grpSpPr>
          <p:sp>
            <p:nvSpPr>
              <p:cNvPr id="2116" name="Line 5"/>
              <p:cNvSpPr/>
              <p:nvPr/>
            </p:nvSpPr>
            <p:spPr>
              <a:xfrm>
                <a:off x="4100400" y="5851800"/>
                <a:ext cx="1404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 txBox="1"/>
              <p:nvPr/>
            </p:nvSpPr>
            <p:spPr>
              <a:xfrm>
                <a:off x="4100400" y="5851800"/>
                <a:ext cx="140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32"/>
            <p:cNvGrpSpPr/>
            <p:nvPr/>
          </p:nvGrpSpPr>
          <p:grpSpPr>
            <a:xfrm>
              <a:off x="2356200" y="3515760"/>
              <a:ext cx="2169360" cy="622080"/>
              <a:chOff x="2356200" y="3515760"/>
              <a:chExt cx="2169360" cy="622080"/>
            </a:xfrm>
          </p:grpSpPr>
          <p:grpSp>
            <p:nvGrpSpPr>
              <p:cNvPr id="2119" name="Group 33"/>
              <p:cNvGrpSpPr/>
              <p:nvPr/>
            </p:nvGrpSpPr>
            <p:grpSpPr>
              <a:xfrm>
                <a:off x="3504960" y="3515760"/>
                <a:ext cx="281520" cy="622080"/>
                <a:chOff x="3504960" y="3515760"/>
                <a:chExt cx="281520" cy="622080"/>
              </a:xfrm>
            </p:grpSpPr>
            <p:grpSp>
              <p:nvGrpSpPr>
                <p:cNvPr id="2120" name=""/>
                <p:cNvGrpSpPr/>
                <p:nvPr/>
              </p:nvGrpSpPr>
              <p:grpSpPr>
                <a:xfrm>
                  <a:off x="3504960" y="3675960"/>
                  <a:ext cx="360" cy="311040"/>
                  <a:chOff x="3504960" y="3675960"/>
                  <a:chExt cx="360" cy="311040"/>
                </a:xfrm>
              </p:grpSpPr>
              <p:sp>
                <p:nvSpPr>
                  <p:cNvPr id="2121" name="Line 34"/>
                  <p:cNvSpPr/>
                  <p:nvPr/>
                </p:nvSpPr>
                <p:spPr>
                  <a:xfrm>
                    <a:off x="3504960" y="3675960"/>
                    <a:ext cx="0" cy="311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"/>
                  <p:cNvSpPr txBox="1"/>
                  <p:nvPr/>
                </p:nvSpPr>
                <p:spPr>
                  <a:xfrm>
                    <a:off x="3504960" y="3675960"/>
                    <a:ext cx="360" cy="311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3" name=""/>
                <p:cNvGrpSpPr/>
                <p:nvPr/>
              </p:nvGrpSpPr>
              <p:grpSpPr>
                <a:xfrm>
                  <a:off x="3786120" y="3515760"/>
                  <a:ext cx="360" cy="622080"/>
                  <a:chOff x="3786120" y="3515760"/>
                  <a:chExt cx="360" cy="622080"/>
                </a:xfrm>
              </p:grpSpPr>
              <p:sp>
                <p:nvSpPr>
                  <p:cNvPr id="2124" name="Line 35"/>
                  <p:cNvSpPr/>
                  <p:nvPr/>
                </p:nvSpPr>
                <p:spPr>
                  <a:xfrm>
                    <a:off x="3786120" y="3515760"/>
                    <a:ext cx="0" cy="622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"/>
                  <p:cNvSpPr txBox="1"/>
                  <p:nvPr/>
                </p:nvSpPr>
                <p:spPr>
                  <a:xfrm>
                    <a:off x="3786120" y="3515760"/>
                    <a:ext cx="360" cy="622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26" name=""/>
              <p:cNvGrpSpPr/>
              <p:nvPr/>
            </p:nvGrpSpPr>
            <p:grpSpPr>
              <a:xfrm>
                <a:off x="2356200" y="3826800"/>
                <a:ext cx="1148760" cy="360"/>
                <a:chOff x="2356200" y="3826800"/>
                <a:chExt cx="1148760" cy="360"/>
              </a:xfrm>
            </p:grpSpPr>
            <p:sp>
              <p:nvSpPr>
                <p:cNvPr id="2127" name="Line 36"/>
                <p:cNvSpPr/>
                <p:nvPr/>
              </p:nvSpPr>
              <p:spPr>
                <a:xfrm>
                  <a:off x="2356200" y="3826800"/>
                  <a:ext cx="1148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 txBox="1"/>
                <p:nvPr/>
              </p:nvSpPr>
              <p:spPr>
                <a:xfrm>
                  <a:off x="2356200" y="3826800"/>
                  <a:ext cx="1148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"/>
              <p:cNvGrpSpPr/>
              <p:nvPr/>
            </p:nvGrpSpPr>
            <p:grpSpPr>
              <a:xfrm>
                <a:off x="3759840" y="3826800"/>
                <a:ext cx="765720" cy="360"/>
                <a:chOff x="3759840" y="3826800"/>
                <a:chExt cx="765720" cy="360"/>
              </a:xfrm>
            </p:grpSpPr>
            <p:sp>
              <p:nvSpPr>
                <p:cNvPr id="2130" name="Line 37"/>
                <p:cNvSpPr/>
                <p:nvPr/>
              </p:nvSpPr>
              <p:spPr>
                <a:xfrm>
                  <a:off x="3759840" y="3826800"/>
                  <a:ext cx="765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 txBox="1"/>
                <p:nvPr/>
              </p:nvSpPr>
              <p:spPr>
                <a:xfrm>
                  <a:off x="3759840" y="3826800"/>
                  <a:ext cx="765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2" name="Group 38"/>
            <p:cNvGrpSpPr/>
            <p:nvPr/>
          </p:nvGrpSpPr>
          <p:grpSpPr>
            <a:xfrm>
              <a:off x="4512960" y="3428640"/>
              <a:ext cx="1786320" cy="519120"/>
              <a:chOff x="4512960" y="3428640"/>
              <a:chExt cx="1786320" cy="519120"/>
            </a:xfrm>
          </p:grpSpPr>
          <p:sp>
            <p:nvSpPr>
              <p:cNvPr id="2133" name="Oval 39"/>
              <p:cNvSpPr/>
              <p:nvPr/>
            </p:nvSpPr>
            <p:spPr>
              <a:xfrm>
                <a:off x="4512960" y="3740400"/>
                <a:ext cx="254880" cy="2073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4" name=""/>
              <p:cNvGrpSpPr/>
              <p:nvPr/>
            </p:nvGrpSpPr>
            <p:grpSpPr>
              <a:xfrm>
                <a:off x="4639680" y="3428640"/>
                <a:ext cx="638640" cy="311400"/>
                <a:chOff x="4639680" y="3428640"/>
                <a:chExt cx="638640" cy="311400"/>
              </a:xfrm>
            </p:grpSpPr>
            <p:sp>
              <p:nvSpPr>
                <p:cNvPr id="2135" name="Line 40"/>
                <p:cNvSpPr/>
                <p:nvPr/>
              </p:nvSpPr>
              <p:spPr>
                <a:xfrm flipV="1">
                  <a:off x="4640040" y="3428640"/>
                  <a:ext cx="638280" cy="311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 txBox="1"/>
                <p:nvPr/>
              </p:nvSpPr>
              <p:spPr>
                <a:xfrm rot="10800000">
                  <a:off x="4639680" y="3428640"/>
                  <a:ext cx="638280" cy="3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"/>
              <p:cNvGrpSpPr/>
              <p:nvPr/>
            </p:nvGrpSpPr>
            <p:grpSpPr>
              <a:xfrm>
                <a:off x="5278680" y="3844440"/>
                <a:ext cx="1020600" cy="360"/>
                <a:chOff x="5278680" y="3844440"/>
                <a:chExt cx="1020600" cy="360"/>
              </a:xfrm>
            </p:grpSpPr>
            <p:sp>
              <p:nvSpPr>
                <p:cNvPr id="2138" name="Line 41"/>
                <p:cNvSpPr/>
                <p:nvPr/>
              </p:nvSpPr>
              <p:spPr>
                <a:xfrm>
                  <a:off x="5278680" y="3844440"/>
                  <a:ext cx="102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 txBox="1"/>
                <p:nvPr/>
              </p:nvSpPr>
              <p:spPr>
                <a:xfrm>
                  <a:off x="5278680" y="3844440"/>
                  <a:ext cx="1020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"/>
            <p:cNvGrpSpPr/>
            <p:nvPr/>
          </p:nvGrpSpPr>
          <p:grpSpPr>
            <a:xfrm>
              <a:off x="2340000" y="3816360"/>
              <a:ext cx="360" cy="2180160"/>
              <a:chOff x="2340000" y="3816360"/>
              <a:chExt cx="360" cy="2180160"/>
            </a:xfrm>
          </p:grpSpPr>
          <p:sp>
            <p:nvSpPr>
              <p:cNvPr id="2141" name="Line 42"/>
              <p:cNvSpPr/>
              <p:nvPr/>
            </p:nvSpPr>
            <p:spPr>
              <a:xfrm>
                <a:off x="2340000" y="3816360"/>
                <a:ext cx="0" cy="218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 txBox="1"/>
              <p:nvPr/>
            </p:nvSpPr>
            <p:spPr>
              <a:xfrm>
                <a:off x="2340000" y="3816360"/>
                <a:ext cx="360" cy="2180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3" name=""/>
            <p:cNvGrpSpPr/>
            <p:nvPr/>
          </p:nvGrpSpPr>
          <p:grpSpPr>
            <a:xfrm>
              <a:off x="6297840" y="3816360"/>
              <a:ext cx="360" cy="2180160"/>
              <a:chOff x="6297840" y="3816360"/>
              <a:chExt cx="360" cy="2180160"/>
            </a:xfrm>
          </p:grpSpPr>
          <p:sp>
            <p:nvSpPr>
              <p:cNvPr id="2144" name="Line 43"/>
              <p:cNvSpPr/>
              <p:nvPr/>
            </p:nvSpPr>
            <p:spPr>
              <a:xfrm>
                <a:off x="6297840" y="3816360"/>
                <a:ext cx="0" cy="218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 txBox="1"/>
              <p:nvPr/>
            </p:nvSpPr>
            <p:spPr>
              <a:xfrm>
                <a:off x="6297840" y="3816360"/>
                <a:ext cx="360" cy="2180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6" name="Group 44"/>
            <p:cNvGrpSpPr/>
            <p:nvPr/>
          </p:nvGrpSpPr>
          <p:grpSpPr>
            <a:xfrm>
              <a:off x="2340000" y="5685480"/>
              <a:ext cx="3957480" cy="622080"/>
              <a:chOff x="2340000" y="5685480"/>
              <a:chExt cx="3957480" cy="622080"/>
            </a:xfrm>
          </p:grpSpPr>
          <p:grpSp>
            <p:nvGrpSpPr>
              <p:cNvPr id="2147" name="Group 45"/>
              <p:cNvGrpSpPr/>
              <p:nvPr/>
            </p:nvGrpSpPr>
            <p:grpSpPr>
              <a:xfrm>
                <a:off x="3999600" y="5685480"/>
                <a:ext cx="765360" cy="622080"/>
                <a:chOff x="3999600" y="5685480"/>
                <a:chExt cx="765360" cy="622080"/>
              </a:xfrm>
            </p:grpSpPr>
            <p:sp>
              <p:nvSpPr>
                <p:cNvPr id="2148" name="Oval 46"/>
                <p:cNvSpPr/>
                <p:nvPr/>
              </p:nvSpPr>
              <p:spPr>
                <a:xfrm>
                  <a:off x="3999600" y="5685480"/>
                  <a:ext cx="765360" cy="622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49" name=""/>
                <p:cNvGrpSpPr/>
                <p:nvPr/>
              </p:nvGrpSpPr>
              <p:grpSpPr>
                <a:xfrm>
                  <a:off x="4127040" y="5788800"/>
                  <a:ext cx="510480" cy="414720"/>
                  <a:chOff x="4127040" y="5788800"/>
                  <a:chExt cx="510480" cy="414720"/>
                </a:xfrm>
              </p:grpSpPr>
              <p:sp>
                <p:nvSpPr>
                  <p:cNvPr id="2150" name="Line 47"/>
                  <p:cNvSpPr/>
                  <p:nvPr/>
                </p:nvSpPr>
                <p:spPr>
                  <a:xfrm flipH="1">
                    <a:off x="4127040" y="5788800"/>
                    <a:ext cx="510480" cy="414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1" name=""/>
                  <p:cNvSpPr txBox="1"/>
                  <p:nvPr/>
                </p:nvSpPr>
                <p:spPr>
                  <a:xfrm>
                    <a:off x="4127040" y="5788800"/>
                    <a:ext cx="510480" cy="414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2" name=""/>
                <p:cNvGrpSpPr/>
                <p:nvPr/>
              </p:nvGrpSpPr>
              <p:grpSpPr>
                <a:xfrm>
                  <a:off x="4127040" y="5788800"/>
                  <a:ext cx="510480" cy="414720"/>
                  <a:chOff x="4127040" y="5788800"/>
                  <a:chExt cx="510480" cy="414720"/>
                </a:xfrm>
              </p:grpSpPr>
              <p:sp>
                <p:nvSpPr>
                  <p:cNvPr id="2153" name="Line 48"/>
                  <p:cNvSpPr/>
                  <p:nvPr/>
                </p:nvSpPr>
                <p:spPr>
                  <a:xfrm>
                    <a:off x="4127040" y="5788800"/>
                    <a:ext cx="510480" cy="414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4" name=""/>
                  <p:cNvSpPr txBox="1"/>
                  <p:nvPr/>
                </p:nvSpPr>
                <p:spPr>
                  <a:xfrm>
                    <a:off x="4127040" y="5788800"/>
                    <a:ext cx="510480" cy="414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5" name=""/>
              <p:cNvGrpSpPr/>
              <p:nvPr/>
            </p:nvGrpSpPr>
            <p:grpSpPr>
              <a:xfrm>
                <a:off x="2340000" y="5996520"/>
                <a:ext cx="1659600" cy="360"/>
                <a:chOff x="2340000" y="5996520"/>
                <a:chExt cx="1659600" cy="360"/>
              </a:xfrm>
            </p:grpSpPr>
            <p:sp>
              <p:nvSpPr>
                <p:cNvPr id="2156" name="Line 49"/>
                <p:cNvSpPr/>
                <p:nvPr/>
              </p:nvSpPr>
              <p:spPr>
                <a:xfrm>
                  <a:off x="2340000" y="5996520"/>
                  <a:ext cx="165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 txBox="1"/>
                <p:nvPr/>
              </p:nvSpPr>
              <p:spPr>
                <a:xfrm>
                  <a:off x="2340000" y="5996520"/>
                  <a:ext cx="1659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8" name=""/>
              <p:cNvGrpSpPr/>
              <p:nvPr/>
            </p:nvGrpSpPr>
            <p:grpSpPr>
              <a:xfrm>
                <a:off x="4765680" y="5996520"/>
                <a:ext cx="1531800" cy="360"/>
                <a:chOff x="4765680" y="5996520"/>
                <a:chExt cx="1531800" cy="360"/>
              </a:xfrm>
            </p:grpSpPr>
            <p:sp>
              <p:nvSpPr>
                <p:cNvPr id="2159" name="Line 50"/>
                <p:cNvSpPr/>
                <p:nvPr/>
              </p:nvSpPr>
              <p:spPr>
                <a:xfrm>
                  <a:off x="4765680" y="5996520"/>
                  <a:ext cx="1531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 txBox="1"/>
                <p:nvPr/>
              </p:nvSpPr>
              <p:spPr>
                <a:xfrm>
                  <a:off x="4765680" y="5996520"/>
                  <a:ext cx="1531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1" name="Picture 2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5688000" cy="3456000"/>
          </a:xfrm>
          <a:prstGeom prst="rect">
            <a:avLst/>
          </a:prstGeom>
          <a:ln w="0">
            <a:noFill/>
          </a:ln>
        </p:spPr>
      </p:pic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496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下面图甲画的是某人连接的电路。小电动机能转吗？在图乙中连接正确的电路并画出电路图和电流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Rectangle 4"/>
          <p:cNvSpPr/>
          <p:nvPr/>
        </p:nvSpPr>
        <p:spPr>
          <a:xfrm>
            <a:off x="395280" y="549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  <a:ea typeface="黑体"/>
              </a:rPr>
              <a:t>想想议议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7380000" y="3357720"/>
            <a:ext cx="576000" cy="502920"/>
            <a:chOff x="7380000" y="3357720"/>
            <a:chExt cx="576000" cy="502920"/>
          </a:xfrm>
        </p:grpSpPr>
        <p:grpSp>
          <p:nvGrpSpPr>
            <p:cNvPr id="2165" name=""/>
            <p:cNvGrpSpPr/>
            <p:nvPr/>
          </p:nvGrpSpPr>
          <p:grpSpPr>
            <a:xfrm>
              <a:off x="7740720" y="3428640"/>
              <a:ext cx="360" cy="360000"/>
              <a:chOff x="7740720" y="3428640"/>
              <a:chExt cx="360" cy="360000"/>
            </a:xfrm>
          </p:grpSpPr>
          <p:sp>
            <p:nvSpPr>
              <p:cNvPr id="2166" name="Line 6"/>
              <p:cNvSpPr/>
              <p:nvPr/>
            </p:nvSpPr>
            <p:spPr>
              <a:xfrm>
                <a:off x="7740720" y="3428640"/>
                <a:ext cx="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 txBox="1"/>
              <p:nvPr/>
            </p:nvSpPr>
            <p:spPr>
              <a:xfrm>
                <a:off x="7740720" y="3428640"/>
                <a:ext cx="360" cy="36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8" name="Group 7"/>
            <p:cNvGrpSpPr/>
            <p:nvPr/>
          </p:nvGrpSpPr>
          <p:grpSpPr>
            <a:xfrm>
              <a:off x="7380000" y="3357720"/>
              <a:ext cx="576000" cy="502920"/>
              <a:chOff x="7380000" y="3357720"/>
              <a:chExt cx="576000" cy="502920"/>
            </a:xfrm>
          </p:grpSpPr>
          <p:grpSp>
            <p:nvGrpSpPr>
              <p:cNvPr id="2169" name=""/>
              <p:cNvGrpSpPr/>
              <p:nvPr/>
            </p:nvGrpSpPr>
            <p:grpSpPr>
              <a:xfrm>
                <a:off x="7596000" y="3357720"/>
                <a:ext cx="360" cy="502920"/>
                <a:chOff x="7596000" y="3357720"/>
                <a:chExt cx="360" cy="502920"/>
              </a:xfrm>
            </p:grpSpPr>
            <p:sp>
              <p:nvSpPr>
                <p:cNvPr id="2170" name="Line 8"/>
                <p:cNvSpPr/>
                <p:nvPr/>
              </p:nvSpPr>
              <p:spPr>
                <a:xfrm>
                  <a:off x="7596000" y="3357720"/>
                  <a:ext cx="0" cy="502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 txBox="1"/>
                <p:nvPr/>
              </p:nvSpPr>
              <p:spPr>
                <a:xfrm>
                  <a:off x="7596000" y="3357720"/>
                  <a:ext cx="36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2" name=""/>
              <p:cNvGrpSpPr/>
              <p:nvPr/>
            </p:nvGrpSpPr>
            <p:grpSpPr>
              <a:xfrm>
                <a:off x="7740360" y="3644640"/>
                <a:ext cx="215640" cy="360"/>
                <a:chOff x="7740360" y="3644640"/>
                <a:chExt cx="215640" cy="360"/>
              </a:xfrm>
            </p:grpSpPr>
            <p:sp>
              <p:nvSpPr>
                <p:cNvPr id="2173" name="Line 9"/>
                <p:cNvSpPr/>
                <p:nvPr/>
              </p:nvSpPr>
              <p:spPr>
                <a:xfrm>
                  <a:off x="7740360" y="3644640"/>
                  <a:ext cx="21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 txBox="1"/>
                <p:nvPr/>
              </p:nvSpPr>
              <p:spPr>
                <a:xfrm>
                  <a:off x="7740360" y="364464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5" name=""/>
              <p:cNvGrpSpPr/>
              <p:nvPr/>
            </p:nvGrpSpPr>
            <p:grpSpPr>
              <a:xfrm>
                <a:off x="7380000" y="3644640"/>
                <a:ext cx="216000" cy="360"/>
                <a:chOff x="7380000" y="3644640"/>
                <a:chExt cx="216000" cy="360"/>
              </a:xfrm>
            </p:grpSpPr>
            <p:sp>
              <p:nvSpPr>
                <p:cNvPr id="2176" name="Line 10"/>
                <p:cNvSpPr/>
                <p:nvPr/>
              </p:nvSpPr>
              <p:spPr>
                <a:xfrm flipH="1">
                  <a:off x="7380000" y="3644640"/>
                  <a:ext cx="21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 txBox="1"/>
                <p:nvPr/>
              </p:nvSpPr>
              <p:spPr>
                <a:xfrm>
                  <a:off x="7380360" y="364464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78" name=""/>
          <p:cNvGrpSpPr/>
          <p:nvPr/>
        </p:nvGrpSpPr>
        <p:grpSpPr>
          <a:xfrm>
            <a:off x="8677080" y="3644640"/>
            <a:ext cx="360" cy="1368360"/>
            <a:chOff x="8677080" y="3644640"/>
            <a:chExt cx="360" cy="1368360"/>
          </a:xfrm>
        </p:grpSpPr>
        <p:sp>
          <p:nvSpPr>
            <p:cNvPr id="2179" name="Line 11"/>
            <p:cNvSpPr/>
            <p:nvPr/>
          </p:nvSpPr>
          <p:spPr>
            <a:xfrm flipV="1">
              <a:off x="8677440" y="3644640"/>
              <a:ext cx="0" cy="1368360"/>
            </a:xfrm>
            <a:prstGeom prst="line">
              <a:avLst/>
            </a:prstGeom>
            <a:ln w="28440">
              <a:solidFill>
                <a:srgbClr val="e327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 txBox="1"/>
            <p:nvPr/>
          </p:nvSpPr>
          <p:spPr>
            <a:xfrm rot="10800000">
              <a:off x="8677080" y="3644640"/>
              <a:ext cx="36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Group 12"/>
          <p:cNvGrpSpPr/>
          <p:nvPr/>
        </p:nvGrpSpPr>
        <p:grpSpPr>
          <a:xfrm>
            <a:off x="6588000" y="4797000"/>
            <a:ext cx="792000" cy="217800"/>
            <a:chOff x="6588000" y="4797000"/>
            <a:chExt cx="792000" cy="217800"/>
          </a:xfrm>
        </p:grpSpPr>
        <p:grpSp>
          <p:nvGrpSpPr>
            <p:cNvPr id="2182" name=""/>
            <p:cNvGrpSpPr/>
            <p:nvPr/>
          </p:nvGrpSpPr>
          <p:grpSpPr>
            <a:xfrm>
              <a:off x="6804000" y="4797000"/>
              <a:ext cx="216000" cy="144360"/>
              <a:chOff x="6804000" y="4797000"/>
              <a:chExt cx="216000" cy="144360"/>
            </a:xfrm>
          </p:grpSpPr>
          <p:sp>
            <p:nvSpPr>
              <p:cNvPr id="2183" name="Line 13"/>
              <p:cNvSpPr/>
              <p:nvPr/>
            </p:nvSpPr>
            <p:spPr>
              <a:xfrm flipH="1" flipV="1">
                <a:off x="6804000" y="4797000"/>
                <a:ext cx="215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 txBox="1"/>
              <p:nvPr/>
            </p:nvSpPr>
            <p:spPr>
              <a:xfrm rot="10800000">
                <a:off x="6804360" y="4797000"/>
                <a:ext cx="21564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5" name="Group 14"/>
            <p:cNvGrpSpPr/>
            <p:nvPr/>
          </p:nvGrpSpPr>
          <p:grpSpPr>
            <a:xfrm>
              <a:off x="6588000" y="4941720"/>
              <a:ext cx="792000" cy="73080"/>
              <a:chOff x="6588000" y="4941720"/>
              <a:chExt cx="792000" cy="73080"/>
            </a:xfrm>
          </p:grpSpPr>
          <p:grpSp>
            <p:nvGrpSpPr>
              <p:cNvPr id="2186" name=""/>
              <p:cNvGrpSpPr/>
              <p:nvPr/>
            </p:nvGrpSpPr>
            <p:grpSpPr>
              <a:xfrm>
                <a:off x="7091280" y="5013000"/>
                <a:ext cx="288720" cy="360"/>
                <a:chOff x="7091280" y="5013000"/>
                <a:chExt cx="288720" cy="360"/>
              </a:xfrm>
            </p:grpSpPr>
            <p:sp>
              <p:nvSpPr>
                <p:cNvPr id="2187" name="Line 15"/>
                <p:cNvSpPr/>
                <p:nvPr/>
              </p:nvSpPr>
              <p:spPr>
                <a:xfrm>
                  <a:off x="7091280" y="50130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 txBox="1"/>
                <p:nvPr/>
              </p:nvSpPr>
              <p:spPr>
                <a:xfrm>
                  <a:off x="7091280" y="5013000"/>
                  <a:ext cx="28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9" name="Oval 16"/>
              <p:cNvSpPr/>
              <p:nvPr/>
            </p:nvSpPr>
            <p:spPr>
              <a:xfrm flipH="1">
                <a:off x="7019280" y="4941720"/>
                <a:ext cx="73080" cy="7308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6588000" y="5013000"/>
                <a:ext cx="288720" cy="360"/>
                <a:chOff x="6588000" y="5013000"/>
                <a:chExt cx="288720" cy="360"/>
              </a:xfrm>
            </p:grpSpPr>
            <p:sp>
              <p:nvSpPr>
                <p:cNvPr id="2191" name="Line 17"/>
                <p:cNvSpPr/>
                <p:nvPr/>
              </p:nvSpPr>
              <p:spPr>
                <a:xfrm>
                  <a:off x="6588000" y="50130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 txBox="1"/>
                <p:nvPr/>
              </p:nvSpPr>
              <p:spPr>
                <a:xfrm>
                  <a:off x="6588000" y="5013000"/>
                  <a:ext cx="28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3" name=""/>
          <p:cNvGrpSpPr/>
          <p:nvPr/>
        </p:nvGrpSpPr>
        <p:grpSpPr>
          <a:xfrm>
            <a:off x="6589800" y="3645000"/>
            <a:ext cx="360" cy="1368360"/>
            <a:chOff x="6589800" y="3645000"/>
            <a:chExt cx="360" cy="1368360"/>
          </a:xfrm>
        </p:grpSpPr>
        <p:sp>
          <p:nvSpPr>
            <p:cNvPr id="2194" name="Line 18"/>
            <p:cNvSpPr/>
            <p:nvPr/>
          </p:nvSpPr>
          <p:spPr>
            <a:xfrm>
              <a:off x="6589800" y="3645000"/>
              <a:ext cx="0" cy="1368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 txBox="1"/>
            <p:nvPr/>
          </p:nvSpPr>
          <p:spPr>
            <a:xfrm>
              <a:off x="6589800" y="3645000"/>
              <a:ext cx="36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6" name=""/>
          <p:cNvGrpSpPr/>
          <p:nvPr/>
        </p:nvGrpSpPr>
        <p:grpSpPr>
          <a:xfrm>
            <a:off x="6589800" y="3645000"/>
            <a:ext cx="792000" cy="360"/>
            <a:chOff x="6589800" y="3645000"/>
            <a:chExt cx="792000" cy="360"/>
          </a:xfrm>
        </p:grpSpPr>
        <p:sp>
          <p:nvSpPr>
            <p:cNvPr id="2197" name="Line 19"/>
            <p:cNvSpPr/>
            <p:nvPr/>
          </p:nvSpPr>
          <p:spPr>
            <a:xfrm flipH="1">
              <a:off x="6589800" y="3645000"/>
              <a:ext cx="792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 txBox="1"/>
            <p:nvPr/>
          </p:nvSpPr>
          <p:spPr>
            <a:xfrm>
              <a:off x="6589800" y="3645000"/>
              <a:ext cx="79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9" name=""/>
          <p:cNvGrpSpPr/>
          <p:nvPr/>
        </p:nvGrpSpPr>
        <p:grpSpPr>
          <a:xfrm>
            <a:off x="7884720" y="3644640"/>
            <a:ext cx="792360" cy="360"/>
            <a:chOff x="7884720" y="3644640"/>
            <a:chExt cx="792360" cy="360"/>
          </a:xfrm>
        </p:grpSpPr>
        <p:sp>
          <p:nvSpPr>
            <p:cNvPr id="2200" name="Line 20"/>
            <p:cNvSpPr/>
            <p:nvPr/>
          </p:nvSpPr>
          <p:spPr>
            <a:xfrm flipH="1">
              <a:off x="7884720" y="3645000"/>
              <a:ext cx="792360" cy="0"/>
            </a:xfrm>
            <a:prstGeom prst="line">
              <a:avLst/>
            </a:prstGeom>
            <a:ln w="28440">
              <a:solidFill>
                <a:srgbClr val="e327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 txBox="1"/>
            <p:nvPr/>
          </p:nvSpPr>
          <p:spPr>
            <a:xfrm rot="10800000">
              <a:off x="7884720" y="3644640"/>
              <a:ext cx="7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2" name=""/>
          <p:cNvGrpSpPr/>
          <p:nvPr/>
        </p:nvGrpSpPr>
        <p:grpSpPr>
          <a:xfrm>
            <a:off x="7381440" y="5013000"/>
            <a:ext cx="289080" cy="360"/>
            <a:chOff x="7381440" y="5013000"/>
            <a:chExt cx="289080" cy="360"/>
          </a:xfrm>
        </p:grpSpPr>
        <p:sp>
          <p:nvSpPr>
            <p:cNvPr id="2203" name="Line 21"/>
            <p:cNvSpPr/>
            <p:nvPr/>
          </p:nvSpPr>
          <p:spPr>
            <a:xfrm flipH="1">
              <a:off x="7381440" y="5013360"/>
              <a:ext cx="2890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 txBox="1"/>
            <p:nvPr/>
          </p:nvSpPr>
          <p:spPr>
            <a:xfrm rot="10800000">
              <a:off x="7381440" y="501300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5" name="Group 22"/>
          <p:cNvGrpSpPr/>
          <p:nvPr/>
        </p:nvGrpSpPr>
        <p:grpSpPr>
          <a:xfrm>
            <a:off x="7597800" y="4797360"/>
            <a:ext cx="1081080" cy="504720"/>
            <a:chOff x="7597800" y="4797360"/>
            <a:chExt cx="1081080" cy="504720"/>
          </a:xfrm>
        </p:grpSpPr>
        <p:sp>
          <p:nvSpPr>
            <p:cNvPr id="2206" name="Oval 23"/>
            <p:cNvSpPr/>
            <p:nvPr/>
          </p:nvSpPr>
          <p:spPr>
            <a:xfrm>
              <a:off x="7886880" y="4797360"/>
              <a:ext cx="503280" cy="50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7" name=""/>
            <p:cNvGrpSpPr/>
            <p:nvPr/>
          </p:nvGrpSpPr>
          <p:grpSpPr>
            <a:xfrm>
              <a:off x="7597800" y="5014800"/>
              <a:ext cx="289080" cy="360"/>
              <a:chOff x="7597800" y="5014800"/>
              <a:chExt cx="289080" cy="360"/>
            </a:xfrm>
          </p:grpSpPr>
          <p:sp>
            <p:nvSpPr>
              <p:cNvPr id="2208" name="Line 24"/>
              <p:cNvSpPr/>
              <p:nvPr/>
            </p:nvSpPr>
            <p:spPr>
              <a:xfrm>
                <a:off x="7597800" y="501480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 txBox="1"/>
              <p:nvPr/>
            </p:nvSpPr>
            <p:spPr>
              <a:xfrm>
                <a:off x="7597800" y="5014800"/>
                <a:ext cx="28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0" name=""/>
            <p:cNvGrpSpPr/>
            <p:nvPr/>
          </p:nvGrpSpPr>
          <p:grpSpPr>
            <a:xfrm>
              <a:off x="8390160" y="5014800"/>
              <a:ext cx="288720" cy="360"/>
              <a:chOff x="8390160" y="5014800"/>
              <a:chExt cx="288720" cy="360"/>
            </a:xfrm>
          </p:grpSpPr>
          <p:sp>
            <p:nvSpPr>
              <p:cNvPr id="2211" name="Line 25"/>
              <p:cNvSpPr/>
              <p:nvPr/>
            </p:nvSpPr>
            <p:spPr>
              <a:xfrm flipH="1">
                <a:off x="8390160" y="50148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 txBox="1"/>
              <p:nvPr/>
            </p:nvSpPr>
            <p:spPr>
              <a:xfrm>
                <a:off x="8390160" y="5014800"/>
                <a:ext cx="28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3" name="Rectangle 26"/>
            <p:cNvSpPr/>
            <p:nvPr/>
          </p:nvSpPr>
          <p:spPr>
            <a:xfrm>
              <a:off x="7959960" y="4868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4" name=""/>
          <p:cNvGrpSpPr/>
          <p:nvPr/>
        </p:nvGrpSpPr>
        <p:grpSpPr>
          <a:xfrm>
            <a:off x="6876720" y="3645000"/>
            <a:ext cx="144720" cy="360"/>
            <a:chOff x="6876720" y="3645000"/>
            <a:chExt cx="144720" cy="360"/>
          </a:xfrm>
        </p:grpSpPr>
        <p:sp>
          <p:nvSpPr>
            <p:cNvPr id="2215" name="Line 27"/>
            <p:cNvSpPr/>
            <p:nvPr/>
          </p:nvSpPr>
          <p:spPr>
            <a:xfrm flipH="1">
              <a:off x="6876720" y="3645000"/>
              <a:ext cx="144360" cy="0"/>
            </a:xfrm>
            <a:prstGeom prst="line">
              <a:avLst/>
            </a:prstGeom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 txBox="1"/>
            <p:nvPr/>
          </p:nvSpPr>
          <p:spPr>
            <a:xfrm>
              <a:off x="6877080" y="3645000"/>
              <a:ext cx="14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6589800" y="4221000"/>
            <a:ext cx="360" cy="144720"/>
            <a:chOff x="6589800" y="4221000"/>
            <a:chExt cx="360" cy="144720"/>
          </a:xfrm>
        </p:grpSpPr>
        <p:sp>
          <p:nvSpPr>
            <p:cNvPr id="2218" name="Line 28"/>
            <p:cNvSpPr/>
            <p:nvPr/>
          </p:nvSpPr>
          <p:spPr>
            <a:xfrm>
              <a:off x="6589800" y="4221000"/>
              <a:ext cx="0" cy="144720"/>
            </a:xfrm>
            <a:prstGeom prst="line">
              <a:avLst/>
            </a:prstGeom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 txBox="1"/>
            <p:nvPr/>
          </p:nvSpPr>
          <p:spPr>
            <a:xfrm>
              <a:off x="6589800" y="422100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8677080" y="4220640"/>
            <a:ext cx="360" cy="142920"/>
            <a:chOff x="8677080" y="4220640"/>
            <a:chExt cx="360" cy="142920"/>
          </a:xfrm>
        </p:grpSpPr>
        <p:sp>
          <p:nvSpPr>
            <p:cNvPr id="2221" name="Line 29"/>
            <p:cNvSpPr/>
            <p:nvPr/>
          </p:nvSpPr>
          <p:spPr>
            <a:xfrm flipV="1">
              <a:off x="8677440" y="4220640"/>
              <a:ext cx="0" cy="142920"/>
            </a:xfrm>
            <a:prstGeom prst="line">
              <a:avLst/>
            </a:prstGeom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 txBox="1"/>
            <p:nvPr/>
          </p:nvSpPr>
          <p:spPr>
            <a:xfrm rot="10800000">
              <a:off x="8677080" y="422064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8029440" y="3645000"/>
            <a:ext cx="216000" cy="360"/>
            <a:chOff x="8029440" y="3645000"/>
            <a:chExt cx="216000" cy="360"/>
          </a:xfrm>
        </p:grpSpPr>
        <p:sp>
          <p:nvSpPr>
            <p:cNvPr id="2224" name="Line 30"/>
            <p:cNvSpPr/>
            <p:nvPr/>
          </p:nvSpPr>
          <p:spPr>
            <a:xfrm flipH="1">
              <a:off x="8029440" y="3645000"/>
              <a:ext cx="216000" cy="0"/>
            </a:xfrm>
            <a:prstGeom prst="line">
              <a:avLst/>
            </a:prstGeom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 txBox="1"/>
            <p:nvPr/>
          </p:nvSpPr>
          <p:spPr>
            <a:xfrm>
              <a:off x="8029440" y="3645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7453440" y="5013360"/>
            <a:ext cx="142920" cy="360"/>
            <a:chOff x="7453440" y="5013360"/>
            <a:chExt cx="142920" cy="360"/>
          </a:xfrm>
        </p:grpSpPr>
        <p:sp>
          <p:nvSpPr>
            <p:cNvPr id="2227" name="Line 31"/>
            <p:cNvSpPr/>
            <p:nvPr/>
          </p:nvSpPr>
          <p:spPr>
            <a:xfrm>
              <a:off x="7453440" y="5013360"/>
              <a:ext cx="142920" cy="0"/>
            </a:xfrm>
            <a:prstGeom prst="line">
              <a:avLst/>
            </a:prstGeom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 txBox="1"/>
            <p:nvPr/>
          </p:nvSpPr>
          <p:spPr>
            <a:xfrm>
              <a:off x="7453440" y="5013360"/>
              <a:ext cx="14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9" name="Freeform 32"/>
          <p:cNvSpPr/>
          <p:nvPr/>
        </p:nvSpPr>
        <p:spPr>
          <a:xfrm>
            <a:off x="4060800" y="4457880"/>
            <a:ext cx="1146240" cy="487080"/>
          </a:xfrm>
          <a:custGeom>
            <a:avLst/>
            <a:gdLst/>
            <a:ahLst/>
            <a:rect l="l" t="t" r="r" b="b"/>
            <a:pathLst>
              <a:path w="722" h="307">
                <a:moveTo>
                  <a:pt x="722" y="208"/>
                </a:moveTo>
                <a:cubicBezTo>
                  <a:pt x="719" y="216"/>
                  <a:pt x="721" y="228"/>
                  <a:pt x="714" y="232"/>
                </a:cubicBezTo>
                <a:cubicBezTo>
                  <a:pt x="700" y="240"/>
                  <a:pt x="682" y="237"/>
                  <a:pt x="666" y="240"/>
                </a:cubicBezTo>
                <a:cubicBezTo>
                  <a:pt x="622" y="249"/>
                  <a:pt x="581" y="269"/>
                  <a:pt x="538" y="280"/>
                </a:cubicBezTo>
                <a:cubicBezTo>
                  <a:pt x="527" y="283"/>
                  <a:pt x="517" y="285"/>
                  <a:pt x="506" y="288"/>
                </a:cubicBezTo>
                <a:cubicBezTo>
                  <a:pt x="490" y="293"/>
                  <a:pt x="458" y="304"/>
                  <a:pt x="458" y="304"/>
                </a:cubicBezTo>
                <a:cubicBezTo>
                  <a:pt x="373" y="301"/>
                  <a:pt x="287" y="307"/>
                  <a:pt x="202" y="296"/>
                </a:cubicBezTo>
                <a:cubicBezTo>
                  <a:pt x="183" y="293"/>
                  <a:pt x="154" y="264"/>
                  <a:pt x="154" y="264"/>
                </a:cubicBezTo>
                <a:cubicBezTo>
                  <a:pt x="111" y="200"/>
                  <a:pt x="167" y="277"/>
                  <a:pt x="114" y="224"/>
                </a:cubicBezTo>
                <a:cubicBezTo>
                  <a:pt x="91" y="201"/>
                  <a:pt x="78" y="179"/>
                  <a:pt x="50" y="160"/>
                </a:cubicBezTo>
                <a:cubicBezTo>
                  <a:pt x="39" y="126"/>
                  <a:pt x="5" y="100"/>
                  <a:pt x="2" y="64"/>
                </a:cubicBezTo>
                <a:cubicBezTo>
                  <a:pt x="0" y="43"/>
                  <a:pt x="2" y="21"/>
                  <a:pt x="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Freeform 33"/>
          <p:cNvSpPr/>
          <p:nvPr/>
        </p:nvSpPr>
        <p:spPr>
          <a:xfrm>
            <a:off x="4952880" y="3098880"/>
            <a:ext cx="459000" cy="1460520"/>
          </a:xfrm>
          <a:custGeom>
            <a:avLst/>
            <a:gdLst/>
            <a:ahLst/>
            <a:rect l="l" t="t" r="r" b="b"/>
            <a:pathLst>
              <a:path w="289" h="920">
                <a:moveTo>
                  <a:pt x="0" y="920"/>
                </a:moveTo>
                <a:cubicBezTo>
                  <a:pt x="16" y="909"/>
                  <a:pt x="37" y="904"/>
                  <a:pt x="48" y="888"/>
                </a:cubicBezTo>
                <a:cubicBezTo>
                  <a:pt x="53" y="880"/>
                  <a:pt x="56" y="870"/>
                  <a:pt x="64" y="864"/>
                </a:cubicBezTo>
                <a:cubicBezTo>
                  <a:pt x="71" y="859"/>
                  <a:pt x="81" y="860"/>
                  <a:pt x="88" y="856"/>
                </a:cubicBezTo>
                <a:cubicBezTo>
                  <a:pt x="105" y="847"/>
                  <a:pt x="120" y="835"/>
                  <a:pt x="136" y="824"/>
                </a:cubicBezTo>
                <a:cubicBezTo>
                  <a:pt x="144" y="819"/>
                  <a:pt x="160" y="808"/>
                  <a:pt x="160" y="808"/>
                </a:cubicBezTo>
                <a:cubicBezTo>
                  <a:pt x="178" y="781"/>
                  <a:pt x="224" y="736"/>
                  <a:pt x="224" y="736"/>
                </a:cubicBezTo>
                <a:cubicBezTo>
                  <a:pt x="240" y="689"/>
                  <a:pt x="248" y="690"/>
                  <a:pt x="256" y="632"/>
                </a:cubicBezTo>
                <a:cubicBezTo>
                  <a:pt x="250" y="446"/>
                  <a:pt x="289" y="379"/>
                  <a:pt x="152" y="288"/>
                </a:cubicBezTo>
                <a:cubicBezTo>
                  <a:pt x="135" y="262"/>
                  <a:pt x="98" y="225"/>
                  <a:pt x="72" y="208"/>
                </a:cubicBezTo>
                <a:cubicBezTo>
                  <a:pt x="57" y="185"/>
                  <a:pt x="10" y="117"/>
                  <a:pt x="8" y="88"/>
                </a:cubicBezTo>
                <a:cubicBezTo>
                  <a:pt x="6" y="59"/>
                  <a:pt x="8" y="29"/>
                  <a:pt x="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Freeform 34"/>
          <p:cNvSpPr/>
          <p:nvPr/>
        </p:nvSpPr>
        <p:spPr>
          <a:xfrm>
            <a:off x="5867280" y="3429000"/>
            <a:ext cx="406440" cy="1612800"/>
          </a:xfrm>
          <a:custGeom>
            <a:avLst/>
            <a:gdLst/>
            <a:ahLst/>
            <a:rect l="l" t="t" r="r" b="b"/>
            <a:pathLst>
              <a:path w="256" h="1016">
                <a:moveTo>
                  <a:pt x="0" y="1016"/>
                </a:moveTo>
                <a:cubicBezTo>
                  <a:pt x="24" y="1013"/>
                  <a:pt x="49" y="1014"/>
                  <a:pt x="72" y="1008"/>
                </a:cubicBezTo>
                <a:cubicBezTo>
                  <a:pt x="98" y="1002"/>
                  <a:pt x="119" y="961"/>
                  <a:pt x="136" y="944"/>
                </a:cubicBezTo>
                <a:cubicBezTo>
                  <a:pt x="149" y="905"/>
                  <a:pt x="171" y="877"/>
                  <a:pt x="200" y="848"/>
                </a:cubicBezTo>
                <a:cubicBezTo>
                  <a:pt x="211" y="816"/>
                  <a:pt x="221" y="784"/>
                  <a:pt x="232" y="752"/>
                </a:cubicBezTo>
                <a:cubicBezTo>
                  <a:pt x="238" y="735"/>
                  <a:pt x="250" y="721"/>
                  <a:pt x="256" y="704"/>
                </a:cubicBezTo>
                <a:cubicBezTo>
                  <a:pt x="253" y="581"/>
                  <a:pt x="253" y="459"/>
                  <a:pt x="248" y="336"/>
                </a:cubicBezTo>
                <a:cubicBezTo>
                  <a:pt x="243" y="222"/>
                  <a:pt x="121" y="99"/>
                  <a:pt x="72" y="0"/>
                </a:cubicBezTo>
              </a:path>
            </a:pathLst>
          </a:custGeom>
          <a:noFill/>
          <a:ln w="38160">
            <a:solidFill>
              <a:srgbClr val="e327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Freeform 35"/>
          <p:cNvSpPr/>
          <p:nvPr/>
        </p:nvSpPr>
        <p:spPr>
          <a:xfrm>
            <a:off x="4933800" y="3083040"/>
            <a:ext cx="1132200" cy="1931760"/>
          </a:xfrm>
          <a:custGeom>
            <a:avLst/>
            <a:gdLst/>
            <a:ahLst/>
            <a:rect l="l" t="t" r="r" b="b"/>
            <a:pathLst>
              <a:path w="713" h="1217">
                <a:moveTo>
                  <a:pt x="601" y="1217"/>
                </a:moveTo>
                <a:cubicBezTo>
                  <a:pt x="613" y="1214"/>
                  <a:pt x="625" y="1214"/>
                  <a:pt x="636" y="1209"/>
                </a:cubicBezTo>
                <a:cubicBezTo>
                  <a:pt x="669" y="1192"/>
                  <a:pt x="679" y="1086"/>
                  <a:pt x="688" y="1051"/>
                </a:cubicBezTo>
                <a:cubicBezTo>
                  <a:pt x="693" y="1033"/>
                  <a:pt x="706" y="999"/>
                  <a:pt x="706" y="999"/>
                </a:cubicBezTo>
                <a:cubicBezTo>
                  <a:pt x="703" y="945"/>
                  <a:pt x="713" y="830"/>
                  <a:pt x="680" y="763"/>
                </a:cubicBezTo>
                <a:cubicBezTo>
                  <a:pt x="671" y="745"/>
                  <a:pt x="665" y="727"/>
                  <a:pt x="653" y="711"/>
                </a:cubicBezTo>
                <a:cubicBezTo>
                  <a:pt x="641" y="695"/>
                  <a:pt x="625" y="681"/>
                  <a:pt x="610" y="667"/>
                </a:cubicBezTo>
                <a:cubicBezTo>
                  <a:pt x="604" y="661"/>
                  <a:pt x="597" y="657"/>
                  <a:pt x="592" y="650"/>
                </a:cubicBezTo>
                <a:cubicBezTo>
                  <a:pt x="551" y="597"/>
                  <a:pt x="512" y="545"/>
                  <a:pt x="470" y="493"/>
                </a:cubicBezTo>
                <a:cubicBezTo>
                  <a:pt x="442" y="458"/>
                  <a:pt x="401" y="432"/>
                  <a:pt x="374" y="397"/>
                </a:cubicBezTo>
                <a:cubicBezTo>
                  <a:pt x="336" y="348"/>
                  <a:pt x="309" y="292"/>
                  <a:pt x="278" y="240"/>
                </a:cubicBezTo>
                <a:cubicBezTo>
                  <a:pt x="261" y="212"/>
                  <a:pt x="225" y="189"/>
                  <a:pt x="200" y="170"/>
                </a:cubicBezTo>
                <a:cubicBezTo>
                  <a:pt x="175" y="151"/>
                  <a:pt x="170" y="137"/>
                  <a:pt x="139" y="126"/>
                </a:cubicBezTo>
                <a:cubicBezTo>
                  <a:pt x="122" y="110"/>
                  <a:pt x="101" y="92"/>
                  <a:pt x="86" y="74"/>
                </a:cubicBezTo>
                <a:cubicBezTo>
                  <a:pt x="74" y="59"/>
                  <a:pt x="68" y="40"/>
                  <a:pt x="51" y="30"/>
                </a:cubicBezTo>
                <a:cubicBezTo>
                  <a:pt x="0" y="0"/>
                  <a:pt x="41" y="38"/>
                  <a:pt x="16" y="13"/>
                </a:cubicBezTo>
              </a:path>
            </a:pathLst>
          </a:custGeom>
          <a:noFill/>
          <a:ln w="38160">
            <a:solidFill>
              <a:srgbClr val="e327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文本框 8199"/>
          <p:cNvSpPr/>
          <p:nvPr/>
        </p:nvSpPr>
        <p:spPr>
          <a:xfrm>
            <a:off x="977760" y="2136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5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4" name="Picture 2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21440" cy="3416040"/>
          </a:xfrm>
          <a:prstGeom prst="rect">
            <a:avLst/>
          </a:prstGeom>
          <a:ln w="0">
            <a:noFill/>
          </a:ln>
        </p:spPr>
      </p:pic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甲是玩具电风扇的电路图，请在图乙中连接它的电路。（注意：连接时导线不能交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Text Box 4"/>
          <p:cNvSpPr/>
          <p:nvPr/>
        </p:nvSpPr>
        <p:spPr>
          <a:xfrm>
            <a:off x="324000" y="476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黑体"/>
              </a:rPr>
              <a:t>动手动脑学物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7" name=""/>
          <p:cNvGrpSpPr/>
          <p:nvPr/>
        </p:nvGrpSpPr>
        <p:grpSpPr>
          <a:xfrm>
            <a:off x="1619280" y="5300640"/>
            <a:ext cx="792000" cy="360"/>
            <a:chOff x="1619280" y="5300640"/>
            <a:chExt cx="792000" cy="360"/>
          </a:xfrm>
        </p:grpSpPr>
        <p:sp>
          <p:nvSpPr>
            <p:cNvPr id="2238" name="Line 5"/>
            <p:cNvSpPr/>
            <p:nvPr/>
          </p:nvSpPr>
          <p:spPr>
            <a:xfrm flipH="1">
              <a:off x="1619280" y="5300640"/>
              <a:ext cx="792000" cy="0"/>
            </a:xfrm>
            <a:prstGeom prst="line">
              <a:avLst/>
            </a:prstGeom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 txBox="1"/>
            <p:nvPr/>
          </p:nvSpPr>
          <p:spPr>
            <a:xfrm>
              <a:off x="1619280" y="5300640"/>
              <a:ext cx="79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684360" y="5300640"/>
            <a:ext cx="574560" cy="360"/>
            <a:chOff x="684360" y="5300640"/>
            <a:chExt cx="574560" cy="360"/>
          </a:xfrm>
        </p:grpSpPr>
        <p:sp>
          <p:nvSpPr>
            <p:cNvPr id="2241" name="Line 6"/>
            <p:cNvSpPr/>
            <p:nvPr/>
          </p:nvSpPr>
          <p:spPr>
            <a:xfrm flipH="1">
              <a:off x="684360" y="5300640"/>
              <a:ext cx="5745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 txBox="1"/>
            <p:nvPr/>
          </p:nvSpPr>
          <p:spPr>
            <a:xfrm>
              <a:off x="684360" y="5300640"/>
              <a:ext cx="57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684000" y="3860640"/>
            <a:ext cx="360" cy="1441440"/>
            <a:chOff x="684000" y="3860640"/>
            <a:chExt cx="360" cy="1441440"/>
          </a:xfrm>
        </p:grpSpPr>
        <p:sp>
          <p:nvSpPr>
            <p:cNvPr id="2244" name="Line 7"/>
            <p:cNvSpPr/>
            <p:nvPr/>
          </p:nvSpPr>
          <p:spPr>
            <a:xfrm flipV="1">
              <a:off x="684360" y="3860640"/>
              <a:ext cx="0" cy="14414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 txBox="1"/>
            <p:nvPr/>
          </p:nvSpPr>
          <p:spPr>
            <a:xfrm rot="10800000">
              <a:off x="684000" y="3860640"/>
              <a:ext cx="360" cy="144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684360" y="3860640"/>
            <a:ext cx="861840" cy="360"/>
            <a:chOff x="684360" y="3860640"/>
            <a:chExt cx="861840" cy="360"/>
          </a:xfrm>
        </p:grpSpPr>
        <p:sp>
          <p:nvSpPr>
            <p:cNvPr id="2247" name="Line 8"/>
            <p:cNvSpPr/>
            <p:nvPr/>
          </p:nvSpPr>
          <p:spPr>
            <a:xfrm>
              <a:off x="684360" y="3860640"/>
              <a:ext cx="8618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 txBox="1"/>
            <p:nvPr/>
          </p:nvSpPr>
          <p:spPr>
            <a:xfrm>
              <a:off x="684360" y="3860640"/>
              <a:ext cx="861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"/>
          <p:cNvGrpSpPr/>
          <p:nvPr/>
        </p:nvGrpSpPr>
        <p:grpSpPr>
          <a:xfrm>
            <a:off x="2340000" y="3860640"/>
            <a:ext cx="792000" cy="360"/>
            <a:chOff x="2340000" y="3860640"/>
            <a:chExt cx="792000" cy="360"/>
          </a:xfrm>
        </p:grpSpPr>
        <p:sp>
          <p:nvSpPr>
            <p:cNvPr id="2250" name="Line 9"/>
            <p:cNvSpPr/>
            <p:nvPr/>
          </p:nvSpPr>
          <p:spPr>
            <a:xfrm>
              <a:off x="2340000" y="3860640"/>
              <a:ext cx="792000" cy="0"/>
            </a:xfrm>
            <a:prstGeom prst="line">
              <a:avLst/>
            </a:prstGeom>
            <a:ln w="57240">
              <a:solidFill>
                <a:srgbClr val="e327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 txBox="1"/>
            <p:nvPr/>
          </p:nvSpPr>
          <p:spPr>
            <a:xfrm>
              <a:off x="2340000" y="3860640"/>
              <a:ext cx="79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3132000" y="3860640"/>
            <a:ext cx="360" cy="1441440"/>
            <a:chOff x="3132000" y="3860640"/>
            <a:chExt cx="360" cy="1441440"/>
          </a:xfrm>
        </p:grpSpPr>
        <p:sp>
          <p:nvSpPr>
            <p:cNvPr id="2253" name="Line 10"/>
            <p:cNvSpPr/>
            <p:nvPr/>
          </p:nvSpPr>
          <p:spPr>
            <a:xfrm>
              <a:off x="3132000" y="3860640"/>
              <a:ext cx="0" cy="1441440"/>
            </a:xfrm>
            <a:prstGeom prst="line">
              <a:avLst/>
            </a:prstGeom>
            <a:ln w="57240">
              <a:solidFill>
                <a:srgbClr val="e327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 txBox="1"/>
            <p:nvPr/>
          </p:nvSpPr>
          <p:spPr>
            <a:xfrm>
              <a:off x="3132000" y="3860640"/>
              <a:ext cx="360" cy="144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5" name=""/>
          <p:cNvGrpSpPr/>
          <p:nvPr/>
        </p:nvGrpSpPr>
        <p:grpSpPr>
          <a:xfrm>
            <a:off x="2484000" y="5300640"/>
            <a:ext cx="648000" cy="360"/>
            <a:chOff x="2484000" y="5300640"/>
            <a:chExt cx="648000" cy="360"/>
          </a:xfrm>
        </p:grpSpPr>
        <p:sp>
          <p:nvSpPr>
            <p:cNvPr id="2256" name="Line 11"/>
            <p:cNvSpPr/>
            <p:nvPr/>
          </p:nvSpPr>
          <p:spPr>
            <a:xfrm flipH="1">
              <a:off x="2484000" y="5300640"/>
              <a:ext cx="647640" cy="0"/>
            </a:xfrm>
            <a:prstGeom prst="line">
              <a:avLst/>
            </a:prstGeom>
            <a:ln w="57240">
              <a:solidFill>
                <a:srgbClr val="e327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 txBox="1"/>
            <p:nvPr/>
          </p:nvSpPr>
          <p:spPr>
            <a:xfrm>
              <a:off x="2484360" y="530064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8" name="Freeform 12"/>
          <p:cNvSpPr/>
          <p:nvPr/>
        </p:nvSpPr>
        <p:spPr>
          <a:xfrm>
            <a:off x="4032360" y="3860640"/>
            <a:ext cx="2457360" cy="1127160"/>
          </a:xfrm>
          <a:custGeom>
            <a:avLst/>
            <a:gdLst/>
            <a:ahLst/>
            <a:rect l="l" t="t" r="r" b="b"/>
            <a:pathLst>
              <a:path w="1548" h="710">
                <a:moveTo>
                  <a:pt x="164" y="704"/>
                </a:moveTo>
                <a:cubicBezTo>
                  <a:pt x="12" y="691"/>
                  <a:pt x="109" y="710"/>
                  <a:pt x="28" y="656"/>
                </a:cubicBezTo>
                <a:cubicBezTo>
                  <a:pt x="0" y="572"/>
                  <a:pt x="16" y="547"/>
                  <a:pt x="92" y="496"/>
                </a:cubicBezTo>
                <a:cubicBezTo>
                  <a:pt x="300" y="184"/>
                  <a:pt x="700" y="324"/>
                  <a:pt x="1044" y="320"/>
                </a:cubicBezTo>
                <a:cubicBezTo>
                  <a:pt x="1123" y="311"/>
                  <a:pt x="1199" y="299"/>
                  <a:pt x="1276" y="280"/>
                </a:cubicBezTo>
                <a:cubicBezTo>
                  <a:pt x="1314" y="270"/>
                  <a:pt x="1336" y="252"/>
                  <a:pt x="1372" y="240"/>
                </a:cubicBezTo>
                <a:cubicBezTo>
                  <a:pt x="1405" y="207"/>
                  <a:pt x="1431" y="151"/>
                  <a:pt x="1476" y="136"/>
                </a:cubicBezTo>
                <a:cubicBezTo>
                  <a:pt x="1502" y="97"/>
                  <a:pt x="1548" y="51"/>
                  <a:pt x="1548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Freeform 13"/>
          <p:cNvSpPr/>
          <p:nvPr/>
        </p:nvSpPr>
        <p:spPr>
          <a:xfrm>
            <a:off x="5829480" y="4711680"/>
            <a:ext cx="2400120" cy="777960"/>
          </a:xfrm>
          <a:custGeom>
            <a:avLst/>
            <a:gdLst/>
            <a:ahLst/>
            <a:rect l="l" t="t" r="r" b="b"/>
            <a:pathLst>
              <a:path w="1512" h="490">
                <a:moveTo>
                  <a:pt x="0" y="400"/>
                </a:moveTo>
                <a:cubicBezTo>
                  <a:pt x="86" y="408"/>
                  <a:pt x="171" y="420"/>
                  <a:pt x="256" y="432"/>
                </a:cubicBezTo>
                <a:cubicBezTo>
                  <a:pt x="336" y="459"/>
                  <a:pt x="451" y="452"/>
                  <a:pt x="528" y="456"/>
                </a:cubicBezTo>
                <a:cubicBezTo>
                  <a:pt x="576" y="461"/>
                  <a:pt x="612" y="465"/>
                  <a:pt x="656" y="480"/>
                </a:cubicBezTo>
                <a:cubicBezTo>
                  <a:pt x="941" y="475"/>
                  <a:pt x="994" y="490"/>
                  <a:pt x="1192" y="440"/>
                </a:cubicBezTo>
                <a:cubicBezTo>
                  <a:pt x="1219" y="422"/>
                  <a:pt x="1263" y="405"/>
                  <a:pt x="1288" y="384"/>
                </a:cubicBezTo>
                <a:cubicBezTo>
                  <a:pt x="1297" y="377"/>
                  <a:pt x="1303" y="366"/>
                  <a:pt x="1312" y="360"/>
                </a:cubicBezTo>
                <a:cubicBezTo>
                  <a:pt x="1327" y="350"/>
                  <a:pt x="1345" y="346"/>
                  <a:pt x="1360" y="336"/>
                </a:cubicBezTo>
                <a:cubicBezTo>
                  <a:pt x="1382" y="304"/>
                  <a:pt x="1416" y="278"/>
                  <a:pt x="1448" y="256"/>
                </a:cubicBezTo>
                <a:cubicBezTo>
                  <a:pt x="1456" y="232"/>
                  <a:pt x="1464" y="208"/>
                  <a:pt x="1472" y="184"/>
                </a:cubicBezTo>
                <a:cubicBezTo>
                  <a:pt x="1477" y="168"/>
                  <a:pt x="1488" y="136"/>
                  <a:pt x="1488" y="136"/>
                </a:cubicBezTo>
                <a:cubicBezTo>
                  <a:pt x="1490" y="111"/>
                  <a:pt x="1482" y="30"/>
                  <a:pt x="1512" y="0"/>
                </a:cubicBezTo>
              </a:path>
            </a:pathLst>
          </a:custGeom>
          <a:noFill/>
          <a:ln w="38160">
            <a:solidFill>
              <a:srgbClr val="e327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Freeform 14"/>
          <p:cNvSpPr/>
          <p:nvPr/>
        </p:nvSpPr>
        <p:spPr>
          <a:xfrm>
            <a:off x="5016600" y="2679840"/>
            <a:ext cx="2247840" cy="1854000"/>
          </a:xfrm>
          <a:custGeom>
            <a:avLst/>
            <a:gdLst/>
            <a:ahLst/>
            <a:rect l="l" t="t" r="r" b="b"/>
            <a:pathLst>
              <a:path w="1416" h="1168">
                <a:moveTo>
                  <a:pt x="104" y="712"/>
                </a:moveTo>
                <a:cubicBezTo>
                  <a:pt x="51" y="694"/>
                  <a:pt x="17" y="635"/>
                  <a:pt x="0" y="584"/>
                </a:cubicBezTo>
                <a:cubicBezTo>
                  <a:pt x="3" y="520"/>
                  <a:pt x="1" y="456"/>
                  <a:pt x="8" y="392"/>
                </a:cubicBezTo>
                <a:cubicBezTo>
                  <a:pt x="9" y="381"/>
                  <a:pt x="42" y="349"/>
                  <a:pt x="48" y="344"/>
                </a:cubicBezTo>
                <a:cubicBezTo>
                  <a:pt x="93" y="309"/>
                  <a:pt x="145" y="280"/>
                  <a:pt x="192" y="248"/>
                </a:cubicBezTo>
                <a:cubicBezTo>
                  <a:pt x="229" y="223"/>
                  <a:pt x="262" y="196"/>
                  <a:pt x="296" y="168"/>
                </a:cubicBezTo>
                <a:cubicBezTo>
                  <a:pt x="341" y="130"/>
                  <a:pt x="297" y="175"/>
                  <a:pt x="352" y="136"/>
                </a:cubicBezTo>
                <a:cubicBezTo>
                  <a:pt x="378" y="117"/>
                  <a:pt x="401" y="94"/>
                  <a:pt x="432" y="80"/>
                </a:cubicBezTo>
                <a:cubicBezTo>
                  <a:pt x="511" y="45"/>
                  <a:pt x="585" y="47"/>
                  <a:pt x="672" y="40"/>
                </a:cubicBezTo>
                <a:cubicBezTo>
                  <a:pt x="749" y="34"/>
                  <a:pt x="821" y="15"/>
                  <a:pt x="896" y="0"/>
                </a:cubicBezTo>
                <a:cubicBezTo>
                  <a:pt x="995" y="3"/>
                  <a:pt x="1094" y="1"/>
                  <a:pt x="1192" y="8"/>
                </a:cubicBezTo>
                <a:cubicBezTo>
                  <a:pt x="1217" y="10"/>
                  <a:pt x="1264" y="32"/>
                  <a:pt x="1264" y="32"/>
                </a:cubicBezTo>
                <a:cubicBezTo>
                  <a:pt x="1311" y="79"/>
                  <a:pt x="1321" y="75"/>
                  <a:pt x="1344" y="144"/>
                </a:cubicBezTo>
                <a:cubicBezTo>
                  <a:pt x="1349" y="160"/>
                  <a:pt x="1355" y="176"/>
                  <a:pt x="1360" y="192"/>
                </a:cubicBezTo>
                <a:cubicBezTo>
                  <a:pt x="1363" y="200"/>
                  <a:pt x="1368" y="216"/>
                  <a:pt x="1368" y="216"/>
                </a:cubicBezTo>
                <a:cubicBezTo>
                  <a:pt x="1362" y="406"/>
                  <a:pt x="1380" y="437"/>
                  <a:pt x="1336" y="568"/>
                </a:cubicBezTo>
                <a:cubicBezTo>
                  <a:pt x="1329" y="590"/>
                  <a:pt x="1322" y="612"/>
                  <a:pt x="1312" y="632"/>
                </a:cubicBezTo>
                <a:cubicBezTo>
                  <a:pt x="1303" y="649"/>
                  <a:pt x="1286" y="662"/>
                  <a:pt x="1280" y="680"/>
                </a:cubicBezTo>
                <a:cubicBezTo>
                  <a:pt x="1272" y="704"/>
                  <a:pt x="1264" y="728"/>
                  <a:pt x="1256" y="752"/>
                </a:cubicBezTo>
                <a:cubicBezTo>
                  <a:pt x="1253" y="760"/>
                  <a:pt x="1248" y="776"/>
                  <a:pt x="1248" y="776"/>
                </a:cubicBezTo>
                <a:cubicBezTo>
                  <a:pt x="1251" y="880"/>
                  <a:pt x="1217" y="995"/>
                  <a:pt x="1264" y="1088"/>
                </a:cubicBezTo>
                <a:cubicBezTo>
                  <a:pt x="1284" y="1129"/>
                  <a:pt x="1329" y="1126"/>
                  <a:pt x="1368" y="1136"/>
                </a:cubicBezTo>
                <a:cubicBezTo>
                  <a:pt x="1384" y="1140"/>
                  <a:pt x="1416" y="1148"/>
                  <a:pt x="1416" y="116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Picture 2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5184720" cy="3165480"/>
          </a:xfrm>
          <a:prstGeom prst="rect">
            <a:avLst/>
          </a:prstGeom>
          <a:ln w="0">
            <a:noFill/>
          </a:ln>
        </p:spPr>
      </p:pic>
      <p:grpSp>
        <p:nvGrpSpPr>
          <p:cNvPr id="2262" name="Group 3"/>
          <p:cNvGrpSpPr/>
          <p:nvPr/>
        </p:nvGrpSpPr>
        <p:grpSpPr>
          <a:xfrm>
            <a:off x="5076720" y="1268280"/>
            <a:ext cx="2806560" cy="576360"/>
            <a:chOff x="5076720" y="1268280"/>
            <a:chExt cx="2806560" cy="576360"/>
          </a:xfrm>
        </p:grpSpPr>
        <p:sp>
          <p:nvSpPr>
            <p:cNvPr id="2263" name="Rectangle 4"/>
            <p:cNvSpPr/>
            <p:nvPr/>
          </p:nvSpPr>
          <p:spPr>
            <a:xfrm>
              <a:off x="5688000" y="1268280"/>
              <a:ext cx="1584360" cy="57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Text Box 5"/>
            <p:cNvSpPr/>
            <p:nvPr/>
          </p:nvSpPr>
          <p:spPr>
            <a:xfrm>
              <a:off x="5616360" y="1268280"/>
              <a:ext cx="16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8e163e"/>
                  </a:solidFill>
                  <a:latin typeface="Arial"/>
                </a:rPr>
                <a:t>电子门铃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5" name=""/>
            <p:cNvGrpSpPr/>
            <p:nvPr/>
          </p:nvGrpSpPr>
          <p:grpSpPr>
            <a:xfrm>
              <a:off x="5076720" y="1555920"/>
              <a:ext cx="611280" cy="360"/>
              <a:chOff x="5076720" y="1555920"/>
              <a:chExt cx="611280" cy="360"/>
            </a:xfrm>
          </p:grpSpPr>
          <p:sp>
            <p:nvSpPr>
              <p:cNvPr id="2266" name="Line 6"/>
              <p:cNvSpPr/>
              <p:nvPr/>
            </p:nvSpPr>
            <p:spPr>
              <a:xfrm>
                <a:off x="5076720" y="1555920"/>
                <a:ext cx="61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 txBox="1"/>
              <p:nvPr/>
            </p:nvSpPr>
            <p:spPr>
              <a:xfrm>
                <a:off x="5076720" y="1555920"/>
                <a:ext cx="61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7272360" y="1555920"/>
              <a:ext cx="610920" cy="360"/>
              <a:chOff x="7272360" y="1555920"/>
              <a:chExt cx="610920" cy="360"/>
            </a:xfrm>
          </p:grpSpPr>
          <p:sp>
            <p:nvSpPr>
              <p:cNvPr id="2269" name="Line 7"/>
              <p:cNvSpPr/>
              <p:nvPr/>
            </p:nvSpPr>
            <p:spPr>
              <a:xfrm>
                <a:off x="7272360" y="1555920"/>
                <a:ext cx="61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 txBox="1"/>
              <p:nvPr/>
            </p:nvSpPr>
            <p:spPr>
              <a:xfrm>
                <a:off x="7272360" y="1555920"/>
                <a:ext cx="61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1" name="Group 8"/>
          <p:cNvGrpSpPr/>
          <p:nvPr/>
        </p:nvGrpSpPr>
        <p:grpSpPr>
          <a:xfrm>
            <a:off x="7522920" y="4726080"/>
            <a:ext cx="576000" cy="503280"/>
            <a:chOff x="7522920" y="4726080"/>
            <a:chExt cx="576000" cy="503280"/>
          </a:xfrm>
        </p:grpSpPr>
        <p:grpSp>
          <p:nvGrpSpPr>
            <p:cNvPr id="2272" name=""/>
            <p:cNvGrpSpPr/>
            <p:nvPr/>
          </p:nvGrpSpPr>
          <p:grpSpPr>
            <a:xfrm>
              <a:off x="7883640" y="4797360"/>
              <a:ext cx="360" cy="360360"/>
              <a:chOff x="7883640" y="4797360"/>
              <a:chExt cx="360" cy="360360"/>
            </a:xfrm>
          </p:grpSpPr>
          <p:sp>
            <p:nvSpPr>
              <p:cNvPr id="2273" name="Line 9"/>
              <p:cNvSpPr/>
              <p:nvPr/>
            </p:nvSpPr>
            <p:spPr>
              <a:xfrm>
                <a:off x="7883640" y="479736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 txBox="1"/>
              <p:nvPr/>
            </p:nvSpPr>
            <p:spPr>
              <a:xfrm>
                <a:off x="7883640" y="4797360"/>
                <a:ext cx="36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5" name="Group 10"/>
            <p:cNvGrpSpPr/>
            <p:nvPr/>
          </p:nvGrpSpPr>
          <p:grpSpPr>
            <a:xfrm>
              <a:off x="7522920" y="4726080"/>
              <a:ext cx="576000" cy="503280"/>
              <a:chOff x="7522920" y="4726080"/>
              <a:chExt cx="576000" cy="503280"/>
            </a:xfrm>
          </p:grpSpPr>
          <p:grpSp>
            <p:nvGrpSpPr>
              <p:cNvPr id="2276" name=""/>
              <p:cNvGrpSpPr/>
              <p:nvPr/>
            </p:nvGrpSpPr>
            <p:grpSpPr>
              <a:xfrm>
                <a:off x="7738920" y="4726080"/>
                <a:ext cx="360" cy="503280"/>
                <a:chOff x="7738920" y="4726080"/>
                <a:chExt cx="360" cy="503280"/>
              </a:xfrm>
            </p:grpSpPr>
            <p:sp>
              <p:nvSpPr>
                <p:cNvPr id="2277" name="Line 11"/>
                <p:cNvSpPr/>
                <p:nvPr/>
              </p:nvSpPr>
              <p:spPr>
                <a:xfrm>
                  <a:off x="7738920" y="4726080"/>
                  <a:ext cx="0" cy="50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 txBox="1"/>
                <p:nvPr/>
              </p:nvSpPr>
              <p:spPr>
                <a:xfrm>
                  <a:off x="7738920" y="4726080"/>
                  <a:ext cx="36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9" name=""/>
              <p:cNvGrpSpPr/>
              <p:nvPr/>
            </p:nvGrpSpPr>
            <p:grpSpPr>
              <a:xfrm>
                <a:off x="7883280" y="5013360"/>
                <a:ext cx="215640" cy="360"/>
                <a:chOff x="7883280" y="5013360"/>
                <a:chExt cx="215640" cy="360"/>
              </a:xfrm>
            </p:grpSpPr>
            <p:sp>
              <p:nvSpPr>
                <p:cNvPr id="2280" name="Line 12"/>
                <p:cNvSpPr/>
                <p:nvPr/>
              </p:nvSpPr>
              <p:spPr>
                <a:xfrm>
                  <a:off x="7883280" y="5013360"/>
                  <a:ext cx="21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 txBox="1"/>
                <p:nvPr/>
              </p:nvSpPr>
              <p:spPr>
                <a:xfrm>
                  <a:off x="7883280" y="501336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2" name=""/>
              <p:cNvGrpSpPr/>
              <p:nvPr/>
            </p:nvGrpSpPr>
            <p:grpSpPr>
              <a:xfrm>
                <a:off x="7522920" y="5013360"/>
                <a:ext cx="216000" cy="360"/>
                <a:chOff x="7522920" y="5013360"/>
                <a:chExt cx="216000" cy="360"/>
              </a:xfrm>
            </p:grpSpPr>
            <p:sp>
              <p:nvSpPr>
                <p:cNvPr id="2283" name="Line 13"/>
                <p:cNvSpPr/>
                <p:nvPr/>
              </p:nvSpPr>
              <p:spPr>
                <a:xfrm flipH="1">
                  <a:off x="7522920" y="5013360"/>
                  <a:ext cx="21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 txBox="1"/>
                <p:nvPr/>
              </p:nvSpPr>
              <p:spPr>
                <a:xfrm>
                  <a:off x="7523280" y="501336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5" name="Text Box 14"/>
          <p:cNvSpPr/>
          <p:nvPr/>
        </p:nvSpPr>
        <p:spPr>
          <a:xfrm>
            <a:off x="468360" y="692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下图中连接电子门铃的电路，并画出它的电路图。电子门铃可以用              这样的符号代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6" name=""/>
          <p:cNvGrpSpPr/>
          <p:nvPr/>
        </p:nvGrpSpPr>
        <p:grpSpPr>
          <a:xfrm>
            <a:off x="8602560" y="3645000"/>
            <a:ext cx="360" cy="1368360"/>
            <a:chOff x="8602560" y="3645000"/>
            <a:chExt cx="360" cy="1368360"/>
          </a:xfrm>
        </p:grpSpPr>
        <p:sp>
          <p:nvSpPr>
            <p:cNvPr id="2287" name="Line 15"/>
            <p:cNvSpPr/>
            <p:nvPr/>
          </p:nvSpPr>
          <p:spPr>
            <a:xfrm>
              <a:off x="8602560" y="3645000"/>
              <a:ext cx="0" cy="136836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 txBox="1"/>
            <p:nvPr/>
          </p:nvSpPr>
          <p:spPr>
            <a:xfrm>
              <a:off x="8602560" y="3645000"/>
              <a:ext cx="36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Group 16"/>
          <p:cNvGrpSpPr/>
          <p:nvPr/>
        </p:nvGrpSpPr>
        <p:grpSpPr>
          <a:xfrm>
            <a:off x="6659640" y="3357720"/>
            <a:ext cx="1655640" cy="504720"/>
            <a:chOff x="6659640" y="3357720"/>
            <a:chExt cx="1655640" cy="504720"/>
          </a:xfrm>
        </p:grpSpPr>
        <p:sp>
          <p:nvSpPr>
            <p:cNvPr id="2290" name="Rectangle 17"/>
            <p:cNvSpPr/>
            <p:nvPr/>
          </p:nvSpPr>
          <p:spPr>
            <a:xfrm>
              <a:off x="6946920" y="3357720"/>
              <a:ext cx="107964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8"/>
            <p:cNvSpPr/>
            <p:nvPr/>
          </p:nvSpPr>
          <p:spPr>
            <a:xfrm>
              <a:off x="7018560" y="3429000"/>
              <a:ext cx="1008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电子门铃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2" name=""/>
            <p:cNvGrpSpPr/>
            <p:nvPr/>
          </p:nvGrpSpPr>
          <p:grpSpPr>
            <a:xfrm>
              <a:off x="8026560" y="3645000"/>
              <a:ext cx="288720" cy="360"/>
              <a:chOff x="8026560" y="3645000"/>
              <a:chExt cx="288720" cy="360"/>
            </a:xfrm>
          </p:grpSpPr>
          <p:sp>
            <p:nvSpPr>
              <p:cNvPr id="2293" name="Line 19"/>
              <p:cNvSpPr/>
              <p:nvPr/>
            </p:nvSpPr>
            <p:spPr>
              <a:xfrm>
                <a:off x="8026560" y="36450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 txBox="1"/>
              <p:nvPr/>
            </p:nvSpPr>
            <p:spPr>
              <a:xfrm>
                <a:off x="8026560" y="3645000"/>
                <a:ext cx="28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5" name=""/>
            <p:cNvGrpSpPr/>
            <p:nvPr/>
          </p:nvGrpSpPr>
          <p:grpSpPr>
            <a:xfrm>
              <a:off x="6659640" y="3645000"/>
              <a:ext cx="287280" cy="360"/>
              <a:chOff x="6659640" y="3645000"/>
              <a:chExt cx="287280" cy="360"/>
            </a:xfrm>
          </p:grpSpPr>
          <p:sp>
            <p:nvSpPr>
              <p:cNvPr id="2296" name="Line 20"/>
              <p:cNvSpPr/>
              <p:nvPr/>
            </p:nvSpPr>
            <p:spPr>
              <a:xfrm flipH="1">
                <a:off x="6659640" y="364500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 txBox="1"/>
              <p:nvPr/>
            </p:nvSpPr>
            <p:spPr>
              <a:xfrm>
                <a:off x="6659640" y="364500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8" name="Group 21"/>
          <p:cNvGrpSpPr/>
          <p:nvPr/>
        </p:nvGrpSpPr>
        <p:grpSpPr>
          <a:xfrm>
            <a:off x="6515280" y="4797000"/>
            <a:ext cx="792000" cy="217800"/>
            <a:chOff x="6515280" y="4797000"/>
            <a:chExt cx="792000" cy="217800"/>
          </a:xfrm>
        </p:grpSpPr>
        <p:grpSp>
          <p:nvGrpSpPr>
            <p:cNvPr id="2299" name=""/>
            <p:cNvGrpSpPr/>
            <p:nvPr/>
          </p:nvGrpSpPr>
          <p:grpSpPr>
            <a:xfrm>
              <a:off x="6875280" y="4797000"/>
              <a:ext cx="216000" cy="144360"/>
              <a:chOff x="6875280" y="4797000"/>
              <a:chExt cx="216000" cy="144360"/>
            </a:xfrm>
          </p:grpSpPr>
          <p:sp>
            <p:nvSpPr>
              <p:cNvPr id="2300" name="Line 22"/>
              <p:cNvSpPr/>
              <p:nvPr/>
            </p:nvSpPr>
            <p:spPr>
              <a:xfrm flipV="1">
                <a:off x="6875640" y="4797000"/>
                <a:ext cx="215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 txBox="1"/>
              <p:nvPr/>
            </p:nvSpPr>
            <p:spPr>
              <a:xfrm rot="10800000">
                <a:off x="6875280" y="4797000"/>
                <a:ext cx="21564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2" name="Group 23"/>
            <p:cNvGrpSpPr/>
            <p:nvPr/>
          </p:nvGrpSpPr>
          <p:grpSpPr>
            <a:xfrm>
              <a:off x="6515280" y="4941720"/>
              <a:ext cx="792000" cy="73080"/>
              <a:chOff x="6515280" y="4941720"/>
              <a:chExt cx="792000" cy="73080"/>
            </a:xfrm>
          </p:grpSpPr>
          <p:grpSp>
            <p:nvGrpSpPr>
              <p:cNvPr id="2303" name=""/>
              <p:cNvGrpSpPr/>
              <p:nvPr/>
            </p:nvGrpSpPr>
            <p:grpSpPr>
              <a:xfrm>
                <a:off x="6515280" y="5013000"/>
                <a:ext cx="288720" cy="360"/>
                <a:chOff x="6515280" y="5013000"/>
                <a:chExt cx="288720" cy="360"/>
              </a:xfrm>
            </p:grpSpPr>
            <p:sp>
              <p:nvSpPr>
                <p:cNvPr id="2304" name="Line 24"/>
                <p:cNvSpPr/>
                <p:nvPr/>
              </p:nvSpPr>
              <p:spPr>
                <a:xfrm flipH="1">
                  <a:off x="6515280" y="50130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 txBox="1"/>
                <p:nvPr/>
              </p:nvSpPr>
              <p:spPr>
                <a:xfrm>
                  <a:off x="6515280" y="5013000"/>
                  <a:ext cx="28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6" name="Oval 25"/>
              <p:cNvSpPr/>
              <p:nvPr/>
            </p:nvSpPr>
            <p:spPr>
              <a:xfrm>
                <a:off x="6802560" y="4941720"/>
                <a:ext cx="73080" cy="7308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7" name=""/>
              <p:cNvGrpSpPr/>
              <p:nvPr/>
            </p:nvGrpSpPr>
            <p:grpSpPr>
              <a:xfrm>
                <a:off x="7018560" y="5013000"/>
                <a:ext cx="288720" cy="360"/>
                <a:chOff x="7018560" y="5013000"/>
                <a:chExt cx="288720" cy="360"/>
              </a:xfrm>
            </p:grpSpPr>
            <p:sp>
              <p:nvSpPr>
                <p:cNvPr id="2308" name="Line 26"/>
                <p:cNvSpPr/>
                <p:nvPr/>
              </p:nvSpPr>
              <p:spPr>
                <a:xfrm flipH="1">
                  <a:off x="7018560" y="50130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 txBox="1"/>
                <p:nvPr/>
              </p:nvSpPr>
              <p:spPr>
                <a:xfrm>
                  <a:off x="7018560" y="5013000"/>
                  <a:ext cx="28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10" name=""/>
          <p:cNvGrpSpPr/>
          <p:nvPr/>
        </p:nvGrpSpPr>
        <p:grpSpPr>
          <a:xfrm>
            <a:off x="6225840" y="3644640"/>
            <a:ext cx="360" cy="1368360"/>
            <a:chOff x="6225840" y="3644640"/>
            <a:chExt cx="360" cy="1368360"/>
          </a:xfrm>
        </p:grpSpPr>
        <p:sp>
          <p:nvSpPr>
            <p:cNvPr id="2311" name="Line 27"/>
            <p:cNvSpPr/>
            <p:nvPr/>
          </p:nvSpPr>
          <p:spPr>
            <a:xfrm flipV="1">
              <a:off x="6226200" y="3644640"/>
              <a:ext cx="0" cy="1368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 txBox="1"/>
            <p:nvPr/>
          </p:nvSpPr>
          <p:spPr>
            <a:xfrm rot="10800000">
              <a:off x="6225840" y="3644640"/>
              <a:ext cx="36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6225840" y="3645000"/>
            <a:ext cx="432000" cy="360"/>
            <a:chOff x="6225840" y="3645000"/>
            <a:chExt cx="432000" cy="360"/>
          </a:xfrm>
        </p:grpSpPr>
        <p:sp>
          <p:nvSpPr>
            <p:cNvPr id="2314" name="Line 28"/>
            <p:cNvSpPr/>
            <p:nvPr/>
          </p:nvSpPr>
          <p:spPr>
            <a:xfrm flipH="1">
              <a:off x="6225840" y="364500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 txBox="1"/>
            <p:nvPr/>
          </p:nvSpPr>
          <p:spPr>
            <a:xfrm>
              <a:off x="6226200" y="3645000"/>
              <a:ext cx="43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6225840" y="5013360"/>
            <a:ext cx="360720" cy="360"/>
            <a:chOff x="6225840" y="5013360"/>
            <a:chExt cx="360720" cy="360"/>
          </a:xfrm>
        </p:grpSpPr>
        <p:sp>
          <p:nvSpPr>
            <p:cNvPr id="2317" name="Line 29"/>
            <p:cNvSpPr/>
            <p:nvPr/>
          </p:nvSpPr>
          <p:spPr>
            <a:xfrm flipH="1">
              <a:off x="6225840" y="501336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 txBox="1"/>
            <p:nvPr/>
          </p:nvSpPr>
          <p:spPr>
            <a:xfrm>
              <a:off x="6226200" y="501336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8241840" y="3645000"/>
            <a:ext cx="360720" cy="360"/>
            <a:chOff x="8241840" y="3645000"/>
            <a:chExt cx="360720" cy="360"/>
          </a:xfrm>
        </p:grpSpPr>
        <p:sp>
          <p:nvSpPr>
            <p:cNvPr id="2320" name="Line 30"/>
            <p:cNvSpPr/>
            <p:nvPr/>
          </p:nvSpPr>
          <p:spPr>
            <a:xfrm flipH="1">
              <a:off x="8241840" y="3645000"/>
              <a:ext cx="360360" cy="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8242200" y="3645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8099280" y="5013360"/>
            <a:ext cx="503280" cy="360"/>
            <a:chOff x="8099280" y="5013360"/>
            <a:chExt cx="503280" cy="360"/>
          </a:xfrm>
        </p:grpSpPr>
        <p:sp>
          <p:nvSpPr>
            <p:cNvPr id="2323" name="Line 31"/>
            <p:cNvSpPr/>
            <p:nvPr/>
          </p:nvSpPr>
          <p:spPr>
            <a:xfrm flipH="1">
              <a:off x="8099280" y="5013360"/>
              <a:ext cx="503280" cy="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 txBox="1"/>
            <p:nvPr/>
          </p:nvSpPr>
          <p:spPr>
            <a:xfrm>
              <a:off x="8099280" y="501336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7233840" y="5013360"/>
            <a:ext cx="289440" cy="360"/>
            <a:chOff x="7233840" y="5013360"/>
            <a:chExt cx="289440" cy="360"/>
          </a:xfrm>
        </p:grpSpPr>
        <p:sp>
          <p:nvSpPr>
            <p:cNvPr id="2326" name="Line 32"/>
            <p:cNvSpPr/>
            <p:nvPr/>
          </p:nvSpPr>
          <p:spPr>
            <a:xfrm flipH="1">
              <a:off x="7233840" y="5013360"/>
              <a:ext cx="289080" cy="0"/>
            </a:xfrm>
            <a:prstGeom prst="line">
              <a:avLst/>
            </a:prstGeom>
            <a:ln w="38160">
              <a:solidFill>
                <a:srgbClr val="e327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234200" y="501336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8" name="Freeform 33"/>
          <p:cNvSpPr/>
          <p:nvPr/>
        </p:nvSpPr>
        <p:spPr>
          <a:xfrm>
            <a:off x="395280" y="3933720"/>
            <a:ext cx="3560760" cy="1193760"/>
          </a:xfrm>
          <a:custGeom>
            <a:avLst/>
            <a:gdLst/>
            <a:ahLst/>
            <a:rect l="l" t="t" r="r" b="b"/>
            <a:pathLst>
              <a:path w="2243" h="752">
                <a:moveTo>
                  <a:pt x="2234" y="0"/>
                </a:moveTo>
                <a:cubicBezTo>
                  <a:pt x="2227" y="96"/>
                  <a:pt x="2243" y="101"/>
                  <a:pt x="2178" y="144"/>
                </a:cubicBezTo>
                <a:cubicBezTo>
                  <a:pt x="2173" y="152"/>
                  <a:pt x="2170" y="163"/>
                  <a:pt x="2162" y="168"/>
                </a:cubicBezTo>
                <a:cubicBezTo>
                  <a:pt x="2148" y="177"/>
                  <a:pt x="2130" y="179"/>
                  <a:pt x="2114" y="184"/>
                </a:cubicBezTo>
                <a:cubicBezTo>
                  <a:pt x="2088" y="193"/>
                  <a:pt x="2068" y="207"/>
                  <a:pt x="2042" y="216"/>
                </a:cubicBezTo>
                <a:cubicBezTo>
                  <a:pt x="1809" y="212"/>
                  <a:pt x="1629" y="200"/>
                  <a:pt x="1410" y="184"/>
                </a:cubicBezTo>
                <a:cubicBezTo>
                  <a:pt x="1159" y="187"/>
                  <a:pt x="909" y="187"/>
                  <a:pt x="658" y="192"/>
                </a:cubicBezTo>
                <a:cubicBezTo>
                  <a:pt x="579" y="194"/>
                  <a:pt x="490" y="229"/>
                  <a:pt x="410" y="240"/>
                </a:cubicBezTo>
                <a:cubicBezTo>
                  <a:pt x="394" y="245"/>
                  <a:pt x="376" y="247"/>
                  <a:pt x="362" y="256"/>
                </a:cubicBezTo>
                <a:cubicBezTo>
                  <a:pt x="346" y="267"/>
                  <a:pt x="332" y="282"/>
                  <a:pt x="314" y="288"/>
                </a:cubicBezTo>
                <a:cubicBezTo>
                  <a:pt x="268" y="303"/>
                  <a:pt x="225" y="319"/>
                  <a:pt x="178" y="328"/>
                </a:cubicBezTo>
                <a:cubicBezTo>
                  <a:pt x="123" y="365"/>
                  <a:pt x="148" y="354"/>
                  <a:pt x="106" y="368"/>
                </a:cubicBezTo>
                <a:cubicBezTo>
                  <a:pt x="89" y="393"/>
                  <a:pt x="62" y="404"/>
                  <a:pt x="50" y="432"/>
                </a:cubicBezTo>
                <a:cubicBezTo>
                  <a:pt x="43" y="447"/>
                  <a:pt x="34" y="480"/>
                  <a:pt x="34" y="480"/>
                </a:cubicBezTo>
                <a:cubicBezTo>
                  <a:pt x="45" y="702"/>
                  <a:pt x="0" y="612"/>
                  <a:pt x="90" y="672"/>
                </a:cubicBezTo>
                <a:cubicBezTo>
                  <a:pt x="137" y="743"/>
                  <a:pt x="123" y="733"/>
                  <a:pt x="218" y="744"/>
                </a:cubicBezTo>
                <a:cubicBezTo>
                  <a:pt x="226" y="747"/>
                  <a:pt x="242" y="752"/>
                  <a:pt x="242" y="75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Freeform 34"/>
          <p:cNvSpPr/>
          <p:nvPr/>
        </p:nvSpPr>
        <p:spPr>
          <a:xfrm>
            <a:off x="1763640" y="4941720"/>
            <a:ext cx="1359000" cy="328680"/>
          </a:xfrm>
          <a:custGeom>
            <a:avLst/>
            <a:gdLst/>
            <a:ahLst/>
            <a:rect l="l" t="t" r="r" b="b"/>
            <a:pathLst>
              <a:path w="856" h="207">
                <a:moveTo>
                  <a:pt x="856" y="0"/>
                </a:moveTo>
                <a:cubicBezTo>
                  <a:pt x="822" y="11"/>
                  <a:pt x="795" y="28"/>
                  <a:pt x="760" y="40"/>
                </a:cubicBezTo>
                <a:cubicBezTo>
                  <a:pt x="716" y="55"/>
                  <a:pt x="685" y="97"/>
                  <a:pt x="640" y="112"/>
                </a:cubicBezTo>
                <a:cubicBezTo>
                  <a:pt x="570" y="182"/>
                  <a:pt x="564" y="153"/>
                  <a:pt x="424" y="160"/>
                </a:cubicBezTo>
                <a:cubicBezTo>
                  <a:pt x="350" y="175"/>
                  <a:pt x="272" y="160"/>
                  <a:pt x="200" y="184"/>
                </a:cubicBezTo>
                <a:cubicBezTo>
                  <a:pt x="133" y="181"/>
                  <a:pt x="47" y="207"/>
                  <a:pt x="0" y="160"/>
                </a:cubicBezTo>
              </a:path>
            </a:pathLst>
          </a:custGeom>
          <a:noFill/>
          <a:ln w="38160">
            <a:solidFill>
              <a:srgbClr val="e327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Freeform 35"/>
          <p:cNvSpPr/>
          <p:nvPr/>
        </p:nvSpPr>
        <p:spPr>
          <a:xfrm>
            <a:off x="3949560" y="3835440"/>
            <a:ext cx="1887840" cy="1554120"/>
          </a:xfrm>
          <a:custGeom>
            <a:avLst/>
            <a:gdLst/>
            <a:ahLst/>
            <a:rect l="l" t="t" r="r" b="b"/>
            <a:pathLst>
              <a:path w="1189" h="979">
                <a:moveTo>
                  <a:pt x="960" y="968"/>
                </a:moveTo>
                <a:cubicBezTo>
                  <a:pt x="998" y="965"/>
                  <a:pt x="1045" y="979"/>
                  <a:pt x="1072" y="952"/>
                </a:cubicBezTo>
                <a:cubicBezTo>
                  <a:pt x="1104" y="920"/>
                  <a:pt x="1105" y="887"/>
                  <a:pt x="1136" y="856"/>
                </a:cubicBezTo>
                <a:cubicBezTo>
                  <a:pt x="1189" y="698"/>
                  <a:pt x="1181" y="543"/>
                  <a:pt x="1016" y="488"/>
                </a:cubicBezTo>
                <a:cubicBezTo>
                  <a:pt x="994" y="466"/>
                  <a:pt x="922" y="417"/>
                  <a:pt x="896" y="408"/>
                </a:cubicBezTo>
                <a:cubicBezTo>
                  <a:pt x="872" y="400"/>
                  <a:pt x="869" y="401"/>
                  <a:pt x="848" y="384"/>
                </a:cubicBezTo>
                <a:cubicBezTo>
                  <a:pt x="773" y="321"/>
                  <a:pt x="897" y="409"/>
                  <a:pt x="776" y="328"/>
                </a:cubicBezTo>
                <a:cubicBezTo>
                  <a:pt x="768" y="323"/>
                  <a:pt x="752" y="312"/>
                  <a:pt x="752" y="312"/>
                </a:cubicBezTo>
                <a:cubicBezTo>
                  <a:pt x="707" y="244"/>
                  <a:pt x="781" y="349"/>
                  <a:pt x="688" y="256"/>
                </a:cubicBezTo>
                <a:cubicBezTo>
                  <a:pt x="643" y="211"/>
                  <a:pt x="579" y="169"/>
                  <a:pt x="520" y="144"/>
                </a:cubicBezTo>
                <a:cubicBezTo>
                  <a:pt x="478" y="126"/>
                  <a:pt x="428" y="131"/>
                  <a:pt x="384" y="120"/>
                </a:cubicBezTo>
                <a:cubicBezTo>
                  <a:pt x="344" y="110"/>
                  <a:pt x="303" y="93"/>
                  <a:pt x="264" y="80"/>
                </a:cubicBezTo>
                <a:cubicBezTo>
                  <a:pt x="196" y="57"/>
                  <a:pt x="69" y="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9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496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是常用手电筒的剖面图，观察它的结构。按下按纽时，电路是怎样接通的？画出它的电路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2" name="Group 3"/>
          <p:cNvGrpSpPr/>
          <p:nvPr/>
        </p:nvGrpSpPr>
        <p:grpSpPr>
          <a:xfrm>
            <a:off x="7092720" y="4365720"/>
            <a:ext cx="576000" cy="503280"/>
            <a:chOff x="7092720" y="4365720"/>
            <a:chExt cx="576000" cy="503280"/>
          </a:xfrm>
        </p:grpSpPr>
        <p:grpSp>
          <p:nvGrpSpPr>
            <p:cNvPr id="2333" name=""/>
            <p:cNvGrpSpPr/>
            <p:nvPr/>
          </p:nvGrpSpPr>
          <p:grpSpPr>
            <a:xfrm>
              <a:off x="7453440" y="4437000"/>
              <a:ext cx="360" cy="360360"/>
              <a:chOff x="7453440" y="4437000"/>
              <a:chExt cx="360" cy="360360"/>
            </a:xfrm>
          </p:grpSpPr>
          <p:sp>
            <p:nvSpPr>
              <p:cNvPr id="2334" name="Line 4"/>
              <p:cNvSpPr/>
              <p:nvPr/>
            </p:nvSpPr>
            <p:spPr>
              <a:xfrm>
                <a:off x="7453440" y="443700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 txBox="1"/>
              <p:nvPr/>
            </p:nvSpPr>
            <p:spPr>
              <a:xfrm>
                <a:off x="7453440" y="4437000"/>
                <a:ext cx="36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6" name="Group 5"/>
            <p:cNvGrpSpPr/>
            <p:nvPr/>
          </p:nvGrpSpPr>
          <p:grpSpPr>
            <a:xfrm>
              <a:off x="7092720" y="4365720"/>
              <a:ext cx="576000" cy="503280"/>
              <a:chOff x="7092720" y="4365720"/>
              <a:chExt cx="576000" cy="503280"/>
            </a:xfrm>
          </p:grpSpPr>
          <p:grpSp>
            <p:nvGrpSpPr>
              <p:cNvPr id="2337" name=""/>
              <p:cNvGrpSpPr/>
              <p:nvPr/>
            </p:nvGrpSpPr>
            <p:grpSpPr>
              <a:xfrm>
                <a:off x="7308720" y="4365720"/>
                <a:ext cx="360" cy="503280"/>
                <a:chOff x="7308720" y="4365720"/>
                <a:chExt cx="360" cy="503280"/>
              </a:xfrm>
            </p:grpSpPr>
            <p:sp>
              <p:nvSpPr>
                <p:cNvPr id="2338" name="Line 6"/>
                <p:cNvSpPr/>
                <p:nvPr/>
              </p:nvSpPr>
              <p:spPr>
                <a:xfrm>
                  <a:off x="7308720" y="4365720"/>
                  <a:ext cx="0" cy="50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9" name=""/>
                <p:cNvSpPr txBox="1"/>
                <p:nvPr/>
              </p:nvSpPr>
              <p:spPr>
                <a:xfrm>
                  <a:off x="7308720" y="4365720"/>
                  <a:ext cx="36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0" name=""/>
              <p:cNvGrpSpPr/>
              <p:nvPr/>
            </p:nvGrpSpPr>
            <p:grpSpPr>
              <a:xfrm>
                <a:off x="7453080" y="4653000"/>
                <a:ext cx="215640" cy="360"/>
                <a:chOff x="7453080" y="4653000"/>
                <a:chExt cx="215640" cy="360"/>
              </a:xfrm>
            </p:grpSpPr>
            <p:sp>
              <p:nvSpPr>
                <p:cNvPr id="2341" name="Line 7"/>
                <p:cNvSpPr/>
                <p:nvPr/>
              </p:nvSpPr>
              <p:spPr>
                <a:xfrm>
                  <a:off x="7453080" y="4653000"/>
                  <a:ext cx="21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"/>
                <p:cNvSpPr txBox="1"/>
                <p:nvPr/>
              </p:nvSpPr>
              <p:spPr>
                <a:xfrm>
                  <a:off x="7453080" y="465300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3" name=""/>
              <p:cNvGrpSpPr/>
              <p:nvPr/>
            </p:nvGrpSpPr>
            <p:grpSpPr>
              <a:xfrm>
                <a:off x="7092720" y="4653000"/>
                <a:ext cx="216000" cy="360"/>
                <a:chOff x="7092720" y="4653000"/>
                <a:chExt cx="216000" cy="360"/>
              </a:xfrm>
            </p:grpSpPr>
            <p:sp>
              <p:nvSpPr>
                <p:cNvPr id="2344" name="Line 8"/>
                <p:cNvSpPr/>
                <p:nvPr/>
              </p:nvSpPr>
              <p:spPr>
                <a:xfrm flipH="1">
                  <a:off x="7092720" y="4653000"/>
                  <a:ext cx="21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 txBox="1"/>
                <p:nvPr/>
              </p:nvSpPr>
              <p:spPr>
                <a:xfrm>
                  <a:off x="7093080" y="465300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46" name="Group 9"/>
          <p:cNvGrpSpPr/>
          <p:nvPr/>
        </p:nvGrpSpPr>
        <p:grpSpPr>
          <a:xfrm>
            <a:off x="7020000" y="3357360"/>
            <a:ext cx="792000" cy="217800"/>
            <a:chOff x="7020000" y="3357360"/>
            <a:chExt cx="792000" cy="217800"/>
          </a:xfrm>
        </p:grpSpPr>
        <p:grpSp>
          <p:nvGrpSpPr>
            <p:cNvPr id="2347" name=""/>
            <p:cNvGrpSpPr/>
            <p:nvPr/>
          </p:nvGrpSpPr>
          <p:grpSpPr>
            <a:xfrm>
              <a:off x="7380000" y="3357360"/>
              <a:ext cx="216000" cy="144360"/>
              <a:chOff x="7380000" y="3357360"/>
              <a:chExt cx="216000" cy="144360"/>
            </a:xfrm>
          </p:grpSpPr>
          <p:sp>
            <p:nvSpPr>
              <p:cNvPr id="2348" name="Line 10"/>
              <p:cNvSpPr/>
              <p:nvPr/>
            </p:nvSpPr>
            <p:spPr>
              <a:xfrm flipV="1">
                <a:off x="7380360" y="3357360"/>
                <a:ext cx="215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 txBox="1"/>
              <p:nvPr/>
            </p:nvSpPr>
            <p:spPr>
              <a:xfrm rot="10800000">
                <a:off x="7380000" y="3357360"/>
                <a:ext cx="21564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0" name="Group 11"/>
            <p:cNvGrpSpPr/>
            <p:nvPr/>
          </p:nvGrpSpPr>
          <p:grpSpPr>
            <a:xfrm>
              <a:off x="7020000" y="3502080"/>
              <a:ext cx="792000" cy="73080"/>
              <a:chOff x="7020000" y="3502080"/>
              <a:chExt cx="792000" cy="73080"/>
            </a:xfrm>
          </p:grpSpPr>
          <p:grpSp>
            <p:nvGrpSpPr>
              <p:cNvPr id="2351" name=""/>
              <p:cNvGrpSpPr/>
              <p:nvPr/>
            </p:nvGrpSpPr>
            <p:grpSpPr>
              <a:xfrm>
                <a:off x="7020000" y="3573360"/>
                <a:ext cx="288720" cy="360"/>
                <a:chOff x="7020000" y="3573360"/>
                <a:chExt cx="288720" cy="360"/>
              </a:xfrm>
            </p:grpSpPr>
            <p:sp>
              <p:nvSpPr>
                <p:cNvPr id="2352" name="Line 12"/>
                <p:cNvSpPr/>
                <p:nvPr/>
              </p:nvSpPr>
              <p:spPr>
                <a:xfrm flipH="1">
                  <a:off x="7020000" y="35733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"/>
                <p:cNvSpPr txBox="1"/>
                <p:nvPr/>
              </p:nvSpPr>
              <p:spPr>
                <a:xfrm>
                  <a:off x="7020000" y="3573360"/>
                  <a:ext cx="28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4" name="Oval 13"/>
              <p:cNvSpPr/>
              <p:nvPr/>
            </p:nvSpPr>
            <p:spPr>
              <a:xfrm>
                <a:off x="7307280" y="3502080"/>
                <a:ext cx="73080" cy="7308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5" name=""/>
              <p:cNvGrpSpPr/>
              <p:nvPr/>
            </p:nvGrpSpPr>
            <p:grpSpPr>
              <a:xfrm>
                <a:off x="7523280" y="3573360"/>
                <a:ext cx="288720" cy="360"/>
                <a:chOff x="7523280" y="3573360"/>
                <a:chExt cx="288720" cy="360"/>
              </a:xfrm>
            </p:grpSpPr>
            <p:sp>
              <p:nvSpPr>
                <p:cNvPr id="2356" name="Line 14"/>
                <p:cNvSpPr/>
                <p:nvPr/>
              </p:nvSpPr>
              <p:spPr>
                <a:xfrm flipH="1">
                  <a:off x="7523280" y="35733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 txBox="1"/>
                <p:nvPr/>
              </p:nvSpPr>
              <p:spPr>
                <a:xfrm>
                  <a:off x="7523280" y="3573360"/>
                  <a:ext cx="28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58" name="Group 15"/>
          <p:cNvGrpSpPr/>
          <p:nvPr/>
        </p:nvGrpSpPr>
        <p:grpSpPr>
          <a:xfrm>
            <a:off x="6153120" y="3569760"/>
            <a:ext cx="504720" cy="1081080"/>
            <a:chOff x="6153120" y="3569760"/>
            <a:chExt cx="504720" cy="1081080"/>
          </a:xfrm>
        </p:grpSpPr>
        <p:grpSp>
          <p:nvGrpSpPr>
            <p:cNvPr id="2359" name="Group 16"/>
            <p:cNvGrpSpPr/>
            <p:nvPr/>
          </p:nvGrpSpPr>
          <p:grpSpPr>
            <a:xfrm>
              <a:off x="6153120" y="3569760"/>
              <a:ext cx="504720" cy="1081080"/>
              <a:chOff x="6153120" y="3569760"/>
              <a:chExt cx="504720" cy="1081080"/>
            </a:xfrm>
          </p:grpSpPr>
          <p:sp>
            <p:nvSpPr>
              <p:cNvPr id="2360" name="Oval 17"/>
              <p:cNvSpPr/>
              <p:nvPr/>
            </p:nvSpPr>
            <p:spPr>
              <a:xfrm rot="16200000">
                <a:off x="6153840" y="3857760"/>
                <a:ext cx="503280" cy="504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1" name=""/>
              <p:cNvGrpSpPr/>
              <p:nvPr/>
            </p:nvGrpSpPr>
            <p:grpSpPr>
              <a:xfrm>
                <a:off x="6225840" y="3930120"/>
                <a:ext cx="358920" cy="360720"/>
                <a:chOff x="6225840" y="3930120"/>
                <a:chExt cx="358920" cy="360720"/>
              </a:xfrm>
            </p:grpSpPr>
            <p:sp>
              <p:nvSpPr>
                <p:cNvPr id="2362" name="Line 18"/>
                <p:cNvSpPr/>
                <p:nvPr/>
              </p:nvSpPr>
              <p:spPr>
                <a:xfrm>
                  <a:off x="6225840" y="3930480"/>
                  <a:ext cx="35892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 txBox="1"/>
                <p:nvPr/>
              </p:nvSpPr>
              <p:spPr>
                <a:xfrm rot="16200000">
                  <a:off x="6225120" y="3930840"/>
                  <a:ext cx="360360" cy="3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4" name=""/>
              <p:cNvGrpSpPr/>
              <p:nvPr/>
            </p:nvGrpSpPr>
            <p:grpSpPr>
              <a:xfrm>
                <a:off x="6370560" y="4361760"/>
                <a:ext cx="360" cy="289080"/>
                <a:chOff x="6370560" y="4361760"/>
                <a:chExt cx="360" cy="289080"/>
              </a:xfrm>
            </p:grpSpPr>
            <p:sp>
              <p:nvSpPr>
                <p:cNvPr id="2365" name="Line 19"/>
                <p:cNvSpPr/>
                <p:nvPr/>
              </p:nvSpPr>
              <p:spPr>
                <a:xfrm flipV="1">
                  <a:off x="6370560" y="43617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"/>
                <p:cNvSpPr txBox="1"/>
                <p:nvPr/>
              </p:nvSpPr>
              <p:spPr>
                <a:xfrm rot="16200000">
                  <a:off x="6226200" y="4506120"/>
                  <a:ext cx="289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7" name=""/>
              <p:cNvGrpSpPr/>
              <p:nvPr/>
            </p:nvGrpSpPr>
            <p:grpSpPr>
              <a:xfrm>
                <a:off x="6370560" y="3569760"/>
                <a:ext cx="360" cy="288720"/>
                <a:chOff x="6370560" y="3569760"/>
                <a:chExt cx="360" cy="288720"/>
              </a:xfrm>
            </p:grpSpPr>
            <p:sp>
              <p:nvSpPr>
                <p:cNvPr id="2368" name="Line 20"/>
                <p:cNvSpPr/>
                <p:nvPr/>
              </p:nvSpPr>
              <p:spPr>
                <a:xfrm>
                  <a:off x="6370560" y="35697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 txBox="1"/>
                <p:nvPr/>
              </p:nvSpPr>
              <p:spPr>
                <a:xfrm rot="16200000">
                  <a:off x="6226200" y="3713760"/>
                  <a:ext cx="28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0" name=""/>
            <p:cNvGrpSpPr/>
            <p:nvPr/>
          </p:nvGrpSpPr>
          <p:grpSpPr>
            <a:xfrm>
              <a:off x="6225840" y="3930120"/>
              <a:ext cx="358920" cy="360360"/>
              <a:chOff x="6225840" y="3930120"/>
              <a:chExt cx="358920" cy="360360"/>
            </a:xfrm>
          </p:grpSpPr>
          <p:sp>
            <p:nvSpPr>
              <p:cNvPr id="2371" name="Line 21"/>
              <p:cNvSpPr/>
              <p:nvPr/>
            </p:nvSpPr>
            <p:spPr>
              <a:xfrm flipV="1">
                <a:off x="6225840" y="3930120"/>
                <a:ext cx="35892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 txBox="1"/>
              <p:nvPr/>
            </p:nvSpPr>
            <p:spPr>
              <a:xfrm rot="16200000">
                <a:off x="6225120" y="3930840"/>
                <a:ext cx="360360" cy="3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73" name="Picture 22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5040360" cy="3178440"/>
          </a:xfrm>
          <a:prstGeom prst="rect">
            <a:avLst/>
          </a:prstGeom>
          <a:ln w="0">
            <a:noFill/>
          </a:ln>
        </p:spPr>
      </p:pic>
      <p:grpSp>
        <p:nvGrpSpPr>
          <p:cNvPr id="2374" name=""/>
          <p:cNvGrpSpPr/>
          <p:nvPr/>
        </p:nvGrpSpPr>
        <p:grpSpPr>
          <a:xfrm>
            <a:off x="6372360" y="4653000"/>
            <a:ext cx="720720" cy="360"/>
            <a:chOff x="6372360" y="4653000"/>
            <a:chExt cx="720720" cy="360"/>
          </a:xfrm>
        </p:grpSpPr>
        <p:sp>
          <p:nvSpPr>
            <p:cNvPr id="2375" name="Line 23"/>
            <p:cNvSpPr/>
            <p:nvPr/>
          </p:nvSpPr>
          <p:spPr>
            <a:xfrm flipH="1">
              <a:off x="6372360" y="465300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 txBox="1"/>
            <p:nvPr/>
          </p:nvSpPr>
          <p:spPr>
            <a:xfrm>
              <a:off x="6372360" y="465300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6372000" y="3573360"/>
            <a:ext cx="648000" cy="360"/>
            <a:chOff x="6372000" y="3573360"/>
            <a:chExt cx="648000" cy="360"/>
          </a:xfrm>
        </p:grpSpPr>
        <p:sp>
          <p:nvSpPr>
            <p:cNvPr id="2378" name="Line 24"/>
            <p:cNvSpPr/>
            <p:nvPr/>
          </p:nvSpPr>
          <p:spPr>
            <a:xfrm flipH="1">
              <a:off x="6372000" y="3573360"/>
              <a:ext cx="647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 txBox="1"/>
            <p:nvPr/>
          </p:nvSpPr>
          <p:spPr>
            <a:xfrm>
              <a:off x="6372360" y="357336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7812000" y="3573360"/>
            <a:ext cx="505080" cy="360"/>
            <a:chOff x="7812000" y="3573360"/>
            <a:chExt cx="505080" cy="360"/>
          </a:xfrm>
        </p:grpSpPr>
        <p:sp>
          <p:nvSpPr>
            <p:cNvPr id="2381" name="Line 25"/>
            <p:cNvSpPr/>
            <p:nvPr/>
          </p:nvSpPr>
          <p:spPr>
            <a:xfrm>
              <a:off x="7812000" y="3573360"/>
              <a:ext cx="5050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 txBox="1"/>
            <p:nvPr/>
          </p:nvSpPr>
          <p:spPr>
            <a:xfrm>
              <a:off x="7812000" y="3573360"/>
              <a:ext cx="5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3" name=""/>
          <p:cNvGrpSpPr/>
          <p:nvPr/>
        </p:nvGrpSpPr>
        <p:grpSpPr>
          <a:xfrm>
            <a:off x="8317080" y="3573360"/>
            <a:ext cx="360" cy="1079640"/>
            <a:chOff x="8317080" y="3573360"/>
            <a:chExt cx="360" cy="1079640"/>
          </a:xfrm>
        </p:grpSpPr>
        <p:sp>
          <p:nvSpPr>
            <p:cNvPr id="2384" name="Line 26"/>
            <p:cNvSpPr/>
            <p:nvPr/>
          </p:nvSpPr>
          <p:spPr>
            <a:xfrm>
              <a:off x="8317080" y="3573360"/>
              <a:ext cx="0" cy="1079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 txBox="1"/>
            <p:nvPr/>
          </p:nvSpPr>
          <p:spPr>
            <a:xfrm>
              <a:off x="8317080" y="3573360"/>
              <a:ext cx="36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6" name=""/>
          <p:cNvGrpSpPr/>
          <p:nvPr/>
        </p:nvGrpSpPr>
        <p:grpSpPr>
          <a:xfrm>
            <a:off x="7667640" y="4653000"/>
            <a:ext cx="649440" cy="360"/>
            <a:chOff x="7667640" y="4653000"/>
            <a:chExt cx="649440" cy="360"/>
          </a:xfrm>
        </p:grpSpPr>
        <p:sp>
          <p:nvSpPr>
            <p:cNvPr id="2387" name="Line 27"/>
            <p:cNvSpPr/>
            <p:nvPr/>
          </p:nvSpPr>
          <p:spPr>
            <a:xfrm>
              <a:off x="7667640" y="4653000"/>
              <a:ext cx="6494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 txBox="1"/>
            <p:nvPr/>
          </p:nvSpPr>
          <p:spPr>
            <a:xfrm>
              <a:off x="7667640" y="4653000"/>
              <a:ext cx="64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8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流：电荷的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成了电流，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移动方向为电流方向，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移动方向与电流方向相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路中形成持续电流的条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电路是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路的基本组成部分（四个部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电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用电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开关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电路的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导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路可以分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路图：用规定的符号表示电路连接的图就是电路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WordArt 4"/>
          <p:cNvSpPr txBox="1"/>
          <p:nvPr/>
        </p:nvSpPr>
        <p:spPr>
          <a:xfrm rot="390000">
            <a:off x="1847880" y="-58320"/>
            <a:ext cx="46674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你学到了什么？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Text Box 2"/>
          <p:cNvSpPr/>
          <p:nvPr/>
        </p:nvSpPr>
        <p:spPr>
          <a:xfrm>
            <a:off x="152280" y="10666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下图所示各电路元件为电路提供电能的是            ，消耗 电能的是            。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2" name="Group 3"/>
          <p:cNvGrpSpPr/>
          <p:nvPr/>
        </p:nvGrpSpPr>
        <p:grpSpPr>
          <a:xfrm>
            <a:off x="1143000" y="2803680"/>
            <a:ext cx="2285640" cy="914040"/>
            <a:chOff x="1143000" y="2803680"/>
            <a:chExt cx="2285640" cy="914040"/>
          </a:xfrm>
        </p:grpSpPr>
        <p:sp>
          <p:nvSpPr>
            <p:cNvPr id="2393" name="AutoShape 4"/>
            <p:cNvSpPr/>
            <p:nvPr/>
          </p:nvSpPr>
          <p:spPr>
            <a:xfrm>
              <a:off x="1859400" y="2803680"/>
              <a:ext cx="863280" cy="9140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4" name=""/>
            <p:cNvGrpSpPr/>
            <p:nvPr/>
          </p:nvGrpSpPr>
          <p:grpSpPr>
            <a:xfrm>
              <a:off x="1143000" y="3241800"/>
              <a:ext cx="705960" cy="360"/>
              <a:chOff x="1143000" y="3241800"/>
              <a:chExt cx="705960" cy="360"/>
            </a:xfrm>
          </p:grpSpPr>
          <p:sp>
            <p:nvSpPr>
              <p:cNvPr id="2395" name="Line 5"/>
              <p:cNvSpPr/>
              <p:nvPr/>
            </p:nvSpPr>
            <p:spPr>
              <a:xfrm>
                <a:off x="1143000" y="3241800"/>
                <a:ext cx="70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 txBox="1"/>
              <p:nvPr/>
            </p:nvSpPr>
            <p:spPr>
              <a:xfrm>
                <a:off x="1143000" y="3241800"/>
                <a:ext cx="70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7" name=""/>
            <p:cNvGrpSpPr/>
            <p:nvPr/>
          </p:nvGrpSpPr>
          <p:grpSpPr>
            <a:xfrm>
              <a:off x="2722680" y="3241800"/>
              <a:ext cx="705960" cy="360"/>
              <a:chOff x="2722680" y="3241800"/>
              <a:chExt cx="705960" cy="360"/>
            </a:xfrm>
          </p:grpSpPr>
          <p:sp>
            <p:nvSpPr>
              <p:cNvPr id="2398" name="Line 6"/>
              <p:cNvSpPr/>
              <p:nvPr/>
            </p:nvSpPr>
            <p:spPr>
              <a:xfrm>
                <a:off x="2722680" y="3241800"/>
                <a:ext cx="70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 txBox="1"/>
              <p:nvPr/>
            </p:nvSpPr>
            <p:spPr>
              <a:xfrm>
                <a:off x="2722680" y="3241800"/>
                <a:ext cx="70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0" name="Group 14"/>
          <p:cNvGrpSpPr/>
          <p:nvPr/>
        </p:nvGrpSpPr>
        <p:grpSpPr>
          <a:xfrm>
            <a:off x="3886200" y="4556160"/>
            <a:ext cx="2437560" cy="913680"/>
            <a:chOff x="3886200" y="4556160"/>
            <a:chExt cx="2437560" cy="913680"/>
          </a:xfrm>
        </p:grpSpPr>
        <p:grpSp>
          <p:nvGrpSpPr>
            <p:cNvPr id="2401" name="Group 15"/>
            <p:cNvGrpSpPr/>
            <p:nvPr/>
          </p:nvGrpSpPr>
          <p:grpSpPr>
            <a:xfrm>
              <a:off x="4638960" y="4556160"/>
              <a:ext cx="914400" cy="913680"/>
              <a:chOff x="4638960" y="4556160"/>
              <a:chExt cx="914400" cy="913680"/>
            </a:xfrm>
          </p:grpSpPr>
          <p:sp>
            <p:nvSpPr>
              <p:cNvPr id="2402" name="Oval 16"/>
              <p:cNvSpPr/>
              <p:nvPr/>
            </p:nvSpPr>
            <p:spPr>
              <a:xfrm>
                <a:off x="4638960" y="4556160"/>
                <a:ext cx="906840" cy="91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Text Box 17"/>
              <p:cNvSpPr/>
              <p:nvPr/>
            </p:nvSpPr>
            <p:spPr>
              <a:xfrm>
                <a:off x="4647240" y="4610880"/>
                <a:ext cx="906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3886200" y="5040000"/>
              <a:ext cx="763920" cy="360"/>
              <a:chOff x="3886200" y="5040000"/>
              <a:chExt cx="763920" cy="360"/>
            </a:xfrm>
          </p:grpSpPr>
          <p:sp>
            <p:nvSpPr>
              <p:cNvPr id="2405" name="Line 18"/>
              <p:cNvSpPr/>
              <p:nvPr/>
            </p:nvSpPr>
            <p:spPr>
              <a:xfrm>
                <a:off x="3886200" y="5040000"/>
                <a:ext cx="76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 txBox="1"/>
              <p:nvPr/>
            </p:nvSpPr>
            <p:spPr>
              <a:xfrm>
                <a:off x="3886200" y="5040000"/>
                <a:ext cx="76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5559840" y="5040000"/>
              <a:ext cx="763920" cy="360"/>
              <a:chOff x="5559840" y="5040000"/>
              <a:chExt cx="763920" cy="360"/>
            </a:xfrm>
          </p:grpSpPr>
          <p:sp>
            <p:nvSpPr>
              <p:cNvPr id="2408" name="Line 19"/>
              <p:cNvSpPr/>
              <p:nvPr/>
            </p:nvSpPr>
            <p:spPr>
              <a:xfrm>
                <a:off x="5559840" y="5040000"/>
                <a:ext cx="76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 txBox="1"/>
              <p:nvPr/>
            </p:nvSpPr>
            <p:spPr>
              <a:xfrm>
                <a:off x="5559840" y="5040000"/>
                <a:ext cx="76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0" name="Group 20"/>
          <p:cNvGrpSpPr/>
          <p:nvPr/>
        </p:nvGrpSpPr>
        <p:grpSpPr>
          <a:xfrm>
            <a:off x="1219320" y="4629240"/>
            <a:ext cx="1980360" cy="1069200"/>
            <a:chOff x="1219320" y="4629240"/>
            <a:chExt cx="1980360" cy="1069200"/>
          </a:xfrm>
        </p:grpSpPr>
        <p:grpSp>
          <p:nvGrpSpPr>
            <p:cNvPr id="2411" name=""/>
            <p:cNvGrpSpPr/>
            <p:nvPr/>
          </p:nvGrpSpPr>
          <p:grpSpPr>
            <a:xfrm>
              <a:off x="2034000" y="4898520"/>
              <a:ext cx="360" cy="531360"/>
              <a:chOff x="2034000" y="4898520"/>
              <a:chExt cx="360" cy="531360"/>
            </a:xfrm>
          </p:grpSpPr>
          <p:sp>
            <p:nvSpPr>
              <p:cNvPr id="2412" name="Line 21"/>
              <p:cNvSpPr/>
              <p:nvPr/>
            </p:nvSpPr>
            <p:spPr>
              <a:xfrm>
                <a:off x="2034000" y="4898520"/>
                <a:ext cx="0" cy="53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 txBox="1"/>
              <p:nvPr/>
            </p:nvSpPr>
            <p:spPr>
              <a:xfrm>
                <a:off x="2034000" y="4898520"/>
                <a:ext cx="360" cy="53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4" name=""/>
            <p:cNvGrpSpPr/>
            <p:nvPr/>
          </p:nvGrpSpPr>
          <p:grpSpPr>
            <a:xfrm>
              <a:off x="2212560" y="4629240"/>
              <a:ext cx="360" cy="1069200"/>
              <a:chOff x="2212560" y="4629240"/>
              <a:chExt cx="360" cy="1069200"/>
            </a:xfrm>
          </p:grpSpPr>
          <p:sp>
            <p:nvSpPr>
              <p:cNvPr id="2415" name="Line 22"/>
              <p:cNvSpPr/>
              <p:nvPr/>
            </p:nvSpPr>
            <p:spPr>
              <a:xfrm>
                <a:off x="2212560" y="4629240"/>
                <a:ext cx="0" cy="106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 txBox="1"/>
              <p:nvPr/>
            </p:nvSpPr>
            <p:spPr>
              <a:xfrm>
                <a:off x="2212560" y="4629240"/>
                <a:ext cx="360" cy="106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7" name=""/>
            <p:cNvGrpSpPr/>
            <p:nvPr/>
          </p:nvGrpSpPr>
          <p:grpSpPr>
            <a:xfrm>
              <a:off x="1219320" y="5163840"/>
              <a:ext cx="814680" cy="360"/>
              <a:chOff x="1219320" y="5163840"/>
              <a:chExt cx="814680" cy="360"/>
            </a:xfrm>
          </p:grpSpPr>
          <p:sp>
            <p:nvSpPr>
              <p:cNvPr id="2418" name="Line 23"/>
              <p:cNvSpPr/>
              <p:nvPr/>
            </p:nvSpPr>
            <p:spPr>
              <a:xfrm>
                <a:off x="1219320" y="5163840"/>
                <a:ext cx="8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 txBox="1"/>
              <p:nvPr/>
            </p:nvSpPr>
            <p:spPr>
              <a:xfrm>
                <a:off x="1219320" y="5163840"/>
                <a:ext cx="814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0" name=""/>
            <p:cNvGrpSpPr/>
            <p:nvPr/>
          </p:nvGrpSpPr>
          <p:grpSpPr>
            <a:xfrm>
              <a:off x="2220840" y="5148720"/>
              <a:ext cx="978840" cy="360"/>
              <a:chOff x="2220840" y="5148720"/>
              <a:chExt cx="978840" cy="360"/>
            </a:xfrm>
          </p:grpSpPr>
          <p:sp>
            <p:nvSpPr>
              <p:cNvPr id="2421" name="Line 24"/>
              <p:cNvSpPr/>
              <p:nvPr/>
            </p:nvSpPr>
            <p:spPr>
              <a:xfrm>
                <a:off x="2220840" y="5148720"/>
                <a:ext cx="97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 txBox="1"/>
              <p:nvPr/>
            </p:nvSpPr>
            <p:spPr>
              <a:xfrm>
                <a:off x="2220840" y="5148720"/>
                <a:ext cx="9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3" name="Text Box 25"/>
          <p:cNvSpPr/>
          <p:nvPr/>
        </p:nvSpPr>
        <p:spPr>
          <a:xfrm>
            <a:off x="1905120" y="37940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1905120" y="2286000"/>
            <a:ext cx="1447560" cy="360"/>
            <a:chOff x="1905120" y="2286000"/>
            <a:chExt cx="1447560" cy="360"/>
          </a:xfrm>
        </p:grpSpPr>
        <p:sp>
          <p:nvSpPr>
            <p:cNvPr id="2425" name="Line 26"/>
            <p:cNvSpPr/>
            <p:nvPr/>
          </p:nvSpPr>
          <p:spPr>
            <a:xfrm>
              <a:off x="1905120" y="22860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 txBox="1"/>
            <p:nvPr/>
          </p:nvSpPr>
          <p:spPr>
            <a:xfrm>
              <a:off x="1905120" y="2286000"/>
              <a:ext cx="1447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7010280" y="2286000"/>
            <a:ext cx="1371600" cy="360"/>
            <a:chOff x="7010280" y="2286000"/>
            <a:chExt cx="1371600" cy="360"/>
          </a:xfrm>
        </p:grpSpPr>
        <p:sp>
          <p:nvSpPr>
            <p:cNvPr id="2428" name="Line 27"/>
            <p:cNvSpPr/>
            <p:nvPr/>
          </p:nvSpPr>
          <p:spPr>
            <a:xfrm>
              <a:off x="7010280" y="22860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 txBox="1"/>
            <p:nvPr/>
          </p:nvSpPr>
          <p:spPr>
            <a:xfrm>
              <a:off x="7010280" y="22860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0" name="Text Box 28"/>
          <p:cNvSpPr/>
          <p:nvPr/>
        </p:nvSpPr>
        <p:spPr>
          <a:xfrm>
            <a:off x="4643280" y="37162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29"/>
          <p:cNvSpPr/>
          <p:nvPr/>
        </p:nvSpPr>
        <p:spPr>
          <a:xfrm>
            <a:off x="1752480" y="5775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Text Box 30"/>
          <p:cNvSpPr/>
          <p:nvPr/>
        </p:nvSpPr>
        <p:spPr>
          <a:xfrm>
            <a:off x="4724280" y="58514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 Box 31"/>
          <p:cNvSpPr/>
          <p:nvPr/>
        </p:nvSpPr>
        <p:spPr>
          <a:xfrm>
            <a:off x="2268360" y="1523880"/>
            <a:ext cx="77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 Box 32"/>
          <p:cNvSpPr/>
          <p:nvPr/>
        </p:nvSpPr>
        <p:spPr>
          <a:xfrm>
            <a:off x="6553080" y="1773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Text Box 33"/>
          <p:cNvSpPr/>
          <p:nvPr/>
        </p:nvSpPr>
        <p:spPr>
          <a:xfrm>
            <a:off x="1763640" y="33336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当堂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6" name="Picture 41" descr="11"/>
          <p:cNvPicPr/>
          <p:nvPr/>
        </p:nvPicPr>
        <p:blipFill>
          <a:blip r:embed="rId1"/>
          <a:stretch/>
        </p:blipFill>
        <p:spPr>
          <a:xfrm>
            <a:off x="4572000" y="3068640"/>
            <a:ext cx="7905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Text Box 2"/>
          <p:cNvSpPr/>
          <p:nvPr/>
        </p:nvSpPr>
        <p:spPr>
          <a:xfrm>
            <a:off x="304920" y="380880"/>
            <a:ext cx="9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、下面正确的电路图是（       ）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2174760" y="990720"/>
            <a:ext cx="360" cy="947520"/>
            <a:chOff x="2174760" y="990720"/>
            <a:chExt cx="360" cy="947520"/>
          </a:xfrm>
        </p:grpSpPr>
        <p:sp>
          <p:nvSpPr>
            <p:cNvPr id="2439" name="Line 7"/>
            <p:cNvSpPr/>
            <p:nvPr/>
          </p:nvSpPr>
          <p:spPr>
            <a:xfrm>
              <a:off x="2174760" y="990720"/>
              <a:ext cx="0" cy="947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 txBox="1"/>
            <p:nvPr/>
          </p:nvSpPr>
          <p:spPr>
            <a:xfrm>
              <a:off x="2174760" y="990720"/>
              <a:ext cx="360" cy="94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1" name="Group 18"/>
          <p:cNvGrpSpPr/>
          <p:nvPr/>
        </p:nvGrpSpPr>
        <p:grpSpPr>
          <a:xfrm>
            <a:off x="5029200" y="1219320"/>
            <a:ext cx="2361600" cy="845640"/>
            <a:chOff x="5029200" y="1219320"/>
            <a:chExt cx="2361600" cy="845640"/>
          </a:xfrm>
        </p:grpSpPr>
        <p:grpSp>
          <p:nvGrpSpPr>
            <p:cNvPr id="2442" name=""/>
            <p:cNvGrpSpPr/>
            <p:nvPr/>
          </p:nvGrpSpPr>
          <p:grpSpPr>
            <a:xfrm>
              <a:off x="6000840" y="1432080"/>
              <a:ext cx="360" cy="420120"/>
              <a:chOff x="6000840" y="1432080"/>
              <a:chExt cx="360" cy="420120"/>
            </a:xfrm>
          </p:grpSpPr>
          <p:sp>
            <p:nvSpPr>
              <p:cNvPr id="2443" name="Line 19"/>
              <p:cNvSpPr/>
              <p:nvPr/>
            </p:nvSpPr>
            <p:spPr>
              <a:xfrm>
                <a:off x="6000840" y="1432080"/>
                <a:ext cx="0" cy="42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 txBox="1"/>
              <p:nvPr/>
            </p:nvSpPr>
            <p:spPr>
              <a:xfrm>
                <a:off x="6000840" y="1432080"/>
                <a:ext cx="360" cy="42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5" name=""/>
            <p:cNvGrpSpPr/>
            <p:nvPr/>
          </p:nvGrpSpPr>
          <p:grpSpPr>
            <a:xfrm>
              <a:off x="6213600" y="1219320"/>
              <a:ext cx="360" cy="845640"/>
              <a:chOff x="6213600" y="1219320"/>
              <a:chExt cx="360" cy="845640"/>
            </a:xfrm>
          </p:grpSpPr>
          <p:sp>
            <p:nvSpPr>
              <p:cNvPr id="2446" name="Line 20"/>
              <p:cNvSpPr/>
              <p:nvPr/>
            </p:nvSpPr>
            <p:spPr>
              <a:xfrm>
                <a:off x="6213600" y="1219320"/>
                <a:ext cx="0" cy="84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 txBox="1"/>
              <p:nvPr/>
            </p:nvSpPr>
            <p:spPr>
              <a:xfrm>
                <a:off x="6213600" y="1219320"/>
                <a:ext cx="360" cy="84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8" name=""/>
            <p:cNvGrpSpPr/>
            <p:nvPr/>
          </p:nvGrpSpPr>
          <p:grpSpPr>
            <a:xfrm>
              <a:off x="5029200" y="1641960"/>
              <a:ext cx="971640" cy="360"/>
              <a:chOff x="5029200" y="1641960"/>
              <a:chExt cx="971640" cy="360"/>
            </a:xfrm>
          </p:grpSpPr>
          <p:sp>
            <p:nvSpPr>
              <p:cNvPr id="2449" name="Line 21"/>
              <p:cNvSpPr/>
              <p:nvPr/>
            </p:nvSpPr>
            <p:spPr>
              <a:xfrm>
                <a:off x="5029200" y="164196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 txBox="1"/>
              <p:nvPr/>
            </p:nvSpPr>
            <p:spPr>
              <a:xfrm>
                <a:off x="5029200" y="1641960"/>
                <a:ext cx="97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1" name=""/>
            <p:cNvGrpSpPr/>
            <p:nvPr/>
          </p:nvGrpSpPr>
          <p:grpSpPr>
            <a:xfrm>
              <a:off x="6223320" y="1630080"/>
              <a:ext cx="1167480" cy="360"/>
              <a:chOff x="6223320" y="1630080"/>
              <a:chExt cx="1167480" cy="360"/>
            </a:xfrm>
          </p:grpSpPr>
          <p:sp>
            <p:nvSpPr>
              <p:cNvPr id="2452" name="Line 22"/>
              <p:cNvSpPr/>
              <p:nvPr/>
            </p:nvSpPr>
            <p:spPr>
              <a:xfrm>
                <a:off x="6223320" y="1630080"/>
                <a:ext cx="11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 txBox="1"/>
              <p:nvPr/>
            </p:nvSpPr>
            <p:spPr>
              <a:xfrm>
                <a:off x="6223320" y="1630080"/>
                <a:ext cx="1167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4" name="Group 38"/>
          <p:cNvGrpSpPr/>
          <p:nvPr/>
        </p:nvGrpSpPr>
        <p:grpSpPr>
          <a:xfrm>
            <a:off x="4876920" y="3809880"/>
            <a:ext cx="2514240" cy="2056320"/>
            <a:chOff x="4876920" y="3809880"/>
            <a:chExt cx="2514240" cy="2056320"/>
          </a:xfrm>
        </p:grpSpPr>
        <p:grpSp>
          <p:nvGrpSpPr>
            <p:cNvPr id="2455" name=""/>
            <p:cNvGrpSpPr/>
            <p:nvPr/>
          </p:nvGrpSpPr>
          <p:grpSpPr>
            <a:xfrm>
              <a:off x="4876920" y="4091400"/>
              <a:ext cx="1075320" cy="360"/>
              <a:chOff x="4876920" y="4091400"/>
              <a:chExt cx="1075320" cy="360"/>
            </a:xfrm>
          </p:grpSpPr>
          <p:sp>
            <p:nvSpPr>
              <p:cNvPr id="2456" name="Line 39"/>
              <p:cNvSpPr/>
              <p:nvPr/>
            </p:nvSpPr>
            <p:spPr>
              <a:xfrm>
                <a:off x="4876920" y="4091400"/>
                <a:ext cx="10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 txBox="1"/>
              <p:nvPr/>
            </p:nvSpPr>
            <p:spPr>
              <a:xfrm>
                <a:off x="4876920" y="4091400"/>
                <a:ext cx="1075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8" name=""/>
            <p:cNvGrpSpPr/>
            <p:nvPr/>
          </p:nvGrpSpPr>
          <p:grpSpPr>
            <a:xfrm>
              <a:off x="5884200" y="4091400"/>
              <a:ext cx="1492560" cy="360"/>
              <a:chOff x="5884200" y="4091400"/>
              <a:chExt cx="1492560" cy="360"/>
            </a:xfrm>
          </p:grpSpPr>
          <p:sp>
            <p:nvSpPr>
              <p:cNvPr id="2459" name="Line 40"/>
              <p:cNvSpPr/>
              <p:nvPr/>
            </p:nvSpPr>
            <p:spPr>
              <a:xfrm>
                <a:off x="5884200" y="4091400"/>
                <a:ext cx="149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 txBox="1"/>
              <p:nvPr/>
            </p:nvSpPr>
            <p:spPr>
              <a:xfrm>
                <a:off x="5884200" y="4091400"/>
                <a:ext cx="149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1" name="Group 41"/>
            <p:cNvGrpSpPr/>
            <p:nvPr/>
          </p:nvGrpSpPr>
          <p:grpSpPr>
            <a:xfrm>
              <a:off x="4907160" y="5279040"/>
              <a:ext cx="1287720" cy="587160"/>
              <a:chOff x="4907160" y="5279040"/>
              <a:chExt cx="1287720" cy="587160"/>
            </a:xfrm>
          </p:grpSpPr>
          <p:sp>
            <p:nvSpPr>
              <p:cNvPr id="2462" name="AutoShape 42"/>
              <p:cNvSpPr/>
              <p:nvPr/>
            </p:nvSpPr>
            <p:spPr>
              <a:xfrm>
                <a:off x="5310720" y="5279040"/>
                <a:ext cx="486360" cy="587160"/>
              </a:xfrm>
              <a:prstGeom prst="flowChartSummingJunct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3" name=""/>
              <p:cNvGrpSpPr/>
              <p:nvPr/>
            </p:nvGrpSpPr>
            <p:grpSpPr>
              <a:xfrm>
                <a:off x="4907160" y="5560560"/>
                <a:ext cx="397800" cy="360"/>
                <a:chOff x="4907160" y="5560560"/>
                <a:chExt cx="397800" cy="360"/>
              </a:xfrm>
            </p:grpSpPr>
            <p:sp>
              <p:nvSpPr>
                <p:cNvPr id="2464" name="Line 43"/>
                <p:cNvSpPr/>
                <p:nvPr/>
              </p:nvSpPr>
              <p:spPr>
                <a:xfrm>
                  <a:off x="4907160" y="5560560"/>
                  <a:ext cx="39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 txBox="1"/>
                <p:nvPr/>
              </p:nvSpPr>
              <p:spPr>
                <a:xfrm>
                  <a:off x="4907160" y="5560560"/>
                  <a:ext cx="397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5797080" y="5560560"/>
                <a:ext cx="397800" cy="360"/>
                <a:chOff x="5797080" y="5560560"/>
                <a:chExt cx="397800" cy="360"/>
              </a:xfrm>
            </p:grpSpPr>
            <p:sp>
              <p:nvSpPr>
                <p:cNvPr id="2467" name="Line 44"/>
                <p:cNvSpPr/>
                <p:nvPr/>
              </p:nvSpPr>
              <p:spPr>
                <a:xfrm>
                  <a:off x="5797080" y="5560560"/>
                  <a:ext cx="39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 txBox="1"/>
                <p:nvPr/>
              </p:nvSpPr>
              <p:spPr>
                <a:xfrm>
                  <a:off x="5797080" y="5560560"/>
                  <a:ext cx="397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9" name="Group 45"/>
            <p:cNvGrpSpPr/>
            <p:nvPr/>
          </p:nvGrpSpPr>
          <p:grpSpPr>
            <a:xfrm>
              <a:off x="6075360" y="5262840"/>
              <a:ext cx="1315800" cy="338400"/>
              <a:chOff x="6075360" y="5262840"/>
              <a:chExt cx="1315800" cy="338400"/>
            </a:xfrm>
          </p:grpSpPr>
          <p:grpSp>
            <p:nvGrpSpPr>
              <p:cNvPr id="2470" name=""/>
              <p:cNvGrpSpPr/>
              <p:nvPr/>
            </p:nvGrpSpPr>
            <p:grpSpPr>
              <a:xfrm>
                <a:off x="6075360" y="5558400"/>
                <a:ext cx="563040" cy="360"/>
                <a:chOff x="6075360" y="5558400"/>
                <a:chExt cx="563040" cy="360"/>
              </a:xfrm>
            </p:grpSpPr>
            <p:sp>
              <p:nvSpPr>
                <p:cNvPr id="2471" name="Line 46"/>
                <p:cNvSpPr/>
                <p:nvPr/>
              </p:nvSpPr>
              <p:spPr>
                <a:xfrm>
                  <a:off x="6075360" y="5558400"/>
                  <a:ext cx="56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"/>
                <p:cNvSpPr txBox="1"/>
                <p:nvPr/>
              </p:nvSpPr>
              <p:spPr>
                <a:xfrm>
                  <a:off x="6075360" y="5558400"/>
                  <a:ext cx="563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3" name="Oval 47"/>
              <p:cNvSpPr/>
              <p:nvPr/>
            </p:nvSpPr>
            <p:spPr>
              <a:xfrm>
                <a:off x="6607800" y="5478840"/>
                <a:ext cx="79560" cy="122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4" name=""/>
              <p:cNvGrpSpPr/>
              <p:nvPr/>
            </p:nvGrpSpPr>
            <p:grpSpPr>
              <a:xfrm>
                <a:off x="6623640" y="5262840"/>
                <a:ext cx="230400" cy="230040"/>
                <a:chOff x="6623640" y="5262840"/>
                <a:chExt cx="230400" cy="230040"/>
              </a:xfrm>
            </p:grpSpPr>
            <p:sp>
              <p:nvSpPr>
                <p:cNvPr id="2475" name="Line 48"/>
                <p:cNvSpPr/>
                <p:nvPr/>
              </p:nvSpPr>
              <p:spPr>
                <a:xfrm flipH="1">
                  <a:off x="6623640" y="5262840"/>
                  <a:ext cx="230040" cy="230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 txBox="1"/>
                <p:nvPr/>
              </p:nvSpPr>
              <p:spPr>
                <a:xfrm>
                  <a:off x="6624000" y="5262840"/>
                  <a:ext cx="230040" cy="23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7" name=""/>
              <p:cNvGrpSpPr/>
              <p:nvPr/>
            </p:nvGrpSpPr>
            <p:grpSpPr>
              <a:xfrm>
                <a:off x="6900480" y="5507280"/>
                <a:ext cx="490680" cy="360"/>
                <a:chOff x="6900480" y="5507280"/>
                <a:chExt cx="490680" cy="360"/>
              </a:xfrm>
            </p:grpSpPr>
            <p:sp>
              <p:nvSpPr>
                <p:cNvPr id="2478" name="Line 49"/>
                <p:cNvSpPr/>
                <p:nvPr/>
              </p:nvSpPr>
              <p:spPr>
                <a:xfrm>
                  <a:off x="6900480" y="5507280"/>
                  <a:ext cx="490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 txBox="1"/>
                <p:nvPr/>
              </p:nvSpPr>
              <p:spPr>
                <a:xfrm>
                  <a:off x="6900480" y="5507280"/>
                  <a:ext cx="490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0" name=""/>
            <p:cNvGrpSpPr/>
            <p:nvPr/>
          </p:nvGrpSpPr>
          <p:grpSpPr>
            <a:xfrm>
              <a:off x="4902840" y="4101840"/>
              <a:ext cx="360" cy="1487880"/>
              <a:chOff x="4902840" y="4101840"/>
              <a:chExt cx="360" cy="1487880"/>
            </a:xfrm>
          </p:grpSpPr>
          <p:sp>
            <p:nvSpPr>
              <p:cNvPr id="2481" name="Line 50"/>
              <p:cNvSpPr/>
              <p:nvPr/>
            </p:nvSpPr>
            <p:spPr>
              <a:xfrm>
                <a:off x="4902840" y="4101840"/>
                <a:ext cx="0" cy="148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 txBox="1"/>
              <p:nvPr/>
            </p:nvSpPr>
            <p:spPr>
              <a:xfrm>
                <a:off x="4902840" y="4101840"/>
                <a:ext cx="360" cy="1487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3" name=""/>
            <p:cNvGrpSpPr/>
            <p:nvPr/>
          </p:nvGrpSpPr>
          <p:grpSpPr>
            <a:xfrm>
              <a:off x="7366680" y="4038480"/>
              <a:ext cx="360" cy="1469160"/>
              <a:chOff x="7366680" y="4038480"/>
              <a:chExt cx="360" cy="1469160"/>
            </a:xfrm>
          </p:grpSpPr>
          <p:sp>
            <p:nvSpPr>
              <p:cNvPr id="2484" name="Line 51"/>
              <p:cNvSpPr/>
              <p:nvPr/>
            </p:nvSpPr>
            <p:spPr>
              <a:xfrm>
                <a:off x="7366680" y="4038480"/>
                <a:ext cx="0" cy="146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 txBox="1"/>
              <p:nvPr/>
            </p:nvSpPr>
            <p:spPr>
              <a:xfrm>
                <a:off x="7366680" y="4038480"/>
                <a:ext cx="360" cy="146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6" name="AutoShape 52"/>
            <p:cNvSpPr/>
            <p:nvPr/>
          </p:nvSpPr>
          <p:spPr>
            <a:xfrm>
              <a:off x="6018840" y="3809880"/>
              <a:ext cx="419760" cy="58752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7" name="Text Box 53"/>
          <p:cNvSpPr/>
          <p:nvPr/>
        </p:nvSpPr>
        <p:spPr>
          <a:xfrm>
            <a:off x="57913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Text Box 54"/>
          <p:cNvSpPr/>
          <p:nvPr/>
        </p:nvSpPr>
        <p:spPr>
          <a:xfrm>
            <a:off x="5867280" y="3276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Text Box 55"/>
          <p:cNvSpPr/>
          <p:nvPr/>
        </p:nvSpPr>
        <p:spPr>
          <a:xfrm>
            <a:off x="167652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0" name=""/>
          <p:cNvGrpSpPr/>
          <p:nvPr/>
        </p:nvGrpSpPr>
        <p:grpSpPr>
          <a:xfrm>
            <a:off x="2174760" y="3733920"/>
            <a:ext cx="360" cy="839520"/>
            <a:chOff x="2174760" y="3733920"/>
            <a:chExt cx="360" cy="839520"/>
          </a:xfrm>
        </p:grpSpPr>
        <p:sp>
          <p:nvSpPr>
            <p:cNvPr id="2491" name="Line 58"/>
            <p:cNvSpPr/>
            <p:nvPr/>
          </p:nvSpPr>
          <p:spPr>
            <a:xfrm>
              <a:off x="2174760" y="3733920"/>
              <a:ext cx="0" cy="839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 txBox="1"/>
            <p:nvPr/>
          </p:nvSpPr>
          <p:spPr>
            <a:xfrm>
              <a:off x="2174760" y="3733920"/>
              <a:ext cx="36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3" name="Group 82"/>
          <p:cNvGrpSpPr/>
          <p:nvPr/>
        </p:nvGrpSpPr>
        <p:grpSpPr>
          <a:xfrm>
            <a:off x="762120" y="3944880"/>
            <a:ext cx="2819160" cy="2170080"/>
            <a:chOff x="762120" y="3944880"/>
            <a:chExt cx="2819160" cy="2170080"/>
          </a:xfrm>
        </p:grpSpPr>
        <p:grpSp>
          <p:nvGrpSpPr>
            <p:cNvPr id="2494" name=""/>
            <p:cNvGrpSpPr/>
            <p:nvPr/>
          </p:nvGrpSpPr>
          <p:grpSpPr>
            <a:xfrm>
              <a:off x="1920960" y="3944880"/>
              <a:ext cx="360" cy="417600"/>
              <a:chOff x="1920960" y="3944880"/>
              <a:chExt cx="360" cy="417600"/>
            </a:xfrm>
          </p:grpSpPr>
          <p:sp>
            <p:nvSpPr>
              <p:cNvPr id="2495" name="Line 57"/>
              <p:cNvSpPr/>
              <p:nvPr/>
            </p:nvSpPr>
            <p:spPr>
              <a:xfrm>
                <a:off x="1920960" y="394488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 txBox="1"/>
              <p:nvPr/>
            </p:nvSpPr>
            <p:spPr>
              <a:xfrm>
                <a:off x="1920960" y="3944880"/>
                <a:ext cx="360" cy="41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7" name=""/>
            <p:cNvGrpSpPr/>
            <p:nvPr/>
          </p:nvGrpSpPr>
          <p:grpSpPr>
            <a:xfrm>
              <a:off x="762120" y="4152960"/>
              <a:ext cx="1158840" cy="360"/>
              <a:chOff x="762120" y="4152960"/>
              <a:chExt cx="1158840" cy="360"/>
            </a:xfrm>
          </p:grpSpPr>
          <p:sp>
            <p:nvSpPr>
              <p:cNvPr id="2498" name="Line 59"/>
              <p:cNvSpPr/>
              <p:nvPr/>
            </p:nvSpPr>
            <p:spPr>
              <a:xfrm>
                <a:off x="762120" y="4152960"/>
                <a:ext cx="11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 txBox="1"/>
              <p:nvPr/>
            </p:nvSpPr>
            <p:spPr>
              <a:xfrm>
                <a:off x="762120" y="4152960"/>
                <a:ext cx="115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2187720" y="4141800"/>
              <a:ext cx="1393560" cy="360"/>
              <a:chOff x="2187720" y="4141800"/>
              <a:chExt cx="1393560" cy="360"/>
            </a:xfrm>
          </p:grpSpPr>
          <p:sp>
            <p:nvSpPr>
              <p:cNvPr id="2501" name="Line 60"/>
              <p:cNvSpPr/>
              <p:nvPr/>
            </p:nvSpPr>
            <p:spPr>
              <a:xfrm>
                <a:off x="2187720" y="4141800"/>
                <a:ext cx="139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 txBox="1"/>
              <p:nvPr/>
            </p:nvSpPr>
            <p:spPr>
              <a:xfrm>
                <a:off x="2187720" y="4141800"/>
                <a:ext cx="139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3" name="Group 61"/>
            <p:cNvGrpSpPr/>
            <p:nvPr/>
          </p:nvGrpSpPr>
          <p:grpSpPr>
            <a:xfrm>
              <a:off x="762120" y="5268960"/>
              <a:ext cx="899640" cy="331560"/>
              <a:chOff x="762120" y="5268960"/>
              <a:chExt cx="899640" cy="331560"/>
            </a:xfrm>
          </p:grpSpPr>
          <p:grpSp>
            <p:nvGrpSpPr>
              <p:cNvPr id="2504" name=""/>
              <p:cNvGrpSpPr/>
              <p:nvPr/>
            </p:nvGrpSpPr>
            <p:grpSpPr>
              <a:xfrm>
                <a:off x="762120" y="5534280"/>
                <a:ext cx="712440" cy="360"/>
                <a:chOff x="762120" y="5534280"/>
                <a:chExt cx="712440" cy="360"/>
              </a:xfrm>
            </p:grpSpPr>
            <p:sp>
              <p:nvSpPr>
                <p:cNvPr id="2505" name="Line 62"/>
                <p:cNvSpPr/>
                <p:nvPr/>
              </p:nvSpPr>
              <p:spPr>
                <a:xfrm>
                  <a:off x="762120" y="5534280"/>
                  <a:ext cx="71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"/>
                <p:cNvSpPr txBox="1"/>
                <p:nvPr/>
              </p:nvSpPr>
              <p:spPr>
                <a:xfrm>
                  <a:off x="762120" y="5534280"/>
                  <a:ext cx="712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7" name="Oval 63"/>
              <p:cNvSpPr/>
              <p:nvPr/>
            </p:nvSpPr>
            <p:spPr>
              <a:xfrm>
                <a:off x="1436400" y="5409720"/>
                <a:ext cx="100440" cy="190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8" name=""/>
              <p:cNvGrpSpPr/>
              <p:nvPr/>
            </p:nvGrpSpPr>
            <p:grpSpPr>
              <a:xfrm>
                <a:off x="1456560" y="5268960"/>
                <a:ext cx="205200" cy="163080"/>
                <a:chOff x="1456560" y="5268960"/>
                <a:chExt cx="205200" cy="163080"/>
              </a:xfrm>
            </p:grpSpPr>
            <p:sp>
              <p:nvSpPr>
                <p:cNvPr id="2509" name="Line 64"/>
                <p:cNvSpPr/>
                <p:nvPr/>
              </p:nvSpPr>
              <p:spPr>
                <a:xfrm flipH="1">
                  <a:off x="1456560" y="5268960"/>
                  <a:ext cx="205200" cy="16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 txBox="1"/>
                <p:nvPr/>
              </p:nvSpPr>
              <p:spPr>
                <a:xfrm>
                  <a:off x="1456560" y="5268960"/>
                  <a:ext cx="20520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1" name=""/>
            <p:cNvGrpSpPr/>
            <p:nvPr/>
          </p:nvGrpSpPr>
          <p:grpSpPr>
            <a:xfrm>
              <a:off x="1825560" y="5516640"/>
              <a:ext cx="434880" cy="360"/>
              <a:chOff x="1825560" y="5516640"/>
              <a:chExt cx="434880" cy="360"/>
            </a:xfrm>
          </p:grpSpPr>
          <p:sp>
            <p:nvSpPr>
              <p:cNvPr id="2512" name="Line 65"/>
              <p:cNvSpPr/>
              <p:nvPr/>
            </p:nvSpPr>
            <p:spPr>
              <a:xfrm>
                <a:off x="1825560" y="5516640"/>
                <a:ext cx="43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 txBox="1"/>
              <p:nvPr/>
            </p:nvSpPr>
            <p:spPr>
              <a:xfrm>
                <a:off x="1825560" y="5516640"/>
                <a:ext cx="434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4" name=""/>
            <p:cNvGrpSpPr/>
            <p:nvPr/>
          </p:nvGrpSpPr>
          <p:grpSpPr>
            <a:xfrm>
              <a:off x="762120" y="4152960"/>
              <a:ext cx="360" cy="1384200"/>
              <a:chOff x="762120" y="4152960"/>
              <a:chExt cx="360" cy="1384200"/>
            </a:xfrm>
          </p:grpSpPr>
          <p:sp>
            <p:nvSpPr>
              <p:cNvPr id="2515" name="Line 66"/>
              <p:cNvSpPr/>
              <p:nvPr/>
            </p:nvSpPr>
            <p:spPr>
              <a:xfrm>
                <a:off x="762120" y="4152960"/>
                <a:ext cx="0" cy="13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 txBox="1"/>
              <p:nvPr/>
            </p:nvSpPr>
            <p:spPr>
              <a:xfrm>
                <a:off x="762120" y="4152960"/>
                <a:ext cx="360" cy="138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7" name=""/>
            <p:cNvGrpSpPr/>
            <p:nvPr/>
          </p:nvGrpSpPr>
          <p:grpSpPr>
            <a:xfrm>
              <a:off x="3556080" y="4152960"/>
              <a:ext cx="360" cy="1376280"/>
              <a:chOff x="3556080" y="4152960"/>
              <a:chExt cx="360" cy="1376280"/>
            </a:xfrm>
          </p:grpSpPr>
          <p:sp>
            <p:nvSpPr>
              <p:cNvPr id="2518" name="Line 67"/>
              <p:cNvSpPr/>
              <p:nvPr/>
            </p:nvSpPr>
            <p:spPr>
              <a:xfrm>
                <a:off x="3556080" y="4152960"/>
                <a:ext cx="0" cy="137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 txBox="1"/>
              <p:nvPr/>
            </p:nvSpPr>
            <p:spPr>
              <a:xfrm>
                <a:off x="3556080" y="4152960"/>
                <a:ext cx="360" cy="137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0" name="Group 68"/>
            <p:cNvGrpSpPr/>
            <p:nvPr/>
          </p:nvGrpSpPr>
          <p:grpSpPr>
            <a:xfrm>
              <a:off x="2168640" y="5240160"/>
              <a:ext cx="1379160" cy="571320"/>
              <a:chOff x="2168640" y="5240160"/>
              <a:chExt cx="1379160" cy="571320"/>
            </a:xfrm>
          </p:grpSpPr>
          <p:sp>
            <p:nvSpPr>
              <p:cNvPr id="2521" name="AutoShape 69"/>
              <p:cNvSpPr/>
              <p:nvPr/>
            </p:nvSpPr>
            <p:spPr>
              <a:xfrm>
                <a:off x="2601000" y="5240160"/>
                <a:ext cx="520920" cy="571320"/>
              </a:xfrm>
              <a:prstGeom prst="flowChartSummingJunct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2" name=""/>
              <p:cNvGrpSpPr/>
              <p:nvPr/>
            </p:nvGrpSpPr>
            <p:grpSpPr>
              <a:xfrm>
                <a:off x="2168640" y="5514120"/>
                <a:ext cx="425880" cy="360"/>
                <a:chOff x="2168640" y="5514120"/>
                <a:chExt cx="425880" cy="360"/>
              </a:xfrm>
            </p:grpSpPr>
            <p:sp>
              <p:nvSpPr>
                <p:cNvPr id="2523" name="Line 70"/>
                <p:cNvSpPr/>
                <p:nvPr/>
              </p:nvSpPr>
              <p:spPr>
                <a:xfrm>
                  <a:off x="2168640" y="5514120"/>
                  <a:ext cx="42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 txBox="1"/>
                <p:nvPr/>
              </p:nvSpPr>
              <p:spPr>
                <a:xfrm>
                  <a:off x="2168640" y="5514120"/>
                  <a:ext cx="425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5" name=""/>
              <p:cNvGrpSpPr/>
              <p:nvPr/>
            </p:nvGrpSpPr>
            <p:grpSpPr>
              <a:xfrm>
                <a:off x="3121920" y="5514120"/>
                <a:ext cx="425880" cy="360"/>
                <a:chOff x="3121920" y="5514120"/>
                <a:chExt cx="425880" cy="360"/>
              </a:xfrm>
            </p:grpSpPr>
            <p:sp>
              <p:nvSpPr>
                <p:cNvPr id="2526" name="Line 71"/>
                <p:cNvSpPr/>
                <p:nvPr/>
              </p:nvSpPr>
              <p:spPr>
                <a:xfrm>
                  <a:off x="3121920" y="5514120"/>
                  <a:ext cx="42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 txBox="1"/>
                <p:nvPr/>
              </p:nvSpPr>
              <p:spPr>
                <a:xfrm>
                  <a:off x="3121920" y="5514120"/>
                  <a:ext cx="425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8" name="Text Box 72"/>
            <p:cNvSpPr/>
            <p:nvPr/>
          </p:nvSpPr>
          <p:spPr>
            <a:xfrm>
              <a:off x="1355760" y="5594400"/>
              <a:ext cx="11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9" name="Text Box 73"/>
          <p:cNvSpPr/>
          <p:nvPr/>
        </p:nvSpPr>
        <p:spPr>
          <a:xfrm>
            <a:off x="6934320" y="228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0" name="Group 81"/>
          <p:cNvGrpSpPr/>
          <p:nvPr/>
        </p:nvGrpSpPr>
        <p:grpSpPr>
          <a:xfrm>
            <a:off x="826920" y="1228680"/>
            <a:ext cx="2678400" cy="1984320"/>
            <a:chOff x="826920" y="1228680"/>
            <a:chExt cx="2678400" cy="1984320"/>
          </a:xfrm>
        </p:grpSpPr>
        <p:grpSp>
          <p:nvGrpSpPr>
            <p:cNvPr id="2531" name=""/>
            <p:cNvGrpSpPr/>
            <p:nvPr/>
          </p:nvGrpSpPr>
          <p:grpSpPr>
            <a:xfrm>
              <a:off x="1935000" y="1228680"/>
              <a:ext cx="360" cy="471600"/>
              <a:chOff x="1935000" y="1228680"/>
              <a:chExt cx="360" cy="471600"/>
            </a:xfrm>
          </p:grpSpPr>
          <p:sp>
            <p:nvSpPr>
              <p:cNvPr id="2532" name="Line 6"/>
              <p:cNvSpPr/>
              <p:nvPr/>
            </p:nvSpPr>
            <p:spPr>
              <a:xfrm>
                <a:off x="1935000" y="1228680"/>
                <a:ext cx="0" cy="4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 txBox="1"/>
              <p:nvPr/>
            </p:nvSpPr>
            <p:spPr>
              <a:xfrm>
                <a:off x="1935000" y="1228680"/>
                <a:ext cx="360" cy="4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4" name="Oval 12"/>
            <p:cNvSpPr/>
            <p:nvPr/>
          </p:nvSpPr>
          <p:spPr>
            <a:xfrm>
              <a:off x="1908000" y="2998800"/>
              <a:ext cx="16056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5" name="Group 79"/>
            <p:cNvGrpSpPr/>
            <p:nvPr/>
          </p:nvGrpSpPr>
          <p:grpSpPr>
            <a:xfrm>
              <a:off x="826920" y="1438200"/>
              <a:ext cx="2678400" cy="1703880"/>
              <a:chOff x="826920" y="1438200"/>
              <a:chExt cx="2678400" cy="1703880"/>
            </a:xfrm>
          </p:grpSpPr>
          <p:grpSp>
            <p:nvGrpSpPr>
              <p:cNvPr id="2536" name=""/>
              <p:cNvGrpSpPr/>
              <p:nvPr/>
            </p:nvGrpSpPr>
            <p:grpSpPr>
              <a:xfrm>
                <a:off x="838080" y="1465200"/>
                <a:ext cx="1096920" cy="360"/>
                <a:chOff x="838080" y="1465200"/>
                <a:chExt cx="1096920" cy="360"/>
              </a:xfrm>
            </p:grpSpPr>
            <p:sp>
              <p:nvSpPr>
                <p:cNvPr id="2537" name="Line 8"/>
                <p:cNvSpPr/>
                <p:nvPr/>
              </p:nvSpPr>
              <p:spPr>
                <a:xfrm>
                  <a:off x="838080" y="1465200"/>
                  <a:ext cx="109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"/>
                <p:cNvSpPr txBox="1"/>
                <p:nvPr/>
              </p:nvSpPr>
              <p:spPr>
                <a:xfrm>
                  <a:off x="838080" y="1465200"/>
                  <a:ext cx="1096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9" name=""/>
              <p:cNvGrpSpPr/>
              <p:nvPr/>
            </p:nvGrpSpPr>
            <p:grpSpPr>
              <a:xfrm>
                <a:off x="2187720" y="1450800"/>
                <a:ext cx="1317600" cy="360"/>
                <a:chOff x="2187720" y="1450800"/>
                <a:chExt cx="1317600" cy="360"/>
              </a:xfrm>
            </p:grpSpPr>
            <p:sp>
              <p:nvSpPr>
                <p:cNvPr id="2540" name="Line 9"/>
                <p:cNvSpPr/>
                <p:nvPr/>
              </p:nvSpPr>
              <p:spPr>
                <a:xfrm>
                  <a:off x="2187720" y="1450800"/>
                  <a:ext cx="131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1" name=""/>
                <p:cNvSpPr txBox="1"/>
                <p:nvPr/>
              </p:nvSpPr>
              <p:spPr>
                <a:xfrm>
                  <a:off x="2187720" y="1450800"/>
                  <a:ext cx="1317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2" name=""/>
              <p:cNvGrpSpPr/>
              <p:nvPr/>
            </p:nvGrpSpPr>
            <p:grpSpPr>
              <a:xfrm>
                <a:off x="1979280" y="2557440"/>
                <a:ext cx="601920" cy="511200"/>
                <a:chOff x="1979280" y="2557440"/>
                <a:chExt cx="601920" cy="511200"/>
              </a:xfrm>
            </p:grpSpPr>
            <p:sp>
              <p:nvSpPr>
                <p:cNvPr id="2543" name="Line 13"/>
                <p:cNvSpPr/>
                <p:nvPr/>
              </p:nvSpPr>
              <p:spPr>
                <a:xfrm flipH="1">
                  <a:off x="1979280" y="2557440"/>
                  <a:ext cx="601560" cy="51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"/>
                <p:cNvSpPr txBox="1"/>
                <p:nvPr/>
              </p:nvSpPr>
              <p:spPr>
                <a:xfrm>
                  <a:off x="1979640" y="2557440"/>
                  <a:ext cx="601560" cy="51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5" name=""/>
              <p:cNvGrpSpPr/>
              <p:nvPr/>
            </p:nvGrpSpPr>
            <p:grpSpPr>
              <a:xfrm>
                <a:off x="2496960" y="3141720"/>
                <a:ext cx="986040" cy="360"/>
                <a:chOff x="2496960" y="3141720"/>
                <a:chExt cx="986040" cy="360"/>
              </a:xfrm>
            </p:grpSpPr>
            <p:sp>
              <p:nvSpPr>
                <p:cNvPr id="2546" name="Line 14"/>
                <p:cNvSpPr/>
                <p:nvPr/>
              </p:nvSpPr>
              <p:spPr>
                <a:xfrm>
                  <a:off x="2496960" y="3141720"/>
                  <a:ext cx="986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7" name=""/>
                <p:cNvSpPr txBox="1"/>
                <p:nvPr/>
              </p:nvSpPr>
              <p:spPr>
                <a:xfrm>
                  <a:off x="2496960" y="3141720"/>
                  <a:ext cx="986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8" name=""/>
              <p:cNvGrpSpPr/>
              <p:nvPr/>
            </p:nvGrpSpPr>
            <p:grpSpPr>
              <a:xfrm>
                <a:off x="838080" y="1465200"/>
                <a:ext cx="360" cy="1658880"/>
                <a:chOff x="838080" y="1465200"/>
                <a:chExt cx="360" cy="1658880"/>
              </a:xfrm>
            </p:grpSpPr>
            <p:sp>
              <p:nvSpPr>
                <p:cNvPr id="2549" name="Line 15"/>
                <p:cNvSpPr/>
                <p:nvPr/>
              </p:nvSpPr>
              <p:spPr>
                <a:xfrm>
                  <a:off x="838080" y="1465200"/>
                  <a:ext cx="0" cy="165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 txBox="1"/>
                <p:nvPr/>
              </p:nvSpPr>
              <p:spPr>
                <a:xfrm>
                  <a:off x="838080" y="1465200"/>
                  <a:ext cx="360" cy="165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1" name=""/>
              <p:cNvGrpSpPr/>
              <p:nvPr/>
            </p:nvGrpSpPr>
            <p:grpSpPr>
              <a:xfrm>
                <a:off x="3492360" y="1438200"/>
                <a:ext cx="360" cy="1486080"/>
                <a:chOff x="3492360" y="1438200"/>
                <a:chExt cx="360" cy="1486080"/>
              </a:xfrm>
            </p:grpSpPr>
            <p:sp>
              <p:nvSpPr>
                <p:cNvPr id="2552" name="Line 16"/>
                <p:cNvSpPr/>
                <p:nvPr/>
              </p:nvSpPr>
              <p:spPr>
                <a:xfrm>
                  <a:off x="3492360" y="1438200"/>
                  <a:ext cx="0" cy="148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 txBox="1"/>
                <p:nvPr/>
              </p:nvSpPr>
              <p:spPr>
                <a:xfrm>
                  <a:off x="3492360" y="1438200"/>
                  <a:ext cx="360" cy="14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4" name=""/>
              <p:cNvGrpSpPr/>
              <p:nvPr/>
            </p:nvGrpSpPr>
            <p:grpSpPr>
              <a:xfrm>
                <a:off x="826920" y="3141720"/>
                <a:ext cx="1152720" cy="360"/>
                <a:chOff x="826920" y="3141720"/>
                <a:chExt cx="1152720" cy="360"/>
              </a:xfrm>
            </p:grpSpPr>
            <p:sp>
              <p:nvSpPr>
                <p:cNvPr id="2555" name="Line 74"/>
                <p:cNvSpPr/>
                <p:nvPr/>
              </p:nvSpPr>
              <p:spPr>
                <a:xfrm>
                  <a:off x="826920" y="3141720"/>
                  <a:ext cx="1152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 txBox="1"/>
                <p:nvPr/>
              </p:nvSpPr>
              <p:spPr>
                <a:xfrm>
                  <a:off x="826920" y="3141720"/>
                  <a:ext cx="1152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7" name=""/>
            <p:cNvGrpSpPr/>
            <p:nvPr/>
          </p:nvGrpSpPr>
          <p:grpSpPr>
            <a:xfrm>
              <a:off x="3492360" y="2421000"/>
              <a:ext cx="360" cy="720720"/>
              <a:chOff x="3492360" y="2421000"/>
              <a:chExt cx="360" cy="720720"/>
            </a:xfrm>
          </p:grpSpPr>
          <p:sp>
            <p:nvSpPr>
              <p:cNvPr id="2558" name="Line 76"/>
              <p:cNvSpPr/>
              <p:nvPr/>
            </p:nvSpPr>
            <p:spPr>
              <a:xfrm>
                <a:off x="3492360" y="242100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 txBox="1"/>
              <p:nvPr/>
            </p:nvSpPr>
            <p:spPr>
              <a:xfrm>
                <a:off x="3492360" y="242100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0" name="Group 80"/>
          <p:cNvGrpSpPr/>
          <p:nvPr/>
        </p:nvGrpSpPr>
        <p:grpSpPr>
          <a:xfrm>
            <a:off x="5029200" y="1643040"/>
            <a:ext cx="2351160" cy="1569960"/>
            <a:chOff x="5029200" y="1643040"/>
            <a:chExt cx="2351160" cy="1569960"/>
          </a:xfrm>
        </p:grpSpPr>
        <p:grpSp>
          <p:nvGrpSpPr>
            <p:cNvPr id="2561" name=""/>
            <p:cNvGrpSpPr/>
            <p:nvPr/>
          </p:nvGrpSpPr>
          <p:grpSpPr>
            <a:xfrm>
              <a:off x="5029200" y="3141720"/>
              <a:ext cx="1003320" cy="360"/>
              <a:chOff x="5029200" y="3141720"/>
              <a:chExt cx="1003320" cy="360"/>
            </a:xfrm>
          </p:grpSpPr>
          <p:sp>
            <p:nvSpPr>
              <p:cNvPr id="2562" name="Line 23"/>
              <p:cNvSpPr/>
              <p:nvPr/>
            </p:nvSpPr>
            <p:spPr>
              <a:xfrm>
                <a:off x="5029200" y="3141720"/>
                <a:ext cx="100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 txBox="1"/>
              <p:nvPr/>
            </p:nvSpPr>
            <p:spPr>
              <a:xfrm>
                <a:off x="5029200" y="3141720"/>
                <a:ext cx="100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4" name="Oval 24"/>
            <p:cNvSpPr/>
            <p:nvPr/>
          </p:nvSpPr>
          <p:spPr>
            <a:xfrm>
              <a:off x="5975280" y="3022560"/>
              <a:ext cx="14292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5" name=""/>
            <p:cNvGrpSpPr/>
            <p:nvPr/>
          </p:nvGrpSpPr>
          <p:grpSpPr>
            <a:xfrm>
              <a:off x="6006600" y="2898720"/>
              <a:ext cx="297360" cy="169920"/>
              <a:chOff x="6006600" y="2898720"/>
              <a:chExt cx="297360" cy="169920"/>
            </a:xfrm>
          </p:grpSpPr>
          <p:sp>
            <p:nvSpPr>
              <p:cNvPr id="2566" name="Line 25"/>
              <p:cNvSpPr/>
              <p:nvPr/>
            </p:nvSpPr>
            <p:spPr>
              <a:xfrm flipH="1">
                <a:off x="6006600" y="2898720"/>
                <a:ext cx="29700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 txBox="1"/>
              <p:nvPr/>
            </p:nvSpPr>
            <p:spPr>
              <a:xfrm>
                <a:off x="6006960" y="2898720"/>
                <a:ext cx="297000" cy="169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8" name=""/>
            <p:cNvGrpSpPr/>
            <p:nvPr/>
          </p:nvGrpSpPr>
          <p:grpSpPr>
            <a:xfrm>
              <a:off x="6496200" y="3141720"/>
              <a:ext cx="874440" cy="360"/>
              <a:chOff x="6496200" y="3141720"/>
              <a:chExt cx="874440" cy="360"/>
            </a:xfrm>
          </p:grpSpPr>
          <p:sp>
            <p:nvSpPr>
              <p:cNvPr id="2569" name="Line 26"/>
              <p:cNvSpPr/>
              <p:nvPr/>
            </p:nvSpPr>
            <p:spPr>
              <a:xfrm>
                <a:off x="6496200" y="3141720"/>
                <a:ext cx="87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 txBox="1"/>
              <p:nvPr/>
            </p:nvSpPr>
            <p:spPr>
              <a:xfrm>
                <a:off x="6496200" y="3141720"/>
                <a:ext cx="874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1" name=""/>
            <p:cNvGrpSpPr/>
            <p:nvPr/>
          </p:nvGrpSpPr>
          <p:grpSpPr>
            <a:xfrm>
              <a:off x="5029200" y="1643040"/>
              <a:ext cx="360" cy="1481040"/>
              <a:chOff x="5029200" y="1643040"/>
              <a:chExt cx="360" cy="1481040"/>
            </a:xfrm>
          </p:grpSpPr>
          <p:sp>
            <p:nvSpPr>
              <p:cNvPr id="2572" name="Line 27"/>
              <p:cNvSpPr/>
              <p:nvPr/>
            </p:nvSpPr>
            <p:spPr>
              <a:xfrm>
                <a:off x="5029200" y="1643040"/>
                <a:ext cx="0" cy="14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 txBox="1"/>
              <p:nvPr/>
            </p:nvSpPr>
            <p:spPr>
              <a:xfrm>
                <a:off x="5029200" y="1643040"/>
                <a:ext cx="360" cy="14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4" name=""/>
            <p:cNvGrpSpPr/>
            <p:nvPr/>
          </p:nvGrpSpPr>
          <p:grpSpPr>
            <a:xfrm>
              <a:off x="7370640" y="1643040"/>
              <a:ext cx="360" cy="1327320"/>
              <a:chOff x="7370640" y="1643040"/>
              <a:chExt cx="360" cy="1327320"/>
            </a:xfrm>
          </p:grpSpPr>
          <p:sp>
            <p:nvSpPr>
              <p:cNvPr id="2575" name="Line 28"/>
              <p:cNvSpPr/>
              <p:nvPr/>
            </p:nvSpPr>
            <p:spPr>
              <a:xfrm>
                <a:off x="7370640" y="1643040"/>
                <a:ext cx="0" cy="132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 txBox="1"/>
              <p:nvPr/>
            </p:nvSpPr>
            <p:spPr>
              <a:xfrm>
                <a:off x="7370640" y="1643040"/>
                <a:ext cx="360" cy="132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7" name="Group 29"/>
            <p:cNvGrpSpPr/>
            <p:nvPr/>
          </p:nvGrpSpPr>
          <p:grpSpPr>
            <a:xfrm>
              <a:off x="6151680" y="2084400"/>
              <a:ext cx="1215720" cy="393840"/>
              <a:chOff x="6151680" y="2084400"/>
              <a:chExt cx="1215720" cy="393840"/>
            </a:xfrm>
          </p:grpSpPr>
          <p:sp>
            <p:nvSpPr>
              <p:cNvPr id="2578" name="AutoShape 30"/>
              <p:cNvSpPr/>
              <p:nvPr/>
            </p:nvSpPr>
            <p:spPr>
              <a:xfrm>
                <a:off x="6532560" y="2084400"/>
                <a:ext cx="459000" cy="393840"/>
              </a:xfrm>
              <a:prstGeom prst="flowChartSummingJunct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9" name=""/>
              <p:cNvGrpSpPr/>
              <p:nvPr/>
            </p:nvGrpSpPr>
            <p:grpSpPr>
              <a:xfrm>
                <a:off x="6151680" y="2273040"/>
                <a:ext cx="375480" cy="360"/>
                <a:chOff x="6151680" y="2273040"/>
                <a:chExt cx="375480" cy="360"/>
              </a:xfrm>
            </p:grpSpPr>
            <p:sp>
              <p:nvSpPr>
                <p:cNvPr id="2580" name="Line 31"/>
                <p:cNvSpPr/>
                <p:nvPr/>
              </p:nvSpPr>
              <p:spPr>
                <a:xfrm>
                  <a:off x="6151680" y="2273040"/>
                  <a:ext cx="37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"/>
                <p:cNvSpPr txBox="1"/>
                <p:nvPr/>
              </p:nvSpPr>
              <p:spPr>
                <a:xfrm>
                  <a:off x="6151680" y="2273040"/>
                  <a:ext cx="375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2" name=""/>
              <p:cNvGrpSpPr/>
              <p:nvPr/>
            </p:nvGrpSpPr>
            <p:grpSpPr>
              <a:xfrm>
                <a:off x="6991920" y="2273040"/>
                <a:ext cx="375480" cy="360"/>
                <a:chOff x="6991920" y="2273040"/>
                <a:chExt cx="375480" cy="360"/>
              </a:xfrm>
            </p:grpSpPr>
            <p:sp>
              <p:nvSpPr>
                <p:cNvPr id="2583" name="Line 32"/>
                <p:cNvSpPr/>
                <p:nvPr/>
              </p:nvSpPr>
              <p:spPr>
                <a:xfrm>
                  <a:off x="6991920" y="2273040"/>
                  <a:ext cx="37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"/>
                <p:cNvSpPr txBox="1"/>
                <p:nvPr/>
              </p:nvSpPr>
              <p:spPr>
                <a:xfrm>
                  <a:off x="6991920" y="2273040"/>
                  <a:ext cx="375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5" name="Group 33"/>
            <p:cNvGrpSpPr/>
            <p:nvPr/>
          </p:nvGrpSpPr>
          <p:grpSpPr>
            <a:xfrm>
              <a:off x="5029200" y="2073240"/>
              <a:ext cx="1240920" cy="261720"/>
              <a:chOff x="5029200" y="2073240"/>
              <a:chExt cx="1240920" cy="261720"/>
            </a:xfrm>
          </p:grpSpPr>
          <p:grpSp>
            <p:nvGrpSpPr>
              <p:cNvPr id="2586" name=""/>
              <p:cNvGrpSpPr/>
              <p:nvPr/>
            </p:nvGrpSpPr>
            <p:grpSpPr>
              <a:xfrm>
                <a:off x="5029200" y="2306520"/>
                <a:ext cx="531000" cy="360"/>
                <a:chOff x="5029200" y="2306520"/>
                <a:chExt cx="531000" cy="360"/>
              </a:xfrm>
            </p:grpSpPr>
            <p:sp>
              <p:nvSpPr>
                <p:cNvPr id="2587" name="Line 34"/>
                <p:cNvSpPr/>
                <p:nvPr/>
              </p:nvSpPr>
              <p:spPr>
                <a:xfrm>
                  <a:off x="5029200" y="2306520"/>
                  <a:ext cx="53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"/>
                <p:cNvSpPr txBox="1"/>
                <p:nvPr/>
              </p:nvSpPr>
              <p:spPr>
                <a:xfrm>
                  <a:off x="5029200" y="2306520"/>
                  <a:ext cx="531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9" name="Oval 35"/>
              <p:cNvSpPr/>
              <p:nvPr/>
            </p:nvSpPr>
            <p:spPr>
              <a:xfrm>
                <a:off x="5531400" y="2253240"/>
                <a:ext cx="75240" cy="8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0" name=""/>
              <p:cNvGrpSpPr/>
              <p:nvPr/>
            </p:nvGrpSpPr>
            <p:grpSpPr>
              <a:xfrm>
                <a:off x="5546520" y="2073240"/>
                <a:ext cx="300240" cy="189360"/>
                <a:chOff x="5546520" y="2073240"/>
                <a:chExt cx="300240" cy="189360"/>
              </a:xfrm>
            </p:grpSpPr>
            <p:sp>
              <p:nvSpPr>
                <p:cNvPr id="2591" name="Line 36"/>
                <p:cNvSpPr/>
                <p:nvPr/>
              </p:nvSpPr>
              <p:spPr>
                <a:xfrm flipH="1">
                  <a:off x="5546520" y="2073240"/>
                  <a:ext cx="300240" cy="18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"/>
                <p:cNvSpPr txBox="1"/>
                <p:nvPr/>
              </p:nvSpPr>
              <p:spPr>
                <a:xfrm>
                  <a:off x="5546520" y="2073240"/>
                  <a:ext cx="300240" cy="18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5807160" y="2272320"/>
                <a:ext cx="462960" cy="360"/>
                <a:chOff x="5807160" y="2272320"/>
                <a:chExt cx="462960" cy="360"/>
              </a:xfrm>
            </p:grpSpPr>
            <p:sp>
              <p:nvSpPr>
                <p:cNvPr id="2594" name="Line 37"/>
                <p:cNvSpPr/>
                <p:nvPr/>
              </p:nvSpPr>
              <p:spPr>
                <a:xfrm>
                  <a:off x="5807160" y="2272320"/>
                  <a:ext cx="46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 txBox="1"/>
                <p:nvPr/>
              </p:nvSpPr>
              <p:spPr>
                <a:xfrm>
                  <a:off x="5807160" y="2272320"/>
                  <a:ext cx="462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6" name=""/>
            <p:cNvGrpSpPr/>
            <p:nvPr/>
          </p:nvGrpSpPr>
          <p:grpSpPr>
            <a:xfrm>
              <a:off x="7380000" y="2708280"/>
              <a:ext cx="360" cy="433440"/>
              <a:chOff x="7380000" y="2708280"/>
              <a:chExt cx="360" cy="433440"/>
            </a:xfrm>
          </p:grpSpPr>
          <p:sp>
            <p:nvSpPr>
              <p:cNvPr id="2597" name="Line 78"/>
              <p:cNvSpPr/>
              <p:nvPr/>
            </p:nvSpPr>
            <p:spPr>
              <a:xfrm flipV="1">
                <a:off x="7380360" y="270828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 txBox="1"/>
              <p:nvPr/>
            </p:nvSpPr>
            <p:spPr>
              <a:xfrm rot="10800000">
                <a:off x="7380000" y="2708280"/>
                <a:ext cx="360" cy="43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7" dur="5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Text Box 2"/>
          <p:cNvSpPr/>
          <p:nvPr/>
        </p:nvSpPr>
        <p:spPr>
          <a:xfrm>
            <a:off x="250920" y="38088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、画出下面实物图的电路图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Group 3"/>
          <p:cNvGrpSpPr/>
          <p:nvPr/>
        </p:nvGrpSpPr>
        <p:grpSpPr>
          <a:xfrm>
            <a:off x="228600" y="1447920"/>
            <a:ext cx="4494960" cy="3885120"/>
            <a:chOff x="228600" y="1447920"/>
            <a:chExt cx="4494960" cy="3885120"/>
          </a:xfrm>
        </p:grpSpPr>
        <p:sp>
          <p:nvSpPr>
            <p:cNvPr id="2601" name="Freeform 4"/>
            <p:cNvSpPr/>
            <p:nvPr/>
          </p:nvSpPr>
          <p:spPr>
            <a:xfrm>
              <a:off x="228600" y="2353320"/>
              <a:ext cx="1063440" cy="1697400"/>
            </a:xfrm>
            <a:custGeom>
              <a:avLst/>
              <a:gdLst/>
              <a:ahLst/>
              <a:rect l="l" t="t" r="r" b="b"/>
              <a:pathLst>
                <a:path w="536" h="720">
                  <a:moveTo>
                    <a:pt x="344" y="0"/>
                  </a:moveTo>
                  <a:cubicBezTo>
                    <a:pt x="276" y="4"/>
                    <a:pt x="208" y="8"/>
                    <a:pt x="152" y="48"/>
                  </a:cubicBezTo>
                  <a:cubicBezTo>
                    <a:pt x="96" y="88"/>
                    <a:pt x="16" y="176"/>
                    <a:pt x="8" y="240"/>
                  </a:cubicBezTo>
                  <a:cubicBezTo>
                    <a:pt x="0" y="304"/>
                    <a:pt x="56" y="376"/>
                    <a:pt x="104" y="432"/>
                  </a:cubicBezTo>
                  <a:cubicBezTo>
                    <a:pt x="152" y="488"/>
                    <a:pt x="248" y="552"/>
                    <a:pt x="296" y="576"/>
                  </a:cubicBezTo>
                  <a:cubicBezTo>
                    <a:pt x="344" y="600"/>
                    <a:pt x="352" y="552"/>
                    <a:pt x="392" y="576"/>
                  </a:cubicBezTo>
                  <a:cubicBezTo>
                    <a:pt x="432" y="600"/>
                    <a:pt x="484" y="660"/>
                    <a:pt x="536" y="7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5"/>
            <p:cNvSpPr/>
            <p:nvPr/>
          </p:nvSpPr>
          <p:spPr>
            <a:xfrm>
              <a:off x="2054520" y="2221560"/>
              <a:ext cx="1619280" cy="376920"/>
            </a:xfrm>
            <a:custGeom>
              <a:avLst/>
              <a:gdLst/>
              <a:ahLst/>
              <a:rect l="l" t="t" r="r" b="b"/>
              <a:pathLst>
                <a:path w="816" h="160">
                  <a:moveTo>
                    <a:pt x="0" y="56"/>
                  </a:moveTo>
                  <a:cubicBezTo>
                    <a:pt x="108" y="28"/>
                    <a:pt x="216" y="0"/>
                    <a:pt x="288" y="8"/>
                  </a:cubicBezTo>
                  <a:cubicBezTo>
                    <a:pt x="360" y="16"/>
                    <a:pt x="376" y="80"/>
                    <a:pt x="432" y="104"/>
                  </a:cubicBezTo>
                  <a:cubicBezTo>
                    <a:pt x="488" y="128"/>
                    <a:pt x="560" y="144"/>
                    <a:pt x="624" y="152"/>
                  </a:cubicBezTo>
                  <a:cubicBezTo>
                    <a:pt x="688" y="160"/>
                    <a:pt x="752" y="156"/>
                    <a:pt x="816" y="15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3" name="Group 6"/>
            <p:cNvGrpSpPr/>
            <p:nvPr/>
          </p:nvGrpSpPr>
          <p:grpSpPr>
            <a:xfrm>
              <a:off x="625320" y="1447920"/>
              <a:ext cx="4098240" cy="3885120"/>
              <a:chOff x="625320" y="1447920"/>
              <a:chExt cx="4098240" cy="3885120"/>
            </a:xfrm>
          </p:grpSpPr>
          <p:grpSp>
            <p:nvGrpSpPr>
              <p:cNvPr id="2604" name="Group 7"/>
              <p:cNvGrpSpPr/>
              <p:nvPr/>
            </p:nvGrpSpPr>
            <p:grpSpPr>
              <a:xfrm>
                <a:off x="625320" y="1643400"/>
                <a:ext cx="1523520" cy="1293120"/>
                <a:chOff x="625320" y="1643400"/>
                <a:chExt cx="1523520" cy="1293120"/>
              </a:xfrm>
            </p:grpSpPr>
            <p:grpSp>
              <p:nvGrpSpPr>
                <p:cNvPr id="2605" name="xjhsy3"/>
                <p:cNvGrpSpPr/>
                <p:nvPr/>
              </p:nvGrpSpPr>
              <p:grpSpPr>
                <a:xfrm>
                  <a:off x="625320" y="1643400"/>
                  <a:ext cx="1523520" cy="1293120"/>
                  <a:chOff x="625320" y="1643400"/>
                  <a:chExt cx="1523520" cy="1293120"/>
                </a:xfrm>
              </p:grpSpPr>
              <p:grpSp>
                <p:nvGrpSpPr>
                  <p:cNvPr id="2606" name="Group 9"/>
                  <p:cNvGrpSpPr/>
                  <p:nvPr/>
                </p:nvGrpSpPr>
                <p:grpSpPr>
                  <a:xfrm>
                    <a:off x="625320" y="2284560"/>
                    <a:ext cx="1523520" cy="651960"/>
                    <a:chOff x="625320" y="2284560"/>
                    <a:chExt cx="1523520" cy="651960"/>
                  </a:xfrm>
                </p:grpSpPr>
                <p:sp>
                  <p:nvSpPr>
                    <p:cNvPr id="2607" name="Freeform 10"/>
                    <p:cNvSpPr/>
                    <p:nvPr/>
                  </p:nvSpPr>
                  <p:spPr>
                    <a:xfrm flipV="1">
                      <a:off x="625320" y="2808360"/>
                      <a:ext cx="152352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400">
                          <a:moveTo>
                            <a:pt x="0" y="0"/>
                          </a:moveTo>
                          <a:lnTo>
                            <a:pt x="400" y="0"/>
                          </a:lnTo>
                          <a:lnTo>
                            <a:pt x="400" y="400"/>
                          </a:lnTo>
                          <a:lnTo>
                            <a:pt x="0" y="4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8" name="AutoShape 11"/>
                    <p:cNvSpPr/>
                    <p:nvPr/>
                  </p:nvSpPr>
                  <p:spPr>
                    <a:xfrm>
                      <a:off x="1969920" y="2288880"/>
                      <a:ext cx="129960" cy="417240"/>
                    </a:xfrm>
                    <a:prstGeom prst="flowChartMagneticDisk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9" name="AutoShape 12"/>
                    <p:cNvSpPr/>
                    <p:nvPr/>
                  </p:nvSpPr>
                  <p:spPr>
                    <a:xfrm>
                      <a:off x="882000" y="2284560"/>
                      <a:ext cx="129960" cy="417240"/>
                    </a:xfrm>
                    <a:prstGeom prst="flowChartMagneticDisk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0" name="Group 13"/>
                  <p:cNvGrpSpPr/>
                  <p:nvPr/>
                </p:nvGrpSpPr>
                <p:grpSpPr>
                  <a:xfrm>
                    <a:off x="1310760" y="1643400"/>
                    <a:ext cx="221400" cy="1058040"/>
                    <a:chOff x="1310760" y="1643400"/>
                    <a:chExt cx="221400" cy="1058040"/>
                  </a:xfrm>
                </p:grpSpPr>
                <p:grpSp>
                  <p:nvGrpSpPr>
                    <p:cNvPr id="2611" name="Group 14"/>
                    <p:cNvGrpSpPr/>
                    <p:nvPr/>
                  </p:nvGrpSpPr>
                  <p:grpSpPr>
                    <a:xfrm>
                      <a:off x="1342080" y="1643400"/>
                      <a:ext cx="165240" cy="828720"/>
                      <a:chOff x="1342080" y="1643400"/>
                      <a:chExt cx="165240" cy="828720"/>
                    </a:xfrm>
                  </p:grpSpPr>
                  <p:grpSp>
                    <p:nvGrpSpPr>
                      <p:cNvPr id="2612" name="Group 15"/>
                      <p:cNvGrpSpPr/>
                      <p:nvPr/>
                    </p:nvGrpSpPr>
                    <p:grpSpPr>
                      <a:xfrm>
                        <a:off x="1387080" y="2278080"/>
                        <a:ext cx="74880" cy="194040"/>
                        <a:chOff x="1387080" y="2278080"/>
                        <a:chExt cx="74880" cy="194040"/>
                      </a:xfrm>
                    </p:grpSpPr>
                    <p:grpSp>
                      <p:nvGrpSpPr>
                        <p:cNvPr id="2613" name="Group 16"/>
                        <p:cNvGrpSpPr/>
                        <p:nvPr/>
                      </p:nvGrpSpPr>
                      <p:grpSpPr>
                        <a:xfrm>
                          <a:off x="1387080" y="2278080"/>
                          <a:ext cx="74880" cy="194040"/>
                          <a:chOff x="1387080" y="2278080"/>
                          <a:chExt cx="74880" cy="194040"/>
                        </a:xfrm>
                      </p:grpSpPr>
                      <p:grpSp>
                        <p:nvGrpSpPr>
                          <p:cNvPr id="2614" name="Group 17"/>
                          <p:cNvGrpSpPr/>
                          <p:nvPr/>
                        </p:nvGrpSpPr>
                        <p:grpSpPr>
                          <a:xfrm>
                            <a:off x="1405800" y="2427480"/>
                            <a:ext cx="40680" cy="44640"/>
                            <a:chOff x="1405800" y="2427480"/>
                            <a:chExt cx="40680" cy="44640"/>
                          </a:xfrm>
                        </p:grpSpPr>
                        <p:sp>
                          <p:nvSpPr>
                            <p:cNvPr id="2615" name="Freeform 18"/>
                            <p:cNvSpPr/>
                            <p:nvPr/>
                          </p:nvSpPr>
                          <p:spPr>
                            <a:xfrm>
                              <a:off x="1405800" y="2427480"/>
                              <a:ext cx="40680" cy="44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98" h="198">
                                  <a:moveTo>
                                    <a:pt x="0" y="0"/>
                                  </a:moveTo>
                                  <a:lnTo>
                                    <a:pt x="101" y="157"/>
                                  </a:lnTo>
                                  <a:lnTo>
                                    <a:pt x="110" y="167"/>
                                  </a:lnTo>
                                  <a:lnTo>
                                    <a:pt x="121" y="173"/>
                                  </a:lnTo>
                                  <a:lnTo>
                                    <a:pt x="136" y="178"/>
                                  </a:lnTo>
                                  <a:lnTo>
                                    <a:pt x="153" y="186"/>
                                  </a:lnTo>
                                  <a:lnTo>
                                    <a:pt x="174" y="190"/>
                                  </a:lnTo>
                                  <a:lnTo>
                                    <a:pt x="188" y="191"/>
                                  </a:lnTo>
                                  <a:lnTo>
                                    <a:pt x="205" y="194"/>
                                  </a:lnTo>
                                  <a:lnTo>
                                    <a:pt x="222" y="195"/>
                                  </a:lnTo>
                                  <a:lnTo>
                                    <a:pt x="243" y="198"/>
                                  </a:lnTo>
                                  <a:lnTo>
                                    <a:pt x="257" y="198"/>
                                  </a:lnTo>
                                  <a:lnTo>
                                    <a:pt x="278" y="195"/>
                                  </a:lnTo>
                                  <a:lnTo>
                                    <a:pt x="295" y="194"/>
                                  </a:lnTo>
                                  <a:lnTo>
                                    <a:pt x="315" y="191"/>
                                  </a:lnTo>
                                  <a:lnTo>
                                    <a:pt x="332" y="190"/>
                                  </a:lnTo>
                                  <a:lnTo>
                                    <a:pt x="349" y="185"/>
                                  </a:lnTo>
                                  <a:lnTo>
                                    <a:pt x="366" y="181"/>
                                  </a:lnTo>
                                  <a:lnTo>
                                    <a:pt x="380" y="173"/>
                                  </a:lnTo>
                                  <a:lnTo>
                                    <a:pt x="392" y="165"/>
                                  </a:lnTo>
                                  <a:lnTo>
                                    <a:pt x="397" y="160"/>
                                  </a:lnTo>
                                  <a:lnTo>
                                    <a:pt x="405" y="152"/>
                                  </a:lnTo>
                                  <a:lnTo>
                                    <a:pt x="498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" bIns="-21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16" name="Freeform 19"/>
                            <p:cNvSpPr/>
                            <p:nvPr/>
                          </p:nvSpPr>
                          <p:spPr>
                            <a:xfrm>
                              <a:off x="1411920" y="2427480"/>
                              <a:ext cx="18000" cy="44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2" h="198">
                                  <a:moveTo>
                                    <a:pt x="0" y="0"/>
                                  </a:moveTo>
                                  <a:lnTo>
                                    <a:pt x="62" y="178"/>
                                  </a:lnTo>
                                  <a:lnTo>
                                    <a:pt x="75" y="186"/>
                                  </a:lnTo>
                                  <a:lnTo>
                                    <a:pt x="96" y="190"/>
                                  </a:lnTo>
                                  <a:lnTo>
                                    <a:pt x="110" y="191"/>
                                  </a:lnTo>
                                  <a:lnTo>
                                    <a:pt x="127" y="194"/>
                                  </a:lnTo>
                                  <a:lnTo>
                                    <a:pt x="144" y="195"/>
                                  </a:lnTo>
                                  <a:lnTo>
                                    <a:pt x="165" y="198"/>
                                  </a:lnTo>
                                  <a:lnTo>
                                    <a:pt x="179" y="198"/>
                                  </a:lnTo>
                                  <a:lnTo>
                                    <a:pt x="200" y="195"/>
                                  </a:lnTo>
                                  <a:lnTo>
                                    <a:pt x="222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404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" bIns="-21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17" name="Group 20"/>
                          <p:cNvGrpSpPr/>
                          <p:nvPr/>
                        </p:nvGrpSpPr>
                        <p:grpSpPr>
                          <a:xfrm>
                            <a:off x="1387080" y="2278080"/>
                            <a:ext cx="74880" cy="162000"/>
                            <a:chOff x="1387080" y="2278080"/>
                            <a:chExt cx="74880" cy="162000"/>
                          </a:xfrm>
                        </p:grpSpPr>
                        <p:sp>
                          <p:nvSpPr>
                            <p:cNvPr id="2618" name="Freeform 21"/>
                            <p:cNvSpPr/>
                            <p:nvPr/>
                          </p:nvSpPr>
                          <p:spPr>
                            <a:xfrm>
                              <a:off x="1387080" y="2278080"/>
                              <a:ext cx="74880" cy="162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13" h="718">
                                  <a:moveTo>
                                    <a:pt x="26" y="0"/>
                                  </a:moveTo>
                                  <a:lnTo>
                                    <a:pt x="21" y="20"/>
                                  </a:lnTo>
                                  <a:lnTo>
                                    <a:pt x="23" y="29"/>
                                  </a:lnTo>
                                  <a:lnTo>
                                    <a:pt x="25" y="38"/>
                                  </a:lnTo>
                                  <a:lnTo>
                                    <a:pt x="26" y="59"/>
                                  </a:lnTo>
                                  <a:lnTo>
                                    <a:pt x="23" y="73"/>
                                  </a:lnTo>
                                  <a:lnTo>
                                    <a:pt x="17" y="86"/>
                                  </a:lnTo>
                                  <a:lnTo>
                                    <a:pt x="12" y="96"/>
                                  </a:lnTo>
                                  <a:lnTo>
                                    <a:pt x="6" y="113"/>
                                  </a:lnTo>
                                  <a:lnTo>
                                    <a:pt x="6" y="126"/>
                                  </a:lnTo>
                                  <a:lnTo>
                                    <a:pt x="12" y="138"/>
                                  </a:lnTo>
                                  <a:lnTo>
                                    <a:pt x="17" y="149"/>
                                  </a:lnTo>
                                  <a:lnTo>
                                    <a:pt x="29" y="162"/>
                                  </a:lnTo>
                                  <a:lnTo>
                                    <a:pt x="34" y="176"/>
                                  </a:lnTo>
                                  <a:lnTo>
                                    <a:pt x="34" y="185"/>
                                  </a:lnTo>
                                  <a:lnTo>
                                    <a:pt x="30" y="195"/>
                                  </a:lnTo>
                                  <a:lnTo>
                                    <a:pt x="21" y="204"/>
                                  </a:lnTo>
                                  <a:lnTo>
                                    <a:pt x="13" y="216"/>
                                  </a:lnTo>
                                  <a:lnTo>
                                    <a:pt x="8" y="225"/>
                                  </a:lnTo>
                                  <a:lnTo>
                                    <a:pt x="6" y="236"/>
                                  </a:lnTo>
                                  <a:lnTo>
                                    <a:pt x="12" y="248"/>
                                  </a:lnTo>
                                  <a:lnTo>
                                    <a:pt x="19" y="259"/>
                                  </a:lnTo>
                                  <a:lnTo>
                                    <a:pt x="26" y="269"/>
                                  </a:lnTo>
                                  <a:lnTo>
                                    <a:pt x="30" y="278"/>
                                  </a:lnTo>
                                  <a:lnTo>
                                    <a:pt x="34" y="288"/>
                                  </a:lnTo>
                                  <a:lnTo>
                                    <a:pt x="30" y="301"/>
                                  </a:lnTo>
                                  <a:lnTo>
                                    <a:pt x="21" y="313"/>
                                  </a:lnTo>
                                  <a:lnTo>
                                    <a:pt x="12" y="322"/>
                                  </a:lnTo>
                                  <a:lnTo>
                                    <a:pt x="2" y="337"/>
                                  </a:lnTo>
                                  <a:lnTo>
                                    <a:pt x="0" y="349"/>
                                  </a:lnTo>
                                  <a:lnTo>
                                    <a:pt x="4" y="362"/>
                                  </a:lnTo>
                                  <a:lnTo>
                                    <a:pt x="13" y="372"/>
                                  </a:lnTo>
                                  <a:lnTo>
                                    <a:pt x="23" y="383"/>
                                  </a:lnTo>
                                  <a:lnTo>
                                    <a:pt x="33" y="396"/>
                                  </a:lnTo>
                                  <a:lnTo>
                                    <a:pt x="38" y="414"/>
                                  </a:lnTo>
                                  <a:lnTo>
                                    <a:pt x="33" y="431"/>
                                  </a:lnTo>
                                  <a:lnTo>
                                    <a:pt x="23" y="444"/>
                                  </a:lnTo>
                                  <a:lnTo>
                                    <a:pt x="19" y="455"/>
                                  </a:lnTo>
                                  <a:lnTo>
                                    <a:pt x="19" y="466"/>
                                  </a:lnTo>
                                  <a:lnTo>
                                    <a:pt x="21" y="473"/>
                                  </a:lnTo>
                                  <a:lnTo>
                                    <a:pt x="29" y="484"/>
                                  </a:lnTo>
                                  <a:lnTo>
                                    <a:pt x="42" y="499"/>
                                  </a:lnTo>
                                  <a:lnTo>
                                    <a:pt x="64" y="528"/>
                                  </a:lnTo>
                                  <a:lnTo>
                                    <a:pt x="107" y="573"/>
                                  </a:lnTo>
                                  <a:lnTo>
                                    <a:pt x="144" y="609"/>
                                  </a:lnTo>
                                  <a:lnTo>
                                    <a:pt x="166" y="629"/>
                                  </a:lnTo>
                                  <a:lnTo>
                                    <a:pt x="190" y="643"/>
                                  </a:lnTo>
                                  <a:lnTo>
                                    <a:pt x="217" y="660"/>
                                  </a:lnTo>
                                  <a:lnTo>
                                    <a:pt x="255" y="681"/>
                                  </a:lnTo>
                                  <a:lnTo>
                                    <a:pt x="313" y="701"/>
                                  </a:lnTo>
                                  <a:lnTo>
                                    <a:pt x="356" y="710"/>
                                  </a:lnTo>
                                  <a:lnTo>
                                    <a:pt x="401" y="716"/>
                                  </a:lnTo>
                                  <a:lnTo>
                                    <a:pt x="460" y="718"/>
                                  </a:lnTo>
                                  <a:lnTo>
                                    <a:pt x="523" y="716"/>
                                  </a:lnTo>
                                  <a:lnTo>
                                    <a:pt x="578" y="714"/>
                                  </a:lnTo>
                                  <a:lnTo>
                                    <a:pt x="625" y="706"/>
                                  </a:lnTo>
                                  <a:lnTo>
                                    <a:pt x="667" y="697"/>
                                  </a:lnTo>
                                  <a:lnTo>
                                    <a:pt x="697" y="685"/>
                                  </a:lnTo>
                                  <a:lnTo>
                                    <a:pt x="723" y="672"/>
                                  </a:lnTo>
                                  <a:lnTo>
                                    <a:pt x="744" y="659"/>
                                  </a:lnTo>
                                  <a:lnTo>
                                    <a:pt x="761" y="647"/>
                                  </a:lnTo>
                                  <a:lnTo>
                                    <a:pt x="778" y="629"/>
                                  </a:lnTo>
                                  <a:lnTo>
                                    <a:pt x="832" y="556"/>
                                  </a:lnTo>
                                  <a:lnTo>
                                    <a:pt x="874" y="493"/>
                                  </a:lnTo>
                                  <a:lnTo>
                                    <a:pt x="890" y="461"/>
                                  </a:lnTo>
                                  <a:lnTo>
                                    <a:pt x="894" y="448"/>
                                  </a:lnTo>
                                  <a:lnTo>
                                    <a:pt x="895" y="438"/>
                                  </a:lnTo>
                                  <a:lnTo>
                                    <a:pt x="895" y="427"/>
                                  </a:lnTo>
                                  <a:lnTo>
                                    <a:pt x="887" y="414"/>
                                  </a:lnTo>
                                  <a:lnTo>
                                    <a:pt x="882" y="406"/>
                                  </a:lnTo>
                                  <a:lnTo>
                                    <a:pt x="879" y="394"/>
                                  </a:lnTo>
                                  <a:lnTo>
                                    <a:pt x="882" y="381"/>
                                  </a:lnTo>
                                  <a:lnTo>
                                    <a:pt x="887" y="372"/>
                                  </a:lnTo>
                                  <a:lnTo>
                                    <a:pt x="894" y="362"/>
                                  </a:lnTo>
                                  <a:lnTo>
                                    <a:pt x="900" y="352"/>
                                  </a:lnTo>
                                  <a:lnTo>
                                    <a:pt x="908" y="341"/>
                                  </a:lnTo>
                                  <a:lnTo>
                                    <a:pt x="913" y="330"/>
                                  </a:lnTo>
                                  <a:lnTo>
                                    <a:pt x="912" y="316"/>
                                  </a:lnTo>
                                  <a:lnTo>
                                    <a:pt x="907" y="305"/>
                                  </a:lnTo>
                                  <a:lnTo>
                                    <a:pt x="900" y="295"/>
                                  </a:lnTo>
                                  <a:lnTo>
                                    <a:pt x="894" y="286"/>
                                  </a:lnTo>
                                  <a:lnTo>
                                    <a:pt x="886" y="275"/>
                                  </a:lnTo>
                                  <a:lnTo>
                                    <a:pt x="883" y="263"/>
                                  </a:lnTo>
                                  <a:lnTo>
                                    <a:pt x="886" y="254"/>
                                  </a:lnTo>
                                  <a:lnTo>
                                    <a:pt x="895" y="240"/>
                                  </a:lnTo>
                                  <a:lnTo>
                                    <a:pt x="904" y="229"/>
                                  </a:lnTo>
                                  <a:lnTo>
                                    <a:pt x="908" y="217"/>
                                  </a:lnTo>
                                  <a:lnTo>
                                    <a:pt x="908" y="202"/>
                                  </a:lnTo>
                                  <a:lnTo>
                                    <a:pt x="903" y="187"/>
                                  </a:lnTo>
                                  <a:lnTo>
                                    <a:pt x="894" y="176"/>
                                  </a:lnTo>
                                  <a:lnTo>
                                    <a:pt x="890" y="168"/>
                                  </a:lnTo>
                                  <a:lnTo>
                                    <a:pt x="886" y="155"/>
                                  </a:lnTo>
                                  <a:lnTo>
                                    <a:pt x="887" y="141"/>
                                  </a:lnTo>
                                  <a:lnTo>
                                    <a:pt x="895" y="130"/>
                                  </a:lnTo>
                                  <a:lnTo>
                                    <a:pt x="900" y="122"/>
                                  </a:lnTo>
                                  <a:lnTo>
                                    <a:pt x="908" y="113"/>
                                  </a:lnTo>
                                  <a:lnTo>
                                    <a:pt x="912" y="101"/>
                                  </a:lnTo>
                                  <a:lnTo>
                                    <a:pt x="913" y="88"/>
                                  </a:lnTo>
                                  <a:lnTo>
                                    <a:pt x="911" y="80"/>
                                  </a:lnTo>
                                  <a:lnTo>
                                    <a:pt x="903" y="67"/>
                                  </a:lnTo>
                                  <a:lnTo>
                                    <a:pt x="895" y="56"/>
                                  </a:lnTo>
                                  <a:lnTo>
                                    <a:pt x="890" y="42"/>
                                  </a:lnTo>
                                  <a:lnTo>
                                    <a:pt x="890" y="29"/>
                                  </a:lnTo>
                                  <a:lnTo>
                                    <a:pt x="894" y="18"/>
                                  </a:lnTo>
                                  <a:lnTo>
                                    <a:pt x="891" y="0"/>
                                  </a:lnTo>
                                  <a:lnTo>
                                    <a:pt x="2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c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19" name="Freeform 22"/>
                            <p:cNvSpPr/>
                            <p:nvPr/>
                          </p:nvSpPr>
                          <p:spPr>
                            <a:xfrm>
                              <a:off x="1387440" y="2299680"/>
                              <a:ext cx="9000" cy="22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3" h="99">
                                  <a:moveTo>
                                    <a:pt x="6" y="0"/>
                                  </a:moveTo>
                                  <a:lnTo>
                                    <a:pt x="13" y="13"/>
                                  </a:lnTo>
                                  <a:lnTo>
                                    <a:pt x="24" y="26"/>
                                  </a:lnTo>
                                  <a:lnTo>
                                    <a:pt x="44" y="43"/>
                                  </a:lnTo>
                                  <a:lnTo>
                                    <a:pt x="68" y="57"/>
                                  </a:lnTo>
                                  <a:lnTo>
                                    <a:pt x="91" y="66"/>
                                  </a:lnTo>
                                  <a:lnTo>
                                    <a:pt x="113" y="72"/>
                                  </a:lnTo>
                                  <a:lnTo>
                                    <a:pt x="104" y="89"/>
                                  </a:lnTo>
                                  <a:lnTo>
                                    <a:pt x="75" y="85"/>
                                  </a:lnTo>
                                  <a:lnTo>
                                    <a:pt x="44" y="87"/>
                                  </a:lnTo>
                                  <a:lnTo>
                                    <a:pt x="24" y="99"/>
                                  </a:lnTo>
                                  <a:lnTo>
                                    <a:pt x="28" y="89"/>
                                  </a:lnTo>
                                  <a:lnTo>
                                    <a:pt x="27" y="78"/>
                                  </a:lnTo>
                                  <a:lnTo>
                                    <a:pt x="20" y="62"/>
                                  </a:lnTo>
                                  <a:lnTo>
                                    <a:pt x="11" y="49"/>
                                  </a:lnTo>
                                  <a:lnTo>
                                    <a:pt x="2" y="34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480" bIns="-2448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0" name="Freeform 23"/>
                            <p:cNvSpPr/>
                            <p:nvPr/>
                          </p:nvSpPr>
                          <p:spPr>
                            <a:xfrm>
                              <a:off x="1387440" y="2327400"/>
                              <a:ext cx="12240" cy="18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9" h="84">
                                  <a:moveTo>
                                    <a:pt x="0" y="1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9" y="10"/>
                                  </a:lnTo>
                                  <a:lnTo>
                                    <a:pt x="21" y="15"/>
                                  </a:lnTo>
                                  <a:lnTo>
                                    <a:pt x="42" y="25"/>
                                  </a:lnTo>
                                  <a:lnTo>
                                    <a:pt x="64" y="31"/>
                                  </a:lnTo>
                                  <a:lnTo>
                                    <a:pt x="98" y="38"/>
                                  </a:lnTo>
                                  <a:lnTo>
                                    <a:pt x="137" y="44"/>
                                  </a:lnTo>
                                  <a:lnTo>
                                    <a:pt x="149" y="80"/>
                                  </a:lnTo>
                                  <a:lnTo>
                                    <a:pt x="106" y="69"/>
                                  </a:lnTo>
                                  <a:lnTo>
                                    <a:pt x="72" y="65"/>
                                  </a:lnTo>
                                  <a:lnTo>
                                    <a:pt x="45" y="71"/>
                                  </a:lnTo>
                                  <a:lnTo>
                                    <a:pt x="25" y="84"/>
                                  </a:lnTo>
                                  <a:lnTo>
                                    <a:pt x="25" y="73"/>
                                  </a:lnTo>
                                  <a:lnTo>
                                    <a:pt x="25" y="63"/>
                                  </a:lnTo>
                                  <a:lnTo>
                                    <a:pt x="21" y="52"/>
                                  </a:lnTo>
                                  <a:lnTo>
                                    <a:pt x="9" y="36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0" y="1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080" bIns="-2808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1" name="Freeform 24"/>
                            <p:cNvSpPr/>
                            <p:nvPr/>
                          </p:nvSpPr>
                          <p:spPr>
                            <a:xfrm>
                              <a:off x="1387080" y="2351160"/>
                              <a:ext cx="14400" cy="23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5" h="104">
                                  <a:moveTo>
                                    <a:pt x="2" y="13"/>
                                  </a:moveTo>
                                  <a:lnTo>
                                    <a:pt x="10" y="0"/>
                                  </a:lnTo>
                                  <a:lnTo>
                                    <a:pt x="21" y="17"/>
                                  </a:lnTo>
                                  <a:lnTo>
                                    <a:pt x="32" y="25"/>
                                  </a:lnTo>
                                  <a:lnTo>
                                    <a:pt x="45" y="34"/>
                                  </a:lnTo>
                                  <a:lnTo>
                                    <a:pt x="69" y="42"/>
                                  </a:lnTo>
                                  <a:lnTo>
                                    <a:pt x="96" y="49"/>
                                  </a:lnTo>
                                  <a:lnTo>
                                    <a:pt x="126" y="59"/>
                                  </a:lnTo>
                                  <a:lnTo>
                                    <a:pt x="167" y="72"/>
                                  </a:lnTo>
                                  <a:lnTo>
                                    <a:pt x="175" y="104"/>
                                  </a:lnTo>
                                  <a:lnTo>
                                    <a:pt x="133" y="87"/>
                                  </a:lnTo>
                                  <a:lnTo>
                                    <a:pt x="103" y="76"/>
                                  </a:lnTo>
                                  <a:lnTo>
                                    <a:pt x="78" y="72"/>
                                  </a:lnTo>
                                  <a:lnTo>
                                    <a:pt x="58" y="72"/>
                                  </a:lnTo>
                                  <a:lnTo>
                                    <a:pt x="48" y="80"/>
                                  </a:lnTo>
                                  <a:lnTo>
                                    <a:pt x="36" y="91"/>
                                  </a:lnTo>
                                  <a:lnTo>
                                    <a:pt x="34" y="78"/>
                                  </a:lnTo>
                                  <a:lnTo>
                                    <a:pt x="21" y="59"/>
                                  </a:lnTo>
                                  <a:lnTo>
                                    <a:pt x="10" y="45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2" y="1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3400" bIns="-234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2" name="Freeform 25"/>
                            <p:cNvSpPr/>
                            <p:nvPr/>
                          </p:nvSpPr>
                          <p:spPr>
                            <a:xfrm>
                              <a:off x="1388520" y="2377080"/>
                              <a:ext cx="16920" cy="51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08" h="230">
                                  <a:moveTo>
                                    <a:pt x="2" y="35"/>
                                  </a:moveTo>
                                  <a:lnTo>
                                    <a:pt x="0" y="21"/>
                                  </a:lnTo>
                                  <a:lnTo>
                                    <a:pt x="0" y="11"/>
                                  </a:lnTo>
                                  <a:lnTo>
                                    <a:pt x="8" y="0"/>
                                  </a:lnTo>
                                  <a:lnTo>
                                    <a:pt x="22" y="17"/>
                                  </a:lnTo>
                                  <a:lnTo>
                                    <a:pt x="47" y="32"/>
                                  </a:lnTo>
                                  <a:lnTo>
                                    <a:pt x="72" y="44"/>
                                  </a:lnTo>
                                  <a:lnTo>
                                    <a:pt x="106" y="55"/>
                                  </a:lnTo>
                                  <a:lnTo>
                                    <a:pt x="156" y="65"/>
                                  </a:lnTo>
                                  <a:lnTo>
                                    <a:pt x="166" y="91"/>
                                  </a:lnTo>
                                  <a:lnTo>
                                    <a:pt x="140" y="84"/>
                                  </a:lnTo>
                                  <a:lnTo>
                                    <a:pt x="114" y="80"/>
                                  </a:lnTo>
                                  <a:lnTo>
                                    <a:pt x="101" y="82"/>
                                  </a:lnTo>
                                  <a:lnTo>
                                    <a:pt x="97" y="95"/>
                                  </a:lnTo>
                                  <a:lnTo>
                                    <a:pt x="105" y="112"/>
                                  </a:lnTo>
                                  <a:lnTo>
                                    <a:pt x="115" y="128"/>
                                  </a:lnTo>
                                  <a:lnTo>
                                    <a:pt x="136" y="153"/>
                                  </a:lnTo>
                                  <a:lnTo>
                                    <a:pt x="166" y="179"/>
                                  </a:lnTo>
                                  <a:lnTo>
                                    <a:pt x="208" y="209"/>
                                  </a:lnTo>
                                  <a:lnTo>
                                    <a:pt x="208" y="230"/>
                                  </a:lnTo>
                                  <a:lnTo>
                                    <a:pt x="190" y="219"/>
                                  </a:lnTo>
                                  <a:lnTo>
                                    <a:pt x="166" y="205"/>
                                  </a:lnTo>
                                  <a:lnTo>
                                    <a:pt x="132" y="179"/>
                                  </a:lnTo>
                                  <a:lnTo>
                                    <a:pt x="105" y="150"/>
                                  </a:lnTo>
                                  <a:lnTo>
                                    <a:pt x="80" y="128"/>
                                  </a:lnTo>
                                  <a:lnTo>
                                    <a:pt x="56" y="101"/>
                                  </a:lnTo>
                                  <a:lnTo>
                                    <a:pt x="36" y="78"/>
                                  </a:lnTo>
                                  <a:lnTo>
                                    <a:pt x="15" y="57"/>
                                  </a:lnTo>
                                  <a:lnTo>
                                    <a:pt x="2" y="3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3" name="Freeform 26"/>
                            <p:cNvSpPr/>
                            <p:nvPr/>
                          </p:nvSpPr>
                          <p:spPr>
                            <a:xfrm>
                              <a:off x="1388880" y="2283480"/>
                              <a:ext cx="6840" cy="15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69">
                                  <a:moveTo>
                                    <a:pt x="0" y="0"/>
                                  </a:moveTo>
                                  <a:lnTo>
                                    <a:pt x="11" y="10"/>
                                  </a:lnTo>
                                  <a:lnTo>
                                    <a:pt x="25" y="21"/>
                                  </a:lnTo>
                                  <a:lnTo>
                                    <a:pt x="42" y="33"/>
                                  </a:lnTo>
                                  <a:lnTo>
                                    <a:pt x="60" y="44"/>
                                  </a:lnTo>
                                  <a:lnTo>
                                    <a:pt x="77" y="54"/>
                                  </a:lnTo>
                                  <a:lnTo>
                                    <a:pt x="86" y="61"/>
                                  </a:lnTo>
                                  <a:lnTo>
                                    <a:pt x="65" y="69"/>
                                  </a:lnTo>
                                  <a:lnTo>
                                    <a:pt x="42" y="61"/>
                                  </a:lnTo>
                                  <a:lnTo>
                                    <a:pt x="18" y="52"/>
                                  </a:lnTo>
                                  <a:lnTo>
                                    <a:pt x="0" y="42"/>
                                  </a:lnTo>
                                  <a:lnTo>
                                    <a:pt x="1" y="33"/>
                                  </a:lnTo>
                                  <a:lnTo>
                                    <a:pt x="4" y="17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1320" bIns="-313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4" name="Freeform 27"/>
                            <p:cNvSpPr/>
                            <p:nvPr/>
                          </p:nvSpPr>
                          <p:spPr>
                            <a:xfrm>
                              <a:off x="1401840" y="2279520"/>
                              <a:ext cx="60120" cy="155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2" h="689">
                                  <a:moveTo>
                                    <a:pt x="294" y="135"/>
                                  </a:moveTo>
                                  <a:lnTo>
                                    <a:pt x="186" y="143"/>
                                  </a:lnTo>
                                  <a:lnTo>
                                    <a:pt x="348" y="158"/>
                                  </a:lnTo>
                                  <a:lnTo>
                                    <a:pt x="338" y="166"/>
                                  </a:lnTo>
                                  <a:lnTo>
                                    <a:pt x="318" y="173"/>
                                  </a:lnTo>
                                  <a:lnTo>
                                    <a:pt x="292" y="181"/>
                                  </a:lnTo>
                                  <a:lnTo>
                                    <a:pt x="258" y="190"/>
                                  </a:lnTo>
                                  <a:lnTo>
                                    <a:pt x="222" y="196"/>
                                  </a:lnTo>
                                  <a:lnTo>
                                    <a:pt x="175" y="200"/>
                                  </a:lnTo>
                                  <a:lnTo>
                                    <a:pt x="120" y="206"/>
                                  </a:lnTo>
                                  <a:lnTo>
                                    <a:pt x="61" y="209"/>
                                  </a:lnTo>
                                  <a:lnTo>
                                    <a:pt x="0" y="209"/>
                                  </a:lnTo>
                                  <a:lnTo>
                                    <a:pt x="95" y="232"/>
                                  </a:lnTo>
                                  <a:lnTo>
                                    <a:pt x="154" y="244"/>
                                  </a:lnTo>
                                  <a:lnTo>
                                    <a:pt x="205" y="244"/>
                                  </a:lnTo>
                                  <a:lnTo>
                                    <a:pt x="267" y="244"/>
                                  </a:lnTo>
                                  <a:lnTo>
                                    <a:pt x="359" y="236"/>
                                  </a:lnTo>
                                  <a:lnTo>
                                    <a:pt x="435" y="225"/>
                                  </a:lnTo>
                                  <a:lnTo>
                                    <a:pt x="499" y="209"/>
                                  </a:lnTo>
                                  <a:lnTo>
                                    <a:pt x="567" y="188"/>
                                  </a:lnTo>
                                  <a:lnTo>
                                    <a:pt x="597" y="177"/>
                                  </a:lnTo>
                                  <a:lnTo>
                                    <a:pt x="625" y="168"/>
                                  </a:lnTo>
                                  <a:lnTo>
                                    <a:pt x="640" y="164"/>
                                  </a:lnTo>
                                  <a:lnTo>
                                    <a:pt x="648" y="169"/>
                                  </a:lnTo>
                                  <a:lnTo>
                                    <a:pt x="648" y="181"/>
                                  </a:lnTo>
                                  <a:lnTo>
                                    <a:pt x="642" y="194"/>
                                  </a:lnTo>
                                  <a:lnTo>
                                    <a:pt x="625" y="208"/>
                                  </a:lnTo>
                                  <a:lnTo>
                                    <a:pt x="597" y="226"/>
                                  </a:lnTo>
                                  <a:lnTo>
                                    <a:pt x="557" y="244"/>
                                  </a:lnTo>
                                  <a:lnTo>
                                    <a:pt x="510" y="263"/>
                                  </a:lnTo>
                                  <a:lnTo>
                                    <a:pt x="448" y="282"/>
                                  </a:lnTo>
                                  <a:lnTo>
                                    <a:pt x="376" y="297"/>
                                  </a:lnTo>
                                  <a:lnTo>
                                    <a:pt x="304" y="308"/>
                                  </a:lnTo>
                                  <a:lnTo>
                                    <a:pt x="228" y="320"/>
                                  </a:lnTo>
                                  <a:lnTo>
                                    <a:pt x="95" y="333"/>
                                  </a:lnTo>
                                  <a:lnTo>
                                    <a:pt x="177" y="352"/>
                                  </a:lnTo>
                                  <a:lnTo>
                                    <a:pt x="243" y="360"/>
                                  </a:lnTo>
                                  <a:lnTo>
                                    <a:pt x="326" y="358"/>
                                  </a:lnTo>
                                  <a:lnTo>
                                    <a:pt x="411" y="347"/>
                                  </a:lnTo>
                                  <a:lnTo>
                                    <a:pt x="474" y="333"/>
                                  </a:lnTo>
                                  <a:lnTo>
                                    <a:pt x="525" y="320"/>
                                  </a:lnTo>
                                  <a:lnTo>
                                    <a:pt x="567" y="308"/>
                                  </a:lnTo>
                                  <a:lnTo>
                                    <a:pt x="610" y="293"/>
                                  </a:lnTo>
                                  <a:lnTo>
                                    <a:pt x="644" y="280"/>
                                  </a:lnTo>
                                  <a:lnTo>
                                    <a:pt x="659" y="276"/>
                                  </a:lnTo>
                                  <a:lnTo>
                                    <a:pt x="668" y="276"/>
                                  </a:lnTo>
                                  <a:lnTo>
                                    <a:pt x="667" y="287"/>
                                  </a:lnTo>
                                  <a:lnTo>
                                    <a:pt x="661" y="299"/>
                                  </a:lnTo>
                                  <a:lnTo>
                                    <a:pt x="648" y="314"/>
                                  </a:lnTo>
                                  <a:lnTo>
                                    <a:pt x="617" y="335"/>
                                  </a:lnTo>
                                  <a:lnTo>
                                    <a:pt x="584" y="354"/>
                                  </a:lnTo>
                                  <a:lnTo>
                                    <a:pt x="546" y="371"/>
                                  </a:lnTo>
                                  <a:lnTo>
                                    <a:pt x="496" y="390"/>
                                  </a:lnTo>
                                  <a:lnTo>
                                    <a:pt x="439" y="407"/>
                                  </a:lnTo>
                                  <a:lnTo>
                                    <a:pt x="352" y="426"/>
                                  </a:lnTo>
                                  <a:lnTo>
                                    <a:pt x="294" y="438"/>
                                  </a:lnTo>
                                  <a:lnTo>
                                    <a:pt x="237" y="444"/>
                                  </a:lnTo>
                                  <a:lnTo>
                                    <a:pt x="154" y="449"/>
                                  </a:lnTo>
                                  <a:lnTo>
                                    <a:pt x="239" y="461"/>
                                  </a:lnTo>
                                  <a:lnTo>
                                    <a:pt x="305" y="466"/>
                                  </a:lnTo>
                                  <a:lnTo>
                                    <a:pt x="360" y="468"/>
                                  </a:lnTo>
                                  <a:lnTo>
                                    <a:pt x="423" y="466"/>
                                  </a:lnTo>
                                  <a:lnTo>
                                    <a:pt x="482" y="458"/>
                                  </a:lnTo>
                                  <a:lnTo>
                                    <a:pt x="530" y="447"/>
                                  </a:lnTo>
                                  <a:lnTo>
                                    <a:pt x="568" y="434"/>
                                  </a:lnTo>
                                  <a:lnTo>
                                    <a:pt x="629" y="413"/>
                                  </a:lnTo>
                                  <a:lnTo>
                                    <a:pt x="637" y="413"/>
                                  </a:lnTo>
                                  <a:lnTo>
                                    <a:pt x="644" y="417"/>
                                  </a:lnTo>
                                  <a:lnTo>
                                    <a:pt x="642" y="430"/>
                                  </a:lnTo>
                                  <a:lnTo>
                                    <a:pt x="634" y="444"/>
                                  </a:lnTo>
                                  <a:lnTo>
                                    <a:pt x="620" y="458"/>
                                  </a:lnTo>
                                  <a:lnTo>
                                    <a:pt x="599" y="474"/>
                                  </a:lnTo>
                                  <a:lnTo>
                                    <a:pt x="563" y="493"/>
                                  </a:lnTo>
                                  <a:lnTo>
                                    <a:pt x="525" y="510"/>
                                  </a:lnTo>
                                  <a:lnTo>
                                    <a:pt x="489" y="521"/>
                                  </a:lnTo>
                                  <a:lnTo>
                                    <a:pt x="448" y="531"/>
                                  </a:lnTo>
                                  <a:lnTo>
                                    <a:pt x="410" y="537"/>
                                  </a:lnTo>
                                  <a:lnTo>
                                    <a:pt x="360" y="542"/>
                                  </a:lnTo>
                                  <a:lnTo>
                                    <a:pt x="305" y="545"/>
                                  </a:lnTo>
                                  <a:lnTo>
                                    <a:pt x="250" y="546"/>
                                  </a:lnTo>
                                  <a:lnTo>
                                    <a:pt x="166" y="546"/>
                                  </a:lnTo>
                                  <a:lnTo>
                                    <a:pt x="211" y="562"/>
                                  </a:lnTo>
                                  <a:lnTo>
                                    <a:pt x="253" y="573"/>
                                  </a:lnTo>
                                  <a:lnTo>
                                    <a:pt x="301" y="579"/>
                                  </a:lnTo>
                                  <a:lnTo>
                                    <a:pt x="342" y="580"/>
                                  </a:lnTo>
                                  <a:lnTo>
                                    <a:pt x="384" y="583"/>
                                  </a:lnTo>
                                  <a:lnTo>
                                    <a:pt x="427" y="580"/>
                                  </a:lnTo>
                                  <a:lnTo>
                                    <a:pt x="462" y="579"/>
                                  </a:lnTo>
                                  <a:lnTo>
                                    <a:pt x="495" y="573"/>
                                  </a:lnTo>
                                  <a:lnTo>
                                    <a:pt x="540" y="562"/>
                                  </a:lnTo>
                                  <a:lnTo>
                                    <a:pt x="574" y="554"/>
                                  </a:lnTo>
                                  <a:lnTo>
                                    <a:pt x="587" y="555"/>
                                  </a:lnTo>
                                  <a:lnTo>
                                    <a:pt x="589" y="565"/>
                                  </a:lnTo>
                                  <a:lnTo>
                                    <a:pt x="585" y="575"/>
                                  </a:lnTo>
                                  <a:lnTo>
                                    <a:pt x="576" y="586"/>
                                  </a:lnTo>
                                  <a:lnTo>
                                    <a:pt x="561" y="597"/>
                                  </a:lnTo>
                                  <a:lnTo>
                                    <a:pt x="544" y="605"/>
                                  </a:lnTo>
                                  <a:lnTo>
                                    <a:pt x="525" y="614"/>
                                  </a:lnTo>
                                  <a:lnTo>
                                    <a:pt x="495" y="622"/>
                                  </a:lnTo>
                                  <a:lnTo>
                                    <a:pt x="432" y="631"/>
                                  </a:lnTo>
                                  <a:lnTo>
                                    <a:pt x="372" y="639"/>
                                  </a:lnTo>
                                  <a:lnTo>
                                    <a:pt x="253" y="649"/>
                                  </a:lnTo>
                                  <a:lnTo>
                                    <a:pt x="407" y="656"/>
                                  </a:lnTo>
                                  <a:lnTo>
                                    <a:pt x="439" y="656"/>
                                  </a:lnTo>
                                  <a:lnTo>
                                    <a:pt x="453" y="663"/>
                                  </a:lnTo>
                                  <a:lnTo>
                                    <a:pt x="461" y="670"/>
                                  </a:lnTo>
                                  <a:lnTo>
                                    <a:pt x="458" y="681"/>
                                  </a:lnTo>
                                  <a:lnTo>
                                    <a:pt x="466" y="687"/>
                                  </a:lnTo>
                                  <a:lnTo>
                                    <a:pt x="486" y="689"/>
                                  </a:lnTo>
                                  <a:lnTo>
                                    <a:pt x="516" y="677"/>
                                  </a:lnTo>
                                  <a:lnTo>
                                    <a:pt x="542" y="664"/>
                                  </a:lnTo>
                                  <a:lnTo>
                                    <a:pt x="563" y="651"/>
                                  </a:lnTo>
                                  <a:lnTo>
                                    <a:pt x="580" y="639"/>
                                  </a:lnTo>
                                  <a:lnTo>
                                    <a:pt x="597" y="621"/>
                                  </a:lnTo>
                                  <a:lnTo>
                                    <a:pt x="651" y="548"/>
                                  </a:lnTo>
                                  <a:lnTo>
                                    <a:pt x="693" y="485"/>
                                  </a:lnTo>
                                  <a:lnTo>
                                    <a:pt x="709" y="453"/>
                                  </a:lnTo>
                                  <a:lnTo>
                                    <a:pt x="713" y="440"/>
                                  </a:lnTo>
                                  <a:lnTo>
                                    <a:pt x="714" y="430"/>
                                  </a:lnTo>
                                  <a:lnTo>
                                    <a:pt x="714" y="419"/>
                                  </a:lnTo>
                                  <a:lnTo>
                                    <a:pt x="706" y="406"/>
                                  </a:lnTo>
                                  <a:lnTo>
                                    <a:pt x="701" y="398"/>
                                  </a:lnTo>
                                  <a:lnTo>
                                    <a:pt x="698" y="386"/>
                                  </a:lnTo>
                                  <a:lnTo>
                                    <a:pt x="701" y="373"/>
                                  </a:lnTo>
                                  <a:lnTo>
                                    <a:pt x="706" y="364"/>
                                  </a:lnTo>
                                  <a:lnTo>
                                    <a:pt x="713" y="354"/>
                                  </a:lnTo>
                                  <a:lnTo>
                                    <a:pt x="719" y="344"/>
                                  </a:lnTo>
                                  <a:lnTo>
                                    <a:pt x="727" y="333"/>
                                  </a:lnTo>
                                  <a:lnTo>
                                    <a:pt x="732" y="322"/>
                                  </a:lnTo>
                                  <a:lnTo>
                                    <a:pt x="731" y="308"/>
                                  </a:lnTo>
                                  <a:lnTo>
                                    <a:pt x="726" y="297"/>
                                  </a:lnTo>
                                  <a:lnTo>
                                    <a:pt x="719" y="287"/>
                                  </a:lnTo>
                                  <a:lnTo>
                                    <a:pt x="713" y="278"/>
                                  </a:lnTo>
                                  <a:lnTo>
                                    <a:pt x="705" y="267"/>
                                  </a:lnTo>
                                  <a:lnTo>
                                    <a:pt x="702" y="255"/>
                                  </a:lnTo>
                                  <a:lnTo>
                                    <a:pt x="705" y="246"/>
                                  </a:lnTo>
                                  <a:lnTo>
                                    <a:pt x="714" y="232"/>
                                  </a:lnTo>
                                  <a:lnTo>
                                    <a:pt x="723" y="221"/>
                                  </a:lnTo>
                                  <a:lnTo>
                                    <a:pt x="727" y="209"/>
                                  </a:lnTo>
                                  <a:lnTo>
                                    <a:pt x="727" y="194"/>
                                  </a:lnTo>
                                  <a:lnTo>
                                    <a:pt x="722" y="179"/>
                                  </a:lnTo>
                                  <a:lnTo>
                                    <a:pt x="713" y="168"/>
                                  </a:lnTo>
                                  <a:lnTo>
                                    <a:pt x="709" y="160"/>
                                  </a:lnTo>
                                  <a:lnTo>
                                    <a:pt x="705" y="147"/>
                                  </a:lnTo>
                                  <a:lnTo>
                                    <a:pt x="706" y="133"/>
                                  </a:lnTo>
                                  <a:lnTo>
                                    <a:pt x="714" y="122"/>
                                  </a:lnTo>
                                  <a:lnTo>
                                    <a:pt x="719" y="114"/>
                                  </a:lnTo>
                                  <a:lnTo>
                                    <a:pt x="727" y="105"/>
                                  </a:lnTo>
                                  <a:lnTo>
                                    <a:pt x="731" y="93"/>
                                  </a:lnTo>
                                  <a:lnTo>
                                    <a:pt x="732" y="80"/>
                                  </a:lnTo>
                                  <a:lnTo>
                                    <a:pt x="730" y="72"/>
                                  </a:lnTo>
                                  <a:lnTo>
                                    <a:pt x="722" y="59"/>
                                  </a:lnTo>
                                  <a:lnTo>
                                    <a:pt x="714" y="48"/>
                                  </a:lnTo>
                                  <a:lnTo>
                                    <a:pt x="709" y="34"/>
                                  </a:lnTo>
                                  <a:lnTo>
                                    <a:pt x="709" y="0"/>
                                  </a:lnTo>
                                  <a:lnTo>
                                    <a:pt x="634" y="50"/>
                                  </a:lnTo>
                                  <a:lnTo>
                                    <a:pt x="589" y="69"/>
                                  </a:lnTo>
                                  <a:lnTo>
                                    <a:pt x="536" y="86"/>
                                  </a:lnTo>
                                  <a:lnTo>
                                    <a:pt x="475" y="105"/>
                                  </a:lnTo>
                                  <a:lnTo>
                                    <a:pt x="420" y="116"/>
                                  </a:lnTo>
                                  <a:lnTo>
                                    <a:pt x="365" y="126"/>
                                  </a:lnTo>
                                  <a:lnTo>
                                    <a:pt x="294" y="13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625" name="Group 28"/>
                        <p:cNvGrpSpPr/>
                        <p:nvPr/>
                      </p:nvGrpSpPr>
                      <p:grpSpPr>
                        <a:xfrm>
                          <a:off x="1437120" y="2304360"/>
                          <a:ext cx="17640" cy="98280"/>
                          <a:chOff x="1437120" y="2304360"/>
                          <a:chExt cx="17640" cy="98280"/>
                        </a:xfrm>
                      </p:grpSpPr>
                      <p:sp>
                        <p:nvSpPr>
                          <p:cNvPr id="2626" name="Freeform 29"/>
                          <p:cNvSpPr/>
                          <p:nvPr/>
                        </p:nvSpPr>
                        <p:spPr>
                          <a:xfrm>
                            <a:off x="1440360" y="2330280"/>
                            <a:ext cx="13680" cy="15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70">
                                <a:moveTo>
                                  <a:pt x="167" y="13"/>
                                </a:moveTo>
                                <a:lnTo>
                                  <a:pt x="151" y="0"/>
                                </a:lnTo>
                                <a:lnTo>
                                  <a:pt x="100" y="26"/>
                                </a:lnTo>
                                <a:lnTo>
                                  <a:pt x="49" y="45"/>
                                </a:lnTo>
                                <a:lnTo>
                                  <a:pt x="0" y="59"/>
                                </a:lnTo>
                                <a:lnTo>
                                  <a:pt x="9" y="70"/>
                                </a:lnTo>
                                <a:lnTo>
                                  <a:pt x="43" y="70"/>
                                </a:lnTo>
                                <a:lnTo>
                                  <a:pt x="89" y="60"/>
                                </a:lnTo>
                                <a:lnTo>
                                  <a:pt x="130" y="40"/>
                                </a:lnTo>
                                <a:lnTo>
                                  <a:pt x="167" y="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e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320" bIns="-31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4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27" name="Freeform 30"/>
                          <p:cNvSpPr/>
                          <p:nvPr/>
                        </p:nvSpPr>
                        <p:spPr>
                          <a:xfrm>
                            <a:off x="1442880" y="2355840"/>
                            <a:ext cx="11880" cy="1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6" h="78">
                                <a:moveTo>
                                  <a:pt x="146" y="15"/>
                                </a:moveTo>
                                <a:lnTo>
                                  <a:pt x="138" y="0"/>
                                </a:lnTo>
                                <a:lnTo>
                                  <a:pt x="89" y="34"/>
                                </a:lnTo>
                                <a:lnTo>
                                  <a:pt x="50" y="51"/>
                                </a:lnTo>
                                <a:lnTo>
                                  <a:pt x="0" y="66"/>
                                </a:lnTo>
                                <a:lnTo>
                                  <a:pt x="10" y="78"/>
                                </a:lnTo>
                                <a:lnTo>
                                  <a:pt x="42" y="78"/>
                                </a:lnTo>
                                <a:lnTo>
                                  <a:pt x="74" y="69"/>
                                </a:lnTo>
                                <a:lnTo>
                                  <a:pt x="112" y="45"/>
                                </a:lnTo>
                                <a:lnTo>
                                  <a:pt x="146" y="1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e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4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28" name="Freeform 31"/>
                          <p:cNvSpPr/>
                          <p:nvPr/>
                        </p:nvSpPr>
                        <p:spPr>
                          <a:xfrm>
                            <a:off x="1442160" y="2385360"/>
                            <a:ext cx="12240" cy="1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9" h="77">
                                <a:moveTo>
                                  <a:pt x="149" y="11"/>
                                </a:moveTo>
                                <a:lnTo>
                                  <a:pt x="138" y="0"/>
                                </a:lnTo>
                                <a:lnTo>
                                  <a:pt x="93" y="31"/>
                                </a:lnTo>
                                <a:lnTo>
                                  <a:pt x="49" y="49"/>
                                </a:lnTo>
                                <a:lnTo>
                                  <a:pt x="0" y="63"/>
                                </a:lnTo>
                                <a:lnTo>
                                  <a:pt x="9" y="77"/>
                                </a:lnTo>
                                <a:lnTo>
                                  <a:pt x="42" y="74"/>
                                </a:lnTo>
                                <a:lnTo>
                                  <a:pt x="81" y="65"/>
                                </a:lnTo>
                                <a:lnTo>
                                  <a:pt x="121" y="40"/>
                                </a:lnTo>
                                <a:lnTo>
                                  <a:pt x="149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e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4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29" name="Freeform 32"/>
                          <p:cNvSpPr/>
                          <p:nvPr/>
                        </p:nvSpPr>
                        <p:spPr>
                          <a:xfrm>
                            <a:off x="1437120" y="2304360"/>
                            <a:ext cx="14040" cy="15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1" h="68">
                                <a:moveTo>
                                  <a:pt x="171" y="13"/>
                                </a:moveTo>
                                <a:lnTo>
                                  <a:pt x="154" y="0"/>
                                </a:lnTo>
                                <a:lnTo>
                                  <a:pt x="97" y="26"/>
                                </a:lnTo>
                                <a:lnTo>
                                  <a:pt x="50" y="41"/>
                                </a:lnTo>
                                <a:lnTo>
                                  <a:pt x="0" y="55"/>
                                </a:lnTo>
                                <a:lnTo>
                                  <a:pt x="11" y="68"/>
                                </a:lnTo>
                                <a:lnTo>
                                  <a:pt x="42" y="66"/>
                                </a:lnTo>
                                <a:lnTo>
                                  <a:pt x="82" y="57"/>
                                </a:lnTo>
                                <a:lnTo>
                                  <a:pt x="127" y="40"/>
                                </a:lnTo>
                                <a:lnTo>
                                  <a:pt x="171" y="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e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4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630" name="Freeform 33"/>
                      <p:cNvSpPr/>
                      <p:nvPr/>
                    </p:nvSpPr>
                    <p:spPr>
                      <a:xfrm>
                        <a:off x="1342080" y="1643400"/>
                        <a:ext cx="165240" cy="65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9" h="2908">
                            <a:moveTo>
                              <a:pt x="1415" y="2830"/>
                            </a:moveTo>
                            <a:lnTo>
                              <a:pt x="1432" y="2818"/>
                            </a:lnTo>
                            <a:lnTo>
                              <a:pt x="1445" y="2807"/>
                            </a:lnTo>
                            <a:lnTo>
                              <a:pt x="1453" y="2799"/>
                            </a:lnTo>
                            <a:lnTo>
                              <a:pt x="1458" y="2790"/>
                            </a:lnTo>
                            <a:lnTo>
                              <a:pt x="1463" y="2784"/>
                            </a:lnTo>
                            <a:lnTo>
                              <a:pt x="1466" y="2778"/>
                            </a:lnTo>
                            <a:lnTo>
                              <a:pt x="1470" y="2773"/>
                            </a:lnTo>
                            <a:lnTo>
                              <a:pt x="1471" y="2765"/>
                            </a:lnTo>
                            <a:lnTo>
                              <a:pt x="1474" y="2756"/>
                            </a:lnTo>
                            <a:lnTo>
                              <a:pt x="1475" y="2744"/>
                            </a:lnTo>
                            <a:lnTo>
                              <a:pt x="1484" y="2698"/>
                            </a:lnTo>
                            <a:lnTo>
                              <a:pt x="1543" y="2322"/>
                            </a:lnTo>
                            <a:lnTo>
                              <a:pt x="1554" y="2268"/>
                            </a:lnTo>
                            <a:lnTo>
                              <a:pt x="1563" y="2229"/>
                            </a:lnTo>
                            <a:lnTo>
                              <a:pt x="1577" y="2175"/>
                            </a:lnTo>
                            <a:lnTo>
                              <a:pt x="1598" y="2115"/>
                            </a:lnTo>
                            <a:lnTo>
                              <a:pt x="1619" y="2062"/>
                            </a:lnTo>
                            <a:lnTo>
                              <a:pt x="1638" y="2018"/>
                            </a:lnTo>
                            <a:lnTo>
                              <a:pt x="1655" y="1980"/>
                            </a:lnTo>
                            <a:lnTo>
                              <a:pt x="1672" y="1943"/>
                            </a:lnTo>
                            <a:lnTo>
                              <a:pt x="1706" y="1880"/>
                            </a:lnTo>
                            <a:lnTo>
                              <a:pt x="1740" y="1821"/>
                            </a:lnTo>
                            <a:lnTo>
                              <a:pt x="1773" y="1766"/>
                            </a:lnTo>
                            <a:lnTo>
                              <a:pt x="1799" y="1724"/>
                            </a:lnTo>
                            <a:lnTo>
                              <a:pt x="1846" y="1645"/>
                            </a:lnTo>
                            <a:lnTo>
                              <a:pt x="1879" y="1590"/>
                            </a:lnTo>
                            <a:lnTo>
                              <a:pt x="1905" y="1544"/>
                            </a:lnTo>
                            <a:lnTo>
                              <a:pt x="1927" y="1492"/>
                            </a:lnTo>
                            <a:lnTo>
                              <a:pt x="1952" y="1429"/>
                            </a:lnTo>
                            <a:lnTo>
                              <a:pt x="1969" y="1374"/>
                            </a:lnTo>
                            <a:lnTo>
                              <a:pt x="1985" y="1316"/>
                            </a:lnTo>
                            <a:lnTo>
                              <a:pt x="1995" y="1267"/>
                            </a:lnTo>
                            <a:lnTo>
                              <a:pt x="2007" y="1212"/>
                            </a:lnTo>
                            <a:lnTo>
                              <a:pt x="2015" y="1142"/>
                            </a:lnTo>
                            <a:lnTo>
                              <a:pt x="2019" y="1062"/>
                            </a:lnTo>
                            <a:lnTo>
                              <a:pt x="2019" y="987"/>
                            </a:lnTo>
                            <a:lnTo>
                              <a:pt x="2012" y="928"/>
                            </a:lnTo>
                            <a:lnTo>
                              <a:pt x="2003" y="873"/>
                            </a:lnTo>
                            <a:lnTo>
                              <a:pt x="1994" y="824"/>
                            </a:lnTo>
                            <a:lnTo>
                              <a:pt x="1978" y="759"/>
                            </a:lnTo>
                            <a:lnTo>
                              <a:pt x="1960" y="694"/>
                            </a:lnTo>
                            <a:lnTo>
                              <a:pt x="1940" y="634"/>
                            </a:lnTo>
                            <a:lnTo>
                              <a:pt x="1917" y="578"/>
                            </a:lnTo>
                            <a:lnTo>
                              <a:pt x="1888" y="529"/>
                            </a:lnTo>
                            <a:lnTo>
                              <a:pt x="1850" y="466"/>
                            </a:lnTo>
                            <a:lnTo>
                              <a:pt x="1807" y="403"/>
                            </a:lnTo>
                            <a:lnTo>
                              <a:pt x="1765" y="354"/>
                            </a:lnTo>
                            <a:lnTo>
                              <a:pt x="1727" y="312"/>
                            </a:lnTo>
                            <a:lnTo>
                              <a:pt x="1683" y="272"/>
                            </a:lnTo>
                            <a:lnTo>
                              <a:pt x="1636" y="232"/>
                            </a:lnTo>
                            <a:lnTo>
                              <a:pt x="1590" y="196"/>
                            </a:lnTo>
                            <a:lnTo>
                              <a:pt x="1535" y="159"/>
                            </a:lnTo>
                            <a:lnTo>
                              <a:pt x="1471" y="120"/>
                            </a:lnTo>
                            <a:lnTo>
                              <a:pt x="1411" y="90"/>
                            </a:lnTo>
                            <a:lnTo>
                              <a:pt x="1341" y="61"/>
                            </a:lnTo>
                            <a:lnTo>
                              <a:pt x="1277" y="40"/>
                            </a:lnTo>
                            <a:lnTo>
                              <a:pt x="1224" y="27"/>
                            </a:lnTo>
                            <a:lnTo>
                              <a:pt x="1167" y="14"/>
                            </a:lnTo>
                            <a:lnTo>
                              <a:pt x="1115" y="6"/>
                            </a:lnTo>
                            <a:lnTo>
                              <a:pt x="1053" y="0"/>
                            </a:lnTo>
                            <a:lnTo>
                              <a:pt x="997" y="0"/>
                            </a:lnTo>
                            <a:lnTo>
                              <a:pt x="936" y="0"/>
                            </a:lnTo>
                            <a:lnTo>
                              <a:pt x="885" y="6"/>
                            </a:lnTo>
                            <a:lnTo>
                              <a:pt x="826" y="19"/>
                            </a:lnTo>
                            <a:lnTo>
                              <a:pt x="782" y="28"/>
                            </a:lnTo>
                            <a:lnTo>
                              <a:pt x="727" y="44"/>
                            </a:lnTo>
                            <a:lnTo>
                              <a:pt x="676" y="59"/>
                            </a:lnTo>
                            <a:lnTo>
                              <a:pt x="630" y="78"/>
                            </a:lnTo>
                            <a:lnTo>
                              <a:pt x="586" y="97"/>
                            </a:lnTo>
                            <a:lnTo>
                              <a:pt x="541" y="121"/>
                            </a:lnTo>
                            <a:lnTo>
                              <a:pt x="501" y="145"/>
                            </a:lnTo>
                            <a:lnTo>
                              <a:pt x="456" y="175"/>
                            </a:lnTo>
                            <a:lnTo>
                              <a:pt x="408" y="209"/>
                            </a:lnTo>
                            <a:lnTo>
                              <a:pt x="365" y="242"/>
                            </a:lnTo>
                            <a:lnTo>
                              <a:pt x="326" y="277"/>
                            </a:lnTo>
                            <a:lnTo>
                              <a:pt x="284" y="316"/>
                            </a:lnTo>
                            <a:lnTo>
                              <a:pt x="242" y="360"/>
                            </a:lnTo>
                            <a:lnTo>
                              <a:pt x="206" y="402"/>
                            </a:lnTo>
                            <a:lnTo>
                              <a:pt x="175" y="441"/>
                            </a:lnTo>
                            <a:lnTo>
                              <a:pt x="140" y="495"/>
                            </a:lnTo>
                            <a:lnTo>
                              <a:pt x="106" y="554"/>
                            </a:lnTo>
                            <a:lnTo>
                              <a:pt x="75" y="620"/>
                            </a:lnTo>
                            <a:lnTo>
                              <a:pt x="53" y="685"/>
                            </a:lnTo>
                            <a:lnTo>
                              <a:pt x="34" y="752"/>
                            </a:lnTo>
                            <a:lnTo>
                              <a:pt x="17" y="818"/>
                            </a:lnTo>
                            <a:lnTo>
                              <a:pt x="7" y="879"/>
                            </a:lnTo>
                            <a:lnTo>
                              <a:pt x="0" y="940"/>
                            </a:lnTo>
                            <a:lnTo>
                              <a:pt x="0" y="999"/>
                            </a:lnTo>
                            <a:lnTo>
                              <a:pt x="0" y="1052"/>
                            </a:lnTo>
                            <a:lnTo>
                              <a:pt x="0" y="1115"/>
                            </a:lnTo>
                            <a:lnTo>
                              <a:pt x="3" y="1170"/>
                            </a:lnTo>
                            <a:lnTo>
                              <a:pt x="14" y="1239"/>
                            </a:lnTo>
                            <a:lnTo>
                              <a:pt x="24" y="1299"/>
                            </a:lnTo>
                            <a:lnTo>
                              <a:pt x="40" y="1358"/>
                            </a:lnTo>
                            <a:lnTo>
                              <a:pt x="62" y="1427"/>
                            </a:lnTo>
                            <a:lnTo>
                              <a:pt x="87" y="1488"/>
                            </a:lnTo>
                            <a:lnTo>
                              <a:pt x="113" y="1542"/>
                            </a:lnTo>
                            <a:lnTo>
                              <a:pt x="144" y="1602"/>
                            </a:lnTo>
                            <a:lnTo>
                              <a:pt x="178" y="1660"/>
                            </a:lnTo>
                            <a:lnTo>
                              <a:pt x="208" y="1715"/>
                            </a:lnTo>
                            <a:lnTo>
                              <a:pt x="239" y="1770"/>
                            </a:lnTo>
                            <a:lnTo>
                              <a:pt x="272" y="1830"/>
                            </a:lnTo>
                            <a:lnTo>
                              <a:pt x="323" y="1917"/>
                            </a:lnTo>
                            <a:lnTo>
                              <a:pt x="370" y="2007"/>
                            </a:lnTo>
                            <a:lnTo>
                              <a:pt x="398" y="2053"/>
                            </a:lnTo>
                            <a:lnTo>
                              <a:pt x="412" y="2091"/>
                            </a:lnTo>
                            <a:lnTo>
                              <a:pt x="429" y="2138"/>
                            </a:lnTo>
                            <a:lnTo>
                              <a:pt x="445" y="2192"/>
                            </a:lnTo>
                            <a:lnTo>
                              <a:pt x="458" y="2239"/>
                            </a:lnTo>
                            <a:lnTo>
                              <a:pt x="469" y="2292"/>
                            </a:lnTo>
                            <a:lnTo>
                              <a:pt x="479" y="2365"/>
                            </a:lnTo>
                            <a:lnTo>
                              <a:pt x="492" y="2444"/>
                            </a:lnTo>
                            <a:lnTo>
                              <a:pt x="501" y="2506"/>
                            </a:lnTo>
                            <a:lnTo>
                              <a:pt x="511" y="2586"/>
                            </a:lnTo>
                            <a:lnTo>
                              <a:pt x="518" y="2643"/>
                            </a:lnTo>
                            <a:lnTo>
                              <a:pt x="526" y="2693"/>
                            </a:lnTo>
                            <a:lnTo>
                              <a:pt x="537" y="2742"/>
                            </a:lnTo>
                            <a:lnTo>
                              <a:pt x="541" y="2756"/>
                            </a:lnTo>
                            <a:lnTo>
                              <a:pt x="543" y="2767"/>
                            </a:lnTo>
                            <a:lnTo>
                              <a:pt x="545" y="2773"/>
                            </a:lnTo>
                            <a:lnTo>
                              <a:pt x="546" y="2778"/>
                            </a:lnTo>
                            <a:lnTo>
                              <a:pt x="552" y="2784"/>
                            </a:lnTo>
                            <a:lnTo>
                              <a:pt x="558" y="2794"/>
                            </a:lnTo>
                            <a:lnTo>
                              <a:pt x="567" y="2803"/>
                            </a:lnTo>
                            <a:lnTo>
                              <a:pt x="576" y="2812"/>
                            </a:lnTo>
                            <a:lnTo>
                              <a:pt x="592" y="2824"/>
                            </a:lnTo>
                            <a:lnTo>
                              <a:pt x="610" y="2833"/>
                            </a:lnTo>
                            <a:lnTo>
                              <a:pt x="635" y="2847"/>
                            </a:lnTo>
                            <a:lnTo>
                              <a:pt x="657" y="2856"/>
                            </a:lnTo>
                            <a:lnTo>
                              <a:pt x="681" y="2864"/>
                            </a:lnTo>
                            <a:lnTo>
                              <a:pt x="703" y="2870"/>
                            </a:lnTo>
                            <a:lnTo>
                              <a:pt x="723" y="2875"/>
                            </a:lnTo>
                            <a:lnTo>
                              <a:pt x="753" y="2883"/>
                            </a:lnTo>
                            <a:lnTo>
                              <a:pt x="778" y="2889"/>
                            </a:lnTo>
                            <a:lnTo>
                              <a:pt x="802" y="2892"/>
                            </a:lnTo>
                            <a:lnTo>
                              <a:pt x="829" y="2896"/>
                            </a:lnTo>
                            <a:lnTo>
                              <a:pt x="857" y="2900"/>
                            </a:lnTo>
                            <a:lnTo>
                              <a:pt x="883" y="2902"/>
                            </a:lnTo>
                            <a:lnTo>
                              <a:pt x="906" y="2904"/>
                            </a:lnTo>
                            <a:lnTo>
                              <a:pt x="934" y="2906"/>
                            </a:lnTo>
                            <a:lnTo>
                              <a:pt x="959" y="2908"/>
                            </a:lnTo>
                            <a:lnTo>
                              <a:pt x="984" y="2908"/>
                            </a:lnTo>
                            <a:lnTo>
                              <a:pt x="1006" y="2908"/>
                            </a:lnTo>
                            <a:lnTo>
                              <a:pt x="1031" y="2908"/>
                            </a:lnTo>
                            <a:lnTo>
                              <a:pt x="1061" y="2908"/>
                            </a:lnTo>
                            <a:lnTo>
                              <a:pt x="1086" y="2906"/>
                            </a:lnTo>
                            <a:lnTo>
                              <a:pt x="1108" y="2906"/>
                            </a:lnTo>
                            <a:lnTo>
                              <a:pt x="1134" y="2902"/>
                            </a:lnTo>
                            <a:lnTo>
                              <a:pt x="1166" y="2900"/>
                            </a:lnTo>
                            <a:lnTo>
                              <a:pt x="1188" y="2896"/>
                            </a:lnTo>
                            <a:lnTo>
                              <a:pt x="1217" y="2892"/>
                            </a:lnTo>
                            <a:lnTo>
                              <a:pt x="1241" y="2887"/>
                            </a:lnTo>
                            <a:lnTo>
                              <a:pt x="1265" y="2883"/>
                            </a:lnTo>
                            <a:lnTo>
                              <a:pt x="1288" y="2877"/>
                            </a:lnTo>
                            <a:lnTo>
                              <a:pt x="1309" y="2871"/>
                            </a:lnTo>
                            <a:lnTo>
                              <a:pt x="1334" y="2864"/>
                            </a:lnTo>
                            <a:lnTo>
                              <a:pt x="1354" y="2856"/>
                            </a:lnTo>
                            <a:lnTo>
                              <a:pt x="1375" y="2849"/>
                            </a:lnTo>
                            <a:lnTo>
                              <a:pt x="1395" y="2839"/>
                            </a:lnTo>
                            <a:lnTo>
                              <a:pt x="1415" y="283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1" name="Oval 34"/>
                      <p:cNvSpPr/>
                      <p:nvPr/>
                    </p:nvSpPr>
                    <p:spPr>
                      <a:xfrm>
                        <a:off x="1388520" y="2225160"/>
                        <a:ext cx="72360" cy="6660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" bIns="36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2" name="Freeform 35"/>
                      <p:cNvSpPr/>
                      <p:nvPr/>
                    </p:nvSpPr>
                    <p:spPr>
                      <a:xfrm>
                        <a:off x="1464120" y="1709280"/>
                        <a:ext cx="27360" cy="9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8" h="432">
                            <a:moveTo>
                              <a:pt x="0" y="0"/>
                            </a:moveTo>
                            <a:lnTo>
                              <a:pt x="90" y="46"/>
                            </a:lnTo>
                            <a:lnTo>
                              <a:pt x="172" y="97"/>
                            </a:lnTo>
                            <a:lnTo>
                              <a:pt x="234" y="148"/>
                            </a:lnTo>
                            <a:lnTo>
                              <a:pt x="275" y="203"/>
                            </a:lnTo>
                            <a:lnTo>
                              <a:pt x="304" y="259"/>
                            </a:lnTo>
                            <a:lnTo>
                              <a:pt x="325" y="308"/>
                            </a:lnTo>
                            <a:lnTo>
                              <a:pt x="338" y="358"/>
                            </a:lnTo>
                            <a:lnTo>
                              <a:pt x="219" y="432"/>
                            </a:lnTo>
                            <a:lnTo>
                              <a:pt x="208" y="362"/>
                            </a:lnTo>
                            <a:lnTo>
                              <a:pt x="189" y="287"/>
                            </a:lnTo>
                            <a:lnTo>
                              <a:pt x="161" y="209"/>
                            </a:lnTo>
                            <a:lnTo>
                              <a:pt x="124" y="144"/>
                            </a:lnTo>
                            <a:lnTo>
                              <a:pt x="73" y="7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633" name="Group 36"/>
                      <p:cNvGrpSpPr/>
                      <p:nvPr/>
                    </p:nvGrpSpPr>
                    <p:grpSpPr>
                      <a:xfrm>
                        <a:off x="1401480" y="1840680"/>
                        <a:ext cx="46080" cy="407520"/>
                        <a:chOff x="1401480" y="1840680"/>
                        <a:chExt cx="46080" cy="407520"/>
                      </a:xfrm>
                    </p:grpSpPr>
                    <p:sp>
                      <p:nvSpPr>
                        <p:cNvPr id="2634" name="Freeform 37"/>
                        <p:cNvSpPr/>
                        <p:nvPr/>
                      </p:nvSpPr>
                      <p:spPr>
                        <a:xfrm>
                          <a:off x="1410120" y="2010600"/>
                          <a:ext cx="28440" cy="23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5" h="1053">
                              <a:moveTo>
                                <a:pt x="0" y="80"/>
                              </a:moveTo>
                              <a:lnTo>
                                <a:pt x="6" y="252"/>
                              </a:lnTo>
                              <a:lnTo>
                                <a:pt x="23" y="274"/>
                              </a:lnTo>
                              <a:lnTo>
                                <a:pt x="17" y="975"/>
                              </a:lnTo>
                              <a:lnTo>
                                <a:pt x="40" y="1053"/>
                              </a:lnTo>
                              <a:lnTo>
                                <a:pt x="98" y="1053"/>
                              </a:lnTo>
                              <a:lnTo>
                                <a:pt x="146" y="1015"/>
                              </a:lnTo>
                              <a:lnTo>
                                <a:pt x="201" y="1015"/>
                              </a:lnTo>
                              <a:lnTo>
                                <a:pt x="245" y="1053"/>
                              </a:lnTo>
                              <a:lnTo>
                                <a:pt x="307" y="1053"/>
                              </a:lnTo>
                              <a:lnTo>
                                <a:pt x="328" y="975"/>
                              </a:lnTo>
                              <a:lnTo>
                                <a:pt x="317" y="274"/>
                              </a:lnTo>
                              <a:lnTo>
                                <a:pt x="333" y="252"/>
                              </a:lnTo>
                              <a:lnTo>
                                <a:pt x="345" y="80"/>
                              </a:lnTo>
                              <a:lnTo>
                                <a:pt x="269" y="17"/>
                              </a:lnTo>
                              <a:lnTo>
                                <a:pt x="231" y="17"/>
                              </a:lnTo>
                              <a:lnTo>
                                <a:pt x="210" y="0"/>
                              </a:lnTo>
                              <a:lnTo>
                                <a:pt x="123" y="0"/>
                              </a:lnTo>
                              <a:lnTo>
                                <a:pt x="104" y="17"/>
                              </a:lnTo>
                              <a:lnTo>
                                <a:pt x="72" y="17"/>
                              </a:lnTo>
                              <a:lnTo>
                                <a:pt x="0" y="8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5" name="Oval 38"/>
                        <p:cNvSpPr/>
                        <p:nvPr/>
                      </p:nvSpPr>
                      <p:spPr>
                        <a:xfrm>
                          <a:off x="1424520" y="2018160"/>
                          <a:ext cx="3600" cy="16200"/>
                        </a:xfrm>
                        <a:prstGeom prst="ellipse">
                          <a:avLst/>
                        </a:prstGeom>
                        <a:solidFill>
                          <a:srgbClr val="e0e0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636" name="Group 39"/>
                        <p:cNvGrpSpPr/>
                        <p:nvPr/>
                      </p:nvGrpSpPr>
                      <p:grpSpPr>
                        <a:xfrm>
                          <a:off x="1401480" y="1840680"/>
                          <a:ext cx="46080" cy="186480"/>
                          <a:chOff x="1401480" y="1840680"/>
                          <a:chExt cx="46080" cy="186480"/>
                        </a:xfrm>
                      </p:grpSpPr>
                      <p:sp>
                        <p:nvSpPr>
                          <p:cNvPr id="2637" name="Oval 40"/>
                          <p:cNvSpPr/>
                          <p:nvPr/>
                        </p:nvSpPr>
                        <p:spPr>
                          <a:xfrm>
                            <a:off x="1404000" y="1840680"/>
                            <a:ext cx="42120" cy="633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440" bIns="-14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4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8" name="Freeform 41"/>
                          <p:cNvSpPr/>
                          <p:nvPr/>
                        </p:nvSpPr>
                        <p:spPr>
                          <a:xfrm>
                            <a:off x="1401480" y="1869480"/>
                            <a:ext cx="46080" cy="157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2" h="699">
                                <a:moveTo>
                                  <a:pt x="358" y="699"/>
                                </a:moveTo>
                                <a:lnTo>
                                  <a:pt x="562" y="69"/>
                                </a:lnTo>
                                <a:lnTo>
                                  <a:pt x="526" y="56"/>
                                </a:lnTo>
                                <a:lnTo>
                                  <a:pt x="485" y="38"/>
                                </a:lnTo>
                                <a:lnTo>
                                  <a:pt x="431" y="24"/>
                                </a:lnTo>
                                <a:lnTo>
                                  <a:pt x="384" y="12"/>
                                </a:lnTo>
                                <a:lnTo>
                                  <a:pt x="342" y="4"/>
                                </a:lnTo>
                                <a:lnTo>
                                  <a:pt x="297" y="0"/>
                                </a:lnTo>
                                <a:lnTo>
                                  <a:pt x="248" y="3"/>
                                </a:lnTo>
                                <a:lnTo>
                                  <a:pt x="185" y="10"/>
                                </a:lnTo>
                                <a:lnTo>
                                  <a:pt x="132" y="24"/>
                                </a:lnTo>
                                <a:lnTo>
                                  <a:pt x="80" y="38"/>
                                </a:lnTo>
                                <a:lnTo>
                                  <a:pt x="34" y="58"/>
                                </a:lnTo>
                                <a:lnTo>
                                  <a:pt x="0" y="76"/>
                                </a:lnTo>
                                <a:lnTo>
                                  <a:pt x="197" y="699"/>
                                </a:lnTo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4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39" name="Group 42"/>
                        <p:cNvGrpSpPr/>
                        <p:nvPr/>
                      </p:nvGrpSpPr>
                      <p:grpSpPr>
                        <a:xfrm>
                          <a:off x="1415520" y="2044440"/>
                          <a:ext cx="16200" cy="181800"/>
                          <a:chOff x="1415520" y="2044440"/>
                          <a:chExt cx="16200" cy="181800"/>
                        </a:xfrm>
                      </p:grpSpPr>
                      <p:grpSp>
                        <p:nvGrpSpPr>
                          <p:cNvPr id="2640" name=""/>
                          <p:cNvGrpSpPr/>
                          <p:nvPr/>
                        </p:nvGrpSpPr>
                        <p:grpSpPr>
                          <a:xfrm>
                            <a:off x="1418400" y="2049480"/>
                            <a:ext cx="360" cy="176760"/>
                            <a:chOff x="1418400" y="2049480"/>
                            <a:chExt cx="360" cy="176760"/>
                          </a:xfrm>
                        </p:grpSpPr>
                        <p:sp>
                          <p:nvSpPr>
                            <p:cNvPr id="2641" name="Line 43"/>
                            <p:cNvSpPr/>
                            <p:nvPr/>
                          </p:nvSpPr>
                          <p:spPr>
                            <a:xfrm>
                              <a:off x="1418400" y="2049480"/>
                              <a:ext cx="0" cy="17676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42" name=""/>
                            <p:cNvSpPr txBox="1"/>
                            <p:nvPr/>
                          </p:nvSpPr>
                          <p:spPr>
                            <a:xfrm>
                              <a:off x="1418400" y="2049480"/>
                              <a:ext cx="360" cy="1767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43" name=""/>
                          <p:cNvGrpSpPr/>
                          <p:nvPr/>
                        </p:nvGrpSpPr>
                        <p:grpSpPr>
                          <a:xfrm>
                            <a:off x="1428840" y="2049120"/>
                            <a:ext cx="360" cy="176040"/>
                            <a:chOff x="1428840" y="2049120"/>
                            <a:chExt cx="360" cy="176040"/>
                          </a:xfrm>
                        </p:grpSpPr>
                        <p:sp>
                          <p:nvSpPr>
                            <p:cNvPr id="2644" name="Line 44"/>
                            <p:cNvSpPr/>
                            <p:nvPr/>
                          </p:nvSpPr>
                          <p:spPr>
                            <a:xfrm flipV="1">
                              <a:off x="1429200" y="2049120"/>
                              <a:ext cx="0" cy="17604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45" name=""/>
                            <p:cNvSpPr txBox="1"/>
                            <p:nvPr/>
                          </p:nvSpPr>
                          <p:spPr>
                            <a:xfrm rot="10800000">
                              <a:off x="1428840" y="2049120"/>
                              <a:ext cx="360" cy="176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46" name=""/>
                          <p:cNvGrpSpPr/>
                          <p:nvPr/>
                        </p:nvGrpSpPr>
                        <p:grpSpPr>
                          <a:xfrm>
                            <a:off x="1431360" y="2044440"/>
                            <a:ext cx="360" cy="176040"/>
                            <a:chOff x="1431360" y="2044440"/>
                            <a:chExt cx="360" cy="176040"/>
                          </a:xfrm>
                        </p:grpSpPr>
                        <p:sp>
                          <p:nvSpPr>
                            <p:cNvPr id="2647" name="Line 45"/>
                            <p:cNvSpPr/>
                            <p:nvPr/>
                          </p:nvSpPr>
                          <p:spPr>
                            <a:xfrm flipV="1">
                              <a:off x="1431720" y="2044440"/>
                              <a:ext cx="0" cy="17604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48" name=""/>
                            <p:cNvSpPr txBox="1"/>
                            <p:nvPr/>
                          </p:nvSpPr>
                          <p:spPr>
                            <a:xfrm rot="10800000">
                              <a:off x="1431360" y="2044440"/>
                              <a:ext cx="360" cy="176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49" name=""/>
                          <p:cNvGrpSpPr/>
                          <p:nvPr/>
                        </p:nvGrpSpPr>
                        <p:grpSpPr>
                          <a:xfrm>
                            <a:off x="1415520" y="2044440"/>
                            <a:ext cx="360" cy="176040"/>
                            <a:chOff x="1415520" y="2044440"/>
                            <a:chExt cx="360" cy="176040"/>
                          </a:xfrm>
                        </p:grpSpPr>
                        <p:sp>
                          <p:nvSpPr>
                            <p:cNvPr id="2650" name="Line 46"/>
                            <p:cNvSpPr/>
                            <p:nvPr/>
                          </p:nvSpPr>
                          <p:spPr>
                            <a:xfrm flipV="1">
                              <a:off x="1415880" y="2044440"/>
                              <a:ext cx="0" cy="17604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51" name=""/>
                            <p:cNvSpPr txBox="1"/>
                            <p:nvPr/>
                          </p:nvSpPr>
                          <p:spPr>
                            <a:xfrm rot="10800000">
                              <a:off x="1415520" y="2044440"/>
                              <a:ext cx="360" cy="176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2652" name="Freeform 47"/>
                      <p:cNvSpPr/>
                      <p:nvPr/>
                    </p:nvSpPr>
                    <p:spPr>
                      <a:xfrm>
                        <a:off x="1421640" y="2130840"/>
                        <a:ext cx="44640" cy="15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6" h="681">
                            <a:moveTo>
                              <a:pt x="546" y="0"/>
                            </a:moveTo>
                            <a:lnTo>
                              <a:pt x="523" y="20"/>
                            </a:lnTo>
                            <a:lnTo>
                              <a:pt x="432" y="441"/>
                            </a:lnTo>
                            <a:lnTo>
                              <a:pt x="415" y="483"/>
                            </a:lnTo>
                            <a:lnTo>
                              <a:pt x="388" y="518"/>
                            </a:lnTo>
                            <a:lnTo>
                              <a:pt x="347" y="550"/>
                            </a:lnTo>
                            <a:lnTo>
                              <a:pt x="307" y="575"/>
                            </a:lnTo>
                            <a:lnTo>
                              <a:pt x="262" y="598"/>
                            </a:lnTo>
                            <a:lnTo>
                              <a:pt x="215" y="618"/>
                            </a:lnTo>
                            <a:lnTo>
                              <a:pt x="163" y="637"/>
                            </a:lnTo>
                            <a:lnTo>
                              <a:pt x="119" y="647"/>
                            </a:lnTo>
                            <a:lnTo>
                              <a:pt x="65" y="656"/>
                            </a:lnTo>
                            <a:lnTo>
                              <a:pt x="0" y="652"/>
                            </a:lnTo>
                            <a:lnTo>
                              <a:pt x="10" y="677"/>
                            </a:lnTo>
                            <a:lnTo>
                              <a:pt x="55" y="681"/>
                            </a:lnTo>
                            <a:lnTo>
                              <a:pt x="86" y="681"/>
                            </a:lnTo>
                            <a:lnTo>
                              <a:pt x="134" y="677"/>
                            </a:lnTo>
                            <a:lnTo>
                              <a:pt x="173" y="674"/>
                            </a:lnTo>
                            <a:lnTo>
                              <a:pt x="227" y="665"/>
                            </a:lnTo>
                            <a:lnTo>
                              <a:pt x="269" y="657"/>
                            </a:lnTo>
                            <a:lnTo>
                              <a:pt x="316" y="643"/>
                            </a:lnTo>
                            <a:lnTo>
                              <a:pt x="343" y="635"/>
                            </a:lnTo>
                            <a:lnTo>
                              <a:pt x="384" y="618"/>
                            </a:lnTo>
                            <a:lnTo>
                              <a:pt x="427" y="590"/>
                            </a:lnTo>
                            <a:lnTo>
                              <a:pt x="440" y="575"/>
                            </a:lnTo>
                            <a:lnTo>
                              <a:pt x="452" y="554"/>
                            </a:lnTo>
                            <a:lnTo>
                              <a:pt x="462" y="512"/>
                            </a:lnTo>
                            <a:lnTo>
                              <a:pt x="471" y="470"/>
                            </a:lnTo>
                            <a:lnTo>
                              <a:pt x="54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53" name="Rectangle 48"/>
                    <p:cNvSpPr/>
                    <p:nvPr/>
                  </p:nvSpPr>
                  <p:spPr>
                    <a:xfrm>
                      <a:off x="1310760" y="2345400"/>
                      <a:ext cx="221400" cy="356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50000">
                          <a:srgbClr val="c0c0c0"/>
                        </a:gs>
                        <a:gs pos="100000">
                          <a:srgbClr val="8080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54" name="Oval 49"/>
                <p:cNvSpPr/>
                <p:nvPr/>
              </p:nvSpPr>
              <p:spPr>
                <a:xfrm>
                  <a:off x="1213920" y="1839600"/>
                  <a:ext cx="380520" cy="5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ffd7"/>
                    </a:gs>
                  </a:gsLst>
                  <a:lin ang="5400000"/>
                </a:gra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5" name="Rectangle 50"/>
              <p:cNvSpPr/>
              <p:nvPr/>
            </p:nvSpPr>
            <p:spPr>
              <a:xfrm>
                <a:off x="1101240" y="1447920"/>
                <a:ext cx="505800" cy="38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51"/>
              <p:cNvSpPr/>
              <p:nvPr/>
            </p:nvSpPr>
            <p:spPr>
              <a:xfrm>
                <a:off x="3546720" y="3522600"/>
                <a:ext cx="920880" cy="1810440"/>
              </a:xfrm>
              <a:custGeom>
                <a:avLst/>
                <a:gdLst/>
                <a:ahLst/>
                <a:rect l="l" t="t" r="r" b="b"/>
                <a:pathLst>
                  <a:path w="464" h="768">
                    <a:moveTo>
                      <a:pt x="16" y="128"/>
                    </a:moveTo>
                    <a:cubicBezTo>
                      <a:pt x="8" y="88"/>
                      <a:pt x="0" y="48"/>
                      <a:pt x="16" y="32"/>
                    </a:cubicBezTo>
                    <a:cubicBezTo>
                      <a:pt x="32" y="16"/>
                      <a:pt x="80" y="32"/>
                      <a:pt x="112" y="32"/>
                    </a:cubicBezTo>
                    <a:cubicBezTo>
                      <a:pt x="144" y="32"/>
                      <a:pt x="192" y="0"/>
                      <a:pt x="208" y="32"/>
                    </a:cubicBezTo>
                    <a:cubicBezTo>
                      <a:pt x="224" y="64"/>
                      <a:pt x="208" y="176"/>
                      <a:pt x="208" y="224"/>
                    </a:cubicBezTo>
                    <a:cubicBezTo>
                      <a:pt x="208" y="272"/>
                      <a:pt x="208" y="288"/>
                      <a:pt x="208" y="320"/>
                    </a:cubicBezTo>
                    <a:cubicBezTo>
                      <a:pt x="208" y="352"/>
                      <a:pt x="208" y="384"/>
                      <a:pt x="208" y="416"/>
                    </a:cubicBezTo>
                    <a:cubicBezTo>
                      <a:pt x="208" y="448"/>
                      <a:pt x="208" y="480"/>
                      <a:pt x="208" y="512"/>
                    </a:cubicBezTo>
                    <a:cubicBezTo>
                      <a:pt x="208" y="544"/>
                      <a:pt x="184" y="568"/>
                      <a:pt x="208" y="608"/>
                    </a:cubicBezTo>
                    <a:cubicBezTo>
                      <a:pt x="232" y="648"/>
                      <a:pt x="312" y="736"/>
                      <a:pt x="352" y="752"/>
                    </a:cubicBezTo>
                    <a:cubicBezTo>
                      <a:pt x="392" y="768"/>
                      <a:pt x="432" y="736"/>
                      <a:pt x="448" y="704"/>
                    </a:cubicBezTo>
                    <a:cubicBezTo>
                      <a:pt x="464" y="672"/>
                      <a:pt x="456" y="616"/>
                      <a:pt x="448" y="56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7" name="Group 52"/>
              <p:cNvGrpSpPr/>
              <p:nvPr/>
            </p:nvGrpSpPr>
            <p:grpSpPr>
              <a:xfrm>
                <a:off x="1005840" y="3340800"/>
                <a:ext cx="1428480" cy="1137960"/>
                <a:chOff x="1005840" y="3340800"/>
                <a:chExt cx="1428480" cy="1137960"/>
              </a:xfrm>
            </p:grpSpPr>
            <p:grpSp>
              <p:nvGrpSpPr>
                <p:cNvPr id="2658" name="xjhsy3"/>
                <p:cNvGrpSpPr/>
                <p:nvPr/>
              </p:nvGrpSpPr>
              <p:grpSpPr>
                <a:xfrm>
                  <a:off x="1005840" y="3340800"/>
                  <a:ext cx="1428480" cy="1137960"/>
                  <a:chOff x="1005840" y="3340800"/>
                  <a:chExt cx="1428480" cy="1137960"/>
                </a:xfrm>
              </p:grpSpPr>
              <p:grpSp>
                <p:nvGrpSpPr>
                  <p:cNvPr id="2659" name="Group 54"/>
                  <p:cNvGrpSpPr/>
                  <p:nvPr/>
                </p:nvGrpSpPr>
                <p:grpSpPr>
                  <a:xfrm>
                    <a:off x="1005840" y="3904920"/>
                    <a:ext cx="1428480" cy="573840"/>
                    <a:chOff x="1005840" y="3904920"/>
                    <a:chExt cx="1428480" cy="573840"/>
                  </a:xfrm>
                </p:grpSpPr>
                <p:sp>
                  <p:nvSpPr>
                    <p:cNvPr id="2660" name="Freeform 55"/>
                    <p:cNvSpPr/>
                    <p:nvPr/>
                  </p:nvSpPr>
                  <p:spPr>
                    <a:xfrm flipV="1">
                      <a:off x="1005840" y="4366440"/>
                      <a:ext cx="1428480" cy="11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400">
                          <a:moveTo>
                            <a:pt x="0" y="0"/>
                          </a:moveTo>
                          <a:lnTo>
                            <a:pt x="400" y="0"/>
                          </a:lnTo>
                          <a:lnTo>
                            <a:pt x="400" y="400"/>
                          </a:lnTo>
                          <a:lnTo>
                            <a:pt x="0" y="4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1" name="AutoShape 56"/>
                    <p:cNvSpPr/>
                    <p:nvPr/>
                  </p:nvSpPr>
                  <p:spPr>
                    <a:xfrm>
                      <a:off x="2266560" y="3908880"/>
                      <a:ext cx="121680" cy="366840"/>
                    </a:xfrm>
                    <a:prstGeom prst="flowChartMagneticDisk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2" name="AutoShape 57"/>
                    <p:cNvSpPr/>
                    <p:nvPr/>
                  </p:nvSpPr>
                  <p:spPr>
                    <a:xfrm>
                      <a:off x="1246320" y="3904920"/>
                      <a:ext cx="121680" cy="366840"/>
                    </a:xfrm>
                    <a:prstGeom prst="flowChartMagneticDisk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3" name="Group 58"/>
                  <p:cNvGrpSpPr/>
                  <p:nvPr/>
                </p:nvGrpSpPr>
                <p:grpSpPr>
                  <a:xfrm>
                    <a:off x="1648440" y="3340800"/>
                    <a:ext cx="207720" cy="930600"/>
                    <a:chOff x="1648440" y="3340800"/>
                    <a:chExt cx="207720" cy="930600"/>
                  </a:xfrm>
                </p:grpSpPr>
                <p:grpSp>
                  <p:nvGrpSpPr>
                    <p:cNvPr id="2664" name="Group 59"/>
                    <p:cNvGrpSpPr/>
                    <p:nvPr/>
                  </p:nvGrpSpPr>
                  <p:grpSpPr>
                    <a:xfrm>
                      <a:off x="1677960" y="3340800"/>
                      <a:ext cx="155160" cy="728640"/>
                      <a:chOff x="1677960" y="3340800"/>
                      <a:chExt cx="155160" cy="728640"/>
                    </a:xfrm>
                  </p:grpSpPr>
                  <p:grpSp>
                    <p:nvGrpSpPr>
                      <p:cNvPr id="2665" name="Group 60"/>
                      <p:cNvGrpSpPr/>
                      <p:nvPr/>
                    </p:nvGrpSpPr>
                    <p:grpSpPr>
                      <a:xfrm>
                        <a:off x="1720080" y="3898800"/>
                        <a:ext cx="70200" cy="170640"/>
                        <a:chOff x="1720080" y="3898800"/>
                        <a:chExt cx="70200" cy="170640"/>
                      </a:xfrm>
                    </p:grpSpPr>
                    <p:grpSp>
                      <p:nvGrpSpPr>
                        <p:cNvPr id="2666" name="Group 61"/>
                        <p:cNvGrpSpPr/>
                        <p:nvPr/>
                      </p:nvGrpSpPr>
                      <p:grpSpPr>
                        <a:xfrm>
                          <a:off x="1720080" y="3898800"/>
                          <a:ext cx="70200" cy="170640"/>
                          <a:chOff x="1720080" y="3898800"/>
                          <a:chExt cx="70200" cy="170640"/>
                        </a:xfrm>
                      </p:grpSpPr>
                      <p:grpSp>
                        <p:nvGrpSpPr>
                          <p:cNvPr id="2667" name="Group 62"/>
                          <p:cNvGrpSpPr/>
                          <p:nvPr/>
                        </p:nvGrpSpPr>
                        <p:grpSpPr>
                          <a:xfrm>
                            <a:off x="1737720" y="4030200"/>
                            <a:ext cx="38160" cy="39240"/>
                            <a:chOff x="1737720" y="4030200"/>
                            <a:chExt cx="38160" cy="39240"/>
                          </a:xfrm>
                        </p:grpSpPr>
                        <p:sp>
                          <p:nvSpPr>
                            <p:cNvPr id="2668" name="Freeform 63"/>
                            <p:cNvSpPr/>
                            <p:nvPr/>
                          </p:nvSpPr>
                          <p:spPr>
                            <a:xfrm>
                              <a:off x="1737720" y="4030200"/>
                              <a:ext cx="38160" cy="3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98" h="198">
                                  <a:moveTo>
                                    <a:pt x="0" y="0"/>
                                  </a:moveTo>
                                  <a:lnTo>
                                    <a:pt x="101" y="157"/>
                                  </a:lnTo>
                                  <a:lnTo>
                                    <a:pt x="110" y="167"/>
                                  </a:lnTo>
                                  <a:lnTo>
                                    <a:pt x="121" y="173"/>
                                  </a:lnTo>
                                  <a:lnTo>
                                    <a:pt x="136" y="178"/>
                                  </a:lnTo>
                                  <a:lnTo>
                                    <a:pt x="153" y="186"/>
                                  </a:lnTo>
                                  <a:lnTo>
                                    <a:pt x="174" y="190"/>
                                  </a:lnTo>
                                  <a:lnTo>
                                    <a:pt x="188" y="191"/>
                                  </a:lnTo>
                                  <a:lnTo>
                                    <a:pt x="205" y="194"/>
                                  </a:lnTo>
                                  <a:lnTo>
                                    <a:pt x="222" y="195"/>
                                  </a:lnTo>
                                  <a:lnTo>
                                    <a:pt x="243" y="198"/>
                                  </a:lnTo>
                                  <a:lnTo>
                                    <a:pt x="257" y="198"/>
                                  </a:lnTo>
                                  <a:lnTo>
                                    <a:pt x="278" y="195"/>
                                  </a:lnTo>
                                  <a:lnTo>
                                    <a:pt x="295" y="194"/>
                                  </a:lnTo>
                                  <a:lnTo>
                                    <a:pt x="315" y="191"/>
                                  </a:lnTo>
                                  <a:lnTo>
                                    <a:pt x="332" y="190"/>
                                  </a:lnTo>
                                  <a:lnTo>
                                    <a:pt x="349" y="185"/>
                                  </a:lnTo>
                                  <a:lnTo>
                                    <a:pt x="366" y="181"/>
                                  </a:lnTo>
                                  <a:lnTo>
                                    <a:pt x="380" y="173"/>
                                  </a:lnTo>
                                  <a:lnTo>
                                    <a:pt x="392" y="165"/>
                                  </a:lnTo>
                                  <a:lnTo>
                                    <a:pt x="397" y="160"/>
                                  </a:lnTo>
                                  <a:lnTo>
                                    <a:pt x="405" y="152"/>
                                  </a:lnTo>
                                  <a:lnTo>
                                    <a:pt x="498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560" bIns="-75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69" name="Freeform 64"/>
                            <p:cNvSpPr/>
                            <p:nvPr/>
                          </p:nvSpPr>
                          <p:spPr>
                            <a:xfrm>
                              <a:off x="1743480" y="4030200"/>
                              <a:ext cx="16920" cy="3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2" h="198">
                                  <a:moveTo>
                                    <a:pt x="0" y="0"/>
                                  </a:moveTo>
                                  <a:lnTo>
                                    <a:pt x="62" y="178"/>
                                  </a:lnTo>
                                  <a:lnTo>
                                    <a:pt x="75" y="186"/>
                                  </a:lnTo>
                                  <a:lnTo>
                                    <a:pt x="96" y="190"/>
                                  </a:lnTo>
                                  <a:lnTo>
                                    <a:pt x="110" y="191"/>
                                  </a:lnTo>
                                  <a:lnTo>
                                    <a:pt x="127" y="194"/>
                                  </a:lnTo>
                                  <a:lnTo>
                                    <a:pt x="144" y="195"/>
                                  </a:lnTo>
                                  <a:lnTo>
                                    <a:pt x="165" y="198"/>
                                  </a:lnTo>
                                  <a:lnTo>
                                    <a:pt x="179" y="198"/>
                                  </a:lnTo>
                                  <a:lnTo>
                                    <a:pt x="200" y="195"/>
                                  </a:lnTo>
                                  <a:lnTo>
                                    <a:pt x="222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404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560" bIns="-75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70" name="Group 65"/>
                          <p:cNvGrpSpPr/>
                          <p:nvPr/>
                        </p:nvGrpSpPr>
                        <p:grpSpPr>
                          <a:xfrm>
                            <a:off x="1720080" y="3898800"/>
                            <a:ext cx="70200" cy="142200"/>
                            <a:chOff x="1720080" y="3898800"/>
                            <a:chExt cx="70200" cy="142200"/>
                          </a:xfrm>
                        </p:grpSpPr>
                        <p:sp>
                          <p:nvSpPr>
                            <p:cNvPr id="2671" name="Freeform 66"/>
                            <p:cNvSpPr/>
                            <p:nvPr/>
                          </p:nvSpPr>
                          <p:spPr>
                            <a:xfrm>
                              <a:off x="1720080" y="3898800"/>
                              <a:ext cx="70200" cy="142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13" h="718">
                                  <a:moveTo>
                                    <a:pt x="26" y="0"/>
                                  </a:moveTo>
                                  <a:lnTo>
                                    <a:pt x="21" y="20"/>
                                  </a:lnTo>
                                  <a:lnTo>
                                    <a:pt x="23" y="29"/>
                                  </a:lnTo>
                                  <a:lnTo>
                                    <a:pt x="25" y="38"/>
                                  </a:lnTo>
                                  <a:lnTo>
                                    <a:pt x="26" y="59"/>
                                  </a:lnTo>
                                  <a:lnTo>
                                    <a:pt x="23" y="73"/>
                                  </a:lnTo>
                                  <a:lnTo>
                                    <a:pt x="17" y="86"/>
                                  </a:lnTo>
                                  <a:lnTo>
                                    <a:pt x="12" y="96"/>
                                  </a:lnTo>
                                  <a:lnTo>
                                    <a:pt x="6" y="113"/>
                                  </a:lnTo>
                                  <a:lnTo>
                                    <a:pt x="6" y="126"/>
                                  </a:lnTo>
                                  <a:lnTo>
                                    <a:pt x="12" y="138"/>
                                  </a:lnTo>
                                  <a:lnTo>
                                    <a:pt x="17" y="149"/>
                                  </a:lnTo>
                                  <a:lnTo>
                                    <a:pt x="29" y="162"/>
                                  </a:lnTo>
                                  <a:lnTo>
                                    <a:pt x="34" y="176"/>
                                  </a:lnTo>
                                  <a:lnTo>
                                    <a:pt x="34" y="185"/>
                                  </a:lnTo>
                                  <a:lnTo>
                                    <a:pt x="30" y="195"/>
                                  </a:lnTo>
                                  <a:lnTo>
                                    <a:pt x="21" y="204"/>
                                  </a:lnTo>
                                  <a:lnTo>
                                    <a:pt x="13" y="216"/>
                                  </a:lnTo>
                                  <a:lnTo>
                                    <a:pt x="8" y="225"/>
                                  </a:lnTo>
                                  <a:lnTo>
                                    <a:pt x="6" y="236"/>
                                  </a:lnTo>
                                  <a:lnTo>
                                    <a:pt x="12" y="248"/>
                                  </a:lnTo>
                                  <a:lnTo>
                                    <a:pt x="19" y="259"/>
                                  </a:lnTo>
                                  <a:lnTo>
                                    <a:pt x="26" y="269"/>
                                  </a:lnTo>
                                  <a:lnTo>
                                    <a:pt x="30" y="278"/>
                                  </a:lnTo>
                                  <a:lnTo>
                                    <a:pt x="34" y="288"/>
                                  </a:lnTo>
                                  <a:lnTo>
                                    <a:pt x="30" y="301"/>
                                  </a:lnTo>
                                  <a:lnTo>
                                    <a:pt x="21" y="313"/>
                                  </a:lnTo>
                                  <a:lnTo>
                                    <a:pt x="12" y="322"/>
                                  </a:lnTo>
                                  <a:lnTo>
                                    <a:pt x="2" y="337"/>
                                  </a:lnTo>
                                  <a:lnTo>
                                    <a:pt x="0" y="349"/>
                                  </a:lnTo>
                                  <a:lnTo>
                                    <a:pt x="4" y="362"/>
                                  </a:lnTo>
                                  <a:lnTo>
                                    <a:pt x="13" y="372"/>
                                  </a:lnTo>
                                  <a:lnTo>
                                    <a:pt x="23" y="383"/>
                                  </a:lnTo>
                                  <a:lnTo>
                                    <a:pt x="33" y="396"/>
                                  </a:lnTo>
                                  <a:lnTo>
                                    <a:pt x="38" y="414"/>
                                  </a:lnTo>
                                  <a:lnTo>
                                    <a:pt x="33" y="431"/>
                                  </a:lnTo>
                                  <a:lnTo>
                                    <a:pt x="23" y="444"/>
                                  </a:lnTo>
                                  <a:lnTo>
                                    <a:pt x="19" y="455"/>
                                  </a:lnTo>
                                  <a:lnTo>
                                    <a:pt x="19" y="466"/>
                                  </a:lnTo>
                                  <a:lnTo>
                                    <a:pt x="21" y="473"/>
                                  </a:lnTo>
                                  <a:lnTo>
                                    <a:pt x="29" y="484"/>
                                  </a:lnTo>
                                  <a:lnTo>
                                    <a:pt x="42" y="499"/>
                                  </a:lnTo>
                                  <a:lnTo>
                                    <a:pt x="64" y="528"/>
                                  </a:lnTo>
                                  <a:lnTo>
                                    <a:pt x="107" y="573"/>
                                  </a:lnTo>
                                  <a:lnTo>
                                    <a:pt x="144" y="609"/>
                                  </a:lnTo>
                                  <a:lnTo>
                                    <a:pt x="166" y="629"/>
                                  </a:lnTo>
                                  <a:lnTo>
                                    <a:pt x="190" y="643"/>
                                  </a:lnTo>
                                  <a:lnTo>
                                    <a:pt x="217" y="660"/>
                                  </a:lnTo>
                                  <a:lnTo>
                                    <a:pt x="255" y="681"/>
                                  </a:lnTo>
                                  <a:lnTo>
                                    <a:pt x="313" y="701"/>
                                  </a:lnTo>
                                  <a:lnTo>
                                    <a:pt x="356" y="710"/>
                                  </a:lnTo>
                                  <a:lnTo>
                                    <a:pt x="401" y="716"/>
                                  </a:lnTo>
                                  <a:lnTo>
                                    <a:pt x="460" y="718"/>
                                  </a:lnTo>
                                  <a:lnTo>
                                    <a:pt x="523" y="716"/>
                                  </a:lnTo>
                                  <a:lnTo>
                                    <a:pt x="578" y="714"/>
                                  </a:lnTo>
                                  <a:lnTo>
                                    <a:pt x="625" y="706"/>
                                  </a:lnTo>
                                  <a:lnTo>
                                    <a:pt x="667" y="697"/>
                                  </a:lnTo>
                                  <a:lnTo>
                                    <a:pt x="697" y="685"/>
                                  </a:lnTo>
                                  <a:lnTo>
                                    <a:pt x="723" y="672"/>
                                  </a:lnTo>
                                  <a:lnTo>
                                    <a:pt x="744" y="659"/>
                                  </a:lnTo>
                                  <a:lnTo>
                                    <a:pt x="761" y="647"/>
                                  </a:lnTo>
                                  <a:lnTo>
                                    <a:pt x="778" y="629"/>
                                  </a:lnTo>
                                  <a:lnTo>
                                    <a:pt x="832" y="556"/>
                                  </a:lnTo>
                                  <a:lnTo>
                                    <a:pt x="874" y="493"/>
                                  </a:lnTo>
                                  <a:lnTo>
                                    <a:pt x="890" y="461"/>
                                  </a:lnTo>
                                  <a:lnTo>
                                    <a:pt x="894" y="448"/>
                                  </a:lnTo>
                                  <a:lnTo>
                                    <a:pt x="895" y="438"/>
                                  </a:lnTo>
                                  <a:lnTo>
                                    <a:pt x="895" y="427"/>
                                  </a:lnTo>
                                  <a:lnTo>
                                    <a:pt x="887" y="414"/>
                                  </a:lnTo>
                                  <a:lnTo>
                                    <a:pt x="882" y="406"/>
                                  </a:lnTo>
                                  <a:lnTo>
                                    <a:pt x="879" y="394"/>
                                  </a:lnTo>
                                  <a:lnTo>
                                    <a:pt x="882" y="381"/>
                                  </a:lnTo>
                                  <a:lnTo>
                                    <a:pt x="887" y="372"/>
                                  </a:lnTo>
                                  <a:lnTo>
                                    <a:pt x="894" y="362"/>
                                  </a:lnTo>
                                  <a:lnTo>
                                    <a:pt x="900" y="352"/>
                                  </a:lnTo>
                                  <a:lnTo>
                                    <a:pt x="908" y="341"/>
                                  </a:lnTo>
                                  <a:lnTo>
                                    <a:pt x="913" y="330"/>
                                  </a:lnTo>
                                  <a:lnTo>
                                    <a:pt x="912" y="316"/>
                                  </a:lnTo>
                                  <a:lnTo>
                                    <a:pt x="907" y="305"/>
                                  </a:lnTo>
                                  <a:lnTo>
                                    <a:pt x="900" y="295"/>
                                  </a:lnTo>
                                  <a:lnTo>
                                    <a:pt x="894" y="286"/>
                                  </a:lnTo>
                                  <a:lnTo>
                                    <a:pt x="886" y="275"/>
                                  </a:lnTo>
                                  <a:lnTo>
                                    <a:pt x="883" y="263"/>
                                  </a:lnTo>
                                  <a:lnTo>
                                    <a:pt x="886" y="254"/>
                                  </a:lnTo>
                                  <a:lnTo>
                                    <a:pt x="895" y="240"/>
                                  </a:lnTo>
                                  <a:lnTo>
                                    <a:pt x="904" y="229"/>
                                  </a:lnTo>
                                  <a:lnTo>
                                    <a:pt x="908" y="217"/>
                                  </a:lnTo>
                                  <a:lnTo>
                                    <a:pt x="908" y="202"/>
                                  </a:lnTo>
                                  <a:lnTo>
                                    <a:pt x="903" y="187"/>
                                  </a:lnTo>
                                  <a:lnTo>
                                    <a:pt x="894" y="176"/>
                                  </a:lnTo>
                                  <a:lnTo>
                                    <a:pt x="890" y="168"/>
                                  </a:lnTo>
                                  <a:lnTo>
                                    <a:pt x="886" y="155"/>
                                  </a:lnTo>
                                  <a:lnTo>
                                    <a:pt x="887" y="141"/>
                                  </a:lnTo>
                                  <a:lnTo>
                                    <a:pt x="895" y="130"/>
                                  </a:lnTo>
                                  <a:lnTo>
                                    <a:pt x="900" y="122"/>
                                  </a:lnTo>
                                  <a:lnTo>
                                    <a:pt x="908" y="113"/>
                                  </a:lnTo>
                                  <a:lnTo>
                                    <a:pt x="912" y="101"/>
                                  </a:lnTo>
                                  <a:lnTo>
                                    <a:pt x="913" y="88"/>
                                  </a:lnTo>
                                  <a:lnTo>
                                    <a:pt x="911" y="80"/>
                                  </a:lnTo>
                                  <a:lnTo>
                                    <a:pt x="903" y="67"/>
                                  </a:lnTo>
                                  <a:lnTo>
                                    <a:pt x="895" y="56"/>
                                  </a:lnTo>
                                  <a:lnTo>
                                    <a:pt x="890" y="42"/>
                                  </a:lnTo>
                                  <a:lnTo>
                                    <a:pt x="890" y="29"/>
                                  </a:lnTo>
                                  <a:lnTo>
                                    <a:pt x="894" y="18"/>
                                  </a:lnTo>
                                  <a:lnTo>
                                    <a:pt x="891" y="0"/>
                                  </a:lnTo>
                                  <a:lnTo>
                                    <a:pt x="2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c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72" name="Freeform 67"/>
                            <p:cNvSpPr/>
                            <p:nvPr/>
                          </p:nvSpPr>
                          <p:spPr>
                            <a:xfrm>
                              <a:off x="1720440" y="3917520"/>
                              <a:ext cx="8640" cy="19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3" h="99">
                                  <a:moveTo>
                                    <a:pt x="6" y="0"/>
                                  </a:moveTo>
                                  <a:lnTo>
                                    <a:pt x="13" y="13"/>
                                  </a:lnTo>
                                  <a:lnTo>
                                    <a:pt x="24" y="26"/>
                                  </a:lnTo>
                                  <a:lnTo>
                                    <a:pt x="44" y="43"/>
                                  </a:lnTo>
                                  <a:lnTo>
                                    <a:pt x="68" y="57"/>
                                  </a:lnTo>
                                  <a:lnTo>
                                    <a:pt x="91" y="66"/>
                                  </a:lnTo>
                                  <a:lnTo>
                                    <a:pt x="113" y="72"/>
                                  </a:lnTo>
                                  <a:lnTo>
                                    <a:pt x="104" y="89"/>
                                  </a:lnTo>
                                  <a:lnTo>
                                    <a:pt x="75" y="85"/>
                                  </a:lnTo>
                                  <a:lnTo>
                                    <a:pt x="44" y="87"/>
                                  </a:lnTo>
                                  <a:lnTo>
                                    <a:pt x="24" y="99"/>
                                  </a:lnTo>
                                  <a:lnTo>
                                    <a:pt x="28" y="89"/>
                                  </a:lnTo>
                                  <a:lnTo>
                                    <a:pt x="27" y="78"/>
                                  </a:lnTo>
                                  <a:lnTo>
                                    <a:pt x="20" y="62"/>
                                  </a:lnTo>
                                  <a:lnTo>
                                    <a:pt x="11" y="49"/>
                                  </a:lnTo>
                                  <a:lnTo>
                                    <a:pt x="2" y="34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7360" bIns="-273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73" name="Freeform 68"/>
                            <p:cNvSpPr/>
                            <p:nvPr/>
                          </p:nvSpPr>
                          <p:spPr>
                            <a:xfrm>
                              <a:off x="1720440" y="3942000"/>
                              <a:ext cx="11160" cy="16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9" h="84">
                                  <a:moveTo>
                                    <a:pt x="0" y="1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9" y="10"/>
                                  </a:lnTo>
                                  <a:lnTo>
                                    <a:pt x="21" y="15"/>
                                  </a:lnTo>
                                  <a:lnTo>
                                    <a:pt x="42" y="25"/>
                                  </a:lnTo>
                                  <a:lnTo>
                                    <a:pt x="64" y="31"/>
                                  </a:lnTo>
                                  <a:lnTo>
                                    <a:pt x="98" y="38"/>
                                  </a:lnTo>
                                  <a:lnTo>
                                    <a:pt x="137" y="44"/>
                                  </a:lnTo>
                                  <a:lnTo>
                                    <a:pt x="149" y="80"/>
                                  </a:lnTo>
                                  <a:lnTo>
                                    <a:pt x="106" y="69"/>
                                  </a:lnTo>
                                  <a:lnTo>
                                    <a:pt x="72" y="65"/>
                                  </a:lnTo>
                                  <a:lnTo>
                                    <a:pt x="45" y="71"/>
                                  </a:lnTo>
                                  <a:lnTo>
                                    <a:pt x="25" y="84"/>
                                  </a:lnTo>
                                  <a:lnTo>
                                    <a:pt x="25" y="73"/>
                                  </a:lnTo>
                                  <a:lnTo>
                                    <a:pt x="25" y="63"/>
                                  </a:lnTo>
                                  <a:lnTo>
                                    <a:pt x="21" y="52"/>
                                  </a:lnTo>
                                  <a:lnTo>
                                    <a:pt x="9" y="36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0" y="1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240" bIns="-30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74" name="Freeform 69"/>
                            <p:cNvSpPr/>
                            <p:nvPr/>
                          </p:nvSpPr>
                          <p:spPr>
                            <a:xfrm>
                              <a:off x="1720080" y="3962880"/>
                              <a:ext cx="13320" cy="20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5" h="104">
                                  <a:moveTo>
                                    <a:pt x="2" y="13"/>
                                  </a:moveTo>
                                  <a:lnTo>
                                    <a:pt x="10" y="0"/>
                                  </a:lnTo>
                                  <a:lnTo>
                                    <a:pt x="21" y="17"/>
                                  </a:lnTo>
                                  <a:lnTo>
                                    <a:pt x="32" y="25"/>
                                  </a:lnTo>
                                  <a:lnTo>
                                    <a:pt x="45" y="34"/>
                                  </a:lnTo>
                                  <a:lnTo>
                                    <a:pt x="69" y="42"/>
                                  </a:lnTo>
                                  <a:lnTo>
                                    <a:pt x="96" y="49"/>
                                  </a:lnTo>
                                  <a:lnTo>
                                    <a:pt x="126" y="59"/>
                                  </a:lnTo>
                                  <a:lnTo>
                                    <a:pt x="167" y="72"/>
                                  </a:lnTo>
                                  <a:lnTo>
                                    <a:pt x="175" y="104"/>
                                  </a:lnTo>
                                  <a:lnTo>
                                    <a:pt x="133" y="87"/>
                                  </a:lnTo>
                                  <a:lnTo>
                                    <a:pt x="103" y="76"/>
                                  </a:lnTo>
                                  <a:lnTo>
                                    <a:pt x="78" y="72"/>
                                  </a:lnTo>
                                  <a:lnTo>
                                    <a:pt x="58" y="72"/>
                                  </a:lnTo>
                                  <a:lnTo>
                                    <a:pt x="48" y="80"/>
                                  </a:lnTo>
                                  <a:lnTo>
                                    <a:pt x="36" y="91"/>
                                  </a:lnTo>
                                  <a:lnTo>
                                    <a:pt x="34" y="78"/>
                                  </a:lnTo>
                                  <a:lnTo>
                                    <a:pt x="21" y="59"/>
                                  </a:lnTo>
                                  <a:lnTo>
                                    <a:pt x="10" y="45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2" y="1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75" name="Freeform 70"/>
                            <p:cNvSpPr/>
                            <p:nvPr/>
                          </p:nvSpPr>
                          <p:spPr>
                            <a:xfrm>
                              <a:off x="1721520" y="3985560"/>
                              <a:ext cx="15840" cy="45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08" h="230">
                                  <a:moveTo>
                                    <a:pt x="2" y="35"/>
                                  </a:moveTo>
                                  <a:lnTo>
                                    <a:pt x="0" y="21"/>
                                  </a:lnTo>
                                  <a:lnTo>
                                    <a:pt x="0" y="11"/>
                                  </a:lnTo>
                                  <a:lnTo>
                                    <a:pt x="8" y="0"/>
                                  </a:lnTo>
                                  <a:lnTo>
                                    <a:pt x="22" y="17"/>
                                  </a:lnTo>
                                  <a:lnTo>
                                    <a:pt x="47" y="32"/>
                                  </a:lnTo>
                                  <a:lnTo>
                                    <a:pt x="72" y="44"/>
                                  </a:lnTo>
                                  <a:lnTo>
                                    <a:pt x="106" y="55"/>
                                  </a:lnTo>
                                  <a:lnTo>
                                    <a:pt x="156" y="65"/>
                                  </a:lnTo>
                                  <a:lnTo>
                                    <a:pt x="166" y="91"/>
                                  </a:lnTo>
                                  <a:lnTo>
                                    <a:pt x="140" y="84"/>
                                  </a:lnTo>
                                  <a:lnTo>
                                    <a:pt x="114" y="80"/>
                                  </a:lnTo>
                                  <a:lnTo>
                                    <a:pt x="101" y="82"/>
                                  </a:lnTo>
                                  <a:lnTo>
                                    <a:pt x="97" y="95"/>
                                  </a:lnTo>
                                  <a:lnTo>
                                    <a:pt x="105" y="112"/>
                                  </a:lnTo>
                                  <a:lnTo>
                                    <a:pt x="115" y="128"/>
                                  </a:lnTo>
                                  <a:lnTo>
                                    <a:pt x="136" y="153"/>
                                  </a:lnTo>
                                  <a:lnTo>
                                    <a:pt x="166" y="179"/>
                                  </a:lnTo>
                                  <a:lnTo>
                                    <a:pt x="208" y="209"/>
                                  </a:lnTo>
                                  <a:lnTo>
                                    <a:pt x="208" y="230"/>
                                  </a:lnTo>
                                  <a:lnTo>
                                    <a:pt x="190" y="219"/>
                                  </a:lnTo>
                                  <a:lnTo>
                                    <a:pt x="166" y="205"/>
                                  </a:lnTo>
                                  <a:lnTo>
                                    <a:pt x="132" y="179"/>
                                  </a:lnTo>
                                  <a:lnTo>
                                    <a:pt x="105" y="150"/>
                                  </a:lnTo>
                                  <a:lnTo>
                                    <a:pt x="80" y="128"/>
                                  </a:lnTo>
                                  <a:lnTo>
                                    <a:pt x="56" y="101"/>
                                  </a:lnTo>
                                  <a:lnTo>
                                    <a:pt x="36" y="78"/>
                                  </a:lnTo>
                                  <a:lnTo>
                                    <a:pt x="15" y="57"/>
                                  </a:lnTo>
                                  <a:lnTo>
                                    <a:pt x="2" y="3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40" bIns="-14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76" name="Freeform 71"/>
                            <p:cNvSpPr/>
                            <p:nvPr/>
                          </p:nvSpPr>
                          <p:spPr>
                            <a:xfrm>
                              <a:off x="1721880" y="3903480"/>
                              <a:ext cx="6480" cy="13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69">
                                  <a:moveTo>
                                    <a:pt x="0" y="0"/>
                                  </a:moveTo>
                                  <a:lnTo>
                                    <a:pt x="11" y="10"/>
                                  </a:lnTo>
                                  <a:lnTo>
                                    <a:pt x="25" y="21"/>
                                  </a:lnTo>
                                  <a:lnTo>
                                    <a:pt x="42" y="33"/>
                                  </a:lnTo>
                                  <a:lnTo>
                                    <a:pt x="60" y="44"/>
                                  </a:lnTo>
                                  <a:lnTo>
                                    <a:pt x="77" y="54"/>
                                  </a:lnTo>
                                  <a:lnTo>
                                    <a:pt x="86" y="61"/>
                                  </a:lnTo>
                                  <a:lnTo>
                                    <a:pt x="65" y="69"/>
                                  </a:lnTo>
                                  <a:lnTo>
                                    <a:pt x="42" y="61"/>
                                  </a:lnTo>
                                  <a:lnTo>
                                    <a:pt x="18" y="52"/>
                                  </a:lnTo>
                                  <a:lnTo>
                                    <a:pt x="0" y="42"/>
                                  </a:lnTo>
                                  <a:lnTo>
                                    <a:pt x="1" y="33"/>
                                  </a:lnTo>
                                  <a:lnTo>
                                    <a:pt x="4" y="17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77" name="Freeform 72"/>
                            <p:cNvSpPr/>
                            <p:nvPr/>
                          </p:nvSpPr>
                          <p:spPr>
                            <a:xfrm>
                              <a:off x="1733760" y="3900240"/>
                              <a:ext cx="56520" cy="136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2" h="689">
                                  <a:moveTo>
                                    <a:pt x="294" y="135"/>
                                  </a:moveTo>
                                  <a:lnTo>
                                    <a:pt x="186" y="143"/>
                                  </a:lnTo>
                                  <a:lnTo>
                                    <a:pt x="348" y="158"/>
                                  </a:lnTo>
                                  <a:lnTo>
                                    <a:pt x="338" y="166"/>
                                  </a:lnTo>
                                  <a:lnTo>
                                    <a:pt x="318" y="173"/>
                                  </a:lnTo>
                                  <a:lnTo>
                                    <a:pt x="292" y="181"/>
                                  </a:lnTo>
                                  <a:lnTo>
                                    <a:pt x="258" y="190"/>
                                  </a:lnTo>
                                  <a:lnTo>
                                    <a:pt x="222" y="196"/>
                                  </a:lnTo>
                                  <a:lnTo>
                                    <a:pt x="175" y="200"/>
                                  </a:lnTo>
                                  <a:lnTo>
                                    <a:pt x="120" y="206"/>
                                  </a:lnTo>
                                  <a:lnTo>
                                    <a:pt x="61" y="209"/>
                                  </a:lnTo>
                                  <a:lnTo>
                                    <a:pt x="0" y="209"/>
                                  </a:lnTo>
                                  <a:lnTo>
                                    <a:pt x="95" y="232"/>
                                  </a:lnTo>
                                  <a:lnTo>
                                    <a:pt x="154" y="244"/>
                                  </a:lnTo>
                                  <a:lnTo>
                                    <a:pt x="205" y="244"/>
                                  </a:lnTo>
                                  <a:lnTo>
                                    <a:pt x="267" y="244"/>
                                  </a:lnTo>
                                  <a:lnTo>
                                    <a:pt x="359" y="236"/>
                                  </a:lnTo>
                                  <a:lnTo>
                                    <a:pt x="435" y="225"/>
                                  </a:lnTo>
                                  <a:lnTo>
                                    <a:pt x="499" y="209"/>
                                  </a:lnTo>
                                  <a:lnTo>
                                    <a:pt x="567" y="188"/>
                                  </a:lnTo>
                                  <a:lnTo>
                                    <a:pt x="597" y="177"/>
                                  </a:lnTo>
                                  <a:lnTo>
                                    <a:pt x="625" y="168"/>
                                  </a:lnTo>
                                  <a:lnTo>
                                    <a:pt x="640" y="164"/>
                                  </a:lnTo>
                                  <a:lnTo>
                                    <a:pt x="648" y="169"/>
                                  </a:lnTo>
                                  <a:lnTo>
                                    <a:pt x="648" y="181"/>
                                  </a:lnTo>
                                  <a:lnTo>
                                    <a:pt x="642" y="194"/>
                                  </a:lnTo>
                                  <a:lnTo>
                                    <a:pt x="625" y="208"/>
                                  </a:lnTo>
                                  <a:lnTo>
                                    <a:pt x="597" y="226"/>
                                  </a:lnTo>
                                  <a:lnTo>
                                    <a:pt x="557" y="244"/>
                                  </a:lnTo>
                                  <a:lnTo>
                                    <a:pt x="510" y="263"/>
                                  </a:lnTo>
                                  <a:lnTo>
                                    <a:pt x="448" y="282"/>
                                  </a:lnTo>
                                  <a:lnTo>
                                    <a:pt x="376" y="297"/>
                                  </a:lnTo>
                                  <a:lnTo>
                                    <a:pt x="304" y="308"/>
                                  </a:lnTo>
                                  <a:lnTo>
                                    <a:pt x="228" y="320"/>
                                  </a:lnTo>
                                  <a:lnTo>
                                    <a:pt x="95" y="333"/>
                                  </a:lnTo>
                                  <a:lnTo>
                                    <a:pt x="177" y="352"/>
                                  </a:lnTo>
                                  <a:lnTo>
                                    <a:pt x="243" y="360"/>
                                  </a:lnTo>
                                  <a:lnTo>
                                    <a:pt x="326" y="358"/>
                                  </a:lnTo>
                                  <a:lnTo>
                                    <a:pt x="411" y="347"/>
                                  </a:lnTo>
                                  <a:lnTo>
                                    <a:pt x="474" y="333"/>
                                  </a:lnTo>
                                  <a:lnTo>
                                    <a:pt x="525" y="320"/>
                                  </a:lnTo>
                                  <a:lnTo>
                                    <a:pt x="567" y="308"/>
                                  </a:lnTo>
                                  <a:lnTo>
                                    <a:pt x="610" y="293"/>
                                  </a:lnTo>
                                  <a:lnTo>
                                    <a:pt x="644" y="280"/>
                                  </a:lnTo>
                                  <a:lnTo>
                                    <a:pt x="659" y="276"/>
                                  </a:lnTo>
                                  <a:lnTo>
                                    <a:pt x="668" y="276"/>
                                  </a:lnTo>
                                  <a:lnTo>
                                    <a:pt x="667" y="287"/>
                                  </a:lnTo>
                                  <a:lnTo>
                                    <a:pt x="661" y="299"/>
                                  </a:lnTo>
                                  <a:lnTo>
                                    <a:pt x="648" y="314"/>
                                  </a:lnTo>
                                  <a:lnTo>
                                    <a:pt x="617" y="335"/>
                                  </a:lnTo>
                                  <a:lnTo>
                                    <a:pt x="584" y="354"/>
                                  </a:lnTo>
                                  <a:lnTo>
                                    <a:pt x="546" y="371"/>
                                  </a:lnTo>
                                  <a:lnTo>
                                    <a:pt x="496" y="390"/>
                                  </a:lnTo>
                                  <a:lnTo>
                                    <a:pt x="439" y="407"/>
                                  </a:lnTo>
                                  <a:lnTo>
                                    <a:pt x="352" y="426"/>
                                  </a:lnTo>
                                  <a:lnTo>
                                    <a:pt x="294" y="438"/>
                                  </a:lnTo>
                                  <a:lnTo>
                                    <a:pt x="237" y="444"/>
                                  </a:lnTo>
                                  <a:lnTo>
                                    <a:pt x="154" y="449"/>
                                  </a:lnTo>
                                  <a:lnTo>
                                    <a:pt x="239" y="461"/>
                                  </a:lnTo>
                                  <a:lnTo>
                                    <a:pt x="305" y="466"/>
                                  </a:lnTo>
                                  <a:lnTo>
                                    <a:pt x="360" y="468"/>
                                  </a:lnTo>
                                  <a:lnTo>
                                    <a:pt x="423" y="466"/>
                                  </a:lnTo>
                                  <a:lnTo>
                                    <a:pt x="482" y="458"/>
                                  </a:lnTo>
                                  <a:lnTo>
                                    <a:pt x="530" y="447"/>
                                  </a:lnTo>
                                  <a:lnTo>
                                    <a:pt x="568" y="434"/>
                                  </a:lnTo>
                                  <a:lnTo>
                                    <a:pt x="629" y="413"/>
                                  </a:lnTo>
                                  <a:lnTo>
                                    <a:pt x="637" y="413"/>
                                  </a:lnTo>
                                  <a:lnTo>
                                    <a:pt x="644" y="417"/>
                                  </a:lnTo>
                                  <a:lnTo>
                                    <a:pt x="642" y="430"/>
                                  </a:lnTo>
                                  <a:lnTo>
                                    <a:pt x="634" y="444"/>
                                  </a:lnTo>
                                  <a:lnTo>
                                    <a:pt x="620" y="458"/>
                                  </a:lnTo>
                                  <a:lnTo>
                                    <a:pt x="599" y="474"/>
                                  </a:lnTo>
                                  <a:lnTo>
                                    <a:pt x="563" y="493"/>
                                  </a:lnTo>
                                  <a:lnTo>
                                    <a:pt x="525" y="510"/>
                                  </a:lnTo>
                                  <a:lnTo>
                                    <a:pt x="489" y="521"/>
                                  </a:lnTo>
                                  <a:lnTo>
                                    <a:pt x="448" y="531"/>
                                  </a:lnTo>
                                  <a:lnTo>
                                    <a:pt x="410" y="537"/>
                                  </a:lnTo>
                                  <a:lnTo>
                                    <a:pt x="360" y="542"/>
                                  </a:lnTo>
                                  <a:lnTo>
                                    <a:pt x="305" y="545"/>
                                  </a:lnTo>
                                  <a:lnTo>
                                    <a:pt x="250" y="546"/>
                                  </a:lnTo>
                                  <a:lnTo>
                                    <a:pt x="166" y="546"/>
                                  </a:lnTo>
                                  <a:lnTo>
                                    <a:pt x="211" y="562"/>
                                  </a:lnTo>
                                  <a:lnTo>
                                    <a:pt x="253" y="573"/>
                                  </a:lnTo>
                                  <a:lnTo>
                                    <a:pt x="301" y="579"/>
                                  </a:lnTo>
                                  <a:lnTo>
                                    <a:pt x="342" y="580"/>
                                  </a:lnTo>
                                  <a:lnTo>
                                    <a:pt x="384" y="583"/>
                                  </a:lnTo>
                                  <a:lnTo>
                                    <a:pt x="427" y="580"/>
                                  </a:lnTo>
                                  <a:lnTo>
                                    <a:pt x="462" y="579"/>
                                  </a:lnTo>
                                  <a:lnTo>
                                    <a:pt x="495" y="573"/>
                                  </a:lnTo>
                                  <a:lnTo>
                                    <a:pt x="540" y="562"/>
                                  </a:lnTo>
                                  <a:lnTo>
                                    <a:pt x="574" y="554"/>
                                  </a:lnTo>
                                  <a:lnTo>
                                    <a:pt x="587" y="555"/>
                                  </a:lnTo>
                                  <a:lnTo>
                                    <a:pt x="589" y="565"/>
                                  </a:lnTo>
                                  <a:lnTo>
                                    <a:pt x="585" y="575"/>
                                  </a:lnTo>
                                  <a:lnTo>
                                    <a:pt x="576" y="586"/>
                                  </a:lnTo>
                                  <a:lnTo>
                                    <a:pt x="561" y="597"/>
                                  </a:lnTo>
                                  <a:lnTo>
                                    <a:pt x="544" y="605"/>
                                  </a:lnTo>
                                  <a:lnTo>
                                    <a:pt x="525" y="614"/>
                                  </a:lnTo>
                                  <a:lnTo>
                                    <a:pt x="495" y="622"/>
                                  </a:lnTo>
                                  <a:lnTo>
                                    <a:pt x="432" y="631"/>
                                  </a:lnTo>
                                  <a:lnTo>
                                    <a:pt x="372" y="639"/>
                                  </a:lnTo>
                                  <a:lnTo>
                                    <a:pt x="253" y="649"/>
                                  </a:lnTo>
                                  <a:lnTo>
                                    <a:pt x="407" y="656"/>
                                  </a:lnTo>
                                  <a:lnTo>
                                    <a:pt x="439" y="656"/>
                                  </a:lnTo>
                                  <a:lnTo>
                                    <a:pt x="453" y="663"/>
                                  </a:lnTo>
                                  <a:lnTo>
                                    <a:pt x="461" y="670"/>
                                  </a:lnTo>
                                  <a:lnTo>
                                    <a:pt x="458" y="681"/>
                                  </a:lnTo>
                                  <a:lnTo>
                                    <a:pt x="466" y="687"/>
                                  </a:lnTo>
                                  <a:lnTo>
                                    <a:pt x="486" y="689"/>
                                  </a:lnTo>
                                  <a:lnTo>
                                    <a:pt x="516" y="677"/>
                                  </a:lnTo>
                                  <a:lnTo>
                                    <a:pt x="542" y="664"/>
                                  </a:lnTo>
                                  <a:lnTo>
                                    <a:pt x="563" y="651"/>
                                  </a:lnTo>
                                  <a:lnTo>
                                    <a:pt x="580" y="639"/>
                                  </a:lnTo>
                                  <a:lnTo>
                                    <a:pt x="597" y="621"/>
                                  </a:lnTo>
                                  <a:lnTo>
                                    <a:pt x="651" y="548"/>
                                  </a:lnTo>
                                  <a:lnTo>
                                    <a:pt x="693" y="485"/>
                                  </a:lnTo>
                                  <a:lnTo>
                                    <a:pt x="709" y="453"/>
                                  </a:lnTo>
                                  <a:lnTo>
                                    <a:pt x="713" y="440"/>
                                  </a:lnTo>
                                  <a:lnTo>
                                    <a:pt x="714" y="430"/>
                                  </a:lnTo>
                                  <a:lnTo>
                                    <a:pt x="714" y="419"/>
                                  </a:lnTo>
                                  <a:lnTo>
                                    <a:pt x="706" y="406"/>
                                  </a:lnTo>
                                  <a:lnTo>
                                    <a:pt x="701" y="398"/>
                                  </a:lnTo>
                                  <a:lnTo>
                                    <a:pt x="698" y="386"/>
                                  </a:lnTo>
                                  <a:lnTo>
                                    <a:pt x="701" y="373"/>
                                  </a:lnTo>
                                  <a:lnTo>
                                    <a:pt x="706" y="364"/>
                                  </a:lnTo>
                                  <a:lnTo>
                                    <a:pt x="713" y="354"/>
                                  </a:lnTo>
                                  <a:lnTo>
                                    <a:pt x="719" y="344"/>
                                  </a:lnTo>
                                  <a:lnTo>
                                    <a:pt x="727" y="333"/>
                                  </a:lnTo>
                                  <a:lnTo>
                                    <a:pt x="732" y="322"/>
                                  </a:lnTo>
                                  <a:lnTo>
                                    <a:pt x="731" y="308"/>
                                  </a:lnTo>
                                  <a:lnTo>
                                    <a:pt x="726" y="297"/>
                                  </a:lnTo>
                                  <a:lnTo>
                                    <a:pt x="719" y="287"/>
                                  </a:lnTo>
                                  <a:lnTo>
                                    <a:pt x="713" y="278"/>
                                  </a:lnTo>
                                  <a:lnTo>
                                    <a:pt x="705" y="267"/>
                                  </a:lnTo>
                                  <a:lnTo>
                                    <a:pt x="702" y="255"/>
                                  </a:lnTo>
                                  <a:lnTo>
                                    <a:pt x="705" y="246"/>
                                  </a:lnTo>
                                  <a:lnTo>
                                    <a:pt x="714" y="232"/>
                                  </a:lnTo>
                                  <a:lnTo>
                                    <a:pt x="723" y="221"/>
                                  </a:lnTo>
                                  <a:lnTo>
                                    <a:pt x="727" y="209"/>
                                  </a:lnTo>
                                  <a:lnTo>
                                    <a:pt x="727" y="194"/>
                                  </a:lnTo>
                                  <a:lnTo>
                                    <a:pt x="722" y="179"/>
                                  </a:lnTo>
                                  <a:lnTo>
                                    <a:pt x="713" y="168"/>
                                  </a:lnTo>
                                  <a:lnTo>
                                    <a:pt x="709" y="160"/>
                                  </a:lnTo>
                                  <a:lnTo>
                                    <a:pt x="705" y="147"/>
                                  </a:lnTo>
                                  <a:lnTo>
                                    <a:pt x="706" y="133"/>
                                  </a:lnTo>
                                  <a:lnTo>
                                    <a:pt x="714" y="122"/>
                                  </a:lnTo>
                                  <a:lnTo>
                                    <a:pt x="719" y="114"/>
                                  </a:lnTo>
                                  <a:lnTo>
                                    <a:pt x="727" y="105"/>
                                  </a:lnTo>
                                  <a:lnTo>
                                    <a:pt x="731" y="93"/>
                                  </a:lnTo>
                                  <a:lnTo>
                                    <a:pt x="732" y="80"/>
                                  </a:lnTo>
                                  <a:lnTo>
                                    <a:pt x="730" y="72"/>
                                  </a:lnTo>
                                  <a:lnTo>
                                    <a:pt x="722" y="59"/>
                                  </a:lnTo>
                                  <a:lnTo>
                                    <a:pt x="714" y="48"/>
                                  </a:lnTo>
                                  <a:lnTo>
                                    <a:pt x="709" y="34"/>
                                  </a:lnTo>
                                  <a:lnTo>
                                    <a:pt x="709" y="0"/>
                                  </a:lnTo>
                                  <a:lnTo>
                                    <a:pt x="634" y="50"/>
                                  </a:lnTo>
                                  <a:lnTo>
                                    <a:pt x="589" y="69"/>
                                  </a:lnTo>
                                  <a:lnTo>
                                    <a:pt x="536" y="86"/>
                                  </a:lnTo>
                                  <a:lnTo>
                                    <a:pt x="475" y="105"/>
                                  </a:lnTo>
                                  <a:lnTo>
                                    <a:pt x="420" y="116"/>
                                  </a:lnTo>
                                  <a:lnTo>
                                    <a:pt x="365" y="126"/>
                                  </a:lnTo>
                                  <a:lnTo>
                                    <a:pt x="294" y="13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678" name="Group 73"/>
                        <p:cNvGrpSpPr/>
                        <p:nvPr/>
                      </p:nvGrpSpPr>
                      <p:grpSpPr>
                        <a:xfrm>
                          <a:off x="1766880" y="3921840"/>
                          <a:ext cx="16560" cy="86400"/>
                          <a:chOff x="1766880" y="3921840"/>
                          <a:chExt cx="16560" cy="86400"/>
                        </a:xfrm>
                      </p:grpSpPr>
                      <p:sp>
                        <p:nvSpPr>
                          <p:cNvPr id="2679" name="Freeform 74"/>
                          <p:cNvSpPr/>
                          <p:nvPr/>
                        </p:nvSpPr>
                        <p:spPr>
                          <a:xfrm>
                            <a:off x="1770120" y="3944880"/>
                            <a:ext cx="12960" cy="13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70">
                                <a:moveTo>
                                  <a:pt x="167" y="13"/>
                                </a:moveTo>
                                <a:lnTo>
                                  <a:pt x="151" y="0"/>
                                </a:lnTo>
                                <a:lnTo>
                                  <a:pt x="100" y="26"/>
                                </a:lnTo>
                                <a:lnTo>
                                  <a:pt x="49" y="45"/>
                                </a:lnTo>
                                <a:lnTo>
                                  <a:pt x="0" y="59"/>
                                </a:lnTo>
                                <a:lnTo>
                                  <a:pt x="9" y="70"/>
                                </a:lnTo>
                                <a:lnTo>
                                  <a:pt x="43" y="70"/>
                                </a:lnTo>
                                <a:lnTo>
                                  <a:pt x="89" y="60"/>
                                </a:lnTo>
                                <a:lnTo>
                                  <a:pt x="130" y="40"/>
                                </a:lnTo>
                                <a:lnTo>
                                  <a:pt x="167" y="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e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120" bIns="-331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4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0" name="Freeform 75"/>
                          <p:cNvSpPr/>
                          <p:nvPr/>
                        </p:nvSpPr>
                        <p:spPr>
                          <a:xfrm>
                            <a:off x="1772280" y="3967200"/>
                            <a:ext cx="11160" cy="15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6" h="78">
                                <a:moveTo>
                                  <a:pt x="146" y="15"/>
                                </a:moveTo>
                                <a:lnTo>
                                  <a:pt x="138" y="0"/>
                                </a:lnTo>
                                <a:lnTo>
                                  <a:pt x="89" y="34"/>
                                </a:lnTo>
                                <a:lnTo>
                                  <a:pt x="50" y="51"/>
                                </a:lnTo>
                                <a:lnTo>
                                  <a:pt x="0" y="66"/>
                                </a:lnTo>
                                <a:lnTo>
                                  <a:pt x="10" y="78"/>
                                </a:lnTo>
                                <a:lnTo>
                                  <a:pt x="42" y="78"/>
                                </a:lnTo>
                                <a:lnTo>
                                  <a:pt x="74" y="69"/>
                                </a:lnTo>
                                <a:lnTo>
                                  <a:pt x="112" y="45"/>
                                </a:lnTo>
                                <a:lnTo>
                                  <a:pt x="146" y="1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e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4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1" name="Freeform 76"/>
                          <p:cNvSpPr/>
                          <p:nvPr/>
                        </p:nvSpPr>
                        <p:spPr>
                          <a:xfrm>
                            <a:off x="1771560" y="3993120"/>
                            <a:ext cx="11520" cy="15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9" h="77">
                                <a:moveTo>
                                  <a:pt x="149" y="11"/>
                                </a:moveTo>
                                <a:lnTo>
                                  <a:pt x="138" y="0"/>
                                </a:lnTo>
                                <a:lnTo>
                                  <a:pt x="93" y="31"/>
                                </a:lnTo>
                                <a:lnTo>
                                  <a:pt x="49" y="49"/>
                                </a:lnTo>
                                <a:lnTo>
                                  <a:pt x="0" y="63"/>
                                </a:lnTo>
                                <a:lnTo>
                                  <a:pt x="9" y="77"/>
                                </a:lnTo>
                                <a:lnTo>
                                  <a:pt x="42" y="74"/>
                                </a:lnTo>
                                <a:lnTo>
                                  <a:pt x="81" y="65"/>
                                </a:lnTo>
                                <a:lnTo>
                                  <a:pt x="121" y="40"/>
                                </a:lnTo>
                                <a:lnTo>
                                  <a:pt x="149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e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4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2" name="Freeform 77"/>
                          <p:cNvSpPr/>
                          <p:nvPr/>
                        </p:nvSpPr>
                        <p:spPr>
                          <a:xfrm>
                            <a:off x="1766880" y="3921840"/>
                            <a:ext cx="12960" cy="1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1" h="68">
                                <a:moveTo>
                                  <a:pt x="171" y="13"/>
                                </a:moveTo>
                                <a:lnTo>
                                  <a:pt x="154" y="0"/>
                                </a:lnTo>
                                <a:lnTo>
                                  <a:pt x="97" y="26"/>
                                </a:lnTo>
                                <a:lnTo>
                                  <a:pt x="50" y="41"/>
                                </a:lnTo>
                                <a:lnTo>
                                  <a:pt x="0" y="55"/>
                                </a:lnTo>
                                <a:lnTo>
                                  <a:pt x="11" y="68"/>
                                </a:lnTo>
                                <a:lnTo>
                                  <a:pt x="42" y="66"/>
                                </a:lnTo>
                                <a:lnTo>
                                  <a:pt x="82" y="57"/>
                                </a:lnTo>
                                <a:lnTo>
                                  <a:pt x="127" y="40"/>
                                </a:lnTo>
                                <a:lnTo>
                                  <a:pt x="171" y="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e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4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683" name="Freeform 78"/>
                      <p:cNvSpPr/>
                      <p:nvPr/>
                    </p:nvSpPr>
                    <p:spPr>
                      <a:xfrm>
                        <a:off x="1677960" y="3340800"/>
                        <a:ext cx="155160" cy="57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9" h="2908">
                            <a:moveTo>
                              <a:pt x="1415" y="2830"/>
                            </a:moveTo>
                            <a:lnTo>
                              <a:pt x="1432" y="2818"/>
                            </a:lnTo>
                            <a:lnTo>
                              <a:pt x="1445" y="2807"/>
                            </a:lnTo>
                            <a:lnTo>
                              <a:pt x="1453" y="2799"/>
                            </a:lnTo>
                            <a:lnTo>
                              <a:pt x="1458" y="2790"/>
                            </a:lnTo>
                            <a:lnTo>
                              <a:pt x="1463" y="2784"/>
                            </a:lnTo>
                            <a:lnTo>
                              <a:pt x="1466" y="2778"/>
                            </a:lnTo>
                            <a:lnTo>
                              <a:pt x="1470" y="2773"/>
                            </a:lnTo>
                            <a:lnTo>
                              <a:pt x="1471" y="2765"/>
                            </a:lnTo>
                            <a:lnTo>
                              <a:pt x="1474" y="2756"/>
                            </a:lnTo>
                            <a:lnTo>
                              <a:pt x="1475" y="2744"/>
                            </a:lnTo>
                            <a:lnTo>
                              <a:pt x="1484" y="2698"/>
                            </a:lnTo>
                            <a:lnTo>
                              <a:pt x="1543" y="2322"/>
                            </a:lnTo>
                            <a:lnTo>
                              <a:pt x="1554" y="2268"/>
                            </a:lnTo>
                            <a:lnTo>
                              <a:pt x="1563" y="2229"/>
                            </a:lnTo>
                            <a:lnTo>
                              <a:pt x="1577" y="2175"/>
                            </a:lnTo>
                            <a:lnTo>
                              <a:pt x="1598" y="2115"/>
                            </a:lnTo>
                            <a:lnTo>
                              <a:pt x="1619" y="2062"/>
                            </a:lnTo>
                            <a:lnTo>
                              <a:pt x="1638" y="2018"/>
                            </a:lnTo>
                            <a:lnTo>
                              <a:pt x="1655" y="1980"/>
                            </a:lnTo>
                            <a:lnTo>
                              <a:pt x="1672" y="1943"/>
                            </a:lnTo>
                            <a:lnTo>
                              <a:pt x="1706" y="1880"/>
                            </a:lnTo>
                            <a:lnTo>
                              <a:pt x="1740" y="1821"/>
                            </a:lnTo>
                            <a:lnTo>
                              <a:pt x="1773" y="1766"/>
                            </a:lnTo>
                            <a:lnTo>
                              <a:pt x="1799" y="1724"/>
                            </a:lnTo>
                            <a:lnTo>
                              <a:pt x="1846" y="1645"/>
                            </a:lnTo>
                            <a:lnTo>
                              <a:pt x="1879" y="1590"/>
                            </a:lnTo>
                            <a:lnTo>
                              <a:pt x="1905" y="1544"/>
                            </a:lnTo>
                            <a:lnTo>
                              <a:pt x="1927" y="1492"/>
                            </a:lnTo>
                            <a:lnTo>
                              <a:pt x="1952" y="1429"/>
                            </a:lnTo>
                            <a:lnTo>
                              <a:pt x="1969" y="1374"/>
                            </a:lnTo>
                            <a:lnTo>
                              <a:pt x="1985" y="1316"/>
                            </a:lnTo>
                            <a:lnTo>
                              <a:pt x="1995" y="1267"/>
                            </a:lnTo>
                            <a:lnTo>
                              <a:pt x="2007" y="1212"/>
                            </a:lnTo>
                            <a:lnTo>
                              <a:pt x="2015" y="1142"/>
                            </a:lnTo>
                            <a:lnTo>
                              <a:pt x="2019" y="1062"/>
                            </a:lnTo>
                            <a:lnTo>
                              <a:pt x="2019" y="987"/>
                            </a:lnTo>
                            <a:lnTo>
                              <a:pt x="2012" y="928"/>
                            </a:lnTo>
                            <a:lnTo>
                              <a:pt x="2003" y="873"/>
                            </a:lnTo>
                            <a:lnTo>
                              <a:pt x="1994" y="824"/>
                            </a:lnTo>
                            <a:lnTo>
                              <a:pt x="1978" y="759"/>
                            </a:lnTo>
                            <a:lnTo>
                              <a:pt x="1960" y="694"/>
                            </a:lnTo>
                            <a:lnTo>
                              <a:pt x="1940" y="634"/>
                            </a:lnTo>
                            <a:lnTo>
                              <a:pt x="1917" y="578"/>
                            </a:lnTo>
                            <a:lnTo>
                              <a:pt x="1888" y="529"/>
                            </a:lnTo>
                            <a:lnTo>
                              <a:pt x="1850" y="466"/>
                            </a:lnTo>
                            <a:lnTo>
                              <a:pt x="1807" y="403"/>
                            </a:lnTo>
                            <a:lnTo>
                              <a:pt x="1765" y="354"/>
                            </a:lnTo>
                            <a:lnTo>
                              <a:pt x="1727" y="312"/>
                            </a:lnTo>
                            <a:lnTo>
                              <a:pt x="1683" y="272"/>
                            </a:lnTo>
                            <a:lnTo>
                              <a:pt x="1636" y="232"/>
                            </a:lnTo>
                            <a:lnTo>
                              <a:pt x="1590" y="196"/>
                            </a:lnTo>
                            <a:lnTo>
                              <a:pt x="1535" y="159"/>
                            </a:lnTo>
                            <a:lnTo>
                              <a:pt x="1471" y="120"/>
                            </a:lnTo>
                            <a:lnTo>
                              <a:pt x="1411" y="90"/>
                            </a:lnTo>
                            <a:lnTo>
                              <a:pt x="1341" y="61"/>
                            </a:lnTo>
                            <a:lnTo>
                              <a:pt x="1277" y="40"/>
                            </a:lnTo>
                            <a:lnTo>
                              <a:pt x="1224" y="27"/>
                            </a:lnTo>
                            <a:lnTo>
                              <a:pt x="1167" y="14"/>
                            </a:lnTo>
                            <a:lnTo>
                              <a:pt x="1115" y="6"/>
                            </a:lnTo>
                            <a:lnTo>
                              <a:pt x="1053" y="0"/>
                            </a:lnTo>
                            <a:lnTo>
                              <a:pt x="997" y="0"/>
                            </a:lnTo>
                            <a:lnTo>
                              <a:pt x="936" y="0"/>
                            </a:lnTo>
                            <a:lnTo>
                              <a:pt x="885" y="6"/>
                            </a:lnTo>
                            <a:lnTo>
                              <a:pt x="826" y="19"/>
                            </a:lnTo>
                            <a:lnTo>
                              <a:pt x="782" y="28"/>
                            </a:lnTo>
                            <a:lnTo>
                              <a:pt x="727" y="44"/>
                            </a:lnTo>
                            <a:lnTo>
                              <a:pt x="676" y="59"/>
                            </a:lnTo>
                            <a:lnTo>
                              <a:pt x="630" y="78"/>
                            </a:lnTo>
                            <a:lnTo>
                              <a:pt x="586" y="97"/>
                            </a:lnTo>
                            <a:lnTo>
                              <a:pt x="541" y="121"/>
                            </a:lnTo>
                            <a:lnTo>
                              <a:pt x="501" y="145"/>
                            </a:lnTo>
                            <a:lnTo>
                              <a:pt x="456" y="175"/>
                            </a:lnTo>
                            <a:lnTo>
                              <a:pt x="408" y="209"/>
                            </a:lnTo>
                            <a:lnTo>
                              <a:pt x="365" y="242"/>
                            </a:lnTo>
                            <a:lnTo>
                              <a:pt x="326" y="277"/>
                            </a:lnTo>
                            <a:lnTo>
                              <a:pt x="284" y="316"/>
                            </a:lnTo>
                            <a:lnTo>
                              <a:pt x="242" y="360"/>
                            </a:lnTo>
                            <a:lnTo>
                              <a:pt x="206" y="402"/>
                            </a:lnTo>
                            <a:lnTo>
                              <a:pt x="175" y="441"/>
                            </a:lnTo>
                            <a:lnTo>
                              <a:pt x="140" y="495"/>
                            </a:lnTo>
                            <a:lnTo>
                              <a:pt x="106" y="554"/>
                            </a:lnTo>
                            <a:lnTo>
                              <a:pt x="75" y="620"/>
                            </a:lnTo>
                            <a:lnTo>
                              <a:pt x="53" y="685"/>
                            </a:lnTo>
                            <a:lnTo>
                              <a:pt x="34" y="752"/>
                            </a:lnTo>
                            <a:lnTo>
                              <a:pt x="17" y="818"/>
                            </a:lnTo>
                            <a:lnTo>
                              <a:pt x="7" y="879"/>
                            </a:lnTo>
                            <a:lnTo>
                              <a:pt x="0" y="940"/>
                            </a:lnTo>
                            <a:lnTo>
                              <a:pt x="0" y="999"/>
                            </a:lnTo>
                            <a:lnTo>
                              <a:pt x="0" y="1052"/>
                            </a:lnTo>
                            <a:lnTo>
                              <a:pt x="0" y="1115"/>
                            </a:lnTo>
                            <a:lnTo>
                              <a:pt x="3" y="1170"/>
                            </a:lnTo>
                            <a:lnTo>
                              <a:pt x="14" y="1239"/>
                            </a:lnTo>
                            <a:lnTo>
                              <a:pt x="24" y="1299"/>
                            </a:lnTo>
                            <a:lnTo>
                              <a:pt x="40" y="1358"/>
                            </a:lnTo>
                            <a:lnTo>
                              <a:pt x="62" y="1427"/>
                            </a:lnTo>
                            <a:lnTo>
                              <a:pt x="87" y="1488"/>
                            </a:lnTo>
                            <a:lnTo>
                              <a:pt x="113" y="1542"/>
                            </a:lnTo>
                            <a:lnTo>
                              <a:pt x="144" y="1602"/>
                            </a:lnTo>
                            <a:lnTo>
                              <a:pt x="178" y="1660"/>
                            </a:lnTo>
                            <a:lnTo>
                              <a:pt x="208" y="1715"/>
                            </a:lnTo>
                            <a:lnTo>
                              <a:pt x="239" y="1770"/>
                            </a:lnTo>
                            <a:lnTo>
                              <a:pt x="272" y="1830"/>
                            </a:lnTo>
                            <a:lnTo>
                              <a:pt x="323" y="1917"/>
                            </a:lnTo>
                            <a:lnTo>
                              <a:pt x="370" y="2007"/>
                            </a:lnTo>
                            <a:lnTo>
                              <a:pt x="398" y="2053"/>
                            </a:lnTo>
                            <a:lnTo>
                              <a:pt x="412" y="2091"/>
                            </a:lnTo>
                            <a:lnTo>
                              <a:pt x="429" y="2138"/>
                            </a:lnTo>
                            <a:lnTo>
                              <a:pt x="445" y="2192"/>
                            </a:lnTo>
                            <a:lnTo>
                              <a:pt x="458" y="2239"/>
                            </a:lnTo>
                            <a:lnTo>
                              <a:pt x="469" y="2292"/>
                            </a:lnTo>
                            <a:lnTo>
                              <a:pt x="479" y="2365"/>
                            </a:lnTo>
                            <a:lnTo>
                              <a:pt x="492" y="2444"/>
                            </a:lnTo>
                            <a:lnTo>
                              <a:pt x="501" y="2506"/>
                            </a:lnTo>
                            <a:lnTo>
                              <a:pt x="511" y="2586"/>
                            </a:lnTo>
                            <a:lnTo>
                              <a:pt x="518" y="2643"/>
                            </a:lnTo>
                            <a:lnTo>
                              <a:pt x="526" y="2693"/>
                            </a:lnTo>
                            <a:lnTo>
                              <a:pt x="537" y="2742"/>
                            </a:lnTo>
                            <a:lnTo>
                              <a:pt x="541" y="2756"/>
                            </a:lnTo>
                            <a:lnTo>
                              <a:pt x="543" y="2767"/>
                            </a:lnTo>
                            <a:lnTo>
                              <a:pt x="545" y="2773"/>
                            </a:lnTo>
                            <a:lnTo>
                              <a:pt x="546" y="2778"/>
                            </a:lnTo>
                            <a:lnTo>
                              <a:pt x="552" y="2784"/>
                            </a:lnTo>
                            <a:lnTo>
                              <a:pt x="558" y="2794"/>
                            </a:lnTo>
                            <a:lnTo>
                              <a:pt x="567" y="2803"/>
                            </a:lnTo>
                            <a:lnTo>
                              <a:pt x="576" y="2812"/>
                            </a:lnTo>
                            <a:lnTo>
                              <a:pt x="592" y="2824"/>
                            </a:lnTo>
                            <a:lnTo>
                              <a:pt x="610" y="2833"/>
                            </a:lnTo>
                            <a:lnTo>
                              <a:pt x="635" y="2847"/>
                            </a:lnTo>
                            <a:lnTo>
                              <a:pt x="657" y="2856"/>
                            </a:lnTo>
                            <a:lnTo>
                              <a:pt x="681" y="2864"/>
                            </a:lnTo>
                            <a:lnTo>
                              <a:pt x="703" y="2870"/>
                            </a:lnTo>
                            <a:lnTo>
                              <a:pt x="723" y="2875"/>
                            </a:lnTo>
                            <a:lnTo>
                              <a:pt x="753" y="2883"/>
                            </a:lnTo>
                            <a:lnTo>
                              <a:pt x="778" y="2889"/>
                            </a:lnTo>
                            <a:lnTo>
                              <a:pt x="802" y="2892"/>
                            </a:lnTo>
                            <a:lnTo>
                              <a:pt x="829" y="2896"/>
                            </a:lnTo>
                            <a:lnTo>
                              <a:pt x="857" y="2900"/>
                            </a:lnTo>
                            <a:lnTo>
                              <a:pt x="883" y="2902"/>
                            </a:lnTo>
                            <a:lnTo>
                              <a:pt x="906" y="2904"/>
                            </a:lnTo>
                            <a:lnTo>
                              <a:pt x="934" y="2906"/>
                            </a:lnTo>
                            <a:lnTo>
                              <a:pt x="959" y="2908"/>
                            </a:lnTo>
                            <a:lnTo>
                              <a:pt x="984" y="2908"/>
                            </a:lnTo>
                            <a:lnTo>
                              <a:pt x="1006" y="2908"/>
                            </a:lnTo>
                            <a:lnTo>
                              <a:pt x="1031" y="2908"/>
                            </a:lnTo>
                            <a:lnTo>
                              <a:pt x="1061" y="2908"/>
                            </a:lnTo>
                            <a:lnTo>
                              <a:pt x="1086" y="2906"/>
                            </a:lnTo>
                            <a:lnTo>
                              <a:pt x="1108" y="2906"/>
                            </a:lnTo>
                            <a:lnTo>
                              <a:pt x="1134" y="2902"/>
                            </a:lnTo>
                            <a:lnTo>
                              <a:pt x="1166" y="2900"/>
                            </a:lnTo>
                            <a:lnTo>
                              <a:pt x="1188" y="2896"/>
                            </a:lnTo>
                            <a:lnTo>
                              <a:pt x="1217" y="2892"/>
                            </a:lnTo>
                            <a:lnTo>
                              <a:pt x="1241" y="2887"/>
                            </a:lnTo>
                            <a:lnTo>
                              <a:pt x="1265" y="2883"/>
                            </a:lnTo>
                            <a:lnTo>
                              <a:pt x="1288" y="2877"/>
                            </a:lnTo>
                            <a:lnTo>
                              <a:pt x="1309" y="2871"/>
                            </a:lnTo>
                            <a:lnTo>
                              <a:pt x="1334" y="2864"/>
                            </a:lnTo>
                            <a:lnTo>
                              <a:pt x="1354" y="2856"/>
                            </a:lnTo>
                            <a:lnTo>
                              <a:pt x="1375" y="2849"/>
                            </a:lnTo>
                            <a:lnTo>
                              <a:pt x="1395" y="2839"/>
                            </a:lnTo>
                            <a:lnTo>
                              <a:pt x="1415" y="283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Oval 79"/>
                      <p:cNvSpPr/>
                      <p:nvPr/>
                    </p:nvSpPr>
                    <p:spPr>
                      <a:xfrm>
                        <a:off x="1721520" y="3852720"/>
                        <a:ext cx="68040" cy="5868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5" name="Freeform 80"/>
                      <p:cNvSpPr/>
                      <p:nvPr/>
                    </p:nvSpPr>
                    <p:spPr>
                      <a:xfrm>
                        <a:off x="1792800" y="3398760"/>
                        <a:ext cx="25920" cy="85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8" h="432">
                            <a:moveTo>
                              <a:pt x="0" y="0"/>
                            </a:moveTo>
                            <a:lnTo>
                              <a:pt x="90" y="46"/>
                            </a:lnTo>
                            <a:lnTo>
                              <a:pt x="172" y="97"/>
                            </a:lnTo>
                            <a:lnTo>
                              <a:pt x="234" y="148"/>
                            </a:lnTo>
                            <a:lnTo>
                              <a:pt x="275" y="203"/>
                            </a:lnTo>
                            <a:lnTo>
                              <a:pt x="304" y="259"/>
                            </a:lnTo>
                            <a:lnTo>
                              <a:pt x="325" y="308"/>
                            </a:lnTo>
                            <a:lnTo>
                              <a:pt x="338" y="358"/>
                            </a:lnTo>
                            <a:lnTo>
                              <a:pt x="219" y="432"/>
                            </a:lnTo>
                            <a:lnTo>
                              <a:pt x="208" y="362"/>
                            </a:lnTo>
                            <a:lnTo>
                              <a:pt x="189" y="287"/>
                            </a:lnTo>
                            <a:lnTo>
                              <a:pt x="161" y="209"/>
                            </a:lnTo>
                            <a:lnTo>
                              <a:pt x="124" y="144"/>
                            </a:lnTo>
                            <a:lnTo>
                              <a:pt x="73" y="7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686" name="Group 81"/>
                      <p:cNvGrpSpPr/>
                      <p:nvPr/>
                    </p:nvGrpSpPr>
                    <p:grpSpPr>
                      <a:xfrm>
                        <a:off x="1733760" y="3514320"/>
                        <a:ext cx="43200" cy="358200"/>
                        <a:chOff x="1733760" y="3514320"/>
                        <a:chExt cx="43200" cy="358200"/>
                      </a:xfrm>
                    </p:grpSpPr>
                    <p:sp>
                      <p:nvSpPr>
                        <p:cNvPr id="2687" name="Freeform 82"/>
                        <p:cNvSpPr/>
                        <p:nvPr/>
                      </p:nvSpPr>
                      <p:spPr>
                        <a:xfrm>
                          <a:off x="1741680" y="3663720"/>
                          <a:ext cx="26640" cy="208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5" h="1053">
                              <a:moveTo>
                                <a:pt x="0" y="80"/>
                              </a:moveTo>
                              <a:lnTo>
                                <a:pt x="6" y="252"/>
                              </a:lnTo>
                              <a:lnTo>
                                <a:pt x="23" y="274"/>
                              </a:lnTo>
                              <a:lnTo>
                                <a:pt x="17" y="975"/>
                              </a:lnTo>
                              <a:lnTo>
                                <a:pt x="40" y="1053"/>
                              </a:lnTo>
                              <a:lnTo>
                                <a:pt x="98" y="1053"/>
                              </a:lnTo>
                              <a:lnTo>
                                <a:pt x="146" y="1015"/>
                              </a:lnTo>
                              <a:lnTo>
                                <a:pt x="201" y="1015"/>
                              </a:lnTo>
                              <a:lnTo>
                                <a:pt x="245" y="1053"/>
                              </a:lnTo>
                              <a:lnTo>
                                <a:pt x="307" y="1053"/>
                              </a:lnTo>
                              <a:lnTo>
                                <a:pt x="328" y="975"/>
                              </a:lnTo>
                              <a:lnTo>
                                <a:pt x="317" y="274"/>
                              </a:lnTo>
                              <a:lnTo>
                                <a:pt x="333" y="252"/>
                              </a:lnTo>
                              <a:lnTo>
                                <a:pt x="345" y="80"/>
                              </a:lnTo>
                              <a:lnTo>
                                <a:pt x="269" y="17"/>
                              </a:lnTo>
                              <a:lnTo>
                                <a:pt x="231" y="17"/>
                              </a:lnTo>
                              <a:lnTo>
                                <a:pt x="210" y="0"/>
                              </a:lnTo>
                              <a:lnTo>
                                <a:pt x="123" y="0"/>
                              </a:lnTo>
                              <a:lnTo>
                                <a:pt x="104" y="17"/>
                              </a:lnTo>
                              <a:lnTo>
                                <a:pt x="72" y="17"/>
                              </a:lnTo>
                              <a:lnTo>
                                <a:pt x="0" y="8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8" name="Oval 83"/>
                        <p:cNvSpPr/>
                        <p:nvPr/>
                      </p:nvSpPr>
                      <p:spPr>
                        <a:xfrm>
                          <a:off x="1755360" y="3670200"/>
                          <a:ext cx="3240" cy="14040"/>
                        </a:xfrm>
                        <a:prstGeom prst="ellipse">
                          <a:avLst/>
                        </a:prstGeom>
                        <a:solidFill>
                          <a:srgbClr val="e0e0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689" name="Group 84"/>
                        <p:cNvGrpSpPr/>
                        <p:nvPr/>
                      </p:nvGrpSpPr>
                      <p:grpSpPr>
                        <a:xfrm>
                          <a:off x="1733760" y="3514320"/>
                          <a:ext cx="43200" cy="164160"/>
                          <a:chOff x="1733760" y="3514320"/>
                          <a:chExt cx="43200" cy="164160"/>
                        </a:xfrm>
                      </p:grpSpPr>
                      <p:sp>
                        <p:nvSpPr>
                          <p:cNvPr id="2690" name="Oval 85"/>
                          <p:cNvSpPr/>
                          <p:nvPr/>
                        </p:nvSpPr>
                        <p:spPr>
                          <a:xfrm>
                            <a:off x="1736280" y="3514320"/>
                            <a:ext cx="39600" cy="558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4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1" name="Freeform 86"/>
                          <p:cNvSpPr/>
                          <p:nvPr/>
                        </p:nvSpPr>
                        <p:spPr>
                          <a:xfrm>
                            <a:off x="1733760" y="3539880"/>
                            <a:ext cx="43200" cy="138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2" h="699">
                                <a:moveTo>
                                  <a:pt x="358" y="699"/>
                                </a:moveTo>
                                <a:lnTo>
                                  <a:pt x="562" y="69"/>
                                </a:lnTo>
                                <a:lnTo>
                                  <a:pt x="526" y="56"/>
                                </a:lnTo>
                                <a:lnTo>
                                  <a:pt x="485" y="38"/>
                                </a:lnTo>
                                <a:lnTo>
                                  <a:pt x="431" y="24"/>
                                </a:lnTo>
                                <a:lnTo>
                                  <a:pt x="384" y="12"/>
                                </a:lnTo>
                                <a:lnTo>
                                  <a:pt x="342" y="4"/>
                                </a:lnTo>
                                <a:lnTo>
                                  <a:pt x="297" y="0"/>
                                </a:lnTo>
                                <a:lnTo>
                                  <a:pt x="248" y="3"/>
                                </a:lnTo>
                                <a:lnTo>
                                  <a:pt x="185" y="10"/>
                                </a:lnTo>
                                <a:lnTo>
                                  <a:pt x="132" y="24"/>
                                </a:lnTo>
                                <a:lnTo>
                                  <a:pt x="80" y="38"/>
                                </a:lnTo>
                                <a:lnTo>
                                  <a:pt x="34" y="58"/>
                                </a:lnTo>
                                <a:lnTo>
                                  <a:pt x="0" y="76"/>
                                </a:lnTo>
                                <a:lnTo>
                                  <a:pt x="197" y="699"/>
                                </a:lnTo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4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92" name="Group 87"/>
                        <p:cNvGrpSpPr/>
                        <p:nvPr/>
                      </p:nvGrpSpPr>
                      <p:grpSpPr>
                        <a:xfrm>
                          <a:off x="1747080" y="3693600"/>
                          <a:ext cx="15120" cy="159480"/>
                          <a:chOff x="1747080" y="3693600"/>
                          <a:chExt cx="15120" cy="159480"/>
                        </a:xfrm>
                      </p:grpSpPr>
                      <p:grpSp>
                        <p:nvGrpSpPr>
                          <p:cNvPr id="2693" name=""/>
                          <p:cNvGrpSpPr/>
                          <p:nvPr/>
                        </p:nvGrpSpPr>
                        <p:grpSpPr>
                          <a:xfrm>
                            <a:off x="1749600" y="3697560"/>
                            <a:ext cx="360" cy="155520"/>
                            <a:chOff x="1749600" y="3697560"/>
                            <a:chExt cx="360" cy="155520"/>
                          </a:xfrm>
                        </p:grpSpPr>
                        <p:sp>
                          <p:nvSpPr>
                            <p:cNvPr id="2694" name="Line 88"/>
                            <p:cNvSpPr/>
                            <p:nvPr/>
                          </p:nvSpPr>
                          <p:spPr>
                            <a:xfrm>
                              <a:off x="1749600" y="3697560"/>
                              <a:ext cx="0" cy="15552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95" name=""/>
                            <p:cNvSpPr txBox="1"/>
                            <p:nvPr/>
                          </p:nvSpPr>
                          <p:spPr>
                            <a:xfrm>
                              <a:off x="1749600" y="3697560"/>
                              <a:ext cx="360" cy="1555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96" name=""/>
                          <p:cNvGrpSpPr/>
                          <p:nvPr/>
                        </p:nvGrpSpPr>
                        <p:grpSpPr>
                          <a:xfrm>
                            <a:off x="1759320" y="3697560"/>
                            <a:ext cx="360" cy="154800"/>
                            <a:chOff x="1759320" y="3697560"/>
                            <a:chExt cx="360" cy="154800"/>
                          </a:xfrm>
                        </p:grpSpPr>
                        <p:sp>
                          <p:nvSpPr>
                            <p:cNvPr id="2697" name="Line 89"/>
                            <p:cNvSpPr/>
                            <p:nvPr/>
                          </p:nvSpPr>
                          <p:spPr>
                            <a:xfrm flipV="1">
                              <a:off x="1759680" y="3697560"/>
                              <a:ext cx="0" cy="15480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98" name=""/>
                            <p:cNvSpPr txBox="1"/>
                            <p:nvPr/>
                          </p:nvSpPr>
                          <p:spPr>
                            <a:xfrm rot="10800000">
                              <a:off x="1759320" y="3697560"/>
                              <a:ext cx="360" cy="1548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99" name=""/>
                          <p:cNvGrpSpPr/>
                          <p:nvPr/>
                        </p:nvGrpSpPr>
                        <p:grpSpPr>
                          <a:xfrm>
                            <a:off x="1761840" y="3693600"/>
                            <a:ext cx="360" cy="154800"/>
                            <a:chOff x="1761840" y="3693600"/>
                            <a:chExt cx="360" cy="154800"/>
                          </a:xfrm>
                        </p:grpSpPr>
                        <p:sp>
                          <p:nvSpPr>
                            <p:cNvPr id="2700" name="Line 90"/>
                            <p:cNvSpPr/>
                            <p:nvPr/>
                          </p:nvSpPr>
                          <p:spPr>
                            <a:xfrm flipV="1">
                              <a:off x="1762200" y="3693600"/>
                              <a:ext cx="0" cy="15480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01" name=""/>
                            <p:cNvSpPr txBox="1"/>
                            <p:nvPr/>
                          </p:nvSpPr>
                          <p:spPr>
                            <a:xfrm rot="10800000">
                              <a:off x="1761840" y="3693600"/>
                              <a:ext cx="360" cy="1548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02" name=""/>
                          <p:cNvGrpSpPr/>
                          <p:nvPr/>
                        </p:nvGrpSpPr>
                        <p:grpSpPr>
                          <a:xfrm>
                            <a:off x="1747080" y="3693600"/>
                            <a:ext cx="360" cy="154800"/>
                            <a:chOff x="1747080" y="3693600"/>
                            <a:chExt cx="360" cy="154800"/>
                          </a:xfrm>
                        </p:grpSpPr>
                        <p:sp>
                          <p:nvSpPr>
                            <p:cNvPr id="2703" name="Line 91"/>
                            <p:cNvSpPr/>
                            <p:nvPr/>
                          </p:nvSpPr>
                          <p:spPr>
                            <a:xfrm flipV="1">
                              <a:off x="1747440" y="3693600"/>
                              <a:ext cx="0" cy="15480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04" name=""/>
                            <p:cNvSpPr txBox="1"/>
                            <p:nvPr/>
                          </p:nvSpPr>
                          <p:spPr>
                            <a:xfrm rot="10800000">
                              <a:off x="1747080" y="3693600"/>
                              <a:ext cx="360" cy="1548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4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2705" name="Freeform 92"/>
                      <p:cNvSpPr/>
                      <p:nvPr/>
                    </p:nvSpPr>
                    <p:spPr>
                      <a:xfrm>
                        <a:off x="1752480" y="3769560"/>
                        <a:ext cx="41760" cy="13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6" h="681">
                            <a:moveTo>
                              <a:pt x="546" y="0"/>
                            </a:moveTo>
                            <a:lnTo>
                              <a:pt x="523" y="20"/>
                            </a:lnTo>
                            <a:lnTo>
                              <a:pt x="432" y="441"/>
                            </a:lnTo>
                            <a:lnTo>
                              <a:pt x="415" y="483"/>
                            </a:lnTo>
                            <a:lnTo>
                              <a:pt x="388" y="518"/>
                            </a:lnTo>
                            <a:lnTo>
                              <a:pt x="347" y="550"/>
                            </a:lnTo>
                            <a:lnTo>
                              <a:pt x="307" y="575"/>
                            </a:lnTo>
                            <a:lnTo>
                              <a:pt x="262" y="598"/>
                            </a:lnTo>
                            <a:lnTo>
                              <a:pt x="215" y="618"/>
                            </a:lnTo>
                            <a:lnTo>
                              <a:pt x="163" y="637"/>
                            </a:lnTo>
                            <a:lnTo>
                              <a:pt x="119" y="647"/>
                            </a:lnTo>
                            <a:lnTo>
                              <a:pt x="65" y="656"/>
                            </a:lnTo>
                            <a:lnTo>
                              <a:pt x="0" y="652"/>
                            </a:lnTo>
                            <a:lnTo>
                              <a:pt x="10" y="677"/>
                            </a:lnTo>
                            <a:lnTo>
                              <a:pt x="55" y="681"/>
                            </a:lnTo>
                            <a:lnTo>
                              <a:pt x="86" y="681"/>
                            </a:lnTo>
                            <a:lnTo>
                              <a:pt x="134" y="677"/>
                            </a:lnTo>
                            <a:lnTo>
                              <a:pt x="173" y="674"/>
                            </a:lnTo>
                            <a:lnTo>
                              <a:pt x="227" y="665"/>
                            </a:lnTo>
                            <a:lnTo>
                              <a:pt x="269" y="657"/>
                            </a:lnTo>
                            <a:lnTo>
                              <a:pt x="316" y="643"/>
                            </a:lnTo>
                            <a:lnTo>
                              <a:pt x="343" y="635"/>
                            </a:lnTo>
                            <a:lnTo>
                              <a:pt x="384" y="618"/>
                            </a:lnTo>
                            <a:lnTo>
                              <a:pt x="427" y="590"/>
                            </a:lnTo>
                            <a:lnTo>
                              <a:pt x="440" y="575"/>
                            </a:lnTo>
                            <a:lnTo>
                              <a:pt x="452" y="554"/>
                            </a:lnTo>
                            <a:lnTo>
                              <a:pt x="462" y="512"/>
                            </a:lnTo>
                            <a:lnTo>
                              <a:pt x="471" y="470"/>
                            </a:lnTo>
                            <a:lnTo>
                              <a:pt x="54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6" name="Rectangle 93"/>
                    <p:cNvSpPr/>
                    <p:nvPr/>
                  </p:nvSpPr>
                  <p:spPr>
                    <a:xfrm>
                      <a:off x="1648440" y="3958200"/>
                      <a:ext cx="207720" cy="313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50000">
                          <a:srgbClr val="c0c0c0"/>
                        </a:gs>
                        <a:gs pos="100000">
                          <a:srgbClr val="8080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07" name="Oval 94"/>
                <p:cNvSpPr/>
                <p:nvPr/>
              </p:nvSpPr>
              <p:spPr>
                <a:xfrm>
                  <a:off x="1557720" y="3513600"/>
                  <a:ext cx="356760" cy="45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ffd7"/>
                    </a:gs>
                  </a:gsLst>
                  <a:lin ang="5400000"/>
                </a:gra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8" name="Group 95"/>
              <p:cNvGrpSpPr/>
              <p:nvPr/>
            </p:nvGrpSpPr>
            <p:grpSpPr>
              <a:xfrm>
                <a:off x="3292200" y="3732120"/>
                <a:ext cx="476280" cy="1109880"/>
                <a:chOff x="3292200" y="3732120"/>
                <a:chExt cx="476280" cy="1109880"/>
              </a:xfrm>
            </p:grpSpPr>
            <p:sp>
              <p:nvSpPr>
                <p:cNvPr id="2709" name="Rectangle 96"/>
                <p:cNvSpPr/>
                <p:nvPr/>
              </p:nvSpPr>
              <p:spPr>
                <a:xfrm>
                  <a:off x="3431160" y="3732120"/>
                  <a:ext cx="190080" cy="1130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Rectangle 97"/>
                <p:cNvSpPr/>
                <p:nvPr/>
              </p:nvSpPr>
              <p:spPr>
                <a:xfrm>
                  <a:off x="3292200" y="3823920"/>
                  <a:ext cx="476280" cy="101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2fb9f"/>
                    </a:gs>
                    <a:gs pos="100000">
                      <a:srgbClr val="ff66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1" name="Group 98"/>
              <p:cNvGrpSpPr/>
              <p:nvPr/>
            </p:nvGrpSpPr>
            <p:grpSpPr>
              <a:xfrm>
                <a:off x="4245120" y="3824280"/>
                <a:ext cx="475560" cy="1109880"/>
                <a:chOff x="4245120" y="3824280"/>
                <a:chExt cx="475560" cy="1109880"/>
              </a:xfrm>
            </p:grpSpPr>
            <p:sp>
              <p:nvSpPr>
                <p:cNvPr id="2712" name="Rectangle 99"/>
                <p:cNvSpPr/>
                <p:nvPr/>
              </p:nvSpPr>
              <p:spPr>
                <a:xfrm>
                  <a:off x="4383720" y="3824280"/>
                  <a:ext cx="189720" cy="1130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Rectangle 100"/>
                <p:cNvSpPr/>
                <p:nvPr/>
              </p:nvSpPr>
              <p:spPr>
                <a:xfrm>
                  <a:off x="4245120" y="3916080"/>
                  <a:ext cx="475560" cy="101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2fb9f"/>
                    </a:gs>
                    <a:gs pos="100000">
                      <a:srgbClr val="ff66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4" name="Group 101"/>
              <p:cNvGrpSpPr/>
              <p:nvPr/>
            </p:nvGrpSpPr>
            <p:grpSpPr>
              <a:xfrm>
                <a:off x="3483360" y="1900440"/>
                <a:ext cx="1033200" cy="1145160"/>
                <a:chOff x="3483360" y="1900440"/>
                <a:chExt cx="1033200" cy="1145160"/>
              </a:xfrm>
            </p:grpSpPr>
            <p:pic>
              <p:nvPicPr>
                <p:cNvPr id="2715" name="xjhsy8" descr="w7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83360" y="1900440"/>
                  <a:ext cx="1033200" cy="114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16" name="Rectangle 103"/>
                <p:cNvSpPr/>
                <p:nvPr/>
              </p:nvSpPr>
              <p:spPr>
                <a:xfrm>
                  <a:off x="3812400" y="2286720"/>
                  <a:ext cx="432360" cy="14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0f0f0"/>
                    </a:gs>
                    <a:gs pos="50000">
                      <a:srgbClr val="b2b2b2"/>
                    </a:gs>
                    <a:gs pos="100000">
                      <a:srgbClr val="f0f0f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7" name="Freeform 104"/>
              <p:cNvSpPr/>
              <p:nvPr/>
            </p:nvSpPr>
            <p:spPr>
              <a:xfrm>
                <a:off x="2340000" y="3937320"/>
                <a:ext cx="1143000" cy="1188360"/>
              </a:xfrm>
              <a:custGeom>
                <a:avLst/>
                <a:gdLst/>
                <a:ahLst/>
                <a:rect l="l" t="t" r="r" b="b"/>
                <a:pathLst>
                  <a:path w="576" h="504">
                    <a:moveTo>
                      <a:pt x="0" y="0"/>
                    </a:moveTo>
                    <a:cubicBezTo>
                      <a:pt x="120" y="28"/>
                      <a:pt x="240" y="56"/>
                      <a:pt x="288" y="96"/>
                    </a:cubicBezTo>
                    <a:cubicBezTo>
                      <a:pt x="336" y="136"/>
                      <a:pt x="264" y="176"/>
                      <a:pt x="288" y="240"/>
                    </a:cubicBezTo>
                    <a:cubicBezTo>
                      <a:pt x="312" y="304"/>
                      <a:pt x="384" y="456"/>
                      <a:pt x="432" y="480"/>
                    </a:cubicBezTo>
                    <a:cubicBezTo>
                      <a:pt x="480" y="504"/>
                      <a:pt x="528" y="444"/>
                      <a:pt x="576" y="38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5"/>
              <p:cNvSpPr/>
              <p:nvPr/>
            </p:nvSpPr>
            <p:spPr>
              <a:xfrm>
                <a:off x="4278960" y="2579400"/>
                <a:ext cx="444600" cy="1244520"/>
              </a:xfrm>
              <a:custGeom>
                <a:avLst/>
                <a:gdLst/>
                <a:ahLst/>
                <a:rect l="l" t="t" r="r" b="b"/>
                <a:pathLst>
                  <a:path w="224" h="528">
                    <a:moveTo>
                      <a:pt x="96" y="528"/>
                    </a:moveTo>
                    <a:cubicBezTo>
                      <a:pt x="88" y="496"/>
                      <a:pt x="80" y="464"/>
                      <a:pt x="96" y="432"/>
                    </a:cubicBezTo>
                    <a:cubicBezTo>
                      <a:pt x="112" y="400"/>
                      <a:pt x="176" y="376"/>
                      <a:pt x="192" y="336"/>
                    </a:cubicBezTo>
                    <a:cubicBezTo>
                      <a:pt x="208" y="296"/>
                      <a:pt x="224" y="248"/>
                      <a:pt x="192" y="192"/>
                    </a:cubicBezTo>
                    <a:cubicBezTo>
                      <a:pt x="160" y="136"/>
                      <a:pt x="80" y="68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Rectangle 106"/>
              <p:cNvSpPr/>
              <p:nvPr/>
            </p:nvSpPr>
            <p:spPr>
              <a:xfrm>
                <a:off x="3768840" y="1900440"/>
                <a:ext cx="505800" cy="38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Rectangle 107"/>
              <p:cNvSpPr/>
              <p:nvPr/>
            </p:nvSpPr>
            <p:spPr>
              <a:xfrm>
                <a:off x="1577520" y="3145320"/>
                <a:ext cx="506160" cy="38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21" name="Picture 130" descr=""/>
          <p:cNvPicPr/>
          <p:nvPr/>
        </p:nvPicPr>
        <p:blipFill>
          <a:blip r:embed="rId4"/>
          <a:stretch/>
        </p:blipFill>
        <p:spPr>
          <a:xfrm>
            <a:off x="4932360" y="1773360"/>
            <a:ext cx="4032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1000"/>
                                        <p:tgtEl>
                                          <p:spTgt spid="2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"/>
          <p:cNvSpPr txBox="1"/>
          <p:nvPr/>
        </p:nvSpPr>
        <p:spPr>
          <a:xfrm>
            <a:off x="395280" y="475920"/>
            <a:ext cx="8137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下列几组材料中都属于导体的是：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铅笔芯、人体、纯水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金属、橡胶、汽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盐水、银、碳棒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陶瓷、塑料、大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Freeform 3"/>
          <p:cNvSpPr/>
          <p:nvPr/>
        </p:nvSpPr>
        <p:spPr>
          <a:xfrm>
            <a:off x="684360" y="3141720"/>
            <a:ext cx="1079280" cy="779400"/>
          </a:xfrm>
          <a:custGeom>
            <a:avLst/>
            <a:gdLst/>
            <a:ahLst/>
            <a:rect l="l" t="t" r="r" b="b"/>
            <a:pathLst>
              <a:path w="1179" h="627">
                <a:moveTo>
                  <a:pt x="90" y="226"/>
                </a:moveTo>
                <a:cubicBezTo>
                  <a:pt x="45" y="426"/>
                  <a:pt x="0" y="627"/>
                  <a:pt x="181" y="589"/>
                </a:cubicBezTo>
                <a:cubicBezTo>
                  <a:pt x="362" y="551"/>
                  <a:pt x="1020" y="98"/>
                  <a:pt x="1179" y="0"/>
                </a:cubicBezTo>
              </a:path>
            </a:pathLst>
          </a:custGeom>
          <a:noFill/>
          <a:ln w="60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Rectangle 4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5616720" cy="33163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835280" y="4795920"/>
            <a:ext cx="360" cy="360"/>
            <a:chOff x="1835280" y="4795920"/>
            <a:chExt cx="360" cy="360"/>
          </a:xfrm>
        </p:grpSpPr>
        <p:sp>
          <p:nvSpPr>
            <p:cNvPr id="89" name="Line 3"/>
            <p:cNvSpPr/>
            <p:nvPr/>
          </p:nvSpPr>
          <p:spPr>
            <a:xfrm>
              <a:off x="1835280" y="479592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1835280" y="4795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4"/>
          <p:cNvSpPr/>
          <p:nvPr/>
        </p:nvSpPr>
        <p:spPr>
          <a:xfrm>
            <a:off x="395280" y="54936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黑体"/>
              </a:rPr>
              <a:t>想想做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003640" y="2276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27d6"/>
                </a:solidFill>
                <a:latin typeface="Times New Roman"/>
              </a:rPr>
              <a:t>开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419640" y="436572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27d6"/>
                </a:solidFill>
                <a:latin typeface="Times New Roman"/>
              </a:rPr>
              <a:t>电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979640" y="198900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27d6"/>
                </a:solidFill>
                <a:latin typeface="Times New Roman"/>
              </a:rPr>
              <a:t>电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6012000" y="260280"/>
            <a:ext cx="2592000" cy="2232000"/>
            <a:chOff x="6012000" y="260280"/>
            <a:chExt cx="2592000" cy="2232000"/>
          </a:xfrm>
        </p:grpSpPr>
        <p:sp>
          <p:nvSpPr>
            <p:cNvPr id="96" name="AutoShape 9"/>
            <p:cNvSpPr/>
            <p:nvPr/>
          </p:nvSpPr>
          <p:spPr>
            <a:xfrm>
              <a:off x="6012000" y="620640"/>
              <a:ext cx="2592000" cy="1871640"/>
            </a:xfrm>
            <a:prstGeom prst="roundRect">
              <a:avLst>
                <a:gd name="adj" fmla="val 16667"/>
              </a:avLst>
            </a:prstGeom>
            <a:solidFill>
              <a:srgbClr val="00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0"/>
            <p:cNvGrpSpPr/>
            <p:nvPr/>
          </p:nvGrpSpPr>
          <p:grpSpPr>
            <a:xfrm>
              <a:off x="6164640" y="260280"/>
              <a:ext cx="685440" cy="791640"/>
              <a:chOff x="6164640" y="260280"/>
              <a:chExt cx="685440" cy="791640"/>
            </a:xfrm>
          </p:grpSpPr>
          <p:sp>
            <p:nvSpPr>
              <p:cNvPr id="98" name="AutoShape 11"/>
              <p:cNvSpPr/>
              <p:nvPr/>
            </p:nvSpPr>
            <p:spPr>
              <a:xfrm flipV="1">
                <a:off x="6164640" y="332280"/>
                <a:ext cx="685440" cy="7189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2"/>
              <p:cNvSpPr/>
              <p:nvPr/>
            </p:nvSpPr>
            <p:spPr>
              <a:xfrm>
                <a:off x="6345000" y="26028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00"/>
                    </a:solidFill>
                    <a:latin typeface="Arial"/>
                  </a:rPr>
                  <a:t>！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Rectangle 13"/>
            <p:cNvSpPr/>
            <p:nvPr/>
          </p:nvSpPr>
          <p:spPr>
            <a:xfrm>
              <a:off x="6240600" y="765000"/>
              <a:ext cx="21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1" lang="zh-CN" sz="2400" spc="-1" strike="noStrike">
                  <a:solidFill>
                    <a:srgbClr val="080808"/>
                  </a:solidFill>
                  <a:latin typeface="Arial"/>
                </a:rPr>
                <a:t>任何情况下都不能把电池的两端直接连在一起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14"/>
          <p:cNvSpPr/>
          <p:nvPr/>
        </p:nvSpPr>
        <p:spPr>
          <a:xfrm>
            <a:off x="2361240" y="5950080"/>
            <a:ext cx="28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连接，可以控制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5"/>
          <p:cNvSpPr/>
          <p:nvPr/>
        </p:nvSpPr>
        <p:spPr>
          <a:xfrm>
            <a:off x="1676520" y="3594240"/>
            <a:ext cx="1143000" cy="1523880"/>
          </a:xfrm>
          <a:custGeom>
            <a:avLst/>
            <a:gdLst/>
            <a:ahLst/>
            <a:rect l="l" t="t" r="r" b="b"/>
            <a:pathLst>
              <a:path w="720" h="960">
                <a:moveTo>
                  <a:pt x="720" y="960"/>
                </a:moveTo>
                <a:cubicBezTo>
                  <a:pt x="645" y="953"/>
                  <a:pt x="578" y="940"/>
                  <a:pt x="512" y="904"/>
                </a:cubicBezTo>
                <a:cubicBezTo>
                  <a:pt x="512" y="904"/>
                  <a:pt x="452" y="864"/>
                  <a:pt x="440" y="856"/>
                </a:cubicBezTo>
                <a:cubicBezTo>
                  <a:pt x="432" y="851"/>
                  <a:pt x="416" y="840"/>
                  <a:pt x="416" y="840"/>
                </a:cubicBezTo>
                <a:cubicBezTo>
                  <a:pt x="388" y="798"/>
                  <a:pt x="327" y="732"/>
                  <a:pt x="312" y="688"/>
                </a:cubicBezTo>
                <a:cubicBezTo>
                  <a:pt x="297" y="643"/>
                  <a:pt x="261" y="590"/>
                  <a:pt x="232" y="552"/>
                </a:cubicBezTo>
                <a:cubicBezTo>
                  <a:pt x="211" y="490"/>
                  <a:pt x="156" y="431"/>
                  <a:pt x="120" y="376"/>
                </a:cubicBezTo>
                <a:cubicBezTo>
                  <a:pt x="115" y="369"/>
                  <a:pt x="116" y="359"/>
                  <a:pt x="112" y="352"/>
                </a:cubicBezTo>
                <a:cubicBezTo>
                  <a:pt x="103" y="335"/>
                  <a:pt x="91" y="320"/>
                  <a:pt x="80" y="304"/>
                </a:cubicBezTo>
                <a:cubicBezTo>
                  <a:pt x="63" y="278"/>
                  <a:pt x="57" y="231"/>
                  <a:pt x="48" y="200"/>
                </a:cubicBezTo>
                <a:cubicBezTo>
                  <a:pt x="27" y="130"/>
                  <a:pt x="0" y="74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6"/>
          <p:cNvSpPr/>
          <p:nvPr/>
        </p:nvSpPr>
        <p:spPr>
          <a:xfrm>
            <a:off x="2909880" y="3662280"/>
            <a:ext cx="1636560" cy="363600"/>
          </a:xfrm>
          <a:custGeom>
            <a:avLst/>
            <a:gdLst/>
            <a:ahLst/>
            <a:rect l="l" t="t" r="r" b="b"/>
            <a:pathLst>
              <a:path w="1031" h="229">
                <a:moveTo>
                  <a:pt x="1031" y="141"/>
                </a:moveTo>
                <a:cubicBezTo>
                  <a:pt x="989" y="169"/>
                  <a:pt x="952" y="174"/>
                  <a:pt x="903" y="181"/>
                </a:cubicBezTo>
                <a:cubicBezTo>
                  <a:pt x="613" y="177"/>
                  <a:pt x="343" y="229"/>
                  <a:pt x="103" y="69"/>
                </a:cubicBezTo>
                <a:cubicBezTo>
                  <a:pt x="0" y="0"/>
                  <a:pt x="78" y="76"/>
                  <a:pt x="47" y="4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7"/>
          <p:cNvSpPr/>
          <p:nvPr/>
        </p:nvSpPr>
        <p:spPr>
          <a:xfrm>
            <a:off x="4863960" y="3898800"/>
            <a:ext cx="1365480" cy="1549440"/>
          </a:xfrm>
          <a:custGeom>
            <a:avLst/>
            <a:gdLst/>
            <a:ahLst/>
            <a:rect l="l" t="t" r="r" b="b"/>
            <a:pathLst>
              <a:path w="860" h="976">
                <a:moveTo>
                  <a:pt x="0" y="976"/>
                </a:moveTo>
                <a:cubicBezTo>
                  <a:pt x="112" y="973"/>
                  <a:pt x="224" y="973"/>
                  <a:pt x="336" y="968"/>
                </a:cubicBezTo>
                <a:cubicBezTo>
                  <a:pt x="375" y="966"/>
                  <a:pt x="407" y="945"/>
                  <a:pt x="440" y="928"/>
                </a:cubicBezTo>
                <a:cubicBezTo>
                  <a:pt x="541" y="877"/>
                  <a:pt x="635" y="861"/>
                  <a:pt x="720" y="776"/>
                </a:cubicBezTo>
                <a:cubicBezTo>
                  <a:pt x="739" y="720"/>
                  <a:pt x="786" y="679"/>
                  <a:pt x="808" y="624"/>
                </a:cubicBezTo>
                <a:cubicBezTo>
                  <a:pt x="814" y="608"/>
                  <a:pt x="819" y="592"/>
                  <a:pt x="824" y="576"/>
                </a:cubicBezTo>
                <a:cubicBezTo>
                  <a:pt x="827" y="568"/>
                  <a:pt x="832" y="552"/>
                  <a:pt x="832" y="552"/>
                </a:cubicBezTo>
                <a:cubicBezTo>
                  <a:pt x="860" y="356"/>
                  <a:pt x="846" y="473"/>
                  <a:pt x="832" y="56"/>
                </a:cubicBezTo>
                <a:cubicBezTo>
                  <a:pt x="831" y="31"/>
                  <a:pt x="813" y="10"/>
                  <a:pt x="792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说法中正确的是：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导线把开关、电灯等用电器连接起来就组成了一个完整的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干电池、蓄电池、发电机、电动机都是电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电源是使电路中有持续电流的装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手电筒照明时，电流方向是干电池的负极经过灯泡流到正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Freeform 4"/>
          <p:cNvSpPr/>
          <p:nvPr/>
        </p:nvSpPr>
        <p:spPr>
          <a:xfrm>
            <a:off x="755640" y="4149720"/>
            <a:ext cx="1079640" cy="779400"/>
          </a:xfrm>
          <a:custGeom>
            <a:avLst/>
            <a:gdLst/>
            <a:ahLst/>
            <a:rect l="l" t="t" r="r" b="b"/>
            <a:pathLst>
              <a:path w="1179" h="627">
                <a:moveTo>
                  <a:pt x="90" y="226"/>
                </a:moveTo>
                <a:cubicBezTo>
                  <a:pt x="45" y="426"/>
                  <a:pt x="0" y="627"/>
                  <a:pt x="181" y="589"/>
                </a:cubicBezTo>
                <a:cubicBezTo>
                  <a:pt x="362" y="551"/>
                  <a:pt x="1020" y="98"/>
                  <a:pt x="1179" y="0"/>
                </a:cubicBezTo>
              </a:path>
            </a:pathLst>
          </a:custGeom>
          <a:noFill/>
          <a:ln w="60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"/>
          <p:cNvSpPr txBox="1"/>
          <p:nvPr/>
        </p:nvSpPr>
        <p:spPr>
          <a:xfrm>
            <a:off x="324000" y="40464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图所示的四个电路中，符合电路基本组成条件且连接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Rectangle 3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0" name="Picture 4" descr=""/>
          <p:cNvPicPr/>
          <p:nvPr/>
        </p:nvPicPr>
        <p:blipFill>
          <a:blip r:embed="rId1"/>
          <a:stretch/>
        </p:blipFill>
        <p:spPr>
          <a:xfrm rot="21480000">
            <a:off x="0" y="2498400"/>
            <a:ext cx="9144000" cy="3313080"/>
          </a:xfrm>
          <a:prstGeom prst="rect">
            <a:avLst/>
          </a:prstGeom>
          <a:ln w="0">
            <a:noFill/>
          </a:ln>
        </p:spPr>
      </p:pic>
      <p:sp>
        <p:nvSpPr>
          <p:cNvPr id="2731" name="Freeform 5"/>
          <p:cNvSpPr/>
          <p:nvPr/>
        </p:nvSpPr>
        <p:spPr>
          <a:xfrm>
            <a:off x="5435640" y="5229360"/>
            <a:ext cx="1079640" cy="779400"/>
          </a:xfrm>
          <a:custGeom>
            <a:avLst/>
            <a:gdLst/>
            <a:ahLst/>
            <a:rect l="l" t="t" r="r" b="b"/>
            <a:pathLst>
              <a:path w="1179" h="627">
                <a:moveTo>
                  <a:pt x="90" y="226"/>
                </a:moveTo>
                <a:cubicBezTo>
                  <a:pt x="45" y="426"/>
                  <a:pt x="0" y="627"/>
                  <a:pt x="181" y="589"/>
                </a:cubicBezTo>
                <a:cubicBezTo>
                  <a:pt x="362" y="551"/>
                  <a:pt x="1020" y="98"/>
                  <a:pt x="1179" y="0"/>
                </a:cubicBezTo>
              </a:path>
            </a:pathLst>
          </a:custGeom>
          <a:noFill/>
          <a:ln w="60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下列器件中全部为用电器的是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铃、电池组、白炽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电机、电动机、电源插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光灯、电风扇、电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洗衣机、收录机、空调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Freeform 4"/>
          <p:cNvSpPr/>
          <p:nvPr/>
        </p:nvSpPr>
        <p:spPr>
          <a:xfrm>
            <a:off x="826920" y="4149720"/>
            <a:ext cx="1079640" cy="779400"/>
          </a:xfrm>
          <a:custGeom>
            <a:avLst/>
            <a:gdLst/>
            <a:ahLst/>
            <a:rect l="l" t="t" r="r" b="b"/>
            <a:pathLst>
              <a:path w="1179" h="627">
                <a:moveTo>
                  <a:pt x="90" y="226"/>
                </a:moveTo>
                <a:cubicBezTo>
                  <a:pt x="45" y="426"/>
                  <a:pt x="0" y="627"/>
                  <a:pt x="181" y="589"/>
                </a:cubicBezTo>
                <a:cubicBezTo>
                  <a:pt x="362" y="551"/>
                  <a:pt x="1020" y="98"/>
                  <a:pt x="1179" y="0"/>
                </a:cubicBezTo>
              </a:path>
            </a:pathLst>
          </a:custGeom>
          <a:noFill/>
          <a:ln w="60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"/>
          <p:cNvSpPr txBox="1"/>
          <p:nvPr/>
        </p:nvSpPr>
        <p:spPr>
          <a:xfrm>
            <a:off x="32400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图所示的连接的电路中，能够使灯泡亮的电路是（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6" name="Picture 4" descr=""/>
          <p:cNvPicPr/>
          <p:nvPr/>
        </p:nvPicPr>
        <p:blipFill>
          <a:blip r:embed="rId1"/>
          <a:stretch/>
        </p:blipFill>
        <p:spPr>
          <a:xfrm>
            <a:off x="34920" y="263700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2737" name="Freeform 5"/>
          <p:cNvSpPr/>
          <p:nvPr/>
        </p:nvSpPr>
        <p:spPr>
          <a:xfrm>
            <a:off x="0" y="2708280"/>
            <a:ext cx="1079640" cy="779400"/>
          </a:xfrm>
          <a:custGeom>
            <a:avLst/>
            <a:gdLst/>
            <a:ahLst/>
            <a:rect l="l" t="t" r="r" b="b"/>
            <a:pathLst>
              <a:path w="1179" h="627">
                <a:moveTo>
                  <a:pt x="90" y="226"/>
                </a:moveTo>
                <a:cubicBezTo>
                  <a:pt x="45" y="426"/>
                  <a:pt x="0" y="627"/>
                  <a:pt x="181" y="589"/>
                </a:cubicBezTo>
                <a:cubicBezTo>
                  <a:pt x="362" y="551"/>
                  <a:pt x="1020" y="98"/>
                  <a:pt x="1179" y="0"/>
                </a:cubicBezTo>
              </a:path>
            </a:pathLst>
          </a:custGeom>
          <a:noFill/>
          <a:ln w="60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"/>
          <p:cNvSpPr txBox="1"/>
          <p:nvPr/>
        </p:nvSpPr>
        <p:spPr>
          <a:xfrm>
            <a:off x="0" y="-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电池和发电机属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它在电路中提供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一个完整的电路是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金属中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所以善于导电；食盐水中也有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离子，所以也是导体；在你的学习用品中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导体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绝缘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电路中电流的方向是沿着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方向流动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Rectangle 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"/>
          <p:cNvSpPr txBox="1"/>
          <p:nvPr/>
        </p:nvSpPr>
        <p:spPr>
          <a:xfrm>
            <a:off x="0" y="-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答案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电池和发电机属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电源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它在电路中提供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持续电流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一个完整的电路是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电源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用电器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开关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导线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金属中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自由电子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所以善于导电；食盐水中也有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自由移动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离子，所以也是导体；在你的学习用品中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铅笔芯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导体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塑料尺子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绝缘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电路中电流的方向是沿着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正极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用电器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负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方向流动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Rectangle 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"/>
          <p:cNvSpPr txBox="1"/>
          <p:nvPr/>
        </p:nvSpPr>
        <p:spPr>
          <a:xfrm>
            <a:off x="468000" y="692280"/>
            <a:ext cx="83516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图所示电路，开关闭合后，灯丝中的自由电子移动的方向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（填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3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4" name="Picture 4" descr=""/>
          <p:cNvPicPr/>
          <p:nvPr/>
        </p:nvPicPr>
        <p:blipFill>
          <a:blip r:embed="rId1"/>
          <a:stretch/>
        </p:blipFill>
        <p:spPr>
          <a:xfrm>
            <a:off x="3492360" y="2997360"/>
            <a:ext cx="5364360" cy="3531960"/>
          </a:xfrm>
          <a:prstGeom prst="rect">
            <a:avLst/>
          </a:prstGeom>
          <a:ln w="0">
            <a:noFill/>
          </a:ln>
        </p:spPr>
      </p:pic>
      <p:sp>
        <p:nvSpPr>
          <p:cNvPr id="2745" name="文本框 8199"/>
          <p:cNvSpPr/>
          <p:nvPr/>
        </p:nvSpPr>
        <p:spPr>
          <a:xfrm>
            <a:off x="581040" y="2550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请根据下图的实物连接图画出电路图，并标明电流的方向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8" name="Picture 4" descr=""/>
          <p:cNvPicPr/>
          <p:nvPr/>
        </p:nvPicPr>
        <p:blipFill>
          <a:blip r:embed="rId1"/>
          <a:stretch/>
        </p:blipFill>
        <p:spPr>
          <a:xfrm>
            <a:off x="0" y="3068640"/>
            <a:ext cx="4392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"/>
          <p:cNvSpPr txBox="1"/>
          <p:nvPr/>
        </p:nvSpPr>
        <p:spPr>
          <a:xfrm>
            <a:off x="-108000" y="44280"/>
            <a:ext cx="9252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图甲所示，将废灯泡的灯芯接入电路中时，常温下玻璃时绝缘体，灯泡不亮。当用酒精灯对灯芯的玻璃柱加热一段时间后，如图乙所示会发现灯泡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表明绝缘体在一定条件下会变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0" name="Picture 3" descr=""/>
          <p:cNvPicPr/>
          <p:nvPr/>
        </p:nvPicPr>
        <p:blipFill>
          <a:blip r:embed="rId1"/>
          <a:stretch/>
        </p:blipFill>
        <p:spPr>
          <a:xfrm rot="21480000">
            <a:off x="0" y="2852640"/>
            <a:ext cx="8893080" cy="3029040"/>
          </a:xfrm>
          <a:prstGeom prst="rect">
            <a:avLst/>
          </a:prstGeom>
          <a:ln w="0">
            <a:noFill/>
          </a:ln>
        </p:spPr>
      </p:pic>
      <p:sp>
        <p:nvSpPr>
          <p:cNvPr id="2751" name="Text Box 4"/>
          <p:cNvSpPr/>
          <p:nvPr/>
        </p:nvSpPr>
        <p:spPr>
          <a:xfrm>
            <a:off x="3616200" y="6170760"/>
            <a:ext cx="398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Arial"/>
              </a:rPr>
              <a:t>变亮             导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EBDA-CD6E-4885-B910-081AF5CB60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温馨提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接电路时，开关一定要处于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断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决不允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经过小灯泡或电铃用导线将电池的两极连接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时若发现异常情况（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如导线和电池发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请先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断开开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及时报告老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观察你连接的电路有几个电路元件组成，如何连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并讨论小灯泡为什么会亮？电铃为什么会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"/>
          <p:cNvSpPr txBox="1"/>
          <p:nvPr/>
        </p:nvSpPr>
        <p:spPr>
          <a:xfrm>
            <a:off x="250560" y="26028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名手中有一张“手电筒”的说明书，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张说明书上画着手电筒实物的剖面图，如图所示。请你和小名一起来看一看这个图，了解电池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、开关是怎样连接起来的？一般手电筒的外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用金属做的，它起到什么作用？如果是塑料外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手电筒，用什么办法来连接电池和灯泡？在试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图中手电筒的电路图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7" name="Picture 3" descr=""/>
          <p:cNvPicPr/>
          <p:nvPr/>
        </p:nvPicPr>
        <p:blipFill>
          <a:blip r:embed="rId1"/>
          <a:stretch/>
        </p:blipFill>
        <p:spPr>
          <a:xfrm>
            <a:off x="7099200" y="3213000"/>
            <a:ext cx="2044800" cy="3645000"/>
          </a:xfrm>
          <a:prstGeom prst="rect">
            <a:avLst/>
          </a:prstGeom>
          <a:ln w="0">
            <a:noFill/>
          </a:ln>
        </p:spPr>
      </p:pic>
      <p:sp>
        <p:nvSpPr>
          <p:cNvPr id="2758" name="Text Box 4"/>
          <p:cNvSpPr/>
          <p:nvPr/>
        </p:nvSpPr>
        <p:spPr>
          <a:xfrm>
            <a:off x="324000" y="4508640"/>
            <a:ext cx="61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池、灯泡、开关是逐个顺次连接起来的；手电筒的金属外壳起到了导线的作用？塑料外壳的手电筒，用导线或铜片来连接电池和灯泡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23"/>
          <p:cNvGrpSpPr/>
          <p:nvPr/>
        </p:nvGrpSpPr>
        <p:grpSpPr>
          <a:xfrm>
            <a:off x="179280" y="2924280"/>
            <a:ext cx="8713800" cy="1944720"/>
            <a:chOff x="179280" y="2924280"/>
            <a:chExt cx="8713800" cy="1944720"/>
          </a:xfrm>
        </p:grpSpPr>
        <p:sp>
          <p:nvSpPr>
            <p:cNvPr id="108" name="Rectangle 2"/>
            <p:cNvSpPr/>
            <p:nvPr/>
          </p:nvSpPr>
          <p:spPr>
            <a:xfrm>
              <a:off x="179280" y="2924280"/>
              <a:ext cx="8713800" cy="1944720"/>
            </a:xfrm>
            <a:prstGeom prst="rect">
              <a:avLst/>
            </a:prstGeom>
            <a:solidFill>
              <a:srgbClr val="eefe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3"/>
            <p:cNvGrpSpPr/>
            <p:nvPr/>
          </p:nvGrpSpPr>
          <p:grpSpPr>
            <a:xfrm>
              <a:off x="755280" y="3932280"/>
              <a:ext cx="142920" cy="144360"/>
              <a:chOff x="755280" y="3932280"/>
              <a:chExt cx="142920" cy="144360"/>
            </a:xfrm>
          </p:grpSpPr>
          <p:sp>
            <p:nvSpPr>
              <p:cNvPr id="110" name="Oval 4"/>
              <p:cNvSpPr/>
              <p:nvPr/>
            </p:nvSpPr>
            <p:spPr>
              <a:xfrm>
                <a:off x="755280" y="393228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755280" y="4003560"/>
                <a:ext cx="142920" cy="360"/>
                <a:chOff x="755280" y="4003560"/>
                <a:chExt cx="142920" cy="360"/>
              </a:xfrm>
            </p:grpSpPr>
            <p:sp>
              <p:nvSpPr>
                <p:cNvPr id="112" name="Line 5"/>
                <p:cNvSpPr/>
                <p:nvPr/>
              </p:nvSpPr>
              <p:spPr>
                <a:xfrm>
                  <a:off x="755280" y="4003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 txBox="1"/>
                <p:nvPr/>
              </p:nvSpPr>
              <p:spPr>
                <a:xfrm>
                  <a:off x="755280" y="4003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" name="Group 6"/>
            <p:cNvGrpSpPr/>
            <p:nvPr/>
          </p:nvGrpSpPr>
          <p:grpSpPr>
            <a:xfrm>
              <a:off x="1692000" y="4076640"/>
              <a:ext cx="142920" cy="144720"/>
              <a:chOff x="1692000" y="4076640"/>
              <a:chExt cx="142920" cy="144720"/>
            </a:xfrm>
          </p:grpSpPr>
          <p:sp>
            <p:nvSpPr>
              <p:cNvPr id="115" name="Oval 7"/>
              <p:cNvSpPr/>
              <p:nvPr/>
            </p:nvSpPr>
            <p:spPr>
              <a:xfrm>
                <a:off x="1692000" y="407664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1692000" y="4148280"/>
                <a:ext cx="142920" cy="360"/>
                <a:chOff x="1692000" y="4148280"/>
                <a:chExt cx="142920" cy="360"/>
              </a:xfrm>
            </p:grpSpPr>
            <p:sp>
              <p:nvSpPr>
                <p:cNvPr id="117" name="Line 8"/>
                <p:cNvSpPr/>
                <p:nvPr/>
              </p:nvSpPr>
              <p:spPr>
                <a:xfrm>
                  <a:off x="1692000" y="41482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 txBox="1"/>
                <p:nvPr/>
              </p:nvSpPr>
              <p:spPr>
                <a:xfrm>
                  <a:off x="1692000" y="41482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Group 9"/>
            <p:cNvGrpSpPr/>
            <p:nvPr/>
          </p:nvGrpSpPr>
          <p:grpSpPr>
            <a:xfrm>
              <a:off x="1692000" y="3716280"/>
              <a:ext cx="142920" cy="144720"/>
              <a:chOff x="1692000" y="3716280"/>
              <a:chExt cx="142920" cy="144720"/>
            </a:xfrm>
          </p:grpSpPr>
          <p:sp>
            <p:nvSpPr>
              <p:cNvPr id="120" name="Oval 10"/>
              <p:cNvSpPr/>
              <p:nvPr/>
            </p:nvSpPr>
            <p:spPr>
              <a:xfrm>
                <a:off x="1692000" y="371628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1692000" y="3787920"/>
                <a:ext cx="142920" cy="360"/>
                <a:chOff x="1692000" y="3787920"/>
                <a:chExt cx="142920" cy="360"/>
              </a:xfrm>
            </p:grpSpPr>
            <p:sp>
              <p:nvSpPr>
                <p:cNvPr id="122" name="Line 11"/>
                <p:cNvSpPr/>
                <p:nvPr/>
              </p:nvSpPr>
              <p:spPr>
                <a:xfrm>
                  <a:off x="1692000" y="3787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 txBox="1"/>
                <p:nvPr/>
              </p:nvSpPr>
              <p:spPr>
                <a:xfrm>
                  <a:off x="1692000" y="3787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Group 12"/>
            <p:cNvGrpSpPr/>
            <p:nvPr/>
          </p:nvGrpSpPr>
          <p:grpSpPr>
            <a:xfrm>
              <a:off x="1908000" y="3211560"/>
              <a:ext cx="142920" cy="144360"/>
              <a:chOff x="1908000" y="3211560"/>
              <a:chExt cx="142920" cy="144360"/>
            </a:xfrm>
          </p:grpSpPr>
          <p:sp>
            <p:nvSpPr>
              <p:cNvPr id="125" name="Oval 13"/>
              <p:cNvSpPr/>
              <p:nvPr/>
            </p:nvSpPr>
            <p:spPr>
              <a:xfrm>
                <a:off x="1908000" y="321156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1908000" y="3282840"/>
                <a:ext cx="142920" cy="360"/>
                <a:chOff x="1908000" y="3282840"/>
                <a:chExt cx="142920" cy="360"/>
              </a:xfrm>
            </p:grpSpPr>
            <p:sp>
              <p:nvSpPr>
                <p:cNvPr id="127" name="Line 14"/>
                <p:cNvSpPr/>
                <p:nvPr/>
              </p:nvSpPr>
              <p:spPr>
                <a:xfrm>
                  <a:off x="1908000" y="3282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 txBox="1"/>
                <p:nvPr/>
              </p:nvSpPr>
              <p:spPr>
                <a:xfrm>
                  <a:off x="1908000" y="3282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Group 15"/>
            <p:cNvGrpSpPr/>
            <p:nvPr/>
          </p:nvGrpSpPr>
          <p:grpSpPr>
            <a:xfrm>
              <a:off x="2339640" y="4148280"/>
              <a:ext cx="142920" cy="144360"/>
              <a:chOff x="2339640" y="4148280"/>
              <a:chExt cx="142920" cy="144360"/>
            </a:xfrm>
          </p:grpSpPr>
          <p:sp>
            <p:nvSpPr>
              <p:cNvPr id="130" name="Oval 16"/>
              <p:cNvSpPr/>
              <p:nvPr/>
            </p:nvSpPr>
            <p:spPr>
              <a:xfrm>
                <a:off x="2339640" y="414828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2339640" y="4219560"/>
                <a:ext cx="142920" cy="360"/>
                <a:chOff x="2339640" y="4219560"/>
                <a:chExt cx="142920" cy="360"/>
              </a:xfrm>
            </p:grpSpPr>
            <p:sp>
              <p:nvSpPr>
                <p:cNvPr id="132" name="Line 17"/>
                <p:cNvSpPr/>
                <p:nvPr/>
              </p:nvSpPr>
              <p:spPr>
                <a:xfrm>
                  <a:off x="2339640" y="421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 txBox="1"/>
                <p:nvPr/>
              </p:nvSpPr>
              <p:spPr>
                <a:xfrm>
                  <a:off x="2339640" y="4219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8"/>
            <p:cNvGrpSpPr/>
            <p:nvPr/>
          </p:nvGrpSpPr>
          <p:grpSpPr>
            <a:xfrm>
              <a:off x="6805440" y="3571920"/>
              <a:ext cx="142920" cy="144360"/>
              <a:chOff x="6805440" y="3571920"/>
              <a:chExt cx="142920" cy="144360"/>
            </a:xfrm>
          </p:grpSpPr>
          <p:sp>
            <p:nvSpPr>
              <p:cNvPr id="135" name="Oval 19"/>
              <p:cNvSpPr/>
              <p:nvPr/>
            </p:nvSpPr>
            <p:spPr>
              <a:xfrm>
                <a:off x="6805440" y="357192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6805440" y="3643200"/>
                <a:ext cx="142920" cy="360"/>
                <a:chOff x="6805440" y="3643200"/>
                <a:chExt cx="142920" cy="360"/>
              </a:xfrm>
            </p:grpSpPr>
            <p:sp>
              <p:nvSpPr>
                <p:cNvPr id="137" name="Line 20"/>
                <p:cNvSpPr/>
                <p:nvPr/>
              </p:nvSpPr>
              <p:spPr>
                <a:xfrm>
                  <a:off x="6805440" y="36432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 txBox="1"/>
                <p:nvPr/>
              </p:nvSpPr>
              <p:spPr>
                <a:xfrm>
                  <a:off x="6805440" y="36432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21"/>
            <p:cNvGrpSpPr/>
            <p:nvPr/>
          </p:nvGrpSpPr>
          <p:grpSpPr>
            <a:xfrm>
              <a:off x="4644720" y="3571920"/>
              <a:ext cx="142920" cy="144360"/>
              <a:chOff x="4644720" y="3571920"/>
              <a:chExt cx="142920" cy="144360"/>
            </a:xfrm>
          </p:grpSpPr>
          <p:sp>
            <p:nvSpPr>
              <p:cNvPr id="140" name="Oval 22"/>
              <p:cNvSpPr/>
              <p:nvPr/>
            </p:nvSpPr>
            <p:spPr>
              <a:xfrm>
                <a:off x="4644720" y="357192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4644720" y="3643200"/>
                <a:ext cx="142920" cy="360"/>
                <a:chOff x="4644720" y="3643200"/>
                <a:chExt cx="142920" cy="360"/>
              </a:xfrm>
            </p:grpSpPr>
            <p:sp>
              <p:nvSpPr>
                <p:cNvPr id="142" name="Line 23"/>
                <p:cNvSpPr/>
                <p:nvPr/>
              </p:nvSpPr>
              <p:spPr>
                <a:xfrm>
                  <a:off x="4644720" y="36432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 txBox="1"/>
                <p:nvPr/>
              </p:nvSpPr>
              <p:spPr>
                <a:xfrm>
                  <a:off x="4644720" y="36432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Group 24"/>
            <p:cNvGrpSpPr/>
            <p:nvPr/>
          </p:nvGrpSpPr>
          <p:grpSpPr>
            <a:xfrm>
              <a:off x="900000" y="3427560"/>
              <a:ext cx="142920" cy="144360"/>
              <a:chOff x="900000" y="3427560"/>
              <a:chExt cx="142920" cy="144360"/>
            </a:xfrm>
          </p:grpSpPr>
          <p:sp>
            <p:nvSpPr>
              <p:cNvPr id="145" name="Oval 25"/>
              <p:cNvSpPr/>
              <p:nvPr/>
            </p:nvSpPr>
            <p:spPr>
              <a:xfrm>
                <a:off x="900000" y="342756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900000" y="3498840"/>
                <a:ext cx="142920" cy="360"/>
                <a:chOff x="900000" y="3498840"/>
                <a:chExt cx="142920" cy="360"/>
              </a:xfrm>
            </p:grpSpPr>
            <p:sp>
              <p:nvSpPr>
                <p:cNvPr id="147" name="Line 26"/>
                <p:cNvSpPr/>
                <p:nvPr/>
              </p:nvSpPr>
              <p:spPr>
                <a:xfrm>
                  <a:off x="900000" y="3498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 txBox="1"/>
                <p:nvPr/>
              </p:nvSpPr>
              <p:spPr>
                <a:xfrm>
                  <a:off x="900000" y="3498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" name="Group 27"/>
            <p:cNvGrpSpPr/>
            <p:nvPr/>
          </p:nvGrpSpPr>
          <p:grpSpPr>
            <a:xfrm>
              <a:off x="2844720" y="3500640"/>
              <a:ext cx="142920" cy="144360"/>
              <a:chOff x="2844720" y="3500640"/>
              <a:chExt cx="142920" cy="144360"/>
            </a:xfrm>
          </p:grpSpPr>
          <p:sp>
            <p:nvSpPr>
              <p:cNvPr id="150" name="Oval 28"/>
              <p:cNvSpPr/>
              <p:nvPr/>
            </p:nvSpPr>
            <p:spPr>
              <a:xfrm>
                <a:off x="2844720" y="350064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2844720" y="3571920"/>
                <a:ext cx="142920" cy="360"/>
                <a:chOff x="2844720" y="3571920"/>
                <a:chExt cx="142920" cy="360"/>
              </a:xfrm>
            </p:grpSpPr>
            <p:sp>
              <p:nvSpPr>
                <p:cNvPr id="152" name="Line 29"/>
                <p:cNvSpPr/>
                <p:nvPr/>
              </p:nvSpPr>
              <p:spPr>
                <a:xfrm>
                  <a:off x="2844720" y="3571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 txBox="1"/>
                <p:nvPr/>
              </p:nvSpPr>
              <p:spPr>
                <a:xfrm>
                  <a:off x="2844720" y="3571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" name="Group 30"/>
            <p:cNvGrpSpPr/>
            <p:nvPr/>
          </p:nvGrpSpPr>
          <p:grpSpPr>
            <a:xfrm>
              <a:off x="3420720" y="3932280"/>
              <a:ext cx="142920" cy="144360"/>
              <a:chOff x="3420720" y="3932280"/>
              <a:chExt cx="142920" cy="144360"/>
            </a:xfrm>
          </p:grpSpPr>
          <p:sp>
            <p:nvSpPr>
              <p:cNvPr id="155" name="Oval 31"/>
              <p:cNvSpPr/>
              <p:nvPr/>
            </p:nvSpPr>
            <p:spPr>
              <a:xfrm>
                <a:off x="3420720" y="393228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3420720" y="4003560"/>
                <a:ext cx="142920" cy="360"/>
                <a:chOff x="3420720" y="4003560"/>
                <a:chExt cx="142920" cy="360"/>
              </a:xfrm>
            </p:grpSpPr>
            <p:sp>
              <p:nvSpPr>
                <p:cNvPr id="157" name="Line 32"/>
                <p:cNvSpPr/>
                <p:nvPr/>
              </p:nvSpPr>
              <p:spPr>
                <a:xfrm>
                  <a:off x="3420720" y="4003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 txBox="1"/>
                <p:nvPr/>
              </p:nvSpPr>
              <p:spPr>
                <a:xfrm>
                  <a:off x="3420720" y="4003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Group 33"/>
            <p:cNvGrpSpPr/>
            <p:nvPr/>
          </p:nvGrpSpPr>
          <p:grpSpPr>
            <a:xfrm>
              <a:off x="4500360" y="4219560"/>
              <a:ext cx="142920" cy="144360"/>
              <a:chOff x="4500360" y="4219560"/>
              <a:chExt cx="142920" cy="144360"/>
            </a:xfrm>
          </p:grpSpPr>
          <p:sp>
            <p:nvSpPr>
              <p:cNvPr id="160" name="Oval 34"/>
              <p:cNvSpPr/>
              <p:nvPr/>
            </p:nvSpPr>
            <p:spPr>
              <a:xfrm>
                <a:off x="4500360" y="421956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4500360" y="4290840"/>
                <a:ext cx="142920" cy="360"/>
                <a:chOff x="4500360" y="4290840"/>
                <a:chExt cx="142920" cy="360"/>
              </a:xfrm>
            </p:grpSpPr>
            <p:sp>
              <p:nvSpPr>
                <p:cNvPr id="162" name="Line 35"/>
                <p:cNvSpPr/>
                <p:nvPr/>
              </p:nvSpPr>
              <p:spPr>
                <a:xfrm>
                  <a:off x="4500360" y="4290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 txBox="1"/>
                <p:nvPr/>
              </p:nvSpPr>
              <p:spPr>
                <a:xfrm>
                  <a:off x="4500360" y="4290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Group 36"/>
            <p:cNvGrpSpPr/>
            <p:nvPr/>
          </p:nvGrpSpPr>
          <p:grpSpPr>
            <a:xfrm>
              <a:off x="5652720" y="3500640"/>
              <a:ext cx="142920" cy="144360"/>
              <a:chOff x="5652720" y="3500640"/>
              <a:chExt cx="142920" cy="144360"/>
            </a:xfrm>
          </p:grpSpPr>
          <p:sp>
            <p:nvSpPr>
              <p:cNvPr id="165" name="Oval 37"/>
              <p:cNvSpPr/>
              <p:nvPr/>
            </p:nvSpPr>
            <p:spPr>
              <a:xfrm>
                <a:off x="5652720" y="350064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5652720" y="3571920"/>
                <a:ext cx="142920" cy="360"/>
                <a:chOff x="5652720" y="3571920"/>
                <a:chExt cx="142920" cy="360"/>
              </a:xfrm>
            </p:grpSpPr>
            <p:sp>
              <p:nvSpPr>
                <p:cNvPr id="167" name="Line 38"/>
                <p:cNvSpPr/>
                <p:nvPr/>
              </p:nvSpPr>
              <p:spPr>
                <a:xfrm>
                  <a:off x="5652720" y="3571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 txBox="1"/>
                <p:nvPr/>
              </p:nvSpPr>
              <p:spPr>
                <a:xfrm>
                  <a:off x="5652720" y="3571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Group 39"/>
            <p:cNvGrpSpPr/>
            <p:nvPr/>
          </p:nvGrpSpPr>
          <p:grpSpPr>
            <a:xfrm>
              <a:off x="3852720" y="3355920"/>
              <a:ext cx="142920" cy="144720"/>
              <a:chOff x="3852720" y="3355920"/>
              <a:chExt cx="142920" cy="144720"/>
            </a:xfrm>
          </p:grpSpPr>
          <p:sp>
            <p:nvSpPr>
              <p:cNvPr id="170" name="Oval 40"/>
              <p:cNvSpPr/>
              <p:nvPr/>
            </p:nvSpPr>
            <p:spPr>
              <a:xfrm>
                <a:off x="3852720" y="335592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3852720" y="3427560"/>
                <a:ext cx="142920" cy="360"/>
                <a:chOff x="3852720" y="3427560"/>
                <a:chExt cx="142920" cy="360"/>
              </a:xfrm>
            </p:grpSpPr>
            <p:sp>
              <p:nvSpPr>
                <p:cNvPr id="172" name="Line 41"/>
                <p:cNvSpPr/>
                <p:nvPr/>
              </p:nvSpPr>
              <p:spPr>
                <a:xfrm>
                  <a:off x="3852720" y="3427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 txBox="1"/>
                <p:nvPr/>
              </p:nvSpPr>
              <p:spPr>
                <a:xfrm>
                  <a:off x="3852720" y="3427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42"/>
            <p:cNvGrpSpPr/>
            <p:nvPr/>
          </p:nvGrpSpPr>
          <p:grpSpPr>
            <a:xfrm>
              <a:off x="3205080" y="4219560"/>
              <a:ext cx="142920" cy="144360"/>
              <a:chOff x="3205080" y="4219560"/>
              <a:chExt cx="142920" cy="144360"/>
            </a:xfrm>
          </p:grpSpPr>
          <p:sp>
            <p:nvSpPr>
              <p:cNvPr id="175" name="Oval 43"/>
              <p:cNvSpPr/>
              <p:nvPr/>
            </p:nvSpPr>
            <p:spPr>
              <a:xfrm>
                <a:off x="3205080" y="421956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3205080" y="4290840"/>
                <a:ext cx="142920" cy="360"/>
                <a:chOff x="3205080" y="4290840"/>
                <a:chExt cx="142920" cy="360"/>
              </a:xfrm>
            </p:grpSpPr>
            <p:sp>
              <p:nvSpPr>
                <p:cNvPr id="177" name="Line 44"/>
                <p:cNvSpPr/>
                <p:nvPr/>
              </p:nvSpPr>
              <p:spPr>
                <a:xfrm>
                  <a:off x="3205080" y="4290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 txBox="1"/>
                <p:nvPr/>
              </p:nvSpPr>
              <p:spPr>
                <a:xfrm>
                  <a:off x="3205080" y="4290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" name="Group 45"/>
            <p:cNvGrpSpPr/>
            <p:nvPr/>
          </p:nvGrpSpPr>
          <p:grpSpPr>
            <a:xfrm>
              <a:off x="7380000" y="4076640"/>
              <a:ext cx="142920" cy="144720"/>
              <a:chOff x="7380000" y="4076640"/>
              <a:chExt cx="142920" cy="144720"/>
            </a:xfrm>
          </p:grpSpPr>
          <p:sp>
            <p:nvSpPr>
              <p:cNvPr id="180" name="Oval 46"/>
              <p:cNvSpPr/>
              <p:nvPr/>
            </p:nvSpPr>
            <p:spPr>
              <a:xfrm>
                <a:off x="7380000" y="407664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7380000" y="4148280"/>
                <a:ext cx="142920" cy="360"/>
                <a:chOff x="7380000" y="4148280"/>
                <a:chExt cx="142920" cy="360"/>
              </a:xfrm>
            </p:grpSpPr>
            <p:sp>
              <p:nvSpPr>
                <p:cNvPr id="182" name="Line 47"/>
                <p:cNvSpPr/>
                <p:nvPr/>
              </p:nvSpPr>
              <p:spPr>
                <a:xfrm>
                  <a:off x="7380000" y="41482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 txBox="1"/>
                <p:nvPr/>
              </p:nvSpPr>
              <p:spPr>
                <a:xfrm>
                  <a:off x="7380000" y="41482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Group 48"/>
            <p:cNvGrpSpPr/>
            <p:nvPr/>
          </p:nvGrpSpPr>
          <p:grpSpPr>
            <a:xfrm>
              <a:off x="7164360" y="3355920"/>
              <a:ext cx="142560" cy="144720"/>
              <a:chOff x="7164360" y="3355920"/>
              <a:chExt cx="142560" cy="144720"/>
            </a:xfrm>
          </p:grpSpPr>
          <p:sp>
            <p:nvSpPr>
              <p:cNvPr id="185" name="Oval 49"/>
              <p:cNvSpPr/>
              <p:nvPr/>
            </p:nvSpPr>
            <p:spPr>
              <a:xfrm>
                <a:off x="7164360" y="3355920"/>
                <a:ext cx="1425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7164360" y="3427560"/>
                <a:ext cx="142560" cy="360"/>
                <a:chOff x="7164360" y="3427560"/>
                <a:chExt cx="142560" cy="360"/>
              </a:xfrm>
            </p:grpSpPr>
            <p:sp>
              <p:nvSpPr>
                <p:cNvPr id="187" name="Line 50"/>
                <p:cNvSpPr/>
                <p:nvPr/>
              </p:nvSpPr>
              <p:spPr>
                <a:xfrm>
                  <a:off x="7164360" y="34275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 txBox="1"/>
                <p:nvPr/>
              </p:nvSpPr>
              <p:spPr>
                <a:xfrm>
                  <a:off x="7164360" y="342756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Group 51"/>
            <p:cNvGrpSpPr/>
            <p:nvPr/>
          </p:nvGrpSpPr>
          <p:grpSpPr>
            <a:xfrm>
              <a:off x="4140000" y="3787920"/>
              <a:ext cx="142920" cy="144360"/>
              <a:chOff x="4140000" y="3787920"/>
              <a:chExt cx="142920" cy="144360"/>
            </a:xfrm>
          </p:grpSpPr>
          <p:sp>
            <p:nvSpPr>
              <p:cNvPr id="190" name="Oval 52"/>
              <p:cNvSpPr/>
              <p:nvPr/>
            </p:nvSpPr>
            <p:spPr>
              <a:xfrm>
                <a:off x="4140000" y="378792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4140000" y="3859200"/>
                <a:ext cx="142920" cy="360"/>
                <a:chOff x="4140000" y="3859200"/>
                <a:chExt cx="142920" cy="360"/>
              </a:xfrm>
            </p:grpSpPr>
            <p:sp>
              <p:nvSpPr>
                <p:cNvPr id="192" name="Line 53"/>
                <p:cNvSpPr/>
                <p:nvPr/>
              </p:nvSpPr>
              <p:spPr>
                <a:xfrm>
                  <a:off x="4140000" y="38592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 txBox="1"/>
                <p:nvPr/>
              </p:nvSpPr>
              <p:spPr>
                <a:xfrm>
                  <a:off x="4140000" y="38592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4" name="Group 54"/>
            <p:cNvGrpSpPr/>
            <p:nvPr/>
          </p:nvGrpSpPr>
          <p:grpSpPr>
            <a:xfrm>
              <a:off x="5148000" y="3861000"/>
              <a:ext cx="142920" cy="144360"/>
              <a:chOff x="5148000" y="3861000"/>
              <a:chExt cx="142920" cy="144360"/>
            </a:xfrm>
          </p:grpSpPr>
          <p:sp>
            <p:nvSpPr>
              <p:cNvPr id="195" name="Oval 55"/>
              <p:cNvSpPr/>
              <p:nvPr/>
            </p:nvSpPr>
            <p:spPr>
              <a:xfrm>
                <a:off x="5148000" y="386100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5148000" y="3932280"/>
                <a:ext cx="142920" cy="360"/>
                <a:chOff x="5148000" y="3932280"/>
                <a:chExt cx="142920" cy="360"/>
              </a:xfrm>
            </p:grpSpPr>
            <p:sp>
              <p:nvSpPr>
                <p:cNvPr id="197" name="Line 56"/>
                <p:cNvSpPr/>
                <p:nvPr/>
              </p:nvSpPr>
              <p:spPr>
                <a:xfrm>
                  <a:off x="5148000" y="39322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 txBox="1"/>
                <p:nvPr/>
              </p:nvSpPr>
              <p:spPr>
                <a:xfrm>
                  <a:off x="5148000" y="39322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Group 57"/>
            <p:cNvGrpSpPr/>
            <p:nvPr/>
          </p:nvGrpSpPr>
          <p:grpSpPr>
            <a:xfrm>
              <a:off x="5724360" y="4148280"/>
              <a:ext cx="142920" cy="144360"/>
              <a:chOff x="5724360" y="4148280"/>
              <a:chExt cx="142920" cy="144360"/>
            </a:xfrm>
          </p:grpSpPr>
          <p:sp>
            <p:nvSpPr>
              <p:cNvPr id="200" name="Oval 58"/>
              <p:cNvSpPr/>
              <p:nvPr/>
            </p:nvSpPr>
            <p:spPr>
              <a:xfrm>
                <a:off x="5724360" y="414828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724360" y="4219560"/>
                <a:ext cx="142920" cy="360"/>
                <a:chOff x="5724360" y="4219560"/>
                <a:chExt cx="142920" cy="360"/>
              </a:xfrm>
            </p:grpSpPr>
            <p:sp>
              <p:nvSpPr>
                <p:cNvPr id="202" name="Line 59"/>
                <p:cNvSpPr/>
                <p:nvPr/>
              </p:nvSpPr>
              <p:spPr>
                <a:xfrm>
                  <a:off x="5724360" y="421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 txBox="1"/>
                <p:nvPr/>
              </p:nvSpPr>
              <p:spPr>
                <a:xfrm>
                  <a:off x="5724360" y="4219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60"/>
            <p:cNvGrpSpPr/>
            <p:nvPr/>
          </p:nvGrpSpPr>
          <p:grpSpPr>
            <a:xfrm>
              <a:off x="7813440" y="3500640"/>
              <a:ext cx="142920" cy="144360"/>
              <a:chOff x="7813440" y="3500640"/>
              <a:chExt cx="142920" cy="144360"/>
            </a:xfrm>
          </p:grpSpPr>
          <p:sp>
            <p:nvSpPr>
              <p:cNvPr id="205" name="Oval 61"/>
              <p:cNvSpPr/>
              <p:nvPr/>
            </p:nvSpPr>
            <p:spPr>
              <a:xfrm>
                <a:off x="7813440" y="350064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7813440" y="3571920"/>
                <a:ext cx="142920" cy="360"/>
                <a:chOff x="7813440" y="3571920"/>
                <a:chExt cx="142920" cy="360"/>
              </a:xfrm>
            </p:grpSpPr>
            <p:sp>
              <p:nvSpPr>
                <p:cNvPr id="207" name="Line 62"/>
                <p:cNvSpPr/>
                <p:nvPr/>
              </p:nvSpPr>
              <p:spPr>
                <a:xfrm>
                  <a:off x="7813440" y="3571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 txBox="1"/>
                <p:nvPr/>
              </p:nvSpPr>
              <p:spPr>
                <a:xfrm>
                  <a:off x="7813440" y="3571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63"/>
            <p:cNvGrpSpPr/>
            <p:nvPr/>
          </p:nvGrpSpPr>
          <p:grpSpPr>
            <a:xfrm>
              <a:off x="6300720" y="3787920"/>
              <a:ext cx="142920" cy="144360"/>
              <a:chOff x="6300720" y="3787920"/>
              <a:chExt cx="142920" cy="144360"/>
            </a:xfrm>
          </p:grpSpPr>
          <p:sp>
            <p:nvSpPr>
              <p:cNvPr id="210" name="Oval 64"/>
              <p:cNvSpPr/>
              <p:nvPr/>
            </p:nvSpPr>
            <p:spPr>
              <a:xfrm>
                <a:off x="6300720" y="378792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300720" y="3859200"/>
                <a:ext cx="142920" cy="360"/>
                <a:chOff x="6300720" y="3859200"/>
                <a:chExt cx="142920" cy="360"/>
              </a:xfrm>
            </p:grpSpPr>
            <p:sp>
              <p:nvSpPr>
                <p:cNvPr id="212" name="Line 65"/>
                <p:cNvSpPr/>
                <p:nvPr/>
              </p:nvSpPr>
              <p:spPr>
                <a:xfrm>
                  <a:off x="6300720" y="38592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>
                  <a:off x="6300720" y="38592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Group 66"/>
            <p:cNvGrpSpPr/>
            <p:nvPr/>
          </p:nvGrpSpPr>
          <p:grpSpPr>
            <a:xfrm>
              <a:off x="612720" y="3571920"/>
              <a:ext cx="287280" cy="287280"/>
              <a:chOff x="612720" y="3571920"/>
              <a:chExt cx="287280" cy="287280"/>
            </a:xfrm>
          </p:grpSpPr>
          <p:sp>
            <p:nvSpPr>
              <p:cNvPr id="215" name="Oval 67"/>
              <p:cNvSpPr/>
              <p:nvPr/>
            </p:nvSpPr>
            <p:spPr>
              <a:xfrm>
                <a:off x="612720" y="357192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612720" y="3715560"/>
                <a:ext cx="287280" cy="360"/>
                <a:chOff x="612720" y="3715560"/>
                <a:chExt cx="287280" cy="360"/>
              </a:xfrm>
            </p:grpSpPr>
            <p:sp>
              <p:nvSpPr>
                <p:cNvPr id="217" name="Line 68"/>
                <p:cNvSpPr/>
                <p:nvPr/>
              </p:nvSpPr>
              <p:spPr>
                <a:xfrm>
                  <a:off x="612720" y="371556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 txBox="1"/>
                <p:nvPr/>
              </p:nvSpPr>
              <p:spPr>
                <a:xfrm>
                  <a:off x="612720" y="371556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56360" y="3571920"/>
                <a:ext cx="360" cy="287280"/>
                <a:chOff x="756360" y="3571920"/>
                <a:chExt cx="360" cy="287280"/>
              </a:xfrm>
            </p:grpSpPr>
            <p:sp>
              <p:nvSpPr>
                <p:cNvPr id="220" name="Line 69"/>
                <p:cNvSpPr/>
                <p:nvPr/>
              </p:nvSpPr>
              <p:spPr>
                <a:xfrm>
                  <a:off x="756360" y="357192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 txBox="1"/>
                <p:nvPr/>
              </p:nvSpPr>
              <p:spPr>
                <a:xfrm>
                  <a:off x="756360" y="3571920"/>
                  <a:ext cx="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70"/>
            <p:cNvGrpSpPr/>
            <p:nvPr/>
          </p:nvGrpSpPr>
          <p:grpSpPr>
            <a:xfrm>
              <a:off x="2052360" y="3427560"/>
              <a:ext cx="287280" cy="287280"/>
              <a:chOff x="2052360" y="3427560"/>
              <a:chExt cx="287280" cy="287280"/>
            </a:xfrm>
          </p:grpSpPr>
          <p:sp>
            <p:nvSpPr>
              <p:cNvPr id="223" name="Oval 71"/>
              <p:cNvSpPr/>
              <p:nvPr/>
            </p:nvSpPr>
            <p:spPr>
              <a:xfrm>
                <a:off x="2052360" y="342756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052360" y="3571200"/>
                <a:ext cx="287280" cy="360"/>
                <a:chOff x="2052360" y="3571200"/>
                <a:chExt cx="287280" cy="360"/>
              </a:xfrm>
            </p:grpSpPr>
            <p:sp>
              <p:nvSpPr>
                <p:cNvPr id="225" name="Line 72"/>
                <p:cNvSpPr/>
                <p:nvPr/>
              </p:nvSpPr>
              <p:spPr>
                <a:xfrm>
                  <a:off x="2052360" y="357120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>
                  <a:off x="2052360" y="357120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196000" y="3427560"/>
                <a:ext cx="360" cy="287280"/>
                <a:chOff x="2196000" y="3427560"/>
                <a:chExt cx="360" cy="287280"/>
              </a:xfrm>
            </p:grpSpPr>
            <p:sp>
              <p:nvSpPr>
                <p:cNvPr id="228" name="Line 73"/>
                <p:cNvSpPr/>
                <p:nvPr/>
              </p:nvSpPr>
              <p:spPr>
                <a:xfrm>
                  <a:off x="2196000" y="342756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 txBox="1"/>
                <p:nvPr/>
              </p:nvSpPr>
              <p:spPr>
                <a:xfrm>
                  <a:off x="2196000" y="3427560"/>
                  <a:ext cx="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74"/>
            <p:cNvGrpSpPr/>
            <p:nvPr/>
          </p:nvGrpSpPr>
          <p:grpSpPr>
            <a:xfrm>
              <a:off x="2700000" y="3861000"/>
              <a:ext cx="287640" cy="287280"/>
              <a:chOff x="2700000" y="3861000"/>
              <a:chExt cx="287640" cy="287280"/>
            </a:xfrm>
          </p:grpSpPr>
          <p:sp>
            <p:nvSpPr>
              <p:cNvPr id="231" name="Oval 75"/>
              <p:cNvSpPr/>
              <p:nvPr/>
            </p:nvSpPr>
            <p:spPr>
              <a:xfrm>
                <a:off x="2700000" y="3861000"/>
                <a:ext cx="28764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700000" y="4004640"/>
                <a:ext cx="287640" cy="360"/>
                <a:chOff x="2700000" y="4004640"/>
                <a:chExt cx="287640" cy="360"/>
              </a:xfrm>
            </p:grpSpPr>
            <p:sp>
              <p:nvSpPr>
                <p:cNvPr id="233" name="Line 76"/>
                <p:cNvSpPr/>
                <p:nvPr/>
              </p:nvSpPr>
              <p:spPr>
                <a:xfrm>
                  <a:off x="2700000" y="4004640"/>
                  <a:ext cx="28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 txBox="1"/>
                <p:nvPr/>
              </p:nvSpPr>
              <p:spPr>
                <a:xfrm>
                  <a:off x="2700000" y="4004640"/>
                  <a:ext cx="28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843640" y="3861000"/>
                <a:ext cx="360" cy="287280"/>
                <a:chOff x="2843640" y="3861000"/>
                <a:chExt cx="360" cy="287280"/>
              </a:xfrm>
            </p:grpSpPr>
            <p:sp>
              <p:nvSpPr>
                <p:cNvPr id="236" name="Line 77"/>
                <p:cNvSpPr/>
                <p:nvPr/>
              </p:nvSpPr>
              <p:spPr>
                <a:xfrm>
                  <a:off x="2843640" y="386100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 txBox="1"/>
                <p:nvPr/>
              </p:nvSpPr>
              <p:spPr>
                <a:xfrm>
                  <a:off x="2843640" y="3861000"/>
                  <a:ext cx="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Group 78"/>
            <p:cNvGrpSpPr/>
            <p:nvPr/>
          </p:nvGrpSpPr>
          <p:grpSpPr>
            <a:xfrm>
              <a:off x="3636720" y="4219560"/>
              <a:ext cx="287280" cy="287280"/>
              <a:chOff x="3636720" y="4219560"/>
              <a:chExt cx="287280" cy="287280"/>
            </a:xfrm>
          </p:grpSpPr>
          <p:sp>
            <p:nvSpPr>
              <p:cNvPr id="239" name="Oval 79"/>
              <p:cNvSpPr/>
              <p:nvPr/>
            </p:nvSpPr>
            <p:spPr>
              <a:xfrm>
                <a:off x="3636720" y="421956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3636720" y="4363200"/>
                <a:ext cx="287280" cy="360"/>
                <a:chOff x="3636720" y="4363200"/>
                <a:chExt cx="287280" cy="360"/>
              </a:xfrm>
            </p:grpSpPr>
            <p:sp>
              <p:nvSpPr>
                <p:cNvPr id="241" name="Line 80"/>
                <p:cNvSpPr/>
                <p:nvPr/>
              </p:nvSpPr>
              <p:spPr>
                <a:xfrm>
                  <a:off x="3636720" y="436320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 txBox="1"/>
                <p:nvPr/>
              </p:nvSpPr>
              <p:spPr>
                <a:xfrm>
                  <a:off x="3636720" y="436320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780360" y="4219560"/>
                <a:ext cx="360" cy="287280"/>
                <a:chOff x="3780360" y="4219560"/>
                <a:chExt cx="360" cy="287280"/>
              </a:xfrm>
            </p:grpSpPr>
            <p:sp>
              <p:nvSpPr>
                <p:cNvPr id="244" name="Line 81"/>
                <p:cNvSpPr/>
                <p:nvPr/>
              </p:nvSpPr>
              <p:spPr>
                <a:xfrm>
                  <a:off x="3780360" y="421956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 txBox="1"/>
                <p:nvPr/>
              </p:nvSpPr>
              <p:spPr>
                <a:xfrm>
                  <a:off x="3780360" y="4219560"/>
                  <a:ext cx="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82"/>
            <p:cNvGrpSpPr/>
            <p:nvPr/>
          </p:nvGrpSpPr>
          <p:grpSpPr>
            <a:xfrm>
              <a:off x="4213080" y="3427560"/>
              <a:ext cx="287280" cy="287280"/>
              <a:chOff x="4213080" y="3427560"/>
              <a:chExt cx="287280" cy="287280"/>
            </a:xfrm>
          </p:grpSpPr>
          <p:sp>
            <p:nvSpPr>
              <p:cNvPr id="247" name="Oval 83"/>
              <p:cNvSpPr/>
              <p:nvPr/>
            </p:nvSpPr>
            <p:spPr>
              <a:xfrm>
                <a:off x="4213080" y="342756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4213080" y="3571200"/>
                <a:ext cx="287280" cy="360"/>
                <a:chOff x="4213080" y="3571200"/>
                <a:chExt cx="287280" cy="360"/>
              </a:xfrm>
            </p:grpSpPr>
            <p:sp>
              <p:nvSpPr>
                <p:cNvPr id="249" name="Line 84"/>
                <p:cNvSpPr/>
                <p:nvPr/>
              </p:nvSpPr>
              <p:spPr>
                <a:xfrm>
                  <a:off x="4213080" y="357120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 txBox="1"/>
                <p:nvPr/>
              </p:nvSpPr>
              <p:spPr>
                <a:xfrm>
                  <a:off x="4213080" y="357120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356720" y="3427560"/>
                <a:ext cx="360" cy="287280"/>
                <a:chOff x="4356720" y="3427560"/>
                <a:chExt cx="360" cy="287280"/>
              </a:xfrm>
            </p:grpSpPr>
            <p:sp>
              <p:nvSpPr>
                <p:cNvPr id="252" name="Line 85"/>
                <p:cNvSpPr/>
                <p:nvPr/>
              </p:nvSpPr>
              <p:spPr>
                <a:xfrm>
                  <a:off x="4356720" y="342756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 txBox="1"/>
                <p:nvPr/>
              </p:nvSpPr>
              <p:spPr>
                <a:xfrm>
                  <a:off x="4356720" y="3427560"/>
                  <a:ext cx="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86"/>
            <p:cNvGrpSpPr/>
            <p:nvPr/>
          </p:nvGrpSpPr>
          <p:grpSpPr>
            <a:xfrm>
              <a:off x="5221080" y="4148280"/>
              <a:ext cx="287280" cy="287280"/>
              <a:chOff x="5221080" y="4148280"/>
              <a:chExt cx="287280" cy="287280"/>
            </a:xfrm>
          </p:grpSpPr>
          <p:sp>
            <p:nvSpPr>
              <p:cNvPr id="255" name="Oval 87"/>
              <p:cNvSpPr/>
              <p:nvPr/>
            </p:nvSpPr>
            <p:spPr>
              <a:xfrm>
                <a:off x="5221080" y="414828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5221080" y="4291920"/>
                <a:ext cx="287280" cy="360"/>
                <a:chOff x="5221080" y="4291920"/>
                <a:chExt cx="287280" cy="360"/>
              </a:xfrm>
            </p:grpSpPr>
            <p:sp>
              <p:nvSpPr>
                <p:cNvPr id="257" name="Line 88"/>
                <p:cNvSpPr/>
                <p:nvPr/>
              </p:nvSpPr>
              <p:spPr>
                <a:xfrm>
                  <a:off x="5221080" y="429192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 txBox="1"/>
                <p:nvPr/>
              </p:nvSpPr>
              <p:spPr>
                <a:xfrm>
                  <a:off x="5221080" y="429192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364720" y="4148280"/>
                <a:ext cx="360" cy="287280"/>
                <a:chOff x="5364720" y="4148280"/>
                <a:chExt cx="360" cy="287280"/>
              </a:xfrm>
            </p:grpSpPr>
            <p:sp>
              <p:nvSpPr>
                <p:cNvPr id="260" name="Line 89"/>
                <p:cNvSpPr/>
                <p:nvPr/>
              </p:nvSpPr>
              <p:spPr>
                <a:xfrm>
                  <a:off x="5364720" y="414828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 txBox="1"/>
                <p:nvPr/>
              </p:nvSpPr>
              <p:spPr>
                <a:xfrm>
                  <a:off x="5364720" y="4148280"/>
                  <a:ext cx="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90"/>
            <p:cNvGrpSpPr/>
            <p:nvPr/>
          </p:nvGrpSpPr>
          <p:grpSpPr>
            <a:xfrm>
              <a:off x="6445080" y="3355920"/>
              <a:ext cx="287280" cy="287280"/>
              <a:chOff x="6445080" y="3355920"/>
              <a:chExt cx="287280" cy="287280"/>
            </a:xfrm>
          </p:grpSpPr>
          <p:sp>
            <p:nvSpPr>
              <p:cNvPr id="263" name="Oval 91"/>
              <p:cNvSpPr/>
              <p:nvPr/>
            </p:nvSpPr>
            <p:spPr>
              <a:xfrm>
                <a:off x="6445080" y="335592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445080" y="3499560"/>
                <a:ext cx="287280" cy="360"/>
                <a:chOff x="6445080" y="3499560"/>
                <a:chExt cx="287280" cy="360"/>
              </a:xfrm>
            </p:grpSpPr>
            <p:sp>
              <p:nvSpPr>
                <p:cNvPr id="265" name="Line 92"/>
                <p:cNvSpPr/>
                <p:nvPr/>
              </p:nvSpPr>
              <p:spPr>
                <a:xfrm>
                  <a:off x="6445080" y="349956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 txBox="1"/>
                <p:nvPr/>
              </p:nvSpPr>
              <p:spPr>
                <a:xfrm>
                  <a:off x="6445080" y="349956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588720" y="3355920"/>
                <a:ext cx="360" cy="287280"/>
                <a:chOff x="6588720" y="3355920"/>
                <a:chExt cx="360" cy="287280"/>
              </a:xfrm>
            </p:grpSpPr>
            <p:sp>
              <p:nvSpPr>
                <p:cNvPr id="268" name="Line 93"/>
                <p:cNvSpPr/>
                <p:nvPr/>
              </p:nvSpPr>
              <p:spPr>
                <a:xfrm>
                  <a:off x="6588720" y="335592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 txBox="1"/>
                <p:nvPr/>
              </p:nvSpPr>
              <p:spPr>
                <a:xfrm>
                  <a:off x="6588720" y="3355920"/>
                  <a:ext cx="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Group 94"/>
            <p:cNvGrpSpPr/>
            <p:nvPr/>
          </p:nvGrpSpPr>
          <p:grpSpPr>
            <a:xfrm>
              <a:off x="6516360" y="4076640"/>
              <a:ext cx="287640" cy="287280"/>
              <a:chOff x="6516360" y="4076640"/>
              <a:chExt cx="287640" cy="287280"/>
            </a:xfrm>
          </p:grpSpPr>
          <p:sp>
            <p:nvSpPr>
              <p:cNvPr id="271" name="Oval 95"/>
              <p:cNvSpPr/>
              <p:nvPr/>
            </p:nvSpPr>
            <p:spPr>
              <a:xfrm>
                <a:off x="6516360" y="4076640"/>
                <a:ext cx="28764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6516360" y="4220280"/>
                <a:ext cx="287640" cy="360"/>
                <a:chOff x="6516360" y="4220280"/>
                <a:chExt cx="287640" cy="360"/>
              </a:xfrm>
            </p:grpSpPr>
            <p:sp>
              <p:nvSpPr>
                <p:cNvPr id="273" name="Line 96"/>
                <p:cNvSpPr/>
                <p:nvPr/>
              </p:nvSpPr>
              <p:spPr>
                <a:xfrm>
                  <a:off x="6516360" y="4220280"/>
                  <a:ext cx="28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6516360" y="4220280"/>
                  <a:ext cx="28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660000" y="4076640"/>
                <a:ext cx="360" cy="287280"/>
                <a:chOff x="6660000" y="4076640"/>
                <a:chExt cx="360" cy="287280"/>
              </a:xfrm>
            </p:grpSpPr>
            <p:sp>
              <p:nvSpPr>
                <p:cNvPr id="276" name="Line 97"/>
                <p:cNvSpPr/>
                <p:nvPr/>
              </p:nvSpPr>
              <p:spPr>
                <a:xfrm>
                  <a:off x="6660000" y="407664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 txBox="1"/>
                <p:nvPr/>
              </p:nvSpPr>
              <p:spPr>
                <a:xfrm>
                  <a:off x="6660000" y="4076640"/>
                  <a:ext cx="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98"/>
            <p:cNvGrpSpPr/>
            <p:nvPr/>
          </p:nvGrpSpPr>
          <p:grpSpPr>
            <a:xfrm>
              <a:off x="1331640" y="4219560"/>
              <a:ext cx="287280" cy="287280"/>
              <a:chOff x="1331640" y="4219560"/>
              <a:chExt cx="287280" cy="287280"/>
            </a:xfrm>
          </p:grpSpPr>
          <p:sp>
            <p:nvSpPr>
              <p:cNvPr id="279" name="Oval 99"/>
              <p:cNvSpPr/>
              <p:nvPr/>
            </p:nvSpPr>
            <p:spPr>
              <a:xfrm>
                <a:off x="1331640" y="421956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1331640" y="4363200"/>
                <a:ext cx="287280" cy="360"/>
                <a:chOff x="1331640" y="4363200"/>
                <a:chExt cx="287280" cy="360"/>
              </a:xfrm>
            </p:grpSpPr>
            <p:sp>
              <p:nvSpPr>
                <p:cNvPr id="281" name="Line 100"/>
                <p:cNvSpPr/>
                <p:nvPr/>
              </p:nvSpPr>
              <p:spPr>
                <a:xfrm>
                  <a:off x="1331640" y="436320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 txBox="1"/>
                <p:nvPr/>
              </p:nvSpPr>
              <p:spPr>
                <a:xfrm>
                  <a:off x="1331640" y="436320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1475280" y="4219560"/>
                <a:ext cx="360" cy="287280"/>
                <a:chOff x="1475280" y="4219560"/>
                <a:chExt cx="360" cy="287280"/>
              </a:xfrm>
            </p:grpSpPr>
            <p:sp>
              <p:nvSpPr>
                <p:cNvPr id="284" name="Line 101"/>
                <p:cNvSpPr/>
                <p:nvPr/>
              </p:nvSpPr>
              <p:spPr>
                <a:xfrm>
                  <a:off x="1475280" y="421956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 txBox="1"/>
                <p:nvPr/>
              </p:nvSpPr>
              <p:spPr>
                <a:xfrm>
                  <a:off x="1475280" y="4219560"/>
                  <a:ext cx="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102"/>
            <p:cNvGrpSpPr/>
            <p:nvPr/>
          </p:nvGrpSpPr>
          <p:grpSpPr>
            <a:xfrm>
              <a:off x="7813440" y="3716280"/>
              <a:ext cx="287280" cy="287280"/>
              <a:chOff x="7813440" y="3716280"/>
              <a:chExt cx="287280" cy="287280"/>
            </a:xfrm>
          </p:grpSpPr>
          <p:sp>
            <p:nvSpPr>
              <p:cNvPr id="287" name="Oval 103"/>
              <p:cNvSpPr/>
              <p:nvPr/>
            </p:nvSpPr>
            <p:spPr>
              <a:xfrm>
                <a:off x="7813440" y="371628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7813440" y="3859920"/>
                <a:ext cx="287280" cy="360"/>
                <a:chOff x="7813440" y="3859920"/>
                <a:chExt cx="287280" cy="360"/>
              </a:xfrm>
            </p:grpSpPr>
            <p:sp>
              <p:nvSpPr>
                <p:cNvPr id="289" name="Line 104"/>
                <p:cNvSpPr/>
                <p:nvPr/>
              </p:nvSpPr>
              <p:spPr>
                <a:xfrm>
                  <a:off x="7813440" y="385992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 txBox="1"/>
                <p:nvPr/>
              </p:nvSpPr>
              <p:spPr>
                <a:xfrm>
                  <a:off x="7813440" y="385992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957080" y="3716280"/>
                <a:ext cx="360" cy="287280"/>
                <a:chOff x="7957080" y="3716280"/>
                <a:chExt cx="360" cy="287280"/>
              </a:xfrm>
            </p:grpSpPr>
            <p:sp>
              <p:nvSpPr>
                <p:cNvPr id="292" name="Line 105"/>
                <p:cNvSpPr/>
                <p:nvPr/>
              </p:nvSpPr>
              <p:spPr>
                <a:xfrm>
                  <a:off x="7957080" y="371628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7957080" y="3716280"/>
                  <a:ext cx="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06"/>
            <p:cNvGrpSpPr/>
            <p:nvPr/>
          </p:nvGrpSpPr>
          <p:grpSpPr>
            <a:xfrm>
              <a:off x="900000" y="4219560"/>
              <a:ext cx="142920" cy="144360"/>
              <a:chOff x="900000" y="4219560"/>
              <a:chExt cx="142920" cy="144360"/>
            </a:xfrm>
          </p:grpSpPr>
          <p:sp>
            <p:nvSpPr>
              <p:cNvPr id="295" name="Oval 107"/>
              <p:cNvSpPr/>
              <p:nvPr/>
            </p:nvSpPr>
            <p:spPr>
              <a:xfrm>
                <a:off x="900000" y="4219560"/>
                <a:ext cx="1429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900000" y="4290840"/>
                <a:ext cx="142920" cy="360"/>
                <a:chOff x="900000" y="4290840"/>
                <a:chExt cx="142920" cy="360"/>
              </a:xfrm>
            </p:grpSpPr>
            <p:sp>
              <p:nvSpPr>
                <p:cNvPr id="297" name="Line 108"/>
                <p:cNvSpPr/>
                <p:nvPr/>
              </p:nvSpPr>
              <p:spPr>
                <a:xfrm>
                  <a:off x="900000" y="4290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 txBox="1"/>
                <p:nvPr/>
              </p:nvSpPr>
              <p:spPr>
                <a:xfrm>
                  <a:off x="900000" y="4290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109"/>
            <p:cNvGrpSpPr/>
            <p:nvPr/>
          </p:nvGrpSpPr>
          <p:grpSpPr>
            <a:xfrm>
              <a:off x="1476000" y="3355920"/>
              <a:ext cx="142920" cy="144720"/>
              <a:chOff x="1476000" y="3355920"/>
              <a:chExt cx="142920" cy="144720"/>
            </a:xfrm>
          </p:grpSpPr>
          <p:sp>
            <p:nvSpPr>
              <p:cNvPr id="300" name="Oval 110"/>
              <p:cNvSpPr/>
              <p:nvPr/>
            </p:nvSpPr>
            <p:spPr>
              <a:xfrm>
                <a:off x="1476000" y="3355920"/>
                <a:ext cx="142920" cy="1447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1476000" y="3427560"/>
                <a:ext cx="142920" cy="360"/>
                <a:chOff x="1476000" y="3427560"/>
                <a:chExt cx="142920" cy="360"/>
              </a:xfrm>
            </p:grpSpPr>
            <p:sp>
              <p:nvSpPr>
                <p:cNvPr id="302" name="Line 111"/>
                <p:cNvSpPr/>
                <p:nvPr/>
              </p:nvSpPr>
              <p:spPr>
                <a:xfrm>
                  <a:off x="1476000" y="3427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>
                  <a:off x="1476000" y="3427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Group 112"/>
            <p:cNvGrpSpPr/>
            <p:nvPr/>
          </p:nvGrpSpPr>
          <p:grpSpPr>
            <a:xfrm>
              <a:off x="4787640" y="3284640"/>
              <a:ext cx="142920" cy="144360"/>
              <a:chOff x="4787640" y="3284640"/>
              <a:chExt cx="142920" cy="144360"/>
            </a:xfrm>
          </p:grpSpPr>
          <p:sp>
            <p:nvSpPr>
              <p:cNvPr id="305" name="Oval 113"/>
              <p:cNvSpPr/>
              <p:nvPr/>
            </p:nvSpPr>
            <p:spPr>
              <a:xfrm>
                <a:off x="4787640" y="3284640"/>
                <a:ext cx="1429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4787640" y="3355920"/>
                <a:ext cx="142920" cy="360"/>
                <a:chOff x="4787640" y="3355920"/>
                <a:chExt cx="142920" cy="360"/>
              </a:xfrm>
            </p:grpSpPr>
            <p:sp>
              <p:nvSpPr>
                <p:cNvPr id="307" name="Line 114"/>
                <p:cNvSpPr/>
                <p:nvPr/>
              </p:nvSpPr>
              <p:spPr>
                <a:xfrm>
                  <a:off x="4787640" y="3355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 txBox="1"/>
                <p:nvPr/>
              </p:nvSpPr>
              <p:spPr>
                <a:xfrm>
                  <a:off x="4787640" y="3355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" name="Group 115"/>
            <p:cNvGrpSpPr/>
            <p:nvPr/>
          </p:nvGrpSpPr>
          <p:grpSpPr>
            <a:xfrm>
              <a:off x="5221080" y="3571920"/>
              <a:ext cx="142920" cy="144360"/>
              <a:chOff x="5221080" y="3571920"/>
              <a:chExt cx="142920" cy="144360"/>
            </a:xfrm>
          </p:grpSpPr>
          <p:sp>
            <p:nvSpPr>
              <p:cNvPr id="310" name="Oval 116"/>
              <p:cNvSpPr/>
              <p:nvPr/>
            </p:nvSpPr>
            <p:spPr>
              <a:xfrm>
                <a:off x="5221080" y="3571920"/>
                <a:ext cx="1429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5221080" y="3643200"/>
                <a:ext cx="142920" cy="360"/>
                <a:chOff x="5221080" y="3643200"/>
                <a:chExt cx="142920" cy="360"/>
              </a:xfrm>
            </p:grpSpPr>
            <p:sp>
              <p:nvSpPr>
                <p:cNvPr id="312" name="Line 117"/>
                <p:cNvSpPr/>
                <p:nvPr/>
              </p:nvSpPr>
              <p:spPr>
                <a:xfrm>
                  <a:off x="5221080" y="36432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 txBox="1"/>
                <p:nvPr/>
              </p:nvSpPr>
              <p:spPr>
                <a:xfrm>
                  <a:off x="5221080" y="36432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Group 118"/>
            <p:cNvGrpSpPr/>
            <p:nvPr/>
          </p:nvGrpSpPr>
          <p:grpSpPr>
            <a:xfrm>
              <a:off x="6948360" y="3787920"/>
              <a:ext cx="142920" cy="144360"/>
              <a:chOff x="6948360" y="3787920"/>
              <a:chExt cx="142920" cy="144360"/>
            </a:xfrm>
          </p:grpSpPr>
          <p:sp>
            <p:nvSpPr>
              <p:cNvPr id="315" name="Oval 119"/>
              <p:cNvSpPr/>
              <p:nvPr/>
            </p:nvSpPr>
            <p:spPr>
              <a:xfrm>
                <a:off x="6948360" y="3787920"/>
                <a:ext cx="1429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6948360" y="3859200"/>
                <a:ext cx="142920" cy="360"/>
                <a:chOff x="6948360" y="3859200"/>
                <a:chExt cx="142920" cy="360"/>
              </a:xfrm>
            </p:grpSpPr>
            <p:sp>
              <p:nvSpPr>
                <p:cNvPr id="317" name="Line 120"/>
                <p:cNvSpPr/>
                <p:nvPr/>
              </p:nvSpPr>
              <p:spPr>
                <a:xfrm>
                  <a:off x="6948360" y="38592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 txBox="1"/>
                <p:nvPr/>
              </p:nvSpPr>
              <p:spPr>
                <a:xfrm>
                  <a:off x="6948360" y="38592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9" name="Group 121"/>
            <p:cNvGrpSpPr/>
            <p:nvPr/>
          </p:nvGrpSpPr>
          <p:grpSpPr>
            <a:xfrm>
              <a:off x="7380000" y="4363920"/>
              <a:ext cx="142920" cy="144720"/>
              <a:chOff x="7380000" y="4363920"/>
              <a:chExt cx="142920" cy="144720"/>
            </a:xfrm>
          </p:grpSpPr>
          <p:sp>
            <p:nvSpPr>
              <p:cNvPr id="320" name="Oval 122"/>
              <p:cNvSpPr/>
              <p:nvPr/>
            </p:nvSpPr>
            <p:spPr>
              <a:xfrm>
                <a:off x="7380000" y="4363920"/>
                <a:ext cx="142920" cy="1447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7380000" y="4435560"/>
                <a:ext cx="142920" cy="360"/>
                <a:chOff x="7380000" y="4435560"/>
                <a:chExt cx="142920" cy="360"/>
              </a:xfrm>
            </p:grpSpPr>
            <p:sp>
              <p:nvSpPr>
                <p:cNvPr id="322" name="Line 123"/>
                <p:cNvSpPr/>
                <p:nvPr/>
              </p:nvSpPr>
              <p:spPr>
                <a:xfrm>
                  <a:off x="7380000" y="4435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 txBox="1"/>
                <p:nvPr/>
              </p:nvSpPr>
              <p:spPr>
                <a:xfrm>
                  <a:off x="7380000" y="4435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Group 124"/>
            <p:cNvGrpSpPr/>
            <p:nvPr/>
          </p:nvGrpSpPr>
          <p:grpSpPr>
            <a:xfrm>
              <a:off x="539640" y="3284640"/>
              <a:ext cx="142920" cy="144360"/>
              <a:chOff x="539640" y="3284640"/>
              <a:chExt cx="142920" cy="144360"/>
            </a:xfrm>
          </p:grpSpPr>
          <p:sp>
            <p:nvSpPr>
              <p:cNvPr id="325" name="Oval 125"/>
              <p:cNvSpPr/>
              <p:nvPr/>
            </p:nvSpPr>
            <p:spPr>
              <a:xfrm>
                <a:off x="539640" y="3284640"/>
                <a:ext cx="1429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39640" y="3355920"/>
                <a:ext cx="142920" cy="360"/>
                <a:chOff x="539640" y="3355920"/>
                <a:chExt cx="142920" cy="360"/>
              </a:xfrm>
            </p:grpSpPr>
            <p:sp>
              <p:nvSpPr>
                <p:cNvPr id="327" name="Line 126"/>
                <p:cNvSpPr/>
                <p:nvPr/>
              </p:nvSpPr>
              <p:spPr>
                <a:xfrm>
                  <a:off x="539640" y="3355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 txBox="1"/>
                <p:nvPr/>
              </p:nvSpPr>
              <p:spPr>
                <a:xfrm>
                  <a:off x="539640" y="3355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9" name="Group 127"/>
            <p:cNvGrpSpPr/>
            <p:nvPr/>
          </p:nvGrpSpPr>
          <p:grpSpPr>
            <a:xfrm>
              <a:off x="3205080" y="3645000"/>
              <a:ext cx="142920" cy="144360"/>
              <a:chOff x="3205080" y="3645000"/>
              <a:chExt cx="142920" cy="144360"/>
            </a:xfrm>
          </p:grpSpPr>
          <p:sp>
            <p:nvSpPr>
              <p:cNvPr id="330" name="Oval 128"/>
              <p:cNvSpPr/>
              <p:nvPr/>
            </p:nvSpPr>
            <p:spPr>
              <a:xfrm>
                <a:off x="3205080" y="3645000"/>
                <a:ext cx="1429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3205080" y="3716280"/>
                <a:ext cx="142920" cy="360"/>
                <a:chOff x="3205080" y="3716280"/>
                <a:chExt cx="142920" cy="360"/>
              </a:xfrm>
            </p:grpSpPr>
            <p:sp>
              <p:nvSpPr>
                <p:cNvPr id="332" name="Line 129"/>
                <p:cNvSpPr/>
                <p:nvPr/>
              </p:nvSpPr>
              <p:spPr>
                <a:xfrm>
                  <a:off x="3205080" y="37162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 txBox="1"/>
                <p:nvPr/>
              </p:nvSpPr>
              <p:spPr>
                <a:xfrm>
                  <a:off x="3205080" y="37162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30"/>
            <p:cNvGrpSpPr/>
            <p:nvPr/>
          </p:nvGrpSpPr>
          <p:grpSpPr>
            <a:xfrm>
              <a:off x="2412720" y="3140280"/>
              <a:ext cx="142920" cy="144360"/>
              <a:chOff x="2412720" y="3140280"/>
              <a:chExt cx="142920" cy="144360"/>
            </a:xfrm>
          </p:grpSpPr>
          <p:sp>
            <p:nvSpPr>
              <p:cNvPr id="335" name="Oval 131"/>
              <p:cNvSpPr/>
              <p:nvPr/>
            </p:nvSpPr>
            <p:spPr>
              <a:xfrm>
                <a:off x="2412720" y="3140280"/>
                <a:ext cx="1429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412720" y="3211560"/>
                <a:ext cx="142920" cy="360"/>
                <a:chOff x="2412720" y="3211560"/>
                <a:chExt cx="142920" cy="360"/>
              </a:xfrm>
            </p:grpSpPr>
            <p:sp>
              <p:nvSpPr>
                <p:cNvPr id="337" name="Line 132"/>
                <p:cNvSpPr/>
                <p:nvPr/>
              </p:nvSpPr>
              <p:spPr>
                <a:xfrm>
                  <a:off x="2412720" y="3211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 txBox="1"/>
                <p:nvPr/>
              </p:nvSpPr>
              <p:spPr>
                <a:xfrm>
                  <a:off x="2412720" y="3211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133"/>
            <p:cNvGrpSpPr/>
            <p:nvPr/>
          </p:nvGrpSpPr>
          <p:grpSpPr>
            <a:xfrm>
              <a:off x="4213080" y="4508640"/>
              <a:ext cx="142920" cy="144360"/>
              <a:chOff x="4213080" y="4508640"/>
              <a:chExt cx="142920" cy="144360"/>
            </a:xfrm>
          </p:grpSpPr>
          <p:sp>
            <p:nvSpPr>
              <p:cNvPr id="340" name="Oval 134"/>
              <p:cNvSpPr/>
              <p:nvPr/>
            </p:nvSpPr>
            <p:spPr>
              <a:xfrm>
                <a:off x="4213080" y="4508640"/>
                <a:ext cx="1429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4213080" y="4579920"/>
                <a:ext cx="142920" cy="360"/>
                <a:chOff x="4213080" y="4579920"/>
                <a:chExt cx="142920" cy="360"/>
              </a:xfrm>
            </p:grpSpPr>
            <p:sp>
              <p:nvSpPr>
                <p:cNvPr id="342" name="Line 135"/>
                <p:cNvSpPr/>
                <p:nvPr/>
              </p:nvSpPr>
              <p:spPr>
                <a:xfrm>
                  <a:off x="4213080" y="4579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 txBox="1"/>
                <p:nvPr/>
              </p:nvSpPr>
              <p:spPr>
                <a:xfrm>
                  <a:off x="4213080" y="4579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4" name="Group 136"/>
            <p:cNvGrpSpPr/>
            <p:nvPr/>
          </p:nvGrpSpPr>
          <p:grpSpPr>
            <a:xfrm>
              <a:off x="5795640" y="4508640"/>
              <a:ext cx="142920" cy="144360"/>
              <a:chOff x="5795640" y="4508640"/>
              <a:chExt cx="142920" cy="144360"/>
            </a:xfrm>
          </p:grpSpPr>
          <p:sp>
            <p:nvSpPr>
              <p:cNvPr id="345" name="Oval 137"/>
              <p:cNvSpPr/>
              <p:nvPr/>
            </p:nvSpPr>
            <p:spPr>
              <a:xfrm>
                <a:off x="5795640" y="4508640"/>
                <a:ext cx="1429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5795640" y="4579920"/>
                <a:ext cx="142920" cy="360"/>
                <a:chOff x="5795640" y="4579920"/>
                <a:chExt cx="142920" cy="360"/>
              </a:xfrm>
            </p:grpSpPr>
            <p:sp>
              <p:nvSpPr>
                <p:cNvPr id="347" name="Line 138"/>
                <p:cNvSpPr/>
                <p:nvPr/>
              </p:nvSpPr>
              <p:spPr>
                <a:xfrm>
                  <a:off x="5795640" y="4579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 txBox="1"/>
                <p:nvPr/>
              </p:nvSpPr>
              <p:spPr>
                <a:xfrm>
                  <a:off x="5795640" y="4579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" name="Group 139"/>
            <p:cNvGrpSpPr/>
            <p:nvPr/>
          </p:nvGrpSpPr>
          <p:grpSpPr>
            <a:xfrm>
              <a:off x="6156000" y="3211560"/>
              <a:ext cx="142920" cy="144360"/>
              <a:chOff x="6156000" y="3211560"/>
              <a:chExt cx="142920" cy="144360"/>
            </a:xfrm>
          </p:grpSpPr>
          <p:sp>
            <p:nvSpPr>
              <p:cNvPr id="350" name="Oval 140"/>
              <p:cNvSpPr/>
              <p:nvPr/>
            </p:nvSpPr>
            <p:spPr>
              <a:xfrm>
                <a:off x="6156000" y="3211560"/>
                <a:ext cx="1429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6156000" y="3282840"/>
                <a:ext cx="142920" cy="360"/>
                <a:chOff x="6156000" y="3282840"/>
                <a:chExt cx="142920" cy="360"/>
              </a:xfrm>
            </p:grpSpPr>
            <p:sp>
              <p:nvSpPr>
                <p:cNvPr id="352" name="Line 141"/>
                <p:cNvSpPr/>
                <p:nvPr/>
              </p:nvSpPr>
              <p:spPr>
                <a:xfrm>
                  <a:off x="6156000" y="3282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 txBox="1"/>
                <p:nvPr/>
              </p:nvSpPr>
              <p:spPr>
                <a:xfrm>
                  <a:off x="6156000" y="3282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4" name="Group 142"/>
            <p:cNvGrpSpPr/>
            <p:nvPr/>
          </p:nvGrpSpPr>
          <p:grpSpPr>
            <a:xfrm>
              <a:off x="8245440" y="4437000"/>
              <a:ext cx="142560" cy="144720"/>
              <a:chOff x="8245440" y="4437000"/>
              <a:chExt cx="142560" cy="144720"/>
            </a:xfrm>
          </p:grpSpPr>
          <p:sp>
            <p:nvSpPr>
              <p:cNvPr id="355" name="Oval 143"/>
              <p:cNvSpPr/>
              <p:nvPr/>
            </p:nvSpPr>
            <p:spPr>
              <a:xfrm>
                <a:off x="8245440" y="4437000"/>
                <a:ext cx="142560" cy="1447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8245440" y="4508640"/>
                <a:ext cx="142560" cy="360"/>
                <a:chOff x="8245440" y="4508640"/>
                <a:chExt cx="142560" cy="360"/>
              </a:xfrm>
            </p:grpSpPr>
            <p:sp>
              <p:nvSpPr>
                <p:cNvPr id="357" name="Line 144"/>
                <p:cNvSpPr/>
                <p:nvPr/>
              </p:nvSpPr>
              <p:spPr>
                <a:xfrm>
                  <a:off x="8245440" y="45086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 txBox="1"/>
                <p:nvPr/>
              </p:nvSpPr>
              <p:spPr>
                <a:xfrm>
                  <a:off x="8245440" y="45086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9" name="Group 145"/>
            <p:cNvGrpSpPr/>
            <p:nvPr/>
          </p:nvGrpSpPr>
          <p:grpSpPr>
            <a:xfrm>
              <a:off x="6013080" y="4219560"/>
              <a:ext cx="142920" cy="144360"/>
              <a:chOff x="6013080" y="4219560"/>
              <a:chExt cx="142920" cy="144360"/>
            </a:xfrm>
          </p:grpSpPr>
          <p:sp>
            <p:nvSpPr>
              <p:cNvPr id="360" name="Oval 146"/>
              <p:cNvSpPr/>
              <p:nvPr/>
            </p:nvSpPr>
            <p:spPr>
              <a:xfrm>
                <a:off x="6013080" y="4219560"/>
                <a:ext cx="1429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6013080" y="4290840"/>
                <a:ext cx="142920" cy="360"/>
                <a:chOff x="6013080" y="4290840"/>
                <a:chExt cx="142920" cy="360"/>
              </a:xfrm>
            </p:grpSpPr>
            <p:sp>
              <p:nvSpPr>
                <p:cNvPr id="362" name="Line 147"/>
                <p:cNvSpPr/>
                <p:nvPr/>
              </p:nvSpPr>
              <p:spPr>
                <a:xfrm>
                  <a:off x="6013080" y="4290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 txBox="1"/>
                <p:nvPr/>
              </p:nvSpPr>
              <p:spPr>
                <a:xfrm>
                  <a:off x="6013080" y="4290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" name="Group 148"/>
            <p:cNvGrpSpPr/>
            <p:nvPr/>
          </p:nvGrpSpPr>
          <p:grpSpPr>
            <a:xfrm>
              <a:off x="7813440" y="3140280"/>
              <a:ext cx="142920" cy="144360"/>
              <a:chOff x="7813440" y="3140280"/>
              <a:chExt cx="142920" cy="144360"/>
            </a:xfrm>
          </p:grpSpPr>
          <p:sp>
            <p:nvSpPr>
              <p:cNvPr id="365" name="Oval 149"/>
              <p:cNvSpPr/>
              <p:nvPr/>
            </p:nvSpPr>
            <p:spPr>
              <a:xfrm>
                <a:off x="7813440" y="3140280"/>
                <a:ext cx="1429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7813440" y="3211560"/>
                <a:ext cx="142920" cy="360"/>
                <a:chOff x="7813440" y="3211560"/>
                <a:chExt cx="142920" cy="360"/>
              </a:xfrm>
            </p:grpSpPr>
            <p:sp>
              <p:nvSpPr>
                <p:cNvPr id="367" name="Line 150"/>
                <p:cNvSpPr/>
                <p:nvPr/>
              </p:nvSpPr>
              <p:spPr>
                <a:xfrm>
                  <a:off x="7813440" y="3211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 txBox="1"/>
                <p:nvPr/>
              </p:nvSpPr>
              <p:spPr>
                <a:xfrm>
                  <a:off x="7813440" y="3211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9" name="Group 151"/>
            <p:cNvGrpSpPr/>
            <p:nvPr/>
          </p:nvGrpSpPr>
          <p:grpSpPr>
            <a:xfrm>
              <a:off x="2484360" y="3355920"/>
              <a:ext cx="142920" cy="144720"/>
              <a:chOff x="2484360" y="3355920"/>
              <a:chExt cx="142920" cy="144720"/>
            </a:xfrm>
          </p:grpSpPr>
          <p:sp>
            <p:nvSpPr>
              <p:cNvPr id="370" name="Oval 152"/>
              <p:cNvSpPr/>
              <p:nvPr/>
            </p:nvSpPr>
            <p:spPr>
              <a:xfrm>
                <a:off x="2484360" y="335592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2484360" y="3427560"/>
                <a:ext cx="142920" cy="360"/>
                <a:chOff x="2484360" y="3427560"/>
                <a:chExt cx="142920" cy="360"/>
              </a:xfrm>
            </p:grpSpPr>
            <p:sp>
              <p:nvSpPr>
                <p:cNvPr id="372" name="Line 153"/>
                <p:cNvSpPr/>
                <p:nvPr/>
              </p:nvSpPr>
              <p:spPr>
                <a:xfrm>
                  <a:off x="2484360" y="3427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 txBox="1"/>
                <p:nvPr/>
              </p:nvSpPr>
              <p:spPr>
                <a:xfrm>
                  <a:off x="2484360" y="3427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Group 154"/>
            <p:cNvGrpSpPr/>
            <p:nvPr/>
          </p:nvGrpSpPr>
          <p:grpSpPr>
            <a:xfrm>
              <a:off x="2339640" y="3643200"/>
              <a:ext cx="142920" cy="144720"/>
              <a:chOff x="2339640" y="3643200"/>
              <a:chExt cx="142920" cy="144720"/>
            </a:xfrm>
          </p:grpSpPr>
          <p:sp>
            <p:nvSpPr>
              <p:cNvPr id="375" name="Oval 155"/>
              <p:cNvSpPr/>
              <p:nvPr/>
            </p:nvSpPr>
            <p:spPr>
              <a:xfrm>
                <a:off x="2339640" y="364320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2339640" y="3714840"/>
                <a:ext cx="142920" cy="360"/>
                <a:chOff x="2339640" y="3714840"/>
                <a:chExt cx="142920" cy="360"/>
              </a:xfrm>
            </p:grpSpPr>
            <p:sp>
              <p:nvSpPr>
                <p:cNvPr id="377" name="Line 156"/>
                <p:cNvSpPr/>
                <p:nvPr/>
              </p:nvSpPr>
              <p:spPr>
                <a:xfrm>
                  <a:off x="2339640" y="3714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 txBox="1"/>
                <p:nvPr/>
              </p:nvSpPr>
              <p:spPr>
                <a:xfrm>
                  <a:off x="2339640" y="3714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9" name="Group 157"/>
            <p:cNvGrpSpPr/>
            <p:nvPr/>
          </p:nvGrpSpPr>
          <p:grpSpPr>
            <a:xfrm>
              <a:off x="8245440" y="3211560"/>
              <a:ext cx="142560" cy="144360"/>
              <a:chOff x="8245440" y="3211560"/>
              <a:chExt cx="142560" cy="144360"/>
            </a:xfrm>
          </p:grpSpPr>
          <p:sp>
            <p:nvSpPr>
              <p:cNvPr id="380" name="Oval 158"/>
              <p:cNvSpPr/>
              <p:nvPr/>
            </p:nvSpPr>
            <p:spPr>
              <a:xfrm>
                <a:off x="8245440" y="3211560"/>
                <a:ext cx="1425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8245440" y="3282840"/>
                <a:ext cx="142560" cy="360"/>
                <a:chOff x="8245440" y="3282840"/>
                <a:chExt cx="142560" cy="360"/>
              </a:xfrm>
            </p:grpSpPr>
            <p:sp>
              <p:nvSpPr>
                <p:cNvPr id="382" name="Line 159"/>
                <p:cNvSpPr/>
                <p:nvPr/>
              </p:nvSpPr>
              <p:spPr>
                <a:xfrm>
                  <a:off x="8245440" y="3282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 txBox="1"/>
                <p:nvPr/>
              </p:nvSpPr>
              <p:spPr>
                <a:xfrm>
                  <a:off x="8245440" y="32828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" name="Group 160"/>
            <p:cNvGrpSpPr/>
            <p:nvPr/>
          </p:nvGrpSpPr>
          <p:grpSpPr>
            <a:xfrm>
              <a:off x="2339640" y="4724280"/>
              <a:ext cx="142920" cy="144720"/>
              <a:chOff x="2339640" y="4724280"/>
              <a:chExt cx="142920" cy="144720"/>
            </a:xfrm>
          </p:grpSpPr>
          <p:sp>
            <p:nvSpPr>
              <p:cNvPr id="385" name="Oval 161"/>
              <p:cNvSpPr/>
              <p:nvPr/>
            </p:nvSpPr>
            <p:spPr>
              <a:xfrm>
                <a:off x="2339640" y="472428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2339640" y="4795920"/>
                <a:ext cx="142920" cy="360"/>
                <a:chOff x="2339640" y="4795920"/>
                <a:chExt cx="142920" cy="360"/>
              </a:xfrm>
            </p:grpSpPr>
            <p:sp>
              <p:nvSpPr>
                <p:cNvPr id="387" name="Line 162"/>
                <p:cNvSpPr/>
                <p:nvPr/>
              </p:nvSpPr>
              <p:spPr>
                <a:xfrm>
                  <a:off x="2339640" y="4795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 txBox="1"/>
                <p:nvPr/>
              </p:nvSpPr>
              <p:spPr>
                <a:xfrm>
                  <a:off x="2339640" y="4795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9" name="Group 163"/>
            <p:cNvGrpSpPr/>
            <p:nvPr/>
          </p:nvGrpSpPr>
          <p:grpSpPr>
            <a:xfrm>
              <a:off x="2844720" y="4437000"/>
              <a:ext cx="142920" cy="144720"/>
              <a:chOff x="2844720" y="4437000"/>
              <a:chExt cx="142920" cy="144720"/>
            </a:xfrm>
          </p:grpSpPr>
          <p:sp>
            <p:nvSpPr>
              <p:cNvPr id="390" name="Oval 164"/>
              <p:cNvSpPr/>
              <p:nvPr/>
            </p:nvSpPr>
            <p:spPr>
              <a:xfrm>
                <a:off x="2844720" y="443700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2844720" y="4508640"/>
                <a:ext cx="142920" cy="360"/>
                <a:chOff x="2844720" y="4508640"/>
                <a:chExt cx="142920" cy="360"/>
              </a:xfrm>
            </p:grpSpPr>
            <p:sp>
              <p:nvSpPr>
                <p:cNvPr id="392" name="Line 165"/>
                <p:cNvSpPr/>
                <p:nvPr/>
              </p:nvSpPr>
              <p:spPr>
                <a:xfrm>
                  <a:off x="2844720" y="45086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 txBox="1"/>
                <p:nvPr/>
              </p:nvSpPr>
              <p:spPr>
                <a:xfrm>
                  <a:off x="2844720" y="45086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4" name="Group 166"/>
            <p:cNvGrpSpPr/>
            <p:nvPr/>
          </p:nvGrpSpPr>
          <p:grpSpPr>
            <a:xfrm>
              <a:off x="4932000" y="2995560"/>
              <a:ext cx="142920" cy="144720"/>
              <a:chOff x="4932000" y="2995560"/>
              <a:chExt cx="142920" cy="144720"/>
            </a:xfrm>
          </p:grpSpPr>
          <p:sp>
            <p:nvSpPr>
              <p:cNvPr id="395" name="Oval 167"/>
              <p:cNvSpPr/>
              <p:nvPr/>
            </p:nvSpPr>
            <p:spPr>
              <a:xfrm>
                <a:off x="4932000" y="299556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4932000" y="3067200"/>
                <a:ext cx="142920" cy="360"/>
                <a:chOff x="4932000" y="3067200"/>
                <a:chExt cx="142920" cy="360"/>
              </a:xfrm>
            </p:grpSpPr>
            <p:sp>
              <p:nvSpPr>
                <p:cNvPr id="397" name="Line 168"/>
                <p:cNvSpPr/>
                <p:nvPr/>
              </p:nvSpPr>
              <p:spPr>
                <a:xfrm>
                  <a:off x="4932000" y="30672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 txBox="1"/>
                <p:nvPr/>
              </p:nvSpPr>
              <p:spPr>
                <a:xfrm>
                  <a:off x="4932000" y="30672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69"/>
            <p:cNvGrpSpPr/>
            <p:nvPr/>
          </p:nvGrpSpPr>
          <p:grpSpPr>
            <a:xfrm>
              <a:off x="5652720" y="3861000"/>
              <a:ext cx="142920" cy="144360"/>
              <a:chOff x="5652720" y="3861000"/>
              <a:chExt cx="142920" cy="144360"/>
            </a:xfrm>
          </p:grpSpPr>
          <p:sp>
            <p:nvSpPr>
              <p:cNvPr id="400" name="Oval 170"/>
              <p:cNvSpPr/>
              <p:nvPr/>
            </p:nvSpPr>
            <p:spPr>
              <a:xfrm>
                <a:off x="5652720" y="386100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5652720" y="3932280"/>
                <a:ext cx="142920" cy="360"/>
                <a:chOff x="5652720" y="3932280"/>
                <a:chExt cx="142920" cy="360"/>
              </a:xfrm>
            </p:grpSpPr>
            <p:sp>
              <p:nvSpPr>
                <p:cNvPr id="402" name="Line 171"/>
                <p:cNvSpPr/>
                <p:nvPr/>
              </p:nvSpPr>
              <p:spPr>
                <a:xfrm>
                  <a:off x="5652720" y="39322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 txBox="1"/>
                <p:nvPr/>
              </p:nvSpPr>
              <p:spPr>
                <a:xfrm>
                  <a:off x="5652720" y="39322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Group 172"/>
            <p:cNvGrpSpPr/>
            <p:nvPr/>
          </p:nvGrpSpPr>
          <p:grpSpPr>
            <a:xfrm>
              <a:off x="8461080" y="3427560"/>
              <a:ext cx="142920" cy="144360"/>
              <a:chOff x="8461080" y="3427560"/>
              <a:chExt cx="142920" cy="144360"/>
            </a:xfrm>
          </p:grpSpPr>
          <p:sp>
            <p:nvSpPr>
              <p:cNvPr id="405" name="Oval 173"/>
              <p:cNvSpPr/>
              <p:nvPr/>
            </p:nvSpPr>
            <p:spPr>
              <a:xfrm>
                <a:off x="8461080" y="342756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8461080" y="3498840"/>
                <a:ext cx="142920" cy="360"/>
                <a:chOff x="8461080" y="3498840"/>
                <a:chExt cx="142920" cy="360"/>
              </a:xfrm>
            </p:grpSpPr>
            <p:sp>
              <p:nvSpPr>
                <p:cNvPr id="407" name="Line 174"/>
                <p:cNvSpPr/>
                <p:nvPr/>
              </p:nvSpPr>
              <p:spPr>
                <a:xfrm>
                  <a:off x="8461080" y="34988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 txBox="1"/>
                <p:nvPr/>
              </p:nvSpPr>
              <p:spPr>
                <a:xfrm>
                  <a:off x="8461080" y="34988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9" name="Group 175"/>
            <p:cNvGrpSpPr/>
            <p:nvPr/>
          </p:nvGrpSpPr>
          <p:grpSpPr>
            <a:xfrm>
              <a:off x="2052360" y="4292640"/>
              <a:ext cx="142920" cy="144360"/>
              <a:chOff x="2052360" y="4292640"/>
              <a:chExt cx="142920" cy="144360"/>
            </a:xfrm>
          </p:grpSpPr>
          <p:sp>
            <p:nvSpPr>
              <p:cNvPr id="410" name="Oval 176"/>
              <p:cNvSpPr/>
              <p:nvPr/>
            </p:nvSpPr>
            <p:spPr>
              <a:xfrm>
                <a:off x="2052360" y="429264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2052360" y="4363920"/>
                <a:ext cx="142920" cy="360"/>
                <a:chOff x="2052360" y="4363920"/>
                <a:chExt cx="142920" cy="360"/>
              </a:xfrm>
            </p:grpSpPr>
            <p:sp>
              <p:nvSpPr>
                <p:cNvPr id="412" name="Line 177"/>
                <p:cNvSpPr/>
                <p:nvPr/>
              </p:nvSpPr>
              <p:spPr>
                <a:xfrm>
                  <a:off x="2052360" y="4363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 txBox="1"/>
                <p:nvPr/>
              </p:nvSpPr>
              <p:spPr>
                <a:xfrm>
                  <a:off x="2052360" y="4363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4" name="Group 178"/>
            <p:cNvGrpSpPr/>
            <p:nvPr/>
          </p:nvGrpSpPr>
          <p:grpSpPr>
            <a:xfrm>
              <a:off x="3995640" y="3068640"/>
              <a:ext cx="142920" cy="144360"/>
              <a:chOff x="3995640" y="3068640"/>
              <a:chExt cx="142920" cy="144360"/>
            </a:xfrm>
          </p:grpSpPr>
          <p:sp>
            <p:nvSpPr>
              <p:cNvPr id="415" name="Oval 179"/>
              <p:cNvSpPr/>
              <p:nvPr/>
            </p:nvSpPr>
            <p:spPr>
              <a:xfrm>
                <a:off x="3995640" y="306864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3995640" y="3139920"/>
                <a:ext cx="142920" cy="360"/>
                <a:chOff x="3995640" y="3139920"/>
                <a:chExt cx="142920" cy="360"/>
              </a:xfrm>
            </p:grpSpPr>
            <p:sp>
              <p:nvSpPr>
                <p:cNvPr id="417" name="Line 180"/>
                <p:cNvSpPr/>
                <p:nvPr/>
              </p:nvSpPr>
              <p:spPr>
                <a:xfrm>
                  <a:off x="3995640" y="3139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3995640" y="3139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Group 181"/>
            <p:cNvGrpSpPr/>
            <p:nvPr/>
          </p:nvGrpSpPr>
          <p:grpSpPr>
            <a:xfrm>
              <a:off x="6516360" y="4508640"/>
              <a:ext cx="142920" cy="144360"/>
              <a:chOff x="6516360" y="4508640"/>
              <a:chExt cx="142920" cy="144360"/>
            </a:xfrm>
          </p:grpSpPr>
          <p:sp>
            <p:nvSpPr>
              <p:cNvPr id="420" name="Oval 182"/>
              <p:cNvSpPr/>
              <p:nvPr/>
            </p:nvSpPr>
            <p:spPr>
              <a:xfrm>
                <a:off x="6516360" y="450864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6516360" y="4579920"/>
                <a:ext cx="142920" cy="360"/>
                <a:chOff x="6516360" y="4579920"/>
                <a:chExt cx="142920" cy="360"/>
              </a:xfrm>
            </p:grpSpPr>
            <p:sp>
              <p:nvSpPr>
                <p:cNvPr id="422" name="Line 183"/>
                <p:cNvSpPr/>
                <p:nvPr/>
              </p:nvSpPr>
              <p:spPr>
                <a:xfrm>
                  <a:off x="6516360" y="4579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 txBox="1"/>
                <p:nvPr/>
              </p:nvSpPr>
              <p:spPr>
                <a:xfrm>
                  <a:off x="6516360" y="4579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" name="Group 184"/>
            <p:cNvGrpSpPr/>
            <p:nvPr/>
          </p:nvGrpSpPr>
          <p:grpSpPr>
            <a:xfrm>
              <a:off x="1692000" y="2995560"/>
              <a:ext cx="142920" cy="144720"/>
              <a:chOff x="1692000" y="2995560"/>
              <a:chExt cx="142920" cy="144720"/>
            </a:xfrm>
          </p:grpSpPr>
          <p:sp>
            <p:nvSpPr>
              <p:cNvPr id="425" name="Oval 185"/>
              <p:cNvSpPr/>
              <p:nvPr/>
            </p:nvSpPr>
            <p:spPr>
              <a:xfrm>
                <a:off x="1692000" y="299556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1692000" y="3067200"/>
                <a:ext cx="142920" cy="360"/>
                <a:chOff x="1692000" y="3067200"/>
                <a:chExt cx="142920" cy="360"/>
              </a:xfrm>
            </p:grpSpPr>
            <p:sp>
              <p:nvSpPr>
                <p:cNvPr id="427" name="Line 186"/>
                <p:cNvSpPr/>
                <p:nvPr/>
              </p:nvSpPr>
              <p:spPr>
                <a:xfrm>
                  <a:off x="1692000" y="30672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 txBox="1"/>
                <p:nvPr/>
              </p:nvSpPr>
              <p:spPr>
                <a:xfrm>
                  <a:off x="1692000" y="30672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9" name="Group 187"/>
            <p:cNvGrpSpPr/>
            <p:nvPr/>
          </p:nvGrpSpPr>
          <p:grpSpPr>
            <a:xfrm>
              <a:off x="828360" y="3068640"/>
              <a:ext cx="142920" cy="144360"/>
              <a:chOff x="828360" y="3068640"/>
              <a:chExt cx="142920" cy="144360"/>
            </a:xfrm>
          </p:grpSpPr>
          <p:sp>
            <p:nvSpPr>
              <p:cNvPr id="430" name="Oval 188"/>
              <p:cNvSpPr/>
              <p:nvPr/>
            </p:nvSpPr>
            <p:spPr>
              <a:xfrm>
                <a:off x="828360" y="306864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828360" y="3139920"/>
                <a:ext cx="142920" cy="360"/>
                <a:chOff x="828360" y="3139920"/>
                <a:chExt cx="142920" cy="360"/>
              </a:xfrm>
            </p:grpSpPr>
            <p:sp>
              <p:nvSpPr>
                <p:cNvPr id="432" name="Line 189"/>
                <p:cNvSpPr/>
                <p:nvPr/>
              </p:nvSpPr>
              <p:spPr>
                <a:xfrm>
                  <a:off x="828360" y="3139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 txBox="1"/>
                <p:nvPr/>
              </p:nvSpPr>
              <p:spPr>
                <a:xfrm>
                  <a:off x="828360" y="3139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4" name="Group 190"/>
            <p:cNvGrpSpPr/>
            <p:nvPr/>
          </p:nvGrpSpPr>
          <p:grpSpPr>
            <a:xfrm>
              <a:off x="1115640" y="4003560"/>
              <a:ext cx="142920" cy="144720"/>
              <a:chOff x="1115640" y="4003560"/>
              <a:chExt cx="142920" cy="144720"/>
            </a:xfrm>
          </p:grpSpPr>
          <p:sp>
            <p:nvSpPr>
              <p:cNvPr id="435" name="Oval 191"/>
              <p:cNvSpPr/>
              <p:nvPr/>
            </p:nvSpPr>
            <p:spPr>
              <a:xfrm>
                <a:off x="1115640" y="400356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1115640" y="4075200"/>
                <a:ext cx="142920" cy="360"/>
                <a:chOff x="1115640" y="4075200"/>
                <a:chExt cx="142920" cy="360"/>
              </a:xfrm>
            </p:grpSpPr>
            <p:sp>
              <p:nvSpPr>
                <p:cNvPr id="437" name="Line 192"/>
                <p:cNvSpPr/>
                <p:nvPr/>
              </p:nvSpPr>
              <p:spPr>
                <a:xfrm>
                  <a:off x="1115640" y="40752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 txBox="1"/>
                <p:nvPr/>
              </p:nvSpPr>
              <p:spPr>
                <a:xfrm>
                  <a:off x="1115640" y="40752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9" name="Group 193"/>
            <p:cNvGrpSpPr/>
            <p:nvPr/>
          </p:nvGrpSpPr>
          <p:grpSpPr>
            <a:xfrm>
              <a:off x="612720" y="4579920"/>
              <a:ext cx="142560" cy="144360"/>
              <a:chOff x="612720" y="4579920"/>
              <a:chExt cx="142560" cy="144360"/>
            </a:xfrm>
          </p:grpSpPr>
          <p:sp>
            <p:nvSpPr>
              <p:cNvPr id="440" name="Oval 194"/>
              <p:cNvSpPr/>
              <p:nvPr/>
            </p:nvSpPr>
            <p:spPr>
              <a:xfrm>
                <a:off x="612720" y="4579920"/>
                <a:ext cx="1425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612720" y="4651200"/>
                <a:ext cx="142560" cy="360"/>
                <a:chOff x="612720" y="4651200"/>
                <a:chExt cx="142560" cy="360"/>
              </a:xfrm>
            </p:grpSpPr>
            <p:sp>
              <p:nvSpPr>
                <p:cNvPr id="442" name="Line 195"/>
                <p:cNvSpPr/>
                <p:nvPr/>
              </p:nvSpPr>
              <p:spPr>
                <a:xfrm>
                  <a:off x="612720" y="46512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 txBox="1"/>
                <p:nvPr/>
              </p:nvSpPr>
              <p:spPr>
                <a:xfrm>
                  <a:off x="612720" y="465120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4" name="Group 196"/>
            <p:cNvGrpSpPr/>
            <p:nvPr/>
          </p:nvGrpSpPr>
          <p:grpSpPr>
            <a:xfrm>
              <a:off x="6229080" y="4579920"/>
              <a:ext cx="142920" cy="144360"/>
              <a:chOff x="6229080" y="4579920"/>
              <a:chExt cx="142920" cy="144360"/>
            </a:xfrm>
          </p:grpSpPr>
          <p:sp>
            <p:nvSpPr>
              <p:cNvPr id="445" name="Oval 197"/>
              <p:cNvSpPr/>
              <p:nvPr/>
            </p:nvSpPr>
            <p:spPr>
              <a:xfrm>
                <a:off x="6229080" y="457992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6229080" y="4651200"/>
                <a:ext cx="142920" cy="360"/>
                <a:chOff x="6229080" y="4651200"/>
                <a:chExt cx="142920" cy="360"/>
              </a:xfrm>
            </p:grpSpPr>
            <p:sp>
              <p:nvSpPr>
                <p:cNvPr id="447" name="Line 198"/>
                <p:cNvSpPr/>
                <p:nvPr/>
              </p:nvSpPr>
              <p:spPr>
                <a:xfrm>
                  <a:off x="6229080" y="46512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 txBox="1"/>
                <p:nvPr/>
              </p:nvSpPr>
              <p:spPr>
                <a:xfrm>
                  <a:off x="6229080" y="46512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9" name="Group 199"/>
            <p:cNvGrpSpPr/>
            <p:nvPr/>
          </p:nvGrpSpPr>
          <p:grpSpPr>
            <a:xfrm>
              <a:off x="5148000" y="4437000"/>
              <a:ext cx="142920" cy="144720"/>
              <a:chOff x="5148000" y="4437000"/>
              <a:chExt cx="142920" cy="144720"/>
            </a:xfrm>
          </p:grpSpPr>
          <p:sp>
            <p:nvSpPr>
              <p:cNvPr id="450" name="Oval 200"/>
              <p:cNvSpPr/>
              <p:nvPr/>
            </p:nvSpPr>
            <p:spPr>
              <a:xfrm>
                <a:off x="5148000" y="443700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5148000" y="4508640"/>
                <a:ext cx="142920" cy="360"/>
                <a:chOff x="5148000" y="4508640"/>
                <a:chExt cx="142920" cy="360"/>
              </a:xfrm>
            </p:grpSpPr>
            <p:sp>
              <p:nvSpPr>
                <p:cNvPr id="452" name="Line 201"/>
                <p:cNvSpPr/>
                <p:nvPr/>
              </p:nvSpPr>
              <p:spPr>
                <a:xfrm>
                  <a:off x="5148000" y="45086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 txBox="1"/>
                <p:nvPr/>
              </p:nvSpPr>
              <p:spPr>
                <a:xfrm>
                  <a:off x="5148000" y="450864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Group 202"/>
            <p:cNvGrpSpPr/>
            <p:nvPr/>
          </p:nvGrpSpPr>
          <p:grpSpPr>
            <a:xfrm>
              <a:off x="3420720" y="3284640"/>
              <a:ext cx="142920" cy="144360"/>
              <a:chOff x="3420720" y="3284640"/>
              <a:chExt cx="142920" cy="144360"/>
            </a:xfrm>
          </p:grpSpPr>
          <p:sp>
            <p:nvSpPr>
              <p:cNvPr id="455" name="Oval 203"/>
              <p:cNvSpPr/>
              <p:nvPr/>
            </p:nvSpPr>
            <p:spPr>
              <a:xfrm>
                <a:off x="3420720" y="328464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3420720" y="3355920"/>
                <a:ext cx="142920" cy="360"/>
                <a:chOff x="3420720" y="3355920"/>
                <a:chExt cx="142920" cy="360"/>
              </a:xfrm>
            </p:grpSpPr>
            <p:sp>
              <p:nvSpPr>
                <p:cNvPr id="457" name="Line 204"/>
                <p:cNvSpPr/>
                <p:nvPr/>
              </p:nvSpPr>
              <p:spPr>
                <a:xfrm>
                  <a:off x="3420720" y="3355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 txBox="1"/>
                <p:nvPr/>
              </p:nvSpPr>
              <p:spPr>
                <a:xfrm>
                  <a:off x="3420720" y="3355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205"/>
            <p:cNvGrpSpPr/>
            <p:nvPr/>
          </p:nvGrpSpPr>
          <p:grpSpPr>
            <a:xfrm>
              <a:off x="3132000" y="3140280"/>
              <a:ext cx="142920" cy="144360"/>
              <a:chOff x="3132000" y="3140280"/>
              <a:chExt cx="142920" cy="144360"/>
            </a:xfrm>
          </p:grpSpPr>
          <p:sp>
            <p:nvSpPr>
              <p:cNvPr id="460" name="Oval 206"/>
              <p:cNvSpPr/>
              <p:nvPr/>
            </p:nvSpPr>
            <p:spPr>
              <a:xfrm>
                <a:off x="3132000" y="314028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3132000" y="3211560"/>
                <a:ext cx="142920" cy="360"/>
                <a:chOff x="3132000" y="3211560"/>
                <a:chExt cx="142920" cy="360"/>
              </a:xfrm>
            </p:grpSpPr>
            <p:sp>
              <p:nvSpPr>
                <p:cNvPr id="462" name="Line 207"/>
                <p:cNvSpPr/>
                <p:nvPr/>
              </p:nvSpPr>
              <p:spPr>
                <a:xfrm>
                  <a:off x="3132000" y="3211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 txBox="1"/>
                <p:nvPr/>
              </p:nvSpPr>
              <p:spPr>
                <a:xfrm>
                  <a:off x="3132000" y="32115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4" name="Group 208"/>
            <p:cNvGrpSpPr/>
            <p:nvPr/>
          </p:nvGrpSpPr>
          <p:grpSpPr>
            <a:xfrm>
              <a:off x="4644720" y="4579920"/>
              <a:ext cx="142920" cy="144360"/>
              <a:chOff x="4644720" y="4579920"/>
              <a:chExt cx="142920" cy="144360"/>
            </a:xfrm>
          </p:grpSpPr>
          <p:sp>
            <p:nvSpPr>
              <p:cNvPr id="465" name="Oval 209"/>
              <p:cNvSpPr/>
              <p:nvPr/>
            </p:nvSpPr>
            <p:spPr>
              <a:xfrm>
                <a:off x="4644720" y="457992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4644720" y="4651200"/>
                <a:ext cx="142920" cy="360"/>
                <a:chOff x="4644720" y="4651200"/>
                <a:chExt cx="142920" cy="360"/>
              </a:xfrm>
            </p:grpSpPr>
            <p:sp>
              <p:nvSpPr>
                <p:cNvPr id="467" name="Line 210"/>
                <p:cNvSpPr/>
                <p:nvPr/>
              </p:nvSpPr>
              <p:spPr>
                <a:xfrm>
                  <a:off x="4644720" y="46512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 txBox="1"/>
                <p:nvPr/>
              </p:nvSpPr>
              <p:spPr>
                <a:xfrm>
                  <a:off x="4644720" y="46512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9" name="Group 211"/>
            <p:cNvGrpSpPr/>
            <p:nvPr/>
          </p:nvGrpSpPr>
          <p:grpSpPr>
            <a:xfrm>
              <a:off x="6229080" y="4003560"/>
              <a:ext cx="142920" cy="144720"/>
              <a:chOff x="6229080" y="4003560"/>
              <a:chExt cx="142920" cy="144720"/>
            </a:xfrm>
          </p:grpSpPr>
          <p:sp>
            <p:nvSpPr>
              <p:cNvPr id="470" name="Oval 212"/>
              <p:cNvSpPr/>
              <p:nvPr/>
            </p:nvSpPr>
            <p:spPr>
              <a:xfrm>
                <a:off x="6229080" y="400356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6229080" y="4075200"/>
                <a:ext cx="142920" cy="360"/>
                <a:chOff x="6229080" y="4075200"/>
                <a:chExt cx="142920" cy="360"/>
              </a:xfrm>
            </p:grpSpPr>
            <p:sp>
              <p:nvSpPr>
                <p:cNvPr id="472" name="Line 213"/>
                <p:cNvSpPr/>
                <p:nvPr/>
              </p:nvSpPr>
              <p:spPr>
                <a:xfrm>
                  <a:off x="6229080" y="40752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 txBox="1"/>
                <p:nvPr/>
              </p:nvSpPr>
              <p:spPr>
                <a:xfrm>
                  <a:off x="6229080" y="407520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4" name="Group 214"/>
            <p:cNvGrpSpPr/>
            <p:nvPr/>
          </p:nvGrpSpPr>
          <p:grpSpPr>
            <a:xfrm>
              <a:off x="6661080" y="3068640"/>
              <a:ext cx="142920" cy="144360"/>
              <a:chOff x="6661080" y="3068640"/>
              <a:chExt cx="142920" cy="144360"/>
            </a:xfrm>
          </p:grpSpPr>
          <p:sp>
            <p:nvSpPr>
              <p:cNvPr id="475" name="Oval 215"/>
              <p:cNvSpPr/>
              <p:nvPr/>
            </p:nvSpPr>
            <p:spPr>
              <a:xfrm>
                <a:off x="6661080" y="306864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6661080" y="3139920"/>
                <a:ext cx="142920" cy="360"/>
                <a:chOff x="6661080" y="3139920"/>
                <a:chExt cx="142920" cy="360"/>
              </a:xfrm>
            </p:grpSpPr>
            <p:sp>
              <p:nvSpPr>
                <p:cNvPr id="477" name="Line 216"/>
                <p:cNvSpPr/>
                <p:nvPr/>
              </p:nvSpPr>
              <p:spPr>
                <a:xfrm>
                  <a:off x="6661080" y="3139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 txBox="1"/>
                <p:nvPr/>
              </p:nvSpPr>
              <p:spPr>
                <a:xfrm>
                  <a:off x="6661080" y="313992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Group 217"/>
            <p:cNvGrpSpPr/>
            <p:nvPr/>
          </p:nvGrpSpPr>
          <p:grpSpPr>
            <a:xfrm>
              <a:off x="8461080" y="3861000"/>
              <a:ext cx="142920" cy="144360"/>
              <a:chOff x="8461080" y="3861000"/>
              <a:chExt cx="142920" cy="144360"/>
            </a:xfrm>
          </p:grpSpPr>
          <p:sp>
            <p:nvSpPr>
              <p:cNvPr id="480" name="Oval 218"/>
              <p:cNvSpPr/>
              <p:nvPr/>
            </p:nvSpPr>
            <p:spPr>
              <a:xfrm>
                <a:off x="8461080" y="3861000"/>
                <a:ext cx="1429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8461080" y="3932280"/>
                <a:ext cx="142920" cy="360"/>
                <a:chOff x="8461080" y="3932280"/>
                <a:chExt cx="142920" cy="360"/>
              </a:xfrm>
            </p:grpSpPr>
            <p:sp>
              <p:nvSpPr>
                <p:cNvPr id="482" name="Line 219"/>
                <p:cNvSpPr/>
                <p:nvPr/>
              </p:nvSpPr>
              <p:spPr>
                <a:xfrm>
                  <a:off x="8461080" y="39322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 txBox="1"/>
                <p:nvPr/>
              </p:nvSpPr>
              <p:spPr>
                <a:xfrm>
                  <a:off x="8461080" y="39322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4" name="Group 220"/>
            <p:cNvGrpSpPr/>
            <p:nvPr/>
          </p:nvGrpSpPr>
          <p:grpSpPr>
            <a:xfrm>
              <a:off x="7956360" y="4076640"/>
              <a:ext cx="142920" cy="144720"/>
              <a:chOff x="7956360" y="4076640"/>
              <a:chExt cx="142920" cy="144720"/>
            </a:xfrm>
          </p:grpSpPr>
          <p:sp>
            <p:nvSpPr>
              <p:cNvPr id="485" name="Oval 221"/>
              <p:cNvSpPr/>
              <p:nvPr/>
            </p:nvSpPr>
            <p:spPr>
              <a:xfrm>
                <a:off x="7956360" y="4076640"/>
                <a:ext cx="1429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"/>
              <p:cNvGrpSpPr/>
              <p:nvPr/>
            </p:nvGrpSpPr>
            <p:grpSpPr>
              <a:xfrm>
                <a:off x="7956360" y="4148280"/>
                <a:ext cx="142920" cy="360"/>
                <a:chOff x="7956360" y="4148280"/>
                <a:chExt cx="142920" cy="360"/>
              </a:xfrm>
            </p:grpSpPr>
            <p:sp>
              <p:nvSpPr>
                <p:cNvPr id="487" name="Line 222"/>
                <p:cNvSpPr/>
                <p:nvPr/>
              </p:nvSpPr>
              <p:spPr>
                <a:xfrm>
                  <a:off x="7956360" y="41482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 txBox="1"/>
                <p:nvPr/>
              </p:nvSpPr>
              <p:spPr>
                <a:xfrm>
                  <a:off x="7956360" y="414828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9" name="Text Box 224"/>
          <p:cNvSpPr/>
          <p:nvPr/>
        </p:nvSpPr>
        <p:spPr>
          <a:xfrm>
            <a:off x="2962440" y="12682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金属导线中电荷的组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4"/>
          <p:cNvSpPr/>
          <p:nvPr/>
        </p:nvSpPr>
        <p:spPr>
          <a:xfrm>
            <a:off x="179280" y="2852640"/>
            <a:ext cx="8713800" cy="2160720"/>
          </a:xfrm>
          <a:prstGeom prst="rect">
            <a:avLst/>
          </a:prstGeom>
          <a:solidFill>
            <a:srgbClr val="ee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7"/>
          <p:cNvGrpSpPr/>
          <p:nvPr/>
        </p:nvGrpSpPr>
        <p:grpSpPr>
          <a:xfrm>
            <a:off x="755640" y="3860640"/>
            <a:ext cx="142920" cy="144720"/>
            <a:chOff x="755640" y="3860640"/>
            <a:chExt cx="142920" cy="144720"/>
          </a:xfrm>
        </p:grpSpPr>
        <p:sp>
          <p:nvSpPr>
            <p:cNvPr id="492" name="Oval 5"/>
            <p:cNvSpPr/>
            <p:nvPr/>
          </p:nvSpPr>
          <p:spPr>
            <a:xfrm>
              <a:off x="755640" y="3860640"/>
              <a:ext cx="1429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755640" y="3932280"/>
              <a:ext cx="142920" cy="360"/>
              <a:chOff x="755640" y="3932280"/>
              <a:chExt cx="142920" cy="360"/>
            </a:xfrm>
          </p:grpSpPr>
          <p:sp>
            <p:nvSpPr>
              <p:cNvPr id="494" name="Line 6"/>
              <p:cNvSpPr/>
              <p:nvPr/>
            </p:nvSpPr>
            <p:spPr>
              <a:xfrm>
                <a:off x="755640" y="3932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>
                <a:off x="755640" y="3932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8"/>
          <p:cNvGrpSpPr/>
          <p:nvPr/>
        </p:nvGrpSpPr>
        <p:grpSpPr>
          <a:xfrm>
            <a:off x="1547640" y="4076640"/>
            <a:ext cx="142920" cy="144360"/>
            <a:chOff x="1547640" y="4076640"/>
            <a:chExt cx="142920" cy="144360"/>
          </a:xfrm>
        </p:grpSpPr>
        <p:sp>
          <p:nvSpPr>
            <p:cNvPr id="497" name="Oval 9"/>
            <p:cNvSpPr/>
            <p:nvPr/>
          </p:nvSpPr>
          <p:spPr>
            <a:xfrm>
              <a:off x="1547640" y="4076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1547640" y="4147920"/>
              <a:ext cx="142920" cy="360"/>
              <a:chOff x="1547640" y="4147920"/>
              <a:chExt cx="142920" cy="360"/>
            </a:xfrm>
          </p:grpSpPr>
          <p:sp>
            <p:nvSpPr>
              <p:cNvPr id="499" name="Line 10"/>
              <p:cNvSpPr/>
              <p:nvPr/>
            </p:nvSpPr>
            <p:spPr>
              <a:xfrm>
                <a:off x="1547640" y="4147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>
                <a:off x="1547640" y="4147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11"/>
          <p:cNvGrpSpPr/>
          <p:nvPr/>
        </p:nvGrpSpPr>
        <p:grpSpPr>
          <a:xfrm>
            <a:off x="1692360" y="3645000"/>
            <a:ext cx="142920" cy="144360"/>
            <a:chOff x="1692360" y="3645000"/>
            <a:chExt cx="142920" cy="144360"/>
          </a:xfrm>
        </p:grpSpPr>
        <p:sp>
          <p:nvSpPr>
            <p:cNvPr id="502" name="Oval 12"/>
            <p:cNvSpPr/>
            <p:nvPr/>
          </p:nvSpPr>
          <p:spPr>
            <a:xfrm>
              <a:off x="1692360" y="3645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692360" y="3716280"/>
              <a:ext cx="142920" cy="360"/>
              <a:chOff x="1692360" y="3716280"/>
              <a:chExt cx="142920" cy="360"/>
            </a:xfrm>
          </p:grpSpPr>
          <p:sp>
            <p:nvSpPr>
              <p:cNvPr id="504" name="Line 13"/>
              <p:cNvSpPr/>
              <p:nvPr/>
            </p:nvSpPr>
            <p:spPr>
              <a:xfrm>
                <a:off x="1692360" y="3716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 txBox="1"/>
              <p:nvPr/>
            </p:nvSpPr>
            <p:spPr>
              <a:xfrm>
                <a:off x="1692360" y="3716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Group 14"/>
          <p:cNvGrpSpPr/>
          <p:nvPr/>
        </p:nvGrpSpPr>
        <p:grpSpPr>
          <a:xfrm>
            <a:off x="1908000" y="3139920"/>
            <a:ext cx="142920" cy="144720"/>
            <a:chOff x="1908000" y="3139920"/>
            <a:chExt cx="142920" cy="144720"/>
          </a:xfrm>
        </p:grpSpPr>
        <p:sp>
          <p:nvSpPr>
            <p:cNvPr id="507" name="Oval 15"/>
            <p:cNvSpPr/>
            <p:nvPr/>
          </p:nvSpPr>
          <p:spPr>
            <a:xfrm>
              <a:off x="1908000" y="3139920"/>
              <a:ext cx="1429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908000" y="3211560"/>
              <a:ext cx="142920" cy="360"/>
              <a:chOff x="1908000" y="3211560"/>
              <a:chExt cx="142920" cy="360"/>
            </a:xfrm>
          </p:grpSpPr>
          <p:sp>
            <p:nvSpPr>
              <p:cNvPr id="509" name="Line 16"/>
              <p:cNvSpPr/>
              <p:nvPr/>
            </p:nvSpPr>
            <p:spPr>
              <a:xfrm>
                <a:off x="1908000" y="3211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 txBox="1"/>
              <p:nvPr/>
            </p:nvSpPr>
            <p:spPr>
              <a:xfrm>
                <a:off x="1908000" y="3211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1" name="Group 17"/>
          <p:cNvGrpSpPr/>
          <p:nvPr/>
        </p:nvGrpSpPr>
        <p:grpSpPr>
          <a:xfrm>
            <a:off x="2340000" y="4076640"/>
            <a:ext cx="142920" cy="144360"/>
            <a:chOff x="2340000" y="4076640"/>
            <a:chExt cx="142920" cy="144360"/>
          </a:xfrm>
        </p:grpSpPr>
        <p:sp>
          <p:nvSpPr>
            <p:cNvPr id="512" name="Oval 18"/>
            <p:cNvSpPr/>
            <p:nvPr/>
          </p:nvSpPr>
          <p:spPr>
            <a:xfrm>
              <a:off x="2340000" y="4076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2340000" y="4147920"/>
              <a:ext cx="142920" cy="360"/>
              <a:chOff x="2340000" y="4147920"/>
              <a:chExt cx="142920" cy="360"/>
            </a:xfrm>
          </p:grpSpPr>
          <p:sp>
            <p:nvSpPr>
              <p:cNvPr id="514" name="Line 19"/>
              <p:cNvSpPr/>
              <p:nvPr/>
            </p:nvSpPr>
            <p:spPr>
              <a:xfrm>
                <a:off x="2340000" y="4147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2340000" y="4147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Group 20"/>
          <p:cNvGrpSpPr/>
          <p:nvPr/>
        </p:nvGrpSpPr>
        <p:grpSpPr>
          <a:xfrm>
            <a:off x="6805440" y="3500280"/>
            <a:ext cx="142920" cy="144720"/>
            <a:chOff x="6805440" y="3500280"/>
            <a:chExt cx="142920" cy="144720"/>
          </a:xfrm>
        </p:grpSpPr>
        <p:sp>
          <p:nvSpPr>
            <p:cNvPr id="517" name="Oval 21"/>
            <p:cNvSpPr/>
            <p:nvPr/>
          </p:nvSpPr>
          <p:spPr>
            <a:xfrm>
              <a:off x="6805440" y="3500280"/>
              <a:ext cx="1429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6805440" y="3571920"/>
              <a:ext cx="142920" cy="360"/>
              <a:chOff x="6805440" y="3571920"/>
              <a:chExt cx="142920" cy="360"/>
            </a:xfrm>
          </p:grpSpPr>
          <p:sp>
            <p:nvSpPr>
              <p:cNvPr id="519" name="Line 22"/>
              <p:cNvSpPr/>
              <p:nvPr/>
            </p:nvSpPr>
            <p:spPr>
              <a:xfrm>
                <a:off x="6805440" y="3571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 txBox="1"/>
              <p:nvPr/>
            </p:nvSpPr>
            <p:spPr>
              <a:xfrm>
                <a:off x="6805440" y="3571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23"/>
          <p:cNvGrpSpPr/>
          <p:nvPr/>
        </p:nvGrpSpPr>
        <p:grpSpPr>
          <a:xfrm>
            <a:off x="4645080" y="3500280"/>
            <a:ext cx="142920" cy="144720"/>
            <a:chOff x="4645080" y="3500280"/>
            <a:chExt cx="142920" cy="144720"/>
          </a:xfrm>
        </p:grpSpPr>
        <p:sp>
          <p:nvSpPr>
            <p:cNvPr id="522" name="Oval 24"/>
            <p:cNvSpPr/>
            <p:nvPr/>
          </p:nvSpPr>
          <p:spPr>
            <a:xfrm>
              <a:off x="4645080" y="3500280"/>
              <a:ext cx="1429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645080" y="3571920"/>
              <a:ext cx="142920" cy="360"/>
              <a:chOff x="4645080" y="3571920"/>
              <a:chExt cx="142920" cy="360"/>
            </a:xfrm>
          </p:grpSpPr>
          <p:sp>
            <p:nvSpPr>
              <p:cNvPr id="524" name="Line 25"/>
              <p:cNvSpPr/>
              <p:nvPr/>
            </p:nvSpPr>
            <p:spPr>
              <a:xfrm>
                <a:off x="4645080" y="3571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>
                <a:off x="4645080" y="3571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Group 26"/>
          <p:cNvGrpSpPr/>
          <p:nvPr/>
        </p:nvGrpSpPr>
        <p:grpSpPr>
          <a:xfrm>
            <a:off x="900000" y="3355920"/>
            <a:ext cx="142920" cy="144360"/>
            <a:chOff x="900000" y="3355920"/>
            <a:chExt cx="142920" cy="144360"/>
          </a:xfrm>
        </p:grpSpPr>
        <p:sp>
          <p:nvSpPr>
            <p:cNvPr id="527" name="Oval 27"/>
            <p:cNvSpPr/>
            <p:nvPr/>
          </p:nvSpPr>
          <p:spPr>
            <a:xfrm>
              <a:off x="900000" y="335592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900000" y="3427200"/>
              <a:ext cx="142920" cy="360"/>
              <a:chOff x="900000" y="3427200"/>
              <a:chExt cx="142920" cy="360"/>
            </a:xfrm>
          </p:grpSpPr>
          <p:sp>
            <p:nvSpPr>
              <p:cNvPr id="529" name="Line 28"/>
              <p:cNvSpPr/>
              <p:nvPr/>
            </p:nvSpPr>
            <p:spPr>
              <a:xfrm>
                <a:off x="900000" y="34272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900000" y="34272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Group 29"/>
          <p:cNvGrpSpPr/>
          <p:nvPr/>
        </p:nvGrpSpPr>
        <p:grpSpPr>
          <a:xfrm>
            <a:off x="2844720" y="3429000"/>
            <a:ext cx="142920" cy="144360"/>
            <a:chOff x="2844720" y="3429000"/>
            <a:chExt cx="142920" cy="144360"/>
          </a:xfrm>
        </p:grpSpPr>
        <p:sp>
          <p:nvSpPr>
            <p:cNvPr id="532" name="Oval 30"/>
            <p:cNvSpPr/>
            <p:nvPr/>
          </p:nvSpPr>
          <p:spPr>
            <a:xfrm>
              <a:off x="2844720" y="3429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2844720" y="3500280"/>
              <a:ext cx="142920" cy="360"/>
              <a:chOff x="2844720" y="3500280"/>
              <a:chExt cx="142920" cy="360"/>
            </a:xfrm>
          </p:grpSpPr>
          <p:sp>
            <p:nvSpPr>
              <p:cNvPr id="534" name="Line 31"/>
              <p:cNvSpPr/>
              <p:nvPr/>
            </p:nvSpPr>
            <p:spPr>
              <a:xfrm>
                <a:off x="2844720" y="3500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 txBox="1"/>
              <p:nvPr/>
            </p:nvSpPr>
            <p:spPr>
              <a:xfrm>
                <a:off x="2844720" y="3500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6" name="Group 32"/>
          <p:cNvGrpSpPr/>
          <p:nvPr/>
        </p:nvGrpSpPr>
        <p:grpSpPr>
          <a:xfrm>
            <a:off x="3421080" y="3860640"/>
            <a:ext cx="142920" cy="144720"/>
            <a:chOff x="3421080" y="3860640"/>
            <a:chExt cx="142920" cy="144720"/>
          </a:xfrm>
        </p:grpSpPr>
        <p:sp>
          <p:nvSpPr>
            <p:cNvPr id="537" name="Oval 33"/>
            <p:cNvSpPr/>
            <p:nvPr/>
          </p:nvSpPr>
          <p:spPr>
            <a:xfrm>
              <a:off x="3421080" y="3860640"/>
              <a:ext cx="1429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3421080" y="3932280"/>
              <a:ext cx="142920" cy="360"/>
              <a:chOff x="3421080" y="3932280"/>
              <a:chExt cx="142920" cy="360"/>
            </a:xfrm>
          </p:grpSpPr>
          <p:sp>
            <p:nvSpPr>
              <p:cNvPr id="539" name="Line 34"/>
              <p:cNvSpPr/>
              <p:nvPr/>
            </p:nvSpPr>
            <p:spPr>
              <a:xfrm>
                <a:off x="3421080" y="3932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>
                <a:off x="3421080" y="3932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1" name="Group 35"/>
          <p:cNvGrpSpPr/>
          <p:nvPr/>
        </p:nvGrpSpPr>
        <p:grpSpPr>
          <a:xfrm>
            <a:off x="4500720" y="4148280"/>
            <a:ext cx="142560" cy="144360"/>
            <a:chOff x="4500720" y="4148280"/>
            <a:chExt cx="142560" cy="144360"/>
          </a:xfrm>
        </p:grpSpPr>
        <p:sp>
          <p:nvSpPr>
            <p:cNvPr id="542" name="Oval 36"/>
            <p:cNvSpPr/>
            <p:nvPr/>
          </p:nvSpPr>
          <p:spPr>
            <a:xfrm>
              <a:off x="4500720" y="4148280"/>
              <a:ext cx="1425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4500720" y="4219560"/>
              <a:ext cx="142560" cy="360"/>
              <a:chOff x="4500720" y="4219560"/>
              <a:chExt cx="142560" cy="360"/>
            </a:xfrm>
          </p:grpSpPr>
          <p:sp>
            <p:nvSpPr>
              <p:cNvPr id="544" name="Line 37"/>
              <p:cNvSpPr/>
              <p:nvPr/>
            </p:nvSpPr>
            <p:spPr>
              <a:xfrm>
                <a:off x="4500720" y="421956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4500720" y="4219560"/>
                <a:ext cx="14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6" name="Group 38"/>
          <p:cNvGrpSpPr/>
          <p:nvPr/>
        </p:nvGrpSpPr>
        <p:grpSpPr>
          <a:xfrm>
            <a:off x="5653080" y="3429000"/>
            <a:ext cx="142920" cy="144360"/>
            <a:chOff x="5653080" y="3429000"/>
            <a:chExt cx="142920" cy="144360"/>
          </a:xfrm>
        </p:grpSpPr>
        <p:sp>
          <p:nvSpPr>
            <p:cNvPr id="547" name="Oval 39"/>
            <p:cNvSpPr/>
            <p:nvPr/>
          </p:nvSpPr>
          <p:spPr>
            <a:xfrm>
              <a:off x="5653080" y="3429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53080" y="3500280"/>
              <a:ext cx="142920" cy="360"/>
              <a:chOff x="5653080" y="3500280"/>
              <a:chExt cx="142920" cy="360"/>
            </a:xfrm>
          </p:grpSpPr>
          <p:sp>
            <p:nvSpPr>
              <p:cNvPr id="549" name="Line 40"/>
              <p:cNvSpPr/>
              <p:nvPr/>
            </p:nvSpPr>
            <p:spPr>
              <a:xfrm>
                <a:off x="5653080" y="3500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 txBox="1"/>
              <p:nvPr/>
            </p:nvSpPr>
            <p:spPr>
              <a:xfrm>
                <a:off x="5653080" y="3500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41"/>
          <p:cNvGrpSpPr/>
          <p:nvPr/>
        </p:nvGrpSpPr>
        <p:grpSpPr>
          <a:xfrm>
            <a:off x="3852720" y="3284640"/>
            <a:ext cx="142920" cy="144360"/>
            <a:chOff x="3852720" y="3284640"/>
            <a:chExt cx="142920" cy="144360"/>
          </a:xfrm>
        </p:grpSpPr>
        <p:sp>
          <p:nvSpPr>
            <p:cNvPr id="552" name="Oval 42"/>
            <p:cNvSpPr/>
            <p:nvPr/>
          </p:nvSpPr>
          <p:spPr>
            <a:xfrm>
              <a:off x="3852720" y="3284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3852720" y="3355920"/>
              <a:ext cx="142920" cy="360"/>
              <a:chOff x="3852720" y="3355920"/>
              <a:chExt cx="142920" cy="360"/>
            </a:xfrm>
          </p:grpSpPr>
          <p:sp>
            <p:nvSpPr>
              <p:cNvPr id="554" name="Line 43"/>
              <p:cNvSpPr/>
              <p:nvPr/>
            </p:nvSpPr>
            <p:spPr>
              <a:xfrm>
                <a:off x="3852720" y="3355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 txBox="1"/>
              <p:nvPr/>
            </p:nvSpPr>
            <p:spPr>
              <a:xfrm>
                <a:off x="3852720" y="3355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6" name="Group 44"/>
          <p:cNvGrpSpPr/>
          <p:nvPr/>
        </p:nvGrpSpPr>
        <p:grpSpPr>
          <a:xfrm>
            <a:off x="3060720" y="4148280"/>
            <a:ext cx="142920" cy="144360"/>
            <a:chOff x="3060720" y="4148280"/>
            <a:chExt cx="142920" cy="144360"/>
          </a:xfrm>
        </p:grpSpPr>
        <p:sp>
          <p:nvSpPr>
            <p:cNvPr id="557" name="Oval 45"/>
            <p:cNvSpPr/>
            <p:nvPr/>
          </p:nvSpPr>
          <p:spPr>
            <a:xfrm>
              <a:off x="3060720" y="41482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3060720" y="4219560"/>
              <a:ext cx="142920" cy="360"/>
              <a:chOff x="3060720" y="4219560"/>
              <a:chExt cx="142920" cy="360"/>
            </a:xfrm>
          </p:grpSpPr>
          <p:sp>
            <p:nvSpPr>
              <p:cNvPr id="559" name="Line 46"/>
              <p:cNvSpPr/>
              <p:nvPr/>
            </p:nvSpPr>
            <p:spPr>
              <a:xfrm>
                <a:off x="3060720" y="4219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>
                <a:off x="3060720" y="4219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1" name="Group 47"/>
          <p:cNvGrpSpPr/>
          <p:nvPr/>
        </p:nvGrpSpPr>
        <p:grpSpPr>
          <a:xfrm>
            <a:off x="7380360" y="4005360"/>
            <a:ext cx="142920" cy="144360"/>
            <a:chOff x="7380360" y="4005360"/>
            <a:chExt cx="142920" cy="144360"/>
          </a:xfrm>
        </p:grpSpPr>
        <p:sp>
          <p:nvSpPr>
            <p:cNvPr id="562" name="Oval 48"/>
            <p:cNvSpPr/>
            <p:nvPr/>
          </p:nvSpPr>
          <p:spPr>
            <a:xfrm>
              <a:off x="7380360" y="400536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380360" y="4076640"/>
              <a:ext cx="142920" cy="360"/>
              <a:chOff x="7380360" y="4076640"/>
              <a:chExt cx="142920" cy="360"/>
            </a:xfrm>
          </p:grpSpPr>
          <p:sp>
            <p:nvSpPr>
              <p:cNvPr id="564" name="Line 49"/>
              <p:cNvSpPr/>
              <p:nvPr/>
            </p:nvSpPr>
            <p:spPr>
              <a:xfrm>
                <a:off x="7380360" y="4076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 txBox="1"/>
              <p:nvPr/>
            </p:nvSpPr>
            <p:spPr>
              <a:xfrm>
                <a:off x="7380360" y="4076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6" name="Group 50"/>
          <p:cNvGrpSpPr/>
          <p:nvPr/>
        </p:nvGrpSpPr>
        <p:grpSpPr>
          <a:xfrm>
            <a:off x="7164360" y="3284640"/>
            <a:ext cx="142920" cy="144360"/>
            <a:chOff x="7164360" y="3284640"/>
            <a:chExt cx="142920" cy="144360"/>
          </a:xfrm>
        </p:grpSpPr>
        <p:sp>
          <p:nvSpPr>
            <p:cNvPr id="567" name="Oval 51"/>
            <p:cNvSpPr/>
            <p:nvPr/>
          </p:nvSpPr>
          <p:spPr>
            <a:xfrm>
              <a:off x="7164360" y="3284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7164360" y="3355920"/>
              <a:ext cx="142920" cy="360"/>
              <a:chOff x="7164360" y="3355920"/>
              <a:chExt cx="142920" cy="360"/>
            </a:xfrm>
          </p:grpSpPr>
          <p:sp>
            <p:nvSpPr>
              <p:cNvPr id="569" name="Line 52"/>
              <p:cNvSpPr/>
              <p:nvPr/>
            </p:nvSpPr>
            <p:spPr>
              <a:xfrm>
                <a:off x="7164360" y="3355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7164360" y="3355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53"/>
          <p:cNvGrpSpPr/>
          <p:nvPr/>
        </p:nvGrpSpPr>
        <p:grpSpPr>
          <a:xfrm>
            <a:off x="4140360" y="3716280"/>
            <a:ext cx="142560" cy="144360"/>
            <a:chOff x="4140360" y="3716280"/>
            <a:chExt cx="142560" cy="144360"/>
          </a:xfrm>
        </p:grpSpPr>
        <p:sp>
          <p:nvSpPr>
            <p:cNvPr id="572" name="Oval 54"/>
            <p:cNvSpPr/>
            <p:nvPr/>
          </p:nvSpPr>
          <p:spPr>
            <a:xfrm>
              <a:off x="4140360" y="3716280"/>
              <a:ext cx="1425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4140360" y="3787560"/>
              <a:ext cx="142560" cy="360"/>
              <a:chOff x="4140360" y="3787560"/>
              <a:chExt cx="142560" cy="360"/>
            </a:xfrm>
          </p:grpSpPr>
          <p:sp>
            <p:nvSpPr>
              <p:cNvPr id="574" name="Line 55"/>
              <p:cNvSpPr/>
              <p:nvPr/>
            </p:nvSpPr>
            <p:spPr>
              <a:xfrm>
                <a:off x="4140360" y="378756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4140360" y="3787560"/>
                <a:ext cx="14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Group 56"/>
          <p:cNvGrpSpPr/>
          <p:nvPr/>
        </p:nvGrpSpPr>
        <p:grpSpPr>
          <a:xfrm>
            <a:off x="5148360" y="3789360"/>
            <a:ext cx="142920" cy="144360"/>
            <a:chOff x="5148360" y="3789360"/>
            <a:chExt cx="142920" cy="144360"/>
          </a:xfrm>
        </p:grpSpPr>
        <p:sp>
          <p:nvSpPr>
            <p:cNvPr id="577" name="Oval 57"/>
            <p:cNvSpPr/>
            <p:nvPr/>
          </p:nvSpPr>
          <p:spPr>
            <a:xfrm>
              <a:off x="5148360" y="378936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5148360" y="3860640"/>
              <a:ext cx="142920" cy="360"/>
              <a:chOff x="5148360" y="3860640"/>
              <a:chExt cx="142920" cy="360"/>
            </a:xfrm>
          </p:grpSpPr>
          <p:sp>
            <p:nvSpPr>
              <p:cNvPr id="579" name="Line 58"/>
              <p:cNvSpPr/>
              <p:nvPr/>
            </p:nvSpPr>
            <p:spPr>
              <a:xfrm>
                <a:off x="5148360" y="3860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 txBox="1"/>
              <p:nvPr/>
            </p:nvSpPr>
            <p:spPr>
              <a:xfrm>
                <a:off x="5148360" y="3860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Group 59"/>
          <p:cNvGrpSpPr/>
          <p:nvPr/>
        </p:nvGrpSpPr>
        <p:grpSpPr>
          <a:xfrm>
            <a:off x="5724360" y="4076640"/>
            <a:ext cx="142920" cy="144360"/>
            <a:chOff x="5724360" y="4076640"/>
            <a:chExt cx="142920" cy="144360"/>
          </a:xfrm>
        </p:grpSpPr>
        <p:sp>
          <p:nvSpPr>
            <p:cNvPr id="582" name="Oval 60"/>
            <p:cNvSpPr/>
            <p:nvPr/>
          </p:nvSpPr>
          <p:spPr>
            <a:xfrm>
              <a:off x="5724360" y="4076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724360" y="4147920"/>
              <a:ext cx="142920" cy="360"/>
              <a:chOff x="5724360" y="4147920"/>
              <a:chExt cx="142920" cy="360"/>
            </a:xfrm>
          </p:grpSpPr>
          <p:sp>
            <p:nvSpPr>
              <p:cNvPr id="584" name="Line 61"/>
              <p:cNvSpPr/>
              <p:nvPr/>
            </p:nvSpPr>
            <p:spPr>
              <a:xfrm>
                <a:off x="5724360" y="4147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 txBox="1"/>
              <p:nvPr/>
            </p:nvSpPr>
            <p:spPr>
              <a:xfrm>
                <a:off x="5724360" y="4147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6" name="Group 62"/>
          <p:cNvGrpSpPr/>
          <p:nvPr/>
        </p:nvGrpSpPr>
        <p:grpSpPr>
          <a:xfrm>
            <a:off x="7813800" y="3429000"/>
            <a:ext cx="142920" cy="144360"/>
            <a:chOff x="7813800" y="3429000"/>
            <a:chExt cx="142920" cy="144360"/>
          </a:xfrm>
        </p:grpSpPr>
        <p:sp>
          <p:nvSpPr>
            <p:cNvPr id="587" name="Oval 63"/>
            <p:cNvSpPr/>
            <p:nvPr/>
          </p:nvSpPr>
          <p:spPr>
            <a:xfrm>
              <a:off x="7813800" y="3429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7813800" y="3500280"/>
              <a:ext cx="142920" cy="360"/>
              <a:chOff x="7813800" y="3500280"/>
              <a:chExt cx="142920" cy="360"/>
            </a:xfrm>
          </p:grpSpPr>
          <p:sp>
            <p:nvSpPr>
              <p:cNvPr id="589" name="Line 64"/>
              <p:cNvSpPr/>
              <p:nvPr/>
            </p:nvSpPr>
            <p:spPr>
              <a:xfrm>
                <a:off x="7813800" y="3500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 txBox="1"/>
              <p:nvPr/>
            </p:nvSpPr>
            <p:spPr>
              <a:xfrm>
                <a:off x="7813800" y="3500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65"/>
          <p:cNvGrpSpPr/>
          <p:nvPr/>
        </p:nvGrpSpPr>
        <p:grpSpPr>
          <a:xfrm>
            <a:off x="6300720" y="3716280"/>
            <a:ext cx="142920" cy="144360"/>
            <a:chOff x="6300720" y="3716280"/>
            <a:chExt cx="142920" cy="144360"/>
          </a:xfrm>
        </p:grpSpPr>
        <p:sp>
          <p:nvSpPr>
            <p:cNvPr id="592" name="Oval 66"/>
            <p:cNvSpPr/>
            <p:nvPr/>
          </p:nvSpPr>
          <p:spPr>
            <a:xfrm>
              <a:off x="6300720" y="37162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6300720" y="3787560"/>
              <a:ext cx="142920" cy="360"/>
              <a:chOff x="6300720" y="3787560"/>
              <a:chExt cx="142920" cy="360"/>
            </a:xfrm>
          </p:grpSpPr>
          <p:sp>
            <p:nvSpPr>
              <p:cNvPr id="594" name="Line 67"/>
              <p:cNvSpPr/>
              <p:nvPr/>
            </p:nvSpPr>
            <p:spPr>
              <a:xfrm>
                <a:off x="6300720" y="3787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 txBox="1"/>
              <p:nvPr/>
            </p:nvSpPr>
            <p:spPr>
              <a:xfrm>
                <a:off x="6300720" y="3787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6" name="Group 80"/>
          <p:cNvGrpSpPr/>
          <p:nvPr/>
        </p:nvGrpSpPr>
        <p:grpSpPr>
          <a:xfrm>
            <a:off x="1116000" y="3500280"/>
            <a:ext cx="287280" cy="287640"/>
            <a:chOff x="1116000" y="3500280"/>
            <a:chExt cx="287280" cy="287640"/>
          </a:xfrm>
        </p:grpSpPr>
        <p:sp>
          <p:nvSpPr>
            <p:cNvPr id="597" name="Oval 77"/>
            <p:cNvSpPr/>
            <p:nvPr/>
          </p:nvSpPr>
          <p:spPr>
            <a:xfrm>
              <a:off x="1116000" y="3500280"/>
              <a:ext cx="287280" cy="28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1116000" y="3643920"/>
              <a:ext cx="287280" cy="360"/>
              <a:chOff x="1116000" y="3643920"/>
              <a:chExt cx="287280" cy="360"/>
            </a:xfrm>
          </p:grpSpPr>
          <p:sp>
            <p:nvSpPr>
              <p:cNvPr id="599" name="Line 78"/>
              <p:cNvSpPr/>
              <p:nvPr/>
            </p:nvSpPr>
            <p:spPr>
              <a:xfrm>
                <a:off x="1116000" y="3643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1116000" y="364392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1259640" y="3500280"/>
              <a:ext cx="360" cy="287640"/>
              <a:chOff x="1259640" y="3500280"/>
              <a:chExt cx="360" cy="287640"/>
            </a:xfrm>
          </p:grpSpPr>
          <p:sp>
            <p:nvSpPr>
              <p:cNvPr id="602" name="Line 79"/>
              <p:cNvSpPr/>
              <p:nvPr/>
            </p:nvSpPr>
            <p:spPr>
              <a:xfrm>
                <a:off x="1259640" y="3500280"/>
                <a:ext cx="0" cy="2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1259640" y="3500280"/>
                <a:ext cx="360" cy="28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81"/>
          <p:cNvGrpSpPr/>
          <p:nvPr/>
        </p:nvGrpSpPr>
        <p:grpSpPr>
          <a:xfrm>
            <a:off x="2052720" y="3355920"/>
            <a:ext cx="287280" cy="287280"/>
            <a:chOff x="2052720" y="3355920"/>
            <a:chExt cx="287280" cy="287280"/>
          </a:xfrm>
        </p:grpSpPr>
        <p:sp>
          <p:nvSpPr>
            <p:cNvPr id="605" name="Oval 82"/>
            <p:cNvSpPr/>
            <p:nvPr/>
          </p:nvSpPr>
          <p:spPr>
            <a:xfrm>
              <a:off x="2052720" y="335592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052720" y="3499560"/>
              <a:ext cx="287280" cy="360"/>
              <a:chOff x="2052720" y="3499560"/>
              <a:chExt cx="287280" cy="360"/>
            </a:xfrm>
          </p:grpSpPr>
          <p:sp>
            <p:nvSpPr>
              <p:cNvPr id="607" name="Line 83"/>
              <p:cNvSpPr/>
              <p:nvPr/>
            </p:nvSpPr>
            <p:spPr>
              <a:xfrm>
                <a:off x="2052720" y="349956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2052720" y="349956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2196360" y="3355920"/>
              <a:ext cx="360" cy="287280"/>
              <a:chOff x="2196360" y="3355920"/>
              <a:chExt cx="360" cy="287280"/>
            </a:xfrm>
          </p:grpSpPr>
          <p:sp>
            <p:nvSpPr>
              <p:cNvPr id="610" name="Line 84"/>
              <p:cNvSpPr/>
              <p:nvPr/>
            </p:nvSpPr>
            <p:spPr>
              <a:xfrm>
                <a:off x="2196360" y="33559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2196360" y="335592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85"/>
          <p:cNvGrpSpPr/>
          <p:nvPr/>
        </p:nvGrpSpPr>
        <p:grpSpPr>
          <a:xfrm>
            <a:off x="2629080" y="3789360"/>
            <a:ext cx="287280" cy="287280"/>
            <a:chOff x="2629080" y="3789360"/>
            <a:chExt cx="287280" cy="287280"/>
          </a:xfrm>
        </p:grpSpPr>
        <p:sp>
          <p:nvSpPr>
            <p:cNvPr id="613" name="Oval 86"/>
            <p:cNvSpPr/>
            <p:nvPr/>
          </p:nvSpPr>
          <p:spPr>
            <a:xfrm>
              <a:off x="2629080" y="378936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629080" y="3933000"/>
              <a:ext cx="287280" cy="360"/>
              <a:chOff x="2629080" y="3933000"/>
              <a:chExt cx="287280" cy="360"/>
            </a:xfrm>
          </p:grpSpPr>
          <p:sp>
            <p:nvSpPr>
              <p:cNvPr id="615" name="Line 87"/>
              <p:cNvSpPr/>
              <p:nvPr/>
            </p:nvSpPr>
            <p:spPr>
              <a:xfrm>
                <a:off x="2629080" y="393300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 txBox="1"/>
              <p:nvPr/>
            </p:nvSpPr>
            <p:spPr>
              <a:xfrm>
                <a:off x="2629080" y="393300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772720" y="3789360"/>
              <a:ext cx="360" cy="287280"/>
              <a:chOff x="2772720" y="3789360"/>
              <a:chExt cx="360" cy="287280"/>
            </a:xfrm>
          </p:grpSpPr>
          <p:sp>
            <p:nvSpPr>
              <p:cNvPr id="618" name="Line 88"/>
              <p:cNvSpPr/>
              <p:nvPr/>
            </p:nvSpPr>
            <p:spPr>
              <a:xfrm>
                <a:off x="2772720" y="378936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 txBox="1"/>
              <p:nvPr/>
            </p:nvSpPr>
            <p:spPr>
              <a:xfrm>
                <a:off x="2772720" y="378936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" name="Group 89"/>
          <p:cNvGrpSpPr/>
          <p:nvPr/>
        </p:nvGrpSpPr>
        <p:grpSpPr>
          <a:xfrm>
            <a:off x="3637080" y="4148280"/>
            <a:ext cx="287280" cy="287280"/>
            <a:chOff x="3637080" y="4148280"/>
            <a:chExt cx="287280" cy="287280"/>
          </a:xfrm>
        </p:grpSpPr>
        <p:sp>
          <p:nvSpPr>
            <p:cNvPr id="621" name="Oval 90"/>
            <p:cNvSpPr/>
            <p:nvPr/>
          </p:nvSpPr>
          <p:spPr>
            <a:xfrm>
              <a:off x="3637080" y="414828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637080" y="4291920"/>
              <a:ext cx="287280" cy="360"/>
              <a:chOff x="3637080" y="4291920"/>
              <a:chExt cx="287280" cy="360"/>
            </a:xfrm>
          </p:grpSpPr>
          <p:sp>
            <p:nvSpPr>
              <p:cNvPr id="623" name="Line 91"/>
              <p:cNvSpPr/>
              <p:nvPr/>
            </p:nvSpPr>
            <p:spPr>
              <a:xfrm>
                <a:off x="3637080" y="4291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637080" y="429192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780720" y="4148280"/>
              <a:ext cx="360" cy="287280"/>
              <a:chOff x="3780720" y="4148280"/>
              <a:chExt cx="360" cy="287280"/>
            </a:xfrm>
          </p:grpSpPr>
          <p:sp>
            <p:nvSpPr>
              <p:cNvPr id="626" name="Line 92"/>
              <p:cNvSpPr/>
              <p:nvPr/>
            </p:nvSpPr>
            <p:spPr>
              <a:xfrm>
                <a:off x="3780720" y="414828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3780720" y="414828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8" name="Group 93"/>
          <p:cNvGrpSpPr/>
          <p:nvPr/>
        </p:nvGrpSpPr>
        <p:grpSpPr>
          <a:xfrm>
            <a:off x="4213080" y="3284640"/>
            <a:ext cx="287640" cy="287280"/>
            <a:chOff x="4213080" y="3284640"/>
            <a:chExt cx="287640" cy="287280"/>
          </a:xfrm>
        </p:grpSpPr>
        <p:sp>
          <p:nvSpPr>
            <p:cNvPr id="629" name="Oval 94"/>
            <p:cNvSpPr/>
            <p:nvPr/>
          </p:nvSpPr>
          <p:spPr>
            <a:xfrm>
              <a:off x="4213080" y="3284640"/>
              <a:ext cx="28764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4213080" y="3428280"/>
              <a:ext cx="287640" cy="360"/>
              <a:chOff x="4213080" y="3428280"/>
              <a:chExt cx="287640" cy="360"/>
            </a:xfrm>
          </p:grpSpPr>
          <p:sp>
            <p:nvSpPr>
              <p:cNvPr id="631" name="Line 95"/>
              <p:cNvSpPr/>
              <p:nvPr/>
            </p:nvSpPr>
            <p:spPr>
              <a:xfrm>
                <a:off x="4213080" y="3428280"/>
                <a:ext cx="28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 txBox="1"/>
              <p:nvPr/>
            </p:nvSpPr>
            <p:spPr>
              <a:xfrm>
                <a:off x="4213080" y="3428280"/>
                <a:ext cx="28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356720" y="3284640"/>
              <a:ext cx="360" cy="287280"/>
              <a:chOff x="4356720" y="3284640"/>
              <a:chExt cx="360" cy="287280"/>
            </a:xfrm>
          </p:grpSpPr>
          <p:sp>
            <p:nvSpPr>
              <p:cNvPr id="634" name="Line 96"/>
              <p:cNvSpPr/>
              <p:nvPr/>
            </p:nvSpPr>
            <p:spPr>
              <a:xfrm>
                <a:off x="4356720" y="328464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 txBox="1"/>
              <p:nvPr/>
            </p:nvSpPr>
            <p:spPr>
              <a:xfrm>
                <a:off x="4356720" y="32846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6" name="Group 97"/>
          <p:cNvGrpSpPr/>
          <p:nvPr/>
        </p:nvGrpSpPr>
        <p:grpSpPr>
          <a:xfrm>
            <a:off x="4788000" y="3932280"/>
            <a:ext cx="287280" cy="287280"/>
            <a:chOff x="4788000" y="3932280"/>
            <a:chExt cx="287280" cy="287280"/>
          </a:xfrm>
        </p:grpSpPr>
        <p:sp>
          <p:nvSpPr>
            <p:cNvPr id="637" name="Oval 98"/>
            <p:cNvSpPr/>
            <p:nvPr/>
          </p:nvSpPr>
          <p:spPr>
            <a:xfrm>
              <a:off x="4788000" y="393228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4788000" y="4075920"/>
              <a:ext cx="287280" cy="360"/>
              <a:chOff x="4788000" y="4075920"/>
              <a:chExt cx="287280" cy="360"/>
            </a:xfrm>
          </p:grpSpPr>
          <p:sp>
            <p:nvSpPr>
              <p:cNvPr id="639" name="Line 99"/>
              <p:cNvSpPr/>
              <p:nvPr/>
            </p:nvSpPr>
            <p:spPr>
              <a:xfrm>
                <a:off x="4788000" y="4075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4788000" y="407592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4931640" y="3932280"/>
              <a:ext cx="360" cy="287280"/>
              <a:chOff x="4931640" y="3932280"/>
              <a:chExt cx="360" cy="287280"/>
            </a:xfrm>
          </p:grpSpPr>
          <p:sp>
            <p:nvSpPr>
              <p:cNvPr id="642" name="Line 100"/>
              <p:cNvSpPr/>
              <p:nvPr/>
            </p:nvSpPr>
            <p:spPr>
              <a:xfrm>
                <a:off x="4931640" y="393228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4931640" y="393228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01"/>
          <p:cNvGrpSpPr/>
          <p:nvPr/>
        </p:nvGrpSpPr>
        <p:grpSpPr>
          <a:xfrm>
            <a:off x="5869080" y="3355920"/>
            <a:ext cx="287280" cy="287280"/>
            <a:chOff x="5869080" y="3355920"/>
            <a:chExt cx="287280" cy="287280"/>
          </a:xfrm>
        </p:grpSpPr>
        <p:sp>
          <p:nvSpPr>
            <p:cNvPr id="645" name="Oval 102"/>
            <p:cNvSpPr/>
            <p:nvPr/>
          </p:nvSpPr>
          <p:spPr>
            <a:xfrm>
              <a:off x="5869080" y="335592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5869080" y="3499560"/>
              <a:ext cx="287280" cy="360"/>
              <a:chOff x="5869080" y="3499560"/>
              <a:chExt cx="287280" cy="360"/>
            </a:xfrm>
          </p:grpSpPr>
          <p:sp>
            <p:nvSpPr>
              <p:cNvPr id="647" name="Line 103"/>
              <p:cNvSpPr/>
              <p:nvPr/>
            </p:nvSpPr>
            <p:spPr>
              <a:xfrm>
                <a:off x="5869080" y="349956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5869080" y="349956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6012720" y="3355920"/>
              <a:ext cx="360" cy="287280"/>
              <a:chOff x="6012720" y="3355920"/>
              <a:chExt cx="360" cy="287280"/>
            </a:xfrm>
          </p:grpSpPr>
          <p:sp>
            <p:nvSpPr>
              <p:cNvPr id="650" name="Line 104"/>
              <p:cNvSpPr/>
              <p:nvPr/>
            </p:nvSpPr>
            <p:spPr>
              <a:xfrm>
                <a:off x="6012720" y="33559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>
                <a:off x="6012720" y="335592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105"/>
          <p:cNvGrpSpPr/>
          <p:nvPr/>
        </p:nvGrpSpPr>
        <p:grpSpPr>
          <a:xfrm>
            <a:off x="6516720" y="4005360"/>
            <a:ext cx="287280" cy="287280"/>
            <a:chOff x="6516720" y="4005360"/>
            <a:chExt cx="287280" cy="287280"/>
          </a:xfrm>
        </p:grpSpPr>
        <p:sp>
          <p:nvSpPr>
            <p:cNvPr id="653" name="Oval 106"/>
            <p:cNvSpPr/>
            <p:nvPr/>
          </p:nvSpPr>
          <p:spPr>
            <a:xfrm>
              <a:off x="6516720" y="400536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6516720" y="4149000"/>
              <a:ext cx="287280" cy="360"/>
              <a:chOff x="6516720" y="4149000"/>
              <a:chExt cx="287280" cy="360"/>
            </a:xfrm>
          </p:grpSpPr>
          <p:sp>
            <p:nvSpPr>
              <p:cNvPr id="655" name="Line 107"/>
              <p:cNvSpPr/>
              <p:nvPr/>
            </p:nvSpPr>
            <p:spPr>
              <a:xfrm>
                <a:off x="6516720" y="414900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6516720" y="414900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660360" y="4005360"/>
              <a:ext cx="360" cy="287280"/>
              <a:chOff x="6660360" y="4005360"/>
              <a:chExt cx="360" cy="287280"/>
            </a:xfrm>
          </p:grpSpPr>
          <p:sp>
            <p:nvSpPr>
              <p:cNvPr id="658" name="Line 108"/>
              <p:cNvSpPr/>
              <p:nvPr/>
            </p:nvSpPr>
            <p:spPr>
              <a:xfrm>
                <a:off x="6660360" y="400536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>
                <a:off x="6660360" y="400536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Group 109"/>
          <p:cNvGrpSpPr/>
          <p:nvPr/>
        </p:nvGrpSpPr>
        <p:grpSpPr>
          <a:xfrm>
            <a:off x="1332000" y="4148280"/>
            <a:ext cx="287280" cy="287280"/>
            <a:chOff x="1332000" y="4148280"/>
            <a:chExt cx="287280" cy="287280"/>
          </a:xfrm>
        </p:grpSpPr>
        <p:sp>
          <p:nvSpPr>
            <p:cNvPr id="661" name="Oval 110"/>
            <p:cNvSpPr/>
            <p:nvPr/>
          </p:nvSpPr>
          <p:spPr>
            <a:xfrm>
              <a:off x="1332000" y="414828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1332000" y="4291920"/>
              <a:ext cx="287280" cy="360"/>
              <a:chOff x="1332000" y="4291920"/>
              <a:chExt cx="287280" cy="360"/>
            </a:xfrm>
          </p:grpSpPr>
          <p:sp>
            <p:nvSpPr>
              <p:cNvPr id="663" name="Line 111"/>
              <p:cNvSpPr/>
              <p:nvPr/>
            </p:nvSpPr>
            <p:spPr>
              <a:xfrm>
                <a:off x="1332000" y="4291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 txBox="1"/>
              <p:nvPr/>
            </p:nvSpPr>
            <p:spPr>
              <a:xfrm>
                <a:off x="1332000" y="429192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1475640" y="4148280"/>
              <a:ext cx="360" cy="287280"/>
              <a:chOff x="1475640" y="4148280"/>
              <a:chExt cx="360" cy="287280"/>
            </a:xfrm>
          </p:grpSpPr>
          <p:sp>
            <p:nvSpPr>
              <p:cNvPr id="666" name="Line 112"/>
              <p:cNvSpPr/>
              <p:nvPr/>
            </p:nvSpPr>
            <p:spPr>
              <a:xfrm>
                <a:off x="1475640" y="414828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 txBox="1"/>
              <p:nvPr/>
            </p:nvSpPr>
            <p:spPr>
              <a:xfrm>
                <a:off x="1475640" y="414828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8" name="Group 113"/>
          <p:cNvGrpSpPr/>
          <p:nvPr/>
        </p:nvGrpSpPr>
        <p:grpSpPr>
          <a:xfrm>
            <a:off x="7308720" y="3573360"/>
            <a:ext cx="287640" cy="287280"/>
            <a:chOff x="7308720" y="3573360"/>
            <a:chExt cx="287640" cy="287280"/>
          </a:xfrm>
        </p:grpSpPr>
        <p:sp>
          <p:nvSpPr>
            <p:cNvPr id="669" name="Oval 114"/>
            <p:cNvSpPr/>
            <p:nvPr/>
          </p:nvSpPr>
          <p:spPr>
            <a:xfrm>
              <a:off x="7308720" y="3573360"/>
              <a:ext cx="28764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7308720" y="3717000"/>
              <a:ext cx="287640" cy="360"/>
              <a:chOff x="7308720" y="3717000"/>
              <a:chExt cx="287640" cy="360"/>
            </a:xfrm>
          </p:grpSpPr>
          <p:sp>
            <p:nvSpPr>
              <p:cNvPr id="671" name="Line 115"/>
              <p:cNvSpPr/>
              <p:nvPr/>
            </p:nvSpPr>
            <p:spPr>
              <a:xfrm>
                <a:off x="7308720" y="3717000"/>
                <a:ext cx="28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7308720" y="3717000"/>
                <a:ext cx="28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7452360" y="3573360"/>
              <a:ext cx="360" cy="287280"/>
              <a:chOff x="7452360" y="3573360"/>
              <a:chExt cx="360" cy="287280"/>
            </a:xfrm>
          </p:grpSpPr>
          <p:sp>
            <p:nvSpPr>
              <p:cNvPr id="674" name="Line 116"/>
              <p:cNvSpPr/>
              <p:nvPr/>
            </p:nvSpPr>
            <p:spPr>
              <a:xfrm>
                <a:off x="7452360" y="357336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7452360" y="357336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6" name="Group 117"/>
          <p:cNvGrpSpPr/>
          <p:nvPr/>
        </p:nvGrpSpPr>
        <p:grpSpPr>
          <a:xfrm>
            <a:off x="900000" y="4148280"/>
            <a:ext cx="142920" cy="144360"/>
            <a:chOff x="900000" y="4148280"/>
            <a:chExt cx="142920" cy="144360"/>
          </a:xfrm>
        </p:grpSpPr>
        <p:sp>
          <p:nvSpPr>
            <p:cNvPr id="677" name="Oval 118"/>
            <p:cNvSpPr/>
            <p:nvPr/>
          </p:nvSpPr>
          <p:spPr>
            <a:xfrm>
              <a:off x="900000" y="414828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900000" y="4219560"/>
              <a:ext cx="142920" cy="360"/>
              <a:chOff x="900000" y="4219560"/>
              <a:chExt cx="142920" cy="360"/>
            </a:xfrm>
          </p:grpSpPr>
          <p:sp>
            <p:nvSpPr>
              <p:cNvPr id="679" name="Line 119"/>
              <p:cNvSpPr/>
              <p:nvPr/>
            </p:nvSpPr>
            <p:spPr>
              <a:xfrm>
                <a:off x="900000" y="4219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 txBox="1"/>
              <p:nvPr/>
            </p:nvSpPr>
            <p:spPr>
              <a:xfrm>
                <a:off x="900000" y="4219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1" name="Group 132"/>
          <p:cNvGrpSpPr/>
          <p:nvPr/>
        </p:nvGrpSpPr>
        <p:grpSpPr>
          <a:xfrm>
            <a:off x="1476360" y="3284640"/>
            <a:ext cx="142920" cy="144360"/>
            <a:chOff x="1476360" y="3284640"/>
            <a:chExt cx="142920" cy="144360"/>
          </a:xfrm>
        </p:grpSpPr>
        <p:sp>
          <p:nvSpPr>
            <p:cNvPr id="682" name="Oval 133"/>
            <p:cNvSpPr/>
            <p:nvPr/>
          </p:nvSpPr>
          <p:spPr>
            <a:xfrm>
              <a:off x="1476360" y="328464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1476360" y="3355920"/>
              <a:ext cx="142920" cy="360"/>
              <a:chOff x="1476360" y="3355920"/>
              <a:chExt cx="142920" cy="360"/>
            </a:xfrm>
          </p:grpSpPr>
          <p:sp>
            <p:nvSpPr>
              <p:cNvPr id="684" name="Line 134"/>
              <p:cNvSpPr/>
              <p:nvPr/>
            </p:nvSpPr>
            <p:spPr>
              <a:xfrm>
                <a:off x="1476360" y="3355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 txBox="1"/>
              <p:nvPr/>
            </p:nvSpPr>
            <p:spPr>
              <a:xfrm>
                <a:off x="1476360" y="3355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6" name="Group 135"/>
          <p:cNvGrpSpPr/>
          <p:nvPr/>
        </p:nvGrpSpPr>
        <p:grpSpPr>
          <a:xfrm>
            <a:off x="4788000" y="3213000"/>
            <a:ext cx="142920" cy="144720"/>
            <a:chOff x="4788000" y="3213000"/>
            <a:chExt cx="142920" cy="144720"/>
          </a:xfrm>
        </p:grpSpPr>
        <p:sp>
          <p:nvSpPr>
            <p:cNvPr id="687" name="Oval 136"/>
            <p:cNvSpPr/>
            <p:nvPr/>
          </p:nvSpPr>
          <p:spPr>
            <a:xfrm>
              <a:off x="4788000" y="3213000"/>
              <a:ext cx="142920" cy="1447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788000" y="3284640"/>
              <a:ext cx="142920" cy="360"/>
              <a:chOff x="4788000" y="3284640"/>
              <a:chExt cx="142920" cy="360"/>
            </a:xfrm>
          </p:grpSpPr>
          <p:sp>
            <p:nvSpPr>
              <p:cNvPr id="689" name="Line 137"/>
              <p:cNvSpPr/>
              <p:nvPr/>
            </p:nvSpPr>
            <p:spPr>
              <a:xfrm>
                <a:off x="4788000" y="3284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 txBox="1"/>
              <p:nvPr/>
            </p:nvSpPr>
            <p:spPr>
              <a:xfrm>
                <a:off x="4788000" y="3284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1" name="Group 138"/>
          <p:cNvGrpSpPr/>
          <p:nvPr/>
        </p:nvGrpSpPr>
        <p:grpSpPr>
          <a:xfrm>
            <a:off x="5435640" y="3645000"/>
            <a:ext cx="142920" cy="144360"/>
            <a:chOff x="5435640" y="3645000"/>
            <a:chExt cx="142920" cy="144360"/>
          </a:xfrm>
        </p:grpSpPr>
        <p:sp>
          <p:nvSpPr>
            <p:cNvPr id="692" name="Oval 139"/>
            <p:cNvSpPr/>
            <p:nvPr/>
          </p:nvSpPr>
          <p:spPr>
            <a:xfrm>
              <a:off x="5435640" y="364500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5435640" y="3716280"/>
              <a:ext cx="142920" cy="360"/>
              <a:chOff x="5435640" y="3716280"/>
              <a:chExt cx="142920" cy="360"/>
            </a:xfrm>
          </p:grpSpPr>
          <p:sp>
            <p:nvSpPr>
              <p:cNvPr id="694" name="Line 140"/>
              <p:cNvSpPr/>
              <p:nvPr/>
            </p:nvSpPr>
            <p:spPr>
              <a:xfrm>
                <a:off x="5435640" y="3716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 txBox="1"/>
              <p:nvPr/>
            </p:nvSpPr>
            <p:spPr>
              <a:xfrm>
                <a:off x="5435640" y="3716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Group 153"/>
          <p:cNvGrpSpPr/>
          <p:nvPr/>
        </p:nvGrpSpPr>
        <p:grpSpPr>
          <a:xfrm>
            <a:off x="6948360" y="3716280"/>
            <a:ext cx="142920" cy="144360"/>
            <a:chOff x="6948360" y="3716280"/>
            <a:chExt cx="142920" cy="144360"/>
          </a:xfrm>
        </p:grpSpPr>
        <p:sp>
          <p:nvSpPr>
            <p:cNvPr id="697" name="Oval 154"/>
            <p:cNvSpPr/>
            <p:nvPr/>
          </p:nvSpPr>
          <p:spPr>
            <a:xfrm>
              <a:off x="6948360" y="371628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6948360" y="3787560"/>
              <a:ext cx="142920" cy="360"/>
              <a:chOff x="6948360" y="3787560"/>
              <a:chExt cx="142920" cy="360"/>
            </a:xfrm>
          </p:grpSpPr>
          <p:sp>
            <p:nvSpPr>
              <p:cNvPr id="699" name="Line 155"/>
              <p:cNvSpPr/>
              <p:nvPr/>
            </p:nvSpPr>
            <p:spPr>
              <a:xfrm>
                <a:off x="6948360" y="3787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 txBox="1"/>
              <p:nvPr/>
            </p:nvSpPr>
            <p:spPr>
              <a:xfrm>
                <a:off x="6948360" y="3787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Group 168"/>
          <p:cNvGrpSpPr/>
          <p:nvPr/>
        </p:nvGrpSpPr>
        <p:grpSpPr>
          <a:xfrm>
            <a:off x="539640" y="3213000"/>
            <a:ext cx="142920" cy="144720"/>
            <a:chOff x="539640" y="3213000"/>
            <a:chExt cx="142920" cy="144720"/>
          </a:xfrm>
        </p:grpSpPr>
        <p:sp>
          <p:nvSpPr>
            <p:cNvPr id="702" name="Oval 169"/>
            <p:cNvSpPr/>
            <p:nvPr/>
          </p:nvSpPr>
          <p:spPr>
            <a:xfrm>
              <a:off x="539640" y="3213000"/>
              <a:ext cx="142920" cy="1447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39640" y="3284640"/>
              <a:ext cx="142920" cy="360"/>
              <a:chOff x="539640" y="3284640"/>
              <a:chExt cx="142920" cy="360"/>
            </a:xfrm>
          </p:grpSpPr>
          <p:sp>
            <p:nvSpPr>
              <p:cNvPr id="704" name="Line 170"/>
              <p:cNvSpPr/>
              <p:nvPr/>
            </p:nvSpPr>
            <p:spPr>
              <a:xfrm>
                <a:off x="539640" y="3284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539640" y="3284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6" name="Group 192"/>
          <p:cNvGrpSpPr/>
          <p:nvPr/>
        </p:nvGrpSpPr>
        <p:grpSpPr>
          <a:xfrm>
            <a:off x="3132000" y="3716280"/>
            <a:ext cx="142920" cy="144360"/>
            <a:chOff x="3132000" y="3716280"/>
            <a:chExt cx="142920" cy="144360"/>
          </a:xfrm>
        </p:grpSpPr>
        <p:sp>
          <p:nvSpPr>
            <p:cNvPr id="707" name="Oval 193"/>
            <p:cNvSpPr/>
            <p:nvPr/>
          </p:nvSpPr>
          <p:spPr>
            <a:xfrm>
              <a:off x="3132000" y="371628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132000" y="3787560"/>
              <a:ext cx="142920" cy="360"/>
              <a:chOff x="3132000" y="3787560"/>
              <a:chExt cx="142920" cy="360"/>
            </a:xfrm>
          </p:grpSpPr>
          <p:sp>
            <p:nvSpPr>
              <p:cNvPr id="709" name="Line 194"/>
              <p:cNvSpPr/>
              <p:nvPr/>
            </p:nvSpPr>
            <p:spPr>
              <a:xfrm>
                <a:off x="3132000" y="3787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 txBox="1"/>
              <p:nvPr/>
            </p:nvSpPr>
            <p:spPr>
              <a:xfrm>
                <a:off x="3132000" y="3787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1" name="Group 195"/>
          <p:cNvGrpSpPr/>
          <p:nvPr/>
        </p:nvGrpSpPr>
        <p:grpSpPr>
          <a:xfrm>
            <a:off x="2413080" y="3068640"/>
            <a:ext cx="142920" cy="144360"/>
            <a:chOff x="2413080" y="3068640"/>
            <a:chExt cx="142920" cy="144360"/>
          </a:xfrm>
        </p:grpSpPr>
        <p:sp>
          <p:nvSpPr>
            <p:cNvPr id="712" name="Oval 196"/>
            <p:cNvSpPr/>
            <p:nvPr/>
          </p:nvSpPr>
          <p:spPr>
            <a:xfrm>
              <a:off x="2413080" y="306864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2413080" y="3139920"/>
              <a:ext cx="142920" cy="360"/>
              <a:chOff x="2413080" y="3139920"/>
              <a:chExt cx="142920" cy="360"/>
            </a:xfrm>
          </p:grpSpPr>
          <p:sp>
            <p:nvSpPr>
              <p:cNvPr id="714" name="Line 197"/>
              <p:cNvSpPr/>
              <p:nvPr/>
            </p:nvSpPr>
            <p:spPr>
              <a:xfrm>
                <a:off x="2413080" y="3139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 txBox="1"/>
              <p:nvPr/>
            </p:nvSpPr>
            <p:spPr>
              <a:xfrm>
                <a:off x="2413080" y="3139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Group 201"/>
          <p:cNvGrpSpPr/>
          <p:nvPr/>
        </p:nvGrpSpPr>
        <p:grpSpPr>
          <a:xfrm>
            <a:off x="4213080" y="4437000"/>
            <a:ext cx="142920" cy="144360"/>
            <a:chOff x="4213080" y="4437000"/>
            <a:chExt cx="142920" cy="144360"/>
          </a:xfrm>
        </p:grpSpPr>
        <p:sp>
          <p:nvSpPr>
            <p:cNvPr id="717" name="Oval 202"/>
            <p:cNvSpPr/>
            <p:nvPr/>
          </p:nvSpPr>
          <p:spPr>
            <a:xfrm>
              <a:off x="4213080" y="443700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4213080" y="4508280"/>
              <a:ext cx="142920" cy="360"/>
              <a:chOff x="4213080" y="4508280"/>
              <a:chExt cx="142920" cy="360"/>
            </a:xfrm>
          </p:grpSpPr>
          <p:sp>
            <p:nvSpPr>
              <p:cNvPr id="719" name="Line 203"/>
              <p:cNvSpPr/>
              <p:nvPr/>
            </p:nvSpPr>
            <p:spPr>
              <a:xfrm>
                <a:off x="4213080" y="4508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 txBox="1"/>
              <p:nvPr/>
            </p:nvSpPr>
            <p:spPr>
              <a:xfrm>
                <a:off x="4213080" y="4508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Group 204"/>
          <p:cNvGrpSpPr/>
          <p:nvPr/>
        </p:nvGrpSpPr>
        <p:grpSpPr>
          <a:xfrm>
            <a:off x="5796000" y="4437000"/>
            <a:ext cx="142920" cy="144360"/>
            <a:chOff x="5796000" y="4437000"/>
            <a:chExt cx="142920" cy="144360"/>
          </a:xfrm>
        </p:grpSpPr>
        <p:sp>
          <p:nvSpPr>
            <p:cNvPr id="722" name="Oval 205"/>
            <p:cNvSpPr/>
            <p:nvPr/>
          </p:nvSpPr>
          <p:spPr>
            <a:xfrm>
              <a:off x="5796000" y="443700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796000" y="4508280"/>
              <a:ext cx="142920" cy="360"/>
              <a:chOff x="5796000" y="4508280"/>
              <a:chExt cx="142920" cy="360"/>
            </a:xfrm>
          </p:grpSpPr>
          <p:sp>
            <p:nvSpPr>
              <p:cNvPr id="724" name="Line 206"/>
              <p:cNvSpPr/>
              <p:nvPr/>
            </p:nvSpPr>
            <p:spPr>
              <a:xfrm>
                <a:off x="5796000" y="4508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 txBox="1"/>
              <p:nvPr/>
            </p:nvSpPr>
            <p:spPr>
              <a:xfrm>
                <a:off x="5796000" y="4508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6" name="Group 207"/>
          <p:cNvGrpSpPr/>
          <p:nvPr/>
        </p:nvGrpSpPr>
        <p:grpSpPr>
          <a:xfrm>
            <a:off x="6156360" y="3139920"/>
            <a:ext cx="142920" cy="144720"/>
            <a:chOff x="6156360" y="3139920"/>
            <a:chExt cx="142920" cy="144720"/>
          </a:xfrm>
        </p:grpSpPr>
        <p:sp>
          <p:nvSpPr>
            <p:cNvPr id="727" name="Oval 208"/>
            <p:cNvSpPr/>
            <p:nvPr/>
          </p:nvSpPr>
          <p:spPr>
            <a:xfrm>
              <a:off x="6156360" y="3139920"/>
              <a:ext cx="142920" cy="1447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6156360" y="3211560"/>
              <a:ext cx="142920" cy="360"/>
              <a:chOff x="6156360" y="3211560"/>
              <a:chExt cx="142920" cy="360"/>
            </a:xfrm>
          </p:grpSpPr>
          <p:sp>
            <p:nvSpPr>
              <p:cNvPr id="729" name="Line 209"/>
              <p:cNvSpPr/>
              <p:nvPr/>
            </p:nvSpPr>
            <p:spPr>
              <a:xfrm>
                <a:off x="6156360" y="3211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 txBox="1"/>
              <p:nvPr/>
            </p:nvSpPr>
            <p:spPr>
              <a:xfrm>
                <a:off x="6156360" y="3211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1" name="Group 210"/>
          <p:cNvGrpSpPr/>
          <p:nvPr/>
        </p:nvGrpSpPr>
        <p:grpSpPr>
          <a:xfrm>
            <a:off x="8245440" y="4365720"/>
            <a:ext cx="142920" cy="144360"/>
            <a:chOff x="8245440" y="4365720"/>
            <a:chExt cx="142920" cy="144360"/>
          </a:xfrm>
        </p:grpSpPr>
        <p:sp>
          <p:nvSpPr>
            <p:cNvPr id="732" name="Oval 211"/>
            <p:cNvSpPr/>
            <p:nvPr/>
          </p:nvSpPr>
          <p:spPr>
            <a:xfrm>
              <a:off x="8245440" y="436572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8245440" y="4437000"/>
              <a:ext cx="142920" cy="360"/>
              <a:chOff x="8245440" y="4437000"/>
              <a:chExt cx="142920" cy="360"/>
            </a:xfrm>
          </p:grpSpPr>
          <p:sp>
            <p:nvSpPr>
              <p:cNvPr id="734" name="Line 212"/>
              <p:cNvSpPr/>
              <p:nvPr/>
            </p:nvSpPr>
            <p:spPr>
              <a:xfrm>
                <a:off x="8245440" y="44370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 txBox="1"/>
              <p:nvPr/>
            </p:nvSpPr>
            <p:spPr>
              <a:xfrm>
                <a:off x="8245440" y="44370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6" name="Group 216"/>
          <p:cNvGrpSpPr/>
          <p:nvPr/>
        </p:nvGrpSpPr>
        <p:grpSpPr>
          <a:xfrm>
            <a:off x="7813800" y="3068640"/>
            <a:ext cx="142920" cy="144360"/>
            <a:chOff x="7813800" y="3068640"/>
            <a:chExt cx="142920" cy="144360"/>
          </a:xfrm>
        </p:grpSpPr>
        <p:sp>
          <p:nvSpPr>
            <p:cNvPr id="737" name="Oval 217"/>
            <p:cNvSpPr/>
            <p:nvPr/>
          </p:nvSpPr>
          <p:spPr>
            <a:xfrm>
              <a:off x="7813800" y="306864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7813800" y="3139920"/>
              <a:ext cx="142920" cy="360"/>
              <a:chOff x="7813800" y="3139920"/>
              <a:chExt cx="142920" cy="360"/>
            </a:xfrm>
          </p:grpSpPr>
          <p:sp>
            <p:nvSpPr>
              <p:cNvPr id="739" name="Line 218"/>
              <p:cNvSpPr/>
              <p:nvPr/>
            </p:nvSpPr>
            <p:spPr>
              <a:xfrm>
                <a:off x="7813800" y="3139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 txBox="1"/>
              <p:nvPr/>
            </p:nvSpPr>
            <p:spPr>
              <a:xfrm>
                <a:off x="7813800" y="3139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1" name="Group 219"/>
          <p:cNvGrpSpPr/>
          <p:nvPr/>
        </p:nvGrpSpPr>
        <p:grpSpPr>
          <a:xfrm>
            <a:off x="2124000" y="3355920"/>
            <a:ext cx="142920" cy="144360"/>
            <a:chOff x="2124000" y="3355920"/>
            <a:chExt cx="142920" cy="144360"/>
          </a:xfrm>
        </p:grpSpPr>
        <p:sp>
          <p:nvSpPr>
            <p:cNvPr id="742" name="Oval 220"/>
            <p:cNvSpPr/>
            <p:nvPr/>
          </p:nvSpPr>
          <p:spPr>
            <a:xfrm>
              <a:off x="2124000" y="335592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2124000" y="3427200"/>
              <a:ext cx="142920" cy="360"/>
              <a:chOff x="2124000" y="3427200"/>
              <a:chExt cx="142920" cy="360"/>
            </a:xfrm>
          </p:grpSpPr>
          <p:sp>
            <p:nvSpPr>
              <p:cNvPr id="744" name="Line 221"/>
              <p:cNvSpPr/>
              <p:nvPr/>
            </p:nvSpPr>
            <p:spPr>
              <a:xfrm>
                <a:off x="2124000" y="34272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 txBox="1"/>
              <p:nvPr/>
            </p:nvSpPr>
            <p:spPr>
              <a:xfrm>
                <a:off x="2124000" y="34272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Group 222"/>
          <p:cNvGrpSpPr/>
          <p:nvPr/>
        </p:nvGrpSpPr>
        <p:grpSpPr>
          <a:xfrm>
            <a:off x="2340000" y="3571920"/>
            <a:ext cx="142920" cy="144360"/>
            <a:chOff x="2340000" y="3571920"/>
            <a:chExt cx="142920" cy="144360"/>
          </a:xfrm>
        </p:grpSpPr>
        <p:sp>
          <p:nvSpPr>
            <p:cNvPr id="747" name="Oval 223"/>
            <p:cNvSpPr/>
            <p:nvPr/>
          </p:nvSpPr>
          <p:spPr>
            <a:xfrm>
              <a:off x="2340000" y="357192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340000" y="3643200"/>
              <a:ext cx="142920" cy="360"/>
              <a:chOff x="2340000" y="3643200"/>
              <a:chExt cx="142920" cy="360"/>
            </a:xfrm>
          </p:grpSpPr>
          <p:sp>
            <p:nvSpPr>
              <p:cNvPr id="749" name="Line 224"/>
              <p:cNvSpPr/>
              <p:nvPr/>
            </p:nvSpPr>
            <p:spPr>
              <a:xfrm>
                <a:off x="2340000" y="36432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 txBox="1"/>
              <p:nvPr/>
            </p:nvSpPr>
            <p:spPr>
              <a:xfrm>
                <a:off x="2340000" y="36432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1" name="Group 225"/>
          <p:cNvGrpSpPr/>
          <p:nvPr/>
        </p:nvGrpSpPr>
        <p:grpSpPr>
          <a:xfrm>
            <a:off x="2556000" y="3787920"/>
            <a:ext cx="142920" cy="144360"/>
            <a:chOff x="2556000" y="3787920"/>
            <a:chExt cx="142920" cy="144360"/>
          </a:xfrm>
        </p:grpSpPr>
        <p:sp>
          <p:nvSpPr>
            <p:cNvPr id="752" name="Oval 226"/>
            <p:cNvSpPr/>
            <p:nvPr/>
          </p:nvSpPr>
          <p:spPr>
            <a:xfrm>
              <a:off x="2556000" y="378792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2556000" y="3859200"/>
              <a:ext cx="142920" cy="360"/>
              <a:chOff x="2556000" y="3859200"/>
              <a:chExt cx="142920" cy="360"/>
            </a:xfrm>
          </p:grpSpPr>
          <p:sp>
            <p:nvSpPr>
              <p:cNvPr id="754" name="Line 227"/>
              <p:cNvSpPr/>
              <p:nvPr/>
            </p:nvSpPr>
            <p:spPr>
              <a:xfrm>
                <a:off x="2556000" y="38592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 txBox="1"/>
              <p:nvPr/>
            </p:nvSpPr>
            <p:spPr>
              <a:xfrm>
                <a:off x="2556000" y="38592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6" name="Group 228"/>
          <p:cNvGrpSpPr/>
          <p:nvPr/>
        </p:nvGrpSpPr>
        <p:grpSpPr>
          <a:xfrm>
            <a:off x="2771640" y="4003560"/>
            <a:ext cx="142920" cy="144720"/>
            <a:chOff x="2771640" y="4003560"/>
            <a:chExt cx="142920" cy="144720"/>
          </a:xfrm>
        </p:grpSpPr>
        <p:sp>
          <p:nvSpPr>
            <p:cNvPr id="757" name="Oval 229"/>
            <p:cNvSpPr/>
            <p:nvPr/>
          </p:nvSpPr>
          <p:spPr>
            <a:xfrm>
              <a:off x="2771640" y="4003560"/>
              <a:ext cx="1429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2771640" y="4075200"/>
              <a:ext cx="142920" cy="360"/>
              <a:chOff x="2771640" y="4075200"/>
              <a:chExt cx="142920" cy="360"/>
            </a:xfrm>
          </p:grpSpPr>
          <p:sp>
            <p:nvSpPr>
              <p:cNvPr id="759" name="Line 230"/>
              <p:cNvSpPr/>
              <p:nvPr/>
            </p:nvSpPr>
            <p:spPr>
              <a:xfrm>
                <a:off x="2771640" y="40752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2771640" y="40752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231"/>
          <p:cNvGrpSpPr/>
          <p:nvPr/>
        </p:nvGrpSpPr>
        <p:grpSpPr>
          <a:xfrm>
            <a:off x="2987640" y="4219560"/>
            <a:ext cx="142920" cy="144360"/>
            <a:chOff x="2987640" y="4219560"/>
            <a:chExt cx="142920" cy="144360"/>
          </a:xfrm>
        </p:grpSpPr>
        <p:sp>
          <p:nvSpPr>
            <p:cNvPr id="762" name="Oval 232"/>
            <p:cNvSpPr/>
            <p:nvPr/>
          </p:nvSpPr>
          <p:spPr>
            <a:xfrm>
              <a:off x="2987640" y="421956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987640" y="4290840"/>
              <a:ext cx="142920" cy="360"/>
              <a:chOff x="2987640" y="4290840"/>
              <a:chExt cx="142920" cy="360"/>
            </a:xfrm>
          </p:grpSpPr>
          <p:sp>
            <p:nvSpPr>
              <p:cNvPr id="764" name="Line 233"/>
              <p:cNvSpPr/>
              <p:nvPr/>
            </p:nvSpPr>
            <p:spPr>
              <a:xfrm>
                <a:off x="2987640" y="42908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987640" y="42908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6" name="Group 234"/>
          <p:cNvGrpSpPr/>
          <p:nvPr/>
        </p:nvGrpSpPr>
        <p:grpSpPr>
          <a:xfrm>
            <a:off x="4932360" y="2924280"/>
            <a:ext cx="142920" cy="144360"/>
            <a:chOff x="4932360" y="2924280"/>
            <a:chExt cx="142920" cy="144360"/>
          </a:xfrm>
        </p:grpSpPr>
        <p:sp>
          <p:nvSpPr>
            <p:cNvPr id="767" name="Oval 235"/>
            <p:cNvSpPr/>
            <p:nvPr/>
          </p:nvSpPr>
          <p:spPr>
            <a:xfrm>
              <a:off x="4932360" y="29242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4932360" y="2995560"/>
              <a:ext cx="142920" cy="360"/>
              <a:chOff x="4932360" y="2995560"/>
              <a:chExt cx="142920" cy="360"/>
            </a:xfrm>
          </p:grpSpPr>
          <p:sp>
            <p:nvSpPr>
              <p:cNvPr id="769" name="Line 236"/>
              <p:cNvSpPr/>
              <p:nvPr/>
            </p:nvSpPr>
            <p:spPr>
              <a:xfrm>
                <a:off x="4932360" y="2995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 txBox="1"/>
              <p:nvPr/>
            </p:nvSpPr>
            <p:spPr>
              <a:xfrm>
                <a:off x="4932360" y="2995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1" name="Group 237"/>
          <p:cNvGrpSpPr/>
          <p:nvPr/>
        </p:nvGrpSpPr>
        <p:grpSpPr>
          <a:xfrm>
            <a:off x="5221440" y="3932280"/>
            <a:ext cx="142560" cy="144360"/>
            <a:chOff x="5221440" y="3932280"/>
            <a:chExt cx="142560" cy="144360"/>
          </a:xfrm>
        </p:grpSpPr>
        <p:sp>
          <p:nvSpPr>
            <p:cNvPr id="772" name="Oval 238"/>
            <p:cNvSpPr/>
            <p:nvPr/>
          </p:nvSpPr>
          <p:spPr>
            <a:xfrm>
              <a:off x="5221440" y="3932280"/>
              <a:ext cx="1425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5221440" y="4003560"/>
              <a:ext cx="142560" cy="360"/>
              <a:chOff x="5221440" y="4003560"/>
              <a:chExt cx="142560" cy="360"/>
            </a:xfrm>
          </p:grpSpPr>
          <p:sp>
            <p:nvSpPr>
              <p:cNvPr id="774" name="Line 239"/>
              <p:cNvSpPr/>
              <p:nvPr/>
            </p:nvSpPr>
            <p:spPr>
              <a:xfrm>
                <a:off x="5221440" y="400356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 txBox="1"/>
              <p:nvPr/>
            </p:nvSpPr>
            <p:spPr>
              <a:xfrm>
                <a:off x="5221440" y="4003560"/>
                <a:ext cx="14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6" name="Group 240"/>
          <p:cNvGrpSpPr/>
          <p:nvPr/>
        </p:nvGrpSpPr>
        <p:grpSpPr>
          <a:xfrm>
            <a:off x="3995640" y="3500280"/>
            <a:ext cx="142920" cy="144720"/>
            <a:chOff x="3995640" y="3500280"/>
            <a:chExt cx="142920" cy="144720"/>
          </a:xfrm>
        </p:grpSpPr>
        <p:sp>
          <p:nvSpPr>
            <p:cNvPr id="777" name="Oval 241"/>
            <p:cNvSpPr/>
            <p:nvPr/>
          </p:nvSpPr>
          <p:spPr>
            <a:xfrm>
              <a:off x="3995640" y="3500280"/>
              <a:ext cx="1429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3995640" y="3571920"/>
              <a:ext cx="142920" cy="360"/>
              <a:chOff x="3995640" y="3571920"/>
              <a:chExt cx="142920" cy="360"/>
            </a:xfrm>
          </p:grpSpPr>
          <p:sp>
            <p:nvSpPr>
              <p:cNvPr id="779" name="Line 242"/>
              <p:cNvSpPr/>
              <p:nvPr/>
            </p:nvSpPr>
            <p:spPr>
              <a:xfrm>
                <a:off x="3995640" y="3571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 txBox="1"/>
              <p:nvPr/>
            </p:nvSpPr>
            <p:spPr>
              <a:xfrm>
                <a:off x="3995640" y="3571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Group 243"/>
          <p:cNvGrpSpPr/>
          <p:nvPr/>
        </p:nvGrpSpPr>
        <p:grpSpPr>
          <a:xfrm>
            <a:off x="1692360" y="3716280"/>
            <a:ext cx="142920" cy="144360"/>
            <a:chOff x="1692360" y="3716280"/>
            <a:chExt cx="142920" cy="144360"/>
          </a:xfrm>
        </p:grpSpPr>
        <p:sp>
          <p:nvSpPr>
            <p:cNvPr id="782" name="Oval 244"/>
            <p:cNvSpPr/>
            <p:nvPr/>
          </p:nvSpPr>
          <p:spPr>
            <a:xfrm>
              <a:off x="1692360" y="37162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1692360" y="3787560"/>
              <a:ext cx="142920" cy="360"/>
              <a:chOff x="1692360" y="3787560"/>
              <a:chExt cx="142920" cy="360"/>
            </a:xfrm>
          </p:grpSpPr>
          <p:sp>
            <p:nvSpPr>
              <p:cNvPr id="784" name="Line 245"/>
              <p:cNvSpPr/>
              <p:nvPr/>
            </p:nvSpPr>
            <p:spPr>
              <a:xfrm>
                <a:off x="1692360" y="3787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 txBox="1"/>
              <p:nvPr/>
            </p:nvSpPr>
            <p:spPr>
              <a:xfrm>
                <a:off x="1692360" y="3787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6" name="Group 246"/>
          <p:cNvGrpSpPr/>
          <p:nvPr/>
        </p:nvGrpSpPr>
        <p:grpSpPr>
          <a:xfrm>
            <a:off x="3995640" y="2997360"/>
            <a:ext cx="142920" cy="144360"/>
            <a:chOff x="3995640" y="2997360"/>
            <a:chExt cx="142920" cy="144360"/>
          </a:xfrm>
        </p:grpSpPr>
        <p:sp>
          <p:nvSpPr>
            <p:cNvPr id="787" name="Oval 247"/>
            <p:cNvSpPr/>
            <p:nvPr/>
          </p:nvSpPr>
          <p:spPr>
            <a:xfrm>
              <a:off x="3995640" y="299736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8" name=""/>
            <p:cNvGrpSpPr/>
            <p:nvPr/>
          </p:nvGrpSpPr>
          <p:grpSpPr>
            <a:xfrm>
              <a:off x="3995640" y="3068640"/>
              <a:ext cx="142920" cy="360"/>
              <a:chOff x="3995640" y="3068640"/>
              <a:chExt cx="142920" cy="360"/>
            </a:xfrm>
          </p:grpSpPr>
          <p:sp>
            <p:nvSpPr>
              <p:cNvPr id="789" name="Line 248"/>
              <p:cNvSpPr/>
              <p:nvPr/>
            </p:nvSpPr>
            <p:spPr>
              <a:xfrm>
                <a:off x="3995640" y="3068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 txBox="1"/>
              <p:nvPr/>
            </p:nvSpPr>
            <p:spPr>
              <a:xfrm>
                <a:off x="3995640" y="3068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1" name="Group 249"/>
          <p:cNvGrpSpPr/>
          <p:nvPr/>
        </p:nvGrpSpPr>
        <p:grpSpPr>
          <a:xfrm>
            <a:off x="6516720" y="4437000"/>
            <a:ext cx="142920" cy="144360"/>
            <a:chOff x="6516720" y="4437000"/>
            <a:chExt cx="142920" cy="144360"/>
          </a:xfrm>
        </p:grpSpPr>
        <p:sp>
          <p:nvSpPr>
            <p:cNvPr id="792" name="Oval 250"/>
            <p:cNvSpPr/>
            <p:nvPr/>
          </p:nvSpPr>
          <p:spPr>
            <a:xfrm>
              <a:off x="6516720" y="4437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6516720" y="4508280"/>
              <a:ext cx="142920" cy="360"/>
              <a:chOff x="6516720" y="4508280"/>
              <a:chExt cx="142920" cy="360"/>
            </a:xfrm>
          </p:grpSpPr>
          <p:sp>
            <p:nvSpPr>
              <p:cNvPr id="794" name="Line 251"/>
              <p:cNvSpPr/>
              <p:nvPr/>
            </p:nvSpPr>
            <p:spPr>
              <a:xfrm>
                <a:off x="6516720" y="4508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 txBox="1"/>
              <p:nvPr/>
            </p:nvSpPr>
            <p:spPr>
              <a:xfrm>
                <a:off x="6516720" y="4508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6" name="Group 252"/>
          <p:cNvGrpSpPr/>
          <p:nvPr/>
        </p:nvGrpSpPr>
        <p:grpSpPr>
          <a:xfrm>
            <a:off x="1692360" y="2924280"/>
            <a:ext cx="142920" cy="144360"/>
            <a:chOff x="1692360" y="2924280"/>
            <a:chExt cx="142920" cy="144360"/>
          </a:xfrm>
        </p:grpSpPr>
        <p:sp>
          <p:nvSpPr>
            <p:cNvPr id="797" name="Oval 253"/>
            <p:cNvSpPr/>
            <p:nvPr/>
          </p:nvSpPr>
          <p:spPr>
            <a:xfrm>
              <a:off x="1692360" y="29242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1692360" y="2995560"/>
              <a:ext cx="142920" cy="360"/>
              <a:chOff x="1692360" y="2995560"/>
              <a:chExt cx="142920" cy="360"/>
            </a:xfrm>
          </p:grpSpPr>
          <p:sp>
            <p:nvSpPr>
              <p:cNvPr id="799" name="Line 254"/>
              <p:cNvSpPr/>
              <p:nvPr/>
            </p:nvSpPr>
            <p:spPr>
              <a:xfrm>
                <a:off x="1692360" y="2995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>
                <a:off x="1692360" y="2995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1" name="Group 255"/>
          <p:cNvGrpSpPr/>
          <p:nvPr/>
        </p:nvGrpSpPr>
        <p:grpSpPr>
          <a:xfrm>
            <a:off x="828720" y="2997360"/>
            <a:ext cx="142920" cy="144360"/>
            <a:chOff x="828720" y="2997360"/>
            <a:chExt cx="142920" cy="144360"/>
          </a:xfrm>
        </p:grpSpPr>
        <p:sp>
          <p:nvSpPr>
            <p:cNvPr id="802" name="Oval 256"/>
            <p:cNvSpPr/>
            <p:nvPr/>
          </p:nvSpPr>
          <p:spPr>
            <a:xfrm>
              <a:off x="828720" y="299736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828720" y="3068640"/>
              <a:ext cx="142920" cy="360"/>
              <a:chOff x="828720" y="3068640"/>
              <a:chExt cx="142920" cy="360"/>
            </a:xfrm>
          </p:grpSpPr>
          <p:sp>
            <p:nvSpPr>
              <p:cNvPr id="804" name="Line 257"/>
              <p:cNvSpPr/>
              <p:nvPr/>
            </p:nvSpPr>
            <p:spPr>
              <a:xfrm>
                <a:off x="828720" y="3068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 txBox="1"/>
              <p:nvPr/>
            </p:nvSpPr>
            <p:spPr>
              <a:xfrm>
                <a:off x="828720" y="3068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6" name="Group 258"/>
          <p:cNvGrpSpPr/>
          <p:nvPr/>
        </p:nvGrpSpPr>
        <p:grpSpPr>
          <a:xfrm>
            <a:off x="1116000" y="3932280"/>
            <a:ext cx="142920" cy="144360"/>
            <a:chOff x="1116000" y="3932280"/>
            <a:chExt cx="142920" cy="144360"/>
          </a:xfrm>
        </p:grpSpPr>
        <p:sp>
          <p:nvSpPr>
            <p:cNvPr id="807" name="Oval 259"/>
            <p:cNvSpPr/>
            <p:nvPr/>
          </p:nvSpPr>
          <p:spPr>
            <a:xfrm>
              <a:off x="1116000" y="39322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1116000" y="4003560"/>
              <a:ext cx="142920" cy="360"/>
              <a:chOff x="1116000" y="4003560"/>
              <a:chExt cx="142920" cy="360"/>
            </a:xfrm>
          </p:grpSpPr>
          <p:sp>
            <p:nvSpPr>
              <p:cNvPr id="809" name="Line 260"/>
              <p:cNvSpPr/>
              <p:nvPr/>
            </p:nvSpPr>
            <p:spPr>
              <a:xfrm>
                <a:off x="1116000" y="4003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 txBox="1"/>
              <p:nvPr/>
            </p:nvSpPr>
            <p:spPr>
              <a:xfrm>
                <a:off x="1116000" y="4003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Group 261"/>
          <p:cNvGrpSpPr/>
          <p:nvPr/>
        </p:nvGrpSpPr>
        <p:grpSpPr>
          <a:xfrm>
            <a:off x="612720" y="4508640"/>
            <a:ext cx="142920" cy="144360"/>
            <a:chOff x="612720" y="4508640"/>
            <a:chExt cx="142920" cy="144360"/>
          </a:xfrm>
        </p:grpSpPr>
        <p:sp>
          <p:nvSpPr>
            <p:cNvPr id="812" name="Oval 262"/>
            <p:cNvSpPr/>
            <p:nvPr/>
          </p:nvSpPr>
          <p:spPr>
            <a:xfrm>
              <a:off x="612720" y="4508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612720" y="4579920"/>
              <a:ext cx="142920" cy="360"/>
              <a:chOff x="612720" y="4579920"/>
              <a:chExt cx="142920" cy="360"/>
            </a:xfrm>
          </p:grpSpPr>
          <p:sp>
            <p:nvSpPr>
              <p:cNvPr id="814" name="Line 263"/>
              <p:cNvSpPr/>
              <p:nvPr/>
            </p:nvSpPr>
            <p:spPr>
              <a:xfrm>
                <a:off x="612720" y="4579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 txBox="1"/>
              <p:nvPr/>
            </p:nvSpPr>
            <p:spPr>
              <a:xfrm>
                <a:off x="612720" y="4579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6" name="Group 264"/>
          <p:cNvGrpSpPr/>
          <p:nvPr/>
        </p:nvGrpSpPr>
        <p:grpSpPr>
          <a:xfrm>
            <a:off x="6229440" y="4508640"/>
            <a:ext cx="142920" cy="144360"/>
            <a:chOff x="6229440" y="4508640"/>
            <a:chExt cx="142920" cy="144360"/>
          </a:xfrm>
        </p:grpSpPr>
        <p:sp>
          <p:nvSpPr>
            <p:cNvPr id="817" name="Oval 265"/>
            <p:cNvSpPr/>
            <p:nvPr/>
          </p:nvSpPr>
          <p:spPr>
            <a:xfrm>
              <a:off x="6229440" y="4508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6229440" y="4579920"/>
              <a:ext cx="142920" cy="360"/>
              <a:chOff x="6229440" y="4579920"/>
              <a:chExt cx="142920" cy="360"/>
            </a:xfrm>
          </p:grpSpPr>
          <p:sp>
            <p:nvSpPr>
              <p:cNvPr id="819" name="Line 266"/>
              <p:cNvSpPr/>
              <p:nvPr/>
            </p:nvSpPr>
            <p:spPr>
              <a:xfrm>
                <a:off x="6229440" y="4579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 txBox="1"/>
              <p:nvPr/>
            </p:nvSpPr>
            <p:spPr>
              <a:xfrm>
                <a:off x="6229440" y="4579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1" name="Group 267"/>
          <p:cNvGrpSpPr/>
          <p:nvPr/>
        </p:nvGrpSpPr>
        <p:grpSpPr>
          <a:xfrm>
            <a:off x="5148360" y="4365720"/>
            <a:ext cx="142920" cy="144360"/>
            <a:chOff x="5148360" y="4365720"/>
            <a:chExt cx="142920" cy="144360"/>
          </a:xfrm>
        </p:grpSpPr>
        <p:sp>
          <p:nvSpPr>
            <p:cNvPr id="822" name="Oval 268"/>
            <p:cNvSpPr/>
            <p:nvPr/>
          </p:nvSpPr>
          <p:spPr>
            <a:xfrm>
              <a:off x="5148360" y="436572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5148360" y="4437000"/>
              <a:ext cx="142920" cy="360"/>
              <a:chOff x="5148360" y="4437000"/>
              <a:chExt cx="142920" cy="360"/>
            </a:xfrm>
          </p:grpSpPr>
          <p:sp>
            <p:nvSpPr>
              <p:cNvPr id="824" name="Line 269"/>
              <p:cNvSpPr/>
              <p:nvPr/>
            </p:nvSpPr>
            <p:spPr>
              <a:xfrm>
                <a:off x="5148360" y="44370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 txBox="1"/>
              <p:nvPr/>
            </p:nvSpPr>
            <p:spPr>
              <a:xfrm>
                <a:off x="5148360" y="44370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6" name="Group 270"/>
          <p:cNvGrpSpPr/>
          <p:nvPr/>
        </p:nvGrpSpPr>
        <p:grpSpPr>
          <a:xfrm>
            <a:off x="3421080" y="3213000"/>
            <a:ext cx="142920" cy="144720"/>
            <a:chOff x="3421080" y="3213000"/>
            <a:chExt cx="142920" cy="144720"/>
          </a:xfrm>
        </p:grpSpPr>
        <p:sp>
          <p:nvSpPr>
            <p:cNvPr id="827" name="Oval 271"/>
            <p:cNvSpPr/>
            <p:nvPr/>
          </p:nvSpPr>
          <p:spPr>
            <a:xfrm>
              <a:off x="3421080" y="3213000"/>
              <a:ext cx="1429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3421080" y="3284640"/>
              <a:ext cx="142920" cy="360"/>
              <a:chOff x="3421080" y="3284640"/>
              <a:chExt cx="142920" cy="360"/>
            </a:xfrm>
          </p:grpSpPr>
          <p:sp>
            <p:nvSpPr>
              <p:cNvPr id="829" name="Line 272"/>
              <p:cNvSpPr/>
              <p:nvPr/>
            </p:nvSpPr>
            <p:spPr>
              <a:xfrm>
                <a:off x="3421080" y="3284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 txBox="1"/>
              <p:nvPr/>
            </p:nvSpPr>
            <p:spPr>
              <a:xfrm>
                <a:off x="3421080" y="3284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1" name="Group 273"/>
          <p:cNvGrpSpPr/>
          <p:nvPr/>
        </p:nvGrpSpPr>
        <p:grpSpPr>
          <a:xfrm>
            <a:off x="3132000" y="3068640"/>
            <a:ext cx="142920" cy="144360"/>
            <a:chOff x="3132000" y="3068640"/>
            <a:chExt cx="142920" cy="144360"/>
          </a:xfrm>
        </p:grpSpPr>
        <p:sp>
          <p:nvSpPr>
            <p:cNvPr id="832" name="Oval 274"/>
            <p:cNvSpPr/>
            <p:nvPr/>
          </p:nvSpPr>
          <p:spPr>
            <a:xfrm>
              <a:off x="3132000" y="3068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3132000" y="3139920"/>
              <a:ext cx="142920" cy="360"/>
              <a:chOff x="3132000" y="3139920"/>
              <a:chExt cx="142920" cy="360"/>
            </a:xfrm>
          </p:grpSpPr>
          <p:sp>
            <p:nvSpPr>
              <p:cNvPr id="834" name="Line 275"/>
              <p:cNvSpPr/>
              <p:nvPr/>
            </p:nvSpPr>
            <p:spPr>
              <a:xfrm>
                <a:off x="3132000" y="3139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 txBox="1"/>
              <p:nvPr/>
            </p:nvSpPr>
            <p:spPr>
              <a:xfrm>
                <a:off x="3132000" y="3139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Group 276"/>
          <p:cNvGrpSpPr/>
          <p:nvPr/>
        </p:nvGrpSpPr>
        <p:grpSpPr>
          <a:xfrm>
            <a:off x="4645080" y="4508640"/>
            <a:ext cx="142920" cy="144360"/>
            <a:chOff x="4645080" y="4508640"/>
            <a:chExt cx="142920" cy="144360"/>
          </a:xfrm>
        </p:grpSpPr>
        <p:sp>
          <p:nvSpPr>
            <p:cNvPr id="837" name="Oval 277"/>
            <p:cNvSpPr/>
            <p:nvPr/>
          </p:nvSpPr>
          <p:spPr>
            <a:xfrm>
              <a:off x="4645080" y="4508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4645080" y="4579920"/>
              <a:ext cx="142920" cy="360"/>
              <a:chOff x="4645080" y="4579920"/>
              <a:chExt cx="142920" cy="360"/>
            </a:xfrm>
          </p:grpSpPr>
          <p:sp>
            <p:nvSpPr>
              <p:cNvPr id="839" name="Line 278"/>
              <p:cNvSpPr/>
              <p:nvPr/>
            </p:nvSpPr>
            <p:spPr>
              <a:xfrm>
                <a:off x="4645080" y="4579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4645080" y="4579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Group 279"/>
          <p:cNvGrpSpPr/>
          <p:nvPr/>
        </p:nvGrpSpPr>
        <p:grpSpPr>
          <a:xfrm>
            <a:off x="6229440" y="3932280"/>
            <a:ext cx="142920" cy="144360"/>
            <a:chOff x="6229440" y="3932280"/>
            <a:chExt cx="142920" cy="144360"/>
          </a:xfrm>
        </p:grpSpPr>
        <p:sp>
          <p:nvSpPr>
            <p:cNvPr id="842" name="Oval 280"/>
            <p:cNvSpPr/>
            <p:nvPr/>
          </p:nvSpPr>
          <p:spPr>
            <a:xfrm>
              <a:off x="6229440" y="39322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6229440" y="4003560"/>
              <a:ext cx="142920" cy="360"/>
              <a:chOff x="6229440" y="4003560"/>
              <a:chExt cx="142920" cy="360"/>
            </a:xfrm>
          </p:grpSpPr>
          <p:sp>
            <p:nvSpPr>
              <p:cNvPr id="844" name="Line 281"/>
              <p:cNvSpPr/>
              <p:nvPr/>
            </p:nvSpPr>
            <p:spPr>
              <a:xfrm>
                <a:off x="6229440" y="4003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 txBox="1"/>
              <p:nvPr/>
            </p:nvSpPr>
            <p:spPr>
              <a:xfrm>
                <a:off x="6229440" y="4003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6" name="Group 282"/>
          <p:cNvGrpSpPr/>
          <p:nvPr/>
        </p:nvGrpSpPr>
        <p:grpSpPr>
          <a:xfrm>
            <a:off x="6661080" y="2997360"/>
            <a:ext cx="142920" cy="144360"/>
            <a:chOff x="6661080" y="2997360"/>
            <a:chExt cx="142920" cy="144360"/>
          </a:xfrm>
        </p:grpSpPr>
        <p:sp>
          <p:nvSpPr>
            <p:cNvPr id="847" name="Oval 283"/>
            <p:cNvSpPr/>
            <p:nvPr/>
          </p:nvSpPr>
          <p:spPr>
            <a:xfrm>
              <a:off x="6661080" y="299736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6661080" y="3068640"/>
              <a:ext cx="142920" cy="360"/>
              <a:chOff x="6661080" y="3068640"/>
              <a:chExt cx="142920" cy="360"/>
            </a:xfrm>
          </p:grpSpPr>
          <p:sp>
            <p:nvSpPr>
              <p:cNvPr id="849" name="Line 284"/>
              <p:cNvSpPr/>
              <p:nvPr/>
            </p:nvSpPr>
            <p:spPr>
              <a:xfrm>
                <a:off x="6661080" y="3068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 txBox="1"/>
              <p:nvPr/>
            </p:nvSpPr>
            <p:spPr>
              <a:xfrm>
                <a:off x="6661080" y="3068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Group 285"/>
          <p:cNvGrpSpPr/>
          <p:nvPr/>
        </p:nvGrpSpPr>
        <p:grpSpPr>
          <a:xfrm>
            <a:off x="8461440" y="3789360"/>
            <a:ext cx="142920" cy="144360"/>
            <a:chOff x="8461440" y="3789360"/>
            <a:chExt cx="142920" cy="144360"/>
          </a:xfrm>
        </p:grpSpPr>
        <p:sp>
          <p:nvSpPr>
            <p:cNvPr id="852" name="Oval 286"/>
            <p:cNvSpPr/>
            <p:nvPr/>
          </p:nvSpPr>
          <p:spPr>
            <a:xfrm>
              <a:off x="8461440" y="378936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8461440" y="3860640"/>
              <a:ext cx="142920" cy="360"/>
              <a:chOff x="8461440" y="3860640"/>
              <a:chExt cx="142920" cy="360"/>
            </a:xfrm>
          </p:grpSpPr>
          <p:sp>
            <p:nvSpPr>
              <p:cNvPr id="854" name="Line 287"/>
              <p:cNvSpPr/>
              <p:nvPr/>
            </p:nvSpPr>
            <p:spPr>
              <a:xfrm>
                <a:off x="8461440" y="3860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>
                <a:off x="8461440" y="3860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6" name="Group 288"/>
          <p:cNvGrpSpPr/>
          <p:nvPr/>
        </p:nvGrpSpPr>
        <p:grpSpPr>
          <a:xfrm>
            <a:off x="7956720" y="4005360"/>
            <a:ext cx="142560" cy="144360"/>
            <a:chOff x="7956720" y="4005360"/>
            <a:chExt cx="142560" cy="144360"/>
          </a:xfrm>
        </p:grpSpPr>
        <p:sp>
          <p:nvSpPr>
            <p:cNvPr id="857" name="Oval 289"/>
            <p:cNvSpPr/>
            <p:nvPr/>
          </p:nvSpPr>
          <p:spPr>
            <a:xfrm>
              <a:off x="7956720" y="4005360"/>
              <a:ext cx="1425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7956720" y="4076640"/>
              <a:ext cx="142560" cy="360"/>
              <a:chOff x="7956720" y="4076640"/>
              <a:chExt cx="142560" cy="360"/>
            </a:xfrm>
          </p:grpSpPr>
          <p:sp>
            <p:nvSpPr>
              <p:cNvPr id="859" name="Line 290"/>
              <p:cNvSpPr/>
              <p:nvPr/>
            </p:nvSpPr>
            <p:spPr>
              <a:xfrm>
                <a:off x="7956720" y="407664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 txBox="1"/>
              <p:nvPr/>
            </p:nvSpPr>
            <p:spPr>
              <a:xfrm>
                <a:off x="7956720" y="4076640"/>
                <a:ext cx="14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1" name="Text Box 293"/>
          <p:cNvSpPr/>
          <p:nvPr/>
        </p:nvSpPr>
        <p:spPr>
          <a:xfrm>
            <a:off x="1910160" y="76500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没有通电时自由电子的运动情况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38889E-006 2.11841E-006 C 0.01233 -0.00555 0.01893 -0.00925 0.0316 -0.01087 C 0.04254 -0.00971 0.05399 -0.01226 0.06441 -0.0074 C 0.06771 -0.00578 0.07188 0.01596 0.07274 0.02012 C 0.07309 0.02498 0.07413 0.02983 0.07396 0.03469 C 0.07361 0.05042 0.0724 0.06637 0.07136 0.0821 C 0.07101 0.08834 0.06719 0.11216 0.06163 0.11494 C 0.05695 0.11725 0.05174 0.1161 0.0467 0.11679 C 0.0408 0.1161 0.03472 0.11633 0.02882 0.11494 C 0.01493 0.1117 0.00677 0.08858 0.00278 0.07308 C 0.00035 0.05319 -0.0059 0.03423 -0.00955 0.01457 C -0.00434 -0.00833 -0.00607 -0.00578 0.00972 -0.01272 C 0.01719 -0.02313 0.01198 -0.01711 0.02743 -0.02729 C 0.02952 -0.02868 0.03212 -0.02845 0.03438 -0.02914 C 0.03577 -0.0296 0.03976 -0.03099 0.03837 -0.03099 C 0.03472 -0.03099 0.03108 -0.0296 0.02743 -0.02914 C 0.01875 -0.02821 0.01007 -0.02798 0.00139 -0.02729 C -0.01302 -0.02382 -0.01423 -0.01827 -0.02048 -0.00185 C -0.02396 0.00717 -0.02673 0.01388 -0.02864 0.02382 C -0.02778 0.03168 -0.0276 0.03978 -0.02604 0.04741 C -0.02465 0.05458 -0.02066 0.06036 -0.0191 0.06753 C -0.01666 0.07817 -0.01319 0.09806 -0.00677 0.10592 C -0.0026 0.11101 0.00139 0.11795 0.00695 0.11864 C 0.01198 0.11933 0.01702 0.1198 0.02205 0.12049 C 0.03021 0.11772 0.03854 0.11563 0.0467 0.11309 C 0.05834 0.09991 0.07049 0.08557 0.07813 0.06753 C 0.07986 0.0636 0.08125 0.0592 0.08229 0.05481 C 0.08438 0.04648 0.08768 0.02914 0.08768 0.02914 C 0.08646 0.01827 0.08542 0.00925 0.0809 2.11841E-006 C 0.04861 0.00624 0.01962 0.02752 -0.00538 0.05481 C -0.01041 0.06799 -0.01111 0.07054 -0.02048 0.08025 C -0.02587 0.09482 -0.01979 0.08117 -0.02864 0.09297 C -0.02969 0.09436 -0.02604 0.09043 -0.02465 0.0895 C -0.02239 0.08811 -0.01996 0.08719 -0.01771 0.0858 C -0.01094 0.08117 -0.00399 0.07632 0.00278 0.07123 C 0.02448 0.03492 0.04774 -0.03562 0.08507 -0.04556 C 0.08646 -0.04487 0.08872 -0.04556 0.08906 -0.04371 C 0.08924 -0.04117 0.08698 -0.03908 0.08646 -0.03654 C 0.07917 0.00624 0.0941 -0.05365 0.0809 0.00555 C 0.07518 0.03145 0.06823 0.05666 0.06163 0.0821 C 0.05955 0.09043 0.05695 0.105 0.05347 0.11309 C 0.0474 0.12697 0.03386 0.13483 0.02465 0.14223 C 0.02188 0.14454 0.01354 0.15148 0.01649 0.14963 C 0.02049 0.14732 0.02743 0.14061 0.02743 0.14061 C 0.02691 0.13205 0.02604 0.11494 0.02604 0.11494 E">
                                      <p:cBhvr>
                                        <p:cTn id="42" dur="5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-1.68363E-006 C 0.01354 -0.00601 0.03021 -0.0074 0.04253 -0.01827 C 0.05816 -0.03215 0.06753 -0.04995 0.07673 -0.07123 C 0.07882 -0.07586 0.08021 -0.08117 0.08229 -0.0858 C 0.08437 -0.09019 0.08715 -0.09413 0.08906 -0.09852 C 0.09028 -0.10129 0.09288 -0.10476 0.09184 -0.10777 C 0.09097 -0.11008 0.08819 -0.10615 0.08628 -0.10592 C 0.08038 -0.105 0.07448 -0.10453 0.06858 -0.10407 C 0.05764 -0.10338 0.04653 -0.10291 0.03559 -0.10222 C 0.02118 -0.09736 0.03733 -0.07447 0.04253 -0.06753 C 0.05417 -0.05203 0.07031 -0.04093 0.08489 -0.03099 C 0.07153 -0.02359 0.05781 -0.01665 0.04392 -0.0111 C 0.04635 0.00555 0.05399 0.0192 0.05903 0.03469 C 0.05937 0.03839 0.06285 0.04625 0.06024 0.04556 C 0.05451 0.04394 0.05035 0.037 0.0467 0.03099 C 0.04167 0.02243 0.0316 0.00532 0.0316 0.00532 C 0.03889 -0.02243 0.0684 -0.03885 0.08628 -0.04926 C 0.1276 -0.07331 0.16719 -0.09482 0.20955 -0.11309 C 0.21441 -0.09436 0.21371 -0.10222 0.20833 -0.07308 C 0.20156 -0.03723 0.18819 -0.00439 0.16858 0.02174 C 0.16302 0.02128 0.15746 0.02197 0.15208 0.02012 C 0.14201 0.01688 0.14201 0.01295 0.13559 0.00532 C 0.12795 -0.0037 0.12014 -0.00948 0.11371 -0.02012 C 0.1092 -0.04995 0.11892 -0.07401 0.12326 -0.10222 C 0.125 -0.11263 0.12448 -0.12234 0.13298 -0.12604 C 0.14965 -0.10708 0.13958 -0.11795 0.16996 -0.0895 C 0.17257 -0.08696 0.17812 -0.0821 0.17812 -0.0821 C 0.17187 -0.07007 0.17118 -0.05504 0.1658 -0.04209 C 0.16354 -0.03677 0.16024 -0.03261 0.15764 -0.02752 C 0.15469 -0.02151 0.15173 -0.01549 0.1493 -0.00925 C 0.14392 0.00439 0.14236 0.01434 0.13298 0.02359 C 0.12969 0.0229 0.12621 0.02359 0.12326 0.02174 C 0.11371 0.01619 0.1151 -0.03053 0.1151 -0.03654 E">
                                      <p:cBhvr>
                                        <p:cTn id="44" dur="5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-2.77521E-007 C 0.00764 -0.00648 0.01719 -0.00578 0.02604 -0.00717 C 0.03663 -0.01087 0.04549 -0.01758 0.05625 -0.01989 C 0.05764 -0.02105 0.06076 -0.02567 0.06024 -0.02359 C 0.05937 -0.01989 0.05642 -0.01781 0.05486 -0.01457 C 0.05226 -0.00925 0.05052 -0.00347 0.04792 0.00185 C 0.03715 0.02382 0.0283 0.04325 0.02066 0.06753 C 0.01892 0.08002 0.01806 0.09389 0.0151 0.10592 C -0.00399 0.07493 -0.02465 0.03261 -0.0342 -0.00532 C -0.03177 -0.02428 -0.02604 -0.02613 -0.01372 -0.03469 C -0.00781 -0.03353 -0.00139 -0.03377 0.00417 -0.03099 C 0.00972 -0.02822 0.01406 -0.02197 0.01927 -0.01804 C 0.04115 -0.00139 0.03229 -0.00879 0.04653 0.0037 C 0.04167 0.01758 0.03542 0.02775 0.02882 0.04024 C 0.02292 0.0518 0.01562 0.0703 0.00833 0.08048 C -0.00642 0.10129 -0.00295 0.08904 -0.01771 0.10592 C -0.02083 0.10962 -0.02309 0.11471 -0.02604 0.11864 C -0.03108 0.12535 -0.03559 0.12673 -0.04115 0.13159 C -0.05608 0.1265 -0.05052 0.10846 -0.04514 0.08765 C -0.03785 0.0592 -0.01563 0.0303 -0.00399 0.0037 C 0.00295 -0.01249 0.00851 -0.03677 0.02326 -0.04371 C 0.04549 -0.03377 0.03003 -0.04279 0.02326 0.03469 C 0.02274 0.04047 0.02049 0.04556 0.01927 0.05111 C 0.0125 0.08372 0.00052 0.11309 -0.02465 0.12419 C -0.03542 0.12049 -0.04271 0.11725 -0.00955 0.14061 C -0.00208 0.14593 0.00573 0.15032 0.01371 0.15333 C 0.03316 0.16073 0.07257 0.1716 0.07257 0.1716 C 0.07882 0.16998 0.09896 0.17091 0.10417 0.15703 C 0.10764 0.14778 0.11233 0.12789 0.11233 0.12789 C 0.11562 0.0932 0.11476 0.05874 0.10278 0.02752 C 0.09705 -0.00278 0.06337 -0.03631 0.04253 -0.04371 C 0.03246 -0.04741 0.0224 -0.05111 0.01233 -0.05458 C 0.00868 -0.05597 0.00139 -0.05828 0.00139 -0.05828 C -0.00573 -0.05504 -0.00538 -0.04718 -0.00677 -0.03816 C -0.0059 -0.01388 -0.00642 0.01064 -0.00399 0.03469 C -0.00347 0.03955 0.00764 0.05134 0.00955 0.05296 C 0.04149 0.08025 0.03403 0.07516 0.05764 0.08765 C 0.05712 0.0858 0.0566 0.08395 0.05625 0.0821 C 0.05573 0.07909 0.05486 0.07308 0.05486 0.07308 E">
                                      <p:cBhvr>
                                        <p:cTn id="46" dur="5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16667E-006 -3.66327E-006 C 0.03142 0.00046 0.06302 -0.00208 0.09444 0.00162 C 0.0967 0.00185 0.09392 0.00786 0.09323 0.01087 C 0.08993 0.02451 0.08576 0.0377 0.08212 0.05111 C 0.07691 0.07031 0.06875 0.11263 0.05208 0.12026 C 0.04548 0.11471 0.04843 0.11887 0.04514 0.10569 C 0.04462 0.10361 0.04323 0.10222 0.04253 0.10037 C 0.03767 0.08534 0.03489 0.0673 0.03281 0.05111 C 0.0335 0.04232 0.03628 0.0303 0.0342 0.02174 C 0.04427 0.02105 0.05451 0.0229 0.06441 0.01989 C 0.06614 0.01943 0.06441 0.01434 0.06302 0.01272 C 0.06076 0.01018 0.05486 0.00902 0.05486 0.00902 C 0.0309 0.01341 0.03923 0.01203 0.02326 0.01989 C 0.01024 0.0333 0.00156 0.06476 -0.00677 0.08395 C -0.00851 0.09482 -0.00851 0.09945 -0.00278 0.10754 C -0.00139 0.08534 0.00278 0.06036 -0.00278 0.03816 C -0.00486 0.02983 -0.01042 0.02775 -0.01511 0.02359 C -0.02431 0.0155 -0.03438 0.00902 -0.04514 0.00532 C -0.0415 -0.00994 -0.03924 -0.00763 -0.03021 -0.01642 C -0.00018 -0.0074 0.02812 0.00648 0.05746 0.01827 C 0.04843 0.03446 0.03281 0.04371 0.02187 0.05828 C 0.00382 0.08233 0.01736 0.06614 0.00278 0.09297 C 4.16666999999982E-006 0.09829 -0.004 0.10222 -0.00677 0.10754 C -0.01111 0.11587 -0.02535 0.15518 -0.02604 0.1568 C -0.02743 0.16027 -0.03004 0.16281 -0.0316 0.16605 C -0.03264 0.16836 -0.03334 0.17091 -0.0342 0.17322 C -0.04757 0.1642 -0.04931 0.12581 -0.05347 0.10754 C -0.05591 0.09713 -0.05886 0.08696 -0.06163 0.07655 C -0.0625 0.06869 -0.06424 0.06082 -0.06441 0.05273 C -0.06511 0.02914 -0.05573 -0.00833 -0.03976 -0.02197 C -0.02882 -0.03145 -0.01667 -0.03215 -0.00417 -0.03469 C 0.00139 -0.03839 0.00364 -0.04117 0.00955 -0.03839 C 0.01649 -0.02012 0.02135 -3.66326999999903E-006 0.02465 0.01989 C 0.02413 0.0333 0.02448 0.04672 0.02326 0.06013 C 0.02309 0.06244 0.02066 0.06337 0.02048 0.06568 C 0.01927 0.07909 0.02604 0.07169 0.02604 0.08025 E">
                                      <p:cBhvr>
                                        <p:cTn id="48" dur="5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E-006 3.52451E-006 C -0.01164 -0.00509 -0.01546 -0.01896 -0.02206 -0.03099 C -0.02622 -0.03839 -0.03108 -0.04186 -0.03699 -0.04579 C -0.04931 -0.02382 -0.03994 0.00948 -0.03299 0.03284 C -0.02917 0.04556 -0.02414 0.05851 -0.01372 0.06198 C -0.0014 0.0562 0.00122 0.04625 0.00816 0.03284 C 0.01268 0.02405 0.01754 0.01596 0.02188 0.00717 C 0.01979 -0.00925 0.0099 -0.03053 -0.0014 -0.03839 C -0.00504 -0.0377 -0.00904 -0.03862 -0.01233 -0.03654 C -0.01563 -0.03446 -0.01737 -0.01318 -0.01789 -0.00925 C -0.01963 0.03284 -0.0132 0.03007 -0.02744 0.01827 C -0.0356 0.00393 -0.03942 -0.01411 -0.04671 -0.02937 C -0.05018 -0.03677 -0.05765 -0.05111 -0.05765 -0.05111 C -0.04879 -0.08626 -0.02449 -0.10685 0.00278 -0.11147 C 0.01459 -0.11078 0.02691 -0.11401 0.03837 -0.10962 C 0.04115 -0.1087 0.03733 -0.10222 0.03698 -0.09852 C 0.0342 -0.06822 0.03525 -0.06799 0.03143 -0.04209 C 0.02761 -0.01688 0.02309 0.00786 0.0191 0.03284 C 0.01702 0.04625 0.01459 0.05897 0.00538 0.06753 C -0.00417 0.07632 -0.01702 0.08071 -0.02744 0.08742 C -0.05313 0.08002 -0.07188 0.05897 -0.09324 0.04001 C -0.10435 -0.00231 -0.05921 -0.02243 -0.03699 -0.02752 C -0.02657 -0.02983 -0.01615 -0.03168 -0.00556 -0.03284 C 0.01077 -0.03469 0.02726 -0.03538 0.04375 -0.03654 C 0.07031 -0.03538 0.09688 -0.03585 0.12327 -0.03284 C 0.13195 -0.03191 0.14028 -0.02729 0.14792 -0.02197 C 0.15 -0.02058 0.14323 -0.02313 0.14097 -0.02382 C 0.11528 -0.0414 0.09653 -0.06614 0.07674 -0.0932 C 0.06354 -0.08742 0.0533 -0.05481 0.04931 -0.03839 C 0.04844 -0.02937 0.04601 -0.02035 0.04653 -0.0111 C 0.04757 0.00694 0.06077 0.01781 0.06841 0.03099 C 0.06979 0.0303 0.07257 0.03099 0.07257 0.02914 C 0.07257 0.02197 0.06163 0.02729 0.06163 0.02729 C 0.05781 0.03122 0.05469 0.03631 0.0507 0.04001 C 0.04809 0.04232 0.04514 0.04394 0.04236 0.04556 C 0.04011 0.04695 0.03698 0.04672 0.03559 0.04926 C 0.0349 0.05065 0.0375 0.0518 0.03837 0.05296 E">
                                      <p:cBhvr>
                                        <p:cTn id="50" dur="5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11111E-006 -5.55042E-007 C 0.00087 -0.03099 0.00087 -0.06198 0.0026 -0.09297 C 0.00278 -0.09574 0.0059 -0.0976 0.00538 -0.10037 C 0.00347 -0.10962 -0.00799 -0.108 -0.01511 -0.10939 C -0.0224 -0.11078 -0.02969 -0.11193 -0.03698 -0.11309 C -0.06997 -0.11193 -0.10295 -0.11309 -0.13577 -0.10939 C -0.14514 -0.10823 -0.16302 -0.09852 -0.16302 -0.09852 C -0.15122 -0.07192 -0.1283 -0.05504 -0.10556 -0.05111 C -0.09462 -0.05227 -0.08351 -0.0525 -0.07275 -0.05481 C -0.05295 -0.05897 -0.03629 -0.07401 -0.0165 -0.0784 C -0.00486 -0.07331 -0.0099 -0.07747 -0.01511 -0.04371 C -0.0191 -0.01781 -0.02413 0.00601 -0.03577 0.02729 C -0.03611 0.0303 -0.03906 0.03538 -0.03698 0.03654 C -0.03368 0.03839 -0.01406 0.0259 -0.00972 0.02382 C 0.01458 0.01249 0.0408 0.00439 0.06423 -0.01087 C 0.07534 -0.04024 0.05833 -0.07262 0.04236 -0.09297 C 0.03628 -0.11332 0.04288 -0.0932 0.02725 -0.12581 C 0.01857 -0.14385 0.01232 -0.16304 -0.00278 -0.17322 C -0.00834 -0.17692 -0.01406 -0.17993 -0.01927 -0.18432 C -0.02431 -0.18848 -0.03438 -0.19704 -0.03438 -0.19704 C -0.01441 -0.21045 0.00659 -0.21068 0.02864 -0.21346 C 0.03559 -0.21277 0.04375 -0.21716 0.0493 -0.21161 C 0.05121 -0.20976 0.0401 -0.18525 0.03958 -0.18432 C 0.03298 -0.17253 0.02691 -0.16004 0.01909 -0.14963 C -0.00504 -0.11748 0.00052 -0.12211 -0.04115 -0.0895 C -0.10139 -0.04209 -0.03854 -0.09343 -0.07674 -0.05828 C -0.07969 -0.0555 -0.08334 -0.05389 -0.08629 -0.05111 C -0.08837 -0.04903 -0.09445 -0.0444 -0.09184 -0.04371 C -0.08802 -0.04278 -0.04948 -0.05204 -0.0467 -0.05296 C 0.00677 -0.07123 0.05764 -0.10014 0.11232 -0.10939 C 0.12604 -0.11563 0.13003 -0.1154 0.13837 -0.12951 C 0.13125 -0.14847 0.12587 -0.14871 0.10955 -0.16235 C 0.09982 -0.17044 0.09201 -0.17877 0.08073 -0.18247 C 0.06753 -0.17877 0.05989 -0.16975 0.05191 -0.1568 C 0.05104 -0.1531 0.05052 -0.1494 0.0493 -0.14593 C 0.04774 -0.14154 0.04184 -0.13691 0.05191 -0.13691 E">
                                      <p:cBhvr>
                                        <p:cTn id="52" dur="5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1.54487E-006 C 0.01024 -0.00208 0.02014 -0.00601 0.03021 -0.00925 C 0.03976 -0.01573 0.03906 -0.01781 0.0342 0.01087 C 0.03229 0.0222 0.0309 0.034 0.02604 0.04371 C 0.01424 0.0673 0.00642 0.071 -0.01094 0.08557 C -0.0184 0.09181 -0.03281 0.10569 -0.03281 0.10569 C -0.04115 0.08904 -0.03698 0.06753 -0.03003 0.05088 C -0.0158 0.01711 0.02396 0.00509 0.04931 -0.0074 C 0.06962 -0.01758 0.05417 -0.00809 0.06997 -0.01827 C 0.05313 -0.01896 -0.01007 -0.03353 -0.03698 -0.01295 C -0.04184 -0.00462 -0.04583 0.00324 -0.04931 0.01272 C -0.04983 0.01943 -0.05104 0.02613 -0.05069 0.03284 C -0.05052 0.03723 -0.04896 0.0414 -0.04792 0.04556 C -0.0441 0.06175 -0.03837 0.09066 -0.02465 0.09667 C -0.00868 0.09482 -0.00955 0.09343 0.00278 0.08927 C 0.00556 0.10014 -0.00052 0.11263 -0.00417 0.12211 C -0.01371 0.14755 -0.02778 0.16883 -0.03837 0.19334 C -0.04062 0.19866 -0.05069 0.22132 -0.05069 0.22988 C -0.05069 0.23358 -0.04826 0.2234 -0.04653 0.22063 C -0.04306 0.21485 -0.03976 0.20907 -0.03559 0.20421 C -0.0092 0.17414 -0.02587 0.20213 -0.00139 0.16952 C 0.01389 0.14917 0.02587 0.11818 0.03299 0.09112 C 0.03993 0.06476 0.03194 0.08811 0.03698 0.06383 C 0.03854 0.05597 0.04254 0.04741 0.04531 0.04001 C 0.04774 0.0222 0.04705 0.01064 0.04531 -0.0074 C 0.02465 0.01341 0.0026 0.03353 -0.02049 0.04926 C -0.00746 0.06059 -0.00243 0.06869 0.01372 0.07655 C 0.0276 0.08349 0.04219 0.08858 0.05625 0.09482 C 0.0599 0.09644 0.06719 0.10014 0.06719 0.10014 C 0.06406 0.12905 0.04358 0.14593 0.02604 0.1605 C 0.01892 0.16651 -0.00156 0.18501 0.00417 0.17692 C 0.0125 0.16536 0.02153 0.16096 0.03299 0.1568 C 0.03837 0.15472 0.04392 0.15333 0.04931 0.15125 C 0.0625 0.14593 0.07014 0.14154 0.08229 0.13483 C 0.08854 0.12211 0.08281 0.13691 0.08351 0.12396 C 0.0842 0.11101 0.08524 0.10777 0.08767 0.09852 C 0.08819 0.09482 0.08906 0.08742 0.08906 0.08742 E">
                                      <p:cBhvr>
                                        <p:cTn id="54" dur="5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94444E-006 -3.22849E-006 C 0.00226 -0.01203 0.00451 -0.01989 0.00538 -0.03284 C 0.00312 -0.04949 -0.00903 -0.06545 -0.02049 -0.07308 C -0.0283 -0.0784 -0.04514 -0.0858 -0.04514 -0.0858 C -0.04896 -0.07886 -0.05 -0.07262 -0.05347 -0.06568 C -0.05538 -0.05597 -0.05313 -0.03631 -0.04392 -0.03284 C -0.03629 -0.02983 -0.02049 -0.02729 -0.02049 -0.02729 C -0.00868 -0.03122 0.00017 -0.0451 0.00955 -0.05481 C 0.01215 -0.05735 0.01458 -0.06082 0.01771 -0.06198 C 0.01962 -0.06267 0.02326 -0.06637 0.02326 -0.06383 C 0.02326 -0.06105 0.01944 -0.06152 0.01771 -0.06013 C 0.01024 -0.05389 0.00434 -0.04764 -0.00139 -0.03839 C -0.00486 -0.03261 -0.00764 -0.02613 -0.01094 -0.02012 C -0.01719 -0.00902 -0.02622 -0.000229999999999999 -0.03021 0.01272 C -0.03247 0.02012 -0.03698 0.03469 -0.03698 0.03469 C -0.03542 0.04255 -0.03212 0.04556 -0.03021 0.05296 C -0.03629 0.06522 -0.0474 0.07192 -0.05625 0.08025 C -0.05938 0.08326 -0.0658 0.0895 -0.0658 0.0895 C -0.02066 0.09852 -0.01858 0.09945 0.06302 0.0895 C 0.06632 0.08904 0.0625 0.08071 0.06163 0.07655 C 0.0592 0.06383 0.0559 0.04972 0.05069 0.03839 C 0.03055 -0.00648 0.00417 -0.04024 -0.03021 -0.06568 C -0.02587 -0.04325 -0.01962 -0.02105 -0.00816 -0.0037 C -0.00747 -0.00116 -0.00365 0.0111 -0.00417 0.01457 C -0.00469 0.01711 -0.00695 0.01804 -0.00816 0.02012 C -0.02083 0.04047 -0.01302 0.03168 -0.02326 0.04186 C -0.03333 0.03747 -0.02413 0.02706 -0.01927 0.02359 C -0.00886 0.01596 0.0158 0.00925 0.02187 0.00717 C 0.02691 0.00532 0.03698 0.00185 0.03698 0.00185 C 0.0401 -0.00069 0.04514 -0.00092 0.04653 -0.00555 C 0.04948 -0.01503 0.03906 -0.02914 0.03559 -0.03469 C 0.02465 -0.05227 0.01424 -0.06822 -0.00139 -0.0784 C -0.01372 -0.07562 -0.01129 -0.07377 -0.01511 -0.05851 C -0.0132 -0.04024 -0.01632 -0.0266 -0.00278 -0.02197 C 0.04062 -0.0266 0.03785 -0.02613 0.0684 -0.03654 C 0.06979 -0.0377 0.07257 -0.04255 0.07257 -0.04024 C 0.07257 -0.0377 0.0691 -0.03723 0.0684 -0.03469 C 0.06667 -0.02775 0.06684 -0.01989 0.0658 -0.01272 C 0.06458 -0.00486 0.06354 0.00324 0.06163 0.01087 C 0.05712 0.02914 0.05121 0.04718 0.04653 0.06568 C 0.03507 0.04995 0.01753 0.04417 0.00816 0.02544 C 0.0066 0.0148 0.00833 0.01873 0.00417 0.01272 E">
                                      <p:cBhvr>
                                        <p:cTn id="56" dur="5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2.77778E-007 3.66327E-006 C 0.01284 -0.00439 0.01927 0.00763 0.03003 0.01457 C 0.03767 0.01966 0.04652 0.02105 0.05347 0.02729 C 0.06406 0.037 0.05868 0.03284 0.06979 0.04001 C 0.06423 0.05481 0.06111 0.07146 0.05468 0.0858 C 0.04566 0.10592 0.03454 0.12581 0.02326 0.14408 C 0.01736 0.14154 0.01128 0.13992 0.00538 0.13691 C 0.00086 0.1346 -0.00816 0.12951 -0.00816 0.12951 C -0.00209 0.11286 0.00694 0.09921 0.01232 0.0821 C 0.01493 0.07377 0.01909 0.05643 0.01909 0.05643 C 0.01857 0.05342 0.01892 0.05019 0.0177 0.04741 C 0.01215 0.03423 -0.01945 0.03215 -0.02882 0.03099 C -0.04028 0.03168 -0.05174 0.03053 -0.06302 0.03284 C -0.06441 0.03307 -0.06459 0.03654 -0.06441 0.03839 C -0.0625 0.06383 -0.06285 0.06499 -0.05486 0.0821 C -0.0415 0.11101 -0.01893 0.1235 0.00538 0.12766 C 0.0118 0.12697 0.01823 0.1272 0.02465 0.12581 C 0.04652 0.12118 0.05746 0.09459 0.06302 0.06938 C 0.06666 0.03492 0.04878 0.01758 0.03142 -0.00555 C 0.02864 -0.00925 0.02639 -0.01364 0.02326 -0.01642 C 0.01909 -0.02012 0.01093 -0.02752 0.01093 -0.02752 C 0.00364 -0.02636 -0.00382 -0.02567 -0.01094 -0.02382 C -0.01632 -0.02243 -0.02049 -0.01642 -0.02605 -0.01457 C -0.03021 0.00671 -0.01997 0.04556 -0.03021 0.06383 C -0.03247 0.06799 -0.03768 0.06707 -0.04115 0.06938 C -0.05209 0.06822 -0.0632 0.06869 -0.07396 0.06568 C -0.07796 0.06452 -0.0658 0.06383 -0.06164 0.06383 C -0.01042 0.06383 0.04062 0.06499 0.09184 0.06568 C 0.05954 0.08164 0.02899 0.10407 -0.00417 0.11679 C -0.01059 0.11933 -0.03577 0.12858 -0.04393 0.13321 C -0.04827 0.13575 -0.05226 0.13899 -0.05625 0.14223 C -0.05903 0.14454 -0.06441 0.14963 -0.06441 0.14963 C -0.07153 0.10176 -0.03802 0.04602 -0.01789 0.00902 C -0.01077 -0.00416 -0.00278 -0.01573 0.00416 -0.02914 C 0.00677 -0.03423 0.01232 -0.04394 0.01232 -0.04394 C 0.01666 -0.02151 0.02274 -0.000230000000000001 0.02743 0.02197 C 0.03211 0.08349 0.02465 -0.01503 0.0342 0.14593 C 0.03489 0.15657 0.03402 0.15449 0.03975 0.1568 C 0.03645 0.14015 0.03906 0.15842 0.04375 0.12766 C 0.04687 0.10754 0.04496 0.11517 0.04791 0.10407 C 0.04635 0.09783 0.04514 0.09852 0.04791 0.09852 E">
                                      <p:cBhvr>
                                        <p:cTn id="58" dur="5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77778E-007 3.38575E-006 C 0.00243 -0.00948 0.00712 -0.01596 0.00955 -0.02567 C 0.01441 -0.04463 0.01753 -0.0636 0.02326 -0.0821 C 0.01371 -0.08626 0.00399 -0.07701 -0.00556 -0.07493 C -0.01597 -0.0703 -0.02622 -0.06429 -0.03559 -0.05666 C -0.04202 -0.03099 -0.03698 -0.05689 0.00955 -0.04926 C 0.01111 -0.04903 0.00798 -0.04533 0.00677 -0.04394 C 0.0033 -0.03978 -0.00035 -0.03608 -0.00417 -0.03284 C -0.04011 -0.00162 -0.02379 -0.02151 -0.04115 0.00162 C -0.04167 0.00463 -0.0441 0.01156 -0.04115 0.01457 C -0.03958 0.01619 -0.03733 0.01573 -0.03559 0.01642 C -0.02604 0.02058 -0.01684 0.02428 -0.00695 0.02729 C 0.0066 0.03608 0.0184 0.0407 0.03281 0.04556 C 0.04149 0.05319 0.03524 0.04949 0.0533 0.04741 C 0.06545 0.04602 0.03055 0.05828 0.0191 0.06383 C 0.01337 0.06661 0.00712 0.06684 0.00139 0.06915 C -0.00608 0.07216 -0.0132 0.07701 -0.02066 0.08025 C -0.02361 0.06106 -0.02483 0.03816 -0.01788 0.01989 C -0.01337 0.00809 -0.01007 0.00763 -0.00417 -0.0037 C -0.00017 -0.01133 0.00139 -0.02174 0.00677 -0.02752 C 0.0151 -0.03654 0.02517 -0.04278 0.03281 -0.05296 C 0.03767 -0.05944 0.04149 -0.06707 0.04653 -0.07308 C 0.05069 -0.07817 0.05694 -0.08187 0.06163 -0.0858 C 0.06441 -0.08811 0.06701 -0.09066 0.06979 -0.0932 C 0.07118 -0.09436 0.07396 -0.0969 0.07396 -0.0969 C 0.06858 -0.08487 0.06771 -0.07354 0.06441 -0.06036 C 0.06198 -0.05042 0.05885 -0.04093 0.05608 -0.03122 C 0.05243 -0.0185 0.05156 -0.00694 0.04375 0.00347 C 0.03385 0.01665 0.01944 0.0118 0.00816 0.02174 C -0.0033 0.03192 -0.01441 0.04255 -0.02604 0.05273 C -0.00174 0.05828 0.06736 0.07817 0.03281 0.04371 C 0.03177 0.04117 0.02465 0.02613 0.02465 0.02359 C 0.02465 0.000459999999999999 0.03628 -0.01503 0.04514 -0.03284 C 0.04757 -0.03793 0.05017 -0.0481 0.0533 -0.05296 C 0.05764 -0.05944 0.06198 -0.0636 0.06562 -0.07123 C 0.05642 -0.08395 0.04253 -0.08418 0.03003 -0.0858 C 0.0118 -0.08441 -0.00625 -0.08326 -0.02205 -0.06938 C -0.03264 -0.04787 -0.02309 -0.03284 -0.01372 -0.01642 C -0.00295 0.00278 0.00399 0.02567 0.01771 0.04186 C 0.02153 0.04625 0.02864 0.04926 0.03281 0.05273 C 0.04132 0.05967 0.04913 0.06776 0.05746 0.0747 C 0.05972 0.07655 0.06441 0.08025 0.06441 0.08025 C 0.05955 0.08649 0.05555 0.09413 0.05069 0.10037 C 0.0441 0.1087 0.03003 0.12396 0.03003 0.12396 C 0.02691 0.11124 0.02812 0.12026 0.0342 0.09667 C 0.03524 0.09251 0.03698 0.08395 0.03698 0.08395 E">
                                      <p:cBhvr>
                                        <p:cTn id="60" dur="5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2.67345E-006 C 0.01735 0.00393 0.03281 0.01388 0.0493 0.02197 C 0.06093 0.02775 0.07274 0.02798 0.08489 0.02937 C 0.08437 0.03654 0.08628 0.04487 0.0835 0.05111 C 0.08176 0.05481 0.08142 0.04278 0.0809 0.03839 C 0.08003 0.02937 0.08003 0.02012 0.07951 0.0111 C 0.06371 0.01457 0.05381 0.01989 0.03975 0.02937 C 0.03801 0.03053 0.03715 0.0333 0.03558 0.03469 C 0.02517 0.04325 0.02343 0.0414 0.01649 0.05666 C 0.0151 0.07724 0.01058 0.09621 0.00833 0.11679 C 0.00867 0.1198 0.01024 0.12303 0.00954 0.12604 C 0.00937 0.12697 0.00103 0.12951 -0.0014 0.12974 C -0.0073 0.13067 -0.0132 0.1309 -0.0191 0.13136 C -0.03647 0.1302 -0.05383 0.12997 -0.07119 0.12789 C -0.08022 0.12697 -0.08351 0.12604 -0.07935 0.11494 C -0.07848 0.11263 -0.07657 0.11147 -0.07535 0.10962 C -0.07344 0.10661 -0.07153 0.10361 -0.0698 0.10037 C -0.06824 0.09759 -0.06754 0.09389 -0.06581 0.09135 C -0.06112 0.08395 -0.05087 0.08094 -0.04515 0.07493 C -0.02535 0.05412 -0.01337 0.04186 0.01093 0.03122 C 0.02326 0.0259 0.0493 0.02382 0.0493 0.02382 C 0.05711 0.02498 0.06492 0.02498 0.07256 0.02752 C 0.07881 0.0296 0.07951 0.05065 0.0809 0.05666 C 0.08142 0.06337 0.08246 0.07007 0.08228 0.07678 C 0.08142 0.10361 0.06996 0.14547 0.05208 0.16073 C 0.03836 0.17252 0.02135 0.17322 0.00694 0.18247 C -0.0014 0.18108 -0.00695 0.17738 -0.01511 0.1753 C -0.02136 0.15009 -0.0073 0.13714 0.00138 0.11864 C 0.00416 0.11286 0.00555 0.10615 0.00833 0.10037 C 0.02395 0.06845 0.01058 0.10569 0.02065 0.07493 C 0.02239 0.05643 0.02395 0.0525 0.03836 0.04926 C 0.05069 0.04995 0.06336 0.04695 0.07534 0.05111 C 0.07812 0.05203 0.07204 0.05759 0.06996 0.06036 C 0.06336 0.06915 0.05676 0.07354 0.04791 0.07863 C 0.03194 0.08788 0.01597 0.09898 -0.0014 0.10222 C -0.01511 0.1006 -0.01772 0.10106 -0.02744 0.09135 C -0.02969 0.08649 -0.03195 0.08164 -0.03421 0.07678 C -0.03508 0.07493 -0.03699 0.07123 -0.03699 0.07123 C -0.0356 0.06383 -0.03681 0.05458 -0.03282 0.04926 C -0.03004 0.04556 -0.02813 0.0407 -0.02466 0.03839 C -0.01737 0.0333 -0.0073 0.02798 -0.0014 0.02012 C 0.00416 0.01272 0.00867 0.00439 0.01371 -0.00347 C 0.01562 -0.00648 0.02482 -0.00833 0.02187 -0.00902 C 0.01701 -0.01018 -0.00817 -0.00648 -0.0165 -0.00532 C -0.03022 -0.00139 -0.04497 0.00439 -0.05747 0.01295 C -0.06164 0.02914 -0.05435 0.04186 -0.04653 0.05296 C -0.02449 0.08418 0.00294 0.1087 0.03159 0.12789 C 0.03298 0.12673 0.03472 0.12604 0.03558 0.12419 C 0.03975 0.11563 0.03385 0.11679 0.03975 0.11679 E">
                                      <p:cBhvr>
                                        <p:cTn id="62" dur="5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2.81221E-006 C 0.01302 -0.01249 -0.00139 2.81220999999963E-006 0.01094 -0.00717 C 0.02257 -0.01388 0.03351 -0.02475 0.04253 -0.03631 C 0.04392 -0.04325 0.04635 -0.04787 0.04792 -0.05458 C 0.04705 -0.05643 0.04653 -0.05851 0.04531 -0.06013 C 0.0441 -0.06175 0.04219 -0.06198 0.04114 -0.06383 C 0.03802 -0.06961 0.03767 -0.07863 0.03298 -0.0821 C 0.01267 -0.09783 0.02257 -0.09204 0.00417 -0.10037 C 1.38888999999965E-006 -0.08372 0.01371 -0.09921 0.01649 -0.10199 C 0.01892 -0.11471 0.0191 -0.12373 0.01788 -0.13668 C 0.01649 -0.13367 0.01545 -0.1302 0.01371 -0.12766 C 0.0118 -0.12465 0.00868 -0.12327 0.00694 -0.12026 C -0.00122 -0.10592 -0.00313 -0.09019 -0.01094 -0.07655 C -0.01007 -0.07169 -0.00261 -0.05088 -0.00677 -0.04556 C -0.01059 -0.0407 -0.01702 -0.04255 -0.02188 -0.04001 C -0.03733 -0.03238 -0.04601 -0.02914 -0.06302 -0.02729 C -0.05886 -0.0111 -0.0599 -0.00671 -0.05208 0.0037 C -0.05017 0.00624 -0.0434 0.00994 -0.04236 0.01295 C -0.04167 0.0148 -0.04514 0.01156 -0.04653 0.0111 C -0.05017 0.00971 -0.05382 0.00879 -0.05747 0.0074 C -0.06754 0.00347 -0.08767 -0.00532 -0.08767 -0.00532 C -0.09132 -0.01966 -0.08837 -0.03492 -0.08629 -0.04926 C -0.08681 -0.05227 -0.08715 -0.05527 -0.08767 -0.05828 C -0.08802 -0.06013 -0.08958 -0.06198 -0.08906 -0.06383 C -0.08351 -0.08164 -0.0684 -0.10361 -0.05608 -0.11309 C -0.05035 -0.11748 -0.04427 -0.12165 -0.03837 -0.12581 C -0.03507 -0.12812 -0.02743 -0.12951 -0.02743 -0.12951 C -0.01233 -0.1272 0.00069 -0.12165 0.0151 -0.11494 C 0.03524 -0.09436 0.03767 -0.10315 0.02604 -0.08025 C 0.025 -0.07817 0.02326 -0.07655 0.02187 -0.0747 C 0.01892 -0.06452 0.01441 -0.05944 0.00955 -0.05111 C 0.00694 -0.03099 0.00729 -0.0296 0.00955 -0.00347 C 0.0092 0.00023 0.01076 0.00578 0.00833 0.0074 C 0.00469 0.00994 0.00017 0.00624 -0.00399 0.00555 C -0.02031 0.00324 -0.03629 0.00162 -0.05208 -0.00532 C -0.05382 -0.01295 -0.05226 -0.0192 -0.0533 -0.02729 C -0.05261 -0.034 -0.05087 -0.04602 -0.04653 -0.05111 C -0.04132 -0.05712 -0.03195 -0.05782 -0.02604 -0.06013 C 0.00104 -0.07031 -0.02899 -0.06175 1.38889E-006 -0.06915 C 0.00295 -0.05805 0.00312 -0.06244 -0.00955 -0.04926 C -0.02257 -0.03562 -0.03715 -0.03122 -0.0533 -0.02914 C -0.06927 -0.03168 -0.08108 -0.04093 -0.09445 -0.05273 C -0.09097 -0.07609 -0.07952 -0.0932 -0.07257 -0.11494 C -0.07101 -0.12997 -0.07118 -0.12327 -0.07118 -0.13483 E">
                                      <p:cBhvr>
                                        <p:cTn id="64" dur="5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38889E-006 -1.12858E-006 C 0.00972 -0.00162 0.01701 -0.00439 0.02604 -0.00925 C 0.02899 -0.01318 0.03316 -0.01573 0.03559 -0.02012 C 0.0408 -0.0296 0.04618 -0.05412 0.04791 -0.06568 C 0.04739 -0.07169 0.04861 -0.0784 0.04653 -0.08395 C 0.0401 -0.10129 0.02969 -0.1006 0.01788 -0.10407 C 0.00677 -0.10731 -0.00399 -0.11332 -0.01511 -0.11679 C -0.02518 -0.11494 -0.03524 -0.11378 -0.04514 -0.11147 C -0.05122 -0.11008 -0.06024 -0.0969 -0.06024 -0.0969 C -0.05938 -0.09019 -0.05903 -0.08326 -0.05747 -0.07678 C -0.0533 -0.05944 -0.03785 -0.04972 -0.02743 -0.04024 C -0.0191 -0.03261 -0.00278 -0.01642 -0.00278 -0.01642 C 0.01701 -0.01966 0.02014 -0.01388 0.02743 -0.03284 C 0.02413 -0.03955 0.02135 -0.04602 0.0151 -0.04926 C -0.00764 -0.06105 -0.03802 -0.06475 -0.06163 -0.06938 C -0.08854 -0.06869 -0.11563 -0.06845 -0.14254 -0.06753 C -0.15261 -0.0673 -0.16268 -0.06337 -0.17257 -0.06568 C -0.17448 -0.06614 -0.17639 -0.08302 -0.17813 -0.09135 C -0.18316 -0.11586 -0.18854 -0.14015 -0.19462 -0.1642 C -0.19549 -0.17692 -0.19288 -0.1901 -0.19462 -0.20259 C -0.19479 -0.20444 -0.1974 -0.20143 -0.19861 -0.20074 C -0.20226 -0.19843 -0.20608 -0.19658 -0.20955 -0.19357 C -0.23386 -0.17253 -0.22952 -0.17669 -0.24393 -0.15518 C -0.25191 -0.1309 -0.2566 -0.10546 -0.26302 -0.08048 C -0.26545 -0.07077 -0.27622 -0.0636 -0.28212 -0.05851 C -0.27205 -0.04487 -0.26406 -0.03423 -0.25209 -0.02382 C -0.25156 -0.02197 -0.25139 -0.02012 -0.2507 -0.01827 C -0.25 -0.01642 -0.24653 -0.01411 -0.24792 -0.01295 C -0.25104 -0.01018 -0.25521 -0.01457 -0.25886 -0.01457 E">
                                      <p:cBhvr>
                                        <p:cTn id="66" dur="50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0" y="2421000"/>
            <a:ext cx="9144000" cy="1944720"/>
          </a:xfrm>
          <a:prstGeom prst="rect">
            <a:avLst/>
          </a:prstGeom>
          <a:solidFill>
            <a:srgbClr val="ee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Group 3"/>
          <p:cNvGrpSpPr/>
          <p:nvPr/>
        </p:nvGrpSpPr>
        <p:grpSpPr>
          <a:xfrm>
            <a:off x="826920" y="3429000"/>
            <a:ext cx="142920" cy="144360"/>
            <a:chOff x="826920" y="3429000"/>
            <a:chExt cx="142920" cy="144360"/>
          </a:xfrm>
        </p:grpSpPr>
        <p:sp>
          <p:nvSpPr>
            <p:cNvPr id="864" name="Oval 4"/>
            <p:cNvSpPr/>
            <p:nvPr/>
          </p:nvSpPr>
          <p:spPr>
            <a:xfrm>
              <a:off x="826920" y="3429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826920" y="3500280"/>
              <a:ext cx="142920" cy="360"/>
              <a:chOff x="826920" y="3500280"/>
              <a:chExt cx="142920" cy="360"/>
            </a:xfrm>
          </p:grpSpPr>
          <p:sp>
            <p:nvSpPr>
              <p:cNvPr id="866" name="Line 5"/>
              <p:cNvSpPr/>
              <p:nvPr/>
            </p:nvSpPr>
            <p:spPr>
              <a:xfrm>
                <a:off x="826920" y="3500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 txBox="1"/>
              <p:nvPr/>
            </p:nvSpPr>
            <p:spPr>
              <a:xfrm>
                <a:off x="826920" y="3500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Group 6"/>
          <p:cNvGrpSpPr/>
          <p:nvPr/>
        </p:nvGrpSpPr>
        <p:grpSpPr>
          <a:xfrm>
            <a:off x="1619280" y="3645000"/>
            <a:ext cx="142920" cy="144360"/>
            <a:chOff x="1619280" y="3645000"/>
            <a:chExt cx="142920" cy="144360"/>
          </a:xfrm>
        </p:grpSpPr>
        <p:sp>
          <p:nvSpPr>
            <p:cNvPr id="869" name="Oval 7"/>
            <p:cNvSpPr/>
            <p:nvPr/>
          </p:nvSpPr>
          <p:spPr>
            <a:xfrm>
              <a:off x="1619280" y="3645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1619280" y="3716280"/>
              <a:ext cx="142920" cy="360"/>
              <a:chOff x="1619280" y="3716280"/>
              <a:chExt cx="142920" cy="360"/>
            </a:xfrm>
          </p:grpSpPr>
          <p:sp>
            <p:nvSpPr>
              <p:cNvPr id="871" name="Line 8"/>
              <p:cNvSpPr/>
              <p:nvPr/>
            </p:nvSpPr>
            <p:spPr>
              <a:xfrm>
                <a:off x="1619280" y="3716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 txBox="1"/>
              <p:nvPr/>
            </p:nvSpPr>
            <p:spPr>
              <a:xfrm>
                <a:off x="1619280" y="3716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3" name="Group 9"/>
          <p:cNvGrpSpPr/>
          <p:nvPr/>
        </p:nvGrpSpPr>
        <p:grpSpPr>
          <a:xfrm>
            <a:off x="1763640" y="3213000"/>
            <a:ext cx="142920" cy="144720"/>
            <a:chOff x="1763640" y="3213000"/>
            <a:chExt cx="142920" cy="144720"/>
          </a:xfrm>
        </p:grpSpPr>
        <p:sp>
          <p:nvSpPr>
            <p:cNvPr id="874" name="Oval 10"/>
            <p:cNvSpPr/>
            <p:nvPr/>
          </p:nvSpPr>
          <p:spPr>
            <a:xfrm>
              <a:off x="1763640" y="3213000"/>
              <a:ext cx="1429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1763640" y="3284640"/>
              <a:ext cx="142920" cy="360"/>
              <a:chOff x="1763640" y="3284640"/>
              <a:chExt cx="142920" cy="360"/>
            </a:xfrm>
          </p:grpSpPr>
          <p:sp>
            <p:nvSpPr>
              <p:cNvPr id="876" name="Line 11"/>
              <p:cNvSpPr/>
              <p:nvPr/>
            </p:nvSpPr>
            <p:spPr>
              <a:xfrm>
                <a:off x="1763640" y="3284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 txBox="1"/>
              <p:nvPr/>
            </p:nvSpPr>
            <p:spPr>
              <a:xfrm>
                <a:off x="1763640" y="3284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Group 12"/>
          <p:cNvGrpSpPr/>
          <p:nvPr/>
        </p:nvGrpSpPr>
        <p:grpSpPr>
          <a:xfrm>
            <a:off x="1979640" y="2708280"/>
            <a:ext cx="142920" cy="144360"/>
            <a:chOff x="1979640" y="2708280"/>
            <a:chExt cx="142920" cy="144360"/>
          </a:xfrm>
        </p:grpSpPr>
        <p:sp>
          <p:nvSpPr>
            <p:cNvPr id="879" name="Oval 13"/>
            <p:cNvSpPr/>
            <p:nvPr/>
          </p:nvSpPr>
          <p:spPr>
            <a:xfrm>
              <a:off x="1979640" y="27082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1979640" y="2779560"/>
              <a:ext cx="142920" cy="360"/>
              <a:chOff x="1979640" y="2779560"/>
              <a:chExt cx="142920" cy="360"/>
            </a:xfrm>
          </p:grpSpPr>
          <p:sp>
            <p:nvSpPr>
              <p:cNvPr id="881" name="Line 14"/>
              <p:cNvSpPr/>
              <p:nvPr/>
            </p:nvSpPr>
            <p:spPr>
              <a:xfrm>
                <a:off x="1979640" y="2779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1979640" y="2779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3" name="Group 15"/>
          <p:cNvGrpSpPr/>
          <p:nvPr/>
        </p:nvGrpSpPr>
        <p:grpSpPr>
          <a:xfrm>
            <a:off x="2411280" y="3645000"/>
            <a:ext cx="142920" cy="144360"/>
            <a:chOff x="2411280" y="3645000"/>
            <a:chExt cx="142920" cy="144360"/>
          </a:xfrm>
        </p:grpSpPr>
        <p:sp>
          <p:nvSpPr>
            <p:cNvPr id="884" name="Oval 16"/>
            <p:cNvSpPr/>
            <p:nvPr/>
          </p:nvSpPr>
          <p:spPr>
            <a:xfrm>
              <a:off x="2411280" y="3645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2411280" y="3716280"/>
              <a:ext cx="142920" cy="360"/>
              <a:chOff x="2411280" y="3716280"/>
              <a:chExt cx="142920" cy="360"/>
            </a:xfrm>
          </p:grpSpPr>
          <p:sp>
            <p:nvSpPr>
              <p:cNvPr id="886" name="Line 17"/>
              <p:cNvSpPr/>
              <p:nvPr/>
            </p:nvSpPr>
            <p:spPr>
              <a:xfrm>
                <a:off x="2411280" y="3716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2411280" y="3716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8" name="Group 18"/>
          <p:cNvGrpSpPr/>
          <p:nvPr/>
        </p:nvGrpSpPr>
        <p:grpSpPr>
          <a:xfrm>
            <a:off x="6877080" y="3068640"/>
            <a:ext cx="142920" cy="144360"/>
            <a:chOff x="6877080" y="3068640"/>
            <a:chExt cx="142920" cy="144360"/>
          </a:xfrm>
        </p:grpSpPr>
        <p:sp>
          <p:nvSpPr>
            <p:cNvPr id="889" name="Oval 19"/>
            <p:cNvSpPr/>
            <p:nvPr/>
          </p:nvSpPr>
          <p:spPr>
            <a:xfrm>
              <a:off x="6877080" y="3068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6877080" y="3139920"/>
              <a:ext cx="142920" cy="360"/>
              <a:chOff x="6877080" y="3139920"/>
              <a:chExt cx="142920" cy="360"/>
            </a:xfrm>
          </p:grpSpPr>
          <p:sp>
            <p:nvSpPr>
              <p:cNvPr id="891" name="Line 20"/>
              <p:cNvSpPr/>
              <p:nvPr/>
            </p:nvSpPr>
            <p:spPr>
              <a:xfrm>
                <a:off x="6877080" y="3139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 txBox="1"/>
              <p:nvPr/>
            </p:nvSpPr>
            <p:spPr>
              <a:xfrm>
                <a:off x="6877080" y="3139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3" name="Group 21"/>
          <p:cNvGrpSpPr/>
          <p:nvPr/>
        </p:nvGrpSpPr>
        <p:grpSpPr>
          <a:xfrm>
            <a:off x="4716360" y="3068640"/>
            <a:ext cx="142920" cy="144360"/>
            <a:chOff x="4716360" y="3068640"/>
            <a:chExt cx="142920" cy="144360"/>
          </a:xfrm>
        </p:grpSpPr>
        <p:sp>
          <p:nvSpPr>
            <p:cNvPr id="894" name="Oval 22"/>
            <p:cNvSpPr/>
            <p:nvPr/>
          </p:nvSpPr>
          <p:spPr>
            <a:xfrm>
              <a:off x="4716360" y="3068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4716360" y="3139920"/>
              <a:ext cx="142920" cy="360"/>
              <a:chOff x="4716360" y="3139920"/>
              <a:chExt cx="142920" cy="360"/>
            </a:xfrm>
          </p:grpSpPr>
          <p:sp>
            <p:nvSpPr>
              <p:cNvPr id="896" name="Line 23"/>
              <p:cNvSpPr/>
              <p:nvPr/>
            </p:nvSpPr>
            <p:spPr>
              <a:xfrm>
                <a:off x="4716360" y="3139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 txBox="1"/>
              <p:nvPr/>
            </p:nvSpPr>
            <p:spPr>
              <a:xfrm>
                <a:off x="4716360" y="3139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8" name="Group 24"/>
          <p:cNvGrpSpPr/>
          <p:nvPr/>
        </p:nvGrpSpPr>
        <p:grpSpPr>
          <a:xfrm>
            <a:off x="971640" y="2924280"/>
            <a:ext cx="142920" cy="144360"/>
            <a:chOff x="971640" y="2924280"/>
            <a:chExt cx="142920" cy="144360"/>
          </a:xfrm>
        </p:grpSpPr>
        <p:sp>
          <p:nvSpPr>
            <p:cNvPr id="899" name="Oval 25"/>
            <p:cNvSpPr/>
            <p:nvPr/>
          </p:nvSpPr>
          <p:spPr>
            <a:xfrm>
              <a:off x="971640" y="29242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971640" y="2995560"/>
              <a:ext cx="142920" cy="360"/>
              <a:chOff x="971640" y="2995560"/>
              <a:chExt cx="142920" cy="360"/>
            </a:xfrm>
          </p:grpSpPr>
          <p:sp>
            <p:nvSpPr>
              <p:cNvPr id="901" name="Line 26"/>
              <p:cNvSpPr/>
              <p:nvPr/>
            </p:nvSpPr>
            <p:spPr>
              <a:xfrm>
                <a:off x="971640" y="2995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 txBox="1"/>
              <p:nvPr/>
            </p:nvSpPr>
            <p:spPr>
              <a:xfrm>
                <a:off x="971640" y="2995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3" name="Group 27"/>
          <p:cNvGrpSpPr/>
          <p:nvPr/>
        </p:nvGrpSpPr>
        <p:grpSpPr>
          <a:xfrm>
            <a:off x="2916360" y="2997360"/>
            <a:ext cx="142920" cy="144360"/>
            <a:chOff x="2916360" y="2997360"/>
            <a:chExt cx="142920" cy="144360"/>
          </a:xfrm>
        </p:grpSpPr>
        <p:sp>
          <p:nvSpPr>
            <p:cNvPr id="904" name="Oval 28"/>
            <p:cNvSpPr/>
            <p:nvPr/>
          </p:nvSpPr>
          <p:spPr>
            <a:xfrm>
              <a:off x="2916360" y="299736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2916360" y="3068640"/>
              <a:ext cx="142920" cy="360"/>
              <a:chOff x="2916360" y="3068640"/>
              <a:chExt cx="142920" cy="360"/>
            </a:xfrm>
          </p:grpSpPr>
          <p:sp>
            <p:nvSpPr>
              <p:cNvPr id="906" name="Line 29"/>
              <p:cNvSpPr/>
              <p:nvPr/>
            </p:nvSpPr>
            <p:spPr>
              <a:xfrm>
                <a:off x="2916360" y="3068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 txBox="1"/>
              <p:nvPr/>
            </p:nvSpPr>
            <p:spPr>
              <a:xfrm>
                <a:off x="2916360" y="3068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8" name="Group 30"/>
          <p:cNvGrpSpPr/>
          <p:nvPr/>
        </p:nvGrpSpPr>
        <p:grpSpPr>
          <a:xfrm>
            <a:off x="3492360" y="3429000"/>
            <a:ext cx="142920" cy="144360"/>
            <a:chOff x="3492360" y="3429000"/>
            <a:chExt cx="142920" cy="144360"/>
          </a:xfrm>
        </p:grpSpPr>
        <p:sp>
          <p:nvSpPr>
            <p:cNvPr id="909" name="Oval 31"/>
            <p:cNvSpPr/>
            <p:nvPr/>
          </p:nvSpPr>
          <p:spPr>
            <a:xfrm>
              <a:off x="3492360" y="3429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3492360" y="3500280"/>
              <a:ext cx="142920" cy="360"/>
              <a:chOff x="3492360" y="3500280"/>
              <a:chExt cx="142920" cy="360"/>
            </a:xfrm>
          </p:grpSpPr>
          <p:sp>
            <p:nvSpPr>
              <p:cNvPr id="911" name="Line 32"/>
              <p:cNvSpPr/>
              <p:nvPr/>
            </p:nvSpPr>
            <p:spPr>
              <a:xfrm>
                <a:off x="3492360" y="3500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 txBox="1"/>
              <p:nvPr/>
            </p:nvSpPr>
            <p:spPr>
              <a:xfrm>
                <a:off x="3492360" y="3500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3" name="Group 33"/>
          <p:cNvGrpSpPr/>
          <p:nvPr/>
        </p:nvGrpSpPr>
        <p:grpSpPr>
          <a:xfrm>
            <a:off x="4572000" y="3716280"/>
            <a:ext cx="142920" cy="144360"/>
            <a:chOff x="4572000" y="3716280"/>
            <a:chExt cx="142920" cy="144360"/>
          </a:xfrm>
        </p:grpSpPr>
        <p:sp>
          <p:nvSpPr>
            <p:cNvPr id="914" name="Oval 34"/>
            <p:cNvSpPr/>
            <p:nvPr/>
          </p:nvSpPr>
          <p:spPr>
            <a:xfrm>
              <a:off x="4572000" y="37162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4572000" y="3787560"/>
              <a:ext cx="142920" cy="360"/>
              <a:chOff x="4572000" y="3787560"/>
              <a:chExt cx="142920" cy="360"/>
            </a:xfrm>
          </p:grpSpPr>
          <p:sp>
            <p:nvSpPr>
              <p:cNvPr id="916" name="Line 35"/>
              <p:cNvSpPr/>
              <p:nvPr/>
            </p:nvSpPr>
            <p:spPr>
              <a:xfrm>
                <a:off x="4572000" y="3787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 txBox="1"/>
              <p:nvPr/>
            </p:nvSpPr>
            <p:spPr>
              <a:xfrm>
                <a:off x="4572000" y="3787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Group 36"/>
          <p:cNvGrpSpPr/>
          <p:nvPr/>
        </p:nvGrpSpPr>
        <p:grpSpPr>
          <a:xfrm>
            <a:off x="5724360" y="2997360"/>
            <a:ext cx="142920" cy="144360"/>
            <a:chOff x="5724360" y="2997360"/>
            <a:chExt cx="142920" cy="144360"/>
          </a:xfrm>
        </p:grpSpPr>
        <p:sp>
          <p:nvSpPr>
            <p:cNvPr id="919" name="Oval 37"/>
            <p:cNvSpPr/>
            <p:nvPr/>
          </p:nvSpPr>
          <p:spPr>
            <a:xfrm>
              <a:off x="5724360" y="299736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5724360" y="3068640"/>
              <a:ext cx="142920" cy="360"/>
              <a:chOff x="5724360" y="3068640"/>
              <a:chExt cx="142920" cy="360"/>
            </a:xfrm>
          </p:grpSpPr>
          <p:sp>
            <p:nvSpPr>
              <p:cNvPr id="921" name="Line 38"/>
              <p:cNvSpPr/>
              <p:nvPr/>
            </p:nvSpPr>
            <p:spPr>
              <a:xfrm>
                <a:off x="5724360" y="3068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 txBox="1"/>
              <p:nvPr/>
            </p:nvSpPr>
            <p:spPr>
              <a:xfrm>
                <a:off x="5724360" y="3068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Group 39"/>
          <p:cNvGrpSpPr/>
          <p:nvPr/>
        </p:nvGrpSpPr>
        <p:grpSpPr>
          <a:xfrm>
            <a:off x="3924360" y="2852640"/>
            <a:ext cx="142920" cy="144720"/>
            <a:chOff x="3924360" y="2852640"/>
            <a:chExt cx="142920" cy="144720"/>
          </a:xfrm>
        </p:grpSpPr>
        <p:sp>
          <p:nvSpPr>
            <p:cNvPr id="924" name="Oval 40"/>
            <p:cNvSpPr/>
            <p:nvPr/>
          </p:nvSpPr>
          <p:spPr>
            <a:xfrm>
              <a:off x="3924360" y="2852640"/>
              <a:ext cx="1429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3924360" y="2924280"/>
              <a:ext cx="142920" cy="360"/>
              <a:chOff x="3924360" y="2924280"/>
              <a:chExt cx="142920" cy="360"/>
            </a:xfrm>
          </p:grpSpPr>
          <p:sp>
            <p:nvSpPr>
              <p:cNvPr id="926" name="Line 41"/>
              <p:cNvSpPr/>
              <p:nvPr/>
            </p:nvSpPr>
            <p:spPr>
              <a:xfrm>
                <a:off x="3924360" y="2924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 txBox="1"/>
              <p:nvPr/>
            </p:nvSpPr>
            <p:spPr>
              <a:xfrm>
                <a:off x="3924360" y="2924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8" name="Group 42"/>
          <p:cNvGrpSpPr/>
          <p:nvPr/>
        </p:nvGrpSpPr>
        <p:grpSpPr>
          <a:xfrm>
            <a:off x="3132000" y="3716280"/>
            <a:ext cx="142920" cy="144360"/>
            <a:chOff x="3132000" y="3716280"/>
            <a:chExt cx="142920" cy="144360"/>
          </a:xfrm>
        </p:grpSpPr>
        <p:sp>
          <p:nvSpPr>
            <p:cNvPr id="929" name="Oval 43"/>
            <p:cNvSpPr/>
            <p:nvPr/>
          </p:nvSpPr>
          <p:spPr>
            <a:xfrm>
              <a:off x="3132000" y="37162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3132000" y="3787560"/>
              <a:ext cx="142920" cy="360"/>
              <a:chOff x="3132000" y="3787560"/>
              <a:chExt cx="142920" cy="360"/>
            </a:xfrm>
          </p:grpSpPr>
          <p:sp>
            <p:nvSpPr>
              <p:cNvPr id="931" name="Line 44"/>
              <p:cNvSpPr/>
              <p:nvPr/>
            </p:nvSpPr>
            <p:spPr>
              <a:xfrm>
                <a:off x="3132000" y="3787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 txBox="1"/>
              <p:nvPr/>
            </p:nvSpPr>
            <p:spPr>
              <a:xfrm>
                <a:off x="3132000" y="3787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3" name="Group 45"/>
          <p:cNvGrpSpPr/>
          <p:nvPr/>
        </p:nvGrpSpPr>
        <p:grpSpPr>
          <a:xfrm>
            <a:off x="7451640" y="3573360"/>
            <a:ext cx="142920" cy="144720"/>
            <a:chOff x="7451640" y="3573360"/>
            <a:chExt cx="142920" cy="144720"/>
          </a:xfrm>
        </p:grpSpPr>
        <p:sp>
          <p:nvSpPr>
            <p:cNvPr id="934" name="Oval 46"/>
            <p:cNvSpPr/>
            <p:nvPr/>
          </p:nvSpPr>
          <p:spPr>
            <a:xfrm>
              <a:off x="7451640" y="3573360"/>
              <a:ext cx="1429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7451640" y="3645000"/>
              <a:ext cx="142920" cy="360"/>
              <a:chOff x="7451640" y="3645000"/>
              <a:chExt cx="142920" cy="360"/>
            </a:xfrm>
          </p:grpSpPr>
          <p:sp>
            <p:nvSpPr>
              <p:cNvPr id="936" name="Line 47"/>
              <p:cNvSpPr/>
              <p:nvPr/>
            </p:nvSpPr>
            <p:spPr>
              <a:xfrm>
                <a:off x="7451640" y="36450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 txBox="1"/>
              <p:nvPr/>
            </p:nvSpPr>
            <p:spPr>
              <a:xfrm>
                <a:off x="7451640" y="36450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8" name="Group 48"/>
          <p:cNvGrpSpPr/>
          <p:nvPr/>
        </p:nvGrpSpPr>
        <p:grpSpPr>
          <a:xfrm>
            <a:off x="7236000" y="2852640"/>
            <a:ext cx="142560" cy="144720"/>
            <a:chOff x="7236000" y="2852640"/>
            <a:chExt cx="142560" cy="144720"/>
          </a:xfrm>
        </p:grpSpPr>
        <p:sp>
          <p:nvSpPr>
            <p:cNvPr id="939" name="Oval 49"/>
            <p:cNvSpPr/>
            <p:nvPr/>
          </p:nvSpPr>
          <p:spPr>
            <a:xfrm>
              <a:off x="7236000" y="2852640"/>
              <a:ext cx="1425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7236000" y="2924280"/>
              <a:ext cx="142560" cy="360"/>
              <a:chOff x="7236000" y="2924280"/>
              <a:chExt cx="142560" cy="360"/>
            </a:xfrm>
          </p:grpSpPr>
          <p:sp>
            <p:nvSpPr>
              <p:cNvPr id="941" name="Line 50"/>
              <p:cNvSpPr/>
              <p:nvPr/>
            </p:nvSpPr>
            <p:spPr>
              <a:xfrm>
                <a:off x="7236000" y="292428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 txBox="1"/>
              <p:nvPr/>
            </p:nvSpPr>
            <p:spPr>
              <a:xfrm>
                <a:off x="7236000" y="2924280"/>
                <a:ext cx="14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Group 51"/>
          <p:cNvGrpSpPr/>
          <p:nvPr/>
        </p:nvGrpSpPr>
        <p:grpSpPr>
          <a:xfrm>
            <a:off x="4211640" y="3284640"/>
            <a:ext cx="142920" cy="144360"/>
            <a:chOff x="4211640" y="3284640"/>
            <a:chExt cx="142920" cy="144360"/>
          </a:xfrm>
        </p:grpSpPr>
        <p:sp>
          <p:nvSpPr>
            <p:cNvPr id="944" name="Oval 52"/>
            <p:cNvSpPr/>
            <p:nvPr/>
          </p:nvSpPr>
          <p:spPr>
            <a:xfrm>
              <a:off x="4211640" y="3284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4211640" y="3355920"/>
              <a:ext cx="142920" cy="360"/>
              <a:chOff x="4211640" y="3355920"/>
              <a:chExt cx="142920" cy="360"/>
            </a:xfrm>
          </p:grpSpPr>
          <p:sp>
            <p:nvSpPr>
              <p:cNvPr id="946" name="Line 53"/>
              <p:cNvSpPr/>
              <p:nvPr/>
            </p:nvSpPr>
            <p:spPr>
              <a:xfrm>
                <a:off x="4211640" y="3355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 txBox="1"/>
              <p:nvPr/>
            </p:nvSpPr>
            <p:spPr>
              <a:xfrm>
                <a:off x="4211640" y="3355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8" name="Group 54"/>
          <p:cNvGrpSpPr/>
          <p:nvPr/>
        </p:nvGrpSpPr>
        <p:grpSpPr>
          <a:xfrm>
            <a:off x="5219640" y="3357720"/>
            <a:ext cx="142920" cy="144360"/>
            <a:chOff x="5219640" y="3357720"/>
            <a:chExt cx="142920" cy="144360"/>
          </a:xfrm>
        </p:grpSpPr>
        <p:sp>
          <p:nvSpPr>
            <p:cNvPr id="949" name="Oval 55"/>
            <p:cNvSpPr/>
            <p:nvPr/>
          </p:nvSpPr>
          <p:spPr>
            <a:xfrm>
              <a:off x="5219640" y="335772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5219640" y="3429000"/>
              <a:ext cx="142920" cy="360"/>
              <a:chOff x="5219640" y="3429000"/>
              <a:chExt cx="142920" cy="360"/>
            </a:xfrm>
          </p:grpSpPr>
          <p:sp>
            <p:nvSpPr>
              <p:cNvPr id="951" name="Line 56"/>
              <p:cNvSpPr/>
              <p:nvPr/>
            </p:nvSpPr>
            <p:spPr>
              <a:xfrm>
                <a:off x="5219640" y="34290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 txBox="1"/>
              <p:nvPr/>
            </p:nvSpPr>
            <p:spPr>
              <a:xfrm>
                <a:off x="5219640" y="34290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3" name="Group 57"/>
          <p:cNvGrpSpPr/>
          <p:nvPr/>
        </p:nvGrpSpPr>
        <p:grpSpPr>
          <a:xfrm>
            <a:off x="5796000" y="3645000"/>
            <a:ext cx="142920" cy="144360"/>
            <a:chOff x="5796000" y="3645000"/>
            <a:chExt cx="142920" cy="144360"/>
          </a:xfrm>
        </p:grpSpPr>
        <p:sp>
          <p:nvSpPr>
            <p:cNvPr id="954" name="Oval 58"/>
            <p:cNvSpPr/>
            <p:nvPr/>
          </p:nvSpPr>
          <p:spPr>
            <a:xfrm>
              <a:off x="5796000" y="3645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5796000" y="3716280"/>
              <a:ext cx="142920" cy="360"/>
              <a:chOff x="5796000" y="3716280"/>
              <a:chExt cx="142920" cy="360"/>
            </a:xfrm>
          </p:grpSpPr>
          <p:sp>
            <p:nvSpPr>
              <p:cNvPr id="956" name="Line 59"/>
              <p:cNvSpPr/>
              <p:nvPr/>
            </p:nvSpPr>
            <p:spPr>
              <a:xfrm>
                <a:off x="5796000" y="3716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 txBox="1"/>
              <p:nvPr/>
            </p:nvSpPr>
            <p:spPr>
              <a:xfrm>
                <a:off x="5796000" y="3716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8" name="Group 60"/>
          <p:cNvGrpSpPr/>
          <p:nvPr/>
        </p:nvGrpSpPr>
        <p:grpSpPr>
          <a:xfrm>
            <a:off x="7885080" y="2997360"/>
            <a:ext cx="142920" cy="144360"/>
            <a:chOff x="7885080" y="2997360"/>
            <a:chExt cx="142920" cy="144360"/>
          </a:xfrm>
        </p:grpSpPr>
        <p:sp>
          <p:nvSpPr>
            <p:cNvPr id="959" name="Oval 61"/>
            <p:cNvSpPr/>
            <p:nvPr/>
          </p:nvSpPr>
          <p:spPr>
            <a:xfrm>
              <a:off x="7885080" y="299736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7885080" y="3068640"/>
              <a:ext cx="142920" cy="360"/>
              <a:chOff x="7885080" y="3068640"/>
              <a:chExt cx="142920" cy="360"/>
            </a:xfrm>
          </p:grpSpPr>
          <p:sp>
            <p:nvSpPr>
              <p:cNvPr id="961" name="Line 62"/>
              <p:cNvSpPr/>
              <p:nvPr/>
            </p:nvSpPr>
            <p:spPr>
              <a:xfrm>
                <a:off x="7885080" y="3068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 txBox="1"/>
              <p:nvPr/>
            </p:nvSpPr>
            <p:spPr>
              <a:xfrm>
                <a:off x="7885080" y="3068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Group 63"/>
          <p:cNvGrpSpPr/>
          <p:nvPr/>
        </p:nvGrpSpPr>
        <p:grpSpPr>
          <a:xfrm>
            <a:off x="6372360" y="3284640"/>
            <a:ext cx="142920" cy="144360"/>
            <a:chOff x="6372360" y="3284640"/>
            <a:chExt cx="142920" cy="144360"/>
          </a:xfrm>
        </p:grpSpPr>
        <p:sp>
          <p:nvSpPr>
            <p:cNvPr id="964" name="Oval 64"/>
            <p:cNvSpPr/>
            <p:nvPr/>
          </p:nvSpPr>
          <p:spPr>
            <a:xfrm>
              <a:off x="6372360" y="3284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"/>
            <p:cNvGrpSpPr/>
            <p:nvPr/>
          </p:nvGrpSpPr>
          <p:grpSpPr>
            <a:xfrm>
              <a:off x="6372360" y="3355920"/>
              <a:ext cx="142920" cy="360"/>
              <a:chOff x="6372360" y="3355920"/>
              <a:chExt cx="142920" cy="360"/>
            </a:xfrm>
          </p:grpSpPr>
          <p:sp>
            <p:nvSpPr>
              <p:cNvPr id="966" name="Line 65"/>
              <p:cNvSpPr/>
              <p:nvPr/>
            </p:nvSpPr>
            <p:spPr>
              <a:xfrm>
                <a:off x="6372360" y="3355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 txBox="1"/>
              <p:nvPr/>
            </p:nvSpPr>
            <p:spPr>
              <a:xfrm>
                <a:off x="6372360" y="3355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Group 66"/>
          <p:cNvGrpSpPr/>
          <p:nvPr/>
        </p:nvGrpSpPr>
        <p:grpSpPr>
          <a:xfrm>
            <a:off x="1187280" y="3068640"/>
            <a:ext cx="287640" cy="287280"/>
            <a:chOff x="1187280" y="3068640"/>
            <a:chExt cx="287640" cy="287280"/>
          </a:xfrm>
        </p:grpSpPr>
        <p:sp>
          <p:nvSpPr>
            <p:cNvPr id="969" name="Oval 67"/>
            <p:cNvSpPr/>
            <p:nvPr/>
          </p:nvSpPr>
          <p:spPr>
            <a:xfrm>
              <a:off x="1187280" y="3068640"/>
              <a:ext cx="28764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1187280" y="3212280"/>
              <a:ext cx="287640" cy="360"/>
              <a:chOff x="1187280" y="3212280"/>
              <a:chExt cx="287640" cy="360"/>
            </a:xfrm>
          </p:grpSpPr>
          <p:sp>
            <p:nvSpPr>
              <p:cNvPr id="971" name="Line 68"/>
              <p:cNvSpPr/>
              <p:nvPr/>
            </p:nvSpPr>
            <p:spPr>
              <a:xfrm>
                <a:off x="1187280" y="3212280"/>
                <a:ext cx="28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 txBox="1"/>
              <p:nvPr/>
            </p:nvSpPr>
            <p:spPr>
              <a:xfrm>
                <a:off x="1187280" y="3212280"/>
                <a:ext cx="28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1330920" y="3068640"/>
              <a:ext cx="360" cy="287280"/>
              <a:chOff x="1330920" y="3068640"/>
              <a:chExt cx="360" cy="287280"/>
            </a:xfrm>
          </p:grpSpPr>
          <p:sp>
            <p:nvSpPr>
              <p:cNvPr id="974" name="Line 69"/>
              <p:cNvSpPr/>
              <p:nvPr/>
            </p:nvSpPr>
            <p:spPr>
              <a:xfrm>
                <a:off x="1330920" y="306864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 txBox="1"/>
              <p:nvPr/>
            </p:nvSpPr>
            <p:spPr>
              <a:xfrm>
                <a:off x="1330920" y="30686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6" name="Group 70"/>
          <p:cNvGrpSpPr/>
          <p:nvPr/>
        </p:nvGrpSpPr>
        <p:grpSpPr>
          <a:xfrm>
            <a:off x="2124000" y="2924280"/>
            <a:ext cx="287280" cy="287280"/>
            <a:chOff x="2124000" y="2924280"/>
            <a:chExt cx="287280" cy="287280"/>
          </a:xfrm>
        </p:grpSpPr>
        <p:sp>
          <p:nvSpPr>
            <p:cNvPr id="977" name="Oval 71"/>
            <p:cNvSpPr/>
            <p:nvPr/>
          </p:nvSpPr>
          <p:spPr>
            <a:xfrm>
              <a:off x="2124000" y="292428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8" name=""/>
            <p:cNvGrpSpPr/>
            <p:nvPr/>
          </p:nvGrpSpPr>
          <p:grpSpPr>
            <a:xfrm>
              <a:off x="2124000" y="3067920"/>
              <a:ext cx="287280" cy="360"/>
              <a:chOff x="2124000" y="3067920"/>
              <a:chExt cx="287280" cy="360"/>
            </a:xfrm>
          </p:grpSpPr>
          <p:sp>
            <p:nvSpPr>
              <p:cNvPr id="979" name="Line 72"/>
              <p:cNvSpPr/>
              <p:nvPr/>
            </p:nvSpPr>
            <p:spPr>
              <a:xfrm>
                <a:off x="2124000" y="3067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 txBox="1"/>
              <p:nvPr/>
            </p:nvSpPr>
            <p:spPr>
              <a:xfrm>
                <a:off x="2124000" y="306792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2267640" y="2924280"/>
              <a:ext cx="360" cy="287280"/>
              <a:chOff x="2267640" y="2924280"/>
              <a:chExt cx="360" cy="287280"/>
            </a:xfrm>
          </p:grpSpPr>
          <p:sp>
            <p:nvSpPr>
              <p:cNvPr id="982" name="Line 73"/>
              <p:cNvSpPr/>
              <p:nvPr/>
            </p:nvSpPr>
            <p:spPr>
              <a:xfrm>
                <a:off x="2267640" y="292428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 txBox="1"/>
              <p:nvPr/>
            </p:nvSpPr>
            <p:spPr>
              <a:xfrm>
                <a:off x="2267640" y="292428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Group 74"/>
          <p:cNvGrpSpPr/>
          <p:nvPr/>
        </p:nvGrpSpPr>
        <p:grpSpPr>
          <a:xfrm>
            <a:off x="2700360" y="3357720"/>
            <a:ext cx="287280" cy="287280"/>
            <a:chOff x="2700360" y="3357720"/>
            <a:chExt cx="287280" cy="287280"/>
          </a:xfrm>
        </p:grpSpPr>
        <p:sp>
          <p:nvSpPr>
            <p:cNvPr id="985" name="Oval 75"/>
            <p:cNvSpPr/>
            <p:nvPr/>
          </p:nvSpPr>
          <p:spPr>
            <a:xfrm>
              <a:off x="2700360" y="335772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2700360" y="3501360"/>
              <a:ext cx="287280" cy="360"/>
              <a:chOff x="2700360" y="3501360"/>
              <a:chExt cx="287280" cy="360"/>
            </a:xfrm>
          </p:grpSpPr>
          <p:sp>
            <p:nvSpPr>
              <p:cNvPr id="987" name="Line 76"/>
              <p:cNvSpPr/>
              <p:nvPr/>
            </p:nvSpPr>
            <p:spPr>
              <a:xfrm>
                <a:off x="2700360" y="350136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>
                <a:off x="2700360" y="350136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2844000" y="3357720"/>
              <a:ext cx="360" cy="287280"/>
              <a:chOff x="2844000" y="3357720"/>
              <a:chExt cx="360" cy="287280"/>
            </a:xfrm>
          </p:grpSpPr>
          <p:sp>
            <p:nvSpPr>
              <p:cNvPr id="990" name="Line 77"/>
              <p:cNvSpPr/>
              <p:nvPr/>
            </p:nvSpPr>
            <p:spPr>
              <a:xfrm>
                <a:off x="2844000" y="3357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 txBox="1"/>
              <p:nvPr/>
            </p:nvSpPr>
            <p:spPr>
              <a:xfrm>
                <a:off x="2844000" y="335772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2" name="Group 78"/>
          <p:cNvGrpSpPr/>
          <p:nvPr/>
        </p:nvGrpSpPr>
        <p:grpSpPr>
          <a:xfrm>
            <a:off x="3708360" y="3716280"/>
            <a:ext cx="287280" cy="287280"/>
            <a:chOff x="3708360" y="3716280"/>
            <a:chExt cx="287280" cy="287280"/>
          </a:xfrm>
        </p:grpSpPr>
        <p:sp>
          <p:nvSpPr>
            <p:cNvPr id="993" name="Oval 79"/>
            <p:cNvSpPr/>
            <p:nvPr/>
          </p:nvSpPr>
          <p:spPr>
            <a:xfrm>
              <a:off x="3708360" y="371628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3708360" y="3859920"/>
              <a:ext cx="287280" cy="360"/>
              <a:chOff x="3708360" y="3859920"/>
              <a:chExt cx="287280" cy="360"/>
            </a:xfrm>
          </p:grpSpPr>
          <p:sp>
            <p:nvSpPr>
              <p:cNvPr id="995" name="Line 80"/>
              <p:cNvSpPr/>
              <p:nvPr/>
            </p:nvSpPr>
            <p:spPr>
              <a:xfrm>
                <a:off x="3708360" y="3859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 txBox="1"/>
              <p:nvPr/>
            </p:nvSpPr>
            <p:spPr>
              <a:xfrm>
                <a:off x="3708360" y="385992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3852000" y="3716280"/>
              <a:ext cx="360" cy="287280"/>
              <a:chOff x="3852000" y="3716280"/>
              <a:chExt cx="360" cy="287280"/>
            </a:xfrm>
          </p:grpSpPr>
          <p:sp>
            <p:nvSpPr>
              <p:cNvPr id="998" name="Line 81"/>
              <p:cNvSpPr/>
              <p:nvPr/>
            </p:nvSpPr>
            <p:spPr>
              <a:xfrm>
                <a:off x="3852000" y="371628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 txBox="1"/>
              <p:nvPr/>
            </p:nvSpPr>
            <p:spPr>
              <a:xfrm>
                <a:off x="3852000" y="371628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0" name="Group 82"/>
          <p:cNvGrpSpPr/>
          <p:nvPr/>
        </p:nvGrpSpPr>
        <p:grpSpPr>
          <a:xfrm>
            <a:off x="4284720" y="2852640"/>
            <a:ext cx="287280" cy="287280"/>
            <a:chOff x="4284720" y="2852640"/>
            <a:chExt cx="287280" cy="287280"/>
          </a:xfrm>
        </p:grpSpPr>
        <p:sp>
          <p:nvSpPr>
            <p:cNvPr id="1001" name="Oval 83"/>
            <p:cNvSpPr/>
            <p:nvPr/>
          </p:nvSpPr>
          <p:spPr>
            <a:xfrm>
              <a:off x="4284720" y="285264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4284720" y="2996280"/>
              <a:ext cx="287280" cy="360"/>
              <a:chOff x="4284720" y="2996280"/>
              <a:chExt cx="287280" cy="360"/>
            </a:xfrm>
          </p:grpSpPr>
          <p:sp>
            <p:nvSpPr>
              <p:cNvPr id="1003" name="Line 84"/>
              <p:cNvSpPr/>
              <p:nvPr/>
            </p:nvSpPr>
            <p:spPr>
              <a:xfrm>
                <a:off x="4284720" y="299628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>
                <a:off x="4284720" y="299628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4428360" y="2852640"/>
              <a:ext cx="360" cy="287280"/>
              <a:chOff x="4428360" y="2852640"/>
              <a:chExt cx="360" cy="287280"/>
            </a:xfrm>
          </p:grpSpPr>
          <p:sp>
            <p:nvSpPr>
              <p:cNvPr id="1006" name="Line 85"/>
              <p:cNvSpPr/>
              <p:nvPr/>
            </p:nvSpPr>
            <p:spPr>
              <a:xfrm>
                <a:off x="4428360" y="285264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 txBox="1"/>
              <p:nvPr/>
            </p:nvSpPr>
            <p:spPr>
              <a:xfrm>
                <a:off x="4428360" y="28526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8" name="Group 86"/>
          <p:cNvGrpSpPr/>
          <p:nvPr/>
        </p:nvGrpSpPr>
        <p:grpSpPr>
          <a:xfrm>
            <a:off x="4859280" y="3500280"/>
            <a:ext cx="287280" cy="287640"/>
            <a:chOff x="4859280" y="3500280"/>
            <a:chExt cx="287280" cy="287640"/>
          </a:xfrm>
        </p:grpSpPr>
        <p:sp>
          <p:nvSpPr>
            <p:cNvPr id="1009" name="Oval 87"/>
            <p:cNvSpPr/>
            <p:nvPr/>
          </p:nvSpPr>
          <p:spPr>
            <a:xfrm>
              <a:off x="4859280" y="3500280"/>
              <a:ext cx="287280" cy="28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4859280" y="3643920"/>
              <a:ext cx="287280" cy="360"/>
              <a:chOff x="4859280" y="3643920"/>
              <a:chExt cx="287280" cy="360"/>
            </a:xfrm>
          </p:grpSpPr>
          <p:sp>
            <p:nvSpPr>
              <p:cNvPr id="1011" name="Line 88"/>
              <p:cNvSpPr/>
              <p:nvPr/>
            </p:nvSpPr>
            <p:spPr>
              <a:xfrm>
                <a:off x="4859280" y="3643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 txBox="1"/>
              <p:nvPr/>
            </p:nvSpPr>
            <p:spPr>
              <a:xfrm>
                <a:off x="4859280" y="364392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5002920" y="3500280"/>
              <a:ext cx="360" cy="287640"/>
              <a:chOff x="5002920" y="3500280"/>
              <a:chExt cx="360" cy="287640"/>
            </a:xfrm>
          </p:grpSpPr>
          <p:sp>
            <p:nvSpPr>
              <p:cNvPr id="1014" name="Line 89"/>
              <p:cNvSpPr/>
              <p:nvPr/>
            </p:nvSpPr>
            <p:spPr>
              <a:xfrm>
                <a:off x="5002920" y="3500280"/>
                <a:ext cx="0" cy="2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 txBox="1"/>
              <p:nvPr/>
            </p:nvSpPr>
            <p:spPr>
              <a:xfrm>
                <a:off x="5002920" y="3500280"/>
                <a:ext cx="360" cy="28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6" name="Group 90"/>
          <p:cNvGrpSpPr/>
          <p:nvPr/>
        </p:nvGrpSpPr>
        <p:grpSpPr>
          <a:xfrm>
            <a:off x="5940360" y="2924280"/>
            <a:ext cx="287280" cy="287280"/>
            <a:chOff x="5940360" y="2924280"/>
            <a:chExt cx="287280" cy="287280"/>
          </a:xfrm>
        </p:grpSpPr>
        <p:sp>
          <p:nvSpPr>
            <p:cNvPr id="1017" name="Oval 91"/>
            <p:cNvSpPr/>
            <p:nvPr/>
          </p:nvSpPr>
          <p:spPr>
            <a:xfrm>
              <a:off x="5940360" y="292428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5940360" y="3067920"/>
              <a:ext cx="287280" cy="360"/>
              <a:chOff x="5940360" y="3067920"/>
              <a:chExt cx="287280" cy="360"/>
            </a:xfrm>
          </p:grpSpPr>
          <p:sp>
            <p:nvSpPr>
              <p:cNvPr id="1019" name="Line 92"/>
              <p:cNvSpPr/>
              <p:nvPr/>
            </p:nvSpPr>
            <p:spPr>
              <a:xfrm>
                <a:off x="5940360" y="3067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 txBox="1"/>
              <p:nvPr/>
            </p:nvSpPr>
            <p:spPr>
              <a:xfrm>
                <a:off x="5940360" y="306792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6084000" y="2924280"/>
              <a:ext cx="360" cy="287280"/>
              <a:chOff x="6084000" y="2924280"/>
              <a:chExt cx="360" cy="287280"/>
            </a:xfrm>
          </p:grpSpPr>
          <p:sp>
            <p:nvSpPr>
              <p:cNvPr id="1022" name="Line 93"/>
              <p:cNvSpPr/>
              <p:nvPr/>
            </p:nvSpPr>
            <p:spPr>
              <a:xfrm>
                <a:off x="6084000" y="292428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 txBox="1"/>
              <p:nvPr/>
            </p:nvSpPr>
            <p:spPr>
              <a:xfrm>
                <a:off x="6084000" y="292428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4" name="Group 94"/>
          <p:cNvGrpSpPr/>
          <p:nvPr/>
        </p:nvGrpSpPr>
        <p:grpSpPr>
          <a:xfrm>
            <a:off x="6588000" y="3573360"/>
            <a:ext cx="287640" cy="287280"/>
            <a:chOff x="6588000" y="3573360"/>
            <a:chExt cx="287640" cy="287280"/>
          </a:xfrm>
        </p:grpSpPr>
        <p:sp>
          <p:nvSpPr>
            <p:cNvPr id="1025" name="Oval 95"/>
            <p:cNvSpPr/>
            <p:nvPr/>
          </p:nvSpPr>
          <p:spPr>
            <a:xfrm>
              <a:off x="6588000" y="3573360"/>
              <a:ext cx="28764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6588000" y="3717000"/>
              <a:ext cx="287640" cy="360"/>
              <a:chOff x="6588000" y="3717000"/>
              <a:chExt cx="287640" cy="360"/>
            </a:xfrm>
          </p:grpSpPr>
          <p:sp>
            <p:nvSpPr>
              <p:cNvPr id="1027" name="Line 96"/>
              <p:cNvSpPr/>
              <p:nvPr/>
            </p:nvSpPr>
            <p:spPr>
              <a:xfrm>
                <a:off x="6588000" y="3717000"/>
                <a:ext cx="28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 txBox="1"/>
              <p:nvPr/>
            </p:nvSpPr>
            <p:spPr>
              <a:xfrm>
                <a:off x="6588000" y="3717000"/>
                <a:ext cx="28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731640" y="3573360"/>
              <a:ext cx="360" cy="287280"/>
              <a:chOff x="6731640" y="3573360"/>
              <a:chExt cx="360" cy="287280"/>
            </a:xfrm>
          </p:grpSpPr>
          <p:sp>
            <p:nvSpPr>
              <p:cNvPr id="1030" name="Line 97"/>
              <p:cNvSpPr/>
              <p:nvPr/>
            </p:nvSpPr>
            <p:spPr>
              <a:xfrm>
                <a:off x="6731640" y="357336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 txBox="1"/>
              <p:nvPr/>
            </p:nvSpPr>
            <p:spPr>
              <a:xfrm>
                <a:off x="6731640" y="357336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2" name="Group 98"/>
          <p:cNvGrpSpPr/>
          <p:nvPr/>
        </p:nvGrpSpPr>
        <p:grpSpPr>
          <a:xfrm>
            <a:off x="1403280" y="3716280"/>
            <a:ext cx="287280" cy="287280"/>
            <a:chOff x="1403280" y="3716280"/>
            <a:chExt cx="287280" cy="287280"/>
          </a:xfrm>
        </p:grpSpPr>
        <p:sp>
          <p:nvSpPr>
            <p:cNvPr id="1033" name="Oval 99"/>
            <p:cNvSpPr/>
            <p:nvPr/>
          </p:nvSpPr>
          <p:spPr>
            <a:xfrm>
              <a:off x="1403280" y="371628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1403280" y="3859920"/>
              <a:ext cx="287280" cy="360"/>
              <a:chOff x="1403280" y="3859920"/>
              <a:chExt cx="287280" cy="360"/>
            </a:xfrm>
          </p:grpSpPr>
          <p:sp>
            <p:nvSpPr>
              <p:cNvPr id="1035" name="Line 100"/>
              <p:cNvSpPr/>
              <p:nvPr/>
            </p:nvSpPr>
            <p:spPr>
              <a:xfrm>
                <a:off x="1403280" y="3859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 txBox="1"/>
              <p:nvPr/>
            </p:nvSpPr>
            <p:spPr>
              <a:xfrm>
                <a:off x="1403280" y="385992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1546920" y="3716280"/>
              <a:ext cx="360" cy="287280"/>
              <a:chOff x="1546920" y="3716280"/>
              <a:chExt cx="360" cy="287280"/>
            </a:xfrm>
          </p:grpSpPr>
          <p:sp>
            <p:nvSpPr>
              <p:cNvPr id="1038" name="Line 101"/>
              <p:cNvSpPr/>
              <p:nvPr/>
            </p:nvSpPr>
            <p:spPr>
              <a:xfrm>
                <a:off x="1546920" y="371628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 txBox="1"/>
              <p:nvPr/>
            </p:nvSpPr>
            <p:spPr>
              <a:xfrm>
                <a:off x="1546920" y="371628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102"/>
          <p:cNvGrpSpPr/>
          <p:nvPr/>
        </p:nvGrpSpPr>
        <p:grpSpPr>
          <a:xfrm>
            <a:off x="7380360" y="3141720"/>
            <a:ext cx="287280" cy="287280"/>
            <a:chOff x="7380360" y="3141720"/>
            <a:chExt cx="287280" cy="287280"/>
          </a:xfrm>
        </p:grpSpPr>
        <p:sp>
          <p:nvSpPr>
            <p:cNvPr id="1041" name="Oval 103"/>
            <p:cNvSpPr/>
            <p:nvPr/>
          </p:nvSpPr>
          <p:spPr>
            <a:xfrm>
              <a:off x="7380360" y="314172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7380360" y="3285360"/>
              <a:ext cx="287280" cy="360"/>
              <a:chOff x="7380360" y="3285360"/>
              <a:chExt cx="287280" cy="360"/>
            </a:xfrm>
          </p:grpSpPr>
          <p:sp>
            <p:nvSpPr>
              <p:cNvPr id="1043" name="Line 104"/>
              <p:cNvSpPr/>
              <p:nvPr/>
            </p:nvSpPr>
            <p:spPr>
              <a:xfrm>
                <a:off x="7380360" y="328536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 txBox="1"/>
              <p:nvPr/>
            </p:nvSpPr>
            <p:spPr>
              <a:xfrm>
                <a:off x="7380360" y="328536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7524000" y="3141720"/>
              <a:ext cx="360" cy="287280"/>
              <a:chOff x="7524000" y="3141720"/>
              <a:chExt cx="360" cy="287280"/>
            </a:xfrm>
          </p:grpSpPr>
          <p:sp>
            <p:nvSpPr>
              <p:cNvPr id="1046" name="Line 105"/>
              <p:cNvSpPr/>
              <p:nvPr/>
            </p:nvSpPr>
            <p:spPr>
              <a:xfrm>
                <a:off x="752400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 txBox="1"/>
              <p:nvPr/>
            </p:nvSpPr>
            <p:spPr>
              <a:xfrm>
                <a:off x="7524000" y="314172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8" name="Group 106"/>
          <p:cNvGrpSpPr/>
          <p:nvPr/>
        </p:nvGrpSpPr>
        <p:grpSpPr>
          <a:xfrm>
            <a:off x="755640" y="3789360"/>
            <a:ext cx="142920" cy="144360"/>
            <a:chOff x="755640" y="3789360"/>
            <a:chExt cx="142920" cy="144360"/>
          </a:xfrm>
        </p:grpSpPr>
        <p:sp>
          <p:nvSpPr>
            <p:cNvPr id="1049" name="Oval 107"/>
            <p:cNvSpPr/>
            <p:nvPr/>
          </p:nvSpPr>
          <p:spPr>
            <a:xfrm>
              <a:off x="755640" y="378936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755640" y="3860640"/>
              <a:ext cx="142920" cy="360"/>
              <a:chOff x="755640" y="3860640"/>
              <a:chExt cx="142920" cy="360"/>
            </a:xfrm>
          </p:grpSpPr>
          <p:sp>
            <p:nvSpPr>
              <p:cNvPr id="1051" name="Line 108"/>
              <p:cNvSpPr/>
              <p:nvPr/>
            </p:nvSpPr>
            <p:spPr>
              <a:xfrm>
                <a:off x="755640" y="3860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 txBox="1"/>
              <p:nvPr/>
            </p:nvSpPr>
            <p:spPr>
              <a:xfrm>
                <a:off x="755640" y="3860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3" name="Group 109"/>
          <p:cNvGrpSpPr/>
          <p:nvPr/>
        </p:nvGrpSpPr>
        <p:grpSpPr>
          <a:xfrm>
            <a:off x="1692360" y="2852640"/>
            <a:ext cx="142920" cy="144720"/>
            <a:chOff x="1692360" y="2852640"/>
            <a:chExt cx="142920" cy="144720"/>
          </a:xfrm>
        </p:grpSpPr>
        <p:sp>
          <p:nvSpPr>
            <p:cNvPr id="1054" name="Oval 110"/>
            <p:cNvSpPr/>
            <p:nvPr/>
          </p:nvSpPr>
          <p:spPr>
            <a:xfrm>
              <a:off x="1692360" y="2852640"/>
              <a:ext cx="142920" cy="1447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1692360" y="2924280"/>
              <a:ext cx="142920" cy="360"/>
              <a:chOff x="1692360" y="2924280"/>
              <a:chExt cx="142920" cy="360"/>
            </a:xfrm>
          </p:grpSpPr>
          <p:sp>
            <p:nvSpPr>
              <p:cNvPr id="1056" name="Line 111"/>
              <p:cNvSpPr/>
              <p:nvPr/>
            </p:nvSpPr>
            <p:spPr>
              <a:xfrm>
                <a:off x="1692360" y="2924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 txBox="1"/>
              <p:nvPr/>
            </p:nvSpPr>
            <p:spPr>
              <a:xfrm>
                <a:off x="1692360" y="2924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8" name="Group 112"/>
          <p:cNvGrpSpPr/>
          <p:nvPr/>
        </p:nvGrpSpPr>
        <p:grpSpPr>
          <a:xfrm>
            <a:off x="4859280" y="2781360"/>
            <a:ext cx="142920" cy="144360"/>
            <a:chOff x="4859280" y="2781360"/>
            <a:chExt cx="142920" cy="144360"/>
          </a:xfrm>
        </p:grpSpPr>
        <p:sp>
          <p:nvSpPr>
            <p:cNvPr id="1059" name="Oval 113"/>
            <p:cNvSpPr/>
            <p:nvPr/>
          </p:nvSpPr>
          <p:spPr>
            <a:xfrm>
              <a:off x="4859280" y="278136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4859280" y="2852640"/>
              <a:ext cx="142920" cy="360"/>
              <a:chOff x="4859280" y="2852640"/>
              <a:chExt cx="142920" cy="360"/>
            </a:xfrm>
          </p:grpSpPr>
          <p:sp>
            <p:nvSpPr>
              <p:cNvPr id="1061" name="Line 114"/>
              <p:cNvSpPr/>
              <p:nvPr/>
            </p:nvSpPr>
            <p:spPr>
              <a:xfrm>
                <a:off x="4859280" y="2852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 txBox="1"/>
              <p:nvPr/>
            </p:nvSpPr>
            <p:spPr>
              <a:xfrm>
                <a:off x="4859280" y="2852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3" name="Group 115"/>
          <p:cNvGrpSpPr/>
          <p:nvPr/>
        </p:nvGrpSpPr>
        <p:grpSpPr>
          <a:xfrm>
            <a:off x="5435640" y="3284640"/>
            <a:ext cx="142920" cy="144360"/>
            <a:chOff x="5435640" y="3284640"/>
            <a:chExt cx="142920" cy="144360"/>
          </a:xfrm>
        </p:grpSpPr>
        <p:sp>
          <p:nvSpPr>
            <p:cNvPr id="1064" name="Oval 116"/>
            <p:cNvSpPr/>
            <p:nvPr/>
          </p:nvSpPr>
          <p:spPr>
            <a:xfrm>
              <a:off x="5435640" y="328464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5435640" y="3355920"/>
              <a:ext cx="142920" cy="360"/>
              <a:chOff x="5435640" y="3355920"/>
              <a:chExt cx="142920" cy="360"/>
            </a:xfrm>
          </p:grpSpPr>
          <p:sp>
            <p:nvSpPr>
              <p:cNvPr id="1066" name="Line 117"/>
              <p:cNvSpPr/>
              <p:nvPr/>
            </p:nvSpPr>
            <p:spPr>
              <a:xfrm>
                <a:off x="5435640" y="3355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 txBox="1"/>
              <p:nvPr/>
            </p:nvSpPr>
            <p:spPr>
              <a:xfrm>
                <a:off x="5435640" y="3355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Group 118"/>
          <p:cNvGrpSpPr/>
          <p:nvPr/>
        </p:nvGrpSpPr>
        <p:grpSpPr>
          <a:xfrm>
            <a:off x="7380360" y="2781360"/>
            <a:ext cx="142920" cy="144360"/>
            <a:chOff x="7380360" y="2781360"/>
            <a:chExt cx="142920" cy="144360"/>
          </a:xfrm>
        </p:grpSpPr>
        <p:sp>
          <p:nvSpPr>
            <p:cNvPr id="1069" name="Oval 119"/>
            <p:cNvSpPr/>
            <p:nvPr/>
          </p:nvSpPr>
          <p:spPr>
            <a:xfrm>
              <a:off x="7380360" y="278136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0" name=""/>
            <p:cNvGrpSpPr/>
            <p:nvPr/>
          </p:nvGrpSpPr>
          <p:grpSpPr>
            <a:xfrm>
              <a:off x="7380360" y="2852640"/>
              <a:ext cx="142920" cy="360"/>
              <a:chOff x="7380360" y="2852640"/>
              <a:chExt cx="142920" cy="360"/>
            </a:xfrm>
          </p:grpSpPr>
          <p:sp>
            <p:nvSpPr>
              <p:cNvPr id="1071" name="Line 120"/>
              <p:cNvSpPr/>
              <p:nvPr/>
            </p:nvSpPr>
            <p:spPr>
              <a:xfrm>
                <a:off x="7380360" y="2852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 txBox="1"/>
              <p:nvPr/>
            </p:nvSpPr>
            <p:spPr>
              <a:xfrm>
                <a:off x="7380360" y="2852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3" name="Group 121"/>
          <p:cNvGrpSpPr/>
          <p:nvPr/>
        </p:nvGrpSpPr>
        <p:grpSpPr>
          <a:xfrm>
            <a:off x="7451640" y="3860640"/>
            <a:ext cx="142920" cy="144720"/>
            <a:chOff x="7451640" y="3860640"/>
            <a:chExt cx="142920" cy="144720"/>
          </a:xfrm>
        </p:grpSpPr>
        <p:sp>
          <p:nvSpPr>
            <p:cNvPr id="1074" name="Oval 122"/>
            <p:cNvSpPr/>
            <p:nvPr/>
          </p:nvSpPr>
          <p:spPr>
            <a:xfrm>
              <a:off x="7451640" y="3860640"/>
              <a:ext cx="142920" cy="1447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7451640" y="3932280"/>
              <a:ext cx="142920" cy="360"/>
              <a:chOff x="7451640" y="3932280"/>
              <a:chExt cx="142920" cy="360"/>
            </a:xfrm>
          </p:grpSpPr>
          <p:sp>
            <p:nvSpPr>
              <p:cNvPr id="1076" name="Line 123"/>
              <p:cNvSpPr/>
              <p:nvPr/>
            </p:nvSpPr>
            <p:spPr>
              <a:xfrm>
                <a:off x="7451640" y="3932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 txBox="1"/>
              <p:nvPr/>
            </p:nvSpPr>
            <p:spPr>
              <a:xfrm>
                <a:off x="7451640" y="3932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8" name="Group 124"/>
          <p:cNvGrpSpPr/>
          <p:nvPr/>
        </p:nvGrpSpPr>
        <p:grpSpPr>
          <a:xfrm>
            <a:off x="611280" y="2781360"/>
            <a:ext cx="142920" cy="144360"/>
            <a:chOff x="611280" y="2781360"/>
            <a:chExt cx="142920" cy="144360"/>
          </a:xfrm>
        </p:grpSpPr>
        <p:sp>
          <p:nvSpPr>
            <p:cNvPr id="1079" name="Oval 125"/>
            <p:cNvSpPr/>
            <p:nvPr/>
          </p:nvSpPr>
          <p:spPr>
            <a:xfrm>
              <a:off x="611280" y="278136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611280" y="2852640"/>
              <a:ext cx="142920" cy="360"/>
              <a:chOff x="611280" y="2852640"/>
              <a:chExt cx="142920" cy="360"/>
            </a:xfrm>
          </p:grpSpPr>
          <p:sp>
            <p:nvSpPr>
              <p:cNvPr id="1081" name="Line 126"/>
              <p:cNvSpPr/>
              <p:nvPr/>
            </p:nvSpPr>
            <p:spPr>
              <a:xfrm>
                <a:off x="611280" y="2852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 txBox="1"/>
              <p:nvPr/>
            </p:nvSpPr>
            <p:spPr>
              <a:xfrm>
                <a:off x="611280" y="2852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3" name="Group 127"/>
          <p:cNvGrpSpPr/>
          <p:nvPr/>
        </p:nvGrpSpPr>
        <p:grpSpPr>
          <a:xfrm>
            <a:off x="3708360" y="2924280"/>
            <a:ext cx="142920" cy="142920"/>
            <a:chOff x="3708360" y="2924280"/>
            <a:chExt cx="142920" cy="142920"/>
          </a:xfrm>
        </p:grpSpPr>
        <p:sp>
          <p:nvSpPr>
            <p:cNvPr id="1084" name="Oval 128"/>
            <p:cNvSpPr/>
            <p:nvPr/>
          </p:nvSpPr>
          <p:spPr>
            <a:xfrm>
              <a:off x="3708360" y="2924280"/>
              <a:ext cx="1429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3708360" y="2994840"/>
              <a:ext cx="142920" cy="360"/>
              <a:chOff x="3708360" y="2994840"/>
              <a:chExt cx="142920" cy="360"/>
            </a:xfrm>
          </p:grpSpPr>
          <p:sp>
            <p:nvSpPr>
              <p:cNvPr id="1086" name="Line 129"/>
              <p:cNvSpPr/>
              <p:nvPr/>
            </p:nvSpPr>
            <p:spPr>
              <a:xfrm>
                <a:off x="3708360" y="29948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 txBox="1"/>
              <p:nvPr/>
            </p:nvSpPr>
            <p:spPr>
              <a:xfrm>
                <a:off x="3708360" y="29948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8" name="Group 133"/>
          <p:cNvGrpSpPr/>
          <p:nvPr/>
        </p:nvGrpSpPr>
        <p:grpSpPr>
          <a:xfrm>
            <a:off x="4140360" y="3860640"/>
            <a:ext cx="142560" cy="144720"/>
            <a:chOff x="4140360" y="3860640"/>
            <a:chExt cx="142560" cy="144720"/>
          </a:xfrm>
        </p:grpSpPr>
        <p:sp>
          <p:nvSpPr>
            <p:cNvPr id="1089" name="Oval 134"/>
            <p:cNvSpPr/>
            <p:nvPr/>
          </p:nvSpPr>
          <p:spPr>
            <a:xfrm>
              <a:off x="4140360" y="3860640"/>
              <a:ext cx="142560" cy="1447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4140360" y="3932280"/>
              <a:ext cx="142560" cy="360"/>
              <a:chOff x="4140360" y="3932280"/>
              <a:chExt cx="142560" cy="360"/>
            </a:xfrm>
          </p:grpSpPr>
          <p:sp>
            <p:nvSpPr>
              <p:cNvPr id="1091" name="Line 135"/>
              <p:cNvSpPr/>
              <p:nvPr/>
            </p:nvSpPr>
            <p:spPr>
              <a:xfrm>
                <a:off x="4140360" y="393228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 txBox="1"/>
              <p:nvPr/>
            </p:nvSpPr>
            <p:spPr>
              <a:xfrm>
                <a:off x="4140360" y="3932280"/>
                <a:ext cx="14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3" name="Group 136"/>
          <p:cNvGrpSpPr/>
          <p:nvPr/>
        </p:nvGrpSpPr>
        <p:grpSpPr>
          <a:xfrm>
            <a:off x="9540720" y="2637000"/>
            <a:ext cx="142920" cy="144360"/>
            <a:chOff x="9540720" y="2637000"/>
            <a:chExt cx="142920" cy="144360"/>
          </a:xfrm>
        </p:grpSpPr>
        <p:sp>
          <p:nvSpPr>
            <p:cNvPr id="1094" name="Oval 137"/>
            <p:cNvSpPr/>
            <p:nvPr/>
          </p:nvSpPr>
          <p:spPr>
            <a:xfrm>
              <a:off x="9540720" y="263700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9540720" y="2708280"/>
              <a:ext cx="142920" cy="360"/>
              <a:chOff x="9540720" y="2708280"/>
              <a:chExt cx="142920" cy="360"/>
            </a:xfrm>
          </p:grpSpPr>
          <p:sp>
            <p:nvSpPr>
              <p:cNvPr id="1096" name="Line 138"/>
              <p:cNvSpPr/>
              <p:nvPr/>
            </p:nvSpPr>
            <p:spPr>
              <a:xfrm>
                <a:off x="9540720" y="2708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 txBox="1"/>
              <p:nvPr/>
            </p:nvSpPr>
            <p:spPr>
              <a:xfrm>
                <a:off x="9540720" y="2708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8" name="Group 139"/>
          <p:cNvGrpSpPr/>
          <p:nvPr/>
        </p:nvGrpSpPr>
        <p:grpSpPr>
          <a:xfrm>
            <a:off x="6227640" y="2708280"/>
            <a:ext cx="142920" cy="144360"/>
            <a:chOff x="6227640" y="2708280"/>
            <a:chExt cx="142920" cy="144360"/>
          </a:xfrm>
        </p:grpSpPr>
        <p:sp>
          <p:nvSpPr>
            <p:cNvPr id="1099" name="Oval 140"/>
            <p:cNvSpPr/>
            <p:nvPr/>
          </p:nvSpPr>
          <p:spPr>
            <a:xfrm>
              <a:off x="6227640" y="270828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0" name=""/>
            <p:cNvGrpSpPr/>
            <p:nvPr/>
          </p:nvGrpSpPr>
          <p:grpSpPr>
            <a:xfrm>
              <a:off x="6227640" y="2779560"/>
              <a:ext cx="142920" cy="360"/>
              <a:chOff x="6227640" y="2779560"/>
              <a:chExt cx="142920" cy="360"/>
            </a:xfrm>
          </p:grpSpPr>
          <p:sp>
            <p:nvSpPr>
              <p:cNvPr id="1101" name="Line 141"/>
              <p:cNvSpPr/>
              <p:nvPr/>
            </p:nvSpPr>
            <p:spPr>
              <a:xfrm>
                <a:off x="6227640" y="2779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 txBox="1"/>
              <p:nvPr/>
            </p:nvSpPr>
            <p:spPr>
              <a:xfrm>
                <a:off x="6227640" y="2779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3" name="Group 142"/>
          <p:cNvGrpSpPr/>
          <p:nvPr/>
        </p:nvGrpSpPr>
        <p:grpSpPr>
          <a:xfrm>
            <a:off x="9540720" y="3500280"/>
            <a:ext cx="142920" cy="144720"/>
            <a:chOff x="9540720" y="3500280"/>
            <a:chExt cx="142920" cy="144720"/>
          </a:xfrm>
        </p:grpSpPr>
        <p:sp>
          <p:nvSpPr>
            <p:cNvPr id="1104" name="Oval 143"/>
            <p:cNvSpPr/>
            <p:nvPr/>
          </p:nvSpPr>
          <p:spPr>
            <a:xfrm>
              <a:off x="9540720" y="3500280"/>
              <a:ext cx="142920" cy="1447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9540720" y="3571920"/>
              <a:ext cx="142920" cy="360"/>
              <a:chOff x="9540720" y="3571920"/>
              <a:chExt cx="142920" cy="360"/>
            </a:xfrm>
          </p:grpSpPr>
          <p:sp>
            <p:nvSpPr>
              <p:cNvPr id="1106" name="Line 144"/>
              <p:cNvSpPr/>
              <p:nvPr/>
            </p:nvSpPr>
            <p:spPr>
              <a:xfrm>
                <a:off x="9540720" y="3571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 txBox="1"/>
              <p:nvPr/>
            </p:nvSpPr>
            <p:spPr>
              <a:xfrm>
                <a:off x="9540720" y="3571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Group 145"/>
          <p:cNvGrpSpPr/>
          <p:nvPr/>
        </p:nvGrpSpPr>
        <p:grpSpPr>
          <a:xfrm>
            <a:off x="6084720" y="3716280"/>
            <a:ext cx="142920" cy="144360"/>
            <a:chOff x="6084720" y="3716280"/>
            <a:chExt cx="142920" cy="144360"/>
          </a:xfrm>
        </p:grpSpPr>
        <p:sp>
          <p:nvSpPr>
            <p:cNvPr id="1109" name="Oval 146"/>
            <p:cNvSpPr/>
            <p:nvPr/>
          </p:nvSpPr>
          <p:spPr>
            <a:xfrm>
              <a:off x="6084720" y="371628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084720" y="3787560"/>
              <a:ext cx="142920" cy="360"/>
              <a:chOff x="6084720" y="3787560"/>
              <a:chExt cx="142920" cy="360"/>
            </a:xfrm>
          </p:grpSpPr>
          <p:sp>
            <p:nvSpPr>
              <p:cNvPr id="1111" name="Line 147"/>
              <p:cNvSpPr/>
              <p:nvPr/>
            </p:nvSpPr>
            <p:spPr>
              <a:xfrm>
                <a:off x="6084720" y="3787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 txBox="1"/>
              <p:nvPr/>
            </p:nvSpPr>
            <p:spPr>
              <a:xfrm>
                <a:off x="6084720" y="37875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3" name="Group 148"/>
          <p:cNvGrpSpPr/>
          <p:nvPr/>
        </p:nvGrpSpPr>
        <p:grpSpPr>
          <a:xfrm>
            <a:off x="8317080" y="2997360"/>
            <a:ext cx="142560" cy="144360"/>
            <a:chOff x="8317080" y="2997360"/>
            <a:chExt cx="142560" cy="144360"/>
          </a:xfrm>
        </p:grpSpPr>
        <p:sp>
          <p:nvSpPr>
            <p:cNvPr id="1114" name="Oval 149"/>
            <p:cNvSpPr/>
            <p:nvPr/>
          </p:nvSpPr>
          <p:spPr>
            <a:xfrm>
              <a:off x="8317080" y="2997360"/>
              <a:ext cx="14256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8317080" y="3068640"/>
              <a:ext cx="142560" cy="360"/>
              <a:chOff x="8317080" y="3068640"/>
              <a:chExt cx="142560" cy="360"/>
            </a:xfrm>
          </p:grpSpPr>
          <p:sp>
            <p:nvSpPr>
              <p:cNvPr id="1116" name="Line 150"/>
              <p:cNvSpPr/>
              <p:nvPr/>
            </p:nvSpPr>
            <p:spPr>
              <a:xfrm>
                <a:off x="8317080" y="306864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 txBox="1"/>
              <p:nvPr/>
            </p:nvSpPr>
            <p:spPr>
              <a:xfrm>
                <a:off x="8317080" y="3068640"/>
                <a:ext cx="14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8" name="Group 151"/>
          <p:cNvGrpSpPr/>
          <p:nvPr/>
        </p:nvGrpSpPr>
        <p:grpSpPr>
          <a:xfrm>
            <a:off x="8317080" y="3933720"/>
            <a:ext cx="142560" cy="144720"/>
            <a:chOff x="8317080" y="3933720"/>
            <a:chExt cx="142560" cy="144720"/>
          </a:xfrm>
        </p:grpSpPr>
        <p:sp>
          <p:nvSpPr>
            <p:cNvPr id="1119" name="Oval 152"/>
            <p:cNvSpPr/>
            <p:nvPr/>
          </p:nvSpPr>
          <p:spPr>
            <a:xfrm>
              <a:off x="8317080" y="3933720"/>
              <a:ext cx="142560" cy="1447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8317080" y="4005360"/>
              <a:ext cx="142560" cy="360"/>
              <a:chOff x="8317080" y="4005360"/>
              <a:chExt cx="142560" cy="360"/>
            </a:xfrm>
          </p:grpSpPr>
          <p:sp>
            <p:nvSpPr>
              <p:cNvPr id="1121" name="Line 153"/>
              <p:cNvSpPr/>
              <p:nvPr/>
            </p:nvSpPr>
            <p:spPr>
              <a:xfrm>
                <a:off x="8317080" y="400536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 txBox="1"/>
              <p:nvPr/>
            </p:nvSpPr>
            <p:spPr>
              <a:xfrm>
                <a:off x="8317080" y="4005360"/>
                <a:ext cx="14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3" name="Group 154"/>
          <p:cNvGrpSpPr/>
          <p:nvPr/>
        </p:nvGrpSpPr>
        <p:grpSpPr>
          <a:xfrm>
            <a:off x="10404360" y="2637000"/>
            <a:ext cx="142920" cy="144360"/>
            <a:chOff x="10404360" y="2637000"/>
            <a:chExt cx="142920" cy="144360"/>
          </a:xfrm>
        </p:grpSpPr>
        <p:sp>
          <p:nvSpPr>
            <p:cNvPr id="1124" name="Oval 155"/>
            <p:cNvSpPr/>
            <p:nvPr/>
          </p:nvSpPr>
          <p:spPr>
            <a:xfrm>
              <a:off x="10404360" y="263700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10404360" y="2708280"/>
              <a:ext cx="142920" cy="360"/>
              <a:chOff x="10404360" y="2708280"/>
              <a:chExt cx="142920" cy="360"/>
            </a:xfrm>
          </p:grpSpPr>
          <p:sp>
            <p:nvSpPr>
              <p:cNvPr id="1126" name="Line 156"/>
              <p:cNvSpPr/>
              <p:nvPr/>
            </p:nvSpPr>
            <p:spPr>
              <a:xfrm>
                <a:off x="10404360" y="2708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 txBox="1"/>
              <p:nvPr/>
            </p:nvSpPr>
            <p:spPr>
              <a:xfrm>
                <a:off x="10404360" y="2708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8" name="Group 162"/>
          <p:cNvGrpSpPr/>
          <p:nvPr/>
        </p:nvGrpSpPr>
        <p:grpSpPr>
          <a:xfrm>
            <a:off x="10260000" y="3789360"/>
            <a:ext cx="142920" cy="144360"/>
            <a:chOff x="10260000" y="3789360"/>
            <a:chExt cx="142920" cy="144360"/>
          </a:xfrm>
        </p:grpSpPr>
        <p:sp>
          <p:nvSpPr>
            <p:cNvPr id="1129" name="Oval 163"/>
            <p:cNvSpPr/>
            <p:nvPr/>
          </p:nvSpPr>
          <p:spPr>
            <a:xfrm>
              <a:off x="10260000" y="378936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10260000" y="3860640"/>
              <a:ext cx="142920" cy="360"/>
              <a:chOff x="10260000" y="3860640"/>
              <a:chExt cx="142920" cy="360"/>
            </a:xfrm>
          </p:grpSpPr>
          <p:sp>
            <p:nvSpPr>
              <p:cNvPr id="1131" name="Line 164"/>
              <p:cNvSpPr/>
              <p:nvPr/>
            </p:nvSpPr>
            <p:spPr>
              <a:xfrm>
                <a:off x="10260000" y="3860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 txBox="1"/>
              <p:nvPr/>
            </p:nvSpPr>
            <p:spPr>
              <a:xfrm>
                <a:off x="10260000" y="3860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3" name="Group 165"/>
          <p:cNvGrpSpPr/>
          <p:nvPr/>
        </p:nvGrpSpPr>
        <p:grpSpPr>
          <a:xfrm>
            <a:off x="10980720" y="4005360"/>
            <a:ext cx="142920" cy="144360"/>
            <a:chOff x="10980720" y="4005360"/>
            <a:chExt cx="142920" cy="144360"/>
          </a:xfrm>
        </p:grpSpPr>
        <p:sp>
          <p:nvSpPr>
            <p:cNvPr id="1134" name="Oval 166"/>
            <p:cNvSpPr/>
            <p:nvPr/>
          </p:nvSpPr>
          <p:spPr>
            <a:xfrm>
              <a:off x="10980720" y="400536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10980720" y="4076640"/>
              <a:ext cx="142920" cy="360"/>
              <a:chOff x="10980720" y="4076640"/>
              <a:chExt cx="142920" cy="360"/>
            </a:xfrm>
          </p:grpSpPr>
          <p:sp>
            <p:nvSpPr>
              <p:cNvPr id="1136" name="Line 167"/>
              <p:cNvSpPr/>
              <p:nvPr/>
            </p:nvSpPr>
            <p:spPr>
              <a:xfrm>
                <a:off x="10980720" y="4076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 txBox="1"/>
              <p:nvPr/>
            </p:nvSpPr>
            <p:spPr>
              <a:xfrm>
                <a:off x="10980720" y="407664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Group 168"/>
          <p:cNvGrpSpPr/>
          <p:nvPr/>
        </p:nvGrpSpPr>
        <p:grpSpPr>
          <a:xfrm>
            <a:off x="10980720" y="3068640"/>
            <a:ext cx="142920" cy="144360"/>
            <a:chOff x="10980720" y="3068640"/>
            <a:chExt cx="142920" cy="144360"/>
          </a:xfrm>
        </p:grpSpPr>
        <p:sp>
          <p:nvSpPr>
            <p:cNvPr id="1139" name="Oval 169"/>
            <p:cNvSpPr/>
            <p:nvPr/>
          </p:nvSpPr>
          <p:spPr>
            <a:xfrm>
              <a:off x="10980720" y="3068640"/>
              <a:ext cx="142920" cy="144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10980720" y="3139920"/>
              <a:ext cx="142920" cy="360"/>
              <a:chOff x="10980720" y="3139920"/>
              <a:chExt cx="142920" cy="360"/>
            </a:xfrm>
          </p:grpSpPr>
          <p:sp>
            <p:nvSpPr>
              <p:cNvPr id="1141" name="Line 170"/>
              <p:cNvSpPr/>
              <p:nvPr/>
            </p:nvSpPr>
            <p:spPr>
              <a:xfrm>
                <a:off x="10980720" y="3139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 txBox="1"/>
              <p:nvPr/>
            </p:nvSpPr>
            <p:spPr>
              <a:xfrm>
                <a:off x="10980720" y="313992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3" name="Text Box 188"/>
          <p:cNvSpPr/>
          <p:nvPr/>
        </p:nvSpPr>
        <p:spPr>
          <a:xfrm>
            <a:off x="2023560" y="83664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通电时自由电子的运动情况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48148E-006 C -0.05069 -0.00138 -0.10069 -0.00023 -0.15139 -0.00185 C -0.16944 -0.00023 -0.18628 0.0044 -0.20434 0.00209 C -0.23732 0.00348 -0.26701 0.00255 -0.3 0.00394 C -0.30573 0.00278 -0.31146 -0.00046 -0.31719 -1.48148E-006 C -0.33194 0.00093 -0.34809 0.00672 -0.36285 0.0095 C -0.37274 0.00625 -0.37778 0.00602 -0.38854 0.00764 C -0.38767 0.0051 -0.38576 -1.48148E-006 -0.38576 -1.48148E-006 E">
                                      <p:cBhvr>
                                        <p:cTn id="72" dur="5000" fill="hold"/>
                                        <p:tgtEl>
                                          <p:spTgt spid="10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10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4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2.59259E-006 C -0.00885 0.00185 -0.01544 0.00718 -0.0243 0.00949 C -0.03437 0.01829 -0.0243 0.01134 -0.04565 0.01134 C -0.04669 0.01134 -0.05416 0.01458 -0.05572 0.01528 C -0.10538 0.0081 -0.04947 0.01574 -0.1743 0.01134 C -0.18402 0.01111 -0.19322 0.00417 -0.20277 0.00185 C -0.21718 -0.00741 -0.2342 -0.00509 -0.24999 -0.00764 C -0.27291 -0.00625 -0.29583 -0.00602 -0.31857 -0.0037 C -0.32031 -0.00347 -0.32117 -0.00069 -0.32291 2.59259E-006 C -0.32795 0.00185 -0.33854 0.00393 -0.33854 0.00393 C -0.34426 0.00324 -0.34999 0.00324 -0.35572 0.00185 C -0.35867 0.00116 -0.36423 -0.00185 -0.36423 -0.00185 E">
                                      <p:cBhvr>
                                        <p:cTn id="75" dur="5000" fill="hold"/>
                                        <p:tgtEl>
                                          <p:spTgt spid="10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evt="end">
                                        <p:tn val="74"/>
                                      </p:cond>
                                    </p:stCondLst>
                                  </p:cTn>
                                  <p:tgtEl>
                                    <p:spTgt spid="10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148E-006 C -0.01232 -0.0007 -0.02482 -0.00185 -0.03715 -0.00185 C -0.04166 -0.00185 -0.04184 0.00162 -0.04583 0.0037 C -0.05607 0.00926 -0.06753 0.01134 -0.07864 0.01319 C -0.08698 0.01597 -0.09479 0.0199 -0.10295 0.02291 C -0.13003 0.0162 -0.16059 0.01713 -0.18715 0.01528 C -0.19149 0.01458 -0.19566 0.01365 -0.2 0.01319 C -0.20816 0.01227 -0.21614 0.01227 -0.2243 0.01134 C -0.2375 0.00972 -0.24965 -0.00232 -0.26285 -0.00579 C -0.28576 -0.00347 -0.30851 -0.00139 -0.33142 0.00185 C -0.33854 0.00115 -0.34583 1.48148E-006 -0.35295 1.48148E-006 C -0.36684 1.48148E-006 -0.38594 0.01111 -0.39722 -0.00394 E">
                                      <p:cBhvr>
                                        <p:cTn id="78" dur="5000" fill="hold"/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0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7 0.06319 C 0.05504 0.06759 0.04653 0.06759 0.01997 0.06875 C 0.01354 0.07176 0.0125 0.07592 0.00573 0.07847 C -0.01753 0.07731 -0.03125 0.07731 -0.05156 0.07083 C -0.05989 0.06342 -0.06666 0.06435 -0.07708 0.06319 C -0.0967 0.05833 -0.11753 0.05694 -0.13715 0.05555 C -0.17153 0.05625 -0.21007 0.04954 -0.24427 0.06319 C -0.25885 0.07569 -0.29149 0.06736 -0.30868 0.06505 C -0.31805 0.05671 -0.31111 0.06134 -0.33142 0.06134 E">
                                      <p:cBhvr>
                                        <p:cTn id="81" dur="5000" fill="hold"/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1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88889E-006 C -0.01788 -0.00672 -0.03247 -0.00811 -0.05139 -0.00973 C -0.06146 -0.00834 -0.07153 -0.00764 -0.08143 -0.00579 C -0.09705 -0.00278 -0.08611 -0.00255 -0.09861 0.00185 C -0.10677 0.00462 -0.11476 0.00648 -0.12292 0.00949 C -0.14097 0.00879 -0.15903 0.00856 -0.17709 0.0074 C -0.19063 0.00648 -0.20782 -0.00556 -0.21997 -0.01343 C -0.23472 -0.01112 -0.25 -0.00718 -0.26424 -0.00209 C -0.27188 0.00069 -0.2783 0.00648 -0.28577 0.00949 C -0.29688 0.01411 -0.30868 0.01527 -0.31997 0.01898 C -0.33525 0.01759 -0.35052 0.01689 -0.36563 0.01504 C -0.37934 0.01342 -0.39202 0.00115 -0.40573 -0.00209 C -0.41233 -0.00764 -0.42118 -0.01204 -0.42865 -0.01528 C -0.43525 -0.01227 -0.44184 -0.01019 -0.44861 -0.00764 C -0.47535 -0.00903 -0.47917 -0.01366 -0.49705 -0.00579 C -0.49983 -0.00232 -0.50139 -8.88889000000021E-006 -0.50139 0.00555 E">
                                      <p:cBhvr>
                                        <p:cTn id="84" dur="5000" fill="hold"/>
                                        <p:tgtEl>
                                          <p:spTgt spid="10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10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6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066 -0.00277 -0.01076 0.00093 -0.01719 0.00186 C -0.0276 0.00348 -0.03819 0.0044 -0.04861 0.00579 C -0.14392 0.0051 -0.23906 0.00579 -0.33438 0.00394 C -0.34271 0.00371 -0.35642 -0.00787 -0.3658 -0.00949 C -0.39688 -0.00833 -0.42188 -0.00694 -0.45156 -0.01319 C -0.47951 -0.01134 -0.50486 -0.00694 -0.53299 -0.00555 C -0.5349 -0.00486 -0.53715 -0.00532 -0.53872 -0.0037 C -0.53993 -0.00254 -0.53941 0.00023 -0.5401 0.00186 C -0.54063 0.00324 -0.54497 0.00857 -0.54583 0.00949 C -0.54826 0.01968 -0.55295 0.01667 -0.56007 0.01922 C -0.56094 0.01598 -0.56285 0.00949 -0.56285 0.00949 E">
                                      <p:cBhvr>
                                        <p:cTn id="87" dur="5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0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2.59259E-006 C -0.01477 -0.00069 -0.02952 0.00023 -0.04428 -0.00185 C -0.05956 -0.00417 -0.07345 -0.01574 -0.08855 -0.01898 C -0.10036 -0.02546 -0.10799 -0.02708 -0.12136 -0.02847 C -0.13421 -0.03148 -0.14879 -0.02639 -0.1599 -0.03611 C -0.17779 -0.03218 -0.19324 -0.02338 -0.21147 -0.02083 C -0.21841 -0.01852 -0.22292 -0.01366 -0.23004 -0.01134 C -0.23473 -0.00972 -0.23959 -0.00926 -0.24445 -0.00764 C -0.31216 -0.01204 -0.37779 -0.02292 -0.44567 -0.02477 C -0.46355 -0.02593 -0.48108 -0.02685 -0.49862 -0.03241 C -0.52223 -0.02477 -0.48352 -0.025 -0.53421 -0.02847 C -0.53924 -0.02986 -0.54393 -0.03357 -0.54862 -0.03056 E">
                                      <p:cBhvr>
                                        <p:cTn id="90" dur="5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C -0.1125 -0.01273 -0.00225999999999998 -0.00602 -0.28733 -0.00393 C -0.31615 0.03472 -0.28577 -0.0037 -0.39983 0.00185 C -0.40104 0.00185 -0.41424 0.01366 -0.41858 0.01505 C -0.42709 0.02153 -0.43525 0.02338 -0.44323 0.02847 C -0.45677 0.03681 -0.46736 0.04144 -0.48264 0.04746 C -0.48594 0.04884 -0.48941 0.05 -0.49271 0.05139 C -0.49601 0.05255 -0.50278 0.05509 -0.50278 0.05533 C -0.51667 0.05255 -0.51667 0.05 -0.52414 0.03611 C -0.52604 0.02801 -0.52969 0.02292 -0.53438 0.01713 C -0.53959 0.00232 -0.54879 -0.00278 -0.56042 -0.00764 C -0.56598 -0.01041 -0.57223 -0.01273 -0.57865 -0.01528 C -0.58143 -0.01643 -0.58716 -0.01921 -0.58716 -0.01898 C -0.58802 -0.02037 -0.58872 -0.02268 -0.58993 -0.02291 C -0.59792 -0.025 -0.59393 -0.0206 -0.59271 -0.01921 E">
                                      <p:cBhvr>
                                        <p:cTn id="93" dur="5000" fill="hold"/>
                                        <p:tgtEl>
                                          <p:spTgt spid="10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18519E-006 C -0.05295 -0.00277 -0.10573 0.00024 -0.15868 -0.00184 C -0.18385 -0.01226 -0.17361 -0.00902 -0.18854 -0.01342 C -0.19826 -0.01967 -0.19219 -0.01643 -0.20712 -0.02106 C -0.2151 -0.0236 -0.21302 -0.02522 -0.21996 -0.02869 C -0.22604 -0.0317 -0.23212 -0.03448 -0.23854 -0.0361 C -0.26094 -0.03541 -0.28576 -0.04582 -0.30573 -0.0324 C -0.31371 -0.02707 -0.31423 -0.02383 -0.32291 -0.02106 C -0.33333 -0.0118 -0.33576 -0.01411 -0.34722 -0.00763 C -0.3592 -0.00092 -0.36128 0.0014 -0.3743 0.00371 C -0.39896 0.01783 -0.4 0.01691 -0.43003 0.01899 C -0.44097 0.0183 -0.45191 0.0183 -0.46285 0.01714 C -0.47205 0.01621 -0.48038 0.00811 -0.4901 0.00765 C -0.50816 0.00649 -0.52621 0.00649 -0.54427 0.0058 C -0.54774 0.00117 -0.55069 5.18519E-006 -0.55573 5.18519E-006 E">
                                      <p:cBhvr>
                                        <p:cTn id="96" dur="5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07407E-006 C -0.05348 -0.00139 -0.05573 0.00301 -0.08855 -0.00556 C -0.09775 -0.01204 -0.10348 -0.01112 -0.11407 -0.00949 C -0.13507 -0.01065 -0.15035 -0.0125 -0.1698 -0.01528 C -0.20296 -0.01366 -0.23247 -0.00926 -0.26546 -0.00764 C -0.26927 -0.00625 -0.27309 -0.00533 -0.27691 -0.00371 C -0.28264 -0.00139 -0.28837 0.00162 -0.2941 0.00393 C -0.3073 0.00902 -0.32396 0.0125 -0.33542 0.02291 C -0.38247 0.02106 -0.37223 0.02268 -0.40122 0.01342 C -0.40886 0.00625 -0.40157 0.0118 -0.41268 0.00763 C -0.41823 0.00555 -0.42448 0.00162 -0.42969 -0.00186 C -0.43125 -0.00278 -0.4323 -0.0051 -0.43403 -0.00556 C -0.43924 -0.00695 -0.44462 -0.00695 -0.44983 -0.00764 C -0.46598 -0.00625 -0.47952 -0.00348 -0.49549 -0.00186 C -0.50834 0.00972 -0.52518 0.00486 -0.53976 0.00208 C -0.54862 -0.00209 -0.54254 4.07407E-006 -0.55834 4.07407E-006 E">
                                      <p:cBhvr>
                                        <p:cTn id="99" dur="5000" fill="hold"/>
                                        <p:tgtEl>
                                          <p:spTgt spid="1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55556E-006 C -0.03195 0.0007 -0.06372 0.00024 -0.09566 0.00186 C -0.10278 0.00232 -0.11042 0.01065 -0.11702 0.0132 C -0.12171 0.01505 -0.12657 0.01575 -0.13143 0.01714 C -0.13386 0.01783 -0.13855 0.01899 -0.13855 0.01899 C -0.15712 0.03473 -0.16719 0.02385 -0.19705 0.02269 C -0.204 0.01968 -0.20938 0.0176 -0.21563 0.0132 C -0.33907 0.01482 -0.33212 0.00348 -0.40139 0.02478 C -0.45539 0.05973 -0.52136 0.03241 -0.58143 0.03241 E">
                                      <p:cBhvr>
                                        <p:cTn id="102" dur="5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0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4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1.11111E-006 C -0.01979 -0.00718 -0.03802 -0.00208 -0.0585 1.11111E-006 C -0.06701 0.00278 -0.07569 0.00509 -0.0842 0.00764 C -0.1309 -0.00833 -0.21788 0.00301 -0.25416 0.0037 C -0.27083 0.0044 -0.28749 0.00393 -0.30416 0.00555 C -0.31493 0.00648 -0.31701 0.01389 -0.32569 0.01528 C -0.33177 0.01643 -0.33802 0.01643 -0.34427 0.01713 C -0.39149 0.03032 -0.35659 0.02268 -0.44704 0.02083 C -0.48333 0.02014 -0.51944 0.01967 -0.55572 0.01898 C -0.56284 0.01597 -0.56961 0.01134 -0.57708 0.01134 E">
                                      <p:cBhvr>
                                        <p:cTn id="105" dur="5000" fill="hold"/>
                                        <p:tgtEl>
                                          <p:spTgt spid="10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evt="end">
                                        <p:tn val="104"/>
                                      </p:cond>
                                    </p:stCondLst>
                                  </p:cTn>
                                  <p:tgtEl>
                                    <p:spTgt spid="10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0324 C -0.04479 -0.00254 -0.09201 -0.00324 -0.13906 -0.00139 C -0.14323 -0.00115 -0.14653 0.00394 -0.15052 0.0044 C -0.16007 0.00533 -0.16962 0.00556 -0.17917 0.00625 C -0.23976 0.01899 -0.19028 0.00996 -0.32483 0.00834 C -0.38767 0.00764 -0.45052 0.00695 -0.51337 0.00625 C -0.52048 0.00324 -0.52743 0.00209 -0.53489 0.0007 C -0.5467 -0.01041 -0.55972 -0.00509 -0.57483 -0.00509 E">
                                      <p:cBhvr>
                                        <p:cTn id="108" dur="50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1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0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4.44444E-006 C -0.0052 -0.00139 -0.01058 -0.00162 -0.01562 -0.0037 C -0.02048 -0.00578 -0.02552 -0.01018 -0.03003 -0.01319 C -0.03663 -0.01782 -0.04409 -0.01921 -0.05138 -0.02083 C -0.05572 -0.02268 -0.05989 -0.02523 -0.06423 -0.02662 C -0.06857 -0.02778 -0.07291 -0.02847 -0.07708 -0.03032 C -0.09496 -0.03796 -0.10243 -0.04305 -0.12135 -0.0456 C -0.13263 -0.05578 -0.11996 -0.04629 -0.14704 -0.0456 C -0.16666 -0.04514 -0.18611 -0.04699 -0.20572 -0.04768 C -0.21579 -0.05208 -0.2276 -0.0544 -0.23715 -0.06088 C -0.24062 -0.06319 -0.24322 -0.06805 -0.24704 -0.06852 C -0.2618 -0.07014 -0.27656 -0.06967 -0.29131 -0.07037 C -0.30659 -0.06805 -0.32708 -0.05926 -0.34288 -0.05903 C -0.40902 -0.05787 -0.47517 -0.05787 -0.54131 -0.05717 C -0.5427 -0.05648 -0.54427 -0.05625 -0.54565 -0.05509 C -0.54687 -0.05416 -0.54739 -0.05208 -0.54861 -0.05139 C -0.55121 -0.04977 -0.55711 -0.04768 -0.55711 -0.04768 C -0.56041 -0.04838 -0.56718 -0.04953 -0.56718 -0.04953 E">
                                      <p:cBhvr>
                                        <p:cTn id="111" dur="5000" fill="hold"/>
                                        <p:tgtEl>
                                          <p:spTgt spid="1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1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C -0.01511 -0.0044 -0.02952 -0.01019 -0.04445 -0.01366 C -0.07101 -0.0132 -0.09757 -0.01366 -0.12413 -0.01227 C -0.12587 -0.01204 -0.12709 -0.00949 -0.12865 -0.00949 C -0.1309 -0.00949 -0.13316 -0.01204 -0.13542 -0.01227 C -0.15781 -0.01366 -0.18021 -0.0132 -0.20243 -0.01366 C -0.2257 -0.01736 -0.24462 -0.01829 -0.26962 -0.01922 C -0.30087 -0.02523 -0.31754 -0.02477 -0.35834 -0.02709 C -0.38559 -0.03148 -0.36354 -0.02848 -0.42518 -0.02848 E">
                                      <p:cBhvr>
                                        <p:cTn id="114" dur="5000" fill="hold"/>
                                        <p:tgtEl>
                                          <p:spTgt spid="1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1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6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9259E-006 C -0.01997 0.00555 -0.00382 0.00625 -0.03716 0.00393 C -0.05452 -0.00672 -0.03316 0.00578 -0.08351 -0.00185 C -0.08837 -0.00255 -0.09323 -0.00625 -0.09809 -0.00764 C -0.10452 -0.00695 -0.11094 -0.00741 -0.11737 -0.00579 C -0.11841 -0.00556 -0.13421 0.01018 -0.13646 0.01342 C -0.13768 0.01504 -0.1382 0.01805 -0.13976 0.01898 C -0.14306 0.02083 -0.14653 0.02037 -0.15 0.02106 C -0.16928 0.0368 -0.15365 0.02546 -0.204 0.02106 C -0.20921 0.0206 -0.21459 0.01921 -0.2198 0.01898 C -0.24046 0.01782 -0.26112 0.01782 -0.28178 0.01713 C -0.31146 0.01782 -0.34115 0.01713 -0.37084 0.01898 C -0.37448 0.01921 -0.38091 0.02477 -0.38091 0.025 C -0.40157 0.02291 -0.40122 0.03426 -0.40122 0.02106 E">
                                      <p:cBhvr>
                                        <p:cTn id="117" dur="5000" fill="hold"/>
                                        <p:tgtEl>
                                          <p:spTgt spid="1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evt="end">
                                        <p:tn val="116"/>
                                      </p:cond>
                                    </p:stCondLst>
                                  </p:cTn>
                                  <p:tgtEl>
                                    <p:spTgt spid="10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199 C -0.07031 0.0206 -0.10608 0.02152 -0.15486 0.01736 C -0.16806 0.01805 -0.17743 0.01736 -0.18941 0.02106 C -0.21858 0.00856 -0.30104 0.01713 -0.30643 0.01736 C -0.31493 0.02013 -0.30538 0.01713 -0.32552 0.01921 C -0.32743 0.01944 -0.33073 0.02106 -0.33073 0.02106 E">
                                      <p:cBhvr>
                                        <p:cTn id="120" dur="5000" fill="hold"/>
                                        <p:tgtEl>
                                          <p:spTgt spid="1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1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2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-0.03542 C 0.02032 -0.02801 0.01719 -0.02546 0.01302 -0.02222 C -0.00243 -0.02431 -0.01718 -0.02986 -0.03211 -0.03542 C -0.05468 -0.03333 -0.05364 -0.03472 -0.07274 -0.02894 C -0.07864 -0.02708 -0.08385 -0.02037 -0.08975 -0.01806 C -0.09652 -0.01528 -0.10347 -0.01412 -0.11041 -0.01134 C -0.1184 -0.00324 -0.12448 -0.00093 -0.13298 0.00162 C -0.14305 -0.00162 -0.15312 -0.00162 -0.16319 -0.00486 C -0.1868 -0.00394 -0.21024 -0.00486 -0.23385 -0.00255 C -0.23611 -0.00232 -0.23732 0.00393 -0.23958 0.00602 C -0.24496 0.01181 -0.25069 0.01273 -0.25642 0.01713 C -0.2684 0.0162 -0.2802 0.0162 -0.29218 0.01481 C -0.29757 0.01435 -0.30156 0.01042 -0.30711 0.01042 E">
                                      <p:cBhvr>
                                        <p:cTn id="123" dur="5000" fill="hold"/>
                                        <p:tgtEl>
                                          <p:spTgt spid="1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1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301 C -0.00677 0.00255 -0.02135 0.00232 -0.03594 0.00139 C -0.04427 0.00093 -0.06094 -0.00162 -0.06094 -0.00139 C -0.0691 -0.00718 -0.07708 -0.01273 -0.08524 -0.01806 C -0.09236 -0.02268 -0.09826 -0.02893 -0.1059 -0.03148 C -0.11215 -0.0294 -0.11285 -0.02893 -0.11875 -0.02106 C -0.12031 -0.01875 -0.12448 -0.01806 -0.12448 -0.01782 C -0.12865 -0.01204 -0.13385 -0.01181 -0.13871 -0.00903 C -0.14496 -0.00046 -0.15417 -0.00162 -0.16146 -3.7037E-007 C -0.1776 0.01458 -0.21128 0.00486 -0.22222 0.0044 C -0.22691 0.00394 -0.23611 0.00301 -0.23611 0.00324 E">
                                      <p:cBhvr>
                                        <p:cTn id="126" dur="5000" fill="hold"/>
                                        <p:tgtEl>
                                          <p:spTgt spid="1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evt="end">
                                        <p:tn val="125"/>
                                      </p:cond>
                                    </p:stCondLst>
                                  </p:cTn>
                                  <p:tgtEl>
                                    <p:spTgt spid="1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8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0.00278 C 0.01615 0.00556 0.00104 0.00417 -0.00156 0.00463 C -0.00746 0.00903 -0.01267 0.01737 -0.01858 0.01991 C -0.02309 0.02894 -0.02917 0.03149 -0.03472 0.03519 C -0.04601 0.03334 -0.05764 0.03264 -0.0691 0.0294 C -0.07222 0.02848 -0.07691 0.02084 -0.08003 0.01806 C -0.08542 0.0132 -0.09149 0.00903 -0.09757 0.00857 C -0.1099 0.00741 -0.12222 0.00741 -0.13455 0.00672 C -0.14132 0.00463 -0.14826 0.0051 -0.15503 0.00278 C -0.1566 0.00209 -0.15799 -0.00115 -0.15972 -0.00277 C -0.16146 -0.00463 -0.1651 -0.00856 -0.1651 -0.00833 C -0.17361 -0.0074 -0.18038 -0.00578 -0.18871 -0.01041 C -0.20208 -0.00787 -0.19549 -0.00856 -0.20868 -0.00856 E">
                                      <p:cBhvr>
                                        <p:cTn id="129" dur="5000" fill="hold"/>
                                        <p:tgtEl>
                                          <p:spTgt spid="1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2"/>
          <p:cNvSpPr/>
          <p:nvPr/>
        </p:nvSpPr>
        <p:spPr>
          <a:xfrm>
            <a:off x="1187280" y="4076640"/>
            <a:ext cx="6913800" cy="1873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3"/>
          <p:cNvSpPr/>
          <p:nvPr/>
        </p:nvSpPr>
        <p:spPr>
          <a:xfrm>
            <a:off x="1187280" y="2708280"/>
            <a:ext cx="6913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4"/>
          <p:cNvSpPr/>
          <p:nvPr/>
        </p:nvSpPr>
        <p:spPr>
          <a:xfrm>
            <a:off x="1403280" y="2133720"/>
            <a:ext cx="21600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5"/>
          <p:cNvSpPr/>
          <p:nvPr/>
        </p:nvSpPr>
        <p:spPr>
          <a:xfrm>
            <a:off x="7667640" y="2133720"/>
            <a:ext cx="21600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6"/>
          <p:cNvGrpSpPr/>
          <p:nvPr/>
        </p:nvGrpSpPr>
        <p:grpSpPr>
          <a:xfrm>
            <a:off x="2268360" y="4437000"/>
            <a:ext cx="431640" cy="431640"/>
            <a:chOff x="2268360" y="4437000"/>
            <a:chExt cx="431640" cy="431640"/>
          </a:xfrm>
        </p:grpSpPr>
        <p:sp>
          <p:nvSpPr>
            <p:cNvPr id="1149" name="Oval 7"/>
            <p:cNvSpPr/>
            <p:nvPr/>
          </p:nvSpPr>
          <p:spPr>
            <a:xfrm>
              <a:off x="2268360" y="4437000"/>
              <a:ext cx="431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2268360" y="4653000"/>
              <a:ext cx="431640" cy="360"/>
              <a:chOff x="2268360" y="4653000"/>
              <a:chExt cx="431640" cy="360"/>
            </a:xfrm>
          </p:grpSpPr>
          <p:sp>
            <p:nvSpPr>
              <p:cNvPr id="1151" name="Line 8"/>
              <p:cNvSpPr/>
              <p:nvPr/>
            </p:nvSpPr>
            <p:spPr>
              <a:xfrm>
                <a:off x="2268360" y="46530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2268360" y="465300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2484360" y="4437000"/>
              <a:ext cx="360" cy="431640"/>
              <a:chOff x="2484360" y="4437000"/>
              <a:chExt cx="360" cy="431640"/>
            </a:xfrm>
          </p:grpSpPr>
          <p:sp>
            <p:nvSpPr>
              <p:cNvPr id="1154" name="Line 9"/>
              <p:cNvSpPr/>
              <p:nvPr/>
            </p:nvSpPr>
            <p:spPr>
              <a:xfrm>
                <a:off x="2484360" y="443700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2484360" y="443700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6" name="Group 10"/>
          <p:cNvGrpSpPr/>
          <p:nvPr/>
        </p:nvGrpSpPr>
        <p:grpSpPr>
          <a:xfrm>
            <a:off x="6300720" y="4869000"/>
            <a:ext cx="431640" cy="431640"/>
            <a:chOff x="6300720" y="4869000"/>
            <a:chExt cx="431640" cy="431640"/>
          </a:xfrm>
        </p:grpSpPr>
        <p:sp>
          <p:nvSpPr>
            <p:cNvPr id="1157" name="Oval 11"/>
            <p:cNvSpPr/>
            <p:nvPr/>
          </p:nvSpPr>
          <p:spPr>
            <a:xfrm>
              <a:off x="6300720" y="4869000"/>
              <a:ext cx="431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6300720" y="5085000"/>
              <a:ext cx="431640" cy="360"/>
              <a:chOff x="6300720" y="5085000"/>
              <a:chExt cx="431640" cy="360"/>
            </a:xfrm>
          </p:grpSpPr>
          <p:sp>
            <p:nvSpPr>
              <p:cNvPr id="1159" name="Line 12"/>
              <p:cNvSpPr/>
              <p:nvPr/>
            </p:nvSpPr>
            <p:spPr>
              <a:xfrm>
                <a:off x="6300720" y="50850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 txBox="1"/>
              <p:nvPr/>
            </p:nvSpPr>
            <p:spPr>
              <a:xfrm>
                <a:off x="6300720" y="508500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6516720" y="4869000"/>
              <a:ext cx="360" cy="431640"/>
              <a:chOff x="6516720" y="4869000"/>
              <a:chExt cx="360" cy="431640"/>
            </a:xfrm>
          </p:grpSpPr>
          <p:sp>
            <p:nvSpPr>
              <p:cNvPr id="1162" name="Line 13"/>
              <p:cNvSpPr/>
              <p:nvPr/>
            </p:nvSpPr>
            <p:spPr>
              <a:xfrm>
                <a:off x="6516720" y="486900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 txBox="1"/>
              <p:nvPr/>
            </p:nvSpPr>
            <p:spPr>
              <a:xfrm>
                <a:off x="6516720" y="486900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4" name="Group 14"/>
          <p:cNvGrpSpPr/>
          <p:nvPr/>
        </p:nvGrpSpPr>
        <p:grpSpPr>
          <a:xfrm>
            <a:off x="5148360" y="4292640"/>
            <a:ext cx="431640" cy="431640"/>
            <a:chOff x="5148360" y="4292640"/>
            <a:chExt cx="431640" cy="431640"/>
          </a:xfrm>
        </p:grpSpPr>
        <p:sp>
          <p:nvSpPr>
            <p:cNvPr id="1165" name="Oval 15"/>
            <p:cNvSpPr/>
            <p:nvPr/>
          </p:nvSpPr>
          <p:spPr>
            <a:xfrm>
              <a:off x="5148360" y="4292640"/>
              <a:ext cx="431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5148360" y="4508640"/>
              <a:ext cx="431640" cy="360"/>
              <a:chOff x="5148360" y="4508640"/>
              <a:chExt cx="431640" cy="360"/>
            </a:xfrm>
          </p:grpSpPr>
          <p:sp>
            <p:nvSpPr>
              <p:cNvPr id="1167" name="Line 16"/>
              <p:cNvSpPr/>
              <p:nvPr/>
            </p:nvSpPr>
            <p:spPr>
              <a:xfrm>
                <a:off x="5148360" y="450864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 txBox="1"/>
              <p:nvPr/>
            </p:nvSpPr>
            <p:spPr>
              <a:xfrm>
                <a:off x="5148360" y="450864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364360" y="4292640"/>
              <a:ext cx="360" cy="431640"/>
              <a:chOff x="5364360" y="4292640"/>
              <a:chExt cx="360" cy="431640"/>
            </a:xfrm>
          </p:grpSpPr>
          <p:sp>
            <p:nvSpPr>
              <p:cNvPr id="1170" name="Line 17"/>
              <p:cNvSpPr/>
              <p:nvPr/>
            </p:nvSpPr>
            <p:spPr>
              <a:xfrm>
                <a:off x="5364360" y="429264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 txBox="1"/>
              <p:nvPr/>
            </p:nvSpPr>
            <p:spPr>
              <a:xfrm>
                <a:off x="5364360" y="429264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2" name="Group 18"/>
          <p:cNvGrpSpPr/>
          <p:nvPr/>
        </p:nvGrpSpPr>
        <p:grpSpPr>
          <a:xfrm>
            <a:off x="3924360" y="4365720"/>
            <a:ext cx="431640" cy="431640"/>
            <a:chOff x="3924360" y="4365720"/>
            <a:chExt cx="431640" cy="431640"/>
          </a:xfrm>
        </p:grpSpPr>
        <p:sp>
          <p:nvSpPr>
            <p:cNvPr id="1173" name="Oval 19"/>
            <p:cNvSpPr/>
            <p:nvPr/>
          </p:nvSpPr>
          <p:spPr>
            <a:xfrm>
              <a:off x="3924360" y="4365720"/>
              <a:ext cx="431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3924360" y="4581720"/>
              <a:ext cx="431640" cy="360"/>
              <a:chOff x="3924360" y="4581720"/>
              <a:chExt cx="431640" cy="360"/>
            </a:xfrm>
          </p:grpSpPr>
          <p:sp>
            <p:nvSpPr>
              <p:cNvPr id="1175" name="Line 20"/>
              <p:cNvSpPr/>
              <p:nvPr/>
            </p:nvSpPr>
            <p:spPr>
              <a:xfrm>
                <a:off x="3924360" y="458172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 txBox="1"/>
              <p:nvPr/>
            </p:nvSpPr>
            <p:spPr>
              <a:xfrm>
                <a:off x="3924360" y="45817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4140360" y="4365720"/>
              <a:ext cx="360" cy="431640"/>
              <a:chOff x="4140360" y="4365720"/>
              <a:chExt cx="360" cy="431640"/>
            </a:xfrm>
          </p:grpSpPr>
          <p:sp>
            <p:nvSpPr>
              <p:cNvPr id="1178" name="Line 21"/>
              <p:cNvSpPr/>
              <p:nvPr/>
            </p:nvSpPr>
            <p:spPr>
              <a:xfrm>
                <a:off x="4140360" y="4365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 txBox="1"/>
              <p:nvPr/>
            </p:nvSpPr>
            <p:spPr>
              <a:xfrm>
                <a:off x="4140360" y="43657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Group 22"/>
          <p:cNvGrpSpPr/>
          <p:nvPr/>
        </p:nvGrpSpPr>
        <p:grpSpPr>
          <a:xfrm>
            <a:off x="4716360" y="5157720"/>
            <a:ext cx="431640" cy="431640"/>
            <a:chOff x="4716360" y="5157720"/>
            <a:chExt cx="431640" cy="431640"/>
          </a:xfrm>
        </p:grpSpPr>
        <p:sp>
          <p:nvSpPr>
            <p:cNvPr id="1181" name="Oval 23"/>
            <p:cNvSpPr/>
            <p:nvPr/>
          </p:nvSpPr>
          <p:spPr>
            <a:xfrm>
              <a:off x="4716360" y="5157720"/>
              <a:ext cx="431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"/>
            <p:cNvGrpSpPr/>
            <p:nvPr/>
          </p:nvGrpSpPr>
          <p:grpSpPr>
            <a:xfrm>
              <a:off x="4716360" y="5373720"/>
              <a:ext cx="431640" cy="360"/>
              <a:chOff x="4716360" y="5373720"/>
              <a:chExt cx="431640" cy="360"/>
            </a:xfrm>
          </p:grpSpPr>
          <p:sp>
            <p:nvSpPr>
              <p:cNvPr id="1183" name="Line 24"/>
              <p:cNvSpPr/>
              <p:nvPr/>
            </p:nvSpPr>
            <p:spPr>
              <a:xfrm>
                <a:off x="4716360" y="537372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 txBox="1"/>
              <p:nvPr/>
            </p:nvSpPr>
            <p:spPr>
              <a:xfrm>
                <a:off x="4716360" y="53737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4932360" y="5157720"/>
              <a:ext cx="360" cy="431640"/>
              <a:chOff x="4932360" y="5157720"/>
              <a:chExt cx="360" cy="431640"/>
            </a:xfrm>
          </p:grpSpPr>
          <p:sp>
            <p:nvSpPr>
              <p:cNvPr id="1186" name="Line 25"/>
              <p:cNvSpPr/>
              <p:nvPr/>
            </p:nvSpPr>
            <p:spPr>
              <a:xfrm>
                <a:off x="4932360" y="5157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 txBox="1"/>
              <p:nvPr/>
            </p:nvSpPr>
            <p:spPr>
              <a:xfrm>
                <a:off x="4932360" y="51577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Group 26"/>
          <p:cNvGrpSpPr/>
          <p:nvPr/>
        </p:nvGrpSpPr>
        <p:grpSpPr>
          <a:xfrm>
            <a:off x="3132000" y="5157720"/>
            <a:ext cx="431640" cy="431640"/>
            <a:chOff x="3132000" y="5157720"/>
            <a:chExt cx="431640" cy="431640"/>
          </a:xfrm>
        </p:grpSpPr>
        <p:sp>
          <p:nvSpPr>
            <p:cNvPr id="1189" name="Oval 27"/>
            <p:cNvSpPr/>
            <p:nvPr/>
          </p:nvSpPr>
          <p:spPr>
            <a:xfrm>
              <a:off x="3132000" y="5157720"/>
              <a:ext cx="431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"/>
            <p:cNvGrpSpPr/>
            <p:nvPr/>
          </p:nvGrpSpPr>
          <p:grpSpPr>
            <a:xfrm>
              <a:off x="3132000" y="5373720"/>
              <a:ext cx="431640" cy="360"/>
              <a:chOff x="3132000" y="5373720"/>
              <a:chExt cx="431640" cy="360"/>
            </a:xfrm>
          </p:grpSpPr>
          <p:sp>
            <p:nvSpPr>
              <p:cNvPr id="1191" name="Line 28"/>
              <p:cNvSpPr/>
              <p:nvPr/>
            </p:nvSpPr>
            <p:spPr>
              <a:xfrm>
                <a:off x="3132000" y="537372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 txBox="1"/>
              <p:nvPr/>
            </p:nvSpPr>
            <p:spPr>
              <a:xfrm>
                <a:off x="3132000" y="53737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3348000" y="5157720"/>
              <a:ext cx="360" cy="431640"/>
              <a:chOff x="3348000" y="5157720"/>
              <a:chExt cx="360" cy="431640"/>
            </a:xfrm>
          </p:grpSpPr>
          <p:sp>
            <p:nvSpPr>
              <p:cNvPr id="1194" name="Line 29"/>
              <p:cNvSpPr/>
              <p:nvPr/>
            </p:nvSpPr>
            <p:spPr>
              <a:xfrm>
                <a:off x="3348000" y="5157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 txBox="1"/>
              <p:nvPr/>
            </p:nvSpPr>
            <p:spPr>
              <a:xfrm>
                <a:off x="3348000" y="51577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Group 30"/>
          <p:cNvGrpSpPr/>
          <p:nvPr/>
        </p:nvGrpSpPr>
        <p:grpSpPr>
          <a:xfrm>
            <a:off x="2843280" y="4365720"/>
            <a:ext cx="287280" cy="287280"/>
            <a:chOff x="2843280" y="4365720"/>
            <a:chExt cx="287280" cy="287280"/>
          </a:xfrm>
        </p:grpSpPr>
        <p:sp>
          <p:nvSpPr>
            <p:cNvPr id="1197" name="Oval 31"/>
            <p:cNvSpPr/>
            <p:nvPr/>
          </p:nvSpPr>
          <p:spPr>
            <a:xfrm>
              <a:off x="2843280" y="436572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2865600" y="4520160"/>
              <a:ext cx="243000" cy="360"/>
              <a:chOff x="2865600" y="4520160"/>
              <a:chExt cx="243000" cy="360"/>
            </a:xfrm>
          </p:grpSpPr>
          <p:sp>
            <p:nvSpPr>
              <p:cNvPr id="1199" name="Line 32"/>
              <p:cNvSpPr/>
              <p:nvPr/>
            </p:nvSpPr>
            <p:spPr>
              <a:xfrm>
                <a:off x="2865600" y="4520160"/>
                <a:ext cx="2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 txBox="1"/>
              <p:nvPr/>
            </p:nvSpPr>
            <p:spPr>
              <a:xfrm>
                <a:off x="2865600" y="4520160"/>
                <a:ext cx="2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1" name="Group 33"/>
          <p:cNvGrpSpPr/>
          <p:nvPr/>
        </p:nvGrpSpPr>
        <p:grpSpPr>
          <a:xfrm>
            <a:off x="2268360" y="5300640"/>
            <a:ext cx="287640" cy="287280"/>
            <a:chOff x="2268360" y="5300640"/>
            <a:chExt cx="287640" cy="287280"/>
          </a:xfrm>
        </p:grpSpPr>
        <p:sp>
          <p:nvSpPr>
            <p:cNvPr id="1202" name="Oval 34"/>
            <p:cNvSpPr/>
            <p:nvPr/>
          </p:nvSpPr>
          <p:spPr>
            <a:xfrm>
              <a:off x="2268360" y="5300640"/>
              <a:ext cx="28764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"/>
            <p:cNvGrpSpPr/>
            <p:nvPr/>
          </p:nvGrpSpPr>
          <p:grpSpPr>
            <a:xfrm>
              <a:off x="2290680" y="5455080"/>
              <a:ext cx="243360" cy="360"/>
              <a:chOff x="2290680" y="5455080"/>
              <a:chExt cx="243360" cy="360"/>
            </a:xfrm>
          </p:grpSpPr>
          <p:sp>
            <p:nvSpPr>
              <p:cNvPr id="1204" name="Line 35"/>
              <p:cNvSpPr/>
              <p:nvPr/>
            </p:nvSpPr>
            <p:spPr>
              <a:xfrm>
                <a:off x="2290680" y="54550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 txBox="1"/>
              <p:nvPr/>
            </p:nvSpPr>
            <p:spPr>
              <a:xfrm>
                <a:off x="2290680" y="5455080"/>
                <a:ext cx="24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6" name="Group 36"/>
          <p:cNvGrpSpPr/>
          <p:nvPr/>
        </p:nvGrpSpPr>
        <p:grpSpPr>
          <a:xfrm>
            <a:off x="4500720" y="4437000"/>
            <a:ext cx="287280" cy="287280"/>
            <a:chOff x="4500720" y="4437000"/>
            <a:chExt cx="287280" cy="287280"/>
          </a:xfrm>
        </p:grpSpPr>
        <p:sp>
          <p:nvSpPr>
            <p:cNvPr id="1207" name="Oval 37"/>
            <p:cNvSpPr/>
            <p:nvPr/>
          </p:nvSpPr>
          <p:spPr>
            <a:xfrm>
              <a:off x="4500720" y="443700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4523040" y="4591440"/>
              <a:ext cx="243000" cy="360"/>
              <a:chOff x="4523040" y="4591440"/>
              <a:chExt cx="243000" cy="360"/>
            </a:xfrm>
          </p:grpSpPr>
          <p:sp>
            <p:nvSpPr>
              <p:cNvPr id="1209" name="Line 38"/>
              <p:cNvSpPr/>
              <p:nvPr/>
            </p:nvSpPr>
            <p:spPr>
              <a:xfrm>
                <a:off x="4523040" y="4591440"/>
                <a:ext cx="2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 txBox="1"/>
              <p:nvPr/>
            </p:nvSpPr>
            <p:spPr>
              <a:xfrm>
                <a:off x="4523040" y="4591440"/>
                <a:ext cx="2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1" name="Group 39"/>
          <p:cNvGrpSpPr/>
          <p:nvPr/>
        </p:nvGrpSpPr>
        <p:grpSpPr>
          <a:xfrm>
            <a:off x="3924360" y="5373720"/>
            <a:ext cx="287280" cy="287280"/>
            <a:chOff x="3924360" y="5373720"/>
            <a:chExt cx="287280" cy="287280"/>
          </a:xfrm>
        </p:grpSpPr>
        <p:sp>
          <p:nvSpPr>
            <p:cNvPr id="1212" name="Oval 40"/>
            <p:cNvSpPr/>
            <p:nvPr/>
          </p:nvSpPr>
          <p:spPr>
            <a:xfrm>
              <a:off x="3924360" y="537372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3" name=""/>
            <p:cNvGrpSpPr/>
            <p:nvPr/>
          </p:nvGrpSpPr>
          <p:grpSpPr>
            <a:xfrm>
              <a:off x="3946680" y="5528160"/>
              <a:ext cx="243000" cy="360"/>
              <a:chOff x="3946680" y="5528160"/>
              <a:chExt cx="243000" cy="360"/>
            </a:xfrm>
          </p:grpSpPr>
          <p:sp>
            <p:nvSpPr>
              <p:cNvPr id="1214" name="Line 41"/>
              <p:cNvSpPr/>
              <p:nvPr/>
            </p:nvSpPr>
            <p:spPr>
              <a:xfrm>
                <a:off x="3946680" y="5528160"/>
                <a:ext cx="2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 txBox="1"/>
              <p:nvPr/>
            </p:nvSpPr>
            <p:spPr>
              <a:xfrm>
                <a:off x="3946680" y="5528160"/>
                <a:ext cx="2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6" name="Group 42"/>
          <p:cNvGrpSpPr/>
          <p:nvPr/>
        </p:nvGrpSpPr>
        <p:grpSpPr>
          <a:xfrm>
            <a:off x="5435640" y="5084640"/>
            <a:ext cx="287280" cy="287640"/>
            <a:chOff x="5435640" y="5084640"/>
            <a:chExt cx="287280" cy="287640"/>
          </a:xfrm>
        </p:grpSpPr>
        <p:sp>
          <p:nvSpPr>
            <p:cNvPr id="1217" name="Oval 43"/>
            <p:cNvSpPr/>
            <p:nvPr/>
          </p:nvSpPr>
          <p:spPr>
            <a:xfrm>
              <a:off x="5435640" y="5084640"/>
              <a:ext cx="287280" cy="28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8" name=""/>
            <p:cNvGrpSpPr/>
            <p:nvPr/>
          </p:nvGrpSpPr>
          <p:grpSpPr>
            <a:xfrm>
              <a:off x="5457960" y="5239440"/>
              <a:ext cx="243000" cy="360"/>
              <a:chOff x="5457960" y="5239440"/>
              <a:chExt cx="243000" cy="360"/>
            </a:xfrm>
          </p:grpSpPr>
          <p:sp>
            <p:nvSpPr>
              <p:cNvPr id="1219" name="Line 44"/>
              <p:cNvSpPr/>
              <p:nvPr/>
            </p:nvSpPr>
            <p:spPr>
              <a:xfrm>
                <a:off x="5457960" y="5239440"/>
                <a:ext cx="2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 txBox="1"/>
              <p:nvPr/>
            </p:nvSpPr>
            <p:spPr>
              <a:xfrm>
                <a:off x="5457960" y="5239440"/>
                <a:ext cx="2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1" name="Group 45"/>
          <p:cNvGrpSpPr/>
          <p:nvPr/>
        </p:nvGrpSpPr>
        <p:grpSpPr>
          <a:xfrm>
            <a:off x="5867280" y="4221000"/>
            <a:ext cx="287280" cy="287640"/>
            <a:chOff x="5867280" y="4221000"/>
            <a:chExt cx="287280" cy="287640"/>
          </a:xfrm>
        </p:grpSpPr>
        <p:sp>
          <p:nvSpPr>
            <p:cNvPr id="1222" name="Oval 46"/>
            <p:cNvSpPr/>
            <p:nvPr/>
          </p:nvSpPr>
          <p:spPr>
            <a:xfrm>
              <a:off x="5867280" y="4221000"/>
              <a:ext cx="287280" cy="28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5889600" y="4375800"/>
              <a:ext cx="243000" cy="360"/>
              <a:chOff x="5889600" y="4375800"/>
              <a:chExt cx="243000" cy="360"/>
            </a:xfrm>
          </p:grpSpPr>
          <p:sp>
            <p:nvSpPr>
              <p:cNvPr id="1224" name="Line 47"/>
              <p:cNvSpPr/>
              <p:nvPr/>
            </p:nvSpPr>
            <p:spPr>
              <a:xfrm>
                <a:off x="5889600" y="4375800"/>
                <a:ext cx="2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 txBox="1"/>
              <p:nvPr/>
            </p:nvSpPr>
            <p:spPr>
              <a:xfrm>
                <a:off x="5889600" y="4375800"/>
                <a:ext cx="2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6" name="Group 48"/>
          <p:cNvGrpSpPr/>
          <p:nvPr/>
        </p:nvGrpSpPr>
        <p:grpSpPr>
          <a:xfrm>
            <a:off x="6804000" y="4581360"/>
            <a:ext cx="287280" cy="287640"/>
            <a:chOff x="6804000" y="4581360"/>
            <a:chExt cx="287280" cy="287640"/>
          </a:xfrm>
        </p:grpSpPr>
        <p:sp>
          <p:nvSpPr>
            <p:cNvPr id="1227" name="Oval 49"/>
            <p:cNvSpPr/>
            <p:nvPr/>
          </p:nvSpPr>
          <p:spPr>
            <a:xfrm>
              <a:off x="6804000" y="4581360"/>
              <a:ext cx="287280" cy="28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"/>
            <p:cNvGrpSpPr/>
            <p:nvPr/>
          </p:nvGrpSpPr>
          <p:grpSpPr>
            <a:xfrm>
              <a:off x="6826320" y="4736160"/>
              <a:ext cx="243000" cy="360"/>
              <a:chOff x="6826320" y="4736160"/>
              <a:chExt cx="243000" cy="360"/>
            </a:xfrm>
          </p:grpSpPr>
          <p:sp>
            <p:nvSpPr>
              <p:cNvPr id="1229" name="Line 50"/>
              <p:cNvSpPr/>
              <p:nvPr/>
            </p:nvSpPr>
            <p:spPr>
              <a:xfrm>
                <a:off x="6826320" y="4736160"/>
                <a:ext cx="2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 txBox="1"/>
              <p:nvPr/>
            </p:nvSpPr>
            <p:spPr>
              <a:xfrm>
                <a:off x="6826320" y="4736160"/>
                <a:ext cx="2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1" name="Group 55"/>
          <p:cNvGrpSpPr/>
          <p:nvPr/>
        </p:nvGrpSpPr>
        <p:grpSpPr>
          <a:xfrm>
            <a:off x="8244000" y="2421000"/>
            <a:ext cx="576000" cy="576000"/>
            <a:chOff x="8244000" y="2421000"/>
            <a:chExt cx="576000" cy="576000"/>
          </a:xfrm>
        </p:grpSpPr>
        <p:grpSp>
          <p:nvGrpSpPr>
            <p:cNvPr id="1232" name=""/>
            <p:cNvGrpSpPr/>
            <p:nvPr/>
          </p:nvGrpSpPr>
          <p:grpSpPr>
            <a:xfrm>
              <a:off x="8244000" y="2709720"/>
              <a:ext cx="576000" cy="360"/>
              <a:chOff x="8244000" y="2709720"/>
              <a:chExt cx="576000" cy="360"/>
            </a:xfrm>
          </p:grpSpPr>
          <p:sp>
            <p:nvSpPr>
              <p:cNvPr id="1233" name="Line 51"/>
              <p:cNvSpPr/>
              <p:nvPr/>
            </p:nvSpPr>
            <p:spPr>
              <a:xfrm>
                <a:off x="8244000" y="2709720"/>
                <a:ext cx="57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 txBox="1"/>
              <p:nvPr/>
            </p:nvSpPr>
            <p:spPr>
              <a:xfrm>
                <a:off x="8244000" y="2709720"/>
                <a:ext cx="57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8532720" y="2421000"/>
              <a:ext cx="360" cy="576000"/>
              <a:chOff x="8532720" y="2421000"/>
              <a:chExt cx="360" cy="576000"/>
            </a:xfrm>
          </p:grpSpPr>
          <p:sp>
            <p:nvSpPr>
              <p:cNvPr id="1236" name="Line 52"/>
              <p:cNvSpPr/>
              <p:nvPr/>
            </p:nvSpPr>
            <p:spPr>
              <a:xfrm>
                <a:off x="8532720" y="2421000"/>
                <a:ext cx="0" cy="57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 txBox="1"/>
              <p:nvPr/>
            </p:nvSpPr>
            <p:spPr>
              <a:xfrm>
                <a:off x="8532720" y="2421000"/>
                <a:ext cx="36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8" name=""/>
          <p:cNvGrpSpPr/>
          <p:nvPr/>
        </p:nvGrpSpPr>
        <p:grpSpPr>
          <a:xfrm>
            <a:off x="539640" y="2708280"/>
            <a:ext cx="503280" cy="360"/>
            <a:chOff x="539640" y="2708280"/>
            <a:chExt cx="503280" cy="360"/>
          </a:xfrm>
        </p:grpSpPr>
        <p:sp>
          <p:nvSpPr>
            <p:cNvPr id="1239" name="Line 53"/>
            <p:cNvSpPr/>
            <p:nvPr/>
          </p:nvSpPr>
          <p:spPr>
            <a:xfrm>
              <a:off x="539640" y="270828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 txBox="1"/>
            <p:nvPr/>
          </p:nvSpPr>
          <p:spPr>
            <a:xfrm>
              <a:off x="539640" y="270828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6"/>
          <p:cNvSpPr/>
          <p:nvPr/>
        </p:nvSpPr>
        <p:spPr>
          <a:xfrm>
            <a:off x="1187280" y="4076640"/>
            <a:ext cx="6913800" cy="1873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7"/>
          <p:cNvSpPr/>
          <p:nvPr/>
        </p:nvSpPr>
        <p:spPr>
          <a:xfrm>
            <a:off x="1187280" y="2708280"/>
            <a:ext cx="6913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8"/>
          <p:cNvSpPr/>
          <p:nvPr/>
        </p:nvSpPr>
        <p:spPr>
          <a:xfrm>
            <a:off x="1403280" y="2133720"/>
            <a:ext cx="21600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9"/>
          <p:cNvSpPr/>
          <p:nvPr/>
        </p:nvSpPr>
        <p:spPr>
          <a:xfrm>
            <a:off x="7667640" y="2133720"/>
            <a:ext cx="21600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Group 13"/>
          <p:cNvGrpSpPr/>
          <p:nvPr/>
        </p:nvGrpSpPr>
        <p:grpSpPr>
          <a:xfrm>
            <a:off x="2268360" y="4437000"/>
            <a:ext cx="431640" cy="431640"/>
            <a:chOff x="2268360" y="4437000"/>
            <a:chExt cx="431640" cy="431640"/>
          </a:xfrm>
        </p:grpSpPr>
        <p:sp>
          <p:nvSpPr>
            <p:cNvPr id="1246" name="Oval 10"/>
            <p:cNvSpPr/>
            <p:nvPr/>
          </p:nvSpPr>
          <p:spPr>
            <a:xfrm>
              <a:off x="2268360" y="4437000"/>
              <a:ext cx="431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"/>
            <p:cNvGrpSpPr/>
            <p:nvPr/>
          </p:nvGrpSpPr>
          <p:grpSpPr>
            <a:xfrm>
              <a:off x="2268360" y="4653000"/>
              <a:ext cx="431640" cy="360"/>
              <a:chOff x="2268360" y="4653000"/>
              <a:chExt cx="431640" cy="360"/>
            </a:xfrm>
          </p:grpSpPr>
          <p:sp>
            <p:nvSpPr>
              <p:cNvPr id="1248" name="Line 11"/>
              <p:cNvSpPr/>
              <p:nvPr/>
            </p:nvSpPr>
            <p:spPr>
              <a:xfrm>
                <a:off x="2268360" y="46530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 txBox="1"/>
              <p:nvPr/>
            </p:nvSpPr>
            <p:spPr>
              <a:xfrm>
                <a:off x="2268360" y="465300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2484360" y="4437000"/>
              <a:ext cx="360" cy="431640"/>
              <a:chOff x="2484360" y="4437000"/>
              <a:chExt cx="360" cy="431640"/>
            </a:xfrm>
          </p:grpSpPr>
          <p:sp>
            <p:nvSpPr>
              <p:cNvPr id="1251" name="Line 12"/>
              <p:cNvSpPr/>
              <p:nvPr/>
            </p:nvSpPr>
            <p:spPr>
              <a:xfrm>
                <a:off x="2484360" y="443700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 txBox="1"/>
              <p:nvPr/>
            </p:nvSpPr>
            <p:spPr>
              <a:xfrm>
                <a:off x="2484360" y="443700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3" name="Group 14"/>
          <p:cNvGrpSpPr/>
          <p:nvPr/>
        </p:nvGrpSpPr>
        <p:grpSpPr>
          <a:xfrm>
            <a:off x="6300720" y="4869000"/>
            <a:ext cx="431640" cy="431640"/>
            <a:chOff x="6300720" y="4869000"/>
            <a:chExt cx="431640" cy="431640"/>
          </a:xfrm>
        </p:grpSpPr>
        <p:sp>
          <p:nvSpPr>
            <p:cNvPr id="1254" name="Oval 15"/>
            <p:cNvSpPr/>
            <p:nvPr/>
          </p:nvSpPr>
          <p:spPr>
            <a:xfrm>
              <a:off x="6300720" y="4869000"/>
              <a:ext cx="431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6300720" y="5085000"/>
              <a:ext cx="431640" cy="360"/>
              <a:chOff x="6300720" y="5085000"/>
              <a:chExt cx="431640" cy="360"/>
            </a:xfrm>
          </p:grpSpPr>
          <p:sp>
            <p:nvSpPr>
              <p:cNvPr id="1256" name="Line 16"/>
              <p:cNvSpPr/>
              <p:nvPr/>
            </p:nvSpPr>
            <p:spPr>
              <a:xfrm>
                <a:off x="6300720" y="50850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 txBox="1"/>
              <p:nvPr/>
            </p:nvSpPr>
            <p:spPr>
              <a:xfrm>
                <a:off x="6300720" y="508500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6516720" y="4869000"/>
              <a:ext cx="360" cy="431640"/>
              <a:chOff x="6516720" y="4869000"/>
              <a:chExt cx="360" cy="431640"/>
            </a:xfrm>
          </p:grpSpPr>
          <p:sp>
            <p:nvSpPr>
              <p:cNvPr id="1259" name="Line 17"/>
              <p:cNvSpPr/>
              <p:nvPr/>
            </p:nvSpPr>
            <p:spPr>
              <a:xfrm>
                <a:off x="6516720" y="486900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 txBox="1"/>
              <p:nvPr/>
            </p:nvSpPr>
            <p:spPr>
              <a:xfrm>
                <a:off x="6516720" y="486900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1" name="Group 18"/>
          <p:cNvGrpSpPr/>
          <p:nvPr/>
        </p:nvGrpSpPr>
        <p:grpSpPr>
          <a:xfrm>
            <a:off x="5148360" y="4292640"/>
            <a:ext cx="431640" cy="431640"/>
            <a:chOff x="5148360" y="4292640"/>
            <a:chExt cx="431640" cy="431640"/>
          </a:xfrm>
        </p:grpSpPr>
        <p:sp>
          <p:nvSpPr>
            <p:cNvPr id="1262" name="Oval 19"/>
            <p:cNvSpPr/>
            <p:nvPr/>
          </p:nvSpPr>
          <p:spPr>
            <a:xfrm>
              <a:off x="5148360" y="4292640"/>
              <a:ext cx="431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3" name=""/>
            <p:cNvGrpSpPr/>
            <p:nvPr/>
          </p:nvGrpSpPr>
          <p:grpSpPr>
            <a:xfrm>
              <a:off x="5148360" y="4508640"/>
              <a:ext cx="431640" cy="360"/>
              <a:chOff x="5148360" y="4508640"/>
              <a:chExt cx="431640" cy="360"/>
            </a:xfrm>
          </p:grpSpPr>
          <p:sp>
            <p:nvSpPr>
              <p:cNvPr id="1264" name="Line 20"/>
              <p:cNvSpPr/>
              <p:nvPr/>
            </p:nvSpPr>
            <p:spPr>
              <a:xfrm>
                <a:off x="5148360" y="450864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 txBox="1"/>
              <p:nvPr/>
            </p:nvSpPr>
            <p:spPr>
              <a:xfrm>
                <a:off x="5148360" y="450864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5364360" y="4292640"/>
              <a:ext cx="360" cy="431640"/>
              <a:chOff x="5364360" y="4292640"/>
              <a:chExt cx="360" cy="431640"/>
            </a:xfrm>
          </p:grpSpPr>
          <p:sp>
            <p:nvSpPr>
              <p:cNvPr id="1267" name="Line 21"/>
              <p:cNvSpPr/>
              <p:nvPr/>
            </p:nvSpPr>
            <p:spPr>
              <a:xfrm>
                <a:off x="5364360" y="429264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 txBox="1"/>
              <p:nvPr/>
            </p:nvSpPr>
            <p:spPr>
              <a:xfrm>
                <a:off x="5364360" y="429264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9" name="Group 22"/>
          <p:cNvGrpSpPr/>
          <p:nvPr/>
        </p:nvGrpSpPr>
        <p:grpSpPr>
          <a:xfrm>
            <a:off x="3924360" y="4365720"/>
            <a:ext cx="431640" cy="431640"/>
            <a:chOff x="3924360" y="4365720"/>
            <a:chExt cx="431640" cy="431640"/>
          </a:xfrm>
        </p:grpSpPr>
        <p:sp>
          <p:nvSpPr>
            <p:cNvPr id="1270" name="Oval 23"/>
            <p:cNvSpPr/>
            <p:nvPr/>
          </p:nvSpPr>
          <p:spPr>
            <a:xfrm>
              <a:off x="3924360" y="4365720"/>
              <a:ext cx="431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3924360" y="4581720"/>
              <a:ext cx="431640" cy="360"/>
              <a:chOff x="3924360" y="4581720"/>
              <a:chExt cx="431640" cy="360"/>
            </a:xfrm>
          </p:grpSpPr>
          <p:sp>
            <p:nvSpPr>
              <p:cNvPr id="1272" name="Line 24"/>
              <p:cNvSpPr/>
              <p:nvPr/>
            </p:nvSpPr>
            <p:spPr>
              <a:xfrm>
                <a:off x="3924360" y="458172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 txBox="1"/>
              <p:nvPr/>
            </p:nvSpPr>
            <p:spPr>
              <a:xfrm>
                <a:off x="3924360" y="45817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4140360" y="4365720"/>
              <a:ext cx="360" cy="431640"/>
              <a:chOff x="4140360" y="4365720"/>
              <a:chExt cx="360" cy="431640"/>
            </a:xfrm>
          </p:grpSpPr>
          <p:sp>
            <p:nvSpPr>
              <p:cNvPr id="1275" name="Line 25"/>
              <p:cNvSpPr/>
              <p:nvPr/>
            </p:nvSpPr>
            <p:spPr>
              <a:xfrm>
                <a:off x="4140360" y="4365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 txBox="1"/>
              <p:nvPr/>
            </p:nvSpPr>
            <p:spPr>
              <a:xfrm>
                <a:off x="4140360" y="43657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7" name="Group 26"/>
          <p:cNvGrpSpPr/>
          <p:nvPr/>
        </p:nvGrpSpPr>
        <p:grpSpPr>
          <a:xfrm>
            <a:off x="4716360" y="5157720"/>
            <a:ext cx="431640" cy="431640"/>
            <a:chOff x="4716360" y="5157720"/>
            <a:chExt cx="431640" cy="431640"/>
          </a:xfrm>
        </p:grpSpPr>
        <p:sp>
          <p:nvSpPr>
            <p:cNvPr id="1278" name="Oval 27"/>
            <p:cNvSpPr/>
            <p:nvPr/>
          </p:nvSpPr>
          <p:spPr>
            <a:xfrm>
              <a:off x="4716360" y="5157720"/>
              <a:ext cx="431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4716360" y="5373720"/>
              <a:ext cx="431640" cy="360"/>
              <a:chOff x="4716360" y="5373720"/>
              <a:chExt cx="431640" cy="360"/>
            </a:xfrm>
          </p:grpSpPr>
          <p:sp>
            <p:nvSpPr>
              <p:cNvPr id="1280" name="Line 28"/>
              <p:cNvSpPr/>
              <p:nvPr/>
            </p:nvSpPr>
            <p:spPr>
              <a:xfrm>
                <a:off x="4716360" y="537372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 txBox="1"/>
              <p:nvPr/>
            </p:nvSpPr>
            <p:spPr>
              <a:xfrm>
                <a:off x="4716360" y="53737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4932360" y="5157720"/>
              <a:ext cx="360" cy="431640"/>
              <a:chOff x="4932360" y="5157720"/>
              <a:chExt cx="360" cy="431640"/>
            </a:xfrm>
          </p:grpSpPr>
          <p:sp>
            <p:nvSpPr>
              <p:cNvPr id="1283" name="Line 29"/>
              <p:cNvSpPr/>
              <p:nvPr/>
            </p:nvSpPr>
            <p:spPr>
              <a:xfrm>
                <a:off x="4932360" y="5157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 txBox="1"/>
              <p:nvPr/>
            </p:nvSpPr>
            <p:spPr>
              <a:xfrm>
                <a:off x="4932360" y="51577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5" name="Group 30"/>
          <p:cNvGrpSpPr/>
          <p:nvPr/>
        </p:nvGrpSpPr>
        <p:grpSpPr>
          <a:xfrm>
            <a:off x="3132000" y="5157720"/>
            <a:ext cx="431640" cy="431640"/>
            <a:chOff x="3132000" y="5157720"/>
            <a:chExt cx="431640" cy="431640"/>
          </a:xfrm>
        </p:grpSpPr>
        <p:sp>
          <p:nvSpPr>
            <p:cNvPr id="1286" name="Oval 31"/>
            <p:cNvSpPr/>
            <p:nvPr/>
          </p:nvSpPr>
          <p:spPr>
            <a:xfrm>
              <a:off x="3132000" y="5157720"/>
              <a:ext cx="431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7" name=""/>
            <p:cNvGrpSpPr/>
            <p:nvPr/>
          </p:nvGrpSpPr>
          <p:grpSpPr>
            <a:xfrm>
              <a:off x="3132000" y="5373720"/>
              <a:ext cx="431640" cy="360"/>
              <a:chOff x="3132000" y="5373720"/>
              <a:chExt cx="431640" cy="360"/>
            </a:xfrm>
          </p:grpSpPr>
          <p:sp>
            <p:nvSpPr>
              <p:cNvPr id="1288" name="Line 32"/>
              <p:cNvSpPr/>
              <p:nvPr/>
            </p:nvSpPr>
            <p:spPr>
              <a:xfrm>
                <a:off x="3132000" y="537372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 txBox="1"/>
              <p:nvPr/>
            </p:nvSpPr>
            <p:spPr>
              <a:xfrm>
                <a:off x="3132000" y="53737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3348000" y="5157720"/>
              <a:ext cx="360" cy="431640"/>
              <a:chOff x="3348000" y="5157720"/>
              <a:chExt cx="360" cy="431640"/>
            </a:xfrm>
          </p:grpSpPr>
          <p:sp>
            <p:nvSpPr>
              <p:cNvPr id="1291" name="Line 33"/>
              <p:cNvSpPr/>
              <p:nvPr/>
            </p:nvSpPr>
            <p:spPr>
              <a:xfrm>
                <a:off x="3348000" y="5157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 txBox="1"/>
              <p:nvPr/>
            </p:nvSpPr>
            <p:spPr>
              <a:xfrm>
                <a:off x="3348000" y="51577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3" name="Group 36"/>
          <p:cNvGrpSpPr/>
          <p:nvPr/>
        </p:nvGrpSpPr>
        <p:grpSpPr>
          <a:xfrm>
            <a:off x="2843280" y="4365720"/>
            <a:ext cx="287280" cy="287280"/>
            <a:chOff x="2843280" y="4365720"/>
            <a:chExt cx="287280" cy="287280"/>
          </a:xfrm>
        </p:grpSpPr>
        <p:sp>
          <p:nvSpPr>
            <p:cNvPr id="1294" name="Oval 34"/>
            <p:cNvSpPr/>
            <p:nvPr/>
          </p:nvSpPr>
          <p:spPr>
            <a:xfrm>
              <a:off x="2843280" y="436572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5" name=""/>
            <p:cNvGrpSpPr/>
            <p:nvPr/>
          </p:nvGrpSpPr>
          <p:grpSpPr>
            <a:xfrm>
              <a:off x="2865600" y="4520160"/>
              <a:ext cx="243000" cy="360"/>
              <a:chOff x="2865600" y="4520160"/>
              <a:chExt cx="243000" cy="360"/>
            </a:xfrm>
          </p:grpSpPr>
          <p:sp>
            <p:nvSpPr>
              <p:cNvPr id="1296" name="Line 35"/>
              <p:cNvSpPr/>
              <p:nvPr/>
            </p:nvSpPr>
            <p:spPr>
              <a:xfrm>
                <a:off x="2865600" y="4520160"/>
                <a:ext cx="2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 txBox="1"/>
              <p:nvPr/>
            </p:nvSpPr>
            <p:spPr>
              <a:xfrm>
                <a:off x="2865600" y="4520160"/>
                <a:ext cx="2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8" name="Group 37"/>
          <p:cNvGrpSpPr/>
          <p:nvPr/>
        </p:nvGrpSpPr>
        <p:grpSpPr>
          <a:xfrm>
            <a:off x="2268360" y="5300640"/>
            <a:ext cx="287640" cy="287280"/>
            <a:chOff x="2268360" y="5300640"/>
            <a:chExt cx="287640" cy="287280"/>
          </a:xfrm>
        </p:grpSpPr>
        <p:sp>
          <p:nvSpPr>
            <p:cNvPr id="1299" name="Oval 38"/>
            <p:cNvSpPr/>
            <p:nvPr/>
          </p:nvSpPr>
          <p:spPr>
            <a:xfrm>
              <a:off x="2268360" y="5300640"/>
              <a:ext cx="28764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2290680" y="5455080"/>
              <a:ext cx="243360" cy="360"/>
              <a:chOff x="2290680" y="5455080"/>
              <a:chExt cx="243360" cy="360"/>
            </a:xfrm>
          </p:grpSpPr>
          <p:sp>
            <p:nvSpPr>
              <p:cNvPr id="1301" name="Line 39"/>
              <p:cNvSpPr/>
              <p:nvPr/>
            </p:nvSpPr>
            <p:spPr>
              <a:xfrm>
                <a:off x="2290680" y="54550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 txBox="1"/>
              <p:nvPr/>
            </p:nvSpPr>
            <p:spPr>
              <a:xfrm>
                <a:off x="2290680" y="5455080"/>
                <a:ext cx="24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3" name="Group 40"/>
          <p:cNvGrpSpPr/>
          <p:nvPr/>
        </p:nvGrpSpPr>
        <p:grpSpPr>
          <a:xfrm>
            <a:off x="4500720" y="4437000"/>
            <a:ext cx="287280" cy="287280"/>
            <a:chOff x="4500720" y="4437000"/>
            <a:chExt cx="287280" cy="287280"/>
          </a:xfrm>
        </p:grpSpPr>
        <p:sp>
          <p:nvSpPr>
            <p:cNvPr id="1304" name="Oval 41"/>
            <p:cNvSpPr/>
            <p:nvPr/>
          </p:nvSpPr>
          <p:spPr>
            <a:xfrm>
              <a:off x="4500720" y="443700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4523040" y="4591440"/>
              <a:ext cx="243000" cy="360"/>
              <a:chOff x="4523040" y="4591440"/>
              <a:chExt cx="243000" cy="360"/>
            </a:xfrm>
          </p:grpSpPr>
          <p:sp>
            <p:nvSpPr>
              <p:cNvPr id="1306" name="Line 42"/>
              <p:cNvSpPr/>
              <p:nvPr/>
            </p:nvSpPr>
            <p:spPr>
              <a:xfrm>
                <a:off x="4523040" y="4591440"/>
                <a:ext cx="2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4523040" y="4591440"/>
                <a:ext cx="2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43"/>
          <p:cNvGrpSpPr/>
          <p:nvPr/>
        </p:nvGrpSpPr>
        <p:grpSpPr>
          <a:xfrm>
            <a:off x="3924360" y="5373720"/>
            <a:ext cx="287280" cy="287280"/>
            <a:chOff x="3924360" y="5373720"/>
            <a:chExt cx="287280" cy="287280"/>
          </a:xfrm>
        </p:grpSpPr>
        <p:sp>
          <p:nvSpPr>
            <p:cNvPr id="1309" name="Oval 44"/>
            <p:cNvSpPr/>
            <p:nvPr/>
          </p:nvSpPr>
          <p:spPr>
            <a:xfrm>
              <a:off x="3924360" y="537372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3946680" y="5528160"/>
              <a:ext cx="243000" cy="360"/>
              <a:chOff x="3946680" y="5528160"/>
              <a:chExt cx="243000" cy="360"/>
            </a:xfrm>
          </p:grpSpPr>
          <p:sp>
            <p:nvSpPr>
              <p:cNvPr id="1311" name="Line 45"/>
              <p:cNvSpPr/>
              <p:nvPr/>
            </p:nvSpPr>
            <p:spPr>
              <a:xfrm>
                <a:off x="3946680" y="5528160"/>
                <a:ext cx="2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 txBox="1"/>
              <p:nvPr/>
            </p:nvSpPr>
            <p:spPr>
              <a:xfrm>
                <a:off x="3946680" y="5528160"/>
                <a:ext cx="2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3" name="Group 46"/>
          <p:cNvGrpSpPr/>
          <p:nvPr/>
        </p:nvGrpSpPr>
        <p:grpSpPr>
          <a:xfrm>
            <a:off x="5435640" y="5084640"/>
            <a:ext cx="287280" cy="287640"/>
            <a:chOff x="5435640" y="5084640"/>
            <a:chExt cx="287280" cy="287640"/>
          </a:xfrm>
        </p:grpSpPr>
        <p:sp>
          <p:nvSpPr>
            <p:cNvPr id="1314" name="Oval 47"/>
            <p:cNvSpPr/>
            <p:nvPr/>
          </p:nvSpPr>
          <p:spPr>
            <a:xfrm>
              <a:off x="5435640" y="5084640"/>
              <a:ext cx="287280" cy="28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5457960" y="5239440"/>
              <a:ext cx="243000" cy="360"/>
              <a:chOff x="5457960" y="5239440"/>
              <a:chExt cx="243000" cy="360"/>
            </a:xfrm>
          </p:grpSpPr>
          <p:sp>
            <p:nvSpPr>
              <p:cNvPr id="1316" name="Line 48"/>
              <p:cNvSpPr/>
              <p:nvPr/>
            </p:nvSpPr>
            <p:spPr>
              <a:xfrm>
                <a:off x="5457960" y="5239440"/>
                <a:ext cx="2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 txBox="1"/>
              <p:nvPr/>
            </p:nvSpPr>
            <p:spPr>
              <a:xfrm>
                <a:off x="5457960" y="5239440"/>
                <a:ext cx="2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8" name="Group 49"/>
          <p:cNvGrpSpPr/>
          <p:nvPr/>
        </p:nvGrpSpPr>
        <p:grpSpPr>
          <a:xfrm>
            <a:off x="5867280" y="4221000"/>
            <a:ext cx="287280" cy="287640"/>
            <a:chOff x="5867280" y="4221000"/>
            <a:chExt cx="287280" cy="287640"/>
          </a:xfrm>
        </p:grpSpPr>
        <p:sp>
          <p:nvSpPr>
            <p:cNvPr id="1319" name="Oval 50"/>
            <p:cNvSpPr/>
            <p:nvPr/>
          </p:nvSpPr>
          <p:spPr>
            <a:xfrm>
              <a:off x="5867280" y="4221000"/>
              <a:ext cx="287280" cy="28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5889600" y="4375800"/>
              <a:ext cx="243000" cy="360"/>
              <a:chOff x="5889600" y="4375800"/>
              <a:chExt cx="243000" cy="360"/>
            </a:xfrm>
          </p:grpSpPr>
          <p:sp>
            <p:nvSpPr>
              <p:cNvPr id="1321" name="Line 51"/>
              <p:cNvSpPr/>
              <p:nvPr/>
            </p:nvSpPr>
            <p:spPr>
              <a:xfrm>
                <a:off x="5889600" y="4375800"/>
                <a:ext cx="2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 txBox="1"/>
              <p:nvPr/>
            </p:nvSpPr>
            <p:spPr>
              <a:xfrm>
                <a:off x="5889600" y="4375800"/>
                <a:ext cx="2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3" name="Group 52"/>
          <p:cNvGrpSpPr/>
          <p:nvPr/>
        </p:nvGrpSpPr>
        <p:grpSpPr>
          <a:xfrm>
            <a:off x="6804000" y="4581360"/>
            <a:ext cx="287280" cy="287640"/>
            <a:chOff x="6804000" y="4581360"/>
            <a:chExt cx="287280" cy="287640"/>
          </a:xfrm>
        </p:grpSpPr>
        <p:sp>
          <p:nvSpPr>
            <p:cNvPr id="1324" name="Oval 53"/>
            <p:cNvSpPr/>
            <p:nvPr/>
          </p:nvSpPr>
          <p:spPr>
            <a:xfrm>
              <a:off x="6804000" y="4581360"/>
              <a:ext cx="287280" cy="28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6826320" y="4736160"/>
              <a:ext cx="243000" cy="360"/>
              <a:chOff x="6826320" y="4736160"/>
              <a:chExt cx="243000" cy="360"/>
            </a:xfrm>
          </p:grpSpPr>
          <p:sp>
            <p:nvSpPr>
              <p:cNvPr id="1326" name="Line 54"/>
              <p:cNvSpPr/>
              <p:nvPr/>
            </p:nvSpPr>
            <p:spPr>
              <a:xfrm>
                <a:off x="6826320" y="4736160"/>
                <a:ext cx="2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 txBox="1"/>
              <p:nvPr/>
            </p:nvSpPr>
            <p:spPr>
              <a:xfrm>
                <a:off x="6826320" y="4736160"/>
                <a:ext cx="2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8" name="Group 117"/>
          <p:cNvGrpSpPr/>
          <p:nvPr/>
        </p:nvGrpSpPr>
        <p:grpSpPr>
          <a:xfrm>
            <a:off x="8244000" y="2421000"/>
            <a:ext cx="576000" cy="576000"/>
            <a:chOff x="8244000" y="2421000"/>
            <a:chExt cx="576000" cy="576000"/>
          </a:xfrm>
        </p:grpSpPr>
        <p:grpSp>
          <p:nvGrpSpPr>
            <p:cNvPr id="1329" name=""/>
            <p:cNvGrpSpPr/>
            <p:nvPr/>
          </p:nvGrpSpPr>
          <p:grpSpPr>
            <a:xfrm>
              <a:off x="8244000" y="2709720"/>
              <a:ext cx="576000" cy="360"/>
              <a:chOff x="8244000" y="2709720"/>
              <a:chExt cx="576000" cy="360"/>
            </a:xfrm>
          </p:grpSpPr>
          <p:sp>
            <p:nvSpPr>
              <p:cNvPr id="1330" name="Line 61"/>
              <p:cNvSpPr/>
              <p:nvPr/>
            </p:nvSpPr>
            <p:spPr>
              <a:xfrm>
                <a:off x="8244000" y="2709720"/>
                <a:ext cx="57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 txBox="1"/>
              <p:nvPr/>
            </p:nvSpPr>
            <p:spPr>
              <a:xfrm>
                <a:off x="8244000" y="2709720"/>
                <a:ext cx="57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8532720" y="2421000"/>
              <a:ext cx="360" cy="576000"/>
              <a:chOff x="8532720" y="2421000"/>
              <a:chExt cx="360" cy="576000"/>
            </a:xfrm>
          </p:grpSpPr>
          <p:sp>
            <p:nvSpPr>
              <p:cNvPr id="1333" name="Line 62"/>
              <p:cNvSpPr/>
              <p:nvPr/>
            </p:nvSpPr>
            <p:spPr>
              <a:xfrm>
                <a:off x="8532720" y="2421000"/>
                <a:ext cx="0" cy="57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 txBox="1"/>
              <p:nvPr/>
            </p:nvSpPr>
            <p:spPr>
              <a:xfrm>
                <a:off x="8532720" y="2421000"/>
                <a:ext cx="36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5" name=""/>
          <p:cNvGrpSpPr/>
          <p:nvPr/>
        </p:nvGrpSpPr>
        <p:grpSpPr>
          <a:xfrm>
            <a:off x="539640" y="2708280"/>
            <a:ext cx="503280" cy="360"/>
            <a:chOff x="539640" y="2708280"/>
            <a:chExt cx="503280" cy="360"/>
          </a:xfrm>
        </p:grpSpPr>
        <p:sp>
          <p:nvSpPr>
            <p:cNvPr id="1336" name="Line 63"/>
            <p:cNvSpPr/>
            <p:nvPr/>
          </p:nvSpPr>
          <p:spPr>
            <a:xfrm>
              <a:off x="539640" y="270828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 txBox="1"/>
            <p:nvPr/>
          </p:nvSpPr>
          <p:spPr>
            <a:xfrm>
              <a:off x="539640" y="270828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Group 118"/>
          <p:cNvGrpSpPr/>
          <p:nvPr/>
        </p:nvGrpSpPr>
        <p:grpSpPr>
          <a:xfrm>
            <a:off x="539640" y="2133720"/>
            <a:ext cx="8280360" cy="3816360"/>
            <a:chOff x="539640" y="2133720"/>
            <a:chExt cx="8280360" cy="3816360"/>
          </a:xfrm>
        </p:grpSpPr>
        <p:sp>
          <p:nvSpPr>
            <p:cNvPr id="1339" name="Rectangle 119"/>
            <p:cNvSpPr/>
            <p:nvPr/>
          </p:nvSpPr>
          <p:spPr>
            <a:xfrm>
              <a:off x="1187280" y="4076640"/>
              <a:ext cx="6913800" cy="1873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120"/>
            <p:cNvSpPr/>
            <p:nvPr/>
          </p:nvSpPr>
          <p:spPr>
            <a:xfrm>
              <a:off x="1187280" y="2708280"/>
              <a:ext cx="6913800" cy="13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121"/>
            <p:cNvSpPr/>
            <p:nvPr/>
          </p:nvSpPr>
          <p:spPr>
            <a:xfrm>
              <a:off x="1403280" y="2133720"/>
              <a:ext cx="216000" cy="381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122"/>
            <p:cNvSpPr/>
            <p:nvPr/>
          </p:nvSpPr>
          <p:spPr>
            <a:xfrm>
              <a:off x="7667640" y="2133720"/>
              <a:ext cx="216000" cy="381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3" name="Group 123"/>
            <p:cNvGrpSpPr/>
            <p:nvPr/>
          </p:nvGrpSpPr>
          <p:grpSpPr>
            <a:xfrm>
              <a:off x="2268360" y="4437000"/>
              <a:ext cx="431640" cy="431640"/>
              <a:chOff x="2268360" y="4437000"/>
              <a:chExt cx="431640" cy="431640"/>
            </a:xfrm>
          </p:grpSpPr>
          <p:sp>
            <p:nvSpPr>
              <p:cNvPr id="1344" name="Oval 124"/>
              <p:cNvSpPr/>
              <p:nvPr/>
            </p:nvSpPr>
            <p:spPr>
              <a:xfrm>
                <a:off x="2268360" y="4437000"/>
                <a:ext cx="431640" cy="43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5" name=""/>
              <p:cNvGrpSpPr/>
              <p:nvPr/>
            </p:nvGrpSpPr>
            <p:grpSpPr>
              <a:xfrm>
                <a:off x="2268360" y="4653000"/>
                <a:ext cx="431640" cy="360"/>
                <a:chOff x="2268360" y="4653000"/>
                <a:chExt cx="431640" cy="360"/>
              </a:xfrm>
            </p:grpSpPr>
            <p:sp>
              <p:nvSpPr>
                <p:cNvPr id="1346" name="Line 125"/>
                <p:cNvSpPr/>
                <p:nvPr/>
              </p:nvSpPr>
              <p:spPr>
                <a:xfrm>
                  <a:off x="2268360" y="465300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 txBox="1"/>
                <p:nvPr/>
              </p:nvSpPr>
              <p:spPr>
                <a:xfrm>
                  <a:off x="2268360" y="465300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2484360" y="4437000"/>
                <a:ext cx="360" cy="431640"/>
                <a:chOff x="2484360" y="4437000"/>
                <a:chExt cx="360" cy="431640"/>
              </a:xfrm>
            </p:grpSpPr>
            <p:sp>
              <p:nvSpPr>
                <p:cNvPr id="1349" name="Line 126"/>
                <p:cNvSpPr/>
                <p:nvPr/>
              </p:nvSpPr>
              <p:spPr>
                <a:xfrm>
                  <a:off x="2484360" y="443700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 txBox="1"/>
                <p:nvPr/>
              </p:nvSpPr>
              <p:spPr>
                <a:xfrm>
                  <a:off x="2484360" y="4437000"/>
                  <a:ext cx="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1" name="Group 127"/>
            <p:cNvGrpSpPr/>
            <p:nvPr/>
          </p:nvGrpSpPr>
          <p:grpSpPr>
            <a:xfrm>
              <a:off x="6300720" y="4869000"/>
              <a:ext cx="431640" cy="431640"/>
              <a:chOff x="6300720" y="4869000"/>
              <a:chExt cx="431640" cy="431640"/>
            </a:xfrm>
          </p:grpSpPr>
          <p:sp>
            <p:nvSpPr>
              <p:cNvPr id="1352" name="Oval 128"/>
              <p:cNvSpPr/>
              <p:nvPr/>
            </p:nvSpPr>
            <p:spPr>
              <a:xfrm>
                <a:off x="6300720" y="4869000"/>
                <a:ext cx="431640" cy="43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3" name=""/>
              <p:cNvGrpSpPr/>
              <p:nvPr/>
            </p:nvGrpSpPr>
            <p:grpSpPr>
              <a:xfrm>
                <a:off x="6300720" y="5085000"/>
                <a:ext cx="431640" cy="360"/>
                <a:chOff x="6300720" y="5085000"/>
                <a:chExt cx="431640" cy="360"/>
              </a:xfrm>
            </p:grpSpPr>
            <p:sp>
              <p:nvSpPr>
                <p:cNvPr id="1354" name="Line 129"/>
                <p:cNvSpPr/>
                <p:nvPr/>
              </p:nvSpPr>
              <p:spPr>
                <a:xfrm>
                  <a:off x="6300720" y="508500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 txBox="1"/>
                <p:nvPr/>
              </p:nvSpPr>
              <p:spPr>
                <a:xfrm>
                  <a:off x="6300720" y="508500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6516720" y="4869000"/>
                <a:ext cx="360" cy="431640"/>
                <a:chOff x="6516720" y="4869000"/>
                <a:chExt cx="360" cy="431640"/>
              </a:xfrm>
            </p:grpSpPr>
            <p:sp>
              <p:nvSpPr>
                <p:cNvPr id="1357" name="Line 130"/>
                <p:cNvSpPr/>
                <p:nvPr/>
              </p:nvSpPr>
              <p:spPr>
                <a:xfrm>
                  <a:off x="6516720" y="486900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 txBox="1"/>
                <p:nvPr/>
              </p:nvSpPr>
              <p:spPr>
                <a:xfrm>
                  <a:off x="6516720" y="4869000"/>
                  <a:ext cx="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9" name="Group 131"/>
            <p:cNvGrpSpPr/>
            <p:nvPr/>
          </p:nvGrpSpPr>
          <p:grpSpPr>
            <a:xfrm>
              <a:off x="5148360" y="4292640"/>
              <a:ext cx="431640" cy="431640"/>
              <a:chOff x="5148360" y="4292640"/>
              <a:chExt cx="431640" cy="431640"/>
            </a:xfrm>
          </p:grpSpPr>
          <p:sp>
            <p:nvSpPr>
              <p:cNvPr id="1360" name="Oval 132"/>
              <p:cNvSpPr/>
              <p:nvPr/>
            </p:nvSpPr>
            <p:spPr>
              <a:xfrm>
                <a:off x="5148360" y="4292640"/>
                <a:ext cx="431640" cy="43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1" name=""/>
              <p:cNvGrpSpPr/>
              <p:nvPr/>
            </p:nvGrpSpPr>
            <p:grpSpPr>
              <a:xfrm>
                <a:off x="5148360" y="4508640"/>
                <a:ext cx="431640" cy="360"/>
                <a:chOff x="5148360" y="4508640"/>
                <a:chExt cx="431640" cy="360"/>
              </a:xfrm>
            </p:grpSpPr>
            <p:sp>
              <p:nvSpPr>
                <p:cNvPr id="1362" name="Line 133"/>
                <p:cNvSpPr/>
                <p:nvPr/>
              </p:nvSpPr>
              <p:spPr>
                <a:xfrm>
                  <a:off x="5148360" y="450864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 txBox="1"/>
                <p:nvPr/>
              </p:nvSpPr>
              <p:spPr>
                <a:xfrm>
                  <a:off x="5148360" y="450864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5364360" y="4292640"/>
                <a:ext cx="360" cy="431640"/>
                <a:chOff x="5364360" y="4292640"/>
                <a:chExt cx="360" cy="431640"/>
              </a:xfrm>
            </p:grpSpPr>
            <p:sp>
              <p:nvSpPr>
                <p:cNvPr id="1365" name="Line 134"/>
                <p:cNvSpPr/>
                <p:nvPr/>
              </p:nvSpPr>
              <p:spPr>
                <a:xfrm>
                  <a:off x="5364360" y="429264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 txBox="1"/>
                <p:nvPr/>
              </p:nvSpPr>
              <p:spPr>
                <a:xfrm>
                  <a:off x="5364360" y="4292640"/>
                  <a:ext cx="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7" name="Group 135"/>
            <p:cNvGrpSpPr/>
            <p:nvPr/>
          </p:nvGrpSpPr>
          <p:grpSpPr>
            <a:xfrm>
              <a:off x="3924360" y="4365720"/>
              <a:ext cx="431640" cy="431640"/>
              <a:chOff x="3924360" y="4365720"/>
              <a:chExt cx="431640" cy="431640"/>
            </a:xfrm>
          </p:grpSpPr>
          <p:sp>
            <p:nvSpPr>
              <p:cNvPr id="1368" name="Oval 136"/>
              <p:cNvSpPr/>
              <p:nvPr/>
            </p:nvSpPr>
            <p:spPr>
              <a:xfrm>
                <a:off x="3924360" y="4365720"/>
                <a:ext cx="431640" cy="43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9" name=""/>
              <p:cNvGrpSpPr/>
              <p:nvPr/>
            </p:nvGrpSpPr>
            <p:grpSpPr>
              <a:xfrm>
                <a:off x="3924360" y="4581720"/>
                <a:ext cx="431640" cy="360"/>
                <a:chOff x="3924360" y="4581720"/>
                <a:chExt cx="431640" cy="360"/>
              </a:xfrm>
            </p:grpSpPr>
            <p:sp>
              <p:nvSpPr>
                <p:cNvPr id="1370" name="Line 137"/>
                <p:cNvSpPr/>
                <p:nvPr/>
              </p:nvSpPr>
              <p:spPr>
                <a:xfrm>
                  <a:off x="3924360" y="458172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 txBox="1"/>
                <p:nvPr/>
              </p:nvSpPr>
              <p:spPr>
                <a:xfrm>
                  <a:off x="3924360" y="458172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4140360" y="4365720"/>
                <a:ext cx="360" cy="431640"/>
                <a:chOff x="4140360" y="4365720"/>
                <a:chExt cx="360" cy="431640"/>
              </a:xfrm>
            </p:grpSpPr>
            <p:sp>
              <p:nvSpPr>
                <p:cNvPr id="1373" name="Line 138"/>
                <p:cNvSpPr/>
                <p:nvPr/>
              </p:nvSpPr>
              <p:spPr>
                <a:xfrm>
                  <a:off x="4140360" y="4365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 txBox="1"/>
                <p:nvPr/>
              </p:nvSpPr>
              <p:spPr>
                <a:xfrm>
                  <a:off x="4140360" y="4365720"/>
                  <a:ext cx="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5" name="Group 139"/>
            <p:cNvGrpSpPr/>
            <p:nvPr/>
          </p:nvGrpSpPr>
          <p:grpSpPr>
            <a:xfrm>
              <a:off x="4716360" y="5157720"/>
              <a:ext cx="431640" cy="431640"/>
              <a:chOff x="4716360" y="5157720"/>
              <a:chExt cx="431640" cy="431640"/>
            </a:xfrm>
          </p:grpSpPr>
          <p:sp>
            <p:nvSpPr>
              <p:cNvPr id="1376" name="Oval 140"/>
              <p:cNvSpPr/>
              <p:nvPr/>
            </p:nvSpPr>
            <p:spPr>
              <a:xfrm>
                <a:off x="4716360" y="5157720"/>
                <a:ext cx="431640" cy="43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7" name=""/>
              <p:cNvGrpSpPr/>
              <p:nvPr/>
            </p:nvGrpSpPr>
            <p:grpSpPr>
              <a:xfrm>
                <a:off x="4716360" y="5373720"/>
                <a:ext cx="431640" cy="360"/>
                <a:chOff x="4716360" y="5373720"/>
                <a:chExt cx="431640" cy="360"/>
              </a:xfrm>
            </p:grpSpPr>
            <p:sp>
              <p:nvSpPr>
                <p:cNvPr id="1378" name="Line 141"/>
                <p:cNvSpPr/>
                <p:nvPr/>
              </p:nvSpPr>
              <p:spPr>
                <a:xfrm>
                  <a:off x="4716360" y="537372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 txBox="1"/>
                <p:nvPr/>
              </p:nvSpPr>
              <p:spPr>
                <a:xfrm>
                  <a:off x="4716360" y="537372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4932360" y="5157720"/>
                <a:ext cx="360" cy="431640"/>
                <a:chOff x="4932360" y="5157720"/>
                <a:chExt cx="360" cy="431640"/>
              </a:xfrm>
            </p:grpSpPr>
            <p:sp>
              <p:nvSpPr>
                <p:cNvPr id="1381" name="Line 142"/>
                <p:cNvSpPr/>
                <p:nvPr/>
              </p:nvSpPr>
              <p:spPr>
                <a:xfrm>
                  <a:off x="4932360" y="5157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 txBox="1"/>
                <p:nvPr/>
              </p:nvSpPr>
              <p:spPr>
                <a:xfrm>
                  <a:off x="4932360" y="5157720"/>
                  <a:ext cx="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3" name="Group 143"/>
            <p:cNvGrpSpPr/>
            <p:nvPr/>
          </p:nvGrpSpPr>
          <p:grpSpPr>
            <a:xfrm>
              <a:off x="3132000" y="5157720"/>
              <a:ext cx="431640" cy="431640"/>
              <a:chOff x="3132000" y="5157720"/>
              <a:chExt cx="431640" cy="431640"/>
            </a:xfrm>
          </p:grpSpPr>
          <p:sp>
            <p:nvSpPr>
              <p:cNvPr id="1384" name="Oval 144"/>
              <p:cNvSpPr/>
              <p:nvPr/>
            </p:nvSpPr>
            <p:spPr>
              <a:xfrm>
                <a:off x="3132000" y="5157720"/>
                <a:ext cx="431640" cy="43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5" name=""/>
              <p:cNvGrpSpPr/>
              <p:nvPr/>
            </p:nvGrpSpPr>
            <p:grpSpPr>
              <a:xfrm>
                <a:off x="3132000" y="5373720"/>
                <a:ext cx="431640" cy="360"/>
                <a:chOff x="3132000" y="5373720"/>
                <a:chExt cx="431640" cy="360"/>
              </a:xfrm>
            </p:grpSpPr>
            <p:sp>
              <p:nvSpPr>
                <p:cNvPr id="1386" name="Line 145"/>
                <p:cNvSpPr/>
                <p:nvPr/>
              </p:nvSpPr>
              <p:spPr>
                <a:xfrm>
                  <a:off x="3132000" y="537372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 txBox="1"/>
                <p:nvPr/>
              </p:nvSpPr>
              <p:spPr>
                <a:xfrm>
                  <a:off x="3132000" y="537372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3348000" y="5157720"/>
                <a:ext cx="360" cy="431640"/>
                <a:chOff x="3348000" y="5157720"/>
                <a:chExt cx="360" cy="431640"/>
              </a:xfrm>
            </p:grpSpPr>
            <p:sp>
              <p:nvSpPr>
                <p:cNvPr id="1389" name="Line 146"/>
                <p:cNvSpPr/>
                <p:nvPr/>
              </p:nvSpPr>
              <p:spPr>
                <a:xfrm>
                  <a:off x="3348000" y="5157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 txBox="1"/>
                <p:nvPr/>
              </p:nvSpPr>
              <p:spPr>
                <a:xfrm>
                  <a:off x="3348000" y="5157720"/>
                  <a:ext cx="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1" name="Group 147"/>
            <p:cNvGrpSpPr/>
            <p:nvPr/>
          </p:nvGrpSpPr>
          <p:grpSpPr>
            <a:xfrm>
              <a:off x="2843280" y="4365720"/>
              <a:ext cx="287280" cy="287280"/>
              <a:chOff x="2843280" y="4365720"/>
              <a:chExt cx="287280" cy="287280"/>
            </a:xfrm>
          </p:grpSpPr>
          <p:sp>
            <p:nvSpPr>
              <p:cNvPr id="1392" name="Oval 148"/>
              <p:cNvSpPr/>
              <p:nvPr/>
            </p:nvSpPr>
            <p:spPr>
              <a:xfrm>
                <a:off x="2843280" y="436572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3" name=""/>
              <p:cNvGrpSpPr/>
              <p:nvPr/>
            </p:nvGrpSpPr>
            <p:grpSpPr>
              <a:xfrm>
                <a:off x="2865600" y="4520160"/>
                <a:ext cx="243000" cy="360"/>
                <a:chOff x="2865600" y="4520160"/>
                <a:chExt cx="243000" cy="360"/>
              </a:xfrm>
            </p:grpSpPr>
            <p:sp>
              <p:nvSpPr>
                <p:cNvPr id="1394" name="Line 149"/>
                <p:cNvSpPr/>
                <p:nvPr/>
              </p:nvSpPr>
              <p:spPr>
                <a:xfrm>
                  <a:off x="2865600" y="4520160"/>
                  <a:ext cx="2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 txBox="1"/>
                <p:nvPr/>
              </p:nvSpPr>
              <p:spPr>
                <a:xfrm>
                  <a:off x="2865600" y="4520160"/>
                  <a:ext cx="243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6" name="Group 150"/>
            <p:cNvGrpSpPr/>
            <p:nvPr/>
          </p:nvGrpSpPr>
          <p:grpSpPr>
            <a:xfrm>
              <a:off x="2268360" y="5300640"/>
              <a:ext cx="287640" cy="287280"/>
              <a:chOff x="2268360" y="5300640"/>
              <a:chExt cx="287640" cy="287280"/>
            </a:xfrm>
          </p:grpSpPr>
          <p:sp>
            <p:nvSpPr>
              <p:cNvPr id="1397" name="Oval 151"/>
              <p:cNvSpPr/>
              <p:nvPr/>
            </p:nvSpPr>
            <p:spPr>
              <a:xfrm>
                <a:off x="2268360" y="5300640"/>
                <a:ext cx="28764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8" name=""/>
              <p:cNvGrpSpPr/>
              <p:nvPr/>
            </p:nvGrpSpPr>
            <p:grpSpPr>
              <a:xfrm>
                <a:off x="2290680" y="5455080"/>
                <a:ext cx="243360" cy="360"/>
                <a:chOff x="2290680" y="5455080"/>
                <a:chExt cx="243360" cy="360"/>
              </a:xfrm>
            </p:grpSpPr>
            <p:sp>
              <p:nvSpPr>
                <p:cNvPr id="1399" name="Line 152"/>
                <p:cNvSpPr/>
                <p:nvPr/>
              </p:nvSpPr>
              <p:spPr>
                <a:xfrm>
                  <a:off x="2290680" y="5455080"/>
                  <a:ext cx="24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 txBox="1"/>
                <p:nvPr/>
              </p:nvSpPr>
              <p:spPr>
                <a:xfrm>
                  <a:off x="2290680" y="5455080"/>
                  <a:ext cx="243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1" name="Group 153"/>
            <p:cNvGrpSpPr/>
            <p:nvPr/>
          </p:nvGrpSpPr>
          <p:grpSpPr>
            <a:xfrm>
              <a:off x="4500720" y="4437000"/>
              <a:ext cx="287280" cy="287280"/>
              <a:chOff x="4500720" y="4437000"/>
              <a:chExt cx="287280" cy="287280"/>
            </a:xfrm>
          </p:grpSpPr>
          <p:sp>
            <p:nvSpPr>
              <p:cNvPr id="1402" name="Oval 154"/>
              <p:cNvSpPr/>
              <p:nvPr/>
            </p:nvSpPr>
            <p:spPr>
              <a:xfrm>
                <a:off x="4500720" y="443700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3" name=""/>
              <p:cNvGrpSpPr/>
              <p:nvPr/>
            </p:nvGrpSpPr>
            <p:grpSpPr>
              <a:xfrm>
                <a:off x="4523040" y="4591440"/>
                <a:ext cx="243000" cy="360"/>
                <a:chOff x="4523040" y="4591440"/>
                <a:chExt cx="243000" cy="360"/>
              </a:xfrm>
            </p:grpSpPr>
            <p:sp>
              <p:nvSpPr>
                <p:cNvPr id="1404" name="Line 155"/>
                <p:cNvSpPr/>
                <p:nvPr/>
              </p:nvSpPr>
              <p:spPr>
                <a:xfrm>
                  <a:off x="4523040" y="4591440"/>
                  <a:ext cx="2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 txBox="1"/>
                <p:nvPr/>
              </p:nvSpPr>
              <p:spPr>
                <a:xfrm>
                  <a:off x="4523040" y="4591440"/>
                  <a:ext cx="243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6" name="Group 156"/>
            <p:cNvGrpSpPr/>
            <p:nvPr/>
          </p:nvGrpSpPr>
          <p:grpSpPr>
            <a:xfrm>
              <a:off x="3924360" y="5373720"/>
              <a:ext cx="287280" cy="287280"/>
              <a:chOff x="3924360" y="5373720"/>
              <a:chExt cx="287280" cy="287280"/>
            </a:xfrm>
          </p:grpSpPr>
          <p:sp>
            <p:nvSpPr>
              <p:cNvPr id="1407" name="Oval 157"/>
              <p:cNvSpPr/>
              <p:nvPr/>
            </p:nvSpPr>
            <p:spPr>
              <a:xfrm>
                <a:off x="3924360" y="537372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8" name=""/>
              <p:cNvGrpSpPr/>
              <p:nvPr/>
            </p:nvGrpSpPr>
            <p:grpSpPr>
              <a:xfrm>
                <a:off x="3946680" y="5528160"/>
                <a:ext cx="243000" cy="360"/>
                <a:chOff x="3946680" y="5528160"/>
                <a:chExt cx="243000" cy="360"/>
              </a:xfrm>
            </p:grpSpPr>
            <p:sp>
              <p:nvSpPr>
                <p:cNvPr id="1409" name="Line 158"/>
                <p:cNvSpPr/>
                <p:nvPr/>
              </p:nvSpPr>
              <p:spPr>
                <a:xfrm>
                  <a:off x="3946680" y="5528160"/>
                  <a:ext cx="2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 txBox="1"/>
                <p:nvPr/>
              </p:nvSpPr>
              <p:spPr>
                <a:xfrm>
                  <a:off x="3946680" y="5528160"/>
                  <a:ext cx="243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59"/>
            <p:cNvGrpSpPr/>
            <p:nvPr/>
          </p:nvGrpSpPr>
          <p:grpSpPr>
            <a:xfrm>
              <a:off x="5435640" y="5084640"/>
              <a:ext cx="287280" cy="287640"/>
              <a:chOff x="5435640" y="5084640"/>
              <a:chExt cx="287280" cy="287640"/>
            </a:xfrm>
          </p:grpSpPr>
          <p:sp>
            <p:nvSpPr>
              <p:cNvPr id="1412" name="Oval 160"/>
              <p:cNvSpPr/>
              <p:nvPr/>
            </p:nvSpPr>
            <p:spPr>
              <a:xfrm>
                <a:off x="5435640" y="5084640"/>
                <a:ext cx="287280" cy="28764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3" name=""/>
              <p:cNvGrpSpPr/>
              <p:nvPr/>
            </p:nvGrpSpPr>
            <p:grpSpPr>
              <a:xfrm>
                <a:off x="5457960" y="5239440"/>
                <a:ext cx="243000" cy="360"/>
                <a:chOff x="5457960" y="5239440"/>
                <a:chExt cx="243000" cy="360"/>
              </a:xfrm>
            </p:grpSpPr>
            <p:sp>
              <p:nvSpPr>
                <p:cNvPr id="1414" name="Line 161"/>
                <p:cNvSpPr/>
                <p:nvPr/>
              </p:nvSpPr>
              <p:spPr>
                <a:xfrm>
                  <a:off x="5457960" y="5239440"/>
                  <a:ext cx="2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 txBox="1"/>
                <p:nvPr/>
              </p:nvSpPr>
              <p:spPr>
                <a:xfrm>
                  <a:off x="5457960" y="5239440"/>
                  <a:ext cx="243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62"/>
            <p:cNvGrpSpPr/>
            <p:nvPr/>
          </p:nvGrpSpPr>
          <p:grpSpPr>
            <a:xfrm>
              <a:off x="5867280" y="4221000"/>
              <a:ext cx="287280" cy="287640"/>
              <a:chOff x="5867280" y="4221000"/>
              <a:chExt cx="287280" cy="287640"/>
            </a:xfrm>
          </p:grpSpPr>
          <p:sp>
            <p:nvSpPr>
              <p:cNvPr id="1417" name="Oval 163"/>
              <p:cNvSpPr/>
              <p:nvPr/>
            </p:nvSpPr>
            <p:spPr>
              <a:xfrm>
                <a:off x="5867280" y="4221000"/>
                <a:ext cx="287280" cy="28764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8" name=""/>
              <p:cNvGrpSpPr/>
              <p:nvPr/>
            </p:nvGrpSpPr>
            <p:grpSpPr>
              <a:xfrm>
                <a:off x="5889600" y="4375800"/>
                <a:ext cx="243000" cy="360"/>
                <a:chOff x="5889600" y="4375800"/>
                <a:chExt cx="243000" cy="360"/>
              </a:xfrm>
            </p:grpSpPr>
            <p:sp>
              <p:nvSpPr>
                <p:cNvPr id="1419" name="Line 164"/>
                <p:cNvSpPr/>
                <p:nvPr/>
              </p:nvSpPr>
              <p:spPr>
                <a:xfrm>
                  <a:off x="5889600" y="4375800"/>
                  <a:ext cx="2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 txBox="1"/>
                <p:nvPr/>
              </p:nvSpPr>
              <p:spPr>
                <a:xfrm>
                  <a:off x="5889600" y="4375800"/>
                  <a:ext cx="243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1" name="Group 165"/>
            <p:cNvGrpSpPr/>
            <p:nvPr/>
          </p:nvGrpSpPr>
          <p:grpSpPr>
            <a:xfrm>
              <a:off x="6804000" y="4581360"/>
              <a:ext cx="287280" cy="287640"/>
              <a:chOff x="6804000" y="4581360"/>
              <a:chExt cx="287280" cy="287640"/>
            </a:xfrm>
          </p:grpSpPr>
          <p:sp>
            <p:nvSpPr>
              <p:cNvPr id="1422" name="Oval 166"/>
              <p:cNvSpPr/>
              <p:nvPr/>
            </p:nvSpPr>
            <p:spPr>
              <a:xfrm>
                <a:off x="6804000" y="4581360"/>
                <a:ext cx="287280" cy="28764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3" name=""/>
              <p:cNvGrpSpPr/>
              <p:nvPr/>
            </p:nvGrpSpPr>
            <p:grpSpPr>
              <a:xfrm>
                <a:off x="6826320" y="4736160"/>
                <a:ext cx="243000" cy="360"/>
                <a:chOff x="6826320" y="4736160"/>
                <a:chExt cx="243000" cy="360"/>
              </a:xfrm>
            </p:grpSpPr>
            <p:sp>
              <p:nvSpPr>
                <p:cNvPr id="1424" name="Line 167"/>
                <p:cNvSpPr/>
                <p:nvPr/>
              </p:nvSpPr>
              <p:spPr>
                <a:xfrm>
                  <a:off x="6826320" y="4736160"/>
                  <a:ext cx="2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 txBox="1"/>
                <p:nvPr/>
              </p:nvSpPr>
              <p:spPr>
                <a:xfrm>
                  <a:off x="6826320" y="4736160"/>
                  <a:ext cx="243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6" name="Group 168"/>
            <p:cNvGrpSpPr/>
            <p:nvPr/>
          </p:nvGrpSpPr>
          <p:grpSpPr>
            <a:xfrm>
              <a:off x="8244000" y="2421000"/>
              <a:ext cx="576000" cy="576000"/>
              <a:chOff x="8244000" y="2421000"/>
              <a:chExt cx="576000" cy="576000"/>
            </a:xfrm>
          </p:grpSpPr>
          <p:grpSp>
            <p:nvGrpSpPr>
              <p:cNvPr id="1427" name=""/>
              <p:cNvGrpSpPr/>
              <p:nvPr/>
            </p:nvGrpSpPr>
            <p:grpSpPr>
              <a:xfrm>
                <a:off x="8244000" y="2709720"/>
                <a:ext cx="576000" cy="360"/>
                <a:chOff x="8244000" y="2709720"/>
                <a:chExt cx="576000" cy="360"/>
              </a:xfrm>
            </p:grpSpPr>
            <p:sp>
              <p:nvSpPr>
                <p:cNvPr id="1428" name="Line 169"/>
                <p:cNvSpPr/>
                <p:nvPr/>
              </p:nvSpPr>
              <p:spPr>
                <a:xfrm>
                  <a:off x="8244000" y="2709720"/>
                  <a:ext cx="57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 txBox="1"/>
                <p:nvPr/>
              </p:nvSpPr>
              <p:spPr>
                <a:xfrm>
                  <a:off x="8244000" y="2709720"/>
                  <a:ext cx="57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8532720" y="2421000"/>
                <a:ext cx="360" cy="576000"/>
                <a:chOff x="8532720" y="2421000"/>
                <a:chExt cx="360" cy="576000"/>
              </a:xfrm>
            </p:grpSpPr>
            <p:sp>
              <p:nvSpPr>
                <p:cNvPr id="1431" name="Line 170"/>
                <p:cNvSpPr/>
                <p:nvPr/>
              </p:nvSpPr>
              <p:spPr>
                <a:xfrm>
                  <a:off x="8532720" y="2421000"/>
                  <a:ext cx="0" cy="57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 txBox="1"/>
                <p:nvPr/>
              </p:nvSpPr>
              <p:spPr>
                <a:xfrm>
                  <a:off x="8532720" y="2421000"/>
                  <a:ext cx="36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3" name=""/>
            <p:cNvGrpSpPr/>
            <p:nvPr/>
          </p:nvGrpSpPr>
          <p:grpSpPr>
            <a:xfrm>
              <a:off x="539640" y="2708280"/>
              <a:ext cx="503280" cy="360"/>
              <a:chOff x="539640" y="2708280"/>
              <a:chExt cx="503280" cy="360"/>
            </a:xfrm>
          </p:grpSpPr>
          <p:sp>
            <p:nvSpPr>
              <p:cNvPr id="1434" name="Line 171"/>
              <p:cNvSpPr/>
              <p:nvPr/>
            </p:nvSpPr>
            <p:spPr>
              <a:xfrm>
                <a:off x="539640" y="270828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 txBox="1"/>
              <p:nvPr/>
            </p:nvSpPr>
            <p:spPr>
              <a:xfrm>
                <a:off x="539640" y="270828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956E-006 C -0.00972 -0.00254 -0.02743 -0.01665 -0.03559 -0.02752 C -0.04149 -0.02151 -0.04722 -0.01827 -0.0533 -0.01295 C -0.05416 -0.0111 -0.05486 -0.00902 -0.05607 -0.0074 C -0.05729 -0.00578 -0.0592 -0.00532 -0.06024 -0.0037 C -0.06111 -0.00231 -0.06094 4.07956000000008E-006 -0.06163 0.00162 C -0.06458 0.00763 -0.06528 0.00694 -0.06979 0.00902 C -0.06996 0.00902 -0.08403 0.00601 -0.08489 0.00532 C -0.08663 0.00416 -0.0875 0.00162 -0.08889 4.07956E-006 C -0.09305 -0.00462 -0.09757 -0.00578 -0.1026 -0.0074 C -0.10712 -0.01133 -0.10851 -0.0111 -0.10538 -0.0111 E">
                                      <p:cBhvr>
                                        <p:cTn id="154" dur="3000" fill="hold"/>
                                        <p:tgtEl>
                                          <p:spTgt spid="1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3876E-007 C -0.01372 -0.00069 -0.0276 0.00046 -0.04115 -0.00185 C -0.04306 -0.00208 -0.04375 -0.00578 -0.04531 -0.0074 C -0.04757 -0.00994 -0.05 -0.01203 -0.05208 -0.01457 C -0.06094 -0.02544 -0.06632 -0.03261 -0.07813 -0.03654 C -0.12674 -0.03446 -0.11094 -0.04556 -0.13021 -0.02567 C -0.13281 -0.0229 -0.13611 -0.02128 -0.13837 -0.01827 C -0.14115 -0.01457 -0.14444 -0.01156 -0.14653 -0.0074 C -0.1474 -0.00555 -0.14792 -0.00301 -0.14931 -0.00185 C -0.15295 0.00116 -0.15747 0.00185 -0.16163 0.0037 C -0.16302 0.00439 -0.1658 0.00555 -0.1658 0.00555 C -0.19392 0.0037 -0.19965 0.01226 -0.19184 0.00185 E">
                                      <p:cBhvr>
                                        <p:cTn id="156" dur="3000" fill="hold"/>
                                        <p:tgtEl>
                                          <p:spTgt spid="1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0046 C -0.01372 -0.00093 -0.01771 0.00115 -0.02674 -0.00694 C -0.03316 -0.00532 -0.04028 -0.00578 -0.04601 -0.00139 C -0.05087 0.00231 -0.05434 0.00879 -0.05955 0.01133 C -0.06962 0.01642 -0.08195 0.01896 -0.09254 0.02243 C -0.1283 0.03446 -0.16563 0.037 -0.20209 0.04417 C -0.21181 0.04856 -0.20122 0.04417 -0.21997 0.04787 C -0.23594 0.05088 -0.21632 0.04833 -0.22952 0.05157 C -0.24705 0.05596 -0.26528 0.05527 -0.28299 0.05527 E">
                                      <p:cBhvr>
                                        <p:cTn id="158" dur="3000" fill="hold"/>
                                        <p:tgtEl>
                                          <p:spTgt spid="1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16281E-007 C -0.01267 -0.00439 -0.02205 -0.0185 -0.0342 -0.02567 C -0.04844 -0.034 -0.06371 -0.03746 -0.07812 -0.04579 C -0.09722 -0.04463 -0.10677 -0.04926 -0.12049 -0.03654 C -0.12969 -0.03746 -0.13924 -0.03608 -0.14792 -0.04024 C -0.15573 -0.04417 -0.16128 -0.05065 -0.16979 -0.05296 C -0.17743 -0.05967 -0.18715 -0.06175 -0.19583 -0.06568 C -0.21649 -0.0747 -0.23698 -0.0858 -0.25746 -0.09505 C -0.2651 -0.09852 -0.27309 -0.1006 -0.28073 -0.10407 C -0.29253 -0.10222 -0.3033 -0.09991 -0.3151 -0.09852 C -0.33368 -0.09089 -0.35243 -0.09852 -0.37118 -0.09852 E">
                                      <p:cBhvr>
                                        <p:cTn id="160" dur="3000" fill="hold"/>
                                        <p:tgtEl>
                                          <p:spTgt spid="1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1.12858E-006 C -0.01406 0.00278 -0.02708 0.00971 -0.04114 0.01272 C -0.08159 0.00763 -0.12239 0.0074 -0.16301 0.00347 C -0.17447 -0.00092 -0.18888 -0.00393 -0.19999 -0.0111 C -0.20277 -0.01295 -0.20954 -0.01989 -0.21232 -0.02012 C -0.2342 -0.02197 -0.25624 -0.02128 -0.27812 -0.02197 C -0.30277 -0.03885 -0.35156 -0.03053 -0.36979 -0.03099 C -0.38576 -0.03215 -0.39444 -0.03469 -0.40815 -0.02937 C -0.41354 -0.03145 -0.41093 -0.03099 -0.41631 -0.03099 E">
                                      <p:cBhvr>
                                        <p:cTn id="162" dur="3000" fill="hold"/>
                                        <p:tgtEl>
                                          <p:spTgt spid="1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26735E-006 C -0.01545 -0.00185 -0.03107 -0.00116 -0.0467 -0.0037 C -0.05972 -0.00601 -0.0743 -0.01781 -0.08767 -0.01827 C -0.15208 -0.01989 -0.21649 -0.01943 -0.2809 -0.02012 C -0.33784 -0.03561 -0.39739 -0.01295 -0.45486 -0.02567 C -0.54253 -0.02313 -0.496 -0.02983 -0.5302 -0.01665 C -0.53159 -0.01549 -0.53298 -0.01457 -0.5342 -0.01295 C -0.53541 -0.01133 -0.53559 -0.00879 -0.53697 -0.0074 C -0.53941 -0.00486 -0.5427 -0.00416 -0.54531 -0.00185 C -0.5467 0.00416 -0.54513 0.00347 -0.54791 0.00347 E">
                                      <p:cBhvr>
                                        <p:cTn id="164" dur="3000" fill="hold"/>
                                        <p:tgtEl>
                                          <p:spTgt spid="1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51064E-007 C 0.03733 0.01457 0.04931 0.00671 0.10278 0.00555 C 0.11389 0.00139 0.12431 -0.00254 0.13559 -0.00555 C 0.15486 -0.01619 0.17205 -0.01665 0.19306 -0.01827 C 0.37118 -0.01249 0.26233 -0.01781 0.32049 -0.00925 C 0.35486 0.00116 0.38472 -0.00601 0.41649 -0.02012 C 0.43698 -0.01896 0.45764 -0.01781 0.47813 -0.01642 C 0.49618 -0.01503 0.48785 -0.01226 0.49722 -0.01642 C 0.50243 -0.01457 0.5059 -0.01133 0.51094 -0.00925 C 0.51354 -0.01018 0.52049 -0.01041 0.52049 -0.01457 E">
                                      <p:cBhvr>
                                        <p:cTn id="166" dur="3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07956E-006 C 0.01371 -0.00601 0.01857 -0.00023 0.03159 0.00555 C 0.04669 0.00439 0.0618 0.0037 0.07673 0.00185 C 0.08228 0.00116 0.09322 -0.00185 0.09322 -0.00185 C 0.13402 -0.02845 0.26006 -0.01642 0.26718 -0.01642 C 0.28663 -0.0229 0.30746 -0.02266 0.32742 -0.02544 C 0.33749 -0.03469 0.33228 -0.03192 0.34253 -0.03469 C 0.35208 -0.03353 0.36163 -0.03284 0.37117 -0.03099 C 0.37847 -0.0296 0.38489 -0.02313 0.39183 -0.02012 C 0.4026 -0.0155 0.41197 -0.01179 0.42326 -0.00902 C 0.44079 -0.000229999999999999 0.44878 0.00347 0.46857 0.00555 C 0.49722 0.00393 0.496 0.00463 0.5151 -0.00185 C 0.52447 -0.00994 0.5302 -0.01758 0.54114 -0.02012 C 0.55763 -0.034 0.54374 -0.02359 0.58906 -0.02359 E">
                                      <p:cBhvr>
                                        <p:cTn id="168" dur="3000" fill="hold"/>
                                        <p:tgtEl>
                                          <p:spTgt spid="1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80204E-006 C 0.01892 0.00578 0.03732 0.01503 0.05625 0.02012 C 0.17465 0.01896 0.19809 0.0451 0.27135 -0.0037 C 0.27465 -0.01064 0.27951 -0.01642 0.28229 -0.02382 C 0.28298 -0.02544 0.28281 -0.02775 0.28368 -0.02914 C 0.28837 -0.037 0.29861 -0.03978 0.30555 -0.04209 C 0.31458 -0.04949 0.30382 -0.04163 0.31788 -0.04741 C 0.32482 -0.05018 0.33125 -0.05597 0.33837 -0.05851 C 0.3467 -0.06152 0.3559 -0.06244 0.36441 -0.06383 C 0.37448 -0.06845 0.38646 -0.07678 0.39722 -0.07678 E">
                                      <p:cBhvr>
                                        <p:cTn id="170" dur="3000" fill="hold"/>
                                        <p:tgtEl>
                                          <p:spTgt spid="1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36725E-006 C 0.02049 -0.00069 0.04115 -3.36725000000008E-006 0.06164 -0.00185 C 0.07987 -0.00347 0.0823 -0.00971 0.09723 -0.01642 C 0.13716 -0.03423 0.07292 -0.00116 0.11355 -0.02174 C 0.12171 -0.0259 0.13004 -0.03145 0.1382 -0.03469 C 0.15278 -0.04047 0.16858 -0.04024 0.18351 -0.04371 C 0.2099 -0.04232 0.23317 -0.0377 0.25886 -0.03284 C 0.26389 -0.02821 0.2665 -0.02451 0.27258 -0.02729 C 0.27535 -0.0266 0.27813 -0.0266 0.28073 -0.02544 C 0.28317 -0.02428 0.28508 -0.02105 0.28768 -0.02012 C 0.29393 -0.01804 0.30035 -0.01758 0.30678 -0.01642 C 0.32205 -0.00948 0.32223 -0.00902 0.33959 -0.00902 E">
                                      <p:cBhvr>
                                        <p:cTn id="172" dur="3000" fill="hold"/>
                                        <p:tgtEl>
                                          <p:spTgt spid="1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80204E-006 C 0.13698 -0.00208 0.0842 0.00601 0.14115 -0.00925 C 0.14792 -0.01364 0.15243 -0.01619 0.15886 -0.02197 C 0.16025 -0.02313 0.16129 -0.02544 0.16302 -0.02567 C 0.17032 -0.02613 0.1849 -0.02729 0.1849 -0.02729 E">
                                      <p:cBhvr>
                                        <p:cTn id="174" dur="3000" fill="hold"/>
                                        <p:tgtEl>
                                          <p:spTgt spid="1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81221E-006 C 0.03941 -0.03561 0.05469 -0.00994 0.13004 -0.0111 C 0.13664 -0.01341 0.14271 -0.01711 0.14931 -0.02012 C 0.16511 -0.03446 0.15417 -0.02798 0.1849 -0.02382 C 0.19844 -0.02012 0.21407 -0.01688 0.22604 -0.02752 C 0.22431 -0.03908 0.22292 -0.04209 0.23282 -0.04209 E">
                                      <p:cBhvr>
                                        <p:cTn id="176" dur="3000" fill="hold"/>
                                        <p:tgtEl>
                                          <p:spTgt spid="1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dur="indefinite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23 C 0.00504 -0.00231 0.00834 -0.00601 0.01285 -0.00763 C 0.03629 -0.01549 0.06129 -0.01133 0.08542 -0.01133 E">
                                      <p:cBhvr>
                                        <p:cTn id="178" dur="3000" fill="hold"/>
                                        <p:tgtEl>
                                          <p:spTgt spid="1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09:05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31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