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2ED-CB19-49D6-BAFD-06DCB425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29D-1C62-4C01-ADDE-7BF313F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F6CAA-CDF3-4714-AEFD-B5AE34E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57424-4DB4-4973-BAF3-967BA3D8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6D80F-9613-405D-82E4-48B79BD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C2B4B-DFC9-41BA-A8A6-0757E19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99FFB-E7F3-4CBA-AF67-759B35E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DA213-95EF-4143-938E-D55D4E3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77808-90A9-4123-8D31-0C351200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07616-F028-4308-BF7E-266B527B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A23E7-4CDD-4064-8CD9-A46F1C5A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37ECA-2235-44E2-B62A-B04A2E88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7BB-AD5F-4AED-972E-A7D6AC01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D082E-4B5F-4593-A7A4-C880240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6653E-2D36-421F-9519-99F700B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752A9-5831-45D8-981C-A34C6417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D81A-4708-4BE0-858E-6851436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0A782-B769-4C40-87EF-3B99FC2E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A26FC-9925-4C98-AF3C-F82330F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63701-286C-46AB-9F82-94EFAC3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E7551-35EE-466D-ABE5-9A87EFA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6ECEB-1384-4DE9-A024-005197F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AD4EC-84E7-4284-A75F-77CED8A8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C2C-B994-45A6-AE7F-1B313A6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CCC53-D08A-4BA2-889B-1B7FF9BC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1C95E-573C-4D88-9585-DCC11E3D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6C3E7-7B5A-470D-AE8A-D0E4DCA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8700-EFE6-49C8-895D-2A21D054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1EBB-25DA-4BCE-8D93-96916B77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C456-19E4-41CC-8786-D4EFB5E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4A1D5-7024-4773-A955-E9F4407F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511EA-39B3-495C-9045-132CC89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1274F-31EB-4D67-8DF1-F67A880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8536-89C8-4D3D-A8B9-B8960F2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92CC-64BB-40DB-AE43-40BB4F1C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D48DE-F39E-4D64-B2A4-709957E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EFC46-78CC-404D-929D-EDFCC536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4708-0F88-47CC-AA2F-D54A5478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B9DE4-07D1-41E3-8143-DB92A88A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B7FE9-6F3D-4984-8005-DEBEA95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3C3F6-8811-4BF2-9AF6-66021BD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0B944-0D6F-4F21-B245-4BCB4FC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3D41A-BC54-46EB-B94D-3E83A92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7DF4A-01CB-4467-BA1E-0C59652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623FF-B648-4C6B-936C-F7D32E9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959E-0D12-4919-928E-D0AD83C9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03F4E-F535-4F7C-83CA-F6AFEB2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90ACA-274F-4FE8-8EB5-C2C93B1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A8DA4-0D39-40ED-8B81-408E383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3E61C-9595-46CC-857F-D212359E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6786-2E22-4FE8-99C1-A22E065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878AA-7667-4E13-A495-820A3653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FD03C-1658-4E7C-A59F-619FE307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04D2B-CB71-4C28-8544-765B9715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5B255-99A7-4489-BB90-48CCF0DB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FAD40-0A97-4AA7-AFE5-8232ACD2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665-5D32-4632-A16F-BFFA1225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CFFAA-BD7E-460F-A260-AEB2100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436FC-218B-4D7C-A222-C8B254E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ED532-8E71-4700-AA9C-4AB8267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A758C-077D-4DFC-ACE4-3BEAFAF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9EE08-AA4B-433C-933B-6551A97F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1E083-07B3-4D27-A8B9-163DAD22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4D5FD-8247-4E78-8FC3-B309149A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B13D-AA83-40C9-B29F-109CD1DA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D6B-EFF9-4DF0-BD56-45697F1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97CE-2283-4755-8EC7-82E2249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EBC-8FFE-42A7-9895-3E6BC5E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90C-0730-40CE-9E00-CDCD7FE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76CD-1677-4346-AEB9-6606859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EB3A-550A-4DCF-83F4-CFC9E6A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4D3A-168D-4C7C-8882-55BD5B7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21C4-9979-4C19-9002-56A9806E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F6C-B376-4F18-A284-53BC9EA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EC52-E91C-4064-83CB-9633FC0E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3A99-A8A3-4F97-AFB7-71401B1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6F58-147A-4693-87AD-25E01A0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3E24-312E-4A85-9C41-A6508FB9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559B-C08B-4796-9F10-EB194FBD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7B0-16B2-4FF2-BD81-FA4B17EF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44C9-16E8-4A33-A0A1-3750D87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8637-314C-4164-8D5E-D4794FE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C183-959C-4455-97AD-F92B86D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64ED-C4CE-447A-A47E-E98A607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8EE6-F799-41F3-B040-85B33FEB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8AF6-5F0B-4C23-9D7E-0E40117D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C190-5C5A-4D62-A38D-42EEA1C3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E7A4-5FF1-4E3E-AC0D-1D02185C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D049-67CB-4327-A334-00AC135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4D3D-670E-4856-B20F-3DB3C84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C12-51EC-48CE-8387-103C490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0751-DC06-4F41-A85E-184C418A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8F0B-37D1-4252-B7C4-6B07FFB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2B001-36C2-48EB-BB52-72FA17A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1548-85BA-405D-92A8-E736F8D7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CE10-8700-4FB3-A720-36C9441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18AC-93E7-4CEB-AF2E-211E756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F18D-0A84-4662-9B16-24A648AD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C6D1-BEA3-4856-8797-578A0341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6241-A69B-4BBD-8EEC-5A3D86CD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3316-2951-4A66-9880-7D7EE4B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044-2894-4EEC-A987-C16BF172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12C9-F280-42E5-9590-F2FC651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DAD4-7E21-49A6-BCA6-D6462AE5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3654-4B88-47D8-B733-6414AA67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A438-5DC7-4820-82D6-B4E63BE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02A0-F56F-4C64-BCFC-237C679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9704-AE4E-4DC6-864B-6D74CD5F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1A09-E278-4CF6-BDC8-57D802B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F49F-DF7E-40D6-A0C8-CB8E82D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E36D-1663-4726-BA04-BBAD7BC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0A77-1E89-4B6A-8CA5-64070CA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85A-5F04-4E3C-95CD-1E3AEDB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B366-7A27-4B93-97EE-C291441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93B2-2544-4BAE-9EB9-CBC19F91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F59F9-F2F3-426D-8180-E72A53A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D416-B6CE-4DAA-8C4F-47683CE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09318-FB08-4442-BFE1-1648056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96310-5138-4899-B71D-38C1F83F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5392-6657-45A1-A1CE-B9154D4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0D70F-FA95-4350-9566-DD4410D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090E-6298-4779-A68D-550D84E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1583-B99F-4FD6-93B9-526B50E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F10-954A-417F-879E-37291A5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B9CE-3C6F-4939-ADEC-E4FF1A7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9C69-15D7-4297-9E13-AE7FD6AD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ACCB-779D-4747-BE5D-86F36427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515B-3255-42C3-B40B-9A1B86DB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BBAD-9C19-4AD7-A28B-6C0C7C62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D565-B758-47C3-87DF-A31F92CC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7384-6347-45C0-AE95-1540657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4285-C016-4BA8-9C8E-65928E9A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E2E1-1296-4ACB-8E64-FFD654E3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5F5F-8D12-4D53-BCE1-F8CE721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6ED-7AF9-4E5C-8FD2-2D3AD15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86FE-DB2C-42B0-9E56-A955AEE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ABBB-7AC2-40F6-AC8F-5BAF29C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8944-5CBE-418C-8314-1DE26D7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F47A8-BC8F-44E8-BF99-705C40E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4CD35-DF30-4507-A917-6B806FF0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1C08-9D93-493C-B60F-DAC5C2DE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FB00-40C3-4CC9-903C-AE7E9526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7C453-1548-44A5-AC6C-2E1B291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E315-0ADF-4B8E-BB05-29B9B82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E212-B28F-4D16-B494-E308600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2ED-5193-47D1-8275-9BE1E7D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05BA0-414A-41D5-B545-BC33447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E79F8-F8EA-4125-986A-655AF1C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1852D-82ED-42CB-A652-53BD28D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0684-CE5E-4EA4-B59A-458CC9F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E741-A83A-4355-9ECA-AA1B02C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79C69-E117-4095-9656-A3CA47FE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FD603-0FE3-4C0A-895A-80BD77E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0B89-786B-4200-8D7F-46973634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BCDA-1806-4770-B02E-9E2A29B9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6F5E1-74B6-468D-9D8B-7B7BABB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43E-92A7-4BB3-80A4-B85247911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53FC-0F77-4A3F-B39E-35AFB0B30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184-3065-423F-9DB9-CB574F53B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ED4D-3B4E-44D0-8AAF-BE607AD6E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F75-F6D9-4960-A0DB-E165CF78E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AFB-7711-4A28-81EC-D1C46FA959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A37C-66DB-43CB-9EDA-54D90AD46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D28-5107-48EA-9C07-93BA5FE39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84A8-3982-4991-9570-21C537534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392-CD4F-4D9D-B017-CADE0AF4B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115-A905-4B68-88A9-537E52244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4A0-5D8A-4FD8-B175-BB5174B91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293-6858-4531-A2B8-72EE94FA7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6,6,&#24187;&#28783;&#29255; 6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915840" y="907920"/>
            <a:ext cx="466740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教科版三年级科学上册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4" name="WordArt 5"/>
          <p:cNvSpPr txBox="1"/>
          <p:nvPr/>
        </p:nvSpPr>
        <p:spPr>
          <a:xfrm>
            <a:off x="915840" y="2205000"/>
            <a:ext cx="740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物的共同特点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24000" y="404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和植物都属于生物，它们和人类一样都是有生命的物体，动物、植物甚至人类有共同特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826920" y="2276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要是生物，都生活在一定的环境中，和周围的生物非生物产生密切的联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需要呼吸、进食、排泄，维持基本的生命需要；都经历生命的周期，经历成长、死亡；都需要繁殖以延续种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已经对蜗牛、蚯蚓、蚂蚁、金鱼进行了观察和研究，让我们讨论整理一下我们的研究成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000" y="2708280"/>
            <a:ext cx="8064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、这些动物分别怎样运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这些动物遇到危险分别有怎样     的反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这些动物的食物有哪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8199"/>
          <p:cNvSpPr/>
          <p:nvPr/>
        </p:nvSpPr>
        <p:spPr>
          <a:xfrm>
            <a:off x="1909800" y="431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12"/>
          <p:cNvSpPr/>
          <p:nvPr/>
        </p:nvSpPr>
        <p:spPr>
          <a:xfrm>
            <a:off x="2771640" y="2506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342800" y="533520"/>
            <a:ext cx="23752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9933"/>
                </a:solidFill>
                <a:latin typeface="Times New Roman"/>
                <a:ea typeface="方正少儿简体"/>
              </a:rPr>
              <a:t>回忆</a:t>
            </a:r>
            <a:r>
              <a:rPr b="0" lang="en-US" sz="7200" spc="-1" strike="noStrike" u="sng">
                <a:solidFill>
                  <a:srgbClr val="ccccff"/>
                </a:solidFill>
                <a:uFillTx/>
                <a:latin typeface="Times New Roman"/>
                <a:ea typeface="方正少儿简体"/>
                <a:hlinkClick r:id="rId1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971640" y="234936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隶变简体"/>
              </a:rPr>
              <a:t>蜗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932360" y="227664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方正隶变简体"/>
              </a:rPr>
              <a:t>蚂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176120" y="4581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cc00"/>
                </a:solidFill>
                <a:latin typeface="Times New Roman"/>
                <a:ea typeface="方正隶变简体"/>
              </a:rPr>
              <a:t>蚯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4643280" y="55897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方正隶变简体"/>
              </a:rPr>
              <a:t>金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7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276560" cy="174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3"/>
          <a:stretch/>
        </p:blipFill>
        <p:spPr>
          <a:xfrm>
            <a:off x="6516720" y="1916280"/>
            <a:ext cx="1685880" cy="1133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"/>
          <p:cNvPicPr/>
          <p:nvPr/>
        </p:nvPicPr>
        <p:blipFill>
          <a:blip r:embed="rId4"/>
          <a:stretch/>
        </p:blipFill>
        <p:spPr>
          <a:xfrm>
            <a:off x="2700360" y="4508640"/>
            <a:ext cx="1476360" cy="1323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"/>
          <p:cNvPicPr/>
          <p:nvPr/>
        </p:nvPicPr>
        <p:blipFill>
          <a:blip r:embed="rId5"/>
          <a:stretch/>
        </p:blipFill>
        <p:spPr>
          <a:xfrm>
            <a:off x="5580000" y="3789360"/>
            <a:ext cx="1809720" cy="1781280"/>
          </a:xfrm>
          <a:prstGeom prst="rect">
            <a:avLst/>
          </a:prstGeom>
          <a:ln w="0">
            <a:noFill/>
          </a:ln>
        </p:spPr>
      </p:pic>
      <p:pic>
        <p:nvPicPr>
          <p:cNvPr id="549" name="贝多芬 - 贝多芬致爱丽丝钢琴曲.mp3" descr=""/>
          <p:cNvPicPr/>
          <p:nvPr/>
        </p:nvPicPr>
        <p:blipFill>
          <a:blip r:embed="rId6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2108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671840" y="692280"/>
            <a:ext cx="292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蜗牛代表软体动物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蚯蚓代表环节动物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蚂蚁代表昆虫动物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金鱼代表着鱼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932840" y="35352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四种动物代表不同的种类，世界上大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5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万多种动物，不同环境下的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体现着动物的多样性，让我们通过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它们的共同特点，认识生命体的基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108520" y="9079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方正少儿简体"/>
              </a:rPr>
              <a:t>你喜欢动物吗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900000" y="2708280"/>
            <a:ext cx="708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说说你最感兴趣的动物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143000" y="579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035000" y="333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的身体分为哪几部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181160" y="909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各个部分是什么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755640" y="1413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生活在什么样的环境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042920" y="1954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有哪些基本的生活需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619280" y="2492280"/>
            <a:ext cx="59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的食物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181880" y="3141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从哪里获得食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492912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怎样吃食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181880" y="3790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也排泄废物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39640" y="429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的生长发育经历了哪些过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1323720" y="4892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怎样繁殖后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154880" y="5438880"/>
            <a:ext cx="46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会对外界刺激做出反应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6621480" y="546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怎样反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动物的共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生活在一定的环境里，都有一定的生活需要，有一定的身体结构，都需要呼吸、进食、排泄，都能活动，对外界刺激作出反应，都经历幼体、成体、死亡的生命过程，并能繁殖后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8199"/>
          <p:cNvSpPr/>
          <p:nvPr/>
        </p:nvSpPr>
        <p:spPr>
          <a:xfrm>
            <a:off x="1187280" y="1563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547280" y="10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这些同学描述得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826920" y="24210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如果再让你去观察这些动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你认为你的观察方法需要改进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075760" y="49179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你觉得大家在别人发言时认真倾听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DFF-8A3A-4026-9080-79D74F8C5E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7:0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6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