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6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EDB-AB93-4454-A207-18D01B55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E68-750B-42B0-8D36-61DC86B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ED0F-DDBF-48F8-B8D0-EA7166F5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F8CA9-C2DD-4E0C-9B49-A5A4118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86394-F10C-4839-A9BF-80F536CF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82A5D-64BE-47D2-92C4-D6C5CB5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866B0-B653-4F1F-A14D-87CB59B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9FCCE-E4BE-4D89-B7F1-E9F0578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53F4B-288B-4577-8E7B-D2BB0EA5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E5A0E-DD72-475E-9BE9-27B56E81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DD882-BAD7-406B-8C0F-11E6D8BF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E83-2EC0-4F3E-9E3F-785F339E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803-4548-4260-979C-B1C253E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DDE-0F3A-444F-BA73-9D84A2B0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868E-FF56-4F39-A2EF-2A3F992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B269-7858-46E2-BB5C-3CA6A4DD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3C70-5CDC-45EA-8867-EEFE173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7BD-EF8C-4894-913F-687147C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7520-4F3C-40D1-97CD-B829101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DA1-295A-412C-BD95-8772176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067-94D6-461E-9928-D9966E11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2AEB-0657-41F2-B7C5-617C9127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9FA-40F1-42C8-9638-00D090EA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DB70-97B7-485C-9960-D74DFABA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0B8D-2846-4878-8964-01AAC92F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906-CFED-4EC9-8EB6-8ED2F412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0698-E5A4-4D46-B207-795211D1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7125-EA7D-4DAD-9A0F-1B55304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5205-4E39-40F0-9334-C7575B5B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2743-3E4A-4659-8806-EDA823A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4DD3-51E8-4BEB-9942-0EE8B72C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484-C348-450D-AE94-EBA0906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D482-7EA2-491B-B9A1-88BC51E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BAA9-8F39-4FB0-9E62-BBFA83F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85E8-64EA-476C-B705-FAFBBC9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3189-64AC-4FAC-98E7-1050B054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AA1A-CE84-4771-A500-20F3EFC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272D-8A6A-41AB-9705-0AEE06B3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0BB9-B6B1-45D9-916C-483F99DB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1430-6B69-4BB6-A429-CD8FE159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59957-2313-44E4-96F9-6984940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E788-07A4-4E60-931D-C96E061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CB8-A7A3-40AC-B087-30C1192C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0207-4CA4-42A3-8E47-7C0BC46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F23A-BD2C-48C9-B03E-51E2BA84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2368-B24A-4626-BD61-C328DA78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597F-F46B-4E87-B167-A3F0AC6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2728-8A3E-45F6-B948-6B34B3E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ADF0-5E7C-4082-A7A5-528B744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9955-518B-48BA-B9DF-DA4D502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C951-94C6-4CB6-9CAA-23267857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BEF1-28A4-41B6-94A8-37F59A4D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14D08-D695-4AC7-9AC0-0FAA8FCF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7DC-152E-43E4-A986-37E5F88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655F2-C553-43EF-BAA1-4028E2A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F6D71-EA64-4628-AACB-184D46F1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03415-1239-4EA3-9152-E6F6495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09CE6-E544-4615-AA5E-71551D7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D2CA6-4C61-4993-969C-B6D8D3C1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3D2A3-9924-436E-8006-603F8DE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3865D-CDE0-44C4-AC97-9BD3623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D1BF4-385B-4C1D-866F-11999BE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62212-D924-4B78-9599-EBDCBC75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19FE6-CB04-4124-BD6A-772791AF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F1F-9811-4DEE-968A-FE52D89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0825A-ACB0-4CC9-B20D-9DBA1B2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5E0BC-1FD9-4A8B-A081-46657052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44B5-A97C-49A6-9CD2-B6187C2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9DC2F-1D64-4051-8078-B159A063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991E-3949-43C7-8327-79C77C1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0954-51C5-480E-90D2-0930E865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C47A-541B-4028-958A-D8FD6D12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6C8A-AD1B-4AC8-BB84-11B56F4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8A08-3734-421C-9F6F-0AB04A4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7F15-DE01-4BAA-98AF-090C9813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509-9F86-4FDA-A93B-F3BF434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7335-7DB0-4CF7-BE25-863FF0B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B1FF-60B1-4B7C-BAA5-2803E7BB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325DB-69A4-455F-AA65-2FDC90F8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BBC6-B945-4CFA-AE92-06379A92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9233-B2F7-4DAF-A15C-038B835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4FBE-4E8E-4521-B566-22F6EBEF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D0A1D-76B5-4099-A51A-1639FA22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27C2-591E-463E-8CAB-F11CE87B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8E0A-26FE-494E-97AF-BABAFA3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2F97-86D7-4C4D-BDEC-B02A8A2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F20-B477-435C-93D0-4AC049DF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3B49-8A98-4056-A22D-B794D1C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2D1CE-1F0E-4B07-BD8C-D93A9EA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11FE-96DC-43C4-B0B7-917C754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9990-A8CD-4863-800A-7271B142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F863A-229D-4B80-9D74-EA478A72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9781-104E-4464-A1C7-9925D320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B20FA-E2E9-4EC4-A2AB-2FAA6B7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E93DC-0066-47ED-B767-982BCB1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647A-C596-4029-B455-77D76B2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A1D22-5309-47BC-A569-C6670DC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192-8960-4B50-B640-648C250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ED8C-FCFD-4BB7-A8B9-32555D1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A790-5A31-41BC-A082-422DC41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D9639-F77D-46DA-A8BA-3543DCD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43F7-A887-4289-B9A3-C96A4081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8238-449B-42A3-BAEE-B1E1556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B020-B82C-4AA6-A4B9-900D51DE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F4D35-BFCF-42BD-A19E-25FD869B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A8773-F9E3-4B1F-A937-3BD5C58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3D8EC-D611-46F5-9233-217591F6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3100C-174B-4B80-AFD3-99821B5C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9A3-3406-472F-AD4F-46734329B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EA7-65FC-4E2C-AA2E-95A6B013B3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428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496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220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06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04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4160" y="32688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46200" y="217440"/>
                  <a:ext cx="2858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92" name="Line 52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9DF7-5EAD-49E8-9E8B-938003215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91F1-346C-473E-A4DC-57ED02AC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205B-2160-43D7-ADE2-7F9ECE7B6F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3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28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5EEC-15A3-4DA9-9E18-D6D29B1202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D84-912A-4B21-B07A-4ECF970B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51B-3B8B-4BA7-A417-9AC9662169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4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99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BA71-D330-4160-A56B-5F25DAAA121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9,14,&#25105;&#30693;&#36947;&#20102;&#65306; &#12288;&#12288;&#40481;&#34507;&#22771;&#24456;&#65288;&#33030;&#65289;&#65307;&#25105;&#24590;&#20040;&#20063;&#25423;&#19981;&#30772;&#12290;&#20351;&#29992;&#25918;&#22823;&#38236;&#35266;&#23519;&#40481;&#34507;&#26102;&#65292;&#20250;&#21457;&#29616;&#34507;&#22771;&#19978;&#26377;&#65288;&#23567;&#23380;&#65289;&#65292;&#25105;&#29468;&#24819;&#26159;&#65288; &#27668;&#23380;&#65289;&#65292;&#29992;&#26469;&#65288;&#21628;&#21560;&#30340;&#65289;&#12290; &#12288;&#12288;&#65288;&#21463;&#31934;&#30340;&#65289;&#29983;&#40481;&#34507;&#26159;&#30001;&#34507;&#40644;&#12289;&#32986;&#12289;&#22771;&#32452;&#25104;&#30340;&#65292;&#32780;&#27809;&#26377;&#32463;&#36807;&#21463;&#31934;&#30340;&#40481;&#34507;&#26159;&#27809;&#26377;&#32986;&#30340;&#65292;&#25152;&#20197;&#19981;&#33021;&#23413;&#23567;&#40481;&#20986;&#26469;&#12290; &#12288;&#12288;&#29087;&#40481;&#34507;&#30340;&#34507;&#30333;&#23601;&#26159;&#25105;&#20204;&#24120;&#35828;&#30340;&#65288;&#34507;&#38738;&#65289;&#65292;&#19978;&#38754;&#30340;&#23567;&#30333;&#28857;&#26159;&#65288;&#32986;&#65289;&#65292;&#23427;&#26159;&#21463;&#31934;&#21365;&#20998;&#35010;&#24418;&#25104;&#30340;&#65292;&#26159;&#36827;&#34892;&#32986;&#32974;&#21457;&#32946;&#30340;&#37096;&#20998;&#12288;&#12288;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259,15,&#40481;&#34507;&#37324;&#38754;&#30340;&#21508;&#37096;&#20998;&#22312;&#32986;&#32974;&#21457;&#32946;&#36807;&#31243;&#20013;&#30340;&#20316;&#29992;&#65306;" TargetMode="External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4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4" name="文本框 1" descr=""/>
          <p:cNvPicPr/>
          <p:nvPr/>
        </p:nvPicPr>
        <p:blipFill>
          <a:blip r:embed="rId2"/>
          <a:stretch/>
        </p:blipFill>
        <p:spPr>
          <a:xfrm>
            <a:off x="2014560" y="1181160"/>
            <a:ext cx="6491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5406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鳄鱼的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6" name="Picture 4" descr="正在孵化的鳄鱼蛋和小鳄鱼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象鸟蛋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5516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象鸟图片"/>
          <p:cNvPicPr/>
          <p:nvPr/>
        </p:nvPicPr>
        <p:blipFill>
          <a:blip r:embed="rId2"/>
          <a:stretch/>
        </p:blipFill>
        <p:spPr>
          <a:xfrm>
            <a:off x="0" y="0"/>
            <a:ext cx="4140360" cy="551664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"/>
          <p:cNvSpPr/>
          <p:nvPr/>
        </p:nvSpPr>
        <p:spPr>
          <a:xfrm>
            <a:off x="160020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708360" y="573408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象鸟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4280" y="461160"/>
            <a:ext cx="3841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56360" y="1268280"/>
            <a:ext cx="122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鸵鸟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3" name="Picture 4" descr="驼鸟和驼鸟蛋"/>
          <p:cNvPicPr/>
          <p:nvPr/>
        </p:nvPicPr>
        <p:blipFill>
          <a:blip r:embed="rId1"/>
          <a:stretch/>
        </p:blipFill>
        <p:spPr>
          <a:xfrm>
            <a:off x="0" y="4762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鸵鸟蛋"/>
          <p:cNvPicPr/>
          <p:nvPr/>
        </p:nvPicPr>
        <p:blipFill>
          <a:blip r:embed="rId2"/>
          <a:stretch/>
        </p:blipFill>
        <p:spPr>
          <a:xfrm>
            <a:off x="3203640" y="2997360"/>
            <a:ext cx="5940360" cy="386064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8199"/>
          <p:cNvSpPr/>
          <p:nvPr/>
        </p:nvSpPr>
        <p:spPr>
          <a:xfrm>
            <a:off x="4930920" y="665280"/>
            <a:ext cx="394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ff33"/>
                </a:solidFill>
                <a:latin typeface="Arial"/>
                <a:ea typeface="隶书"/>
              </a:rPr>
              <a:t>我发现：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84360" y="141300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不同点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755640" y="227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不同动物卵的大小、颜色、数量和斑点等都不一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1172520" y="3933720"/>
            <a:ext cx="150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相同点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900000" y="4724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卵（蛋）壳都是椭圆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76"/>
            </a:gs>
            <a:gs pos="50000">
              <a:srgbClr val="9999ff"/>
            </a:gs>
            <a:gs pos="100000">
              <a:srgbClr val="47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622764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1e1d"/>
                </a:solidFill>
                <a:latin typeface="Comic Sans MS"/>
              </a:rPr>
              <a:t>观察最常见的卵</a:t>
            </a:r>
            <a:br>
              <a:rPr sz="6000"/>
            </a:br>
            <a:r>
              <a:rPr b="0" lang="en-US" sz="6000" spc="-1" strike="noStrike">
                <a:solidFill>
                  <a:srgbClr val="001e1d"/>
                </a:solidFill>
                <a:latin typeface="Arial"/>
              </a:rPr>
              <a:t>——</a:t>
            </a:r>
            <a:r>
              <a:rPr b="0" lang="zh-CN" sz="6000" spc="-1" strike="noStrike">
                <a:solidFill>
                  <a:srgbClr val="001e1d"/>
                </a:solidFill>
                <a:latin typeface="Comic Sans MS"/>
              </a:rPr>
              <a:t>鸡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-320760" y="3213000"/>
            <a:ext cx="86011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Times New Roman"/>
                <a:ea typeface="宋体"/>
              </a:rPr>
              <a:t>１、观察鸡蛋的外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e1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1e1d"/>
                </a:solidFill>
                <a:latin typeface="Times New Roman"/>
                <a:ea typeface="宋体"/>
              </a:rPr>
              <a:t>使用放大镜和电筒）。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b200"/>
                </a:solidFill>
                <a:uFillTx/>
                <a:latin typeface="Times New Roman"/>
                <a:ea typeface="宋体"/>
                <a:hlinkClick r:id="rId1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5e6d76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803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1d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1e1d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1e1d"/>
                </a:solidFill>
                <a:latin typeface="Comic Sans MS"/>
              </a:rPr>
              <a:t>观察鸡蛋的内部结构，并画出简易图。（从外到里的顺序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e1d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1e1d"/>
                </a:solidFill>
                <a:latin typeface="Comic Sans MS"/>
              </a:rPr>
              <a:t>、猜一猜鸡蛋各部分作用是什么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86" name="Picture 4" descr="270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我发现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7010280" y="54864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611280" y="27082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3399"/>
                </a:solidFill>
                <a:latin typeface="Times New Roman"/>
              </a:rPr>
              <a:t>蛋壳是椭圆形的，较脆蛋壳上有（</a:t>
            </a:r>
            <a:r>
              <a:rPr b="1" lang="zh-CN" sz="4400" spc="-1" strike="noStrike" u="sng">
                <a:solidFill>
                  <a:srgbClr val="003399"/>
                </a:solidFill>
                <a:uFillTx/>
                <a:latin typeface="Times New Roman"/>
              </a:rPr>
              <a:t>小孔</a:t>
            </a:r>
            <a:r>
              <a:rPr b="0" lang="zh-CN" sz="4400" spc="-1" strike="noStrike">
                <a:solidFill>
                  <a:srgbClr val="003399"/>
                </a:solidFill>
                <a:latin typeface="Times New Roman"/>
              </a:rPr>
              <a:t>）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d76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3670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剥蛋步骤：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91" name="Picture 7" descr="解剖鸡蛋"/>
          <p:cNvPicPr/>
          <p:nvPr/>
        </p:nvPicPr>
        <p:blipFill>
          <a:blip r:embed="rId1"/>
          <a:stretch/>
        </p:blipFill>
        <p:spPr>
          <a:xfrm>
            <a:off x="4788000" y="2205000"/>
            <a:ext cx="4356000" cy="407664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8"/>
          <p:cNvSpPr/>
          <p:nvPr/>
        </p:nvSpPr>
        <p:spPr>
          <a:xfrm>
            <a:off x="0" y="249228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先用镊子的柄端敲裂鸡蛋壳较圆的一头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再用镊子开始剥蛋壳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最后掰开蛋白，露出蛋黄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（尽量保持蛋黄的完整性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5" name="Picture 7" descr="zhongdanjiegou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福寿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7" name="Picture 4" descr="209638preview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0" y="476280"/>
            <a:ext cx="9143280" cy="5905080"/>
            <a:chOff x="0" y="476280"/>
            <a:chExt cx="9143280" cy="5905080"/>
          </a:xfrm>
        </p:grpSpPr>
        <p:pic>
          <p:nvPicPr>
            <p:cNvPr id="499" name="Picture 5" descr="20108421436855"/>
            <p:cNvPicPr/>
            <p:nvPr/>
          </p:nvPicPr>
          <p:blipFill>
            <a:blip r:embed="rId1"/>
            <a:stretch/>
          </p:blipFill>
          <p:spPr>
            <a:xfrm>
              <a:off x="0" y="476280"/>
              <a:ext cx="9143280" cy="59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6"/>
            <p:cNvSpPr/>
            <p:nvPr/>
          </p:nvSpPr>
          <p:spPr>
            <a:xfrm>
              <a:off x="502920" y="2396160"/>
              <a:ext cx="1341720" cy="68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1e1d"/>
                  </a:solidFill>
                  <a:latin typeface="Arial"/>
                </a:rPr>
                <a:t>蛋壳膜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2015280" y="3218760"/>
              <a:ext cx="1172520" cy="9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 rot="16048800">
              <a:off x="6311880" y="3551400"/>
              <a:ext cx="1097640" cy="67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4724280" y="304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胚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3429000" y="457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卵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990720" y="1066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卵壳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228600" y="266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卵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676520" y="58053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系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7086600" y="556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卵黄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610480" y="312408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59436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卵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AutoShape 11"/>
          <p:cNvSpPr/>
          <p:nvPr/>
        </p:nvSpPr>
        <p:spPr>
          <a:xfrm>
            <a:off x="72388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AutoShape 12">
            <a:hlinkClick r:id="" action="ppaction://hlinkshowjump?jump=nextslide"/>
          </p:cNvPr>
          <p:cNvSpPr/>
          <p:nvPr/>
        </p:nvSpPr>
        <p:spPr>
          <a:xfrm>
            <a:off x="77724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426708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6858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181188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82285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3716640" y="1031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607896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228492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72536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609480" y="2666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卵壳、壳膜：起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保护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作用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AutoShape 3">
            <a:hlinkClick r:id="" action="ppaction://hlinkshowjump?jump=previousslide"/>
          </p:cNvPr>
          <p:cNvSpPr/>
          <p:nvPr/>
        </p:nvSpPr>
        <p:spPr>
          <a:xfrm>
            <a:off x="7391520" y="5410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990720" y="19368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卵白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：含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营养物质和水分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，供胚胎发育的需要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7391520" y="5410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62120" y="1130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卵黄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是卵细胞的主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营养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部分，外面包裹着卵黄膜。卵黄表面中央有一盘状小白点，称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胚盘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，里面含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细胞核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754380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我知道了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066680" y="2057400"/>
            <a:ext cx="731520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受精的）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宋体"/>
              </a:rPr>
              <a:t>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鸡蛋是由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壳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蛋青、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蛋黄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组成的，而没有经过受精的鸡蛋是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没有胚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，所以</a:t>
            </a:r>
            <a:r>
              <a:rPr b="1" i="1" lang="zh-CN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不能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孵小鸡出来。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　　 </a:t>
            </a:r>
            <a:r>
              <a:rPr b="1" i="1" lang="zh-CN" sz="28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熟鸡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  <a:ea typeface="宋体"/>
              </a:rPr>
              <a:t>蛋白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就是我们常说的（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蛋青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），上面的小白点是（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），它是受精卵分裂形成的，是进行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  <a:ea typeface="宋体"/>
              </a:rPr>
              <a:t>胚胎发育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部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对于其他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宋体"/>
              </a:rPr>
              <a:t>动物的卵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组成，我们一律称为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  <a:ea typeface="宋体"/>
              </a:rPr>
              <a:t>卵壳、卵白、蛋黄和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7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295280" y="2209680"/>
            <a:ext cx="6705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宋体"/>
              </a:rPr>
              <a:t>　　我能推测出鸡蛋里面的各部分在胚胎发育过程中起什么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  <a:hlinkClick r:id="rId1"/>
              </a:rPr>
              <a:t>作用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宋体"/>
              </a:rPr>
              <a:t>呢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1692360" y="549360"/>
            <a:ext cx="499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推测讨论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从蛋到鸡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219320" y="20574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观察不同发育阶段的鸡蛋，认识鸡蛋各部分的作用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鸡1"/>
          <p:cNvPicPr/>
          <p:nvPr/>
        </p:nvPicPr>
        <p:blipFill>
          <a:blip r:embed="rId1"/>
          <a:stretch/>
        </p:blipFill>
        <p:spPr>
          <a:xfrm>
            <a:off x="539640" y="97164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535" name="da la da la.mp3" descr=""/>
          <p:cNvPicPr/>
          <p:nvPr/>
        </p:nvPicPr>
        <p:blipFill>
          <a:blip r:embed="rId2"/>
          <a:stretch/>
        </p:blipFill>
        <p:spPr>
          <a:xfrm>
            <a:off x="61128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2"/>
          <p:cNvSpPr/>
          <p:nvPr/>
        </p:nvSpPr>
        <p:spPr>
          <a:xfrm>
            <a:off x="3564000" y="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种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8" name="Picture 4" descr="鸡2"/>
          <p:cNvPicPr/>
          <p:nvPr/>
        </p:nvPicPr>
        <p:blipFill>
          <a:blip r:embed="rId1"/>
          <a:stretch/>
        </p:blipFill>
        <p:spPr>
          <a:xfrm>
            <a:off x="684360" y="86364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"/>
          <p:cNvSpPr/>
          <p:nvPr/>
        </p:nvSpPr>
        <p:spPr>
          <a:xfrm>
            <a:off x="3564000" y="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二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文本框 8199"/>
          <p:cNvSpPr/>
          <p:nvPr/>
        </p:nvSpPr>
        <p:spPr>
          <a:xfrm>
            <a:off x="2749680" y="4105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蝴蝶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9" name="Picture 4" descr="42_Li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3" name="Picture 4" descr="鸡3"/>
          <p:cNvPicPr/>
          <p:nvPr/>
        </p:nvPicPr>
        <p:blipFill>
          <a:blip r:embed="rId1"/>
          <a:stretch/>
        </p:blipFill>
        <p:spPr>
          <a:xfrm>
            <a:off x="395280" y="674640"/>
            <a:ext cx="8244000" cy="618336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3492360" y="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四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鸡4"/>
          <p:cNvPicPr/>
          <p:nvPr/>
        </p:nvPicPr>
        <p:blipFill>
          <a:blip r:embed="rId1"/>
          <a:stretch/>
        </p:blipFill>
        <p:spPr>
          <a:xfrm>
            <a:off x="395280" y="692280"/>
            <a:ext cx="7812000" cy="5859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2"/>
          <p:cNvSpPr/>
          <p:nvPr/>
        </p:nvSpPr>
        <p:spPr>
          <a:xfrm>
            <a:off x="3780000" y="0"/>
            <a:ext cx="20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五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8" name="Picture 4" descr="鸡5"/>
          <p:cNvPicPr/>
          <p:nvPr/>
        </p:nvPicPr>
        <p:blipFill>
          <a:blip r:embed="rId1"/>
          <a:stretch/>
        </p:blipFill>
        <p:spPr>
          <a:xfrm>
            <a:off x="611280" y="69228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3"/>
          <p:cNvSpPr/>
          <p:nvPr/>
        </p:nvSpPr>
        <p:spPr>
          <a:xfrm>
            <a:off x="3708360" y="11592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六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鸡6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9137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3635280" y="18900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七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鸡7"/>
          <p:cNvPicPr/>
          <p:nvPr/>
        </p:nvPicPr>
        <p:blipFill>
          <a:blip r:embed="rId1"/>
          <a:stretch/>
        </p:blipFill>
        <p:spPr>
          <a:xfrm>
            <a:off x="611280" y="890640"/>
            <a:ext cx="7956360" cy="5967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3"/>
          <p:cNvSpPr/>
          <p:nvPr/>
        </p:nvSpPr>
        <p:spPr>
          <a:xfrm>
            <a:off x="3500280" y="35712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八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鸡8"/>
          <p:cNvPicPr/>
          <p:nvPr/>
        </p:nvPicPr>
        <p:blipFill>
          <a:blip r:embed="rId1"/>
          <a:stretch/>
        </p:blipFill>
        <p:spPr>
          <a:xfrm>
            <a:off x="539640" y="620640"/>
            <a:ext cx="8101080" cy="60771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3500280" y="35712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九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鸡蛋10"/>
          <p:cNvPicPr/>
          <p:nvPr/>
        </p:nvPicPr>
        <p:blipFill>
          <a:blip r:embed="rId1"/>
          <a:stretch/>
        </p:blipFill>
        <p:spPr>
          <a:xfrm>
            <a:off x="61128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3"/>
          <p:cNvSpPr/>
          <p:nvPr/>
        </p:nvSpPr>
        <p:spPr>
          <a:xfrm>
            <a:off x="3500280" y="35712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第十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鸡蛋11"/>
          <p:cNvPicPr/>
          <p:nvPr/>
        </p:nvPicPr>
        <p:blipFill>
          <a:blip r:embed="rId1"/>
          <a:stretch/>
        </p:blipFill>
        <p:spPr>
          <a:xfrm>
            <a:off x="684360" y="836640"/>
            <a:ext cx="7740360" cy="58053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"/>
          <p:cNvSpPr/>
          <p:nvPr/>
        </p:nvSpPr>
        <p:spPr>
          <a:xfrm>
            <a:off x="3132000" y="260280"/>
            <a:ext cx="25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十一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鸡蛋12"/>
          <p:cNvPicPr/>
          <p:nvPr/>
        </p:nvPicPr>
        <p:blipFill>
          <a:blip r:embed="rId1"/>
          <a:stretch/>
        </p:blipFill>
        <p:spPr>
          <a:xfrm>
            <a:off x="684360" y="83664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3"/>
          <p:cNvSpPr/>
          <p:nvPr/>
        </p:nvSpPr>
        <p:spPr>
          <a:xfrm>
            <a:off x="3500280" y="35712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十三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鸡蛋13"/>
          <p:cNvPicPr/>
          <p:nvPr/>
        </p:nvPicPr>
        <p:blipFill>
          <a:blip r:embed="rId1"/>
          <a:stretch/>
        </p:blipFill>
        <p:spPr>
          <a:xfrm>
            <a:off x="75564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3"/>
          <p:cNvSpPr/>
          <p:nvPr/>
        </p:nvSpPr>
        <p:spPr>
          <a:xfrm>
            <a:off x="3500280" y="357120"/>
            <a:ext cx="25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十四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5732280"/>
            <a:ext cx="91440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翻车鱼能产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亿粒卵，是世界上产卵最多的鱼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1" name="Picture 3" descr="001a6b4ac55f088f89ed3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1979640" y="0"/>
            <a:ext cx="4824360" cy="476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产卵之王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翻车鱼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鸡蛋14"/>
          <p:cNvPicPr/>
          <p:nvPr/>
        </p:nvPicPr>
        <p:blipFill>
          <a:blip r:embed="rId1"/>
          <a:stretch/>
        </p:blipFill>
        <p:spPr>
          <a:xfrm>
            <a:off x="971640" y="1052640"/>
            <a:ext cx="7596000" cy="5697360"/>
          </a:xfrm>
          <a:prstGeom prst="rect">
            <a:avLst/>
          </a:prstGeom>
          <a:ln w="0">
            <a:noFill/>
          </a:ln>
        </p:spPr>
      </p:pic>
      <p:sp>
        <p:nvSpPr>
          <p:cNvPr id="565" name="TextBox 3"/>
          <p:cNvSpPr/>
          <p:nvPr/>
        </p:nvSpPr>
        <p:spPr>
          <a:xfrm>
            <a:off x="3500280" y="357120"/>
            <a:ext cx="25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十五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鸡蛋15"/>
          <p:cNvPicPr/>
          <p:nvPr/>
        </p:nvPicPr>
        <p:blipFill>
          <a:blip r:embed="rId1"/>
          <a:stretch/>
        </p:blipFill>
        <p:spPr>
          <a:xfrm>
            <a:off x="755640" y="692280"/>
            <a:ext cx="7956720" cy="5967360"/>
          </a:xfrm>
          <a:prstGeom prst="rect">
            <a:avLst/>
          </a:prstGeom>
          <a:ln w="0">
            <a:noFill/>
          </a:ln>
        </p:spPr>
      </p:pic>
      <p:sp>
        <p:nvSpPr>
          <p:cNvPr id="567" name="TextBox 3"/>
          <p:cNvSpPr/>
          <p:nvPr/>
        </p:nvSpPr>
        <p:spPr>
          <a:xfrm>
            <a:off x="3492360" y="0"/>
            <a:ext cx="25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十八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a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鸡蛋16"/>
          <p:cNvPicPr/>
          <p:nvPr/>
        </p:nvPicPr>
        <p:blipFill>
          <a:blip r:embed="rId1"/>
          <a:stretch/>
        </p:blipFill>
        <p:spPr>
          <a:xfrm>
            <a:off x="183528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591120" y="333360"/>
            <a:ext cx="6678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蛋孵化一般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1e1d"/>
                </a:solidFill>
                <a:latin typeface="Arial"/>
              </a:rPr>
              <a:t>小鸡孵化的条件</a:t>
            </a:r>
            <a:r>
              <a:rPr b="1" lang="en-US" sz="4900" spc="-1" strike="noStrike">
                <a:solidFill>
                  <a:srgbClr val="001e1d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温度</a:t>
            </a:r>
            <a:r>
              <a:rPr b="1" lang="en-US" sz="4000" spc="-1" strike="noStrike">
                <a:solidFill>
                  <a:srgbClr val="001e1d"/>
                </a:solidFill>
                <a:latin typeface="Arial"/>
              </a:rPr>
              <a:t>:37.5°C—38.6°C</a:t>
            </a:r>
            <a:br>
              <a:rPr sz="4000"/>
            </a:b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湿度</a:t>
            </a:r>
            <a:r>
              <a:rPr b="1" lang="en-US" sz="4000" spc="-1" strike="noStrike">
                <a:solidFill>
                  <a:srgbClr val="001e1d"/>
                </a:solidFill>
                <a:latin typeface="Arial"/>
              </a:rPr>
              <a:t>:40%—60%</a:t>
            </a:r>
            <a:br>
              <a:rPr sz="4000"/>
            </a:b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通风换气</a:t>
            </a:r>
            <a:br>
              <a:rPr sz="4000"/>
            </a:b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每</a:t>
            </a:r>
            <a:r>
              <a:rPr b="1" lang="en-US" sz="40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小时翻一次蛋</a:t>
            </a:r>
            <a:br>
              <a:rPr sz="4000"/>
            </a:b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大约需要</a:t>
            </a:r>
            <a:r>
              <a:rPr b="1" lang="en-US" sz="4000" spc="-1" strike="noStrike">
                <a:solidFill>
                  <a:srgbClr val="001e1d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青蛙是如何繁殖的呢？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文本框 8199"/>
          <p:cNvSpPr/>
          <p:nvPr/>
        </p:nvSpPr>
        <p:spPr>
          <a:xfrm>
            <a:off x="2201760" y="1874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5" name="Picture 5" descr="20090505-105747438"/>
          <p:cNvPicPr/>
          <p:nvPr/>
        </p:nvPicPr>
        <p:blipFill>
          <a:blip r:embed="rId1"/>
          <a:stretch/>
        </p:blipFill>
        <p:spPr>
          <a:xfrm>
            <a:off x="0" y="0"/>
            <a:ext cx="5715000" cy="4152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01300000241945122550052654240"/>
          <p:cNvPicPr/>
          <p:nvPr/>
        </p:nvPicPr>
        <p:blipFill>
          <a:blip r:embed="rId2"/>
          <a:stretch/>
        </p:blipFill>
        <p:spPr>
          <a:xfrm>
            <a:off x="3132000" y="2546280"/>
            <a:ext cx="6012000" cy="431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Image00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4135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青蛙卵孵化观察记录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青蛙卵膨胀，卵中间的小黑点变成长条形，中间稍突出，偶尔动一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卵白混在一起，浮在水中间，上面有许多小蝌蚪，小蝌蚪约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0.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厘米长，身子灰黑色，肚子浅黄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头变大了，更灵活了，小蝌蚪头向一个方向聚在一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身体是透明的，头变圆了，翻着肚子睡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身体长大长长，尾巴中间有像软骨一样的东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8729-425E-4C6A-85C6-544CDAA1A034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像青蛙、鸡这样繁殖后代的方式叫做卵生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-1328760" y="3429000"/>
            <a:ext cx="10113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靠卵繁殖后代的动物叫卵生动物。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61928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941040" y="5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科学概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-360" y="4869000"/>
            <a:ext cx="230508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蟾蜍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4" name="Picture 4" descr="蟾蜍卵"/>
          <p:cNvPicPr/>
          <p:nvPr/>
        </p:nvPicPr>
        <p:blipFill>
          <a:blip r:embed="rId1"/>
          <a:stretch/>
        </p:blipFill>
        <p:spPr>
          <a:xfrm>
            <a:off x="0" y="476280"/>
            <a:ext cx="3276720" cy="4465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青蛙卵"/>
          <p:cNvPicPr/>
          <p:nvPr/>
        </p:nvPicPr>
        <p:blipFill>
          <a:blip r:embed="rId2"/>
          <a:stretch/>
        </p:blipFill>
        <p:spPr>
          <a:xfrm>
            <a:off x="3564000" y="1268280"/>
            <a:ext cx="5508720" cy="52340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6696000" y="47628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青蛙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蓝山雀的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58" name="Picture 4" descr="20070430124825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壁虎蛋"/>
          <p:cNvPicPr/>
          <p:nvPr/>
        </p:nvPicPr>
        <p:blipFill>
          <a:blip r:embed="rId1"/>
          <a:stretch/>
        </p:blipFill>
        <p:spPr>
          <a:xfrm>
            <a:off x="755640" y="1251000"/>
            <a:ext cx="7488360" cy="5041800"/>
          </a:xfrm>
          <a:prstGeom prst="rect">
            <a:avLst/>
          </a:prstGeom>
          <a:ln w="0">
            <a:noFill/>
          </a:ln>
        </p:spPr>
      </p:pic>
      <p:sp>
        <p:nvSpPr>
          <p:cNvPr id="460" name="矩形 2"/>
          <p:cNvSpPr/>
          <p:nvPr/>
        </p:nvSpPr>
        <p:spPr>
          <a:xfrm>
            <a:off x="34768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壁虎的卵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乌龟蛋"/>
          <p:cNvPicPr/>
          <p:nvPr/>
        </p:nvPicPr>
        <p:blipFill>
          <a:blip r:embed="rId1"/>
          <a:srcRect l="0" t="0" r="-25" b="0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376596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乌龟的卵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蛇蛋"/>
          <p:cNvPicPr/>
          <p:nvPr/>
        </p:nvPicPr>
        <p:blipFill>
          <a:blip r:embed="rId1"/>
          <a:stretch/>
        </p:blipFill>
        <p:spPr>
          <a:xfrm>
            <a:off x="755640" y="1268280"/>
            <a:ext cx="7632720" cy="5114880"/>
          </a:xfrm>
          <a:prstGeom prst="rect">
            <a:avLst/>
          </a:prstGeom>
          <a:ln w="0">
            <a:noFill/>
          </a:ln>
        </p:spPr>
      </p:pic>
      <p:sp>
        <p:nvSpPr>
          <p:cNvPr id="464" name="矩形 2"/>
          <p:cNvSpPr/>
          <p:nvPr/>
        </p:nvSpPr>
        <p:spPr>
          <a:xfrm>
            <a:off x="3867840" y="357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隶书"/>
                <a:ea typeface="隶书"/>
              </a:rPr>
              <a:t>蛇的卵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0:26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8Z</dcterms:modified>
  <cp:revision>1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