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8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21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919-ED76-401F-9E75-E4916FA2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ACD-AF9A-488A-A1BE-710E3997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0A8-910D-4836-B459-B6A8EC27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019-BF7C-4AC3-8F25-112FEC85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970A-4AFB-434B-9988-BD38AA17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E0CE-C1DD-4BE2-80A8-E6CB74CB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3516-83B4-4E07-9E7E-B7A25C8F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51F2-7D3B-4069-86AC-869CED28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FC85-2C8E-4678-BDA1-27D65620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F5C8-E59C-4D66-B52F-1A955118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3167-EB09-4347-A8F1-E7BA199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DA5-63B3-4A4E-90F1-FC92C15F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A814-4490-4980-9C06-73B18B2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DAF0-C5DB-4AEC-A3F3-D8F8D30D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C791-829C-468E-A93E-81C6DD21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A67A-6660-4B05-985F-CE41A0A4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0516-5396-4B3C-912E-8B55A978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38B5-2751-4EED-8436-4E1472EB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4C7-B6BD-42C9-861A-1C90443E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D80-62D7-4EC1-A214-8931B0EC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AF0-F6A3-45C8-A67C-A134BE49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D05-F43F-4125-A0DD-979E5491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A82-51B2-4857-BFAE-07D1ED08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F98-2596-49A8-933D-61B6E40D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448A-ED05-4E03-9B32-CD34BCB8D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8299-A528-4DC3-B0DA-1139FF7F60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57200" y="380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 rot="5400000">
            <a:off x="-1225440" y="2292120"/>
            <a:ext cx="5334120" cy="1508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短文两篇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WordArt 5"/>
          <p:cNvSpPr txBox="1"/>
          <p:nvPr/>
        </p:nvSpPr>
        <p:spPr>
          <a:xfrm rot="5400000">
            <a:off x="1528920" y="3660120"/>
            <a:ext cx="3048120" cy="709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作者：巴金</a:t>
            </a:r>
            <a:endParaRPr b="0" lang="en-US" sz="24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85" name="Picture 6" descr="u=11710156,982398022&amp;gp=1"/>
          <p:cNvPicPr/>
          <p:nvPr/>
        </p:nvPicPr>
        <p:blipFill>
          <a:blip r:embed="rId1"/>
          <a:stretch/>
        </p:blipFill>
        <p:spPr>
          <a:xfrm>
            <a:off x="4800600" y="304920"/>
            <a:ext cx="3733920" cy="279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it"/>
          <p:cNvPicPr/>
          <p:nvPr/>
        </p:nvPicPr>
        <p:blipFill>
          <a:blip r:embed="rId2"/>
          <a:stretch/>
        </p:blipFill>
        <p:spPr>
          <a:xfrm>
            <a:off x="4800600" y="3238560"/>
            <a:ext cx="3809880" cy="281772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文本框 1" descr=""/>
          <p:cNvPicPr/>
          <p:nvPr/>
        </p:nvPicPr>
        <p:blipFill>
          <a:blip r:embed="rId3"/>
          <a:stretch/>
        </p:blipFill>
        <p:spPr>
          <a:xfrm>
            <a:off x="1063800" y="1052640"/>
            <a:ext cx="7395840" cy="69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教学设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朗读感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日和月自古以来就有一定的象征的意义，写日大多是歌颂光明和希望，写月也就是赞美温柔和恬静。在巴金的文章中，写日和月的目的也是如此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二、默读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文中，作者要突出的日的主要特征是什么？作者通过写哪两个例子，表达了对光和热地追求？找出具体的句子来朗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111480" y="546588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040813070448812"/>
          <p:cNvPicPr/>
          <p:nvPr/>
        </p:nvPicPr>
        <p:blipFill>
          <a:blip r:embed="rId1"/>
          <a:stretch/>
        </p:blipFill>
        <p:spPr>
          <a:xfrm>
            <a:off x="5029200" y="304920"/>
            <a:ext cx="1908000" cy="119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文中，作者要突出的月的主要特征是什么？找出具体的句子来朗读。作者提恒娥奔月的故事是为了什么？赞美温柔和恬静。在巴金的文章中，写日和月的目的也是如此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两文的主题有什么相似的地方？你有什么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介绍写作的背景，你是如何理解作者的这种追求的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三、朗读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说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文的最后一段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文的最后一段的内涵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111480" y="546588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四、想象拓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大声地朗读两篇文章，说说你从日、月中产生的联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五、课外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将你从日和月产生的联想写成一段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111480" y="546588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22074-306475150189"/>
          <p:cNvPicPr/>
          <p:nvPr/>
        </p:nvPicPr>
        <p:blipFill>
          <a:blip r:embed="rId1"/>
          <a:stretch/>
        </p:blipFill>
        <p:spPr>
          <a:xfrm>
            <a:off x="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9369-258826143618"/>
          <p:cNvPicPr/>
          <p:nvPr/>
        </p:nvPicPr>
        <p:blipFill>
          <a:blip r:embed="rId2"/>
          <a:stretch/>
        </p:blipFill>
        <p:spPr>
          <a:xfrm>
            <a:off x="4645080" y="3740040"/>
            <a:ext cx="4495680" cy="3124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147320" y="4114800"/>
            <a:ext cx="7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99960" y="4149720"/>
            <a:ext cx="789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Times New Roman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补充说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难点突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的对象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们的行为、意愿分别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们的共同目标又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600200" y="5257800"/>
            <a:ext cx="1589040" cy="960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品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52680" y="5715000"/>
            <a:ext cx="1368720" cy="360"/>
            <a:chOff x="3352680" y="5715000"/>
            <a:chExt cx="1368720" cy="360"/>
          </a:xfrm>
        </p:grpSpPr>
        <p:sp>
          <p:nvSpPr>
            <p:cNvPr id="130" name="Line 5"/>
            <p:cNvSpPr/>
            <p:nvPr/>
          </p:nvSpPr>
          <p:spPr>
            <a:xfrm>
              <a:off x="3352680" y="5715000"/>
              <a:ext cx="13687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352680" y="571500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Rectangle 6"/>
          <p:cNvSpPr/>
          <p:nvPr/>
        </p:nvSpPr>
        <p:spPr>
          <a:xfrm>
            <a:off x="4932360" y="5257800"/>
            <a:ext cx="1584360" cy="979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悟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611280" y="476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蛾；夸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57200" y="27432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203640" y="54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扑火；追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908000" y="1197000"/>
            <a:ext cx="360" cy="1224000"/>
            <a:chOff x="1908000" y="1197000"/>
            <a:chExt cx="360" cy="1224000"/>
          </a:xfrm>
        </p:grpSpPr>
        <p:sp>
          <p:nvSpPr>
            <p:cNvPr id="137" name="Line 5"/>
            <p:cNvSpPr/>
            <p:nvPr/>
          </p:nvSpPr>
          <p:spPr>
            <a:xfrm>
              <a:off x="1908000" y="1197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1908000" y="11970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Text Box 6"/>
          <p:cNvSpPr/>
          <p:nvPr/>
        </p:nvSpPr>
        <p:spPr>
          <a:xfrm>
            <a:off x="1547640" y="2637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908000" y="3357720"/>
            <a:ext cx="360" cy="1223640"/>
            <a:chOff x="1908000" y="3357720"/>
            <a:chExt cx="360" cy="1223640"/>
          </a:xfrm>
        </p:grpSpPr>
        <p:sp>
          <p:nvSpPr>
            <p:cNvPr id="141" name="Line 7"/>
            <p:cNvSpPr/>
            <p:nvPr/>
          </p:nvSpPr>
          <p:spPr>
            <a:xfrm>
              <a:off x="1908000" y="3357720"/>
              <a:ext cx="0" cy="12236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908000" y="3357720"/>
              <a:ext cx="36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8"/>
          <p:cNvSpPr/>
          <p:nvPr/>
        </p:nvSpPr>
        <p:spPr>
          <a:xfrm>
            <a:off x="1476360" y="472428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203640" y="270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舍弃生命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203640" y="4941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愿做飞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12000" y="1052640"/>
            <a:ext cx="792000" cy="1871640"/>
            <a:chOff x="6012000" y="1052640"/>
            <a:chExt cx="792000" cy="1871640"/>
          </a:xfrm>
        </p:grpSpPr>
        <p:sp>
          <p:nvSpPr>
            <p:cNvPr id="147" name="Line 11"/>
            <p:cNvSpPr/>
            <p:nvPr/>
          </p:nvSpPr>
          <p:spPr>
            <a:xfrm>
              <a:off x="6012000" y="1052640"/>
              <a:ext cx="792000" cy="18716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6012000" y="1052640"/>
              <a:ext cx="79200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651640" y="3068640"/>
            <a:ext cx="1152360" cy="360"/>
            <a:chOff x="5651640" y="3068640"/>
            <a:chExt cx="1152360" cy="360"/>
          </a:xfrm>
        </p:grpSpPr>
        <p:sp>
          <p:nvSpPr>
            <p:cNvPr id="150" name="Line 12"/>
            <p:cNvSpPr/>
            <p:nvPr/>
          </p:nvSpPr>
          <p:spPr>
            <a:xfrm>
              <a:off x="5651640" y="30686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5651640" y="3068640"/>
              <a:ext cx="115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24000" y="3284640"/>
            <a:ext cx="1008720" cy="1944720"/>
            <a:chOff x="5724000" y="3284640"/>
            <a:chExt cx="1008720" cy="1944720"/>
          </a:xfrm>
        </p:grpSpPr>
        <p:sp>
          <p:nvSpPr>
            <p:cNvPr id="153" name="Line 13"/>
            <p:cNvSpPr/>
            <p:nvPr/>
          </p:nvSpPr>
          <p:spPr>
            <a:xfrm flipV="1">
              <a:off x="5724360" y="3284640"/>
              <a:ext cx="1008360" cy="19447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 rot="10800000">
              <a:off x="5724000" y="3284640"/>
              <a:ext cx="1008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Oval 14"/>
          <p:cNvSpPr/>
          <p:nvPr/>
        </p:nvSpPr>
        <p:spPr>
          <a:xfrm>
            <a:off x="6877080" y="2708280"/>
            <a:ext cx="115236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732720" y="3789360"/>
            <a:ext cx="24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追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光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献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6"/>
          <p:cNvSpPr/>
          <p:nvPr/>
        </p:nvSpPr>
        <p:spPr>
          <a:xfrm>
            <a:off x="457200" y="2819520"/>
            <a:ext cx="115236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8197"/>
          <p:cNvSpPr/>
          <p:nvPr/>
        </p:nvSpPr>
        <p:spPr>
          <a:xfrm>
            <a:off x="1619280" y="6453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6165720"/>
            <a:ext cx="136836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品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看书"/>
          <p:cNvPicPr/>
          <p:nvPr/>
        </p:nvPicPr>
        <p:blipFill>
          <a:blip r:embed="rId1"/>
          <a:stretch/>
        </p:blipFill>
        <p:spPr>
          <a:xfrm>
            <a:off x="1763640" y="5842080"/>
            <a:ext cx="1225800" cy="1015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82692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月亮在这里带给作者最突出的感受是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372360" y="105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冰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692360" y="4005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望明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692360" y="51577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嫦娥奔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92360" y="4292640"/>
            <a:ext cx="1081080" cy="360"/>
            <a:chOff x="3492360" y="4292640"/>
            <a:chExt cx="1081080" cy="360"/>
          </a:xfrm>
        </p:grpSpPr>
        <p:sp>
          <p:nvSpPr>
            <p:cNvPr id="166" name="Line 8"/>
            <p:cNvSpPr/>
            <p:nvPr/>
          </p:nvSpPr>
          <p:spPr>
            <a:xfrm>
              <a:off x="3492360" y="4292640"/>
              <a:ext cx="10810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492360" y="429264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64000" y="5445000"/>
            <a:ext cx="1079280" cy="360"/>
            <a:chOff x="3564000" y="5445000"/>
            <a:chExt cx="1079280" cy="360"/>
          </a:xfrm>
        </p:grpSpPr>
        <p:sp>
          <p:nvSpPr>
            <p:cNvPr id="169" name="Line 9"/>
            <p:cNvSpPr/>
            <p:nvPr/>
          </p:nvSpPr>
          <p:spPr>
            <a:xfrm>
              <a:off x="3564000" y="5445000"/>
              <a:ext cx="10792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3564000" y="5445000"/>
              <a:ext cx="107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10"/>
          <p:cNvSpPr/>
          <p:nvPr/>
        </p:nvSpPr>
        <p:spPr>
          <a:xfrm>
            <a:off x="4788000" y="400536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待光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788000" y="51577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求光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826920" y="1989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者在寒夜里面对如镜的凉月，想起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826920" y="2997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我、嫦娥追求的共同目标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6443640" y="4149720"/>
            <a:ext cx="289080" cy="1440000"/>
          </a:xfrm>
          <a:custGeom>
            <a:avLst/>
            <a:gdLst>
              <a:gd name="textAreaLeft" fmla="*/ 0 w 289080"/>
              <a:gd name="textAreaRight" fmla="*/ 104400 w 2890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6732720" y="3789360"/>
            <a:ext cx="2411280" cy="22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共同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光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2340000" y="4581360"/>
            <a:ext cx="360360" cy="648000"/>
          </a:xfrm>
          <a:prstGeom prst="downArrow">
            <a:avLst>
              <a:gd name="adj1" fmla="val 50000"/>
              <a:gd name="adj2" fmla="val 4492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6019920" y="6172200"/>
            <a:ext cx="1523880" cy="446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7A7B-98EA-46AC-996C-36049641A2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4191120" y="2924280"/>
            <a:ext cx="24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花边2"/>
          <p:cNvPicPr/>
          <p:nvPr/>
        </p:nvPicPr>
        <p:blipFill>
          <a:blip r:embed="rId1"/>
          <a:stretch/>
        </p:blipFill>
        <p:spPr>
          <a:xfrm>
            <a:off x="3733920" y="533520"/>
            <a:ext cx="4825800" cy="3800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花边1"/>
          <p:cNvPicPr/>
          <p:nvPr/>
        </p:nvPicPr>
        <p:blipFill>
          <a:blip r:embed="rId2"/>
          <a:stretch/>
        </p:blipFill>
        <p:spPr>
          <a:xfrm rot="454800">
            <a:off x="1066680" y="1980720"/>
            <a:ext cx="5042160" cy="404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609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简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365040" y="1752480"/>
            <a:ext cx="8778960" cy="3581280"/>
            <a:chOff x="365040" y="1752480"/>
            <a:chExt cx="8778960" cy="3581280"/>
          </a:xfrm>
        </p:grpSpPr>
        <p:sp>
          <p:nvSpPr>
            <p:cNvPr id="91" name="Rectangle 4"/>
            <p:cNvSpPr/>
            <p:nvPr/>
          </p:nvSpPr>
          <p:spPr>
            <a:xfrm>
              <a:off x="365040" y="1752480"/>
              <a:ext cx="8778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8"/>
            <p:cNvGrpSpPr/>
            <p:nvPr/>
          </p:nvGrpSpPr>
          <p:grpSpPr>
            <a:xfrm>
              <a:off x="365040" y="1752480"/>
              <a:ext cx="8709120" cy="3581280"/>
              <a:chOff x="365040" y="1752480"/>
              <a:chExt cx="8709120" cy="3581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365040" y="1752480"/>
                <a:ext cx="8709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365040" y="1752480"/>
                <a:ext cx="8709120" cy="358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                                                     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全国政协副主席，中国作家协会主席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   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男，汉族，１９０４年１１月生，四川成都人，无党派，１９２１年于成都外语专门学校肄业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   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１９２７年至１９２９年赴法国留学。１９２９年回国后，从事文学创作。１９３５年至１９５０年上海文化生活出版社、平明出版社总编辑。１９５０年后任平明出版社总编辑，上海市文学艺术界联合会副主席，中国作家协会上海分会主席。１９５３年９月后先后任中国作家协会副主席，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《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文艺月报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》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《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收获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》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《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上海文学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》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主编。１９６２年后任上海市文学艺术界联合会主席，“文化大革命”中受冲击。１９７７年至１９８３年中国作家协会主席、中国文学艺术界联合会副主席，上海市政协副主席。１９８３年任全国政协副主席，中国作家协会主席。２００３年３月在全国政协十届一次会议上当选为第十届全国政协副主席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   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２００３年１１月，国务院授予巴金先生“人民作家”荣誉称号。 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   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第一届政协全体会议代表，第六届、七届、八届、九届全国政协副主席。第一届、二届、三届、四届、五届全国人大代表，第五届全国人大常委会委员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5" name="Picture 7" descr="xinsrc_d0deb4af556611d797d200b0d03f0aaf"/>
          <p:cNvPicPr/>
          <p:nvPr/>
        </p:nvPicPr>
        <p:blipFill>
          <a:blip r:embed="rId1"/>
          <a:stretch/>
        </p:blipFill>
        <p:spPr>
          <a:xfrm>
            <a:off x="2057400" y="0"/>
            <a:ext cx="1600200" cy="2057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4191120" y="380880"/>
            <a:ext cx="373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巴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5"/>
          <p:cNvSpPr/>
          <p:nvPr/>
        </p:nvSpPr>
        <p:spPr>
          <a:xfrm>
            <a:off x="3132000" y="227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xin_f4f22f9b25184fe287b31e3593b8099f_0"/>
          <p:cNvPicPr/>
          <p:nvPr/>
        </p:nvPicPr>
        <p:blipFill>
          <a:blip r:embed="rId1"/>
          <a:stretch/>
        </p:blipFill>
        <p:spPr>
          <a:xfrm>
            <a:off x="304920" y="814320"/>
            <a:ext cx="8153280" cy="499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xin_b2828068ee8d4a32949e0ee124e2d0a6_3"/>
          <p:cNvPicPr/>
          <p:nvPr/>
        </p:nvPicPr>
        <p:blipFill>
          <a:blip r:embed="rId1"/>
          <a:stretch/>
        </p:blipFill>
        <p:spPr>
          <a:xfrm>
            <a:off x="838080" y="609480"/>
            <a:ext cx="7086600" cy="489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xinsrc_ca5bf35126c3480a875d2f1ab474546c_1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498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xinsrc_03d61c1b071a47da846979c7a0ae4711_3"/>
          <p:cNvPicPr/>
          <p:nvPr/>
        </p:nvPicPr>
        <p:blipFill>
          <a:blip r:embed="rId1"/>
          <a:stretch/>
        </p:blipFill>
        <p:spPr>
          <a:xfrm>
            <a:off x="1219320" y="704880"/>
            <a:ext cx="6705360" cy="5448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8197"/>
          <p:cNvSpPr/>
          <p:nvPr/>
        </p:nvSpPr>
        <p:spPr>
          <a:xfrm>
            <a:off x="179280" y="5661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4360" y="54936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</a:rPr>
              <a:t>短文两篇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教学设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通过比较阅读的方式，来阅读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幼圆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日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幼圆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幼圆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幼圆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，虽然两文写法不同，但表现的是共同的主题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111480" y="546588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2004314762526141"/>
          <p:cNvPicPr/>
          <p:nvPr/>
        </p:nvPicPr>
        <p:blipFill>
          <a:blip r:embed="rId1"/>
          <a:stretch/>
        </p:blipFill>
        <p:spPr>
          <a:xfrm>
            <a:off x="609480" y="5410080"/>
            <a:ext cx="8077320" cy="58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u=2694078448,4154526565&amp;gp=2"/>
          <p:cNvPicPr/>
          <p:nvPr/>
        </p:nvPicPr>
        <p:blipFill>
          <a:blip r:embed="rId1"/>
          <a:stretch/>
        </p:blipFill>
        <p:spPr>
          <a:xfrm>
            <a:off x="762120" y="685800"/>
            <a:ext cx="6781680" cy="5086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u=310664901,4113514798&amp;gp=0"/>
          <p:cNvPicPr/>
          <p:nvPr/>
        </p:nvPicPr>
        <p:blipFill>
          <a:blip r:embed="rId2"/>
          <a:stretch/>
        </p:blipFill>
        <p:spPr>
          <a:xfrm>
            <a:off x="685800" y="609480"/>
            <a:ext cx="7010280" cy="525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u=3386011957,1209557568&amp;gp=0"/>
          <p:cNvPicPr/>
          <p:nvPr/>
        </p:nvPicPr>
        <p:blipFill>
          <a:blip r:embed="rId3"/>
          <a:stretch/>
        </p:blipFill>
        <p:spPr>
          <a:xfrm>
            <a:off x="609480" y="533520"/>
            <a:ext cx="7162920" cy="53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it"/>
          <p:cNvPicPr/>
          <p:nvPr/>
        </p:nvPicPr>
        <p:blipFill>
          <a:blip r:embed="rId1"/>
          <a:stretch/>
        </p:blipFill>
        <p:spPr>
          <a:xfrm>
            <a:off x="2057400" y="1523880"/>
            <a:ext cx="5257800" cy="388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u=1511407228,2066329400&amp;gp=1"/>
          <p:cNvPicPr/>
          <p:nvPr/>
        </p:nvPicPr>
        <p:blipFill>
          <a:blip r:embed="rId2"/>
          <a:stretch/>
        </p:blipFill>
        <p:spPr>
          <a:xfrm>
            <a:off x="1905120" y="1371600"/>
            <a:ext cx="5790960" cy="4343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u=2059807554,2936536338&amp;gp=2"/>
          <p:cNvPicPr/>
          <p:nvPr/>
        </p:nvPicPr>
        <p:blipFill>
          <a:blip r:embed="rId3"/>
          <a:stretch/>
        </p:blipFill>
        <p:spPr>
          <a:xfrm>
            <a:off x="1523880" y="1219320"/>
            <a:ext cx="6705720" cy="458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u=2848299888,2923350772&amp;gp=2"/>
          <p:cNvPicPr/>
          <p:nvPr/>
        </p:nvPicPr>
        <p:blipFill>
          <a:blip r:embed="rId4"/>
          <a:stretch/>
        </p:blipFill>
        <p:spPr>
          <a:xfrm>
            <a:off x="1219320" y="990720"/>
            <a:ext cx="7086600" cy="531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u=918854794,3229769923&amp;gp=0"/>
          <p:cNvPicPr/>
          <p:nvPr/>
        </p:nvPicPr>
        <p:blipFill>
          <a:blip r:embed="rId5"/>
          <a:stretch/>
        </p:blipFill>
        <p:spPr>
          <a:xfrm>
            <a:off x="990720" y="6858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9:32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10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