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DD1-C633-4BDA-8E02-8F14E6C2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1AD-E0A8-4A96-9D2E-B7258801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567-841A-41BB-8A4F-AF347F2C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E24-2DC3-4800-AC8C-AC18F10B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5329-C756-474D-9AFA-79EF9C76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7CBA-2C6C-412B-8F4B-9BC9AF9B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AF37-820C-4848-A091-0E422AEF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B472-7878-4DB1-8367-58FC5259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1307-1E64-4076-B07E-874F49C0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B2A1-BF2E-4AED-9215-8B06FABF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A1B0-36AE-4718-84A5-0C249AA0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241-57BA-4B97-A9B7-A2C0753C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61E6-46F7-44DA-B4F2-3BD58F6B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4283-8930-40CD-80A4-7295827A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31F2-FDCC-4746-B43F-BD5E5572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54DA-B18C-4368-8DCA-95212F52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6AA0-1C1C-4A28-995C-A8EDDA47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C98-FD78-4444-80B1-EB98679A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A2C-1804-413C-9F40-FCA9D498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B82-EEB2-4A18-A683-2883BC49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D20-3F46-4CA7-AB90-CE9D038D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2F0-FB2E-46AD-93BA-DC8FBC20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5DB-3B52-4139-BDE9-9B0C756C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0DA-58BC-4419-A54F-F56E715B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92BC-2194-403C-B8DE-B2B74B042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B6D3-21EF-4048-B9A1-51FC4134F4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3"/>
          <p:cNvSpPr/>
          <p:nvPr/>
        </p:nvSpPr>
        <p:spPr>
          <a:xfrm>
            <a:off x="2286000" y="3203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39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7"/>
          <p:cNvSpPr/>
          <p:nvPr/>
        </p:nvSpPr>
        <p:spPr>
          <a:xfrm>
            <a:off x="685800" y="1020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冬阳童年骆驼队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30"/>
          <p:cNvSpPr/>
          <p:nvPr/>
        </p:nvSpPr>
        <p:spPr>
          <a:xfrm>
            <a:off x="914400" y="5715000"/>
            <a:ext cx="990720" cy="762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生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31"/>
          <p:cNvSpPr/>
          <p:nvPr/>
        </p:nvSpPr>
        <p:spPr>
          <a:xfrm>
            <a:off x="3886200" y="5715000"/>
            <a:ext cx="1143000" cy="762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咀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32"/>
          <p:cNvSpPr/>
          <p:nvPr/>
        </p:nvSpPr>
        <p:spPr>
          <a:xfrm>
            <a:off x="5486400" y="5715000"/>
            <a:ext cx="1066680" cy="762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铃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34"/>
          <p:cNvSpPr/>
          <p:nvPr/>
        </p:nvSpPr>
        <p:spPr>
          <a:xfrm>
            <a:off x="7086600" y="5715000"/>
            <a:ext cx="990720" cy="762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拓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37"/>
          <p:cNvSpPr/>
          <p:nvPr/>
        </p:nvSpPr>
        <p:spPr>
          <a:xfrm>
            <a:off x="2286000" y="5715000"/>
            <a:ext cx="1143000" cy="762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40"/>
          <p:cNvSpPr/>
          <p:nvPr/>
        </p:nvSpPr>
        <p:spPr>
          <a:xfrm>
            <a:off x="2971800" y="16765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0" y="0"/>
            <a:ext cx="9144000" cy="6915240"/>
          </a:xfrm>
          <a:prstGeom prst="rect">
            <a:avLst/>
          </a:prstGeom>
          <a:solidFill>
            <a:srgbClr val="ffffff">
              <a:alpha val="62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样        ，那样       ，那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它们咀嚼的时候，          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鼻孔里        ，白沫子           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看呆了，自己的牙齿  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590920" y="1447920"/>
            <a:ext cx="1523880" cy="360"/>
            <a:chOff x="2590920" y="1447920"/>
            <a:chExt cx="1523880" cy="360"/>
          </a:xfrm>
        </p:grpSpPr>
        <p:sp>
          <p:nvSpPr>
            <p:cNvPr id="128" name="Line 4"/>
            <p:cNvSpPr/>
            <p:nvPr/>
          </p:nvSpPr>
          <p:spPr>
            <a:xfrm>
              <a:off x="2590920" y="144792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2590920" y="144792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410080" y="1447920"/>
            <a:ext cx="1524240" cy="360"/>
            <a:chOff x="5410080" y="1447920"/>
            <a:chExt cx="1524240" cy="360"/>
          </a:xfrm>
        </p:grpSpPr>
        <p:sp>
          <p:nvSpPr>
            <p:cNvPr id="131" name="Line 5"/>
            <p:cNvSpPr/>
            <p:nvPr/>
          </p:nvSpPr>
          <p:spPr>
            <a:xfrm>
              <a:off x="5410080" y="144792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5410080" y="1447920"/>
              <a:ext cx="15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990720" y="1981080"/>
            <a:ext cx="1523880" cy="360"/>
            <a:chOff x="990720" y="1981080"/>
            <a:chExt cx="1523880" cy="360"/>
          </a:xfrm>
        </p:grpSpPr>
        <p:sp>
          <p:nvSpPr>
            <p:cNvPr id="134" name="Line 6"/>
            <p:cNvSpPr/>
            <p:nvPr/>
          </p:nvSpPr>
          <p:spPr>
            <a:xfrm>
              <a:off x="990720" y="198108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990720" y="198108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095880" y="1981080"/>
            <a:ext cx="1981440" cy="360"/>
            <a:chOff x="6095880" y="1981080"/>
            <a:chExt cx="1981440" cy="360"/>
          </a:xfrm>
        </p:grpSpPr>
        <p:sp>
          <p:nvSpPr>
            <p:cNvPr id="137" name="Line 8"/>
            <p:cNvSpPr/>
            <p:nvPr/>
          </p:nvSpPr>
          <p:spPr>
            <a:xfrm>
              <a:off x="6095880" y="1981080"/>
              <a:ext cx="19814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6095880" y="1981080"/>
              <a:ext cx="198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819520" y="2438280"/>
            <a:ext cx="1523880" cy="360"/>
            <a:chOff x="2819520" y="2438280"/>
            <a:chExt cx="1523880" cy="360"/>
          </a:xfrm>
        </p:grpSpPr>
        <p:sp>
          <p:nvSpPr>
            <p:cNvPr id="140" name="Line 9"/>
            <p:cNvSpPr/>
            <p:nvPr/>
          </p:nvSpPr>
          <p:spPr>
            <a:xfrm>
              <a:off x="2819520" y="243828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2819520" y="243828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019920" y="2438280"/>
            <a:ext cx="2286000" cy="360"/>
            <a:chOff x="6019920" y="2438280"/>
            <a:chExt cx="2286000" cy="360"/>
          </a:xfrm>
        </p:grpSpPr>
        <p:sp>
          <p:nvSpPr>
            <p:cNvPr id="143" name="Line 10"/>
            <p:cNvSpPr/>
            <p:nvPr/>
          </p:nvSpPr>
          <p:spPr>
            <a:xfrm>
              <a:off x="6019920" y="243828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6019920" y="243828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57800" y="2971800"/>
            <a:ext cx="2286000" cy="360"/>
            <a:chOff x="5257800" y="2971800"/>
            <a:chExt cx="2286000" cy="360"/>
          </a:xfrm>
        </p:grpSpPr>
        <p:sp>
          <p:nvSpPr>
            <p:cNvPr id="146" name="Line 11"/>
            <p:cNvSpPr/>
            <p:nvPr/>
          </p:nvSpPr>
          <p:spPr>
            <a:xfrm>
              <a:off x="5257800" y="297180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5257800" y="297180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AutoShape 12"/>
          <p:cNvSpPr/>
          <p:nvPr/>
        </p:nvSpPr>
        <p:spPr>
          <a:xfrm>
            <a:off x="7467480" y="5638680"/>
            <a:ext cx="1143000" cy="83844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7789320" y="5867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8199"/>
          <p:cNvSpPr/>
          <p:nvPr/>
        </p:nvSpPr>
        <p:spPr>
          <a:xfrm>
            <a:off x="3276720" y="4419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定是拉骆驼的人，耐不住那长途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寞的旅程，才给骆驼戴上了铃铛，增加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些行路的情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爸爸想了想，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笑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许，你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想法更美些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林海音的父亲林焕文是优秀的爱国知识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，早年受汉学的熏陶，后来又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语学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师范部接受日本教育，精通日文，曾任教于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湾新埔公学，日据时期著名的台湾作家吴浊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他的学生。后来林焕文远渡重洋到日本经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那里生下长女英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林海音。以后又迁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北京，任邮政局科长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爸爸想了想，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笑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许，你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想法更美些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默默地想，慢慢地写，我是多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想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81080" y="4343400"/>
            <a:ext cx="4114800" cy="360"/>
            <a:chOff x="1981080" y="4343400"/>
            <a:chExt cx="4114800" cy="360"/>
          </a:xfrm>
        </p:grpSpPr>
        <p:sp>
          <p:nvSpPr>
            <p:cNvPr id="158" name="Line 4"/>
            <p:cNvSpPr/>
            <p:nvPr/>
          </p:nvSpPr>
          <p:spPr>
            <a:xfrm>
              <a:off x="1981080" y="4343400"/>
              <a:ext cx="41148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981080" y="4343400"/>
              <a:ext cx="4114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0" y="0"/>
            <a:ext cx="9144000" cy="704196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宋妈梳完了头，用她的油手抹在我的头发上，也给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梳了两条辫子。我看宋妈提着篮子要出去了，连忙喊住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宋妈，我跟你去买菜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   宋妈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不怕惠难馆的疯子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   宋妈是顺义县的人，她也说不好北京话，她说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惠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妈说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灰娃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爸说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飞安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我随着胡同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孩子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惠安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到底哪一个对，我不知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   我为什么要怕惠安馆的疯子？她昨天还冲我笑呢！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那一笑真有意思，要不是妈紧紧拉着我的手，我就会走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看她，跟她说话了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-228600" y="0"/>
            <a:ext cx="9372600" cy="7318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是，我是多么想念童年住在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京城南的那些景色和人物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还想念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送别纯音乐.mp3" descr=""/>
          <p:cNvPicPr/>
          <p:nvPr/>
        </p:nvPicPr>
        <p:blipFill>
          <a:blip r:embed="rId2"/>
          <a:stretch/>
        </p:blipFill>
        <p:spPr>
          <a:xfrm>
            <a:off x="6400800" y="59436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4343400" y="3886200"/>
            <a:ext cx="4114800" cy="360"/>
            <a:chOff x="4343400" y="3886200"/>
            <a:chExt cx="4114800" cy="360"/>
          </a:xfrm>
        </p:grpSpPr>
        <p:sp>
          <p:nvSpPr>
            <p:cNvPr id="166" name="Line 6"/>
            <p:cNvSpPr/>
            <p:nvPr/>
          </p:nvSpPr>
          <p:spPr>
            <a:xfrm>
              <a:off x="4343400" y="3886200"/>
              <a:ext cx="41148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4343400" y="3886200"/>
              <a:ext cx="4114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143000" y="4419720"/>
            <a:ext cx="7162920" cy="360"/>
            <a:chOff x="1143000" y="4419720"/>
            <a:chExt cx="7162920" cy="360"/>
          </a:xfrm>
        </p:grpSpPr>
        <p:sp>
          <p:nvSpPr>
            <p:cNvPr id="169" name="Line 7"/>
            <p:cNvSpPr/>
            <p:nvPr/>
          </p:nvSpPr>
          <p:spPr>
            <a:xfrm>
              <a:off x="1143000" y="4419720"/>
              <a:ext cx="7162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1143000" y="4419720"/>
              <a:ext cx="716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1707480" y="1219320"/>
            <a:ext cx="548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夏天过去，秋天过去，冬天又来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骆驼队又来了，童年却一去不还了。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阳底下</a:t>
            </a:r>
            <a:r>
              <a:rPr b="1" lang="zh-CN" sz="3600" spc="-1" strike="noStrike" u="sng">
                <a:solidFill>
                  <a:srgbClr val="ffff99"/>
                </a:solidFill>
                <a:uFillTx/>
                <a:latin typeface="Arial"/>
                <a:ea typeface="黑体"/>
              </a:rPr>
              <a:t>学骆驼咀嚼的傻事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，我也不会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1707480" y="1219320"/>
            <a:ext cx="548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夏天过去，秋天过去，冬天又来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骆驼队又来了，童年却一去不还了。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阳底下</a:t>
            </a:r>
            <a:r>
              <a:rPr b="1" lang="zh-CN" sz="3600" spc="-1" strike="noStrike" u="sng">
                <a:solidFill>
                  <a:srgbClr val="ffff99"/>
                </a:solidFill>
                <a:uFillTx/>
                <a:latin typeface="Arial"/>
                <a:ea typeface="黑体"/>
              </a:rPr>
              <a:t>讨论骆驼铃声的事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，我也不会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8199"/>
          <p:cNvSpPr/>
          <p:nvPr/>
        </p:nvSpPr>
        <p:spPr>
          <a:xfrm>
            <a:off x="1676520" y="4114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1104120" y="1219320"/>
            <a:ext cx="669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　　夏天过去，秋天过去，冬天又来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骆驼队又来了，童年却一去不还了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                                      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我也不会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467480" y="2286000"/>
            <a:ext cx="838440" cy="360"/>
            <a:chOff x="7467480" y="2286000"/>
            <a:chExt cx="838440" cy="360"/>
          </a:xfrm>
        </p:grpSpPr>
        <p:sp>
          <p:nvSpPr>
            <p:cNvPr id="179" name="Line 4"/>
            <p:cNvSpPr/>
            <p:nvPr/>
          </p:nvSpPr>
          <p:spPr>
            <a:xfrm>
              <a:off x="7467480" y="2286000"/>
              <a:ext cx="838440" cy="0"/>
            </a:xfrm>
            <a:prstGeom prst="line">
              <a:avLst/>
            </a:prstGeom>
            <a:ln w="381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7467480" y="2286000"/>
              <a:ext cx="838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57200" y="2819520"/>
            <a:ext cx="4952880" cy="360"/>
            <a:chOff x="457200" y="2819520"/>
            <a:chExt cx="4952880" cy="360"/>
          </a:xfrm>
        </p:grpSpPr>
        <p:sp>
          <p:nvSpPr>
            <p:cNvPr id="182" name="Line 5"/>
            <p:cNvSpPr/>
            <p:nvPr/>
          </p:nvSpPr>
          <p:spPr>
            <a:xfrm>
              <a:off x="457200" y="2819520"/>
              <a:ext cx="4952880" cy="0"/>
            </a:xfrm>
            <a:prstGeom prst="line">
              <a:avLst/>
            </a:prstGeom>
            <a:ln w="381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457200" y="2819520"/>
              <a:ext cx="495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9D33-93A3-48ED-BDE9-C6C0789FA3E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-228600" y="0"/>
            <a:ext cx="9372600" cy="7318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是，我是多么想念童年住在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京城南的那些景色和人物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7620120" y="5791320"/>
            <a:ext cx="1066680" cy="76176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送别纯音乐.mp3" descr=""/>
          <p:cNvPicPr/>
          <p:nvPr/>
        </p:nvPicPr>
        <p:blipFill>
          <a:blip r:embed="rId2"/>
          <a:stretch/>
        </p:blipFill>
        <p:spPr>
          <a:xfrm>
            <a:off x="6400800" y="59436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7924680" y="601992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428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-533520" y="1219320"/>
            <a:ext cx="948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ff99"/>
                </a:solidFill>
                <a:latin typeface="黑体"/>
                <a:ea typeface="黑体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黑体"/>
                <a:ea typeface="黑体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ffff99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99"/>
                </a:solidFill>
                <a:latin typeface="黑体"/>
                <a:ea typeface="黑体"/>
              </a:rPr>
              <a:t>推荐阅读林海音的</a:t>
            </a:r>
            <a:r>
              <a:rPr b="1" lang="en-US" sz="3600" spc="-1" strike="noStrike">
                <a:solidFill>
                  <a:srgbClr val="ffff99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ff99"/>
                </a:solidFill>
                <a:latin typeface="黑体"/>
                <a:ea typeface="黑体"/>
              </a:rPr>
              <a:t>城南旧事</a:t>
            </a:r>
            <a:r>
              <a:rPr b="1" lang="en-US" sz="3600" spc="-1" strike="noStrike">
                <a:solidFill>
                  <a:srgbClr val="ffff99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ffff99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ffff99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ff99"/>
                </a:solidFill>
                <a:latin typeface="黑体"/>
                <a:ea typeface="黑体"/>
              </a:rPr>
              <a:t>背诵自己喜欢的段落，抄写喜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99"/>
                </a:solidFill>
                <a:latin typeface="黑体"/>
                <a:ea typeface="黑体"/>
              </a:rPr>
              <a:t>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09480" y="1676520"/>
            <a:ext cx="792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毡帽   卸煤   咀嚼    沙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寂寞   棉袄   袍子    傻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09480" y="1676520"/>
            <a:ext cx="792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毡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帽  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卸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煤  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咀嚼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沙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寂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寞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棉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袄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袍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子   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傻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7772400" y="5867280"/>
            <a:ext cx="1143000" cy="83844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914400" y="1828800"/>
            <a:ext cx="7315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习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学骆驼咀嚼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议驼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两个画面读一读，把感受最深的地方划下来，写下感受，并在小组内交流。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7772400" y="5867280"/>
            <a:ext cx="1143000" cy="83844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样丑的脸，那样长的牙，那样安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态度。它们咀嚼的时候，上牙和下牙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错地磨来磨去，大鼻孔里冒着热气，白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沾在胡须上。我看呆了，自己的牙齿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动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6477120" y="5791320"/>
            <a:ext cx="1143000" cy="83808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7696080" y="5791320"/>
            <a:ext cx="1143000" cy="83808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6798600" y="6019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那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8124480" y="6019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那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丑的脸，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那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的牙，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那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安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态度。它们咀嚼的时候，上牙和下牙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错地磨来磨去，大鼻孔里冒着热气，白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沾在胡须上。我看呆了，自己的牙齿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动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7696080" y="5791320"/>
            <a:ext cx="1143000" cy="83808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8124480" y="6019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6477120" y="5791320"/>
            <a:ext cx="1143000" cy="83808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798600" y="6019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0" y="0"/>
            <a:ext cx="9144000" cy="746676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样丑的脸，那样长的牙，那样安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态度。它们咀嚼的时候，上牙和下牙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错地磨来磨去，大鼻孔里冒着热气，白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沾在胡须上。我看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，自己的牙齿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动了起来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7543800" y="5791320"/>
            <a:ext cx="1143000" cy="83808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865640" y="6019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那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6477120" y="5791320"/>
            <a:ext cx="1143000" cy="838080"/>
          </a:xfrm>
          <a:prstGeom prst="su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874920" y="6019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solidFill>
            <a:srgbClr val="ffffff">
              <a:alpha val="62000"/>
            </a:srgbClr>
          </a:solidFill>
          <a:ln w="82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样丑的脸，那样长的牙，那样安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态度。它们咀嚼的时候，上牙和下牙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错地磨来磨去，大鼻孔里冒着热气，白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沾在胡须上。我看呆了，自己的牙齿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动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默默地想，慢慢地写，我是多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想念           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28800" y="4876920"/>
            <a:ext cx="4114800" cy="360"/>
            <a:chOff x="1828800" y="4876920"/>
            <a:chExt cx="4114800" cy="360"/>
          </a:xfrm>
        </p:grpSpPr>
        <p:sp>
          <p:nvSpPr>
            <p:cNvPr id="123" name="Line 4"/>
            <p:cNvSpPr/>
            <p:nvPr/>
          </p:nvSpPr>
          <p:spPr>
            <a:xfrm>
              <a:off x="1828800" y="4876920"/>
              <a:ext cx="41148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1828800" y="4876920"/>
              <a:ext cx="4114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4T03:38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53Z</dcterms:modified>
  <cp:revision>9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