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25F-A086-4F9F-A656-C70FD043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74F-7615-4A0A-874D-B6D795B9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261-D709-4A2D-838F-97876A78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932-BA73-4215-8E40-F81D4112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72B3-EEA2-44E8-A5B8-09CA4EF6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A408-2665-4387-BECA-7C86709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04E7-9B3B-4496-B895-76B4694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A82-1133-4833-944A-0EE4F84D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AC31-4FB8-4D1C-8FC6-FF28E118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B5AC-FBBD-4931-9AFB-4353EEDA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DBA-C59B-473F-ADA5-17FE619C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D77-6366-4557-8615-7B0D915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AD20-5F19-4859-86C1-B50688D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DFF-8AD3-4497-B94E-ED9BEE5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0735-80C6-47F0-94CD-CE1DF7A3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0FD1-ECBA-4F06-B4AB-F546E479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213D-2702-40D6-8B40-703997A0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6EE-C192-4190-9D05-984172D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FEE-3C92-4041-96BC-9F31B75E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7E5-B219-4887-AD2B-1D64C3D2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ED2-4B03-45F9-A5FD-915B4471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F9E-77C8-483E-91CC-85BF815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46A-7E6F-41A3-AD36-0ECDEAE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1BC-AA6E-42D5-829D-A24D961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E2BA-6679-40D5-B43B-1688FACF32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CF4D-D53D-458F-A636-2EF6E2DE5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A572-CB63-4735-9499-9E5F7A510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280" y="2205000"/>
            <a:ext cx="784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多种多样的交通运输方式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26920" y="101592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华文彩云"/>
                <a:ea typeface="华文彩云"/>
              </a:rPr>
              <a:t>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13211836657"/>
          <p:cNvPicPr/>
          <p:nvPr/>
        </p:nvPicPr>
        <p:blipFill>
          <a:blip r:embed="rId1"/>
          <a:stretch/>
        </p:blipFill>
        <p:spPr>
          <a:xfrm>
            <a:off x="826920" y="981000"/>
            <a:ext cx="7634520" cy="41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飞机为主的航空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管道运输"/>
          <p:cNvPicPr/>
          <p:nvPr/>
        </p:nvPicPr>
        <p:blipFill>
          <a:blip r:embed="rId1"/>
          <a:stretch/>
        </p:blipFill>
        <p:spPr>
          <a:xfrm>
            <a:off x="905040" y="1197000"/>
            <a:ext cx="7340400" cy="4900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76160" y="37476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管道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畜力运输"/>
          <p:cNvPicPr/>
          <p:nvPr/>
        </p:nvPicPr>
        <p:blipFill>
          <a:blip r:embed="rId1"/>
          <a:stretch/>
        </p:blipFill>
        <p:spPr>
          <a:xfrm>
            <a:off x="1116000" y="1663560"/>
            <a:ext cx="7129440" cy="443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116000" y="412920"/>
            <a:ext cx="34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畜力运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0dfa9ec8a1363273a8e24b7918fa0ec09fac7d7"/>
          <p:cNvPicPr/>
          <p:nvPr/>
        </p:nvPicPr>
        <p:blipFill>
          <a:blip r:embed="rId1"/>
          <a:stretch/>
        </p:blipFill>
        <p:spPr>
          <a:xfrm>
            <a:off x="900000" y="981000"/>
            <a:ext cx="7415280" cy="4711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900000" y="157320"/>
            <a:ext cx="287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人力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333440" y="1517400"/>
            <a:ext cx="6408360" cy="4467240"/>
            <a:chOff x="1333440" y="1517400"/>
            <a:chExt cx="6408360" cy="4467240"/>
          </a:xfrm>
        </p:grpSpPr>
        <p:sp>
          <p:nvSpPr>
            <p:cNvPr id="166" name="Freeform 38"/>
            <p:cNvSpPr/>
            <p:nvPr/>
          </p:nvSpPr>
          <p:spPr>
            <a:xfrm>
              <a:off x="3426480" y="2980440"/>
              <a:ext cx="2212200" cy="1541520"/>
            </a:xfrm>
            <a:custGeom>
              <a:avLst/>
              <a:gdLst/>
              <a:ahLst/>
              <a:rect l="l" t="t" r="r" b="b"/>
              <a:pathLst>
                <a:path w="1339" h="805">
                  <a:moveTo>
                    <a:pt x="320" y="0"/>
                  </a:moveTo>
                  <a:lnTo>
                    <a:pt x="1019" y="0"/>
                  </a:lnTo>
                  <a:lnTo>
                    <a:pt x="1339" y="403"/>
                  </a:lnTo>
                  <a:lnTo>
                    <a:pt x="1019" y="805"/>
                  </a:lnTo>
                  <a:lnTo>
                    <a:pt x="328" y="805"/>
                  </a:lnTo>
                  <a:lnTo>
                    <a:pt x="0" y="394"/>
                  </a:lnTo>
                  <a:lnTo>
                    <a:pt x="32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2963880" y="4645800"/>
              <a:ext cx="3150720" cy="1338840"/>
            </a:xfrm>
            <a:custGeom>
              <a:avLst/>
              <a:gdLst/>
              <a:ahLst/>
              <a:rect l="l" t="t" r="r" b="b"/>
              <a:pathLst>
                <a:path w="1907" h="699">
                  <a:moveTo>
                    <a:pt x="600" y="0"/>
                  </a:moveTo>
                  <a:lnTo>
                    <a:pt x="1307" y="0"/>
                  </a:lnTo>
                  <a:lnTo>
                    <a:pt x="1907" y="699"/>
                  </a:lnTo>
                  <a:lnTo>
                    <a:pt x="0" y="699"/>
                  </a:lnTo>
                  <a:lnTo>
                    <a:pt x="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flipV="1">
              <a:off x="2963880" y="1516680"/>
              <a:ext cx="3150720" cy="1338840"/>
            </a:xfrm>
            <a:custGeom>
              <a:avLst/>
              <a:gdLst/>
              <a:ahLst/>
              <a:rect l="l" t="t" r="r" b="b"/>
              <a:pathLst>
                <a:path w="1907" h="699">
                  <a:moveTo>
                    <a:pt x="600" y="0"/>
                  </a:moveTo>
                  <a:lnTo>
                    <a:pt x="1307" y="0"/>
                  </a:lnTo>
                  <a:lnTo>
                    <a:pt x="1907" y="699"/>
                  </a:lnTo>
                  <a:lnTo>
                    <a:pt x="0" y="699"/>
                  </a:lnTo>
                  <a:lnTo>
                    <a:pt x="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1333440" y="1580400"/>
              <a:ext cx="2540880" cy="2123280"/>
            </a:xfrm>
            <a:custGeom>
              <a:avLst/>
              <a:gdLst/>
              <a:ahLst/>
              <a:rect l="l" t="t" r="r" b="b"/>
              <a:pathLst>
                <a:path w="1538" h="1109">
                  <a:moveTo>
                    <a:pt x="1200" y="1109"/>
                  </a:moveTo>
                  <a:lnTo>
                    <a:pt x="1538" y="690"/>
                  </a:lnTo>
                  <a:lnTo>
                    <a:pt x="937" y="0"/>
                  </a:lnTo>
                  <a:lnTo>
                    <a:pt x="0" y="1109"/>
                  </a:lnTo>
                  <a:lnTo>
                    <a:pt x="1200" y="1109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1334880" y="3813120"/>
              <a:ext cx="2527560" cy="2139120"/>
            </a:xfrm>
            <a:custGeom>
              <a:avLst/>
              <a:gdLst/>
              <a:ahLst/>
              <a:rect l="l" t="t" r="r" b="b"/>
              <a:pathLst>
                <a:path w="1529" h="1117">
                  <a:moveTo>
                    <a:pt x="1200" y="0"/>
                  </a:moveTo>
                  <a:lnTo>
                    <a:pt x="1529" y="410"/>
                  </a:lnTo>
                  <a:lnTo>
                    <a:pt x="929" y="1117"/>
                  </a:lnTo>
                  <a:lnTo>
                    <a:pt x="0" y="0"/>
                  </a:lnTo>
                  <a:lnTo>
                    <a:pt x="1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 flipH="1">
              <a:off x="5200920" y="1580400"/>
              <a:ext cx="2540880" cy="2123280"/>
            </a:xfrm>
            <a:custGeom>
              <a:avLst/>
              <a:gdLst/>
              <a:ahLst/>
              <a:rect l="l" t="t" r="r" b="b"/>
              <a:pathLst>
                <a:path w="1538" h="1109">
                  <a:moveTo>
                    <a:pt x="1200" y="1109"/>
                  </a:moveTo>
                  <a:lnTo>
                    <a:pt x="1538" y="690"/>
                  </a:lnTo>
                  <a:lnTo>
                    <a:pt x="937" y="0"/>
                  </a:lnTo>
                  <a:lnTo>
                    <a:pt x="0" y="1109"/>
                  </a:lnTo>
                  <a:lnTo>
                    <a:pt x="1200" y="1109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 flipH="1">
              <a:off x="5202720" y="3813120"/>
              <a:ext cx="2525760" cy="2139120"/>
            </a:xfrm>
            <a:custGeom>
              <a:avLst/>
              <a:gdLst/>
              <a:ahLst/>
              <a:rect l="l" t="t" r="r" b="b"/>
              <a:pathLst>
                <a:path w="1529" h="1117">
                  <a:moveTo>
                    <a:pt x="1200" y="0"/>
                  </a:moveTo>
                  <a:lnTo>
                    <a:pt x="1529" y="410"/>
                  </a:lnTo>
                  <a:lnTo>
                    <a:pt x="929" y="1117"/>
                  </a:lnTo>
                  <a:lnTo>
                    <a:pt x="0" y="0"/>
                  </a:lnTo>
                  <a:lnTo>
                    <a:pt x="1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5"/>
            <p:cNvSpPr/>
            <p:nvPr/>
          </p:nvSpPr>
          <p:spPr>
            <a:xfrm flipH="1">
              <a:off x="3692520" y="3324240"/>
              <a:ext cx="1706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运输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分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 flipH="1">
              <a:off x="3692520" y="197856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公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 flipH="1">
              <a:off x="3692520" y="510696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航空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 flipH="1">
              <a:off x="2027160" y="4399920"/>
              <a:ext cx="1704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管道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 flipH="1">
              <a:off x="2027160" y="2714400"/>
              <a:ext cx="1704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其他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 flipH="1">
              <a:off x="5353200" y="439992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水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 flipH="1">
              <a:off x="5353200" y="271440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铁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1142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分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6920" y="2060640"/>
            <a:ext cx="68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一小组：公路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二小组：铁路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三小组：水陆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四小组：航空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五小组：管道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六小组：人力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七小组：畜力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208080" y="189000"/>
            <a:ext cx="935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</a:t>
            </a: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二、 各种运输方式的优点和缺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35080" y="2112840"/>
            <a:ext cx="106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971640" y="1052640"/>
            <a:ext cx="7416720" cy="5040360"/>
            <a:chOff x="971640" y="1052640"/>
            <a:chExt cx="7416720" cy="5040360"/>
          </a:xfrm>
        </p:grpSpPr>
        <p:sp>
          <p:nvSpPr>
            <p:cNvPr id="185" name="AutoShape 4"/>
            <p:cNvSpPr/>
            <p:nvPr/>
          </p:nvSpPr>
          <p:spPr>
            <a:xfrm>
              <a:off x="971640" y="1052640"/>
              <a:ext cx="7416720" cy="5040360"/>
            </a:xfrm>
            <a:prstGeom prst="flowChartAlternateProcess">
              <a:avLst/>
            </a:pr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059280" y="1052640"/>
              <a:ext cx="360" cy="5040360"/>
              <a:chOff x="3059280" y="1052640"/>
              <a:chExt cx="360" cy="5040360"/>
            </a:xfrm>
          </p:grpSpPr>
          <p:sp>
            <p:nvSpPr>
              <p:cNvPr id="187" name="Line 5"/>
              <p:cNvSpPr/>
              <p:nvPr/>
            </p:nvSpPr>
            <p:spPr>
              <a:xfrm>
                <a:off x="305928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305928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867640" y="1052640"/>
              <a:ext cx="360" cy="5040360"/>
              <a:chOff x="5867640" y="1052640"/>
              <a:chExt cx="360" cy="5040360"/>
            </a:xfrm>
          </p:grpSpPr>
          <p:sp>
            <p:nvSpPr>
              <p:cNvPr id="190" name="Line 6"/>
              <p:cNvSpPr/>
              <p:nvPr/>
            </p:nvSpPr>
            <p:spPr>
              <a:xfrm>
                <a:off x="586764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586764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971640" y="2113200"/>
              <a:ext cx="7416720" cy="360"/>
              <a:chOff x="971640" y="2113200"/>
              <a:chExt cx="7416720" cy="360"/>
            </a:xfrm>
          </p:grpSpPr>
          <p:sp>
            <p:nvSpPr>
              <p:cNvPr id="193" name="Line 7"/>
              <p:cNvSpPr/>
              <p:nvPr/>
            </p:nvSpPr>
            <p:spPr>
              <a:xfrm>
                <a:off x="971640" y="211320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971640" y="211320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971640" y="3500640"/>
              <a:ext cx="7416720" cy="360"/>
              <a:chOff x="971640" y="3500640"/>
              <a:chExt cx="7416720" cy="360"/>
            </a:xfrm>
          </p:grpSpPr>
          <p:sp>
            <p:nvSpPr>
              <p:cNvPr id="196" name="Line 8"/>
              <p:cNvSpPr/>
              <p:nvPr/>
            </p:nvSpPr>
            <p:spPr>
              <a:xfrm>
                <a:off x="971640" y="350064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971640" y="350064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971640" y="4797720"/>
              <a:ext cx="7416720" cy="360"/>
              <a:chOff x="971640" y="4797720"/>
              <a:chExt cx="7416720" cy="360"/>
            </a:xfrm>
          </p:grpSpPr>
          <p:sp>
            <p:nvSpPr>
              <p:cNvPr id="199" name="Line 9"/>
              <p:cNvSpPr/>
              <p:nvPr/>
            </p:nvSpPr>
            <p:spPr>
              <a:xfrm>
                <a:off x="971640" y="479772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971640" y="479772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10"/>
          <p:cNvSpPr/>
          <p:nvPr/>
        </p:nvSpPr>
        <p:spPr>
          <a:xfrm>
            <a:off x="1135080" y="129708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运输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419640" y="1297080"/>
            <a:ext cx="17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优        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229440" y="129708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缺        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135080" y="257004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公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135080" y="3933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铁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135080" y="5157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水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102120" y="25700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，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870520" y="257004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、价格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98680" y="3630600"/>
            <a:ext cx="23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，运量大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6267600" y="39466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102120" y="52513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大，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5872320" y="525132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慢、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008000" y="1052640"/>
            <a:ext cx="7416720" cy="5040360"/>
            <a:chOff x="1008000" y="1052640"/>
            <a:chExt cx="7416720" cy="5040360"/>
          </a:xfrm>
        </p:grpSpPr>
        <p:sp>
          <p:nvSpPr>
            <p:cNvPr id="214" name="AutoShape 3"/>
            <p:cNvSpPr/>
            <p:nvPr/>
          </p:nvSpPr>
          <p:spPr>
            <a:xfrm>
              <a:off x="1008000" y="1052640"/>
              <a:ext cx="7416720" cy="5040360"/>
            </a:xfrm>
            <a:prstGeom prst="flowChartAlternateProcess">
              <a:avLst/>
            </a:pr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095640" y="1052640"/>
              <a:ext cx="360" cy="5040360"/>
              <a:chOff x="3095640" y="1052640"/>
              <a:chExt cx="360" cy="5040360"/>
            </a:xfrm>
          </p:grpSpPr>
          <p:sp>
            <p:nvSpPr>
              <p:cNvPr id="216" name="Line 4"/>
              <p:cNvSpPr/>
              <p:nvPr/>
            </p:nvSpPr>
            <p:spPr>
              <a:xfrm>
                <a:off x="309564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309564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04000" y="1052640"/>
              <a:ext cx="360" cy="5040360"/>
              <a:chOff x="5904000" y="1052640"/>
              <a:chExt cx="360" cy="5040360"/>
            </a:xfrm>
          </p:grpSpPr>
          <p:sp>
            <p:nvSpPr>
              <p:cNvPr id="219" name="Line 5"/>
              <p:cNvSpPr/>
              <p:nvPr/>
            </p:nvSpPr>
            <p:spPr>
              <a:xfrm>
                <a:off x="590400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590400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008000" y="2113200"/>
              <a:ext cx="7416720" cy="360"/>
              <a:chOff x="1008000" y="2113200"/>
              <a:chExt cx="7416720" cy="360"/>
            </a:xfrm>
          </p:grpSpPr>
          <p:sp>
            <p:nvSpPr>
              <p:cNvPr id="222" name="Line 6"/>
              <p:cNvSpPr/>
              <p:nvPr/>
            </p:nvSpPr>
            <p:spPr>
              <a:xfrm>
                <a:off x="1008000" y="211320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1008000" y="211320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008000" y="3500640"/>
              <a:ext cx="7416720" cy="360"/>
              <a:chOff x="1008000" y="3500640"/>
              <a:chExt cx="7416720" cy="360"/>
            </a:xfrm>
          </p:grpSpPr>
          <p:sp>
            <p:nvSpPr>
              <p:cNvPr id="225" name="Line 7"/>
              <p:cNvSpPr/>
              <p:nvPr/>
            </p:nvSpPr>
            <p:spPr>
              <a:xfrm>
                <a:off x="1008000" y="350064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1008000" y="350064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008000" y="4797720"/>
              <a:ext cx="7416720" cy="360"/>
              <a:chOff x="1008000" y="4797720"/>
              <a:chExt cx="7416720" cy="360"/>
            </a:xfrm>
          </p:grpSpPr>
          <p:sp>
            <p:nvSpPr>
              <p:cNvPr id="228" name="Line 8"/>
              <p:cNvSpPr/>
              <p:nvPr/>
            </p:nvSpPr>
            <p:spPr>
              <a:xfrm>
                <a:off x="1008000" y="479772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1008000" y="479772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9"/>
          <p:cNvSpPr/>
          <p:nvPr/>
        </p:nvSpPr>
        <p:spPr>
          <a:xfrm>
            <a:off x="1135080" y="141300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航空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135080" y="263844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管道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135080" y="400536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人力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135080" y="5157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畜力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521160" y="14400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、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013440" y="1440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价格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89440" y="2638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格高、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492360" y="26384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大、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506760" y="391644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灵活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506760" y="521964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灵活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013440" y="39924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速度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6013440" y="5219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速度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26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813320" y="267984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火车，铁路运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162080" y="5546880"/>
            <a:ext cx="53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汽车，公路运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-206280" y="189000"/>
            <a:ext cx="935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        </a:t>
            </a:r>
            <a:r>
              <a:rPr b="0" lang="zh-CN" sz="4800" spc="-1" strike="noStrike">
                <a:solidFill>
                  <a:srgbClr val="ff33cc"/>
                </a:solidFill>
                <a:latin typeface="黑体"/>
                <a:ea typeface="黑体"/>
              </a:rPr>
              <a:t>运输方式大竞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62080" y="14907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北方的水果要运到我们南方来，    需要什么样的运输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212840" y="3645000"/>
            <a:ext cx="75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母亲节，鲜花的销售量特别大，要从外地批发鲜花回来卖，可以用什么样的运输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539640" y="981000"/>
            <a:ext cx="82296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476360" y="156852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火车，铁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76360" y="2727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汽车，公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4005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轮船，水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733400" y="55656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飞机，航空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34960" y="981000"/>
            <a:ext cx="82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柳州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甘蔗运往上海批发商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0440" y="2087640"/>
            <a:ext cx="83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面包厂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的面包运输到附近的商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39640" y="324468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大连煤运码头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万吨煤运到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39640" y="4498920"/>
            <a:ext cx="843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北京一批价值千万的救灾药品急运云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灾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176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汽车"/>
          <p:cNvPicPr/>
          <p:nvPr/>
        </p:nvPicPr>
        <p:blipFill>
          <a:blip r:embed="rId1"/>
          <a:stretch/>
        </p:blipFill>
        <p:spPr>
          <a:xfrm>
            <a:off x="3564000" y="3211560"/>
            <a:ext cx="4998960" cy="3079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939960" y="175752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80920" y="2311560"/>
            <a:ext cx="347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31840" y="1700280"/>
            <a:ext cx="58928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一间房，有墙又有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路当中跑，行人走两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71280" y="981000"/>
            <a:ext cx="7716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大庆油田的原油源源不断的运到吉化炼油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木材由大兴安岭运往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一批小汽车由上海运到日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公斤大米从一楼运输到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700360" y="1978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管道，管道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743200" y="322596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火车，铁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743200" y="4305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轮船，水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743200" y="5537160"/>
            <a:ext cx="29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人，人力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200"/>
          <p:cNvSpPr/>
          <p:nvPr/>
        </p:nvSpPr>
        <p:spPr>
          <a:xfrm>
            <a:off x="971640" y="523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1E6-F295-458C-AE40-E954C7391D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-1044720" y="571680"/>
            <a:ext cx="93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         </a:t>
            </a: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三、 学会选择适当的运输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916280"/>
            <a:ext cx="81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生活中的交通运输方式是多种多样的，每一种方式都有它的特点和作用，我们要学会思考，</a:t>
            </a:r>
            <a:r>
              <a:rPr b="1" lang="zh-CN" sz="3600" spc="-1" strike="noStrike" u="sng">
                <a:solidFill>
                  <a:srgbClr val="a50021"/>
                </a:solidFill>
                <a:uFillTx/>
                <a:latin typeface="Arial"/>
                <a:ea typeface="黑体"/>
              </a:rPr>
              <a:t>根据运输对象的特点和实际情况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Arial"/>
                <a:ea typeface="黑体"/>
              </a:rPr>
              <a:t>，选择合适的交通运输方式，使自己的生活更加便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250920" y="27468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50920" y="2449440"/>
            <a:ext cx="482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看像城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看一排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行千里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载万吨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4985563_161136092752_2"/>
          <p:cNvPicPr/>
          <p:nvPr/>
        </p:nvPicPr>
        <p:blipFill>
          <a:blip r:embed="rId1"/>
          <a:stretch/>
        </p:blipFill>
        <p:spPr>
          <a:xfrm>
            <a:off x="3995640" y="1417680"/>
            <a:ext cx="4900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640" y="1599840"/>
            <a:ext cx="51847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面一座楼，没腿四处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载人又送货，江海任它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轮船"/>
          <p:cNvPicPr/>
          <p:nvPr/>
        </p:nvPicPr>
        <p:blipFill>
          <a:blip r:embed="rId1"/>
          <a:stretch/>
        </p:blipFill>
        <p:spPr>
          <a:xfrm>
            <a:off x="1547640" y="2997360"/>
            <a:ext cx="540072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59280" y="2060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听赛雷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看像只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晨去拉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回北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飞机"/>
          <p:cNvPicPr/>
          <p:nvPr/>
        </p:nvPicPr>
        <p:blipFill>
          <a:blip r:embed="rId1"/>
          <a:stretch/>
        </p:blipFill>
        <p:spPr>
          <a:xfrm>
            <a:off x="96840" y="1844640"/>
            <a:ext cx="5411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757440" y="189000"/>
            <a:ext cx="5630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汽车"/>
          <p:cNvPicPr/>
          <p:nvPr/>
        </p:nvPicPr>
        <p:blipFill>
          <a:blip r:embed="rId1"/>
          <a:stretch/>
        </p:blipFill>
        <p:spPr>
          <a:xfrm>
            <a:off x="1298520" y="1125360"/>
            <a:ext cx="3168720" cy="221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4985563_161136092752_2"/>
          <p:cNvPicPr/>
          <p:nvPr/>
        </p:nvPicPr>
        <p:blipFill>
          <a:blip r:embed="rId2"/>
          <a:stretch/>
        </p:blipFill>
        <p:spPr>
          <a:xfrm>
            <a:off x="4643280" y="112536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轮船"/>
          <p:cNvPicPr/>
          <p:nvPr/>
        </p:nvPicPr>
        <p:blipFill>
          <a:blip r:embed="rId3"/>
          <a:stretch/>
        </p:blipFill>
        <p:spPr>
          <a:xfrm>
            <a:off x="1298520" y="3573360"/>
            <a:ext cx="32022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飞机"/>
          <p:cNvPicPr/>
          <p:nvPr/>
        </p:nvPicPr>
        <p:blipFill>
          <a:blip r:embed="rId4"/>
          <a:stretch/>
        </p:blipFill>
        <p:spPr>
          <a:xfrm>
            <a:off x="4643280" y="3573360"/>
            <a:ext cx="3276720" cy="218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96920" y="59515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这四种不同的交通工具，都有着一个共同的作用，是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3080" y="90792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一、多种多样的交通运输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20120521112549482"/>
          <p:cNvPicPr/>
          <p:nvPr/>
        </p:nvPicPr>
        <p:blipFill>
          <a:blip r:embed="rId1"/>
          <a:stretch/>
        </p:blipFill>
        <p:spPr>
          <a:xfrm>
            <a:off x="973080" y="2205000"/>
            <a:ext cx="6875640" cy="3397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368360" y="58071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汽车、卡车为主的公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395280" y="-84240"/>
            <a:ext cx="31654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看一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09322202750864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457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火车为主的铁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01300000258388122569311771751"/>
          <p:cNvPicPr/>
          <p:nvPr/>
        </p:nvPicPr>
        <p:blipFill>
          <a:blip r:embed="rId1"/>
          <a:stretch/>
        </p:blipFill>
        <p:spPr>
          <a:xfrm>
            <a:off x="1547640" y="981000"/>
            <a:ext cx="6264360" cy="4302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轮船为主的水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2:59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6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