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9.gif" ContentType="image/gif"/>
  <Override PartName="/ppt/media/image8.gif" ContentType="image/gif"/>
  <Override PartName="/ppt/media/image19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7.wmf" ContentType="image/x-wmf"/>
  <Override PartName="/ppt/media/type.wav" ContentType="audio/x-wav"/>
  <Override PartName="/ppt/media/image18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1F0-36CB-41FB-80DB-3A4B3616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D46-EB08-4F86-9951-FCA5306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532-5AB3-4DE5-84D8-0E376CF9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889-409C-499B-A9EC-96A4F35F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F45-D6B1-4DCE-8ABF-DFDCE08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A67-C38F-4806-B028-1337C6F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220-B7C3-4FB0-9EFF-37A8F0D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31D7-6B4D-4C53-92F6-268CCBA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B40A-25EA-4DA6-9A5A-62C0DD28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EC5-2692-42E1-8599-8244132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7B4E-3E3E-4600-94CC-AE89F69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1F4-5444-420E-A541-ED03018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2E93-56DA-431F-A2CD-6EE07E8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117-7A49-4E42-98BE-9821697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645C-97BC-431E-9F69-81C1A9F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60F3-57FE-4DE5-B8EE-F12AF50C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3F0C-504E-4944-83B6-13385F29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DED7-938C-4375-A451-E2A9277C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4C0E-2984-4483-BF1F-45C1F1D6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F95C-5635-4854-B4DC-F27E24F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088C-2AF2-47A0-BDBE-99E9699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DE8D-7C24-45E0-9B40-27B8E46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0D0-0C5B-4F7B-8FDE-F4956CC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0FAF-EA31-4E21-9477-D9D292A6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505D-58A2-4426-8DB1-E047AA3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695F-5875-4CA3-B434-224E5EB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7D13-1AE3-4B77-9BE5-9142093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387F-82D2-4C56-BFE3-4D38378C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688D-4CE2-42FA-9C74-1973B9D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D136-D6B7-49E6-B09E-9D74173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A6FC-360B-42FC-BF84-02248CC4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79AC-5D95-46BB-BCB9-C2CEEE2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A181-4BE9-45E7-8720-248EB457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A4D-817C-44E0-9326-8EF6732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0EDB-A59D-4D8E-8A36-85883F2E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0B78-C1B5-4CC1-AB87-41C3A6B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0792-A09C-4C51-8F7B-8C2EA55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FC2D-0BEA-46C8-B2AE-5727EA4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AB85-DCC0-423F-8547-DEBD561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BDBD-4CF2-4671-886A-ACA26E3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C457-F116-4A0B-BC34-8B05617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6000-CF71-41CB-A38E-6FB8F452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CB2F-315E-49E9-B598-DDFE5043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D9A-56AF-44B3-8877-4BE0F168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A93-A16F-4C75-B9A5-1A02318D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784-6D22-4B17-A747-D19FA24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C8B-09AB-44DD-801C-BC40014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B21-17AF-4B1F-8744-A90AB0E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48C2-EF60-49F1-95B1-44B16472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AFA-9461-4EDB-B1FB-E52D8A0E76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70B6-FBD4-4266-9A4B-57FA0AF52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8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669-185C-41F2-91C8-08B3185B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1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7"/>
          <p:cNvSpPr txBox="1"/>
          <p:nvPr/>
        </p:nvSpPr>
        <p:spPr>
          <a:xfrm>
            <a:off x="1116000" y="1916280"/>
            <a:ext cx="720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元一次方程组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14" name="Picture 5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二元一次方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395280" y="1989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上面几个方程中，每个方程都含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两个未知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，并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未知数的指数都是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像这样的方程叫做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二元一次方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539640" y="162864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Tahoma"/>
                <a:ea typeface="黑体"/>
              </a:rPr>
              <a:t>下列方程中哪些是二元一次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11280" y="2421000"/>
            <a:ext cx="79214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1) x+y+z=9               (2) x=6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) 2x+6y=14             (4) xy+y=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5) 7x+6y+4=16         (6)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²+y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20" name="Picture 11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2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判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3"/>
          <p:cNvSpPr/>
          <p:nvPr/>
        </p:nvSpPr>
        <p:spPr>
          <a:xfrm>
            <a:off x="3564000" y="2276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3883680" y="32130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524720" y="2276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8028000" y="32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460040" y="429264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8101080" y="43671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95280" y="277020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含义分别相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,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须同时满足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和</a:t>
            </a:r>
            <a:r>
              <a:rPr b="1" lang="zh-CN" sz="40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2(y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Arial Black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两个二元一次方程合在一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2124000" y="4869000"/>
            <a:ext cx="5190840" cy="1456920"/>
            <a:chOff x="2124000" y="4869000"/>
            <a:chExt cx="5190840" cy="1456920"/>
          </a:xfrm>
        </p:grpSpPr>
        <p:sp>
          <p:nvSpPr>
            <p:cNvPr id="230" name="Text Box 4"/>
            <p:cNvSpPr/>
            <p:nvPr/>
          </p:nvSpPr>
          <p:spPr>
            <a:xfrm>
              <a:off x="2124000" y="4911840"/>
              <a:ext cx="130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660066"/>
                  </a:solidFill>
                  <a:latin typeface="Tahoma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"/>
            <p:cNvSpPr/>
            <p:nvPr/>
          </p:nvSpPr>
          <p:spPr>
            <a:xfrm>
              <a:off x="3081240" y="4869000"/>
              <a:ext cx="33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3078000" y="5683320"/>
              <a:ext cx="423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5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15"/>
          <p:cNvSpPr/>
          <p:nvPr/>
        </p:nvSpPr>
        <p:spPr>
          <a:xfrm>
            <a:off x="468360" y="132552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方程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＋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2(y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1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含义相同吗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35" name="Picture 19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0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8"/>
          <p:cNvSpPr/>
          <p:nvPr/>
        </p:nvSpPr>
        <p:spPr>
          <a:xfrm>
            <a:off x="539640" y="32130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像这样含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个未知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两个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次方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组成的一组方程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95280" y="501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ahoma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黑体"/>
              </a:rPr>
              <a:t>方程组各方程中同一字母必须代表同一个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0"/>
          <p:cNvGrpSpPr/>
          <p:nvPr/>
        </p:nvGrpSpPr>
        <p:grpSpPr>
          <a:xfrm>
            <a:off x="1908000" y="1628640"/>
            <a:ext cx="5190840" cy="1457280"/>
            <a:chOff x="1908000" y="1628640"/>
            <a:chExt cx="5190840" cy="1457280"/>
          </a:xfrm>
        </p:grpSpPr>
        <p:sp>
          <p:nvSpPr>
            <p:cNvPr id="240" name="Text Box 11"/>
            <p:cNvSpPr/>
            <p:nvPr/>
          </p:nvSpPr>
          <p:spPr>
            <a:xfrm>
              <a:off x="1908000" y="1671840"/>
              <a:ext cx="130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660066"/>
                  </a:solidFill>
                  <a:latin typeface="Tahoma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2865240" y="1628640"/>
              <a:ext cx="33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862000" y="2443320"/>
              <a:ext cx="423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5x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y</a:t>
              </a:r>
              <a:r>
                <a:rPr b="1" lang="zh-CN" sz="3600" spc="-1" strike="noStrike">
                  <a:solidFill>
                    <a:srgbClr val="660066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" descr="螺旋"/>
          <p:cNvPicPr/>
          <p:nvPr/>
        </p:nvPicPr>
        <p:blipFill>
          <a:blip r:embed="rId1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6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755640" y="2205000"/>
            <a:ext cx="6400800" cy="1331640"/>
            <a:chOff x="755640" y="2205000"/>
            <a:chExt cx="6400800" cy="1331640"/>
          </a:xfrm>
        </p:grpSpPr>
        <p:sp>
          <p:nvSpPr>
            <p:cNvPr id="246" name="Rectangle 3"/>
            <p:cNvSpPr/>
            <p:nvPr/>
          </p:nvSpPr>
          <p:spPr>
            <a:xfrm>
              <a:off x="1131840" y="22237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755640" y="2205000"/>
              <a:ext cx="6400800" cy="1238040"/>
              <a:chOff x="755640" y="2205000"/>
              <a:chExt cx="6400800" cy="123804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1822320" y="2205000"/>
                <a:ext cx="533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y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6"/>
              <p:cNvSpPr/>
              <p:nvPr/>
            </p:nvSpPr>
            <p:spPr>
              <a:xfrm>
                <a:off x="1822320" y="280044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y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"/>
              <p:cNvSpPr/>
              <p:nvPr/>
            </p:nvSpPr>
            <p:spPr>
              <a:xfrm>
                <a:off x="755640" y="249552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(1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9"/>
          <p:cNvGrpSpPr/>
          <p:nvPr/>
        </p:nvGrpSpPr>
        <p:grpSpPr>
          <a:xfrm>
            <a:off x="804960" y="3429000"/>
            <a:ext cx="5638320" cy="1434600"/>
            <a:chOff x="804960" y="3429000"/>
            <a:chExt cx="5638320" cy="1434600"/>
          </a:xfrm>
        </p:grpSpPr>
        <p:sp>
          <p:nvSpPr>
            <p:cNvPr id="252" name="Text Box 10"/>
            <p:cNvSpPr/>
            <p:nvPr/>
          </p:nvSpPr>
          <p:spPr>
            <a:xfrm>
              <a:off x="804960" y="38610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11"/>
            <p:cNvGrpSpPr/>
            <p:nvPr/>
          </p:nvGrpSpPr>
          <p:grpSpPr>
            <a:xfrm>
              <a:off x="804960" y="3429000"/>
              <a:ext cx="5638320" cy="1434600"/>
              <a:chOff x="804960" y="3429000"/>
              <a:chExt cx="5638320" cy="1434600"/>
            </a:xfrm>
          </p:grpSpPr>
          <p:sp>
            <p:nvSpPr>
              <p:cNvPr id="254" name="Text Box 12"/>
              <p:cNvSpPr/>
              <p:nvPr/>
            </p:nvSpPr>
            <p:spPr>
              <a:xfrm>
                <a:off x="804960" y="3429000"/>
                <a:ext cx="1828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"/>
              <p:cNvSpPr/>
              <p:nvPr/>
            </p:nvSpPr>
            <p:spPr>
              <a:xfrm>
                <a:off x="1795320" y="3505320"/>
                <a:ext cx="4647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y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4"/>
              <p:cNvSpPr/>
              <p:nvPr/>
            </p:nvSpPr>
            <p:spPr>
              <a:xfrm>
                <a:off x="1795320" y="4114800"/>
                <a:ext cx="4419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x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＋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1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＝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2(y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－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1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15"/>
          <p:cNvGrpSpPr/>
          <p:nvPr/>
        </p:nvGrpSpPr>
        <p:grpSpPr>
          <a:xfrm>
            <a:off x="717480" y="4898880"/>
            <a:ext cx="5726160" cy="1269000"/>
            <a:chOff x="717480" y="4898880"/>
            <a:chExt cx="5726160" cy="1269000"/>
          </a:xfrm>
        </p:grpSpPr>
        <p:sp>
          <p:nvSpPr>
            <p:cNvPr id="258" name="Text Box 16"/>
            <p:cNvSpPr/>
            <p:nvPr/>
          </p:nvSpPr>
          <p:spPr>
            <a:xfrm>
              <a:off x="717480" y="5116320"/>
              <a:ext cx="25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(3)</a:t>
              </a:r>
              <a:r>
                <a:rPr b="1" lang="zh-CN" sz="6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｛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2085840" y="4898880"/>
              <a:ext cx="43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＋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y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＋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z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</a:t>
              </a: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2158920" y="5403600"/>
              <a:ext cx="36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x 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－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y 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</a:t>
              </a:r>
              <a:r>
                <a:rPr b="1" lang="en-US" sz="4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24"/>
          <p:cNvSpPr/>
          <p:nvPr/>
        </p:nvSpPr>
        <p:spPr>
          <a:xfrm>
            <a:off x="1719720" y="1557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Tahoma"/>
                <a:ea typeface="黑体"/>
              </a:rPr>
              <a:t>它们是二元一次方程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5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63" name="Picture 26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27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判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8"/>
          <p:cNvSpPr/>
          <p:nvPr/>
        </p:nvSpPr>
        <p:spPr>
          <a:xfrm>
            <a:off x="4500720" y="2349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908000" y="2349360"/>
            <a:ext cx="503280" cy="503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6187320" y="3716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6012000" y="50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95640" y="5516640"/>
            <a:ext cx="2663640" cy="360"/>
            <a:chOff x="2195640" y="5516640"/>
            <a:chExt cx="2663640" cy="360"/>
          </a:xfrm>
        </p:grpSpPr>
        <p:sp>
          <p:nvSpPr>
            <p:cNvPr id="270" name="Line 33"/>
            <p:cNvSpPr/>
            <p:nvPr/>
          </p:nvSpPr>
          <p:spPr>
            <a:xfrm>
              <a:off x="2195640" y="5516640"/>
              <a:ext cx="26636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2195640" y="5516640"/>
              <a:ext cx="26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8200"/>
          <p:cNvSpPr/>
          <p:nvPr/>
        </p:nvSpPr>
        <p:spPr>
          <a:xfrm>
            <a:off x="2195640" y="722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468360" y="162864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6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2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468360" y="371628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5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3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5x + 3y = 34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2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8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呢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24000" y="5157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你能找到一组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 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值同时适合方程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5x + 3y = 34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吗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77" name="Picture 9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0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1"/>
          <p:cNvSpPr/>
          <p:nvPr/>
        </p:nvSpPr>
        <p:spPr>
          <a:xfrm>
            <a:off x="938520" y="2276640"/>
            <a:ext cx="32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x = 5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y = 3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呢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31640" y="299736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你还能找到其他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，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y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值适合方程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x + y = 8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8360" y="1628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使二元一次方程两边的值相等的两个未知数的值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的解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900000" y="357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6,y=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+y=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一个解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2411280" y="4149720"/>
            <a:ext cx="1258920" cy="129528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5" descr=""/>
          <p:cNvPicPr/>
          <p:nvPr/>
        </p:nvPicPr>
        <p:blipFill>
          <a:blip r:embed="rId2"/>
          <a:stretch/>
        </p:blipFill>
        <p:spPr>
          <a:xfrm>
            <a:off x="1835280" y="522936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4643280" y="4221000"/>
            <a:ext cx="3816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二元一次方程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无数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螺旋"/>
          <p:cNvPicPr/>
          <p:nvPr/>
        </p:nvPicPr>
        <p:blipFill>
          <a:blip r:embed="rId3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68360" y="551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样，         也是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x+y=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一个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611280" y="4076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记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95280" y="1628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二元一次方程组的两个方程的公共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元一次方程组的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427640" y="4292640"/>
            <a:ext cx="4319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二元一次方程组只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唯一的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是两个方程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公共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2"/>
          <p:cNvGrpSpPr/>
          <p:nvPr/>
        </p:nvGrpSpPr>
        <p:grpSpPr>
          <a:xfrm>
            <a:off x="468360" y="3213000"/>
            <a:ext cx="7711920" cy="2708280"/>
            <a:chOff x="468360" y="3213000"/>
            <a:chExt cx="7711920" cy="2708280"/>
          </a:xfrm>
        </p:grpSpPr>
        <p:sp>
          <p:nvSpPr>
            <p:cNvPr id="293" name="Text Box 3"/>
            <p:cNvSpPr/>
            <p:nvPr/>
          </p:nvSpPr>
          <p:spPr>
            <a:xfrm>
              <a:off x="468360" y="3573360"/>
              <a:ext cx="7711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       就是二元一次方程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解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Object 6" descr=""/>
            <p:cNvPicPr/>
            <p:nvPr/>
          </p:nvPicPr>
          <p:blipFill>
            <a:blip r:embed="rId1"/>
            <a:stretch/>
          </p:blipFill>
          <p:spPr>
            <a:xfrm>
              <a:off x="539640" y="4508640"/>
              <a:ext cx="2895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Object 8" descr=""/>
            <p:cNvPicPr/>
            <p:nvPr/>
          </p:nvPicPr>
          <p:blipFill>
            <a:blip r:embed="rId2"/>
            <a:stretch/>
          </p:blipFill>
          <p:spPr>
            <a:xfrm>
              <a:off x="2050920" y="3213000"/>
              <a:ext cx="1447920" cy="141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Picture 9" descr="螺旋"/>
          <p:cNvPicPr/>
          <p:nvPr/>
        </p:nvPicPr>
        <p:blipFill>
          <a:blip r:embed="rId3"/>
          <a:stretch/>
        </p:blipFill>
        <p:spPr>
          <a:xfrm>
            <a:off x="395280" y="907920"/>
            <a:ext cx="1800360" cy="666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1116000" y="981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元一次方程组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4427640" y="4465800"/>
            <a:ext cx="4321080" cy="1512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68360" y="141300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组数值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哪些是二元一次方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x+y=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611280" y="2565360"/>
            <a:ext cx="14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495680" y="406224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8280" y="407844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4500720" y="256536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76360" y="256536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364000" y="256536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611360" y="405288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435640" y="400536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5292720" y="220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、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10" name="Picture 19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20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1"/>
          <p:cNvSpPr/>
          <p:nvPr/>
        </p:nvSpPr>
        <p:spPr>
          <a:xfrm>
            <a:off x="4286880" y="44370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541800" y="27590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"/>
          <p:cNvSpPr/>
          <p:nvPr/>
        </p:nvSpPr>
        <p:spPr>
          <a:xfrm>
            <a:off x="541800" y="4456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4429440" y="275904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7020000" y="3357720"/>
            <a:ext cx="1655640" cy="1223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如何判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395280" y="544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值代入方程，看方程左右两边是否相等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24000" y="1197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元一次方程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3995640" y="981000"/>
            <a:ext cx="3429000" cy="1323000"/>
            <a:chOff x="3995640" y="981000"/>
            <a:chExt cx="3429000" cy="1323000"/>
          </a:xfrm>
        </p:grpSpPr>
        <p:sp>
          <p:nvSpPr>
            <p:cNvPr id="320" name="Text Box 4"/>
            <p:cNvSpPr/>
            <p:nvPr/>
          </p:nvSpPr>
          <p:spPr>
            <a:xfrm>
              <a:off x="3995640" y="981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5"/>
            <p:cNvSpPr/>
            <p:nvPr/>
          </p:nvSpPr>
          <p:spPr>
            <a:xfrm>
              <a:off x="4833720" y="981000"/>
              <a:ext cx="25909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2y=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=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6"/>
          <p:cNvSpPr/>
          <p:nvPr/>
        </p:nvSpPr>
        <p:spPr>
          <a:xfrm>
            <a:off x="1131840" y="270504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604800" y="23734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1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04800" y="39574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3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713120" y="405936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4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637160" y="244476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2)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93960" y="240048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6008760" y="2400480"/>
            <a:ext cx="213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79640" y="400536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084720" y="407664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6372360" y="127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的解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7585560" y="1268280"/>
            <a:ext cx="12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539640" y="5229360"/>
            <a:ext cx="4465800" cy="1079280"/>
          </a:xfrm>
          <a:prstGeom prst="cloudCallout">
            <a:avLst>
              <a:gd name="adj1" fmla="val -52060"/>
              <a:gd name="adj2" fmla="val 72648"/>
            </a:avLst>
          </a:prstGeom>
          <a:solidFill>
            <a:srgbClr val="ffffff"/>
          </a:solidFill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你会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lanqiubisai"/>
          <p:cNvPicPr/>
          <p:nvPr/>
        </p:nvPicPr>
        <p:blipFill>
          <a:blip r:embed="rId1"/>
          <a:srcRect l="0" t="17439" r="0" b="5503"/>
          <a:stretch/>
        </p:blipFill>
        <p:spPr>
          <a:xfrm>
            <a:off x="395280" y="822240"/>
            <a:ext cx="849780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8920" y="1197000"/>
            <a:ext cx="856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甲种物品每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，乙种物品每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设甲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乙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、列出关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二元一次方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若有乙种物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，则甲种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900000" y="40053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4x+7y=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644720" y="450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188720" y="5595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46836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各式是二元一次方程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x=3y            B.2x+y=3z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x²+x-y=0     D.3x+2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68360" y="3357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x-2y=9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=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63640" y="4840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048120" y="5562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556000" y="479736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971640" y="49417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3708360" y="4941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-ky=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7740720" y="1557360"/>
            <a:ext cx="7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76544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771680" y="49417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2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49" name="Picture 13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4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巩固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9"/>
          <p:cNvGrpSpPr/>
          <p:nvPr/>
        </p:nvGrpSpPr>
        <p:grpSpPr>
          <a:xfrm>
            <a:off x="4356000" y="2060640"/>
            <a:ext cx="3123720" cy="1475280"/>
            <a:chOff x="4356000" y="2060640"/>
            <a:chExt cx="3123720" cy="1475280"/>
          </a:xfrm>
        </p:grpSpPr>
        <p:grpSp>
          <p:nvGrpSpPr>
            <p:cNvPr id="352" name="Group 10"/>
            <p:cNvGrpSpPr/>
            <p:nvPr/>
          </p:nvGrpSpPr>
          <p:grpSpPr>
            <a:xfrm>
              <a:off x="4356000" y="2060640"/>
              <a:ext cx="1712880" cy="1434600"/>
              <a:chOff x="4356000" y="2060640"/>
              <a:chExt cx="1712880" cy="1434600"/>
            </a:xfrm>
          </p:grpSpPr>
          <p:sp>
            <p:nvSpPr>
              <p:cNvPr id="353" name="Text Box 11"/>
              <p:cNvSpPr/>
              <p:nvPr/>
            </p:nvSpPr>
            <p:spPr>
              <a:xfrm>
                <a:off x="4356000" y="206064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"/>
              <p:cNvSpPr/>
              <p:nvPr/>
            </p:nvSpPr>
            <p:spPr>
              <a:xfrm>
                <a:off x="4557240" y="251784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13"/>
            <p:cNvSpPr/>
            <p:nvPr/>
          </p:nvSpPr>
          <p:spPr>
            <a:xfrm>
              <a:off x="5565240" y="221292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    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+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97000" cy="9144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395280" y="11970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不是二元一次方程组的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39640" y="2066760"/>
            <a:ext cx="3123720" cy="1475280"/>
            <a:chOff x="539640" y="2066760"/>
            <a:chExt cx="3123720" cy="1475280"/>
          </a:xfrm>
        </p:grpSpPr>
        <p:grpSp>
          <p:nvGrpSpPr>
            <p:cNvPr id="359" name="Group 5"/>
            <p:cNvGrpSpPr/>
            <p:nvPr/>
          </p:nvGrpSpPr>
          <p:grpSpPr>
            <a:xfrm>
              <a:off x="539640" y="2066760"/>
              <a:ext cx="1712880" cy="1434600"/>
              <a:chOff x="539640" y="2066760"/>
              <a:chExt cx="1712880" cy="1434600"/>
            </a:xfrm>
          </p:grpSpPr>
          <p:sp>
            <p:nvSpPr>
              <p:cNvPr id="360" name="Text Box 6"/>
              <p:cNvSpPr/>
              <p:nvPr/>
            </p:nvSpPr>
            <p:spPr>
              <a:xfrm>
                <a:off x="539640" y="206676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7"/>
              <p:cNvSpPr/>
              <p:nvPr/>
            </p:nvSpPr>
            <p:spPr>
              <a:xfrm>
                <a:off x="740880" y="252396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8"/>
            <p:cNvSpPr/>
            <p:nvPr/>
          </p:nvSpPr>
          <p:spPr>
            <a:xfrm>
              <a:off x="1748880" y="221904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+y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-y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4"/>
          <p:cNvGrpSpPr/>
          <p:nvPr/>
        </p:nvGrpSpPr>
        <p:grpSpPr>
          <a:xfrm>
            <a:off x="539640" y="3971880"/>
            <a:ext cx="3123720" cy="1475280"/>
            <a:chOff x="539640" y="3971880"/>
            <a:chExt cx="3123720" cy="1475280"/>
          </a:xfrm>
        </p:grpSpPr>
        <p:grpSp>
          <p:nvGrpSpPr>
            <p:cNvPr id="364" name="Group 15"/>
            <p:cNvGrpSpPr/>
            <p:nvPr/>
          </p:nvGrpSpPr>
          <p:grpSpPr>
            <a:xfrm>
              <a:off x="539640" y="3971880"/>
              <a:ext cx="1712880" cy="1434600"/>
              <a:chOff x="539640" y="3971880"/>
              <a:chExt cx="1712880" cy="1434600"/>
            </a:xfrm>
          </p:grpSpPr>
          <p:sp>
            <p:nvSpPr>
              <p:cNvPr id="365" name="Text Box 16"/>
              <p:cNvSpPr/>
              <p:nvPr/>
            </p:nvSpPr>
            <p:spPr>
              <a:xfrm>
                <a:off x="539640" y="3971880"/>
                <a:ext cx="1209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Tahoma"/>
                  </a:rPr>
                  <a:t>｛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7"/>
              <p:cNvSpPr/>
              <p:nvPr/>
            </p:nvSpPr>
            <p:spPr>
              <a:xfrm>
                <a:off x="740880" y="4429080"/>
                <a:ext cx="151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18"/>
            <p:cNvSpPr/>
            <p:nvPr/>
          </p:nvSpPr>
          <p:spPr>
            <a:xfrm>
              <a:off x="1748880" y="4124160"/>
              <a:ext cx="19144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9"/>
          <p:cNvGrpSpPr/>
          <p:nvPr/>
        </p:nvGrpSpPr>
        <p:grpSpPr>
          <a:xfrm>
            <a:off x="4191120" y="3097080"/>
            <a:ext cx="1980360" cy="1989000"/>
            <a:chOff x="4191120" y="3097080"/>
            <a:chExt cx="1980360" cy="1989000"/>
          </a:xfrm>
        </p:grpSpPr>
        <p:sp>
          <p:nvSpPr>
            <p:cNvPr id="369" name="Text Box 20"/>
            <p:cNvSpPr/>
            <p:nvPr/>
          </p:nvSpPr>
          <p:spPr>
            <a:xfrm>
              <a:off x="4191120" y="3097080"/>
              <a:ext cx="13982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1"/>
            <p:cNvSpPr/>
            <p:nvPr/>
          </p:nvSpPr>
          <p:spPr>
            <a:xfrm>
              <a:off x="4423680" y="3653280"/>
              <a:ext cx="174780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22"/>
          <p:cNvSpPr/>
          <p:nvPr/>
        </p:nvSpPr>
        <p:spPr>
          <a:xfrm>
            <a:off x="5187960" y="4276800"/>
            <a:ext cx="191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3" descr=""/>
          <p:cNvPicPr/>
          <p:nvPr/>
        </p:nvPicPr>
        <p:blipFill>
          <a:blip r:embed="rId2"/>
          <a:stretch/>
        </p:blipFill>
        <p:spPr>
          <a:xfrm>
            <a:off x="-6626160" y="3665520"/>
            <a:ext cx="6108480" cy="48862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4"/>
          <p:cNvSpPr/>
          <p:nvPr/>
        </p:nvSpPr>
        <p:spPr>
          <a:xfrm>
            <a:off x="4730760" y="4581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4425840" y="406224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ahoma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5492880" y="412416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x+4y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7958880" y="126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9" descr="读书"/>
          <p:cNvPicPr/>
          <p:nvPr/>
        </p:nvPicPr>
        <p:blipFill>
          <a:blip r:embed="rId3"/>
          <a:stretch/>
        </p:blipFill>
        <p:spPr>
          <a:xfrm>
            <a:off x="6948360" y="4581360"/>
            <a:ext cx="188280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468360" y="155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n+m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,n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278160" y="2139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Object 6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609480" y="3200400"/>
            <a:ext cx="8210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解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n+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二元一次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Object 12" descr=""/>
          <p:cNvPicPr/>
          <p:nvPr/>
        </p:nvPicPr>
        <p:blipFill>
          <a:blip r:embed="rId2"/>
          <a:stretch/>
        </p:blipFill>
        <p:spPr>
          <a:xfrm>
            <a:off x="1225440" y="4267080"/>
            <a:ext cx="1071720" cy="1403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3"/>
          <p:cNvSpPr/>
          <p:nvPr/>
        </p:nvSpPr>
        <p:spPr>
          <a:xfrm>
            <a:off x="1683720" y="41148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m+1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1683720" y="51814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n+m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982680" y="458136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解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16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1071360" cy="14032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7"/>
          <p:cNvSpPr/>
          <p:nvPr/>
        </p:nvSpPr>
        <p:spPr>
          <a:xfrm>
            <a:off x="5868360" y="4038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5945400" y="51814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n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Object 19" descr=""/>
          <p:cNvPicPr/>
          <p:nvPr/>
        </p:nvPicPr>
        <p:blipFill>
          <a:blip r:embed="rId4"/>
          <a:stretch/>
        </p:blipFill>
        <p:spPr>
          <a:xfrm>
            <a:off x="6629400" y="4876920"/>
            <a:ext cx="519120" cy="118728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20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391" name="Picture 21" descr="螺旋"/>
            <p:cNvPicPr/>
            <p:nvPr/>
          </p:nvPicPr>
          <p:blipFill>
            <a:blip r:embed="rId5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22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23"/>
          <p:cNvSpPr/>
          <p:nvPr/>
        </p:nvSpPr>
        <p:spPr>
          <a:xfrm>
            <a:off x="539640" y="450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8200"/>
          <p:cNvSpPr/>
          <p:nvPr/>
        </p:nvSpPr>
        <p:spPr>
          <a:xfrm>
            <a:off x="2544840" y="836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m+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3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n-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k-1)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｜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2y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二元一次方程，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k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元一次方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x+2y=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正整数解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分别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        是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x+3my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，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0"/>
          <p:cNvGrpSpPr/>
          <p:nvPr/>
        </p:nvGrpSpPr>
        <p:grpSpPr>
          <a:xfrm>
            <a:off x="1690560" y="5200560"/>
            <a:ext cx="1081080" cy="825480"/>
            <a:chOff x="1690560" y="5200560"/>
            <a:chExt cx="1081080" cy="825480"/>
          </a:xfrm>
        </p:grpSpPr>
        <p:sp>
          <p:nvSpPr>
            <p:cNvPr id="397" name="AutoShape 4"/>
            <p:cNvSpPr/>
            <p:nvPr/>
          </p:nvSpPr>
          <p:spPr>
            <a:xfrm>
              <a:off x="1690560" y="5416560"/>
              <a:ext cx="71280" cy="43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5"/>
            <p:cNvSpPr/>
            <p:nvPr/>
          </p:nvSpPr>
          <p:spPr>
            <a:xfrm>
              <a:off x="1763640" y="5200560"/>
              <a:ext cx="100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7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400" name="Picture 8" descr="螺旋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9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7B4-5264-40FE-BDB0-9802FD1E5C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孙子算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我国古代较为普及的算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许多问题浅显有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中下卷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鸡兔同笼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流传尤为广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68360" y="3357720"/>
            <a:ext cx="373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　　题目为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今有鸡兔同笼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上有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35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头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下有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94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足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问鸡兔各几何</a:t>
            </a:r>
            <a:r>
              <a:rPr b="1" lang="en-US" sz="4000" spc="-1" strike="noStrike">
                <a:solidFill>
                  <a:srgbClr val="660066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5003640" y="3282840"/>
            <a:ext cx="3529440" cy="3025800"/>
            <a:chOff x="5003640" y="3282840"/>
            <a:chExt cx="3529440" cy="3025800"/>
          </a:xfrm>
        </p:grpSpPr>
        <p:sp>
          <p:nvSpPr>
            <p:cNvPr id="409" name="Oval 29"/>
            <p:cNvSpPr/>
            <p:nvPr/>
          </p:nvSpPr>
          <p:spPr>
            <a:xfrm>
              <a:off x="5003640" y="5443200"/>
              <a:ext cx="3529080" cy="86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26"/>
            <p:cNvGrpSpPr/>
            <p:nvPr/>
          </p:nvGrpSpPr>
          <p:grpSpPr>
            <a:xfrm>
              <a:off x="5003640" y="4147920"/>
              <a:ext cx="3165120" cy="2074680"/>
              <a:chOff x="5003640" y="4147920"/>
              <a:chExt cx="3165120" cy="2074680"/>
            </a:xfrm>
          </p:grpSpPr>
          <p:pic>
            <p:nvPicPr>
              <p:cNvPr id="411" name="Picture 23" descr="A3_031"/>
              <p:cNvPicPr/>
              <p:nvPr/>
            </p:nvPicPr>
            <p:blipFill>
              <a:blip r:embed="rId2"/>
              <a:stretch/>
            </p:blipFill>
            <p:spPr>
              <a:xfrm flipH="1">
                <a:off x="6955920" y="4546080"/>
                <a:ext cx="121284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19" descr="A1_296"/>
              <p:cNvPicPr/>
              <p:nvPr/>
            </p:nvPicPr>
            <p:blipFill>
              <a:blip r:embed="rId3"/>
              <a:stretch/>
            </p:blipFill>
            <p:spPr>
              <a:xfrm>
                <a:off x="6008400" y="4592160"/>
                <a:ext cx="125892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20" descr="A1_296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800240"/>
                <a:ext cx="130824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21" descr="A3_031"/>
              <p:cNvPicPr/>
              <p:nvPr/>
            </p:nvPicPr>
            <p:blipFill>
              <a:blip r:embed="rId5"/>
              <a:stretch/>
            </p:blipFill>
            <p:spPr>
              <a:xfrm>
                <a:off x="6738840" y="4762080"/>
                <a:ext cx="121284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Picture 22" descr="A1_296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28720" y="4147920"/>
                <a:ext cx="1258920" cy="134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6" name="Oval 30"/>
            <p:cNvSpPr/>
            <p:nvPr/>
          </p:nvSpPr>
          <p:spPr>
            <a:xfrm>
              <a:off x="5003640" y="3282840"/>
              <a:ext cx="3529080" cy="863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003640" y="3714480"/>
              <a:ext cx="360" cy="2160720"/>
              <a:chOff x="5003640" y="3714480"/>
              <a:chExt cx="360" cy="2160720"/>
            </a:xfrm>
          </p:grpSpPr>
          <p:sp>
            <p:nvSpPr>
              <p:cNvPr id="418" name="Line 32"/>
              <p:cNvSpPr/>
              <p:nvPr/>
            </p:nvSpPr>
            <p:spPr>
              <a:xfrm>
                <a:off x="5003640" y="37144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5003640" y="37144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421240" y="3989160"/>
              <a:ext cx="360" cy="2160720"/>
              <a:chOff x="5421240" y="3989160"/>
              <a:chExt cx="360" cy="2160720"/>
            </a:xfrm>
          </p:grpSpPr>
          <p:sp>
            <p:nvSpPr>
              <p:cNvPr id="421" name="Line 33"/>
              <p:cNvSpPr/>
              <p:nvPr/>
            </p:nvSpPr>
            <p:spPr>
              <a:xfrm>
                <a:off x="5421240" y="398916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5421240" y="398916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724360" y="4074840"/>
              <a:ext cx="360" cy="2160720"/>
              <a:chOff x="5724360" y="4074840"/>
              <a:chExt cx="360" cy="2160720"/>
            </a:xfrm>
          </p:grpSpPr>
          <p:sp>
            <p:nvSpPr>
              <p:cNvPr id="424" name="Line 34"/>
              <p:cNvSpPr/>
              <p:nvPr/>
            </p:nvSpPr>
            <p:spPr>
              <a:xfrm>
                <a:off x="5724360" y="40748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5724360" y="40748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084720" y="4119480"/>
              <a:ext cx="360" cy="2160360"/>
              <a:chOff x="6084720" y="4119480"/>
              <a:chExt cx="360" cy="2160360"/>
            </a:xfrm>
          </p:grpSpPr>
          <p:sp>
            <p:nvSpPr>
              <p:cNvPr id="427" name="Line 35"/>
              <p:cNvSpPr/>
              <p:nvPr/>
            </p:nvSpPr>
            <p:spPr>
              <a:xfrm>
                <a:off x="6084720" y="4119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084720" y="4119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459480" y="4147920"/>
              <a:ext cx="360" cy="2160720"/>
              <a:chOff x="6459480" y="4147920"/>
              <a:chExt cx="360" cy="2160720"/>
            </a:xfrm>
          </p:grpSpPr>
          <p:sp>
            <p:nvSpPr>
              <p:cNvPr id="430" name="Line 36"/>
              <p:cNvSpPr/>
              <p:nvPr/>
            </p:nvSpPr>
            <p:spPr>
              <a:xfrm>
                <a:off x="6459480" y="414792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459480" y="414792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148360" y="3873240"/>
              <a:ext cx="360" cy="2160720"/>
              <a:chOff x="5148360" y="3873240"/>
              <a:chExt cx="360" cy="2160720"/>
            </a:xfrm>
          </p:grpSpPr>
          <p:sp>
            <p:nvSpPr>
              <p:cNvPr id="433" name="Line 37"/>
              <p:cNvSpPr/>
              <p:nvPr/>
            </p:nvSpPr>
            <p:spPr>
              <a:xfrm>
                <a:off x="5148360" y="38732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5148360" y="38732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819840" y="4132080"/>
              <a:ext cx="360" cy="2160720"/>
              <a:chOff x="6819840" y="4132080"/>
              <a:chExt cx="360" cy="2160720"/>
            </a:xfrm>
          </p:grpSpPr>
          <p:sp>
            <p:nvSpPr>
              <p:cNvPr id="436" name="Line 38"/>
              <p:cNvSpPr/>
              <p:nvPr/>
            </p:nvSpPr>
            <p:spPr>
              <a:xfrm>
                <a:off x="6819840" y="41320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6819840" y="41320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165800" y="4146480"/>
              <a:ext cx="360" cy="2160360"/>
              <a:chOff x="7165800" y="4146480"/>
              <a:chExt cx="360" cy="2160360"/>
            </a:xfrm>
          </p:grpSpPr>
          <p:sp>
            <p:nvSpPr>
              <p:cNvPr id="439" name="Line 39"/>
              <p:cNvSpPr/>
              <p:nvPr/>
            </p:nvSpPr>
            <p:spPr>
              <a:xfrm>
                <a:off x="7165800" y="4146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7165800" y="4146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524720" y="4119480"/>
              <a:ext cx="360" cy="2160360"/>
              <a:chOff x="7524720" y="4119480"/>
              <a:chExt cx="360" cy="2160360"/>
            </a:xfrm>
          </p:grpSpPr>
          <p:sp>
            <p:nvSpPr>
              <p:cNvPr id="442" name="Line 40"/>
              <p:cNvSpPr/>
              <p:nvPr/>
            </p:nvSpPr>
            <p:spPr>
              <a:xfrm>
                <a:off x="7524720" y="4119480"/>
                <a:ext cx="0" cy="216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524720" y="4119480"/>
                <a:ext cx="360" cy="21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7885080" y="4060440"/>
              <a:ext cx="360" cy="2160720"/>
              <a:chOff x="7885080" y="4060440"/>
              <a:chExt cx="360" cy="2160720"/>
            </a:xfrm>
          </p:grpSpPr>
          <p:sp>
            <p:nvSpPr>
              <p:cNvPr id="445" name="Line 41"/>
              <p:cNvSpPr/>
              <p:nvPr/>
            </p:nvSpPr>
            <p:spPr>
              <a:xfrm>
                <a:off x="7885080" y="406044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7885080" y="40604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8244000" y="3931920"/>
              <a:ext cx="360" cy="2160720"/>
              <a:chOff x="8244000" y="3931920"/>
              <a:chExt cx="360" cy="2160720"/>
            </a:xfrm>
          </p:grpSpPr>
          <p:sp>
            <p:nvSpPr>
              <p:cNvPr id="448" name="Line 42"/>
              <p:cNvSpPr/>
              <p:nvPr/>
            </p:nvSpPr>
            <p:spPr>
              <a:xfrm>
                <a:off x="8244000" y="393192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8244000" y="393192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8532720" y="3714480"/>
              <a:ext cx="360" cy="2160720"/>
              <a:chOff x="8532720" y="3714480"/>
              <a:chExt cx="360" cy="2160720"/>
            </a:xfrm>
          </p:grpSpPr>
          <p:sp>
            <p:nvSpPr>
              <p:cNvPr id="451" name="Line 43"/>
              <p:cNvSpPr/>
              <p:nvPr/>
            </p:nvSpPr>
            <p:spPr>
              <a:xfrm>
                <a:off x="8532720" y="3714480"/>
                <a:ext cx="0" cy="216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8532720" y="371448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45"/>
          <p:cNvGrpSpPr/>
          <p:nvPr/>
        </p:nvGrpSpPr>
        <p:grpSpPr>
          <a:xfrm>
            <a:off x="395280" y="836640"/>
            <a:ext cx="4608360" cy="715320"/>
            <a:chOff x="395280" y="836640"/>
            <a:chExt cx="4608360" cy="715320"/>
          </a:xfrm>
        </p:grpSpPr>
        <p:pic>
          <p:nvPicPr>
            <p:cNvPr id="454" name="Picture 46" descr="螺旋"/>
            <p:cNvPicPr/>
            <p:nvPr/>
          </p:nvPicPr>
          <p:blipFill>
            <a:blip r:embed="rId8"/>
            <a:stretch/>
          </p:blipFill>
          <p:spPr>
            <a:xfrm>
              <a:off x="395280" y="836640"/>
              <a:ext cx="180036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47"/>
            <p:cNvSpPr/>
            <p:nvPr/>
          </p:nvSpPr>
          <p:spPr>
            <a:xfrm>
              <a:off x="1116000" y="90936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拓展探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798480" y="148284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篮球联赛中，每场比赛都要分出胜负，每队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场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负一场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。某队为了争取较好的名次，想在全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场比赛中得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，那么这个队胜负场数应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问号大头"/>
          <p:cNvPicPr/>
          <p:nvPr/>
        </p:nvPicPr>
        <p:blipFill>
          <a:blip r:embed="rId1"/>
          <a:stretch/>
        </p:blipFill>
        <p:spPr>
          <a:xfrm>
            <a:off x="468360" y="836640"/>
            <a:ext cx="1284120" cy="1282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900000" y="5157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你会用已经学过的一元一次方程解决这个问题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171" name="Picture 5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7"/>
          <p:cNvSpPr/>
          <p:nvPr/>
        </p:nvSpPr>
        <p:spPr>
          <a:xfrm>
            <a:off x="39528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面的问题中包含了哪些必须同时满足的条件？设胜的场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负的场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你能用方程把这些条件表示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8360" y="3141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问题知道，题中包含两个必须同时满足的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24000" y="4437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24000" y="5373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6084720" y="4149720"/>
            <a:ext cx="2735280" cy="1800360"/>
          </a:xfrm>
          <a:prstGeom prst="wedgeEllipseCallout">
            <a:avLst>
              <a:gd name="adj1" fmla="val 48027"/>
              <a:gd name="adj2" fmla="val 70106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386400" y="423540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这两个条件用方程如何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2195640" y="1557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x+y=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339640" y="3014640"/>
            <a:ext cx="20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x+y=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332000" y="981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的场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403280" y="23734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胜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+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负场积分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=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总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484360" y="3933720"/>
            <a:ext cx="4608720" cy="2016360"/>
          </a:xfrm>
          <a:prstGeom prst="cloudCallout">
            <a:avLst>
              <a:gd name="adj1" fmla="val 66638"/>
              <a:gd name="adj2" fmla="val 52754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060720" y="40784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这两个方程有什么特点？与一元一次方程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1" descr="106eb"/>
          <p:cNvPicPr/>
          <p:nvPr/>
        </p:nvPicPr>
        <p:blipFill>
          <a:blip r:embed="rId1"/>
          <a:stretch/>
        </p:blipFill>
        <p:spPr>
          <a:xfrm>
            <a:off x="395280" y="765000"/>
            <a:ext cx="8497800" cy="571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P234"/>
          <p:cNvPicPr/>
          <p:nvPr/>
        </p:nvPicPr>
        <p:blipFill>
          <a:blip r:embed="rId2"/>
          <a:stretch/>
        </p:blipFill>
        <p:spPr>
          <a:xfrm>
            <a:off x="1855800" y="4667400"/>
            <a:ext cx="1962000" cy="124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J86"/>
          <p:cNvPicPr/>
          <p:nvPr/>
        </p:nvPicPr>
        <p:blipFill>
          <a:blip r:embed="rId3"/>
          <a:stretch/>
        </p:blipFill>
        <p:spPr>
          <a:xfrm flipH="1">
            <a:off x="5894280" y="4589640"/>
            <a:ext cx="1835280" cy="1252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>
            <a:off x="2195640" y="4581360"/>
            <a:ext cx="936360" cy="287640"/>
          </a:xfrm>
          <a:prstGeom prst="cloudCallout">
            <a:avLst>
              <a:gd name="adj1" fmla="val 3050"/>
              <a:gd name="adj2" fmla="val 6907"/>
            </a:avLst>
          </a:pr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6443640" y="4797360"/>
            <a:ext cx="719280" cy="214200"/>
          </a:xfrm>
          <a:prstGeom prst="cloudCallout">
            <a:avLst>
              <a:gd name="adj1" fmla="val 16666"/>
              <a:gd name="adj2" fmla="val -26296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4000" y="765000"/>
            <a:ext cx="2971800" cy="1368720"/>
          </a:xfrm>
          <a:prstGeom prst="cloudCallout">
            <a:avLst>
              <a:gd name="adj1" fmla="val 25425"/>
              <a:gd name="adj2" fmla="val 122736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累死我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148360" y="1268280"/>
            <a:ext cx="3638520" cy="2016360"/>
          </a:xfrm>
          <a:prstGeom prst="cloudCallout">
            <a:avLst>
              <a:gd name="adj1" fmla="val 10777"/>
              <a:gd name="adj2" fmla="val 118189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你还累？这么大的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比我多驮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1773360"/>
            <a:ext cx="5102280" cy="2286000"/>
          </a:xfrm>
          <a:prstGeom prst="cloudCallout">
            <a:avLst>
              <a:gd name="adj1" fmla="val 3611"/>
              <a:gd name="adj2" fmla="val 77847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哼，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我从你背上拿来</a:t>
            </a:r>
            <a:r>
              <a:rPr b="1" lang="en-US" sz="3200" spc="-1" strike="noStrike">
                <a:solidFill>
                  <a:srgbClr val="f95909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个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的包裹数就是你的</a:t>
            </a:r>
            <a:r>
              <a:rPr b="1" lang="en-US" sz="3200" spc="-1" strike="noStrike">
                <a:solidFill>
                  <a:srgbClr val="f95909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95909"/>
                </a:solidFill>
                <a:latin typeface="Arial"/>
                <a:ea typeface="华文新魏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6172200" y="3124080"/>
            <a:ext cx="2287440" cy="809640"/>
          </a:xfrm>
          <a:prstGeom prst="cloudCallout">
            <a:avLst>
              <a:gd name="adj1" fmla="val -40421"/>
              <a:gd name="adj2" fmla="val 148824"/>
            </a:avLst>
          </a:prstGeom>
          <a:solidFill>
            <a:srgbClr val="ffffff"/>
          </a:solidFill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的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dur="indefinite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dur="indefinite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95280" y="2376360"/>
            <a:ext cx="844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的包裹数比小马的多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此你能得到怎样的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68360" y="508464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x – y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197" name="Picture 11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2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1406160" y="1700280"/>
            <a:ext cx="63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设老牛驮了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x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个包裹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,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小马驮了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y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个包裹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116000" y="414972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老牛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小马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=2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11280" y="4797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68360" y="1052640"/>
            <a:ext cx="8443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若从小马背上拿来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包裹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时它们各有几个包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这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老牛驮的包裹数是小马的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倍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此你又能得到怎样的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198160" y="5037120"/>
            <a:ext cx="40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x + 1 = 2(y – 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41734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老牛的包裹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+1=(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小马驮的包裹数</a:t>
            </a: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-1)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8200"/>
          <p:cNvSpPr/>
          <p:nvPr/>
        </p:nvSpPr>
        <p:spPr>
          <a:xfrm>
            <a:off x="2473200" y="442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9640" y="33577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上面所列方程有什么共同点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4365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每个方程都含有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个未知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55640" y="5229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未知数的指数都是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74560" y="1557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x+y=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(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x+y=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3"/>
          <p:cNvGrpSpPr/>
          <p:nvPr/>
        </p:nvGrpSpPr>
        <p:grpSpPr>
          <a:xfrm>
            <a:off x="395280" y="907920"/>
            <a:ext cx="4608360" cy="715680"/>
            <a:chOff x="395280" y="907920"/>
            <a:chExt cx="4608360" cy="715680"/>
          </a:xfrm>
        </p:grpSpPr>
        <p:pic>
          <p:nvPicPr>
            <p:cNvPr id="211" name="Picture 14" descr="螺旋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1800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1116000" y="981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观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4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