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A42-C6CC-49B3-8C0F-2C9F2B0C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163-EFC1-479F-A949-234142BB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767-6C51-4023-A3A0-7836A898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E92-C2E7-4DFC-9EAA-EF4DA6A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CF1-34D4-475A-9DF6-8F8EDADC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EDB-DA87-4DC8-9B0F-255472D3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E0B-5621-40BD-A191-5AF081E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D53-3AA5-4D69-A195-04AB590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E60-ABE7-4E69-9FFB-394C8DA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8BD-E0B7-4BB2-8A06-A21889DB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80D-9C45-4637-9B96-8FE53037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EDD-1700-4A92-ADF4-CE3E1434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F8F8-745B-4FEF-9DAF-FEE4A931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E82E-5951-4B6A-BA50-5134965F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FE68-A14B-451F-A276-4C98D0F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378B-81C2-47F4-9327-4CE41F68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A917-B2BE-45A2-AA13-E9C401CA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0450-A694-4AEE-8D1C-42F1075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B838-46A4-475B-B375-2755F2A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8C5-912D-4B1B-8AA0-8410FE6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5A7-5360-454D-BABB-1C0EC3B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B03-18DF-44F1-9011-E0CA03B9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9AD3-FF47-4E99-9634-C60872E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330A-FBFC-46F2-8790-4D667394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4D0-DFA9-4DB9-8604-19E6C80B66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8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9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0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1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2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3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4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8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grpSp>
          <p:nvGrpSpPr>
            <p:cNvPr id="92" name="Group 17"/>
            <p:cNvGrpSpPr/>
            <p:nvPr/>
          </p:nvGrpSpPr>
          <p:grpSpPr>
            <a:xfrm>
              <a:off x="4136040" y="1034640"/>
              <a:ext cx="1017000" cy="1263240"/>
              <a:chOff x="4136040" y="1034640"/>
              <a:chExt cx="1017000" cy="1263240"/>
            </a:xfrm>
          </p:grpSpPr>
          <p:sp>
            <p:nvSpPr>
              <p:cNvPr id="93" name="Freeform 18"/>
              <p:cNvSpPr/>
              <p:nvPr/>
            </p:nvSpPr>
            <p:spPr>
              <a:xfrm rot="3220200">
                <a:off x="4551840" y="107244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4" name="Freeform 19"/>
              <p:cNvSpPr/>
              <p:nvPr/>
            </p:nvSpPr>
            <p:spPr>
              <a:xfrm rot="3220200">
                <a:off x="4636440" y="160560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3220200">
                <a:off x="4096440" y="19641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96" name="Group 21"/>
            <p:cNvGrpSpPr/>
            <p:nvPr/>
          </p:nvGrpSpPr>
          <p:grpSpPr>
            <a:xfrm>
              <a:off x="5640480" y="293040"/>
              <a:ext cx="888840" cy="833760"/>
              <a:chOff x="5640480" y="293040"/>
              <a:chExt cx="888840" cy="833760"/>
            </a:xfrm>
          </p:grpSpPr>
          <p:sp>
            <p:nvSpPr>
              <p:cNvPr id="97" name="Freeform 22"/>
              <p:cNvSpPr/>
              <p:nvPr/>
            </p:nvSpPr>
            <p:spPr>
              <a:xfrm rot="14908200">
                <a:off x="5751720" y="7966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 rot="14908200">
                <a:off x="5700600" y="4762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14908200">
                <a:off x="6239520" y="39348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1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4" name="Group 29"/>
            <p:cNvGrpSpPr/>
            <p:nvPr/>
          </p:nvGrpSpPr>
          <p:grpSpPr>
            <a:xfrm>
              <a:off x="354600" y="428400"/>
              <a:ext cx="1693080" cy="1148040"/>
              <a:chOff x="354600" y="428400"/>
              <a:chExt cx="1693080" cy="1148040"/>
            </a:xfrm>
          </p:grpSpPr>
          <p:sp>
            <p:nvSpPr>
              <p:cNvPr id="105" name="Freeform 30"/>
              <p:cNvSpPr/>
              <p:nvPr/>
            </p:nvSpPr>
            <p:spPr>
              <a:xfrm flipH="1" rot="4107000">
                <a:off x="1557000" y="10479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flipH="1" rot="4107000">
                <a:off x="1002960" y="57204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flipH="1" rot="4107000">
                <a:off x="257040" y="108648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0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11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5c01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50B-B9C3-4D2E-9E3C-D9B3C20C9EB2}" type="slidenum">
              <a:rPr b="0" lang="en-US" sz="14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5" descr="放大镜（2）"/>
          <p:cNvPicPr/>
          <p:nvPr/>
        </p:nvPicPr>
        <p:blipFill>
          <a:blip r:embed="rId1"/>
          <a:stretch/>
        </p:blipFill>
        <p:spPr>
          <a:xfrm>
            <a:off x="2573280" y="2889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59" name="矩形 3" descr=""/>
          <p:cNvPicPr/>
          <p:nvPr/>
        </p:nvPicPr>
        <p:blipFill>
          <a:blip r:embed="rId2"/>
          <a:stretch/>
        </p:blipFill>
        <p:spPr>
          <a:xfrm>
            <a:off x="1816200" y="1052640"/>
            <a:ext cx="5709960" cy="9604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05c01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905c01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8"/>
          <p:cNvGrpSpPr/>
          <p:nvPr/>
        </p:nvGrpSpPr>
        <p:grpSpPr>
          <a:xfrm>
            <a:off x="1368360" y="2600280"/>
            <a:ext cx="5399280" cy="1981080"/>
            <a:chOff x="1368360" y="2600280"/>
            <a:chExt cx="5399280" cy="1981080"/>
          </a:xfrm>
        </p:grpSpPr>
        <p:sp>
          <p:nvSpPr>
            <p:cNvPr id="193" name="AutoShape 5"/>
            <p:cNvSpPr/>
            <p:nvPr/>
          </p:nvSpPr>
          <p:spPr>
            <a:xfrm>
              <a:off x="1368360" y="2600280"/>
              <a:ext cx="5399280" cy="198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905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1655640" y="2744640"/>
              <a:ext cx="482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05c01"/>
                  </a:solidFill>
                  <a:latin typeface="Verdana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905c01"/>
                  </a:solidFill>
                  <a:latin typeface="Verdana"/>
                  <a:ea typeface="楷体_GB2312"/>
                </a:rPr>
                <a:t>放大镜镜片的特点是透明和中间较厚（凸起）。放大镜广泛应用在人们生活生产的许多方面。</a:t>
              </a:r>
              <a:endParaRPr b="1" lang="en-US" sz="26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pic>
        <p:nvPicPr>
          <p:cNvPr id="195" name="Picture 6" descr="学生 男3"/>
          <p:cNvPicPr/>
          <p:nvPr/>
        </p:nvPicPr>
        <p:blipFill>
          <a:blip r:embed="rId2"/>
          <a:stretch/>
        </p:blipFill>
        <p:spPr>
          <a:xfrm>
            <a:off x="6804000" y="368136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719280" y="234936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一般我们把中间厚、边缘薄的镜片叫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凸透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19280" y="4508640"/>
            <a:ext cx="76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把中间薄、边缘厚的镜片叫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凹透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19280" y="3284640"/>
            <a:ext cx="65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因为凸透镜有放大的功能，所以在生活中人们常常把它叫做放大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201" name="Picture 6" descr="学生 女3"/>
          <p:cNvPicPr/>
          <p:nvPr/>
        </p:nvPicPr>
        <p:blipFill>
          <a:blip r:embed="rId2"/>
          <a:stretch/>
        </p:blipFill>
        <p:spPr>
          <a:xfrm>
            <a:off x="6624720" y="3968640"/>
            <a:ext cx="15732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2590-1CF7-4ED2-AC93-FCA2C0DA785F}" type="slidenum">
              <a:rPr b="0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719280" y="1521000"/>
            <a:ext cx="51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凹透镜和凸透镜有何应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19280" y="2276640"/>
            <a:ext cx="80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由透明材料（如玻璃、水晶、透明塑料等）磨制成的两个折射面都是球面，或一面是球面另一面是平面的透明体，叫做透镜。透镜可分为凸透镜和凹透镜两大类。凸透镜的中央部分比边缘厚，有会聚光线的作用，又叫会聚透镜；凹透镜的中央部分比边缘薄，有发散光线的作用，又叫发散透镜。光线通过透镜会聚的点叫焦点，焦点与透镜中心间的距离叫焦距，焦距越小，会聚（凸透镜）或发散（凹透镜）光线的本领越大，因此可用焦距的倒数表示透镜的折光本领，眼镜的度数就是通过焦距的倒数乘以</a:t>
            </a:r>
            <a:r>
              <a:rPr b="1" lang="en-US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来计算的。 凹透镜可以做近视镜，也可以用来制作显微镜、望远镜。凸透镜可以做放大镜、老花镜、人工晶体、取火用（阳光下聚焦）、显微镜、望远镜等。我国早在西汉时期就有人用冰作为透镜来生火了。 </a:t>
            </a:r>
            <a:endParaRPr b="1" lang="en-US" sz="2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492360" y="5516640"/>
            <a:ext cx="223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3" name="Picture 8" descr="放大镜（3）"/>
          <p:cNvPicPr/>
          <p:nvPr/>
        </p:nvPicPr>
        <p:blipFill>
          <a:blip r:embed="rId2"/>
          <a:stretch/>
        </p:blipFill>
        <p:spPr>
          <a:xfrm>
            <a:off x="2340000" y="1521000"/>
            <a:ext cx="4532400" cy="39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0"/>
          <p:cNvSpPr/>
          <p:nvPr/>
        </p:nvSpPr>
        <p:spPr>
          <a:xfrm>
            <a:off x="1008000" y="548172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放大镜倍数不同的放大镜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6" name="Picture 64" descr="1101D"/>
          <p:cNvPicPr/>
          <p:nvPr/>
        </p:nvPicPr>
        <p:blipFill>
          <a:blip r:embed="rId2"/>
          <a:stretch/>
        </p:blipFill>
        <p:spPr>
          <a:xfrm>
            <a:off x="2087640" y="1881360"/>
            <a:ext cx="471636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6"/>
          <p:cNvSpPr/>
          <p:nvPr/>
        </p:nvSpPr>
        <p:spPr>
          <a:xfrm>
            <a:off x="2340000" y="5553000"/>
            <a:ext cx="47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能放大物体的仪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9" name="Picture 40" descr="1104D"/>
          <p:cNvPicPr/>
          <p:nvPr/>
        </p:nvPicPr>
        <p:blipFill>
          <a:blip r:embed="rId2"/>
          <a:stretch/>
        </p:blipFill>
        <p:spPr>
          <a:xfrm>
            <a:off x="1943280" y="1665360"/>
            <a:ext cx="52210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5"/>
          <p:cNvSpPr/>
          <p:nvPr/>
        </p:nvSpPr>
        <p:spPr>
          <a:xfrm>
            <a:off x="719280" y="1521000"/>
            <a:ext cx="480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为什么要用放大镜观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2" name="Text Box 117"/>
          <p:cNvSpPr/>
          <p:nvPr/>
        </p:nvSpPr>
        <p:spPr>
          <a:xfrm>
            <a:off x="719280" y="216864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有哪些工作需要经常用到放大镜？放大镜的作用是什么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3" name="Picture 118" descr="图片1"/>
          <p:cNvPicPr/>
          <p:nvPr/>
        </p:nvPicPr>
        <p:blipFill>
          <a:blip r:embed="rId2"/>
          <a:stretch/>
        </p:blipFill>
        <p:spPr>
          <a:xfrm>
            <a:off x="1763640" y="3249720"/>
            <a:ext cx="5977080" cy="29606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8200"/>
          <p:cNvSpPr/>
          <p:nvPr/>
        </p:nvSpPr>
        <p:spPr>
          <a:xfrm>
            <a:off x="2668680" y="1112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905c0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905c01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719280" y="1484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7" name="Picture 16" descr="图片2"/>
          <p:cNvPicPr/>
          <p:nvPr/>
        </p:nvPicPr>
        <p:blipFill>
          <a:blip r:embed="rId2"/>
          <a:stretch/>
        </p:blipFill>
        <p:spPr>
          <a:xfrm>
            <a:off x="1547640" y="1989000"/>
            <a:ext cx="5688360" cy="37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0" name="Picture 4" descr="1103D"/>
          <p:cNvPicPr/>
          <p:nvPr/>
        </p:nvPicPr>
        <p:blipFill>
          <a:blip r:embed="rId2"/>
          <a:stretch/>
        </p:blipFill>
        <p:spPr>
          <a:xfrm>
            <a:off x="2303640" y="3141720"/>
            <a:ext cx="406692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719280" y="2133720"/>
            <a:ext cx="761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眼睛看科学书上的一副图片，再用放大镜观察这幅图片，两次观察获得的信息有什么不同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719280" y="2241720"/>
            <a:ext cx="73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放大镜观察印刷物上的照片和电视机、计算机的屏幕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719280" y="3284640"/>
            <a:ext cx="594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放大镜观察印刷物上的照片和电视机、计算机的屏幕，观察的结果是不仅图像放大了，而且还会发现肉眼不能发现的秘密，那就是图像是由色彩点组成的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5" name="Picture 6" descr="学生 男3"/>
          <p:cNvPicPr/>
          <p:nvPr/>
        </p:nvPicPr>
        <p:blipFill>
          <a:blip r:embed="rId2"/>
          <a:stretch/>
        </p:blipFill>
        <p:spPr>
          <a:xfrm>
            <a:off x="6732720" y="360828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19280" y="2276640"/>
            <a:ext cx="7581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为什么能放大物体的图像呢？我们注意到了它的特点了吗？什么样的放大镜放大倍数比较大呢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2411280" y="3176640"/>
            <a:ext cx="381636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2:39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0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