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0.gif" ContentType="image/gif"/>
  <Override PartName="/ppt/media/image11.jpeg" ContentType="image/jpe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6DE7-7821-42B1-97F2-BACD48AA69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8387-152D-41C5-B1FA-D5D75F83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4410-366D-4D28-A16D-B67C574F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ECE1-BA1F-43DC-8812-2CCF2551F9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F543E-6840-44C7-8952-35370DBE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819C1-E636-4C9F-A302-F0213A64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F9673-878B-404E-9AB8-51769149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AE579-4CBB-49D0-96B5-570CF1D2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7D670-E6EA-4F73-BCD2-50AD6579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824DD-9E54-49D7-BB66-A2178227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2119A-A4BA-4D90-A763-4BA8488E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9B84-9139-4462-917E-96F5B907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8EF9D-A165-47F6-8F89-CF625204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9D78C-C3D1-4E58-BC05-2A4B2C81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DDEA7-D364-4553-A194-8A24A695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4014C-B27D-4089-B1D3-DDA9E254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6D2E0-51C6-4C1C-A7A7-5E4D53AA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7BDD-F6F6-45E0-89EA-253404F0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EA82-C773-485F-BE27-266D984F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4F10-B098-4B96-8E59-78E9B351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405E-5396-4901-A19E-3745767B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8A22-DE3D-43D4-930D-3FE7A547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DF88-3DDC-4D02-B2BA-F75B3EB0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8A60-68E8-4165-BBD8-DE2DE511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3FC7-BDDD-47C6-8178-A05F1F45DDCD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95280" y="2602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9640" y="6597720"/>
            <a:ext cx="8229600" cy="360"/>
            <a:chOff x="539640" y="6597720"/>
            <a:chExt cx="8229600" cy="360"/>
          </a:xfrm>
        </p:grpSpPr>
        <p:sp>
          <p:nvSpPr>
            <p:cNvPr id="6" name="Line 7"/>
            <p:cNvSpPr/>
            <p:nvPr/>
          </p:nvSpPr>
          <p:spPr>
            <a:xfrm>
              <a:off x="539640" y="659772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539640" y="65977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Picture 8" descr="bj2"/>
          <p:cNvPicPr/>
          <p:nvPr/>
        </p:nvPicPr>
        <p:blipFill>
          <a:blip r:embed="rId2"/>
          <a:stretch/>
        </p:blipFill>
        <p:spPr>
          <a:xfrm>
            <a:off x="0" y="3124080"/>
            <a:ext cx="1089000" cy="37339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" descr="bj2"/>
          <p:cNvPicPr/>
          <p:nvPr/>
        </p:nvPicPr>
        <p:blipFill>
          <a:blip r:embed="rId3"/>
          <a:stretch/>
        </p:blipFill>
        <p:spPr>
          <a:xfrm>
            <a:off x="8055000" y="0"/>
            <a:ext cx="1089000" cy="373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FA8B-0334-4B5C-87EB-C0F9BE2796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640" y="192888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宋体"/>
                <a:ea typeface="宋体"/>
              </a:rPr>
              <a:t>凡尔赛</a:t>
            </a:r>
            <a:r>
              <a:rPr b="1" lang="en-US" sz="4000" spc="-1" strike="noStrike">
                <a:solidFill>
                  <a:srgbClr val="006633"/>
                </a:solidFill>
                <a:latin typeface="宋体"/>
                <a:ea typeface="宋体"/>
              </a:rPr>
              <a:t>-</a:t>
            </a:r>
            <a:r>
              <a:rPr b="1" lang="zh-CN" sz="4000" spc="-1" strike="noStrike">
                <a:solidFill>
                  <a:srgbClr val="006633"/>
                </a:solidFill>
                <a:latin typeface="宋体"/>
                <a:ea typeface="宋体"/>
              </a:rPr>
              <a:t>华盛顿体系</a:t>
            </a:r>
            <a:r>
              <a:rPr b="1" lang="en-US" sz="4000" spc="-1" strike="noStrike">
                <a:solidFill>
                  <a:srgbClr val="006633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6633"/>
                </a:solidFill>
                <a:latin typeface="宋体"/>
                <a:ea typeface="宋体"/>
              </a:rPr>
              <a:t>课件模板</a:t>
            </a:r>
            <a:endParaRPr b="1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611280" y="549360"/>
            <a:ext cx="2520720" cy="137952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" descr=""/>
          <p:cNvPicPr/>
          <p:nvPr/>
        </p:nvPicPr>
        <p:blipFill>
          <a:blip r:embed="rId1"/>
          <a:stretch/>
        </p:blipFill>
        <p:spPr>
          <a:xfrm>
            <a:off x="1130400" y="3244680"/>
            <a:ext cx="6985080" cy="24894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91210316"/>
          <p:cNvPicPr/>
          <p:nvPr/>
        </p:nvPicPr>
        <p:blipFill>
          <a:blip r:embed="rId1"/>
          <a:stretch/>
        </p:blipFill>
        <p:spPr>
          <a:xfrm>
            <a:off x="539640" y="333360"/>
            <a:ext cx="6480360" cy="4349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539640" y="45752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福煦车厢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楷体_GB2312"/>
              </a:rPr>
              <a:t>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它曾作为一战中协约国法国元帅福煦的活动指部，也是一战末期法德签订停战协定，德国正式投降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战中，希特勒又用它作为德法签订停战协定，法国投降的地方。后来，希特勒战败自杀前，下令烧了这两列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7504560" y="268200"/>
            <a:ext cx="146016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福煦车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里发生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位事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明了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313040" y="-389880"/>
            <a:ext cx="606960" cy="58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战胜国与战败国之间的矛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44000" y="260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录像回答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468360" y="765000"/>
            <a:ext cx="36720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巴黎和会上对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是如何处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中国有什么影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什么是凡尔赛体系？凡尔赛体系确立哪里的统治秩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68360" y="2276640"/>
            <a:ext cx="84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德国在中国山东的全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权益由日本继承。引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五四爱国运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68360" y="5157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凡尔赛和约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和协约国同奥地利、土耳其、保加利亚、匈牙利签订一系列条约，构成凡尔赛体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140440" y="4567320"/>
            <a:ext cx="29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的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919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顾维钧巴黎和会舌战日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8244000" y="6093000"/>
            <a:ext cx="720720" cy="54900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8352" h="21600">
                <a:moveTo>
                  <a:pt x="0" y="0"/>
                </a:moveTo>
                <a:lnTo>
                  <a:pt x="28352" y="0"/>
                </a:lnTo>
                <a:lnTo>
                  <a:pt x="28352" y="21600"/>
                </a:lnTo>
                <a:lnTo>
                  <a:pt x="0" y="21600"/>
                </a:lnTo>
                <a:close/>
              </a:path>
              <a:path fill="lightenLess" w="28352" h="21600">
                <a:moveTo>
                  <a:pt x="0" y="0"/>
                </a:moveTo>
                <a:lnTo>
                  <a:pt x="28352" y="0"/>
                </a:lnTo>
                <a:lnTo>
                  <a:pt x="26952" y="1400"/>
                </a:lnTo>
                <a:lnTo>
                  <a:pt x="1400" y="1400"/>
                </a:lnTo>
                <a:close/>
              </a:path>
              <a:path fill="darken" w="28352" h="21600">
                <a:moveTo>
                  <a:pt x="28352" y="0"/>
                </a:moveTo>
                <a:lnTo>
                  <a:pt x="28352" y="21600"/>
                </a:lnTo>
                <a:lnTo>
                  <a:pt x="26952" y="20200"/>
                </a:lnTo>
                <a:lnTo>
                  <a:pt x="26952" y="1400"/>
                </a:lnTo>
                <a:close/>
              </a:path>
              <a:path fill="darkenLess" w="28352" h="21600">
                <a:moveTo>
                  <a:pt x="2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52" y="20200"/>
                </a:lnTo>
                <a:close/>
              </a:path>
              <a:path fill="lighten" w="2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52" h="21600">
                <a:moveTo>
                  <a:pt x="7169" y="10800"/>
                </a:moveTo>
                <a:lnTo>
                  <a:pt x="21182" y="3794"/>
                </a:lnTo>
                <a:lnTo>
                  <a:pt x="21182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" descr=""/>
          <p:cNvPicPr/>
          <p:nvPr/>
        </p:nvPicPr>
        <p:blipFill>
          <a:blip r:embed="rId1"/>
          <a:stretch/>
        </p:blipFill>
        <p:spPr>
          <a:xfrm>
            <a:off x="4284720" y="779400"/>
            <a:ext cx="440064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84000" y="333360"/>
            <a:ext cx="665964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3300"/>
                </a:solidFill>
                <a:latin typeface="Garamond"/>
                <a:ea typeface="黑体"/>
              </a:rPr>
              <a:t>各方对</a:t>
            </a:r>
            <a:r>
              <a:rPr b="1" lang="en-US" sz="3400" spc="-1" strike="noStrike">
                <a:solidFill>
                  <a:srgbClr val="cc3300"/>
                </a:solidFill>
                <a:latin typeface="Garamond"/>
                <a:ea typeface="黑体"/>
              </a:rPr>
              <a:t>《</a:t>
            </a:r>
            <a:r>
              <a:rPr b="1" lang="zh-CN" sz="3400" spc="-1" strike="noStrike">
                <a:solidFill>
                  <a:srgbClr val="cc3300"/>
                </a:solidFill>
                <a:latin typeface="Garamond"/>
                <a:ea typeface="黑体"/>
              </a:rPr>
              <a:t>凡尔赛和约</a:t>
            </a:r>
            <a:r>
              <a:rPr b="1" lang="en-US" sz="3400" spc="-1" strike="noStrike">
                <a:solidFill>
                  <a:srgbClr val="cc3300"/>
                </a:solidFill>
                <a:latin typeface="Garamond"/>
                <a:ea typeface="黑体"/>
              </a:rPr>
              <a:t>》</a:t>
            </a:r>
            <a:r>
              <a:rPr b="1" lang="zh-CN" sz="3400" spc="-1" strike="noStrike">
                <a:solidFill>
                  <a:srgbClr val="cc3300"/>
                </a:solidFill>
                <a:latin typeface="Garamond"/>
                <a:ea typeface="黑体"/>
              </a:rPr>
              <a:t>的看法：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4920" y="1125000"/>
            <a:ext cx="82962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德国魏玛共和国首任总理</a:t>
            </a:r>
            <a:r>
              <a:rPr b="1" lang="zh-CN" sz="2600" spc="-1" strike="noStrike">
                <a:solidFill>
                  <a:srgbClr val="996600"/>
                </a:solidFill>
                <a:latin typeface="宋体"/>
              </a:rPr>
              <a:t>谢德曼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要是签署这样的条约，他的手就会烂掉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协约国联军总司令</a:t>
            </a:r>
            <a:r>
              <a:rPr b="1" lang="zh-CN" sz="2600" spc="-1" strike="noStrike">
                <a:solidFill>
                  <a:srgbClr val="996600"/>
                </a:solidFill>
                <a:latin typeface="宋体"/>
              </a:rPr>
              <a:t>福煦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不是和平，这不过是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休战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6600"/>
                </a:solidFill>
                <a:latin typeface="Arial"/>
              </a:rPr>
              <a:t>列宁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说：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“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凡尔赛和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来维系的整个国际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、国际秩序是建立在火山口上的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0" y="-243000"/>
            <a:ext cx="2521080" cy="152424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观点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 rot="1529400">
            <a:off x="0" y="4149720"/>
            <a:ext cx="2316240" cy="108108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请认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112920" y="3789000"/>
            <a:ext cx="451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谢德曼为什么说“谁要签署这样的条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谁的手就会烂掉”？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171600" y="5013000"/>
            <a:ext cx="40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福熙和列宁是否表达了同样的观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他们为什么这么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8388360" y="5950080"/>
            <a:ext cx="360360" cy="385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85560"/>
              <a:gd name="textAreaBottom" fmla="*/ 362520 h 38556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3794" y="11554"/>
                </a:moveTo>
                <a:lnTo>
                  <a:pt x="17806" y="4548"/>
                </a:lnTo>
                <a:lnTo>
                  <a:pt x="17806" y="1856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4356000" y="333360"/>
            <a:ext cx="42116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协调美、日等国在东亚、太平洋地区的矛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956720" y="5300640"/>
            <a:ext cx="168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355680" y="358920"/>
            <a:ext cx="4039560" cy="6069240"/>
            <a:chOff x="355680" y="358920"/>
            <a:chExt cx="4039560" cy="6069240"/>
          </a:xfrm>
        </p:grpSpPr>
        <p:sp>
          <p:nvSpPr>
            <p:cNvPr id="179" name="Text Box 5"/>
            <p:cNvSpPr/>
            <p:nvPr/>
          </p:nvSpPr>
          <p:spPr>
            <a:xfrm>
              <a:off x="3189600" y="358920"/>
              <a:ext cx="1205640" cy="60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目    的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   间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操纵国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影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6"/>
            <p:cNvSpPr/>
            <p:nvPr/>
          </p:nvSpPr>
          <p:spPr>
            <a:xfrm>
              <a:off x="2675520" y="792360"/>
              <a:ext cx="306000" cy="4535280"/>
            </a:xfrm>
            <a:custGeom>
              <a:avLst/>
              <a:gdLst>
                <a:gd name="textAreaLeft" fmla="*/ 195480 w 306000"/>
                <a:gd name="textAreaRight" fmla="*/ 306360 w 306000"/>
                <a:gd name="textAreaTop" fmla="*/ 118080 h 4535280"/>
                <a:gd name="textAreaBottom" fmla="*/ 4417200 h 45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19520" rIns="119520" tIns="59760" bIns="597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"/>
            <p:cNvSpPr/>
            <p:nvPr/>
          </p:nvSpPr>
          <p:spPr>
            <a:xfrm>
              <a:off x="355680" y="2782080"/>
              <a:ext cx="18561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、华盛顿会议   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8"/>
          <p:cNvSpPr/>
          <p:nvPr/>
        </p:nvSpPr>
        <p:spPr>
          <a:xfrm>
            <a:off x="4317120" y="126828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1~19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4980960" y="162864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英、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924360" y="2421000"/>
            <a:ext cx="71280" cy="1439640"/>
          </a:xfrm>
          <a:custGeom>
            <a:avLst/>
            <a:gdLst>
              <a:gd name="textAreaLeft" fmla="*/ 45720 w 71280"/>
              <a:gd name="textAreaRight" fmla="*/ 71640 w 71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067280" y="220500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国条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0" y="0"/>
            <a:ext cx="2521080" cy="152388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知识梳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4067280" y="4069080"/>
            <a:ext cx="52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构成了华盛顿体系，确立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国主义在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东亚、太平洋地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统治秩序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4483080" y="292428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国条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7020000" y="3645000"/>
            <a:ext cx="144360" cy="28872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4483080" y="357336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九国公约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1"/>
          <p:cNvSpPr/>
          <p:nvPr/>
        </p:nvSpPr>
        <p:spPr>
          <a:xfrm>
            <a:off x="3851280" y="4292640"/>
            <a:ext cx="71280" cy="1440000"/>
          </a:xfrm>
          <a:custGeom>
            <a:avLst/>
            <a:gdLst>
              <a:gd name="textAreaLeft" fmla="*/ 45720 w 71280"/>
              <a:gd name="textAreaRight" fmla="*/ 71640 w 71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2"/>
          <p:cNvSpPr/>
          <p:nvPr/>
        </p:nvSpPr>
        <p:spPr>
          <a:xfrm>
            <a:off x="4760640" y="5516640"/>
            <a:ext cx="32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了凡尔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华盛顿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3"/>
          <p:cNvSpPr/>
          <p:nvPr/>
        </p:nvSpPr>
        <p:spPr>
          <a:xfrm>
            <a:off x="8172360" y="6165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324000" y="134136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九国公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引文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条 除中国外，缔约各国协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尊重中国之主权与独立，及领土与行政之完整；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立并维持各国在中国全境之商务实业机会均等之原则；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（四）不得因中国状况，乘机营谋特别权利，而减少友邦人民之权利，并不得奖许有害友邦安全之举动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0" y="0"/>
            <a:ext cx="2484360" cy="129528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维拓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3"/>
          <p:cNvSpPr/>
          <p:nvPr/>
        </p:nvSpPr>
        <p:spPr>
          <a:xfrm>
            <a:off x="539640" y="333360"/>
            <a:ext cx="3095640" cy="863640"/>
          </a:xfrm>
          <a:prstGeom prst="wedgeEllipseCallout">
            <a:avLst>
              <a:gd name="adj1" fmla="val 305"/>
              <a:gd name="adj2" fmla="val 3639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仔细解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599360" y="602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使中国回复到几个帝国主义国家共同支配的局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68360" y="1341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条约名义上标榜什么？其真正目的何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715040" y="3068640"/>
            <a:ext cx="48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约中“友邦人民”的真实含义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58920" y="4292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条约对哪个帝国主义国家有利？为什么？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1697040" y="5445000"/>
            <a:ext cx="46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条约的签订给中国带来什么危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8"/>
          <p:cNvSpPr/>
          <p:nvPr/>
        </p:nvSpPr>
        <p:spPr>
          <a:xfrm>
            <a:off x="1697040" y="5445000"/>
            <a:ext cx="46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条约的签订给中国带来什么危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1047600" y="494100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美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0"/>
          <p:cNvSpPr/>
          <p:nvPr/>
        </p:nvSpPr>
        <p:spPr>
          <a:xfrm>
            <a:off x="3133440" y="4941000"/>
            <a:ext cx="34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为美国在中国的扩张提供了方便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1620360" y="37155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除中国外的各缔约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2"/>
          <p:cNvSpPr/>
          <p:nvPr/>
        </p:nvSpPr>
        <p:spPr>
          <a:xfrm>
            <a:off x="611280" y="1916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尊重中国之主权、独立与领土的完整</a:t>
            </a:r>
            <a:r>
              <a:rPr b="1" lang="zh-CN" sz="2800" spc="-1" strike="noStrike">
                <a:solidFill>
                  <a:srgbClr val="3b812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2754720" y="2420280"/>
            <a:ext cx="38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尊重各国在中国的“门户开放”、“机会均等”的原则</a:t>
            </a:r>
            <a:r>
              <a:rPr b="1" lang="zh-CN" sz="2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5"/>
          <p:cNvSpPr/>
          <p:nvPr/>
        </p:nvSpPr>
        <p:spPr>
          <a:xfrm>
            <a:off x="6443640" y="189000"/>
            <a:ext cx="2521080" cy="128088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国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1553760" y="1052640"/>
            <a:ext cx="40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四运动”爆发的直接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826920" y="148428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巴黎和会上中国外交的失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534320" y="1844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为什么会受到不公正的待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826920" y="1916280"/>
            <a:ext cx="853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中国是半殖民地半封建社会，国力弱小，任人宰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821960" y="2852640"/>
            <a:ext cx="46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在巴黎和会和华盛顿会议上地位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160440" y="342900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都受到宰割：山东问题、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九国公约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959040" y="393372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491200" y="443700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弱国无外交”，只有增强国力才能维护国家主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748880" y="4869000"/>
            <a:ext cx="46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山东问题最后是怎样解决的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2884680" y="537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在华盛顿会议上最终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1807560" y="5878440"/>
            <a:ext cx="59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因为（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中国人民的斗争（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美英对日本施加了压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8317080" y="5445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539640" y="76500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对凡尔赛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---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华盛顿体系的评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24000" y="3213000"/>
            <a:ext cx="85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黑体"/>
              </a:rPr>
              <a:t>积极影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暂时调整了帝国主义国家在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方 的矛盾，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年代资本主义世界出现的和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繁荣局面创造了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24000" y="2205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黑体"/>
              </a:rPr>
              <a:t>性质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一战后帝国主义重新瓜分世界的体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50920" y="47242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黑体"/>
              </a:rPr>
              <a:t>消极影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它建立在宰割战败国和牺牲弱小国家利益基础上，隐含了许多矛盾，随着帝国主义各国实力对比变化而日益尖锐，新的争夺不可避免，这就决定这个体系不可能持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0" y="-243000"/>
            <a:ext cx="2521080" cy="152424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知识拓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1120" y="17733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从性质、积极、消极三个方面进行分析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2514600" y="380880"/>
            <a:ext cx="6248520" cy="4800600"/>
          </a:xfrm>
          <a:prstGeom prst="cloudCallout">
            <a:avLst>
              <a:gd name="adj1" fmla="val 26370"/>
              <a:gd name="adj2" fmla="val 65675"/>
            </a:avLst>
          </a:prstGeom>
          <a:solidFill>
            <a:srgbClr val="ffffcc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6e41"/>
                </a:solidFill>
                <a:latin typeface="华文行楷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df6e41"/>
                </a:solidFill>
                <a:latin typeface="华文新魏"/>
                <a:ea typeface="华文新魏"/>
              </a:rPr>
              <a:t>顾维均在巴黎和会上慷慨陈词，据理力争</a:t>
            </a:r>
            <a:r>
              <a:rPr b="1" lang="en-US" sz="3600" spc="-1" strike="noStrike">
                <a:solidFill>
                  <a:srgbClr val="df6e41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df6e41"/>
                </a:solidFill>
                <a:latin typeface="华文新魏"/>
                <a:ea typeface="华文新魏"/>
              </a:rPr>
              <a:t>但外交努力还是失败了！</a:t>
            </a:r>
            <a:r>
              <a:rPr b="1" lang="zh-CN" sz="3600" spc="-1" strike="noStrike">
                <a:solidFill>
                  <a:srgbClr val="009900"/>
                </a:solidFill>
                <a:latin typeface="华文新魏"/>
                <a:ea typeface="华文新魏"/>
              </a:rPr>
              <a:t>巴黎和会上中国外交的失败说明什么？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1"/>
          <p:cNvPicPr/>
          <p:nvPr/>
        </p:nvPicPr>
        <p:blipFill>
          <a:blip r:embed="rId1"/>
          <a:stretch/>
        </p:blipFill>
        <p:spPr>
          <a:xfrm>
            <a:off x="716292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14"/>
          <p:cNvPicPr/>
          <p:nvPr/>
        </p:nvPicPr>
        <p:blipFill>
          <a:blip r:embed="rId2"/>
          <a:stretch/>
        </p:blipFill>
        <p:spPr>
          <a:xfrm>
            <a:off x="0" y="0"/>
            <a:ext cx="246204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2590920" y="762120"/>
            <a:ext cx="6324480" cy="764280"/>
          </a:xfrm>
          <a:prstGeom prst="rect">
            <a:avLst/>
          </a:prstGeom>
          <a:solidFill>
            <a:srgbClr val="f0e3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弱国无外交，外交是综合国力的较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590920" y="2209680"/>
            <a:ext cx="6324480" cy="764280"/>
          </a:xfrm>
          <a:prstGeom prst="rect">
            <a:avLst/>
          </a:prstGeom>
          <a:solidFill>
            <a:srgbClr val="f0e3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力发展经济，改革开放，加强国际交流，以增强我国的综合国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4"/>
          <p:cNvSpPr/>
          <p:nvPr/>
        </p:nvSpPr>
        <p:spPr>
          <a:xfrm>
            <a:off x="0" y="0"/>
            <a:ext cx="2521080" cy="152388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40720" y="220500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国主义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凭实力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分割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 rot="16200000">
            <a:off x="4859280" y="3210840"/>
            <a:ext cx="285480" cy="432000"/>
          </a:xfrm>
          <a:prstGeom prst="downArrow">
            <a:avLst>
              <a:gd name="adj1" fmla="val 50000"/>
              <a:gd name="adj2" fmla="val 37817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 rot="16200000">
            <a:off x="4930560" y="1701360"/>
            <a:ext cx="289080" cy="574560"/>
          </a:xfrm>
          <a:prstGeom prst="downArrow">
            <a:avLst>
              <a:gd name="adj1" fmla="val 50000"/>
              <a:gd name="adj2" fmla="val 49670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 rot="14539200">
            <a:off x="2091960" y="1947240"/>
            <a:ext cx="351000" cy="433440"/>
          </a:xfrm>
          <a:prstGeom prst="downArrow">
            <a:avLst>
              <a:gd name="adj1" fmla="val 50000"/>
              <a:gd name="adj2" fmla="val 30860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 rot="18781800">
            <a:off x="2085840" y="3393360"/>
            <a:ext cx="345960" cy="416160"/>
          </a:xfrm>
          <a:prstGeom prst="downArrow">
            <a:avLst>
              <a:gd name="adj1" fmla="val 50000"/>
              <a:gd name="adj2" fmla="val 30062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908000" y="169992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巴黎和会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尔赛和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1908000" y="3212640"/>
            <a:ext cx="31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华盛顿会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国公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641560" y="1699920"/>
            <a:ext cx="12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尔赛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西方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409000" y="3212640"/>
            <a:ext cx="13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华盛顿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东方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 rot="13456800">
            <a:off x="7092720" y="2780640"/>
            <a:ext cx="347400" cy="569880"/>
          </a:xfrm>
          <a:prstGeom prst="downArrow">
            <a:avLst>
              <a:gd name="adj1" fmla="val 50000"/>
              <a:gd name="adj2" fmla="val 41010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6"/>
          <p:cNvSpPr/>
          <p:nvPr/>
        </p:nvSpPr>
        <p:spPr>
          <a:xfrm rot="19303200">
            <a:off x="7164000" y="2133360"/>
            <a:ext cx="335160" cy="603000"/>
          </a:xfrm>
          <a:prstGeom prst="downArrow">
            <a:avLst>
              <a:gd name="adj1" fmla="val 50000"/>
              <a:gd name="adj2" fmla="val 44962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7672680" y="837360"/>
            <a:ext cx="487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/>
          <p:cNvSpPr/>
          <p:nvPr/>
        </p:nvSpPr>
        <p:spPr>
          <a:xfrm>
            <a:off x="755640" y="260280"/>
            <a:ext cx="2521080" cy="152424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概  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宋体"/>
              </a:rPr>
              <a:t>凡尔赛</a:t>
            </a:r>
            <a:r>
              <a:rPr b="1" lang="en-US" sz="43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4300" spc="-1" strike="noStrike">
                <a:solidFill>
                  <a:srgbClr val="000000"/>
                </a:solidFill>
                <a:latin typeface="宋体"/>
              </a:rPr>
              <a:t>华盛顿体系是一战后形成的资本主义世界新的国际格局。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4"/>
          <p:cNvSpPr/>
          <p:nvPr/>
        </p:nvSpPr>
        <p:spPr>
          <a:xfrm>
            <a:off x="0" y="0"/>
            <a:ext cx="2411280" cy="112536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效果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278440" y="1053000"/>
            <a:ext cx="411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列不属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尔赛和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的是（　　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国收回阿尔萨斯和洛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德国的殖民地被英、法、日等国瓜分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禁止德国实行义务兵役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取得与英国同等的制海权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6877080" y="836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324000" y="2421000"/>
            <a:ext cx="853416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凡尔赛和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内容最能反映巴黎和会分赃性质的是（    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德国在中国山东的特权转给日本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德国的军备严格限制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莱茵河西岸由协约国军队占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以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委任统治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形式瓜分德国的海外殖民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332000" y="3213000"/>
            <a:ext cx="93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8388360" y="630864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1542960" y="620640"/>
            <a:ext cx="5898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列关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国公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表述不正确的是（ 　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中国参与制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日本在中国的侵略权益受到打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中国的主权完整受到尊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体现了美国对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户开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均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7451640" y="33336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479520" y="3500280"/>
            <a:ext cx="8664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下列条约中涉及中国主权的有  （       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凡尔赛和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国条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③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国条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     ④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国公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①②④                 B.②③④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 .①④                    D.②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012000" y="3141720"/>
            <a:ext cx="103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7956720" y="623736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250920" y="26388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巴黎和会和华盛顿会议的共同点有   （ 　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少数帝国主义国家操纵会议     ②是帝国主义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瓜分世界的分赃会议     ③会议暂调整了列强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的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又埋下了新的矛盾      ④两个会议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损害了中国的权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①②③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①②③④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①②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①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516720" y="0"/>
            <a:ext cx="103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1363320" y="2924640"/>
            <a:ext cx="581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下列有关“凡尔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盛顿体系”的说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正确的是  （ 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是通过巴黎和会和华盛顿会议建立起来的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这一体系建立说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弱国无外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这一体系不能消除帝国主义之间的矛盾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这一体系能长久的维持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411280" y="3213000"/>
            <a:ext cx="104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7956720" y="623736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3EC4-2F44-4131-AC08-B6AA028D76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1544760" y="982800"/>
            <a:ext cx="5671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回答下列关于“凡尔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盛顿体系”的问题：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凡尔赛体系的核心条约是什么？这一体系确立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帝国主义国家在哪些地区的统治新秩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盛顿体系的最大得益国是哪国？？这一体系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了帝国主义在哪些地区的统治新秩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凡尔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盛顿体系的实质是什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一体系为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能长期持续下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凡尔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盛顿体系无法实现真正的和平，那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何才能真正的维护世界和平呢？从这一体系中吸取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样的经验教训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0" y="0"/>
            <a:ext cx="2411280" cy="112536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能力提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4000" y="162828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第一次世界大战的性质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——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帝国主义国家发动这场战争的根本目的何在？                              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一战的结果如何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一战使主要资本主义国家的实力发生了怎样的变化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755640" y="189000"/>
            <a:ext cx="2843280" cy="152388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回顾历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884680" y="1916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非正义帝国主义掠夺战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779200" y="2708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争夺殖民地和世界霸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971640" y="3573360"/>
            <a:ext cx="525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以同盟国的失败告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863640" y="465300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楷体_GB2312"/>
              </a:rPr>
              <a:t>德国、奥匈成为战败国，英法实力削弱，美日经济实力增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凡尔赛宫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3089160" y="3571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法国巴黎凡尔赛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39000" y="1197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录像结合课本回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95280" y="1387440"/>
            <a:ext cx="84614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对凡尔赛体系的形成起重要作用的会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巴黎和会召开的目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巴黎和会的主要操纵国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巴黎和会的中心议题是什么，最终的结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1280" y="333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思考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418920" y="476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一、凡尔赛体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986640" y="3125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为了缔结和约，对战后的世界做出重新安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229440" y="414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英法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55640" y="530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中心议题处置战败国德国。最终结果：签订了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凡尔赛和约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229440" y="220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巴黎和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4284720" y="2060640"/>
            <a:ext cx="4211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胜国重新分割战后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956720" y="5300640"/>
            <a:ext cx="168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-272520" y="336600"/>
            <a:ext cx="4667760" cy="6495840"/>
            <a:chOff x="-272520" y="336600"/>
            <a:chExt cx="4667760" cy="6495840"/>
          </a:xfrm>
        </p:grpSpPr>
        <p:sp>
          <p:nvSpPr>
            <p:cNvPr id="114" name="Text Box 6"/>
            <p:cNvSpPr/>
            <p:nvPr/>
          </p:nvSpPr>
          <p:spPr>
            <a:xfrm>
              <a:off x="3189600" y="336600"/>
              <a:ext cx="1205640" cy="64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   间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参加国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操纵者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目    的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实    质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影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7"/>
            <p:cNvSpPr/>
            <p:nvPr/>
          </p:nvSpPr>
          <p:spPr>
            <a:xfrm>
              <a:off x="2675520" y="793080"/>
              <a:ext cx="306000" cy="4535280"/>
            </a:xfrm>
            <a:custGeom>
              <a:avLst/>
              <a:gdLst>
                <a:gd name="textAreaLeft" fmla="*/ 195480 w 306000"/>
                <a:gd name="textAreaRight" fmla="*/ 306360 w 306000"/>
                <a:gd name="textAreaTop" fmla="*/ 118080 h 4535280"/>
                <a:gd name="textAreaBottom" fmla="*/ 4417200 h 45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19520" rIns="119520" tIns="59760" bIns="597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-272520" y="2782800"/>
              <a:ext cx="283608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、 巴黎和会   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9"/>
          <p:cNvSpPr/>
          <p:nvPr/>
        </p:nvSpPr>
        <p:spPr>
          <a:xfrm>
            <a:off x="4290120" y="76500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933080" y="119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战胜的协约国集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3851280" y="3141720"/>
            <a:ext cx="73080" cy="79200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924360" y="2997360"/>
            <a:ext cx="52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德和约即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凡尔赛和约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0" y="0"/>
            <a:ext cx="2521080" cy="152388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知识梳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3"/>
          <p:cNvSpPr/>
          <p:nvPr/>
        </p:nvSpPr>
        <p:spPr>
          <a:xfrm>
            <a:off x="3851280" y="4149720"/>
            <a:ext cx="144360" cy="144144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3851280" y="3784680"/>
            <a:ext cx="52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构成了凡尔赛体系，确立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国主义在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欧洲、西亚、非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治的新秩序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5443560" y="3429000"/>
            <a:ext cx="10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奥、匈、土、保和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3905280" y="5373720"/>
            <a:ext cx="523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护凡尔赛体系的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际联盟的建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5694840" y="1628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、法、美三巨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2"/>
          <p:cNvSpPr/>
          <p:nvPr/>
        </p:nvSpPr>
        <p:spPr>
          <a:xfrm>
            <a:off x="8172360" y="587700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4"/>
          <p:cNvSpPr/>
          <p:nvPr/>
        </p:nvSpPr>
        <p:spPr>
          <a:xfrm>
            <a:off x="8459640" y="1628640"/>
            <a:ext cx="144720" cy="28908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4284720" y="2492280"/>
            <a:ext cx="4211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国主义的分赃会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6"/>
          <p:cNvSpPr/>
          <p:nvPr/>
        </p:nvSpPr>
        <p:spPr>
          <a:xfrm>
            <a:off x="8604360" y="3141720"/>
            <a:ext cx="144360" cy="28872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巴黎和会－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700360" y="2349360"/>
            <a:ext cx="5338800" cy="389124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sp>
        <p:nvSpPr>
          <p:cNvPr id="132" name="AutoShape 3"/>
          <p:cNvSpPr/>
          <p:nvPr/>
        </p:nvSpPr>
        <p:spPr>
          <a:xfrm>
            <a:off x="2987640" y="647640"/>
            <a:ext cx="2592360" cy="1773360"/>
          </a:xfrm>
          <a:prstGeom prst="cloudCallout">
            <a:avLst>
              <a:gd name="adj1" fmla="val 80375"/>
              <a:gd name="adj2" fmla="val 102731"/>
            </a:avLst>
          </a:prstGeom>
          <a:solidFill>
            <a:srgbClr val="afbf3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0" y="765000"/>
            <a:ext cx="2592360" cy="2303640"/>
          </a:xfrm>
          <a:prstGeom prst="cloudCallout">
            <a:avLst>
              <a:gd name="adj1" fmla="val 125384"/>
              <a:gd name="adj2" fmla="val 75152"/>
            </a:avLst>
          </a:prstGeom>
          <a:solidFill>
            <a:srgbClr val="cc9900">
              <a:alpha val="71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5724360" y="620640"/>
            <a:ext cx="2737080" cy="1513080"/>
          </a:xfrm>
          <a:prstGeom prst="cloudCallout">
            <a:avLst>
              <a:gd name="adj1" fmla="val 9453"/>
              <a:gd name="adj2" fmla="val 102152"/>
            </a:avLst>
          </a:prstGeom>
          <a:solidFill>
            <a:srgbClr val="f0b9a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753480" y="1177920"/>
            <a:ext cx="164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英国首相劳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乔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艺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421080" y="90972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法国总理克里孟梭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6857280" y="811080"/>
            <a:ext cx="13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美国总统威尔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艺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635280" y="1198440"/>
            <a:ext cx="16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雪耻，收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失地，削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和肢解德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0920" y="155736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保留德国，牵制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6335640" y="1125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维护德国，抗衡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法，逐步统治世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WordArt 12" descr=""/>
          <p:cNvPicPr/>
          <p:nvPr/>
        </p:nvPicPr>
        <p:blipFill>
          <a:blip r:embed="rId2"/>
          <a:stretch/>
        </p:blipFill>
        <p:spPr>
          <a:xfrm>
            <a:off x="314280" y="3419640"/>
            <a:ext cx="2095560" cy="2563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5"/>
          <p:cNvSpPr/>
          <p:nvPr/>
        </p:nvSpPr>
        <p:spPr>
          <a:xfrm>
            <a:off x="468360" y="260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小组合作探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371600" y="12952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838080" y="2579760"/>
            <a:ext cx="878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美</a:t>
            </a:r>
            <a:r>
              <a:rPr b="1" lang="en-US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英</a:t>
            </a:r>
            <a:r>
              <a:rPr b="1" lang="en-US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法</a:t>
            </a:r>
            <a:r>
              <a:rPr b="1" lang="en-US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86480" y="2637000"/>
            <a:ext cx="7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攫取战后世界领导权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180040" y="3276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继续维护世界霸权，反对过分削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854600" y="4191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最大限度削德，重建欧陆霸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11280" y="981000"/>
            <a:ext cx="8088120" cy="1600200"/>
          </a:xfrm>
          <a:prstGeom prst="rect">
            <a:avLst/>
          </a:prstGeom>
          <a:solidFill>
            <a:srgbClr val="ffffff">
              <a:alpha val="46000"/>
            </a:srgbClr>
          </a:solidFill>
          <a:ln w="76320">
            <a:solidFill>
              <a:srgbClr val="6c0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新魏"/>
                <a:ea typeface="华文新魏"/>
              </a:rPr>
              <a:t>从 图片中，你看出列强参加和会目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新魏"/>
                <a:ea typeface="华文新魏"/>
              </a:rPr>
              <a:t>什么？巴黎和会的实质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042920" y="4869000"/>
            <a:ext cx="6782040" cy="1630440"/>
          </a:xfrm>
          <a:prstGeom prst="rect">
            <a:avLst/>
          </a:prstGeom>
          <a:solidFill>
            <a:srgbClr val="f0e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的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新分割世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实质：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帝国主义的分赃会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611280" y="260280"/>
            <a:ext cx="30286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组成果展示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824400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10800"/>
                </a:moveTo>
                <a:lnTo>
                  <a:pt x="21173" y="3794"/>
                </a:lnTo>
                <a:lnTo>
                  <a:pt x="2117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768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414240" y="5883120"/>
            <a:ext cx="21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凡尔赛和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0" y="4797360"/>
            <a:ext cx="9144000" cy="936720"/>
          </a:xfrm>
          <a:prstGeom prst="ellips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5003640" y="1413000"/>
            <a:ext cx="3598920" cy="295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能体现巴黎和会分赃性质的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684360" y="549360"/>
            <a:ext cx="4535280" cy="3887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美国一位当代历史学家说：战胜国在瓜分战败国殖民地的同时，创造出殖民统治的新理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03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06Z</dcterms:modified>
  <cp:revision>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