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25" end="3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E66-A10D-487C-8366-0657E22F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831-DFCB-4CA1-ABC1-DF8FFAC7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639-95CB-44F4-88C5-1300EC58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E626-4161-4D91-AB64-B63F819C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5CE4-9CD5-407C-8B98-2EE2EFE1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C36E-1E5A-472F-B78B-DA087C60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A127-EC39-4A1B-969D-CD703BCB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E0DB-F0A2-45B5-87D0-023A316E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2B9F-93EE-46A9-845A-DF82B325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6F00-2676-4842-B6D2-094933F7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09AB-96EF-4D77-B01D-4C14398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E21-3F6A-43CC-AAF9-22529641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48FA-802D-4ADE-B120-7F72B1B4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95C8-E44D-4002-AE69-E4FA39C8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70A8-4741-4CE3-85DE-78B49DC7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9769-E005-41D3-90B1-165F920E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4051-3237-4982-BAAB-B557A65F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CC1-82C6-4149-B59D-EEC1D17A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945-E827-4BB7-9859-33EC9ABA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F63-7376-4B98-B6CF-C35DE395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378-D199-49C6-8D36-BB727E1A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251-C7DD-423F-868D-0A086C8F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BFA-EA0F-4409-8C01-FFEBACCB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1F35-817E-4B09-80E3-080976FB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A561-E3C1-4835-B947-57999F8197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2206-4C62-40F5-BBF2-F6D8B30CFE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499280" cy="3862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94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第三单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1187280" y="2071800"/>
            <a:ext cx="669780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放飞和平鸽课件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3"/>
          <p:cNvSpPr/>
          <p:nvPr/>
        </p:nvSpPr>
        <p:spPr>
          <a:xfrm>
            <a:off x="3569400" y="18446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国际和平日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1403280" y="2492280"/>
            <a:ext cx="66247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2001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年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9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月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7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日，联合国通过决议，决定从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2002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年开始，每年的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9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月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21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日为国际和平日。每年的这一天为全球停火和非暴力日，所有国家的人民要停止敌对行动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6"/>
          <p:cNvSpPr/>
          <p:nvPr/>
        </p:nvSpPr>
        <p:spPr>
          <a:xfrm>
            <a:off x="539640" y="4221000"/>
            <a:ext cx="792000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cc"/>
                </a:solidFill>
                <a:latin typeface="Times New Roman"/>
              </a:rPr>
              <a:t>安南庆祝</a:t>
            </a:r>
            <a:endParaRPr b="1" lang="en-US" sz="3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Times New Roman"/>
              </a:rPr>
              <a:t>4</a:t>
            </a:r>
            <a:r>
              <a:rPr b="1" lang="zh-CN" sz="3800" spc="-1" strike="noStrike">
                <a:solidFill>
                  <a:srgbClr val="00cc99"/>
                </a:solidFill>
                <a:latin typeface="Times New Roman"/>
              </a:rPr>
              <a:t>、国际和平日</a:t>
            </a:r>
            <a:r>
              <a:rPr b="1" lang="en-US" sz="3800" spc="-1" strike="noStrike">
                <a:solidFill>
                  <a:srgbClr val="00cc99"/>
                </a:solidFill>
                <a:latin typeface="Times New Roman"/>
              </a:rPr>
              <a:t>——</a:t>
            </a:r>
            <a:r>
              <a:rPr b="1" lang="en-US" sz="3800" spc="-1" strike="noStrike">
                <a:solidFill>
                  <a:srgbClr val="00cc99"/>
                </a:solidFill>
                <a:latin typeface="Times New Roman"/>
              </a:rPr>
              <a:t>9</a:t>
            </a:r>
            <a:r>
              <a:rPr b="1" lang="zh-CN" sz="3800" spc="-1" strike="noStrike">
                <a:solidFill>
                  <a:srgbClr val="00cc99"/>
                </a:solidFill>
                <a:latin typeface="Times New Roman"/>
              </a:rPr>
              <a:t>月</a:t>
            </a:r>
            <a:r>
              <a:rPr b="1" lang="en-US" sz="3800" spc="-1" strike="noStrike">
                <a:solidFill>
                  <a:srgbClr val="00cc99"/>
                </a:solidFill>
                <a:latin typeface="Times New Roman"/>
              </a:rPr>
              <a:t>21</a:t>
            </a:r>
            <a:r>
              <a:rPr b="1" lang="zh-CN" sz="3800" spc="-1" strike="noStrike">
                <a:solidFill>
                  <a:srgbClr val="00cc99"/>
                </a:solidFill>
                <a:latin typeface="Times New Roman"/>
              </a:rPr>
              <a:t>日</a:t>
            </a:r>
            <a:endParaRPr b="1" lang="en-US" sz="3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全球停火和非暴力日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8" name="Picture 27" descr="安南庆祝国际和平日"/>
          <p:cNvPicPr/>
          <p:nvPr/>
        </p:nvPicPr>
        <p:blipFill>
          <a:blip r:embed="rId1"/>
          <a:stretch/>
        </p:blipFill>
        <p:spPr>
          <a:xfrm>
            <a:off x="1692360" y="260280"/>
            <a:ext cx="5437080" cy="365760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8198"/>
          <p:cNvSpPr/>
          <p:nvPr/>
        </p:nvSpPr>
        <p:spPr>
          <a:xfrm>
            <a:off x="2563920" y="39178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684360" y="549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为了和平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971640" y="1413000"/>
            <a:ext cx="68403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、为了维护和平与国际安全，联合国派遣维和部队驻扎在世界上有冲突的地区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778200" y="6021360"/>
            <a:ext cx="165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维护和平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3" name="Picture 7" descr="8"/>
          <p:cNvPicPr/>
          <p:nvPr/>
        </p:nvPicPr>
        <p:blipFill>
          <a:blip r:embed="rId1"/>
          <a:stretch/>
        </p:blipFill>
        <p:spPr>
          <a:xfrm>
            <a:off x="755640" y="3270240"/>
            <a:ext cx="3579840" cy="2390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7"/>
          <p:cNvPicPr/>
          <p:nvPr/>
        </p:nvPicPr>
        <p:blipFill>
          <a:blip r:embed="rId2"/>
          <a:srcRect l="0" t="0" r="-22" b="0"/>
          <a:stretch/>
        </p:blipFill>
        <p:spPr>
          <a:xfrm>
            <a:off x="4356000" y="3213000"/>
            <a:ext cx="3961080" cy="25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34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dc3400"/>
                </a:solidFill>
                <a:latin typeface="Times New Roman"/>
              </a:rPr>
              <a:t>为了制止战争、实现和维护人类的和平，人们进行了哪些努力？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、成立联合国；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、圆桌会议；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、联合国安理会；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、确定国际和平日；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、派遣维和部队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6"/>
          <p:cNvGrpSpPr/>
          <p:nvPr/>
        </p:nvGrpSpPr>
        <p:grpSpPr>
          <a:xfrm>
            <a:off x="468360" y="549360"/>
            <a:ext cx="8206920" cy="5687640"/>
            <a:chOff x="468360" y="549360"/>
            <a:chExt cx="8206920" cy="5687640"/>
          </a:xfrm>
        </p:grpSpPr>
        <p:sp>
          <p:nvSpPr>
            <p:cNvPr id="128" name="AutoShape 5"/>
            <p:cNvSpPr/>
            <p:nvPr/>
          </p:nvSpPr>
          <p:spPr>
            <a:xfrm>
              <a:off x="468360" y="549360"/>
              <a:ext cx="8206920" cy="568764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9" name="Text Box 3"/>
            <p:cNvSpPr/>
            <p:nvPr/>
          </p:nvSpPr>
          <p:spPr>
            <a:xfrm>
              <a:off x="3835800" y="570240"/>
              <a:ext cx="1338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cc99"/>
                  </a:solidFill>
                  <a:latin typeface="Times New Roman"/>
                </a:rPr>
                <a:t>和平寄语</a:t>
              </a:r>
              <a:endParaRPr b="1" lang="en-US" sz="3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30" name="Text Box 4"/>
            <p:cNvSpPr/>
            <p:nvPr/>
          </p:nvSpPr>
          <p:spPr>
            <a:xfrm>
              <a:off x="649080" y="1245960"/>
              <a:ext cx="7938720" cy="41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cc99"/>
                  </a:solidFill>
                  <a:latin typeface="Times New Roman"/>
                </a:rPr>
                <a:t>当我走过你的身边，我愿带走你的笑脸，</a:t>
              </a: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cc99"/>
                  </a:solidFill>
                  <a:latin typeface="Times New Roman"/>
                </a:rPr>
                <a:t>心中没有一点阴云，阳光变得更加鲜艳，</a:t>
              </a: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cc99"/>
                  </a:solidFill>
                  <a:latin typeface="Times New Roman"/>
                </a:rPr>
                <a:t>希望会有那么一天，再也没有眼泪仇怨，</a:t>
              </a: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cc99"/>
                  </a:solidFill>
                  <a:latin typeface="Times New Roman"/>
                </a:rPr>
                <a:t>再也没有流血离散，共有一个美丽家园。</a:t>
              </a: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cc99"/>
                  </a:solidFill>
                  <a:latin typeface="Times New Roman"/>
                </a:rPr>
                <a:t>太阳在不停地旋转，自古就从没有改变，</a:t>
              </a: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cc99"/>
                  </a:solidFill>
                  <a:latin typeface="Times New Roman"/>
                </a:rPr>
                <a:t>宇宙那无边的情怀，拥抱着我们的心愿，</a:t>
              </a: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cc99"/>
                  </a:solidFill>
                  <a:latin typeface="Times New Roman"/>
                </a:rPr>
                <a:t>但愿会有那么一天，大海将把沙漠染蓝，</a:t>
              </a: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cc99"/>
                  </a:solidFill>
                  <a:latin typeface="Times New Roman"/>
                </a:rPr>
                <a:t>让和平的福音传遍，以微笑来面对祖先。</a:t>
              </a:r>
              <a:r>
                <a:rPr b="1" lang="zh-CN" sz="26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1" lang="en-US" sz="2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2" name="Picture 5" descr="u=792033810,2474889121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WordArt 8"/>
          <p:cNvSpPr txBox="1"/>
          <p:nvPr/>
        </p:nvSpPr>
        <p:spPr>
          <a:xfrm>
            <a:off x="755640" y="2060640"/>
            <a:ext cx="7848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中国为世界和平作贡献</a:t>
            </a:r>
            <a:endParaRPr b="1" i="1" lang="en-US" sz="26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u=2089391155,994901037&amp;fm=52&amp;gp=0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402200" y="1700280"/>
            <a:ext cx="64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我国是爱好和平的国家，主张用和平的方式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解决地区间的冲突。为制止战争，维护世界和平，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中国也作出了自己应有的贡献。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1258920" y="1557360"/>
            <a:ext cx="5905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900000" y="620640"/>
            <a:ext cx="68407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1955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年，周恩来总理在万隆会议上提出了处理各国事务的和平共处五项原则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419640" y="5805360"/>
            <a:ext cx="489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99"/>
                </a:solidFill>
                <a:latin typeface="Times New Roman"/>
              </a:rPr>
              <a:t>万隆会议 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9" name="Picture 6" descr="万隆会议"/>
          <p:cNvPicPr/>
          <p:nvPr/>
        </p:nvPicPr>
        <p:blipFill>
          <a:blip r:embed="rId1"/>
          <a:stretch/>
        </p:blipFill>
        <p:spPr>
          <a:xfrm>
            <a:off x="1187280" y="1628640"/>
            <a:ext cx="684072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1116000" y="62064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中国为世界和平做贡献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332000" y="1628640"/>
            <a:ext cx="49687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◆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、和平共处的五项原则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42" name="Group 8"/>
          <p:cNvGrpSpPr/>
          <p:nvPr/>
        </p:nvGrpSpPr>
        <p:grpSpPr>
          <a:xfrm>
            <a:off x="1116000" y="2492280"/>
            <a:ext cx="7343280" cy="3816000"/>
            <a:chOff x="1116000" y="2492280"/>
            <a:chExt cx="7343280" cy="3816000"/>
          </a:xfrm>
        </p:grpSpPr>
        <p:sp>
          <p:nvSpPr>
            <p:cNvPr id="143" name="AutoShape 7"/>
            <p:cNvSpPr/>
            <p:nvPr/>
          </p:nvSpPr>
          <p:spPr>
            <a:xfrm>
              <a:off x="1116000" y="2492280"/>
              <a:ext cx="7343280" cy="381600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1342440" y="2586600"/>
              <a:ext cx="6551640" cy="26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Times New Roman"/>
                </a:rPr>
                <a:t>1</a:t>
              </a:r>
              <a:r>
                <a:rPr b="1" lang="zh-CN" sz="2600" spc="-1" strike="noStrike">
                  <a:solidFill>
                    <a:srgbClr val="008000"/>
                  </a:solidFill>
                  <a:latin typeface="Times New Roman"/>
                </a:rPr>
                <a:t>、互相尊重主权和领土完整</a:t>
              </a:r>
              <a:endParaRPr b="1" lang="en-US" sz="26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1" lang="zh-CN" sz="2600" spc="-1" strike="noStrike">
                  <a:solidFill>
                    <a:srgbClr val="008000"/>
                  </a:solidFill>
                  <a:latin typeface="Times New Roman"/>
                </a:rPr>
                <a:t>、互不侵犯</a:t>
              </a:r>
              <a:endParaRPr b="1" lang="en-US" sz="26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Times New Roman"/>
                </a:rPr>
                <a:t>3</a:t>
              </a:r>
              <a:r>
                <a:rPr b="1" lang="zh-CN" sz="2600" spc="-1" strike="noStrike">
                  <a:solidFill>
                    <a:srgbClr val="008000"/>
                  </a:solidFill>
                  <a:latin typeface="Times New Roman"/>
                </a:rPr>
                <a:t>、互不干涉内政</a:t>
              </a:r>
              <a:endParaRPr b="1" lang="en-US" sz="26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Times New Roman"/>
                </a:rPr>
                <a:t>4</a:t>
              </a:r>
              <a:r>
                <a:rPr b="1" lang="zh-CN" sz="2600" spc="-1" strike="noStrike">
                  <a:solidFill>
                    <a:srgbClr val="008000"/>
                  </a:solidFill>
                  <a:latin typeface="Times New Roman"/>
                </a:rPr>
                <a:t>、平等互利</a:t>
              </a:r>
              <a:endParaRPr b="1" lang="en-US" sz="26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Times New Roman"/>
                </a:rPr>
                <a:t>5</a:t>
              </a:r>
              <a:r>
                <a:rPr b="1" lang="zh-CN" sz="2600" spc="-1" strike="noStrike">
                  <a:solidFill>
                    <a:srgbClr val="008000"/>
                  </a:solidFill>
                  <a:latin typeface="Times New Roman"/>
                </a:rPr>
                <a:t>、和平共处</a:t>
              </a:r>
              <a:r>
                <a:rPr b="1" lang="zh-CN" sz="26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1" lang="en-US" sz="2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900000" y="33336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中国为世界和平做贡献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403280" y="5157720"/>
            <a:ext cx="66960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“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漂亮的和平女神”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    “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永驻日本的和平大使”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556000" y="4581360"/>
            <a:ext cx="489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、和平少女纪念像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8" name="Picture 7" descr="和平少女纪念像"/>
          <p:cNvPicPr/>
          <p:nvPr/>
        </p:nvPicPr>
        <p:blipFill>
          <a:blip r:embed="rId1"/>
          <a:stretch/>
        </p:blipFill>
        <p:spPr>
          <a:xfrm>
            <a:off x="1476360" y="907920"/>
            <a:ext cx="532764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979640" y="907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战争给人类带来了什么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为什么说在战争中，儿童是最无辜的受害者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539640" y="404640"/>
            <a:ext cx="2090880" cy="12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复习：</a:t>
            </a:r>
            <a:endParaRPr b="1" lang="en-US" sz="2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47800" y="2852640"/>
            <a:ext cx="474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PMingLiU"/>
              </a:rPr>
              <a:t>1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PMingLiU"/>
              </a:rPr>
              <a:t>、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PMingLiU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给人们的生命和财产造成了重大的损失；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更给人类的心灵留下的阴影；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使环境受到破坏和大量文物损毁；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还使儿童失去了受教育的机会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39640" y="4869000"/>
            <a:ext cx="796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、因为儿童还不知道什么是战争，也不明白死亡是什么，他们没有反抗和逃亡的能力，在战争中他们只有恐惧和哭泣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539640" y="2602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中国为世界和平做贡献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0" name="Picture 8" descr="音频"/>
          <p:cNvPicPr/>
          <p:nvPr/>
        </p:nvPicPr>
        <p:blipFill>
          <a:blip r:embed="rId1"/>
          <a:stretch/>
        </p:blipFill>
        <p:spPr>
          <a:xfrm>
            <a:off x="7093080" y="189000"/>
            <a:ext cx="639720" cy="582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和平鸽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971640" y="3284640"/>
            <a:ext cx="7632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象征着和平；</a:t>
            </a:r>
            <a:endParaRPr b="1" lang="en-US" sz="3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表达了我国人民渴望和平，愿</a:t>
            </a:r>
            <a:endParaRPr b="1" lang="en-US" sz="3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与日本发展中日友好关系的愿望。</a:t>
            </a:r>
            <a:endParaRPr b="1" lang="en-US" sz="3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258920" y="1557360"/>
            <a:ext cx="7129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</a:rPr>
              <a:t>和平少女纪念像的象征意义？</a:t>
            </a:r>
            <a:endParaRPr b="1" lang="en-US" sz="3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</a:rPr>
              <a:t>表达了我国人民的什么愿望？</a:t>
            </a:r>
            <a:endParaRPr b="1" lang="en-US" sz="3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0"/>
          <p:cNvSpPr/>
          <p:nvPr/>
        </p:nvSpPr>
        <p:spPr>
          <a:xfrm>
            <a:off x="1042920" y="549360"/>
            <a:ext cx="6769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5" name="Picture 11" descr="保卫边疆"/>
          <p:cNvPicPr/>
          <p:nvPr/>
        </p:nvPicPr>
        <p:blipFill>
          <a:blip r:embed="rId1"/>
          <a:stretch/>
        </p:blipFill>
        <p:spPr>
          <a:xfrm>
            <a:off x="971640" y="836640"/>
            <a:ext cx="4884480" cy="5111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6930720" y="1557360"/>
            <a:ext cx="881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cc"/>
                </a:solidFill>
                <a:latin typeface="Times New Roman"/>
              </a:rPr>
              <a:t>保卫边疆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文本框 8198"/>
          <p:cNvSpPr/>
          <p:nvPr/>
        </p:nvSpPr>
        <p:spPr>
          <a:xfrm>
            <a:off x="971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9898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我们国家现在是和平时期，为什么还要加强国防？解放军在维护和平中起到了什么作用？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285228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加强国防并不意味着战争，它是维护我国国家政权和领土完整的需要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     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人民解放军成为维护世界和平的重要力量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1128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我国积极参加联合国的维和行动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到</a:t>
            </a:r>
            <a:r>
              <a:rPr b="0" lang="en-US" sz="3600" spc="-1" strike="noStrike">
                <a:solidFill>
                  <a:srgbClr val="0000cc"/>
                </a:solidFill>
                <a:latin typeface="隶书"/>
                <a:ea typeface="隶书"/>
              </a:rPr>
              <a:t>2004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年，已经先后参加了</a:t>
            </a:r>
            <a:r>
              <a:rPr b="0" lang="en-US" sz="3600" spc="-1" strike="noStrike">
                <a:solidFill>
                  <a:srgbClr val="dc3400"/>
                </a:solidFill>
                <a:latin typeface="隶书"/>
                <a:ea typeface="隶书"/>
              </a:rPr>
              <a:t>11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项维和行动，参加的人员超过</a:t>
            </a:r>
            <a:r>
              <a:rPr b="0" lang="en-US" sz="3600" spc="-1" strike="noStrike">
                <a:solidFill>
                  <a:srgbClr val="dc3400"/>
                </a:solidFill>
                <a:latin typeface="隶书"/>
                <a:ea typeface="隶书"/>
              </a:rPr>
              <a:t>2000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多人。我国的维和战士与其他国家维和人员一道，出色地完成了任务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403280" y="4437000"/>
            <a:ext cx="74167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2003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月      </a:t>
            </a: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175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名官兵        非洲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1" lang="en-US" sz="3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《</a:t>
            </a:r>
            <a:r>
              <a:rPr b="1" lang="zh-CN" sz="3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维和工兵之歌</a:t>
            </a:r>
            <a:r>
              <a:rPr b="1" lang="en-US" sz="3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》</a:t>
            </a:r>
            <a:endParaRPr b="1" lang="en-US" sz="3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中国为世界和平做出哪些贡献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cc99"/>
                </a:solidFill>
                <a:latin typeface="隶书"/>
                <a:ea typeface="隶书"/>
              </a:rPr>
              <a:t>、提出和平共处的五项原则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cc99"/>
                </a:solidFill>
                <a:latin typeface="隶书"/>
                <a:ea typeface="隶书"/>
              </a:rPr>
              <a:t>、向日本赠送</a:t>
            </a:r>
            <a:r>
              <a:rPr b="0" lang="zh-CN" sz="3600" spc="-1" strike="noStrike">
                <a:solidFill>
                  <a:srgbClr val="00cc99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0cc99"/>
                </a:solidFill>
                <a:latin typeface="隶书"/>
                <a:ea typeface="隶书"/>
              </a:rPr>
              <a:t>和平少女纪念像</a:t>
            </a:r>
            <a:r>
              <a:rPr b="0" lang="zh-CN" sz="3600" spc="-1" strike="noStrike">
                <a:solidFill>
                  <a:srgbClr val="00cc99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00cc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00cc99"/>
                </a:solidFill>
                <a:latin typeface="隶书"/>
                <a:ea typeface="隶书"/>
              </a:rPr>
              <a:t>、人民解放军成为维护世界和平的重     要力量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00cc99"/>
                </a:solidFill>
                <a:latin typeface="隶书"/>
                <a:ea typeface="隶书"/>
              </a:rPr>
              <a:t>、我国积极参加联合国的维和行动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热爱和平，反对战争是全世界人民共同的心声。在不同的历史条件和状况之下，人们会用不同的方式表达他们对和平的热爱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当战争威胁到祖国的安全与世界和平时，善良的人们也会拿起武器，用正义的战争反对非正义的战争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2268360" y="404640"/>
            <a:ext cx="431964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爱和平</a:t>
            </a:r>
            <a:endParaRPr b="1" lang="en-US" sz="2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u=2099983207,3411288164&amp;fm=51&amp;gp=0"/>
          <p:cNvPicPr/>
          <p:nvPr/>
        </p:nvPicPr>
        <p:blipFill>
          <a:blip r:embed="rId1"/>
          <a:stretch/>
        </p:blipFill>
        <p:spPr>
          <a:xfrm>
            <a:off x="5003640" y="836640"/>
            <a:ext cx="3745080" cy="3384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u=3726651110,1064518292&amp;fm=52&amp;gp=0"/>
          <p:cNvPicPr/>
          <p:nvPr/>
        </p:nvPicPr>
        <p:blipFill>
          <a:blip r:embed="rId2"/>
          <a:stretch/>
        </p:blipFill>
        <p:spPr>
          <a:xfrm>
            <a:off x="684360" y="907920"/>
            <a:ext cx="3671640" cy="3313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3276720" y="4941720"/>
            <a:ext cx="273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cc"/>
                </a:solidFill>
                <a:latin typeface="Times New Roman"/>
              </a:rPr>
              <a:t>诺曼底登陆</a:t>
            </a:r>
            <a:endParaRPr b="1" lang="en-US" sz="3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u=3720997276,4012778564&amp;fm=0&amp;gp=0"/>
          <p:cNvPicPr/>
          <p:nvPr/>
        </p:nvPicPr>
        <p:blipFill>
          <a:blip r:embed="rId1"/>
          <a:stretch/>
        </p:blipFill>
        <p:spPr>
          <a:xfrm>
            <a:off x="4932360" y="620640"/>
            <a:ext cx="2735280" cy="284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u=3548939620,2054755208&amp;fm=51&amp;gp=0"/>
          <p:cNvPicPr/>
          <p:nvPr/>
        </p:nvPicPr>
        <p:blipFill>
          <a:blip r:embed="rId2"/>
          <a:stretch/>
        </p:blipFill>
        <p:spPr>
          <a:xfrm>
            <a:off x="1187280" y="620640"/>
            <a:ext cx="2899080" cy="2808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250920" y="4365720"/>
            <a:ext cx="872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1893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年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宋庆龄诞生在上海。她少年时在美国接受了“欧洲式的教育”，受到民主主义的洗礼。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1915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年与流亡中的孙中山结婚 ， 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1949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年宋庆龄当选为中华人民共和国中央人民政府副主席，她把许多精力投入妇女与儿童的文化、教育、卫生与福利事业中，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1981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年病逝于北京。 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669840" y="3645000"/>
            <a:ext cx="1140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宋庆龄</a:t>
            </a:r>
            <a:endParaRPr b="1" lang="en-US" sz="4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u=2347553211,3350316865&amp;fm=52&amp;gp=0"/>
          <p:cNvPicPr/>
          <p:nvPr/>
        </p:nvPicPr>
        <p:blipFill>
          <a:blip r:embed="rId1"/>
          <a:stretch/>
        </p:blipFill>
        <p:spPr>
          <a:xfrm>
            <a:off x="971640" y="333360"/>
            <a:ext cx="2592360" cy="2454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u=28479546,515277086&amp;fm=52&amp;gp=0"/>
          <p:cNvPicPr/>
          <p:nvPr/>
        </p:nvPicPr>
        <p:blipFill>
          <a:blip r:embed="rId2"/>
          <a:stretch/>
        </p:blipFill>
        <p:spPr>
          <a:xfrm>
            <a:off x="971640" y="3573360"/>
            <a:ext cx="2311200" cy="26463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4140360" y="991800"/>
            <a:ext cx="4105080" cy="192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PMingLiU"/>
              </a:rPr>
              <a:t>      </a:t>
            </a:r>
            <a:r>
              <a:rPr b="1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（    ）年（</a:t>
            </a:r>
            <a:r>
              <a:rPr b="1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11</a:t>
            </a:r>
            <a:r>
              <a:rPr b="1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）月，为纪念在华沙召开的世界和平大会，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（      ）画了一只衔着（      ）的飞鸽。由此，鸽子被正式公认为（     ）的象征。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6" name="Picture 8" descr="u=2468400631,1213018213&amp;fm=51&amp;gp=0"/>
          <p:cNvPicPr/>
          <p:nvPr/>
        </p:nvPicPr>
        <p:blipFill>
          <a:blip r:embed="rId3"/>
          <a:stretch/>
        </p:blipFill>
        <p:spPr>
          <a:xfrm>
            <a:off x="3635280" y="3716280"/>
            <a:ext cx="3600720" cy="2881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9"/>
          <p:cNvSpPr/>
          <p:nvPr/>
        </p:nvSpPr>
        <p:spPr>
          <a:xfrm>
            <a:off x="4843080" y="177336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PMingLiU"/>
              </a:rPr>
              <a:t>毕加索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6300720" y="170028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5203440" y="220500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PMingLiU"/>
              </a:rPr>
              <a:t>橄榄枝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5210280" y="30686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PMingLiU"/>
              </a:rPr>
              <a:t>和平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5127120" y="326880"/>
            <a:ext cx="84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950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经历了战争的苦难，人们对和平充满着渴望。多么希望有一天，世界上不再有战争，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人类和睦相处，永远和平。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3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6166440" y="5084640"/>
            <a:ext cx="1658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cc"/>
                </a:solidFill>
                <a:latin typeface="Times New Roman"/>
              </a:rPr>
              <a:t>屠杀百姓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1" name="Picture 11" descr="屠杀百姓"/>
          <p:cNvPicPr/>
          <p:nvPr/>
        </p:nvPicPr>
        <p:blipFill>
          <a:blip r:embed="rId1"/>
          <a:stretch/>
        </p:blipFill>
        <p:spPr>
          <a:xfrm>
            <a:off x="4859280" y="1052640"/>
            <a:ext cx="3824280" cy="36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5" descr="轰炸上海"/>
          <p:cNvPicPr/>
          <p:nvPr/>
        </p:nvPicPr>
        <p:blipFill>
          <a:blip r:embed="rId2"/>
          <a:stretch/>
        </p:blipFill>
        <p:spPr>
          <a:xfrm>
            <a:off x="324000" y="1052640"/>
            <a:ext cx="3887640" cy="3671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684360" y="5157720"/>
            <a:ext cx="324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cc"/>
                </a:solidFill>
                <a:latin typeface="Times New Roman"/>
              </a:rPr>
              <a:t>轰炸上海</a:t>
            </a:r>
            <a:endParaRPr b="1" lang="en-US" sz="4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人们用什么方式表达对和平的渴望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u=1747924192,2991236588&amp;fm=52&amp;gp=0"/>
          <p:cNvPicPr/>
          <p:nvPr/>
        </p:nvPicPr>
        <p:blipFill>
          <a:blip r:embed="rId1"/>
          <a:stretch/>
        </p:blipFill>
        <p:spPr>
          <a:xfrm>
            <a:off x="3059280" y="4005360"/>
            <a:ext cx="2950920" cy="244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u=1190798832,468342963&amp;fm=51&amp;gp=0"/>
          <p:cNvPicPr/>
          <p:nvPr/>
        </p:nvPicPr>
        <p:blipFill>
          <a:blip r:embed="rId2"/>
          <a:stretch/>
        </p:blipFill>
        <p:spPr>
          <a:xfrm>
            <a:off x="395280" y="4437000"/>
            <a:ext cx="2233800" cy="2232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u=2375508862,4095253934&amp;fm=52&amp;gp=0"/>
          <p:cNvPicPr/>
          <p:nvPr/>
        </p:nvPicPr>
        <p:blipFill>
          <a:blip r:embed="rId3"/>
          <a:stretch/>
        </p:blipFill>
        <p:spPr>
          <a:xfrm>
            <a:off x="468360" y="1268280"/>
            <a:ext cx="3168720" cy="2449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u=3617841298,3600459116&amp;fm=0&amp;gp=0"/>
          <p:cNvPicPr/>
          <p:nvPr/>
        </p:nvPicPr>
        <p:blipFill>
          <a:blip r:embed="rId4"/>
          <a:stretch/>
        </p:blipFill>
        <p:spPr>
          <a:xfrm>
            <a:off x="4932360" y="1268280"/>
            <a:ext cx="2735280" cy="2305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u=2036233451,3377484589&amp;fm=52&amp;gp=0"/>
          <p:cNvPicPr/>
          <p:nvPr/>
        </p:nvPicPr>
        <p:blipFill>
          <a:blip r:embed="rId5"/>
          <a:stretch/>
        </p:blipFill>
        <p:spPr>
          <a:xfrm>
            <a:off x="6443640" y="4221000"/>
            <a:ext cx="237636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1487-37CA-4CEB-A298-8DC3172E4113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u=2036233451,3377484589&amp;fm=52&amp;gp=0"/>
          <p:cNvPicPr/>
          <p:nvPr/>
        </p:nvPicPr>
        <p:blipFill>
          <a:blip r:embed="rId1"/>
          <a:stretch/>
        </p:blipFill>
        <p:spPr>
          <a:xfrm>
            <a:off x="2195640" y="836640"/>
            <a:ext cx="4464000" cy="30672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239840" y="4049640"/>
            <a:ext cx="7292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打结的枪管的意义？表达了人们什么愿望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473720" y="4780080"/>
            <a:ext cx="71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意义：反对战争、停止战争、禁止战争。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258080" y="5529240"/>
            <a:ext cx="50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表达了人们：渴望和平的愿望。 </a:t>
            </a:r>
            <a:endParaRPr b="1" lang="en-US" sz="3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777480" y="407664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战争中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5" name="Picture 5" descr="战争中"/>
          <p:cNvPicPr/>
          <p:nvPr/>
        </p:nvPicPr>
        <p:blipFill>
          <a:blip r:embed="rId1"/>
          <a:stretch/>
        </p:blipFill>
        <p:spPr>
          <a:xfrm>
            <a:off x="1692360" y="765000"/>
            <a:ext cx="5256000" cy="3240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547640" y="4869000"/>
            <a:ext cx="597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zh-CN" sz="2600" spc="-1" strike="noStrike">
                <a:solidFill>
                  <a:srgbClr val="dc3400"/>
                </a:solidFill>
                <a:latin typeface="Times New Roman"/>
                <a:ea typeface="黑体"/>
              </a:rPr>
              <a:t>　  </a:t>
            </a:r>
            <a:r>
              <a:rPr b="1" lang="zh-CN" sz="3400" spc="-1" strike="noStrike">
                <a:solidFill>
                  <a:srgbClr val="dc3400"/>
                </a:solidFill>
                <a:latin typeface="Times New Roman"/>
                <a:ea typeface="黑体"/>
              </a:rPr>
              <a:t>为了制止战争、实现和维护人类的和平，人们进行了不懈的努力。</a:t>
            </a:r>
            <a:r>
              <a:rPr b="1" lang="zh-CN" sz="3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1" lang="en-US" sz="3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1"/>
          <p:cNvSpPr/>
          <p:nvPr/>
        </p:nvSpPr>
        <p:spPr>
          <a:xfrm>
            <a:off x="1258920" y="40464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</a:rPr>
              <a:t>一、为了和平</a:t>
            </a:r>
            <a:endParaRPr b="1" lang="en-US" sz="6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4572000" y="1700280"/>
            <a:ext cx="316872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、　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你知道联合国是什么时候成立的吗？为什么要成立联合国？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9" name="Picture 23" descr="《联合国宪章》签署60周年"/>
          <p:cNvPicPr/>
          <p:nvPr/>
        </p:nvPicPr>
        <p:blipFill>
          <a:blip r:embed="rId1"/>
          <a:stretch/>
        </p:blipFill>
        <p:spPr>
          <a:xfrm>
            <a:off x="395280" y="1628640"/>
            <a:ext cx="3672000" cy="3095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849600" y="4869000"/>
            <a:ext cx="718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成立时间：</a:t>
            </a:r>
            <a:r>
              <a:rPr b="1" lang="en-US" sz="3400" spc="-1" strike="noStrike">
                <a:solidFill>
                  <a:srgbClr val="ff0000"/>
                </a:solidFill>
                <a:latin typeface="华文行楷"/>
                <a:ea typeface="华文行楷"/>
              </a:rPr>
              <a:t>1945</a:t>
            </a:r>
            <a:r>
              <a:rPr b="1" lang="zh-CN" sz="3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年</a:t>
            </a:r>
            <a:r>
              <a:rPr b="1" lang="en-US" sz="3400" spc="-1" strike="noStrike">
                <a:solidFill>
                  <a:srgbClr val="ff0000"/>
                </a:solidFill>
                <a:latin typeface="华文行楷"/>
                <a:ea typeface="华文行楷"/>
              </a:rPr>
              <a:t>10</a:t>
            </a:r>
            <a:r>
              <a:rPr b="1" lang="zh-CN" sz="3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月</a:t>
            </a:r>
            <a:r>
              <a:rPr b="1" lang="en-US" sz="3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4</a:t>
            </a:r>
            <a:r>
              <a:rPr b="1" lang="zh-CN" sz="3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日</a:t>
            </a:r>
            <a:r>
              <a:rPr b="1" lang="en-US" sz="34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《</a:t>
            </a:r>
            <a:r>
              <a:rPr b="1" lang="zh-CN" sz="3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联合国宪章</a:t>
            </a:r>
            <a:r>
              <a:rPr b="1" lang="en-US" sz="34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》</a:t>
            </a:r>
            <a:r>
              <a:rPr b="1" lang="zh-CN" sz="3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效</a:t>
            </a:r>
            <a:endParaRPr b="1" lang="en-US" sz="3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286160" y="55897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作用：维护和平、缓解冲突、促进发展和国际合作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041"/>
          <p:cNvSpPr/>
          <p:nvPr/>
        </p:nvSpPr>
        <p:spPr>
          <a:xfrm>
            <a:off x="611280" y="1197000"/>
            <a:ext cx="3600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zh-CN" sz="34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你知道联合</a:t>
            </a:r>
            <a:endParaRPr b="1" lang="en-US" sz="3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国会徽上面的图案是什么？有什么象征的意义吗？表达了人们的什么愿望？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Rectangle 1042"/>
          <p:cNvSpPr/>
          <p:nvPr/>
        </p:nvSpPr>
        <p:spPr>
          <a:xfrm>
            <a:off x="5959800" y="5589720"/>
            <a:ext cx="167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联合国会徽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4" name="Picture 1049" descr="联合国会徽"/>
          <p:cNvPicPr/>
          <p:nvPr/>
        </p:nvPicPr>
        <p:blipFill>
          <a:blip r:embed="rId1"/>
          <a:stretch/>
        </p:blipFill>
        <p:spPr>
          <a:xfrm>
            <a:off x="4500720" y="1557360"/>
            <a:ext cx="40320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9"/>
          <p:cNvSpPr/>
          <p:nvPr/>
        </p:nvSpPr>
        <p:spPr>
          <a:xfrm>
            <a:off x="539640" y="981000"/>
            <a:ext cx="66978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8000"/>
                </a:solidFill>
                <a:latin typeface="Times New Roman"/>
              </a:rPr>
              <a:t>　　联合国会徽的徽底</a:t>
            </a:r>
            <a:endParaRPr b="1" lang="en-US" sz="3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8000"/>
                </a:solidFill>
                <a:latin typeface="Times New Roman"/>
              </a:rPr>
              <a:t>为蓝色，图案为白色。</a:t>
            </a:r>
            <a:endParaRPr b="1" lang="en-US" sz="3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8000"/>
                </a:solidFill>
                <a:latin typeface="Times New Roman"/>
              </a:rPr>
              <a:t>它的图案是一幅从北极看去的世界地图，地图上标有陆地和海洋、经线和纬线。地图底部和左右两侧为橄榄枝环。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世界地图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象征着整个世界，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橄榄枝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象征着环绕世界的和平，体现着联合国的宗旨。表达了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人们对和平的渴望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。 </a:t>
            </a:r>
            <a:endParaRPr b="1" lang="en-US" sz="3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6" name="Picture 1049" descr="联合国会徽"/>
          <p:cNvPicPr/>
          <p:nvPr/>
        </p:nvPicPr>
        <p:blipFill>
          <a:blip r:embed="rId1"/>
          <a:stretch/>
        </p:blipFill>
        <p:spPr>
          <a:xfrm>
            <a:off x="5003640" y="189000"/>
            <a:ext cx="26640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"/>
          <p:cNvSpPr/>
          <p:nvPr/>
        </p:nvSpPr>
        <p:spPr>
          <a:xfrm>
            <a:off x="1116000" y="1125360"/>
            <a:ext cx="70959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、　联合国的圆桌会议形式表明了联合国在处理国际事物上的什么态度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042920" y="476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为了和平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9" name="Picture 10" descr="6"/>
          <p:cNvPicPr/>
          <p:nvPr/>
        </p:nvPicPr>
        <p:blipFill>
          <a:blip r:embed="rId1"/>
          <a:stretch/>
        </p:blipFill>
        <p:spPr>
          <a:xfrm>
            <a:off x="1187280" y="2205000"/>
            <a:ext cx="6723360" cy="2879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971640" y="5918400"/>
            <a:ext cx="731664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体现各国无论强弱，贫富，大小，主权一律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平等，即在联合国的政治地位平等。用平等协商的对话代替暴力。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3400"/>
                </a:solidFill>
                <a:latin typeface="Times New Roman"/>
                <a:ea typeface="隶书"/>
              </a:rPr>
              <a:t>联合国安理会五个常任理事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u=2415245074,820692069&amp;fm=52&amp;gp=0"/>
          <p:cNvPicPr/>
          <p:nvPr/>
        </p:nvPicPr>
        <p:blipFill>
          <a:blip r:embed="rId1"/>
          <a:stretch/>
        </p:blipFill>
        <p:spPr>
          <a:xfrm>
            <a:off x="1042920" y="2637000"/>
            <a:ext cx="4248360" cy="3384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408720" y="2492280"/>
            <a:ext cx="11408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cc"/>
                </a:solidFill>
                <a:latin typeface="Times New Roman"/>
              </a:rPr>
              <a:t>中国</a:t>
            </a:r>
            <a:endParaRPr b="1" lang="en-US" sz="4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cc"/>
                </a:solidFill>
                <a:latin typeface="Times New Roman"/>
              </a:rPr>
              <a:t>法国</a:t>
            </a:r>
            <a:endParaRPr b="1" lang="en-US" sz="4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cc"/>
                </a:solidFill>
                <a:latin typeface="Times New Roman"/>
              </a:rPr>
              <a:t>俄罗斯</a:t>
            </a:r>
            <a:endParaRPr b="1" lang="en-US" sz="4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cc"/>
                </a:solidFill>
                <a:latin typeface="Times New Roman"/>
              </a:rPr>
              <a:t>英国</a:t>
            </a:r>
            <a:endParaRPr b="1" lang="en-US" sz="4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cc"/>
                </a:solidFill>
                <a:latin typeface="Times New Roman"/>
              </a:rPr>
              <a:t>美国</a:t>
            </a:r>
            <a:endParaRPr b="1" lang="en-US" sz="4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625400" y="471600"/>
            <a:ext cx="4539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  联合国安全理事会  （简称：安理会）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维护国际和平与安全的机构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8T05:44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31Z</dcterms:modified>
  <cp:revision>1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d608000000000001024120</vt:lpwstr>
  </property>
</Properties>
</file>