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2.jpeg" ContentType="image/jpeg"/>
  <Override PartName="/ppt/media/image3.jpeg" ContentType="image/jpeg"/>
  <Override PartName="/ppt/media/hammer.wav" ContentType="audio/x-wav"/>
  <Override PartName="/ppt/media/click.wav" ContentType="audio/x-wav"/>
  <Override PartName="/ppt/media/image7.png" ContentType="image/png"/>
  <Override PartName="/ppt/media/image1.jpeg" ContentType="image/jpeg"/>
  <Override PartName="/ppt/media/image4.jpeg" ContentType="image/jpeg"/>
  <Override PartName="/ppt/media/suction.wav" ContentType="audio/x-wav"/>
  <Override PartName="/ppt/media/chimes.wav" ContentType="audio/x-wav"/>
  <Override PartName="/ppt/media/arrow.wav" ContentType="audio/x-wav"/>
  <Override PartName="/ppt/media/image6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8D7-4C89-4449-B2E6-F70EC251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874-1C67-4635-B632-5CBC2D7D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D9D-47DB-4FEC-A2F2-7B2D7CB3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749-9434-4470-BB1E-4B5F992E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BE16-7FBD-411D-B546-47D838A2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29F6-B2F5-4704-93A8-D7C8CD01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9D49-67E2-4F23-AF09-10FA7DE0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77E9-C281-44CB-8598-AFA32D1C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2273-34EF-47D1-9B22-270D731C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ADAA-C7FF-4AC0-88AB-8EB69816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4A93-2158-4F0B-88AA-D6C11689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5B3-2DC6-4613-8060-97CFDD39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D5B5-BA7B-4894-AC30-B0AD51B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32F7-7A8C-4547-9E22-D082EA2D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6133-3A55-4C48-8AFC-D35F13D6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219C-0CA7-4766-9451-EC6CF2F5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3BBC-710D-43C0-83CD-C07A4C26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A712-3C9A-4AEA-BD1D-D3DA50D3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1D41-BA75-49DD-9604-BD06FFDB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065C-2BAB-4DB1-830F-BCB586FC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4F7C-FCEA-46D2-9DB2-DF64BAAC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A750-28F1-42B6-AE6A-5AB1945D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0D4-521E-4F81-B10A-46BFCC57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D94E-811E-4E8E-9925-FD78D57E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0A3E-B25F-48D2-9B87-A0DA643A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40BF-B8A4-42F3-A9B9-6E0DB434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2D68-691E-44D4-B86E-8A1942DD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9125-35D6-4120-9527-23B8B852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3328-45EA-43C4-9644-20A85672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51C5-2FCA-490D-9267-68D66D21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B14-3E6E-413E-8A79-AAE24F03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610-6F0E-4BFD-AD0C-C0191E6F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0FE-A5C0-47C1-861C-3283ED97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ED3-5162-43B7-8AD3-63913ED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C19-43EE-496A-A4CC-87473B9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7F0-406A-41FE-AFED-3F5B9A8C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1C50-41F4-45B5-9386-5530A9E07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48B2-708F-47CE-94B5-B192E71B85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6BE4-619A-4F07-90D2-A6C874623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田野小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WordArt 3"/>
          <p:cNvSpPr txBox="1"/>
          <p:nvPr/>
        </p:nvSpPr>
        <p:spPr>
          <a:xfrm>
            <a:off x="762120" y="1427040"/>
            <a:ext cx="761976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防范侵害保护自己课件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68360" y="-36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后来，女孩镇定下来，终于用智慧保护了自己。成功脱险后，女孩还应该做些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报警，协助公安机关抓住犯罪分子，及时破案，避免更多的人遭受侵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说说这个故事对你的启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2"/>
          <p:cNvSpPr txBox="1"/>
          <p:nvPr/>
        </p:nvSpPr>
        <p:spPr>
          <a:xfrm>
            <a:off x="1258920" y="1197000"/>
            <a:ext cx="640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用智慧保护自己”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 rot="10800000">
            <a:off x="301680" y="11404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618920" y="3097080"/>
            <a:ext cx="68403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牙还牙，设法报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其拼命，实施自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忍气吞声，忍耐礼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告诉家长和老师，或向公安机关报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826920" y="5461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一位同学经常在上学路上被一伙高年级学生勒索。请你给被勒索的同学出主意，要想避免类似事件的再次发生，他应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900000" y="531720"/>
            <a:ext cx="576360" cy="57636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50920" y="609120"/>
            <a:ext cx="8540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仅自己的合法权益得不到维护，而且还侵犯了他人的合法权益，使自己也违了法，受到应有的制裁，因此不可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100b"/>
                </a:solidFill>
                <a:latin typeface="Arial"/>
              </a:rPr>
              <a:t>例如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同学间发生矛盾，不会合理解决，而是激化矛盾，将小事弄大，害人害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4356000" y="5229360"/>
            <a:ext cx="914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fe4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4872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与坏人相比，很明显自己的力量很薄弱，如果硬打硬拼，只能使自己的损失更大，甚至付出生命的代价。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50920" y="2565360"/>
            <a:ext cx="85406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20808"/>
                </a:solidFill>
                <a:latin typeface="楷体_GB2312"/>
                <a:ea typeface="楷体_GB2312"/>
              </a:rPr>
              <a:t>案例</a:t>
            </a:r>
            <a:r>
              <a:rPr b="0" lang="zh-CN" sz="4000" spc="-1" strike="noStrike">
                <a:solidFill>
                  <a:srgbClr val="760704"/>
                </a:solidFill>
                <a:latin typeface="楷体_GB2312"/>
                <a:ea typeface="楷体_GB2312"/>
              </a:rPr>
              <a:t>：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晚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的应届高中毕业生小任在回家的路上，遇到两名歹徒抢劫其手机。为此，这个勇敢的青年与两个歹徒展开了殊死搏斗，在搏斗中被歹徒刺中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后死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5796000" y="5589720"/>
            <a:ext cx="914400" cy="77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fe4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lick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395280" y="620640"/>
            <a:ext cx="8066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这样软弱的如同暴力魔爪下任人宰割的“沉默羔羊”，这种选择换来的往往是变本加厉的伤害。因此也不要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4572000" y="5013360"/>
            <a:ext cx="914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fe4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6060"/>
                </a:solidFill>
                <a:latin typeface="Arial"/>
              </a:rPr>
              <a:t>案例</a:t>
            </a:r>
            <a:r>
              <a:rPr b="0" lang="zh-CN" sz="4000" spc="-1" strike="noStrike">
                <a:solidFill>
                  <a:srgbClr val="730a07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中学七年级学生李华多次受到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不法分子的勒索。第一次，他们要她交</a:t>
            </a:r>
            <a:r>
              <a:rPr b="0" lang="en-US" sz="3600" spc="-1" strike="noStrike">
                <a:solidFill>
                  <a:srgbClr val="e46060"/>
                </a:solidFill>
                <a:latin typeface="楷体_GB2312"/>
                <a:ea typeface="楷体_GB2312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声称不给便要打她，不准她上学，她只好把存起来的零花钱给了他们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后，他们又让她交出</a:t>
            </a:r>
            <a:r>
              <a:rPr b="0" lang="en-US" sz="3600" spc="-1" strike="noStrike">
                <a:solidFill>
                  <a:srgbClr val="e46060"/>
                </a:solidFill>
                <a:latin typeface="楷体_GB2312"/>
                <a:ea typeface="楷体_GB2312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她只好偷偷向别人借钱，给了他们。但过了不到一个星期，这些人又来胁迫，要她交出</a:t>
            </a:r>
            <a:r>
              <a:rPr b="0" lang="en-US" sz="3600" spc="-1" strike="noStrike">
                <a:solidFill>
                  <a:srgbClr val="e46060"/>
                </a:solidFill>
                <a:latin typeface="楷体_GB2312"/>
                <a:ea typeface="楷体_GB2312"/>
              </a:rPr>
              <a:t>50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她交不出那么多钱，他们便把她劫持到一个旅馆，企图污辱她。幸好旅馆保安发现，才把她救了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684360" y="974880"/>
            <a:ext cx="78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力量对比悬殊较大，因此只有调整自己的心理，将损失降低到最小，人身安全第一，暂时妥协，事后及时告诉家长和老师或向公安机关报案。所以这才是最明智的选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"/>
          <p:cNvSpPr/>
          <p:nvPr/>
        </p:nvSpPr>
        <p:spPr>
          <a:xfrm>
            <a:off x="4032360" y="5943600"/>
            <a:ext cx="811080" cy="9144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468360" y="112536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青少年是国家的未来，民族的希望，党和国家历来重视对青少年的教育、引导和保护，并为青少年的健康成长创造良好的条件和环境。我国法律保护青少年的合法权益，当权益受到侵害时，我们要拿起法律武器保护自身的合法利益。</a:t>
            </a:r>
            <a:r>
              <a:rPr b="0" lang="zh-CN" sz="3600" spc="-1" strike="noStrike">
                <a:solidFill>
                  <a:srgbClr val="dd100b"/>
                </a:solidFill>
                <a:latin typeface="Arial"/>
                <a:ea typeface="新宋体"/>
              </a:rPr>
              <a:t>向公安机关报案就是依法维权的一种方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324000" y="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8"/>
                </a:moveTo>
                <a:lnTo>
                  <a:pt x="367462" y="349271"/>
                </a:lnTo>
                <a:lnTo>
                  <a:pt x="481012" y="0"/>
                </a:lnTo>
                <a:lnTo>
                  <a:pt x="594562" y="349271"/>
                </a:lnTo>
                <a:lnTo>
                  <a:pt x="962023" y="349268"/>
                </a:lnTo>
                <a:lnTo>
                  <a:pt x="664739" y="565127"/>
                </a:lnTo>
                <a:lnTo>
                  <a:pt x="778293" y="914397"/>
                </a:lnTo>
                <a:lnTo>
                  <a:pt x="481012" y="698534"/>
                </a:lnTo>
                <a:lnTo>
                  <a:pt x="183731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f9fbf"/>
                </a:solidFill>
                <a:latin typeface="Arial"/>
              </a:rPr>
              <a:t>相关法律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华人民共和国未成年人保护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华人民共和国预防未成年人犯罪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图片23"/>
          <p:cNvPicPr/>
          <p:nvPr/>
        </p:nvPicPr>
        <p:blipFill>
          <a:blip r:embed="rId1"/>
          <a:stretch/>
        </p:blipFill>
        <p:spPr>
          <a:xfrm>
            <a:off x="1187280" y="685800"/>
            <a:ext cx="1152720" cy="133812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8200"/>
          <p:cNvSpPr/>
          <p:nvPr/>
        </p:nvSpPr>
        <p:spPr>
          <a:xfrm>
            <a:off x="2727360" y="1600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219">
                                      <p:cBhvr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219">
                                      <p:cBhvr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11040" y="241200"/>
            <a:ext cx="73310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611280" y="19162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过学习，充分认识到我们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作为青少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仅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从思想上提高警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认识到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防范不法侵害，增强自我保护的必要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也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善于运用智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采用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机智灵活有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法保护自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必要时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也敢于用法律保护自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追求安全而充实的初中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2700360" y="371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u=3596551349,382073239&amp;fm=0&amp;gp=0"/>
          <p:cNvPicPr/>
          <p:nvPr/>
        </p:nvPicPr>
        <p:blipFill>
          <a:blip r:embed="rId2"/>
          <a:stretch/>
        </p:blipFill>
        <p:spPr>
          <a:xfrm>
            <a:off x="6012000" y="5013360"/>
            <a:ext cx="187164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FR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1187280" y="1916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页小峰的材料，并思考小峰在他的合法权益受到侵害时，他是怎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1857240" y="692280"/>
            <a:ext cx="538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用法律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维护自己合法权益的重要保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684360" y="35002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青少年在自己的合法权益受到非法侵害时，要拿起法律武器保护自身的合法权益。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5724360" y="6093000"/>
            <a:ext cx="1305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3"/>
          <p:cNvSpPr txBox="1"/>
          <p:nvPr/>
        </p:nvSpPr>
        <p:spPr>
          <a:xfrm>
            <a:off x="1403280" y="765000"/>
            <a:ext cx="59054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用法律保护自己”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826920" y="2370240"/>
            <a:ext cx="669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　⑴向公安机关报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⑵</a:t>
            </a: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拨打</a:t>
            </a:r>
            <a:r>
              <a:rPr b="0" lang="en-US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110</a:t>
            </a: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报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⑶</a:t>
            </a:r>
            <a:r>
              <a:rPr b="0" lang="zh-CN" sz="4800" spc="-1" strike="noStrike">
                <a:solidFill>
                  <a:srgbClr val="f45a74"/>
                </a:solidFill>
                <a:latin typeface="Arial"/>
                <a:ea typeface="仿宋_GB2312"/>
              </a:rPr>
              <a:t>向法院投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lick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7C90-ADA8-4FE5-B1F5-BB043ED6A5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2004413101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WordArt 3"/>
          <p:cNvSpPr txBox="1"/>
          <p:nvPr/>
        </p:nvSpPr>
        <p:spPr>
          <a:xfrm>
            <a:off x="1295280" y="60948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自我保护的方法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228600" y="16002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、提高警惕 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避免侵害的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重要前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380880" y="3048120"/>
            <a:ext cx="43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、用智慧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3962520" y="297180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4114800" y="2819520"/>
            <a:ext cx="5029200" cy="581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、用智慧想出好办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4067280" y="3789360"/>
            <a:ext cx="4952880" cy="520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、学会形势判断，作出取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457200" y="480060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、用法律武器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1930320" y="3657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重要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2013480" y="54864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重要保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78920" y="990360"/>
            <a:ext cx="87138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一天，小芳放学骑车回家，突然被另一骑车人撞倒，她捂着受伤的腿哭了，这时过来了一位慈祥的中年妇女，非常关心的安慰她，并说用车送她到医院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如果你是小芳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会怎么做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并说明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提高警惕，防范侵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2002731153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2235240" y="258840"/>
            <a:ext cx="465156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提高警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e2c5"/>
                </a:solidFill>
                <a:latin typeface="Times New Roman"/>
              </a:rPr>
              <a:t>这是避免受到侵害的重要前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1249560" y="1523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以下几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479520" y="2209680"/>
            <a:ext cx="8283600" cy="35420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切莫单独到偏僻的地方，不给坏人以机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早点回家，深夜莫出家门，经过黑暗地方要左右察看，加快脚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莫与陌生人约会，不要轻信不了解的人的话，包括不了解的老乡、同学的同学、同学的朋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女学生要注意文明自己的行为举止，得体的衣着打扮，不单独与异性交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0" y="76464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小芳感到是来了救星，心理非常感激，那人扶她上了一辆面包车，车飞快的跑着，路过两家医院，女孩喊：“这是医院”。但车也不停。那人说：“咱们到最好的医院去！”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请你就当前的形势作出判断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并说明理由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迅速判断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注意观察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利用周围环境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6"/>
          <p:cNvSpPr/>
          <p:nvPr/>
        </p:nvSpPr>
        <p:spPr>
          <a:xfrm>
            <a:off x="1403280" y="1628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40428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车一直开出北京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女孩看到窗外已经是农村的田野。她喊要下车，车上的人露出凶恶的面孔，一把刀抵在了她的胸前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324000" y="314172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面对险情，小芳应该如何保护自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777680" y="765000"/>
            <a:ext cx="7365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人身安全第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力量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周围环境的利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机智求助他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观心理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避免无谓地激怒对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暂时妥协，事后报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611280" y="2060640"/>
            <a:ext cx="865080" cy="6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采用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机智灵活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黑体"/>
              </a:rPr>
              <a:t>的方法保护自己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360360" y="130968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遭遇意外险情与伤害时，需要冷静，要学会运用最有效的救助方法。　　　　　　　　　　　　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遭遇不法分子的侵害，有能力将其制服时，当然要勇敢地同其搏斗；没有能力将其制服，可以采取“呼救法”“周旋法”“恐吓法”等及时脱身。万不得已，也要对可能出现的不同后果进行比较，两害相权取其轻，争取把损失降到最小，保住最大的合法权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684360" y="1427040"/>
            <a:ext cx="5364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FR_025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01992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24224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00000" y="2637000"/>
            <a:ext cx="729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用智慧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避免受到侵害的重要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16:17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0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