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1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CFC-2F28-4285-ACDD-9713D8E2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531-A858-42C4-8840-D79C2501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1C86A-782F-4E7A-84E6-8E0D9DE2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93935-B534-4E72-A49D-DFAF9EC9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B4E76-DA51-4389-9D00-FF6A0092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C129A-A32C-410B-B11C-1BFB8D58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1C92C-07DF-4419-A2FF-D478E057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610CD-14F0-4A76-A50F-101A7967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04961-0E9A-4ACF-8850-2414D138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FC29A-C1AE-42B8-96E1-CA31D588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99AAC-AB9E-41B0-B2A1-91CA5292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0C1-C031-4A34-9B3B-B90D6802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69D-8CBD-4C45-8546-75BE46AA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5EB9-1F23-42DA-BAA2-FE9D1B75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1B66-5EFF-49BB-8D9C-B8E68086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CB8C-43A5-4AB3-8E52-756A20A6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ECBC-3585-4687-BFC0-0F8188F3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9B8B-E746-44EC-A4C8-297E81C7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A1AB-27A2-4227-AD40-8020D0E2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731C-4CA9-477A-B26E-02CE4F34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1BE9-2864-49AC-8430-93A3E4EB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BC91-BAC1-4A03-94B9-55717DFF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7478-3912-428A-83BD-D3B3AD82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E2EF-4A04-4169-BBB4-28DF7EFC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B44B-6210-4A65-9EEB-BC7BC932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7ED1-DA14-4749-AAB0-B5D959B6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995E2-377A-42C5-97EC-06745DDA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CCB2C-98BA-4111-ABEE-420D1CE3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90B4F-52B2-4A77-8896-123AE300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E786F-B26E-4E32-B250-F70A0FCF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1E033-5CA1-4E93-B2C6-525A9C28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EEF-28BA-421E-8860-DDDBA18C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4FF4C-F4A4-4435-86FA-97F454D0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4445C-4CCB-4D72-942C-1E85E29D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EB47C-056F-4B0C-8555-D73482F1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0B91C-5D7C-4785-B2A0-EFAD0141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742AD-B2CE-450C-9032-46DC83C9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D6939-1FDB-462C-AD00-08FAD455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9AE7A-D0EF-4FB8-A4E6-ED05E73D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2489E-80A3-42C1-B347-DEB79448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E4BBF-0AFB-4722-81A7-80F52F88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363D5-D6B9-485F-ABEC-E8152682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923-E80B-4869-BC68-392059E0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C80D3-86F4-464D-B626-9D115E5D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A3298-7F28-45E7-95D6-B9C68CEE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9A822-0A44-4586-B257-E3DF9BBE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DF4BE-3C31-42F8-B1A5-73907E6F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B10BA-5DDA-4769-9D6A-02F855E4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5487-958E-4A2C-AA71-036B90F6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E588B-C11F-47A3-95F0-B2F4AC25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106F9-8DDB-4155-BD8A-769C2217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BA776-AC97-4920-AD6A-6BAF5510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6ECC2-25FB-4DC4-82BA-510532B5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226-082B-4A78-BBEF-9D3ACFEC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083C33-F1AB-40D3-B30F-B7655DCD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F2E05-6EFB-4938-AD5D-E579FD9B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A6E88-A5DA-4195-88F6-2F7FB940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2D4157-2CC4-438B-A1F4-AE0B2783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8E770-E198-43E4-9E52-01C76324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F7379-673A-40F9-A20A-B4C67B1E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6C698C-BFD8-4145-8A34-EC7C8881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0AAD7-96DA-45D9-938F-C070EAA3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7E6681-FC7F-45BC-BFE3-E1BFF33A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21737-4D91-41F2-9DBD-EC7187CF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A31-85CB-4108-8D05-8C699C4B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4C801-EEEA-42C6-BE98-CE48E623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311A8-A0B4-4122-BCE6-302809C5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D732B-32F4-493B-A646-A6B64195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C1170-57FB-44B1-BC8B-189CD49E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3EF68-54C9-4738-95CA-96D22730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4FB6E-FF52-49A3-B4EA-00842128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EE6F4-7C59-4ABD-BEB7-17FA29CD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5ABFD-FA10-496B-A4B2-DF448672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410A9-7F13-4CE3-8BD3-5D678E7A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5E3C2-A210-46D5-8B6C-D0C001EE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B5D-91EB-470D-B54F-60ED2301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6EF46-56F1-47DD-BBE6-6B389691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62319-0C83-4150-AE57-E28D00FE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198E2-70B5-4B36-BC2A-7C5A453C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68870-32F7-4B72-8D5D-0727053E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CE9E6-553D-4F24-A3D2-E2A6592D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E0A4C-39A9-48E2-86C0-239E1F6D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8ABC2-2790-46DC-8BFB-C9FEC144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B0449-F6B8-4EAF-8757-96BD8051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3C73C-4AC9-4F9D-8DF5-F5EC2896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D9008-9A12-4C60-B1EA-4906D0B1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553-348C-4152-874B-E303F9D0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CF923-1C4E-495A-B348-41A3F63A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D17BA-F3F2-4B44-93ED-802AE4D6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3AEC6-3D65-401D-A4A8-EE434700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CEC47-AAF6-4AF8-AE8E-E152372F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F1436-C714-4D62-9285-D9E66A65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D61C9-260A-4820-9DDB-E6110ED5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F9444-4E30-4AE0-8FF2-E5080AC1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06DD8-5492-4FCB-94C0-D66649E5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9677D-01D9-4AD6-855C-BF95D511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3127B-FB31-489E-B1BC-6E5E1D61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AF8-B658-4F4A-8731-B20E269B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0068A-BD9B-4301-A8CA-1CF452C0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5DA71-3CA6-4DDE-9F7C-EF83B959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23B53-9F96-4FF9-BD4F-5062ED83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00512-9746-437F-9EB7-6D32C426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6784C-3FC5-4949-B819-C72E26A3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86C28-9B74-489E-BFA1-24B7489E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02ABC-65C8-406D-A402-B67C52BB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F08F5-C285-450F-A8B6-D24FF082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DA77A-462E-462F-ABDB-4E65BDAB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7F0BC-0011-4A1E-B51D-3F20BEEE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32BD-AAFE-429B-983D-154F6444F884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B32E-DAEE-4509-B9E7-F26A030963F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300"/>
          <p:cNvSpPr/>
          <p:nvPr/>
        </p:nvSpPr>
        <p:spPr>
          <a:xfrm>
            <a:off x="2603520" y="-4680"/>
            <a:ext cx="720720" cy="1089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42"/>
          <p:cNvSpPr/>
          <p:nvPr/>
        </p:nvSpPr>
        <p:spPr>
          <a:xfrm>
            <a:off x="468360" y="0"/>
            <a:ext cx="612720" cy="3068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361"/>
          <p:cNvSpPr/>
          <p:nvPr/>
        </p:nvSpPr>
        <p:spPr>
          <a:xfrm>
            <a:off x="863640" y="7920"/>
            <a:ext cx="569880" cy="2058840"/>
          </a:xfrm>
          <a:custGeom>
            <a:avLst/>
            <a:gdLst/>
            <a:ahLst/>
            <a:rect l="l" t="t" r="r" b="b"/>
            <a:pathLst>
              <a:path w="359" h="1297">
                <a:moveTo>
                  <a:pt x="0" y="0"/>
                </a:moveTo>
                <a:cubicBezTo>
                  <a:pt x="21" y="112"/>
                  <a:pt x="42" y="224"/>
                  <a:pt x="68" y="341"/>
                </a:cubicBezTo>
                <a:cubicBezTo>
                  <a:pt x="94" y="458"/>
                  <a:pt x="114" y="595"/>
                  <a:pt x="159" y="704"/>
                </a:cubicBezTo>
                <a:cubicBezTo>
                  <a:pt x="204" y="813"/>
                  <a:pt x="321" y="907"/>
                  <a:pt x="340" y="998"/>
                </a:cubicBezTo>
                <a:cubicBezTo>
                  <a:pt x="359" y="1089"/>
                  <a:pt x="310" y="1199"/>
                  <a:pt x="272" y="1248"/>
                </a:cubicBezTo>
                <a:cubicBezTo>
                  <a:pt x="234" y="1297"/>
                  <a:pt x="151" y="1297"/>
                  <a:pt x="113" y="1293"/>
                </a:cubicBezTo>
                <a:cubicBezTo>
                  <a:pt x="75" y="1289"/>
                  <a:pt x="56" y="1255"/>
                  <a:pt x="45" y="1225"/>
                </a:cubicBezTo>
                <a:cubicBezTo>
                  <a:pt x="34" y="1195"/>
                  <a:pt x="34" y="1142"/>
                  <a:pt x="45" y="1112"/>
                </a:cubicBezTo>
                <a:cubicBezTo>
                  <a:pt x="56" y="1082"/>
                  <a:pt x="83" y="1055"/>
                  <a:pt x="113" y="1044"/>
                </a:cubicBezTo>
                <a:cubicBezTo>
                  <a:pt x="143" y="1033"/>
                  <a:pt x="201" y="1029"/>
                  <a:pt x="227" y="1044"/>
                </a:cubicBezTo>
                <a:cubicBezTo>
                  <a:pt x="253" y="1059"/>
                  <a:pt x="268" y="1104"/>
                  <a:pt x="272" y="1134"/>
                </a:cubicBezTo>
                <a:cubicBezTo>
                  <a:pt x="276" y="1164"/>
                  <a:pt x="268" y="1206"/>
                  <a:pt x="249" y="1225"/>
                </a:cubicBezTo>
                <a:cubicBezTo>
                  <a:pt x="230" y="1244"/>
                  <a:pt x="185" y="1252"/>
                  <a:pt x="159" y="1248"/>
                </a:cubicBezTo>
                <a:cubicBezTo>
                  <a:pt x="133" y="1244"/>
                  <a:pt x="102" y="1221"/>
                  <a:pt x="91" y="1202"/>
                </a:cubicBezTo>
                <a:cubicBezTo>
                  <a:pt x="80" y="1183"/>
                  <a:pt x="84" y="1153"/>
                  <a:pt x="91" y="1134"/>
                </a:cubicBezTo>
                <a:cubicBezTo>
                  <a:pt x="98" y="1115"/>
                  <a:pt x="117" y="1097"/>
                  <a:pt x="136" y="1089"/>
                </a:cubicBezTo>
                <a:cubicBezTo>
                  <a:pt x="155" y="1081"/>
                  <a:pt x="189" y="1078"/>
                  <a:pt x="204" y="1089"/>
                </a:cubicBezTo>
                <a:cubicBezTo>
                  <a:pt x="219" y="1100"/>
                  <a:pt x="231" y="1138"/>
                  <a:pt x="227" y="1157"/>
                </a:cubicBezTo>
                <a:cubicBezTo>
                  <a:pt x="223" y="1176"/>
                  <a:pt x="196" y="1195"/>
                  <a:pt x="181" y="1202"/>
                </a:cubicBezTo>
                <a:cubicBezTo>
                  <a:pt x="166" y="1209"/>
                  <a:pt x="147" y="1209"/>
                  <a:pt x="136" y="1202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362"/>
          <p:cNvSpPr/>
          <p:nvPr/>
        </p:nvSpPr>
        <p:spPr>
          <a:xfrm>
            <a:off x="1150920" y="981000"/>
            <a:ext cx="546120" cy="455760"/>
          </a:xfrm>
          <a:custGeom>
            <a:avLst/>
            <a:gdLst/>
            <a:ahLst/>
            <a:rect l="l" t="t" r="r" b="b"/>
            <a:pathLst>
              <a:path w="344" h="287">
                <a:moveTo>
                  <a:pt x="0" y="132"/>
                </a:moveTo>
                <a:cubicBezTo>
                  <a:pt x="43" y="190"/>
                  <a:pt x="87" y="249"/>
                  <a:pt x="136" y="268"/>
                </a:cubicBezTo>
                <a:cubicBezTo>
                  <a:pt x="185" y="287"/>
                  <a:pt x="261" y="269"/>
                  <a:pt x="295" y="246"/>
                </a:cubicBezTo>
                <a:cubicBezTo>
                  <a:pt x="329" y="223"/>
                  <a:pt x="336" y="170"/>
                  <a:pt x="340" y="132"/>
                </a:cubicBezTo>
                <a:cubicBezTo>
                  <a:pt x="344" y="94"/>
                  <a:pt x="336" y="38"/>
                  <a:pt x="317" y="19"/>
                </a:cubicBezTo>
                <a:cubicBezTo>
                  <a:pt x="298" y="0"/>
                  <a:pt x="253" y="11"/>
                  <a:pt x="227" y="19"/>
                </a:cubicBezTo>
                <a:cubicBezTo>
                  <a:pt x="201" y="27"/>
                  <a:pt x="170" y="37"/>
                  <a:pt x="159" y="64"/>
                </a:cubicBezTo>
                <a:cubicBezTo>
                  <a:pt x="148" y="91"/>
                  <a:pt x="152" y="152"/>
                  <a:pt x="159" y="178"/>
                </a:cubicBezTo>
                <a:cubicBezTo>
                  <a:pt x="166" y="204"/>
                  <a:pt x="185" y="215"/>
                  <a:pt x="204" y="223"/>
                </a:cubicBezTo>
                <a:cubicBezTo>
                  <a:pt x="223" y="231"/>
                  <a:pt x="257" y="234"/>
                  <a:pt x="272" y="223"/>
                </a:cubicBezTo>
                <a:cubicBezTo>
                  <a:pt x="287" y="212"/>
                  <a:pt x="291" y="178"/>
                  <a:pt x="295" y="155"/>
                </a:cubicBezTo>
                <a:cubicBezTo>
                  <a:pt x="299" y="132"/>
                  <a:pt x="306" y="102"/>
                  <a:pt x="295" y="87"/>
                </a:cubicBezTo>
                <a:cubicBezTo>
                  <a:pt x="284" y="72"/>
                  <a:pt x="242" y="57"/>
                  <a:pt x="227" y="64"/>
                </a:cubicBezTo>
                <a:cubicBezTo>
                  <a:pt x="212" y="71"/>
                  <a:pt x="200" y="117"/>
                  <a:pt x="204" y="132"/>
                </a:cubicBezTo>
                <a:cubicBezTo>
                  <a:pt x="208" y="147"/>
                  <a:pt x="256" y="155"/>
                  <a:pt x="249" y="155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363"/>
          <p:cNvSpPr/>
          <p:nvPr/>
        </p:nvSpPr>
        <p:spPr>
          <a:xfrm>
            <a:off x="1547640" y="7920"/>
            <a:ext cx="360360" cy="541440"/>
          </a:xfrm>
          <a:custGeom>
            <a:avLst/>
            <a:gdLst/>
            <a:ahLst/>
            <a:rect l="l" t="t" r="r" b="b"/>
            <a:pathLst>
              <a:path w="344" h="507">
                <a:moveTo>
                  <a:pt x="45" y="0"/>
                </a:moveTo>
                <a:cubicBezTo>
                  <a:pt x="37" y="44"/>
                  <a:pt x="30" y="88"/>
                  <a:pt x="23" y="137"/>
                </a:cubicBezTo>
                <a:cubicBezTo>
                  <a:pt x="16" y="186"/>
                  <a:pt x="0" y="246"/>
                  <a:pt x="0" y="295"/>
                </a:cubicBezTo>
                <a:cubicBezTo>
                  <a:pt x="0" y="344"/>
                  <a:pt x="4" y="397"/>
                  <a:pt x="23" y="431"/>
                </a:cubicBezTo>
                <a:cubicBezTo>
                  <a:pt x="42" y="465"/>
                  <a:pt x="72" y="491"/>
                  <a:pt x="113" y="499"/>
                </a:cubicBezTo>
                <a:cubicBezTo>
                  <a:pt x="154" y="507"/>
                  <a:pt x="234" y="503"/>
                  <a:pt x="272" y="477"/>
                </a:cubicBezTo>
                <a:cubicBezTo>
                  <a:pt x="310" y="451"/>
                  <a:pt x="336" y="386"/>
                  <a:pt x="340" y="341"/>
                </a:cubicBezTo>
                <a:cubicBezTo>
                  <a:pt x="344" y="296"/>
                  <a:pt x="329" y="235"/>
                  <a:pt x="295" y="205"/>
                </a:cubicBezTo>
                <a:cubicBezTo>
                  <a:pt x="261" y="175"/>
                  <a:pt x="174" y="152"/>
                  <a:pt x="136" y="159"/>
                </a:cubicBezTo>
                <a:cubicBezTo>
                  <a:pt x="98" y="166"/>
                  <a:pt x="79" y="223"/>
                  <a:pt x="68" y="250"/>
                </a:cubicBezTo>
                <a:cubicBezTo>
                  <a:pt x="57" y="277"/>
                  <a:pt x="64" y="292"/>
                  <a:pt x="68" y="318"/>
                </a:cubicBezTo>
                <a:cubicBezTo>
                  <a:pt x="72" y="344"/>
                  <a:pt x="76" y="390"/>
                  <a:pt x="91" y="409"/>
                </a:cubicBezTo>
                <a:cubicBezTo>
                  <a:pt x="106" y="428"/>
                  <a:pt x="136" y="427"/>
                  <a:pt x="159" y="431"/>
                </a:cubicBezTo>
                <a:cubicBezTo>
                  <a:pt x="182" y="435"/>
                  <a:pt x="204" y="454"/>
                  <a:pt x="227" y="431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364"/>
          <p:cNvSpPr/>
          <p:nvPr/>
        </p:nvSpPr>
        <p:spPr>
          <a:xfrm>
            <a:off x="2400480" y="7920"/>
            <a:ext cx="226800" cy="1441440"/>
          </a:xfrm>
          <a:custGeom>
            <a:avLst/>
            <a:gdLst/>
            <a:ahLst/>
            <a:rect l="l" t="t" r="r" b="b"/>
            <a:pathLst>
              <a:path w="143" h="908">
                <a:moveTo>
                  <a:pt x="53" y="0"/>
                </a:moveTo>
                <a:cubicBezTo>
                  <a:pt x="79" y="13"/>
                  <a:pt x="106" y="27"/>
                  <a:pt x="98" y="114"/>
                </a:cubicBezTo>
                <a:cubicBezTo>
                  <a:pt x="90" y="201"/>
                  <a:pt x="14" y="409"/>
                  <a:pt x="7" y="522"/>
                </a:cubicBezTo>
                <a:cubicBezTo>
                  <a:pt x="0" y="635"/>
                  <a:pt x="30" y="730"/>
                  <a:pt x="53" y="794"/>
                </a:cubicBezTo>
                <a:cubicBezTo>
                  <a:pt x="76" y="858"/>
                  <a:pt x="109" y="883"/>
                  <a:pt x="143" y="908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365"/>
          <p:cNvSpPr/>
          <p:nvPr/>
        </p:nvSpPr>
        <p:spPr>
          <a:xfrm>
            <a:off x="3324240" y="7920"/>
            <a:ext cx="612720" cy="787320"/>
          </a:xfrm>
          <a:custGeom>
            <a:avLst/>
            <a:gdLst/>
            <a:ahLst/>
            <a:rect l="l" t="t" r="r" b="b"/>
            <a:pathLst>
              <a:path w="386" h="496">
                <a:moveTo>
                  <a:pt x="15" y="0"/>
                </a:moveTo>
                <a:cubicBezTo>
                  <a:pt x="7" y="98"/>
                  <a:pt x="0" y="197"/>
                  <a:pt x="15" y="273"/>
                </a:cubicBezTo>
                <a:cubicBezTo>
                  <a:pt x="30" y="349"/>
                  <a:pt x="65" y="420"/>
                  <a:pt x="106" y="454"/>
                </a:cubicBezTo>
                <a:cubicBezTo>
                  <a:pt x="147" y="488"/>
                  <a:pt x="219" y="496"/>
                  <a:pt x="264" y="477"/>
                </a:cubicBezTo>
                <a:cubicBezTo>
                  <a:pt x="309" y="458"/>
                  <a:pt x="370" y="390"/>
                  <a:pt x="378" y="341"/>
                </a:cubicBezTo>
                <a:cubicBezTo>
                  <a:pt x="386" y="292"/>
                  <a:pt x="344" y="208"/>
                  <a:pt x="310" y="182"/>
                </a:cubicBezTo>
                <a:cubicBezTo>
                  <a:pt x="276" y="156"/>
                  <a:pt x="204" y="163"/>
                  <a:pt x="174" y="182"/>
                </a:cubicBezTo>
                <a:cubicBezTo>
                  <a:pt x="144" y="201"/>
                  <a:pt x="124" y="261"/>
                  <a:pt x="128" y="295"/>
                </a:cubicBezTo>
                <a:cubicBezTo>
                  <a:pt x="132" y="329"/>
                  <a:pt x="166" y="375"/>
                  <a:pt x="196" y="386"/>
                </a:cubicBezTo>
                <a:cubicBezTo>
                  <a:pt x="226" y="397"/>
                  <a:pt x="291" y="389"/>
                  <a:pt x="310" y="363"/>
                </a:cubicBezTo>
                <a:cubicBezTo>
                  <a:pt x="329" y="337"/>
                  <a:pt x="352" y="268"/>
                  <a:pt x="310" y="22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8114-0C53-4D5D-A515-6F274251FD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D7DB-F699-4A6A-BCDE-6535211AEC23}" type="datetime"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F949-E79C-4E76-9DA0-0B1968055E8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00"/>
          <p:cNvSpPr/>
          <p:nvPr/>
        </p:nvSpPr>
        <p:spPr>
          <a:xfrm>
            <a:off x="2603520" y="-4680"/>
            <a:ext cx="720720" cy="1089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42"/>
          <p:cNvSpPr/>
          <p:nvPr/>
        </p:nvSpPr>
        <p:spPr>
          <a:xfrm>
            <a:off x="468360" y="0"/>
            <a:ext cx="612720" cy="3068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61"/>
          <p:cNvSpPr/>
          <p:nvPr/>
        </p:nvSpPr>
        <p:spPr>
          <a:xfrm>
            <a:off x="863640" y="7920"/>
            <a:ext cx="569880" cy="2058840"/>
          </a:xfrm>
          <a:custGeom>
            <a:avLst/>
            <a:gdLst/>
            <a:ahLst/>
            <a:rect l="l" t="t" r="r" b="b"/>
            <a:pathLst>
              <a:path w="359" h="1297">
                <a:moveTo>
                  <a:pt x="0" y="0"/>
                </a:moveTo>
                <a:cubicBezTo>
                  <a:pt x="21" y="112"/>
                  <a:pt x="42" y="224"/>
                  <a:pt x="68" y="341"/>
                </a:cubicBezTo>
                <a:cubicBezTo>
                  <a:pt x="94" y="458"/>
                  <a:pt x="114" y="595"/>
                  <a:pt x="159" y="704"/>
                </a:cubicBezTo>
                <a:cubicBezTo>
                  <a:pt x="204" y="813"/>
                  <a:pt x="321" y="907"/>
                  <a:pt x="340" y="998"/>
                </a:cubicBezTo>
                <a:cubicBezTo>
                  <a:pt x="359" y="1089"/>
                  <a:pt x="310" y="1199"/>
                  <a:pt x="272" y="1248"/>
                </a:cubicBezTo>
                <a:cubicBezTo>
                  <a:pt x="234" y="1297"/>
                  <a:pt x="151" y="1297"/>
                  <a:pt x="113" y="1293"/>
                </a:cubicBezTo>
                <a:cubicBezTo>
                  <a:pt x="75" y="1289"/>
                  <a:pt x="56" y="1255"/>
                  <a:pt x="45" y="1225"/>
                </a:cubicBezTo>
                <a:cubicBezTo>
                  <a:pt x="34" y="1195"/>
                  <a:pt x="34" y="1142"/>
                  <a:pt x="45" y="1112"/>
                </a:cubicBezTo>
                <a:cubicBezTo>
                  <a:pt x="56" y="1082"/>
                  <a:pt x="83" y="1055"/>
                  <a:pt x="113" y="1044"/>
                </a:cubicBezTo>
                <a:cubicBezTo>
                  <a:pt x="143" y="1033"/>
                  <a:pt x="201" y="1029"/>
                  <a:pt x="227" y="1044"/>
                </a:cubicBezTo>
                <a:cubicBezTo>
                  <a:pt x="253" y="1059"/>
                  <a:pt x="268" y="1104"/>
                  <a:pt x="272" y="1134"/>
                </a:cubicBezTo>
                <a:cubicBezTo>
                  <a:pt x="276" y="1164"/>
                  <a:pt x="268" y="1206"/>
                  <a:pt x="249" y="1225"/>
                </a:cubicBezTo>
                <a:cubicBezTo>
                  <a:pt x="230" y="1244"/>
                  <a:pt x="185" y="1252"/>
                  <a:pt x="159" y="1248"/>
                </a:cubicBezTo>
                <a:cubicBezTo>
                  <a:pt x="133" y="1244"/>
                  <a:pt x="102" y="1221"/>
                  <a:pt x="91" y="1202"/>
                </a:cubicBezTo>
                <a:cubicBezTo>
                  <a:pt x="80" y="1183"/>
                  <a:pt x="84" y="1153"/>
                  <a:pt x="91" y="1134"/>
                </a:cubicBezTo>
                <a:cubicBezTo>
                  <a:pt x="98" y="1115"/>
                  <a:pt x="117" y="1097"/>
                  <a:pt x="136" y="1089"/>
                </a:cubicBezTo>
                <a:cubicBezTo>
                  <a:pt x="155" y="1081"/>
                  <a:pt x="189" y="1078"/>
                  <a:pt x="204" y="1089"/>
                </a:cubicBezTo>
                <a:cubicBezTo>
                  <a:pt x="219" y="1100"/>
                  <a:pt x="231" y="1138"/>
                  <a:pt x="227" y="1157"/>
                </a:cubicBezTo>
                <a:cubicBezTo>
                  <a:pt x="223" y="1176"/>
                  <a:pt x="196" y="1195"/>
                  <a:pt x="181" y="1202"/>
                </a:cubicBezTo>
                <a:cubicBezTo>
                  <a:pt x="166" y="1209"/>
                  <a:pt x="147" y="1209"/>
                  <a:pt x="136" y="1202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62"/>
          <p:cNvSpPr/>
          <p:nvPr/>
        </p:nvSpPr>
        <p:spPr>
          <a:xfrm>
            <a:off x="1150920" y="981000"/>
            <a:ext cx="546120" cy="455760"/>
          </a:xfrm>
          <a:custGeom>
            <a:avLst/>
            <a:gdLst/>
            <a:ahLst/>
            <a:rect l="l" t="t" r="r" b="b"/>
            <a:pathLst>
              <a:path w="344" h="287">
                <a:moveTo>
                  <a:pt x="0" y="132"/>
                </a:moveTo>
                <a:cubicBezTo>
                  <a:pt x="43" y="190"/>
                  <a:pt x="87" y="249"/>
                  <a:pt x="136" y="268"/>
                </a:cubicBezTo>
                <a:cubicBezTo>
                  <a:pt x="185" y="287"/>
                  <a:pt x="261" y="269"/>
                  <a:pt x="295" y="246"/>
                </a:cubicBezTo>
                <a:cubicBezTo>
                  <a:pt x="329" y="223"/>
                  <a:pt x="336" y="170"/>
                  <a:pt x="340" y="132"/>
                </a:cubicBezTo>
                <a:cubicBezTo>
                  <a:pt x="344" y="94"/>
                  <a:pt x="336" y="38"/>
                  <a:pt x="317" y="19"/>
                </a:cubicBezTo>
                <a:cubicBezTo>
                  <a:pt x="298" y="0"/>
                  <a:pt x="253" y="11"/>
                  <a:pt x="227" y="19"/>
                </a:cubicBezTo>
                <a:cubicBezTo>
                  <a:pt x="201" y="27"/>
                  <a:pt x="170" y="37"/>
                  <a:pt x="159" y="64"/>
                </a:cubicBezTo>
                <a:cubicBezTo>
                  <a:pt x="148" y="91"/>
                  <a:pt x="152" y="152"/>
                  <a:pt x="159" y="178"/>
                </a:cubicBezTo>
                <a:cubicBezTo>
                  <a:pt x="166" y="204"/>
                  <a:pt x="185" y="215"/>
                  <a:pt x="204" y="223"/>
                </a:cubicBezTo>
                <a:cubicBezTo>
                  <a:pt x="223" y="231"/>
                  <a:pt x="257" y="234"/>
                  <a:pt x="272" y="223"/>
                </a:cubicBezTo>
                <a:cubicBezTo>
                  <a:pt x="287" y="212"/>
                  <a:pt x="291" y="178"/>
                  <a:pt x="295" y="155"/>
                </a:cubicBezTo>
                <a:cubicBezTo>
                  <a:pt x="299" y="132"/>
                  <a:pt x="306" y="102"/>
                  <a:pt x="295" y="87"/>
                </a:cubicBezTo>
                <a:cubicBezTo>
                  <a:pt x="284" y="72"/>
                  <a:pt x="242" y="57"/>
                  <a:pt x="227" y="64"/>
                </a:cubicBezTo>
                <a:cubicBezTo>
                  <a:pt x="212" y="71"/>
                  <a:pt x="200" y="117"/>
                  <a:pt x="204" y="132"/>
                </a:cubicBezTo>
                <a:cubicBezTo>
                  <a:pt x="208" y="147"/>
                  <a:pt x="256" y="155"/>
                  <a:pt x="249" y="155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63"/>
          <p:cNvSpPr/>
          <p:nvPr/>
        </p:nvSpPr>
        <p:spPr>
          <a:xfrm>
            <a:off x="1547640" y="7920"/>
            <a:ext cx="360360" cy="541440"/>
          </a:xfrm>
          <a:custGeom>
            <a:avLst/>
            <a:gdLst/>
            <a:ahLst/>
            <a:rect l="l" t="t" r="r" b="b"/>
            <a:pathLst>
              <a:path w="344" h="507">
                <a:moveTo>
                  <a:pt x="45" y="0"/>
                </a:moveTo>
                <a:cubicBezTo>
                  <a:pt x="37" y="44"/>
                  <a:pt x="30" y="88"/>
                  <a:pt x="23" y="137"/>
                </a:cubicBezTo>
                <a:cubicBezTo>
                  <a:pt x="16" y="186"/>
                  <a:pt x="0" y="246"/>
                  <a:pt x="0" y="295"/>
                </a:cubicBezTo>
                <a:cubicBezTo>
                  <a:pt x="0" y="344"/>
                  <a:pt x="4" y="397"/>
                  <a:pt x="23" y="431"/>
                </a:cubicBezTo>
                <a:cubicBezTo>
                  <a:pt x="42" y="465"/>
                  <a:pt x="72" y="491"/>
                  <a:pt x="113" y="499"/>
                </a:cubicBezTo>
                <a:cubicBezTo>
                  <a:pt x="154" y="507"/>
                  <a:pt x="234" y="503"/>
                  <a:pt x="272" y="477"/>
                </a:cubicBezTo>
                <a:cubicBezTo>
                  <a:pt x="310" y="451"/>
                  <a:pt x="336" y="386"/>
                  <a:pt x="340" y="341"/>
                </a:cubicBezTo>
                <a:cubicBezTo>
                  <a:pt x="344" y="296"/>
                  <a:pt x="329" y="235"/>
                  <a:pt x="295" y="205"/>
                </a:cubicBezTo>
                <a:cubicBezTo>
                  <a:pt x="261" y="175"/>
                  <a:pt x="174" y="152"/>
                  <a:pt x="136" y="159"/>
                </a:cubicBezTo>
                <a:cubicBezTo>
                  <a:pt x="98" y="166"/>
                  <a:pt x="79" y="223"/>
                  <a:pt x="68" y="250"/>
                </a:cubicBezTo>
                <a:cubicBezTo>
                  <a:pt x="57" y="277"/>
                  <a:pt x="64" y="292"/>
                  <a:pt x="68" y="318"/>
                </a:cubicBezTo>
                <a:cubicBezTo>
                  <a:pt x="72" y="344"/>
                  <a:pt x="76" y="390"/>
                  <a:pt x="91" y="409"/>
                </a:cubicBezTo>
                <a:cubicBezTo>
                  <a:pt x="106" y="428"/>
                  <a:pt x="136" y="427"/>
                  <a:pt x="159" y="431"/>
                </a:cubicBezTo>
                <a:cubicBezTo>
                  <a:pt x="182" y="435"/>
                  <a:pt x="204" y="454"/>
                  <a:pt x="227" y="431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64"/>
          <p:cNvSpPr/>
          <p:nvPr/>
        </p:nvSpPr>
        <p:spPr>
          <a:xfrm>
            <a:off x="2400480" y="7920"/>
            <a:ext cx="226800" cy="1441440"/>
          </a:xfrm>
          <a:custGeom>
            <a:avLst/>
            <a:gdLst/>
            <a:ahLst/>
            <a:rect l="l" t="t" r="r" b="b"/>
            <a:pathLst>
              <a:path w="143" h="908">
                <a:moveTo>
                  <a:pt x="53" y="0"/>
                </a:moveTo>
                <a:cubicBezTo>
                  <a:pt x="79" y="13"/>
                  <a:pt x="106" y="27"/>
                  <a:pt x="98" y="114"/>
                </a:cubicBezTo>
                <a:cubicBezTo>
                  <a:pt x="90" y="201"/>
                  <a:pt x="14" y="409"/>
                  <a:pt x="7" y="522"/>
                </a:cubicBezTo>
                <a:cubicBezTo>
                  <a:pt x="0" y="635"/>
                  <a:pt x="30" y="730"/>
                  <a:pt x="53" y="794"/>
                </a:cubicBezTo>
                <a:cubicBezTo>
                  <a:pt x="76" y="858"/>
                  <a:pt x="109" y="883"/>
                  <a:pt x="143" y="908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65"/>
          <p:cNvSpPr/>
          <p:nvPr/>
        </p:nvSpPr>
        <p:spPr>
          <a:xfrm>
            <a:off x="3324240" y="7920"/>
            <a:ext cx="612720" cy="787320"/>
          </a:xfrm>
          <a:custGeom>
            <a:avLst/>
            <a:gdLst/>
            <a:ahLst/>
            <a:rect l="l" t="t" r="r" b="b"/>
            <a:pathLst>
              <a:path w="386" h="496">
                <a:moveTo>
                  <a:pt x="15" y="0"/>
                </a:moveTo>
                <a:cubicBezTo>
                  <a:pt x="7" y="98"/>
                  <a:pt x="0" y="197"/>
                  <a:pt x="15" y="273"/>
                </a:cubicBezTo>
                <a:cubicBezTo>
                  <a:pt x="30" y="349"/>
                  <a:pt x="65" y="420"/>
                  <a:pt x="106" y="454"/>
                </a:cubicBezTo>
                <a:cubicBezTo>
                  <a:pt x="147" y="488"/>
                  <a:pt x="219" y="496"/>
                  <a:pt x="264" y="477"/>
                </a:cubicBezTo>
                <a:cubicBezTo>
                  <a:pt x="309" y="458"/>
                  <a:pt x="370" y="390"/>
                  <a:pt x="378" y="341"/>
                </a:cubicBezTo>
                <a:cubicBezTo>
                  <a:pt x="386" y="292"/>
                  <a:pt x="344" y="208"/>
                  <a:pt x="310" y="182"/>
                </a:cubicBezTo>
                <a:cubicBezTo>
                  <a:pt x="276" y="156"/>
                  <a:pt x="204" y="163"/>
                  <a:pt x="174" y="182"/>
                </a:cubicBezTo>
                <a:cubicBezTo>
                  <a:pt x="144" y="201"/>
                  <a:pt x="124" y="261"/>
                  <a:pt x="128" y="295"/>
                </a:cubicBezTo>
                <a:cubicBezTo>
                  <a:pt x="132" y="329"/>
                  <a:pt x="166" y="375"/>
                  <a:pt x="196" y="386"/>
                </a:cubicBezTo>
                <a:cubicBezTo>
                  <a:pt x="226" y="397"/>
                  <a:pt x="291" y="389"/>
                  <a:pt x="310" y="363"/>
                </a:cubicBezTo>
                <a:cubicBezTo>
                  <a:pt x="329" y="337"/>
                  <a:pt x="352" y="268"/>
                  <a:pt x="310" y="22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C040-4333-4142-9A3C-910766322F98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E29F-BF66-4EF8-8A9B-AA91BECFA23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121A-3952-4D8B-9CD9-D850EECEAD81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4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3885-871D-463C-8E0F-285EA98B984C}" type="slidenum">
              <a:rPr b="0" lang="en-US" sz="11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ftr" idx="15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0"/>
          <p:cNvSpPr/>
          <p:nvPr/>
        </p:nvSpPr>
        <p:spPr>
          <a:xfrm>
            <a:off x="2603520" y="-4680"/>
            <a:ext cx="720720" cy="1089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42"/>
          <p:cNvSpPr/>
          <p:nvPr/>
        </p:nvSpPr>
        <p:spPr>
          <a:xfrm>
            <a:off x="468360" y="0"/>
            <a:ext cx="612720" cy="3068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61"/>
          <p:cNvSpPr/>
          <p:nvPr/>
        </p:nvSpPr>
        <p:spPr>
          <a:xfrm>
            <a:off x="863640" y="7920"/>
            <a:ext cx="569880" cy="2058840"/>
          </a:xfrm>
          <a:custGeom>
            <a:avLst/>
            <a:gdLst/>
            <a:ahLst/>
            <a:rect l="l" t="t" r="r" b="b"/>
            <a:pathLst>
              <a:path w="359" h="1297">
                <a:moveTo>
                  <a:pt x="0" y="0"/>
                </a:moveTo>
                <a:cubicBezTo>
                  <a:pt x="21" y="112"/>
                  <a:pt x="42" y="224"/>
                  <a:pt x="68" y="341"/>
                </a:cubicBezTo>
                <a:cubicBezTo>
                  <a:pt x="94" y="458"/>
                  <a:pt x="114" y="595"/>
                  <a:pt x="159" y="704"/>
                </a:cubicBezTo>
                <a:cubicBezTo>
                  <a:pt x="204" y="813"/>
                  <a:pt x="321" y="907"/>
                  <a:pt x="340" y="998"/>
                </a:cubicBezTo>
                <a:cubicBezTo>
                  <a:pt x="359" y="1089"/>
                  <a:pt x="310" y="1199"/>
                  <a:pt x="272" y="1248"/>
                </a:cubicBezTo>
                <a:cubicBezTo>
                  <a:pt x="234" y="1297"/>
                  <a:pt x="151" y="1297"/>
                  <a:pt x="113" y="1293"/>
                </a:cubicBezTo>
                <a:cubicBezTo>
                  <a:pt x="75" y="1289"/>
                  <a:pt x="56" y="1255"/>
                  <a:pt x="45" y="1225"/>
                </a:cubicBezTo>
                <a:cubicBezTo>
                  <a:pt x="34" y="1195"/>
                  <a:pt x="34" y="1142"/>
                  <a:pt x="45" y="1112"/>
                </a:cubicBezTo>
                <a:cubicBezTo>
                  <a:pt x="56" y="1082"/>
                  <a:pt x="83" y="1055"/>
                  <a:pt x="113" y="1044"/>
                </a:cubicBezTo>
                <a:cubicBezTo>
                  <a:pt x="143" y="1033"/>
                  <a:pt x="201" y="1029"/>
                  <a:pt x="227" y="1044"/>
                </a:cubicBezTo>
                <a:cubicBezTo>
                  <a:pt x="253" y="1059"/>
                  <a:pt x="268" y="1104"/>
                  <a:pt x="272" y="1134"/>
                </a:cubicBezTo>
                <a:cubicBezTo>
                  <a:pt x="276" y="1164"/>
                  <a:pt x="268" y="1206"/>
                  <a:pt x="249" y="1225"/>
                </a:cubicBezTo>
                <a:cubicBezTo>
                  <a:pt x="230" y="1244"/>
                  <a:pt x="185" y="1252"/>
                  <a:pt x="159" y="1248"/>
                </a:cubicBezTo>
                <a:cubicBezTo>
                  <a:pt x="133" y="1244"/>
                  <a:pt x="102" y="1221"/>
                  <a:pt x="91" y="1202"/>
                </a:cubicBezTo>
                <a:cubicBezTo>
                  <a:pt x="80" y="1183"/>
                  <a:pt x="84" y="1153"/>
                  <a:pt x="91" y="1134"/>
                </a:cubicBezTo>
                <a:cubicBezTo>
                  <a:pt x="98" y="1115"/>
                  <a:pt x="117" y="1097"/>
                  <a:pt x="136" y="1089"/>
                </a:cubicBezTo>
                <a:cubicBezTo>
                  <a:pt x="155" y="1081"/>
                  <a:pt x="189" y="1078"/>
                  <a:pt x="204" y="1089"/>
                </a:cubicBezTo>
                <a:cubicBezTo>
                  <a:pt x="219" y="1100"/>
                  <a:pt x="231" y="1138"/>
                  <a:pt x="227" y="1157"/>
                </a:cubicBezTo>
                <a:cubicBezTo>
                  <a:pt x="223" y="1176"/>
                  <a:pt x="196" y="1195"/>
                  <a:pt x="181" y="1202"/>
                </a:cubicBezTo>
                <a:cubicBezTo>
                  <a:pt x="166" y="1209"/>
                  <a:pt x="147" y="1209"/>
                  <a:pt x="136" y="1202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62"/>
          <p:cNvSpPr/>
          <p:nvPr/>
        </p:nvSpPr>
        <p:spPr>
          <a:xfrm>
            <a:off x="1150920" y="981000"/>
            <a:ext cx="546120" cy="455760"/>
          </a:xfrm>
          <a:custGeom>
            <a:avLst/>
            <a:gdLst/>
            <a:ahLst/>
            <a:rect l="l" t="t" r="r" b="b"/>
            <a:pathLst>
              <a:path w="344" h="287">
                <a:moveTo>
                  <a:pt x="0" y="132"/>
                </a:moveTo>
                <a:cubicBezTo>
                  <a:pt x="43" y="190"/>
                  <a:pt x="87" y="249"/>
                  <a:pt x="136" y="268"/>
                </a:cubicBezTo>
                <a:cubicBezTo>
                  <a:pt x="185" y="287"/>
                  <a:pt x="261" y="269"/>
                  <a:pt x="295" y="246"/>
                </a:cubicBezTo>
                <a:cubicBezTo>
                  <a:pt x="329" y="223"/>
                  <a:pt x="336" y="170"/>
                  <a:pt x="340" y="132"/>
                </a:cubicBezTo>
                <a:cubicBezTo>
                  <a:pt x="344" y="94"/>
                  <a:pt x="336" y="38"/>
                  <a:pt x="317" y="19"/>
                </a:cubicBezTo>
                <a:cubicBezTo>
                  <a:pt x="298" y="0"/>
                  <a:pt x="253" y="11"/>
                  <a:pt x="227" y="19"/>
                </a:cubicBezTo>
                <a:cubicBezTo>
                  <a:pt x="201" y="27"/>
                  <a:pt x="170" y="37"/>
                  <a:pt x="159" y="64"/>
                </a:cubicBezTo>
                <a:cubicBezTo>
                  <a:pt x="148" y="91"/>
                  <a:pt x="152" y="152"/>
                  <a:pt x="159" y="178"/>
                </a:cubicBezTo>
                <a:cubicBezTo>
                  <a:pt x="166" y="204"/>
                  <a:pt x="185" y="215"/>
                  <a:pt x="204" y="223"/>
                </a:cubicBezTo>
                <a:cubicBezTo>
                  <a:pt x="223" y="231"/>
                  <a:pt x="257" y="234"/>
                  <a:pt x="272" y="223"/>
                </a:cubicBezTo>
                <a:cubicBezTo>
                  <a:pt x="287" y="212"/>
                  <a:pt x="291" y="178"/>
                  <a:pt x="295" y="155"/>
                </a:cubicBezTo>
                <a:cubicBezTo>
                  <a:pt x="299" y="132"/>
                  <a:pt x="306" y="102"/>
                  <a:pt x="295" y="87"/>
                </a:cubicBezTo>
                <a:cubicBezTo>
                  <a:pt x="284" y="72"/>
                  <a:pt x="242" y="57"/>
                  <a:pt x="227" y="64"/>
                </a:cubicBezTo>
                <a:cubicBezTo>
                  <a:pt x="212" y="71"/>
                  <a:pt x="200" y="117"/>
                  <a:pt x="204" y="132"/>
                </a:cubicBezTo>
                <a:cubicBezTo>
                  <a:pt x="208" y="147"/>
                  <a:pt x="256" y="155"/>
                  <a:pt x="249" y="155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63"/>
          <p:cNvSpPr/>
          <p:nvPr/>
        </p:nvSpPr>
        <p:spPr>
          <a:xfrm>
            <a:off x="1547640" y="7920"/>
            <a:ext cx="360360" cy="541440"/>
          </a:xfrm>
          <a:custGeom>
            <a:avLst/>
            <a:gdLst/>
            <a:ahLst/>
            <a:rect l="l" t="t" r="r" b="b"/>
            <a:pathLst>
              <a:path w="344" h="507">
                <a:moveTo>
                  <a:pt x="45" y="0"/>
                </a:moveTo>
                <a:cubicBezTo>
                  <a:pt x="37" y="44"/>
                  <a:pt x="30" y="88"/>
                  <a:pt x="23" y="137"/>
                </a:cubicBezTo>
                <a:cubicBezTo>
                  <a:pt x="16" y="186"/>
                  <a:pt x="0" y="246"/>
                  <a:pt x="0" y="295"/>
                </a:cubicBezTo>
                <a:cubicBezTo>
                  <a:pt x="0" y="344"/>
                  <a:pt x="4" y="397"/>
                  <a:pt x="23" y="431"/>
                </a:cubicBezTo>
                <a:cubicBezTo>
                  <a:pt x="42" y="465"/>
                  <a:pt x="72" y="491"/>
                  <a:pt x="113" y="499"/>
                </a:cubicBezTo>
                <a:cubicBezTo>
                  <a:pt x="154" y="507"/>
                  <a:pt x="234" y="503"/>
                  <a:pt x="272" y="477"/>
                </a:cubicBezTo>
                <a:cubicBezTo>
                  <a:pt x="310" y="451"/>
                  <a:pt x="336" y="386"/>
                  <a:pt x="340" y="341"/>
                </a:cubicBezTo>
                <a:cubicBezTo>
                  <a:pt x="344" y="296"/>
                  <a:pt x="329" y="235"/>
                  <a:pt x="295" y="205"/>
                </a:cubicBezTo>
                <a:cubicBezTo>
                  <a:pt x="261" y="175"/>
                  <a:pt x="174" y="152"/>
                  <a:pt x="136" y="159"/>
                </a:cubicBezTo>
                <a:cubicBezTo>
                  <a:pt x="98" y="166"/>
                  <a:pt x="79" y="223"/>
                  <a:pt x="68" y="250"/>
                </a:cubicBezTo>
                <a:cubicBezTo>
                  <a:pt x="57" y="277"/>
                  <a:pt x="64" y="292"/>
                  <a:pt x="68" y="318"/>
                </a:cubicBezTo>
                <a:cubicBezTo>
                  <a:pt x="72" y="344"/>
                  <a:pt x="76" y="390"/>
                  <a:pt x="91" y="409"/>
                </a:cubicBezTo>
                <a:cubicBezTo>
                  <a:pt x="106" y="428"/>
                  <a:pt x="136" y="427"/>
                  <a:pt x="159" y="431"/>
                </a:cubicBezTo>
                <a:cubicBezTo>
                  <a:pt x="182" y="435"/>
                  <a:pt x="204" y="454"/>
                  <a:pt x="227" y="431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64"/>
          <p:cNvSpPr/>
          <p:nvPr/>
        </p:nvSpPr>
        <p:spPr>
          <a:xfrm>
            <a:off x="2400480" y="7920"/>
            <a:ext cx="226800" cy="1441440"/>
          </a:xfrm>
          <a:custGeom>
            <a:avLst/>
            <a:gdLst/>
            <a:ahLst/>
            <a:rect l="l" t="t" r="r" b="b"/>
            <a:pathLst>
              <a:path w="143" h="908">
                <a:moveTo>
                  <a:pt x="53" y="0"/>
                </a:moveTo>
                <a:cubicBezTo>
                  <a:pt x="79" y="13"/>
                  <a:pt x="106" y="27"/>
                  <a:pt x="98" y="114"/>
                </a:cubicBezTo>
                <a:cubicBezTo>
                  <a:pt x="90" y="201"/>
                  <a:pt x="14" y="409"/>
                  <a:pt x="7" y="522"/>
                </a:cubicBezTo>
                <a:cubicBezTo>
                  <a:pt x="0" y="635"/>
                  <a:pt x="30" y="730"/>
                  <a:pt x="53" y="794"/>
                </a:cubicBezTo>
                <a:cubicBezTo>
                  <a:pt x="76" y="858"/>
                  <a:pt x="109" y="883"/>
                  <a:pt x="143" y="908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65"/>
          <p:cNvSpPr/>
          <p:nvPr/>
        </p:nvSpPr>
        <p:spPr>
          <a:xfrm>
            <a:off x="3324240" y="7920"/>
            <a:ext cx="612720" cy="787320"/>
          </a:xfrm>
          <a:custGeom>
            <a:avLst/>
            <a:gdLst/>
            <a:ahLst/>
            <a:rect l="l" t="t" r="r" b="b"/>
            <a:pathLst>
              <a:path w="386" h="496">
                <a:moveTo>
                  <a:pt x="15" y="0"/>
                </a:moveTo>
                <a:cubicBezTo>
                  <a:pt x="7" y="98"/>
                  <a:pt x="0" y="197"/>
                  <a:pt x="15" y="273"/>
                </a:cubicBezTo>
                <a:cubicBezTo>
                  <a:pt x="30" y="349"/>
                  <a:pt x="65" y="420"/>
                  <a:pt x="106" y="454"/>
                </a:cubicBezTo>
                <a:cubicBezTo>
                  <a:pt x="147" y="488"/>
                  <a:pt x="219" y="496"/>
                  <a:pt x="264" y="477"/>
                </a:cubicBezTo>
                <a:cubicBezTo>
                  <a:pt x="309" y="458"/>
                  <a:pt x="370" y="390"/>
                  <a:pt x="378" y="341"/>
                </a:cubicBezTo>
                <a:cubicBezTo>
                  <a:pt x="386" y="292"/>
                  <a:pt x="344" y="208"/>
                  <a:pt x="310" y="182"/>
                </a:cubicBezTo>
                <a:cubicBezTo>
                  <a:pt x="276" y="156"/>
                  <a:pt x="204" y="163"/>
                  <a:pt x="174" y="182"/>
                </a:cubicBezTo>
                <a:cubicBezTo>
                  <a:pt x="144" y="201"/>
                  <a:pt x="124" y="261"/>
                  <a:pt x="128" y="295"/>
                </a:cubicBezTo>
                <a:cubicBezTo>
                  <a:pt x="132" y="329"/>
                  <a:pt x="166" y="375"/>
                  <a:pt x="196" y="386"/>
                </a:cubicBezTo>
                <a:cubicBezTo>
                  <a:pt x="226" y="397"/>
                  <a:pt x="291" y="389"/>
                  <a:pt x="310" y="363"/>
                </a:cubicBezTo>
                <a:cubicBezTo>
                  <a:pt x="329" y="337"/>
                  <a:pt x="352" y="268"/>
                  <a:pt x="310" y="22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48E6-B1F9-462C-B807-632EF90D3127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2882-DBAD-4EBA-9FE7-DBA66F79608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F0AE-0E67-4283-BE6E-EA756A7CF701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8C34-2D0E-4CF9-A066-23051A8FD26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8E64-02E7-4E0A-A689-9A5DE628CFBF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B080-3847-477E-B2F6-4C4A8109076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00"/>
          <p:cNvSpPr/>
          <p:nvPr/>
        </p:nvSpPr>
        <p:spPr>
          <a:xfrm>
            <a:off x="2603520" y="-4680"/>
            <a:ext cx="720720" cy="1089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42"/>
          <p:cNvSpPr/>
          <p:nvPr/>
        </p:nvSpPr>
        <p:spPr>
          <a:xfrm>
            <a:off x="468360" y="0"/>
            <a:ext cx="612720" cy="3068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61"/>
          <p:cNvSpPr/>
          <p:nvPr/>
        </p:nvSpPr>
        <p:spPr>
          <a:xfrm>
            <a:off x="863640" y="7920"/>
            <a:ext cx="569880" cy="2058840"/>
          </a:xfrm>
          <a:custGeom>
            <a:avLst/>
            <a:gdLst/>
            <a:ahLst/>
            <a:rect l="l" t="t" r="r" b="b"/>
            <a:pathLst>
              <a:path w="359" h="1297">
                <a:moveTo>
                  <a:pt x="0" y="0"/>
                </a:moveTo>
                <a:cubicBezTo>
                  <a:pt x="21" y="112"/>
                  <a:pt x="42" y="224"/>
                  <a:pt x="68" y="341"/>
                </a:cubicBezTo>
                <a:cubicBezTo>
                  <a:pt x="94" y="458"/>
                  <a:pt x="114" y="595"/>
                  <a:pt x="159" y="704"/>
                </a:cubicBezTo>
                <a:cubicBezTo>
                  <a:pt x="204" y="813"/>
                  <a:pt x="321" y="907"/>
                  <a:pt x="340" y="998"/>
                </a:cubicBezTo>
                <a:cubicBezTo>
                  <a:pt x="359" y="1089"/>
                  <a:pt x="310" y="1199"/>
                  <a:pt x="272" y="1248"/>
                </a:cubicBezTo>
                <a:cubicBezTo>
                  <a:pt x="234" y="1297"/>
                  <a:pt x="151" y="1297"/>
                  <a:pt x="113" y="1293"/>
                </a:cubicBezTo>
                <a:cubicBezTo>
                  <a:pt x="75" y="1289"/>
                  <a:pt x="56" y="1255"/>
                  <a:pt x="45" y="1225"/>
                </a:cubicBezTo>
                <a:cubicBezTo>
                  <a:pt x="34" y="1195"/>
                  <a:pt x="34" y="1142"/>
                  <a:pt x="45" y="1112"/>
                </a:cubicBezTo>
                <a:cubicBezTo>
                  <a:pt x="56" y="1082"/>
                  <a:pt x="83" y="1055"/>
                  <a:pt x="113" y="1044"/>
                </a:cubicBezTo>
                <a:cubicBezTo>
                  <a:pt x="143" y="1033"/>
                  <a:pt x="201" y="1029"/>
                  <a:pt x="227" y="1044"/>
                </a:cubicBezTo>
                <a:cubicBezTo>
                  <a:pt x="253" y="1059"/>
                  <a:pt x="268" y="1104"/>
                  <a:pt x="272" y="1134"/>
                </a:cubicBezTo>
                <a:cubicBezTo>
                  <a:pt x="276" y="1164"/>
                  <a:pt x="268" y="1206"/>
                  <a:pt x="249" y="1225"/>
                </a:cubicBezTo>
                <a:cubicBezTo>
                  <a:pt x="230" y="1244"/>
                  <a:pt x="185" y="1252"/>
                  <a:pt x="159" y="1248"/>
                </a:cubicBezTo>
                <a:cubicBezTo>
                  <a:pt x="133" y="1244"/>
                  <a:pt x="102" y="1221"/>
                  <a:pt x="91" y="1202"/>
                </a:cubicBezTo>
                <a:cubicBezTo>
                  <a:pt x="80" y="1183"/>
                  <a:pt x="84" y="1153"/>
                  <a:pt x="91" y="1134"/>
                </a:cubicBezTo>
                <a:cubicBezTo>
                  <a:pt x="98" y="1115"/>
                  <a:pt x="117" y="1097"/>
                  <a:pt x="136" y="1089"/>
                </a:cubicBezTo>
                <a:cubicBezTo>
                  <a:pt x="155" y="1081"/>
                  <a:pt x="189" y="1078"/>
                  <a:pt x="204" y="1089"/>
                </a:cubicBezTo>
                <a:cubicBezTo>
                  <a:pt x="219" y="1100"/>
                  <a:pt x="231" y="1138"/>
                  <a:pt x="227" y="1157"/>
                </a:cubicBezTo>
                <a:cubicBezTo>
                  <a:pt x="223" y="1176"/>
                  <a:pt x="196" y="1195"/>
                  <a:pt x="181" y="1202"/>
                </a:cubicBezTo>
                <a:cubicBezTo>
                  <a:pt x="166" y="1209"/>
                  <a:pt x="147" y="1209"/>
                  <a:pt x="136" y="1202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62"/>
          <p:cNvSpPr/>
          <p:nvPr/>
        </p:nvSpPr>
        <p:spPr>
          <a:xfrm>
            <a:off x="1150920" y="981000"/>
            <a:ext cx="546120" cy="455760"/>
          </a:xfrm>
          <a:custGeom>
            <a:avLst/>
            <a:gdLst/>
            <a:ahLst/>
            <a:rect l="l" t="t" r="r" b="b"/>
            <a:pathLst>
              <a:path w="344" h="287">
                <a:moveTo>
                  <a:pt x="0" y="132"/>
                </a:moveTo>
                <a:cubicBezTo>
                  <a:pt x="43" y="190"/>
                  <a:pt x="87" y="249"/>
                  <a:pt x="136" y="268"/>
                </a:cubicBezTo>
                <a:cubicBezTo>
                  <a:pt x="185" y="287"/>
                  <a:pt x="261" y="269"/>
                  <a:pt x="295" y="246"/>
                </a:cubicBezTo>
                <a:cubicBezTo>
                  <a:pt x="329" y="223"/>
                  <a:pt x="336" y="170"/>
                  <a:pt x="340" y="132"/>
                </a:cubicBezTo>
                <a:cubicBezTo>
                  <a:pt x="344" y="94"/>
                  <a:pt x="336" y="38"/>
                  <a:pt x="317" y="19"/>
                </a:cubicBezTo>
                <a:cubicBezTo>
                  <a:pt x="298" y="0"/>
                  <a:pt x="253" y="11"/>
                  <a:pt x="227" y="19"/>
                </a:cubicBezTo>
                <a:cubicBezTo>
                  <a:pt x="201" y="27"/>
                  <a:pt x="170" y="37"/>
                  <a:pt x="159" y="64"/>
                </a:cubicBezTo>
                <a:cubicBezTo>
                  <a:pt x="148" y="91"/>
                  <a:pt x="152" y="152"/>
                  <a:pt x="159" y="178"/>
                </a:cubicBezTo>
                <a:cubicBezTo>
                  <a:pt x="166" y="204"/>
                  <a:pt x="185" y="215"/>
                  <a:pt x="204" y="223"/>
                </a:cubicBezTo>
                <a:cubicBezTo>
                  <a:pt x="223" y="231"/>
                  <a:pt x="257" y="234"/>
                  <a:pt x="272" y="223"/>
                </a:cubicBezTo>
                <a:cubicBezTo>
                  <a:pt x="287" y="212"/>
                  <a:pt x="291" y="178"/>
                  <a:pt x="295" y="155"/>
                </a:cubicBezTo>
                <a:cubicBezTo>
                  <a:pt x="299" y="132"/>
                  <a:pt x="306" y="102"/>
                  <a:pt x="295" y="87"/>
                </a:cubicBezTo>
                <a:cubicBezTo>
                  <a:pt x="284" y="72"/>
                  <a:pt x="242" y="57"/>
                  <a:pt x="227" y="64"/>
                </a:cubicBezTo>
                <a:cubicBezTo>
                  <a:pt x="212" y="71"/>
                  <a:pt x="200" y="117"/>
                  <a:pt x="204" y="132"/>
                </a:cubicBezTo>
                <a:cubicBezTo>
                  <a:pt x="208" y="147"/>
                  <a:pt x="256" y="155"/>
                  <a:pt x="249" y="155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63"/>
          <p:cNvSpPr/>
          <p:nvPr/>
        </p:nvSpPr>
        <p:spPr>
          <a:xfrm>
            <a:off x="1547640" y="7920"/>
            <a:ext cx="360360" cy="541440"/>
          </a:xfrm>
          <a:custGeom>
            <a:avLst/>
            <a:gdLst/>
            <a:ahLst/>
            <a:rect l="l" t="t" r="r" b="b"/>
            <a:pathLst>
              <a:path w="344" h="507">
                <a:moveTo>
                  <a:pt x="45" y="0"/>
                </a:moveTo>
                <a:cubicBezTo>
                  <a:pt x="37" y="44"/>
                  <a:pt x="30" y="88"/>
                  <a:pt x="23" y="137"/>
                </a:cubicBezTo>
                <a:cubicBezTo>
                  <a:pt x="16" y="186"/>
                  <a:pt x="0" y="246"/>
                  <a:pt x="0" y="295"/>
                </a:cubicBezTo>
                <a:cubicBezTo>
                  <a:pt x="0" y="344"/>
                  <a:pt x="4" y="397"/>
                  <a:pt x="23" y="431"/>
                </a:cubicBezTo>
                <a:cubicBezTo>
                  <a:pt x="42" y="465"/>
                  <a:pt x="72" y="491"/>
                  <a:pt x="113" y="499"/>
                </a:cubicBezTo>
                <a:cubicBezTo>
                  <a:pt x="154" y="507"/>
                  <a:pt x="234" y="503"/>
                  <a:pt x="272" y="477"/>
                </a:cubicBezTo>
                <a:cubicBezTo>
                  <a:pt x="310" y="451"/>
                  <a:pt x="336" y="386"/>
                  <a:pt x="340" y="341"/>
                </a:cubicBezTo>
                <a:cubicBezTo>
                  <a:pt x="344" y="296"/>
                  <a:pt x="329" y="235"/>
                  <a:pt x="295" y="205"/>
                </a:cubicBezTo>
                <a:cubicBezTo>
                  <a:pt x="261" y="175"/>
                  <a:pt x="174" y="152"/>
                  <a:pt x="136" y="159"/>
                </a:cubicBezTo>
                <a:cubicBezTo>
                  <a:pt x="98" y="166"/>
                  <a:pt x="79" y="223"/>
                  <a:pt x="68" y="250"/>
                </a:cubicBezTo>
                <a:cubicBezTo>
                  <a:pt x="57" y="277"/>
                  <a:pt x="64" y="292"/>
                  <a:pt x="68" y="318"/>
                </a:cubicBezTo>
                <a:cubicBezTo>
                  <a:pt x="72" y="344"/>
                  <a:pt x="76" y="390"/>
                  <a:pt x="91" y="409"/>
                </a:cubicBezTo>
                <a:cubicBezTo>
                  <a:pt x="106" y="428"/>
                  <a:pt x="136" y="427"/>
                  <a:pt x="159" y="431"/>
                </a:cubicBezTo>
                <a:cubicBezTo>
                  <a:pt x="182" y="435"/>
                  <a:pt x="204" y="454"/>
                  <a:pt x="227" y="431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364"/>
          <p:cNvSpPr/>
          <p:nvPr/>
        </p:nvSpPr>
        <p:spPr>
          <a:xfrm>
            <a:off x="2400480" y="7920"/>
            <a:ext cx="226800" cy="1441440"/>
          </a:xfrm>
          <a:custGeom>
            <a:avLst/>
            <a:gdLst/>
            <a:ahLst/>
            <a:rect l="l" t="t" r="r" b="b"/>
            <a:pathLst>
              <a:path w="143" h="908">
                <a:moveTo>
                  <a:pt x="53" y="0"/>
                </a:moveTo>
                <a:cubicBezTo>
                  <a:pt x="79" y="13"/>
                  <a:pt x="106" y="27"/>
                  <a:pt x="98" y="114"/>
                </a:cubicBezTo>
                <a:cubicBezTo>
                  <a:pt x="90" y="201"/>
                  <a:pt x="14" y="409"/>
                  <a:pt x="7" y="522"/>
                </a:cubicBezTo>
                <a:cubicBezTo>
                  <a:pt x="0" y="635"/>
                  <a:pt x="30" y="730"/>
                  <a:pt x="53" y="794"/>
                </a:cubicBezTo>
                <a:cubicBezTo>
                  <a:pt x="76" y="858"/>
                  <a:pt x="109" y="883"/>
                  <a:pt x="143" y="908"/>
                </a:cubicBezTo>
              </a:path>
            </a:pathLst>
          </a:custGeom>
          <a:noFill/>
          <a:ln w="158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365"/>
          <p:cNvSpPr/>
          <p:nvPr/>
        </p:nvSpPr>
        <p:spPr>
          <a:xfrm>
            <a:off x="3324240" y="7920"/>
            <a:ext cx="612720" cy="787320"/>
          </a:xfrm>
          <a:custGeom>
            <a:avLst/>
            <a:gdLst/>
            <a:ahLst/>
            <a:rect l="l" t="t" r="r" b="b"/>
            <a:pathLst>
              <a:path w="386" h="496">
                <a:moveTo>
                  <a:pt x="15" y="0"/>
                </a:moveTo>
                <a:cubicBezTo>
                  <a:pt x="7" y="98"/>
                  <a:pt x="0" y="197"/>
                  <a:pt x="15" y="273"/>
                </a:cubicBezTo>
                <a:cubicBezTo>
                  <a:pt x="30" y="349"/>
                  <a:pt x="65" y="420"/>
                  <a:pt x="106" y="454"/>
                </a:cubicBezTo>
                <a:cubicBezTo>
                  <a:pt x="147" y="488"/>
                  <a:pt x="219" y="496"/>
                  <a:pt x="264" y="477"/>
                </a:cubicBezTo>
                <a:cubicBezTo>
                  <a:pt x="309" y="458"/>
                  <a:pt x="370" y="390"/>
                  <a:pt x="378" y="341"/>
                </a:cubicBezTo>
                <a:cubicBezTo>
                  <a:pt x="386" y="292"/>
                  <a:pt x="344" y="208"/>
                  <a:pt x="310" y="182"/>
                </a:cubicBezTo>
                <a:cubicBezTo>
                  <a:pt x="276" y="156"/>
                  <a:pt x="204" y="163"/>
                  <a:pt x="174" y="182"/>
                </a:cubicBezTo>
                <a:cubicBezTo>
                  <a:pt x="144" y="201"/>
                  <a:pt x="124" y="261"/>
                  <a:pt x="128" y="295"/>
                </a:cubicBezTo>
                <a:cubicBezTo>
                  <a:pt x="132" y="329"/>
                  <a:pt x="166" y="375"/>
                  <a:pt x="196" y="386"/>
                </a:cubicBezTo>
                <a:cubicBezTo>
                  <a:pt x="226" y="397"/>
                  <a:pt x="291" y="389"/>
                  <a:pt x="310" y="363"/>
                </a:cubicBezTo>
                <a:cubicBezTo>
                  <a:pt x="329" y="337"/>
                  <a:pt x="352" y="268"/>
                  <a:pt x="310" y="227"/>
                </a:cubicBezTo>
              </a:path>
            </a:pathLst>
          </a:custGeom>
          <a:noFill/>
          <a:ln w="158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499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53BF-E474-4F36-895B-1B4C235FAA48}" type="datetime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4283-63DD-4293-A1D3-18B117AAB39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7" descr=""/>
          <p:cNvPicPr/>
          <p:nvPr/>
        </p:nvPicPr>
        <p:blipFill>
          <a:blip r:embed="rId1"/>
          <a:stretch/>
        </p:blipFill>
        <p:spPr>
          <a:xfrm>
            <a:off x="866880" y="2060640"/>
            <a:ext cx="7002360" cy="1495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20080407222334607"/>
          <p:cNvPicPr/>
          <p:nvPr/>
        </p:nvPicPr>
        <p:blipFill>
          <a:blip r:embed="rId2"/>
          <a:stretch/>
        </p:blipFill>
        <p:spPr>
          <a:xfrm>
            <a:off x="5435640" y="4005360"/>
            <a:ext cx="3438360" cy="2500200"/>
          </a:xfrm>
          <a:prstGeom prst="rect">
            <a:avLst/>
          </a:prstGeom>
          <a:ln w="0">
            <a:noFill/>
          </a:ln>
        </p:spPr>
      </p:pic>
      <p:sp>
        <p:nvSpPr>
          <p:cNvPr id="415" name="矩形 6"/>
          <p:cNvSpPr/>
          <p:nvPr/>
        </p:nvSpPr>
        <p:spPr>
          <a:xfrm>
            <a:off x="4240440" y="64764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七课   感受法律的尊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6155"/>
          <p:cNvSpPr/>
          <p:nvPr/>
        </p:nvSpPr>
        <p:spPr>
          <a:xfrm>
            <a:off x="47520" y="635328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AutoShape 4"/>
          <p:cNvSpPr/>
          <p:nvPr/>
        </p:nvSpPr>
        <p:spPr>
          <a:xfrm>
            <a:off x="1042920" y="1268280"/>
            <a:ext cx="7921800" cy="518508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1224000" y="5553000"/>
            <a:ext cx="253800" cy="25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1476360" y="5373720"/>
            <a:ext cx="3888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4"/>
          <p:cNvSpPr/>
          <p:nvPr/>
        </p:nvSpPr>
        <p:spPr>
          <a:xfrm>
            <a:off x="1224000" y="1233360"/>
            <a:ext cx="75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辩一辩，我们现在年龄小，这是否意味着我们就与犯罪无关？年龄小犯罪也不会受到处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我们正处于未成年阶段，受到国家司法的特殊保护。但是，我们要懂得：犯罪对自己、家庭、对他人、对社会，都有百害而无一利。我们一定要约束自己的行为，心中要有道德和法律的准绳，不能只顾自己不顾他人，不能图一时痛快，占小便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249"/>
          <p:cNvSpPr/>
          <p:nvPr/>
        </p:nvSpPr>
        <p:spPr>
          <a:xfrm rot="14400000">
            <a:off x="8385480" y="1941840"/>
            <a:ext cx="129960" cy="4428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50"/>
          <p:cNvSpPr/>
          <p:nvPr/>
        </p:nvSpPr>
        <p:spPr>
          <a:xfrm rot="1800000">
            <a:off x="8064360" y="4832280"/>
            <a:ext cx="1461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251"/>
          <p:cNvSpPr/>
          <p:nvPr/>
        </p:nvSpPr>
        <p:spPr>
          <a:xfrm rot="5400000">
            <a:off x="8172720" y="6133320"/>
            <a:ext cx="1414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252"/>
          <p:cNvSpPr/>
          <p:nvPr/>
        </p:nvSpPr>
        <p:spPr>
          <a:xfrm rot="17400000">
            <a:off x="8040600" y="3868560"/>
            <a:ext cx="181080" cy="53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253"/>
          <p:cNvSpPr/>
          <p:nvPr/>
        </p:nvSpPr>
        <p:spPr>
          <a:xfrm rot="5400000">
            <a:off x="8071920" y="2757240"/>
            <a:ext cx="1396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4176720" y="768240"/>
            <a:ext cx="4284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加强自我防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611280" y="2726640"/>
            <a:ext cx="7416720" cy="947160"/>
          </a:xfrm>
          <a:prstGeom prst="rect">
            <a:avLst/>
          </a:prstGeom>
          <a:noFill/>
          <a:ln w="38160">
            <a:solidFill>
              <a:srgbClr val="2c0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如何看待小张的行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他的转变给我们什么启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4279320" y="1885320"/>
            <a:ext cx="88344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树立法律意识，从小事做起，预防违法犯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611280" y="4645080"/>
            <a:ext cx="82803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要做一个有道德的合格的公民，我们应自觉树立法律意识，维护法律的尊严，自觉依法自律，做一个守法的人；加强修养，践行道德，做一个有道德的人。从小事做起，预防违法犯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55"/>
          <p:cNvSpPr/>
          <p:nvPr/>
        </p:nvSpPr>
        <p:spPr>
          <a:xfrm>
            <a:off x="539640" y="768240"/>
            <a:ext cx="4465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疑合探二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" descr="gif025"/>
          <p:cNvPicPr/>
          <p:nvPr/>
        </p:nvPicPr>
        <p:blipFill>
          <a:blip r:embed="rId1"/>
          <a:stretch/>
        </p:blipFill>
        <p:spPr>
          <a:xfrm>
            <a:off x="7559640" y="5472000"/>
            <a:ext cx="1584360" cy="13860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4"/>
          <p:cNvSpPr/>
          <p:nvPr/>
        </p:nvSpPr>
        <p:spPr>
          <a:xfrm>
            <a:off x="539640" y="189000"/>
            <a:ext cx="71280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预防未成年人犯罪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我们划清了明确的是非界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468360" y="1268280"/>
            <a:ext cx="8353440" cy="3393000"/>
          </a:xfrm>
          <a:prstGeom prst="rect">
            <a:avLst/>
          </a:prstGeom>
          <a:noFill/>
          <a:ln w="442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国家制订和实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未成年人犯罪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目的是什么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9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国家制定和实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未成年人犯罪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是什么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9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200412913222757217"/>
          <p:cNvPicPr/>
          <p:nvPr/>
        </p:nvPicPr>
        <p:blipFill>
          <a:blip r:embed="rId2"/>
          <a:stretch/>
        </p:blipFill>
        <p:spPr>
          <a:xfrm>
            <a:off x="7527960" y="0"/>
            <a:ext cx="1616040" cy="184464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7"/>
          <p:cNvSpPr/>
          <p:nvPr/>
        </p:nvSpPr>
        <p:spPr>
          <a:xfrm>
            <a:off x="539640" y="24894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保障未成年人身心健康、养成其良好的品行、有效的防御未成年人犯罪而制定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539640" y="479196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部法律就设专章规定了对未成年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不良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预防，对严重不良行为的矫治，为我们划清了明确的是非界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9" descr="72"/>
          <p:cNvPicPr/>
          <p:nvPr/>
        </p:nvPicPr>
        <p:blipFill>
          <a:blip r:embed="rId3"/>
          <a:stretch/>
        </p:blipFill>
        <p:spPr>
          <a:xfrm>
            <a:off x="4500720" y="5877000"/>
            <a:ext cx="35712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2340000" y="2133720"/>
            <a:ext cx="4495680" cy="360"/>
            <a:chOff x="2340000" y="2133720"/>
            <a:chExt cx="4495680" cy="360"/>
          </a:xfrm>
        </p:grpSpPr>
        <p:sp>
          <p:nvSpPr>
            <p:cNvPr id="510" name="Line 3"/>
            <p:cNvSpPr/>
            <p:nvPr/>
          </p:nvSpPr>
          <p:spPr>
            <a:xfrm>
              <a:off x="2340000" y="2133720"/>
              <a:ext cx="44956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2340000" y="2133720"/>
              <a:ext cx="4495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Text Box 4"/>
          <p:cNvSpPr/>
          <p:nvPr/>
        </p:nvSpPr>
        <p:spPr>
          <a:xfrm>
            <a:off x="2484360" y="1557360"/>
            <a:ext cx="490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达到聚众斗殴，多次参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致人重伤或死亡等严重情节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7093080" y="1628640"/>
            <a:ext cx="1730160" cy="581400"/>
          </a:xfrm>
          <a:prstGeom prst="rect">
            <a:avLst/>
          </a:prstGeom>
          <a:noFill/>
          <a:ln w="9360">
            <a:solidFill>
              <a:srgbClr val="2c0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  <a:ea typeface="黑体"/>
              </a:rPr>
              <a:t>斗殴</a:t>
            </a:r>
            <a:r>
              <a:rPr b="1" lang="zh-CN" sz="2400" spc="-1" strike="noStrike">
                <a:solidFill>
                  <a:srgbClr val="ff0000"/>
                </a:solidFill>
                <a:latin typeface="Arial Narrow"/>
                <a:ea typeface="黑体"/>
              </a:rPr>
              <a:t>（犯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324000" y="3500280"/>
            <a:ext cx="1979640" cy="947160"/>
          </a:xfrm>
          <a:prstGeom prst="rect">
            <a:avLst/>
          </a:prstGeom>
          <a:noFill/>
          <a:ln w="9360">
            <a:solidFill>
              <a:srgbClr val="2c0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  <a:ea typeface="黑体"/>
              </a:rPr>
              <a:t>偷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  <a:ea typeface="黑体"/>
              </a:rPr>
              <a:t>（一般违法行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626920" y="4292280"/>
            <a:ext cx="4321440" cy="360"/>
            <a:chOff x="2626920" y="4292280"/>
            <a:chExt cx="4321440" cy="360"/>
          </a:xfrm>
        </p:grpSpPr>
        <p:sp>
          <p:nvSpPr>
            <p:cNvPr id="516" name="Line 7"/>
            <p:cNvSpPr/>
            <p:nvPr/>
          </p:nvSpPr>
          <p:spPr>
            <a:xfrm>
              <a:off x="2627280" y="4292640"/>
              <a:ext cx="43210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 rot="10800000">
              <a:off x="2626920" y="429228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8"/>
          <p:cNvSpPr/>
          <p:nvPr/>
        </p:nvSpPr>
        <p:spPr>
          <a:xfrm>
            <a:off x="2700360" y="335772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达到偷窃数额较大或特别巨大多次偷窃，盗窃金融机构，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额巨大或盗窃文物情节严重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7164360" y="3789360"/>
            <a:ext cx="1728720" cy="947160"/>
          </a:xfrm>
          <a:prstGeom prst="rect">
            <a:avLst/>
          </a:prstGeom>
          <a:noFill/>
          <a:ln w="9360">
            <a:solidFill>
              <a:srgbClr val="2c01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 Narrow"/>
                <a:ea typeface="黑体"/>
              </a:rPr>
              <a:t>盗窃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  <a:ea typeface="黑体"/>
              </a:rPr>
              <a:t>（犯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23640" y="1493640"/>
            <a:ext cx="1979640" cy="1223640"/>
          </a:xfrm>
          <a:prstGeom prst="rect">
            <a:avLst/>
          </a:prstGeom>
          <a:noFill/>
          <a:ln w="9360">
            <a:solidFill>
              <a:srgbClr val="2c01cb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打架</a:t>
            </a:r>
            <a:br>
              <a:rPr sz="3200"/>
            </a:br>
            <a:r>
              <a:rPr b="1" lang="zh-CN" sz="2400" spc="-1" strike="noStrike">
                <a:solidFill>
                  <a:srgbClr val="ff0000"/>
                </a:solidFill>
                <a:latin typeface="Franklin Gothic Medium"/>
                <a:ea typeface="黑体"/>
              </a:rPr>
              <a:t>（一般违法行为）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108000" y="5229360"/>
            <a:ext cx="89647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违法与犯罪之间没有不可逾越的鸿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2"/>
          <p:cNvSpPr/>
          <p:nvPr/>
        </p:nvSpPr>
        <p:spPr>
          <a:xfrm>
            <a:off x="8317080" y="616572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20755" y="10800"/>
                </a:moveTo>
                <a:lnTo>
                  <a:pt x="10250" y="17806"/>
                </a:lnTo>
                <a:lnTo>
                  <a:pt x="10250" y="3794"/>
                </a:lnTo>
                <a:close/>
              </a:path>
              <a:path fill="darken" w="34513" h="21600">
                <a:moveTo>
                  <a:pt x="22600" y="3794"/>
                </a:moveTo>
                <a:lnTo>
                  <a:pt x="22600" y="17806"/>
                </a:lnTo>
                <a:lnTo>
                  <a:pt x="24263" y="17806"/>
                </a:lnTo>
                <a:lnTo>
                  <a:pt x="24263" y="3794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3" descr="200412913222757217"/>
          <p:cNvPicPr/>
          <p:nvPr/>
        </p:nvPicPr>
        <p:blipFill>
          <a:blip r:embed="rId1"/>
          <a:stretch/>
        </p:blipFill>
        <p:spPr>
          <a:xfrm>
            <a:off x="7527960" y="0"/>
            <a:ext cx="1616040" cy="184464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14"/>
          <p:cNvSpPr/>
          <p:nvPr/>
        </p:nvSpPr>
        <p:spPr>
          <a:xfrm>
            <a:off x="4069800" y="332640"/>
            <a:ext cx="35460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要防微杜渐，防患于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4"/>
          <p:cNvSpPr txBox="1"/>
          <p:nvPr/>
        </p:nvSpPr>
        <p:spPr>
          <a:xfrm>
            <a:off x="1116000" y="1409760"/>
            <a:ext cx="273672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质疑再探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6" name="WordArt 5"/>
          <p:cNvSpPr txBox="1"/>
          <p:nvPr/>
        </p:nvSpPr>
        <p:spPr>
          <a:xfrm rot="5400000">
            <a:off x="3996360" y="2780640"/>
            <a:ext cx="3097080" cy="208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2124000" y="711360"/>
            <a:ext cx="2808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  <a:ea typeface="黑体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1474920" y="1830240"/>
            <a:ext cx="18716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  <a:ea typeface="黑体"/>
              </a:rPr>
              <a:t>认清犯罪危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-691920" y="2060640"/>
            <a:ext cx="164268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Verdana"/>
                <a:ea typeface="黑体"/>
              </a:rPr>
              <a:t>防患于未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635280" y="2838600"/>
            <a:ext cx="44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要远离违法犯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3635280" y="443700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未成年人犯罪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 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清是非美丑和行为界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1474920" y="4133880"/>
            <a:ext cx="2089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  <a:ea typeface="黑体"/>
              </a:rPr>
              <a:t>加强自我防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8"/>
          <p:cNvSpPr/>
          <p:nvPr/>
        </p:nvSpPr>
        <p:spPr>
          <a:xfrm>
            <a:off x="971640" y="2060640"/>
            <a:ext cx="431640" cy="3024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78480 h 3024000"/>
              <a:gd name="textAreaBottom" fmla="*/ 294552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9"/>
          <p:cNvSpPr/>
          <p:nvPr/>
        </p:nvSpPr>
        <p:spPr>
          <a:xfrm>
            <a:off x="3203640" y="4005360"/>
            <a:ext cx="431640" cy="1944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0"/>
          <p:cNvSpPr/>
          <p:nvPr/>
        </p:nvSpPr>
        <p:spPr>
          <a:xfrm>
            <a:off x="3346560" y="1700280"/>
            <a:ext cx="215640" cy="1584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1"/>
          <p:cNvSpPr/>
          <p:nvPr/>
        </p:nvSpPr>
        <p:spPr>
          <a:xfrm>
            <a:off x="3635280" y="16146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违法犯罪所付出的代价极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2"/>
          <p:cNvSpPr/>
          <p:nvPr/>
        </p:nvSpPr>
        <p:spPr>
          <a:xfrm>
            <a:off x="3635280" y="218916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道德水平高低与违法犯罪的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3"/>
          <p:cNvSpPr/>
          <p:nvPr/>
        </p:nvSpPr>
        <p:spPr>
          <a:xfrm>
            <a:off x="3635280" y="3716280"/>
            <a:ext cx="55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从小事做起，预防违法犯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3635280" y="5516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防微杜渐，防患于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6"/>
          <p:cNvSpPr/>
          <p:nvPr/>
        </p:nvSpPr>
        <p:spPr>
          <a:xfrm>
            <a:off x="4167360" y="2262240"/>
            <a:ext cx="1183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请学科班长对本节所学做一个总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AutoShape 4"/>
          <p:cNvSpPr/>
          <p:nvPr/>
        </p:nvSpPr>
        <p:spPr>
          <a:xfrm>
            <a:off x="900000" y="1119240"/>
            <a:ext cx="767088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/>
          <p:cNvSpPr/>
          <p:nvPr/>
        </p:nvSpPr>
        <p:spPr>
          <a:xfrm>
            <a:off x="1224000" y="5553000"/>
            <a:ext cx="253800" cy="25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1476360" y="5373720"/>
            <a:ext cx="3888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33"/>
          <p:cNvSpPr/>
          <p:nvPr/>
        </p:nvSpPr>
        <p:spPr>
          <a:xfrm>
            <a:off x="1079640" y="1916280"/>
            <a:ext cx="7286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要做到预防违法犯罪，就必须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高道德水平，增强法制观念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心灵深处憎恶违法犯罪，行为上远离违法犯罪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杜绝不良行为做起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清违法犯罪的危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①③             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①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②③④        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①②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249"/>
          <p:cNvSpPr/>
          <p:nvPr/>
        </p:nvSpPr>
        <p:spPr>
          <a:xfrm rot="14400000">
            <a:off x="7786440" y="2369520"/>
            <a:ext cx="129960" cy="4410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250"/>
          <p:cNvSpPr/>
          <p:nvPr/>
        </p:nvSpPr>
        <p:spPr>
          <a:xfrm rot="1800000">
            <a:off x="8064360" y="4832280"/>
            <a:ext cx="1461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251"/>
          <p:cNvSpPr/>
          <p:nvPr/>
        </p:nvSpPr>
        <p:spPr>
          <a:xfrm rot="5400000">
            <a:off x="8172720" y="6133320"/>
            <a:ext cx="1414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252"/>
          <p:cNvSpPr/>
          <p:nvPr/>
        </p:nvSpPr>
        <p:spPr>
          <a:xfrm rot="17400000">
            <a:off x="8040600" y="3868560"/>
            <a:ext cx="181080" cy="53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253"/>
          <p:cNvSpPr/>
          <p:nvPr/>
        </p:nvSpPr>
        <p:spPr>
          <a:xfrm rot="5400000">
            <a:off x="8071920" y="2757240"/>
            <a:ext cx="1396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170160" y="368280"/>
            <a:ext cx="5973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Franklin Gothic Medium"/>
              </a:rPr>
              <a:t> </a:t>
            </a:r>
            <a:r>
              <a:rPr b="1" lang="zh-CN" sz="6000" spc="-1" strike="noStrike">
                <a:solidFill>
                  <a:srgbClr val="3333ff"/>
                </a:solidFill>
                <a:latin typeface="Franklin Gothic Medium"/>
              </a:rPr>
              <a:t>运用拓展</a:t>
            </a:r>
            <a:endParaRPr b="0" lang="en-US" sz="6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1" name="WordArt 220"/>
          <p:cNvSpPr txBox="1"/>
          <p:nvPr/>
        </p:nvSpPr>
        <p:spPr>
          <a:xfrm rot="591000">
            <a:off x="7703640" y="1916280"/>
            <a:ext cx="2858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D</a:t>
            </a:r>
            <a:endParaRPr b="1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5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AutoShape 4"/>
          <p:cNvSpPr/>
          <p:nvPr/>
        </p:nvSpPr>
        <p:spPr>
          <a:xfrm>
            <a:off x="900000" y="1119240"/>
            <a:ext cx="767088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6"/>
          <p:cNvSpPr/>
          <p:nvPr/>
        </p:nvSpPr>
        <p:spPr>
          <a:xfrm>
            <a:off x="1224000" y="5553000"/>
            <a:ext cx="253800" cy="25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7"/>
          <p:cNvSpPr/>
          <p:nvPr/>
        </p:nvSpPr>
        <p:spPr>
          <a:xfrm>
            <a:off x="1476360" y="5373720"/>
            <a:ext cx="3888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33"/>
          <p:cNvSpPr/>
          <p:nvPr/>
        </p:nvSpPr>
        <p:spPr>
          <a:xfrm>
            <a:off x="1230480" y="1317600"/>
            <a:ext cx="709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良行为和严重不良行为，都有可能发展为违法犯罪。在我们身边存在的不良行为或严重不良行为有（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旷课　      ②打架斗殴、辱骂他人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行向他人索要财物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看、收听色情、淫秽的音像制品、读物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①②③④       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②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①②④          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①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49"/>
          <p:cNvSpPr/>
          <p:nvPr/>
        </p:nvSpPr>
        <p:spPr>
          <a:xfrm rot="14400000">
            <a:off x="7801560" y="1941480"/>
            <a:ext cx="1299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250"/>
          <p:cNvSpPr/>
          <p:nvPr/>
        </p:nvSpPr>
        <p:spPr>
          <a:xfrm rot="1800000">
            <a:off x="8064360" y="4832280"/>
            <a:ext cx="1461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51"/>
          <p:cNvSpPr/>
          <p:nvPr/>
        </p:nvSpPr>
        <p:spPr>
          <a:xfrm rot="5400000">
            <a:off x="8172720" y="6133320"/>
            <a:ext cx="1414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252"/>
          <p:cNvSpPr/>
          <p:nvPr/>
        </p:nvSpPr>
        <p:spPr>
          <a:xfrm rot="17400000">
            <a:off x="8040600" y="3868560"/>
            <a:ext cx="181080" cy="53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53"/>
          <p:cNvSpPr/>
          <p:nvPr/>
        </p:nvSpPr>
        <p:spPr>
          <a:xfrm rot="5400000">
            <a:off x="8071920" y="2757240"/>
            <a:ext cx="1396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WordArt 219"/>
          <p:cNvSpPr txBox="1"/>
          <p:nvPr/>
        </p:nvSpPr>
        <p:spPr>
          <a:xfrm rot="591000">
            <a:off x="6911640" y="2349360"/>
            <a:ext cx="2858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A</a:t>
            </a:r>
            <a:endParaRPr b="1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3"/>
          <p:cNvSpPr/>
          <p:nvPr/>
        </p:nvSpPr>
        <p:spPr>
          <a:xfrm>
            <a:off x="324000" y="123336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中生郑某原来表现很好，曾多次被评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好学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后来他常和社会上不三不四得人来往，变得无心学习，不交作业，经常旷课，一个偶然的机会，他结识了几个赌友，之后便经常旷课赌博还被公安机关处以罚款。但郑某不思悔改，为了偿还赌债，他在校园里偷窃少量财物，被学校扭送到公安机关拘留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。为了报复学校，在拘留期满后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深夜，他带上汽油、打火机，纵火烧毁了学校实验楼，造成国家财产损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3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元，被人民法院依法判处无期徒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4"/>
          <p:cNvSpPr txBox="1"/>
          <p:nvPr/>
        </p:nvSpPr>
        <p:spPr>
          <a:xfrm>
            <a:off x="5904000" y="235080"/>
            <a:ext cx="216360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以致用</a:t>
            </a:r>
            <a:endParaRPr b="0" lang="en-US" sz="1800" spc="1" strike="noStrike">
              <a:ln w="1260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65" name="Picture 5" descr="bang1"/>
          <p:cNvPicPr/>
          <p:nvPr/>
        </p:nvPicPr>
        <p:blipFill>
          <a:blip r:embed="rId1"/>
          <a:stretch/>
        </p:blipFill>
        <p:spPr>
          <a:xfrm>
            <a:off x="8280360" y="0"/>
            <a:ext cx="86364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3"/>
          <p:cNvSpPr txBox="1"/>
          <p:nvPr/>
        </p:nvSpPr>
        <p:spPr>
          <a:xfrm>
            <a:off x="2592360" y="512640"/>
            <a:ext cx="32749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中宋"/>
              </a:rPr>
              <a:t>复习回顾：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576360" y="2023920"/>
            <a:ext cx="7596000" cy="40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286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什么是违法行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违法行为有哪几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犯罪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犯罪的三个基本特征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什么是刑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286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刑罚分几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C086-AC5C-4B72-8AB1-E1F82FD1B3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3"/>
          <p:cNvSpPr/>
          <p:nvPr/>
        </p:nvSpPr>
        <p:spPr>
          <a:xfrm>
            <a:off x="669960" y="1052640"/>
            <a:ext cx="847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根据上面材料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１）郑某的行为中哪些属于违反校纪校规的行为？哪些属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违法行为？哪些属于犯罪行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２）你从这个案例中受到了什么启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334240" y="2421000"/>
            <a:ext cx="49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无心学习，不交作业，旷课属于违反校纪校规的行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赌博、偷少量财物属于一般违法行为；纵火烧毁教学楼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犯罪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611280" y="450864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我们应自觉树立法律意识，维护法律的尊严，自觉依法自律，做一个守法的人；加强自身修养，践行道德，做一个有道德的人。要从小事做起，预防违法犯罪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7" descr="bang1"/>
          <p:cNvPicPr/>
          <p:nvPr/>
        </p:nvPicPr>
        <p:blipFill>
          <a:blip r:embed="rId1"/>
          <a:stretch/>
        </p:blipFill>
        <p:spPr>
          <a:xfrm>
            <a:off x="8280360" y="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74" name="WordArt 8"/>
          <p:cNvSpPr txBox="1"/>
          <p:nvPr/>
        </p:nvSpPr>
        <p:spPr>
          <a:xfrm>
            <a:off x="5904000" y="235080"/>
            <a:ext cx="2163600" cy="5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66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以致用</a:t>
            </a:r>
            <a:endParaRPr b="0" lang="en-US" sz="1800" spc="1" strike="noStrike">
              <a:ln w="12600">
                <a:solidFill>
                  <a:srgbClr val="0066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58"/>
          <p:cNvGrpSpPr/>
          <p:nvPr/>
        </p:nvGrpSpPr>
        <p:grpSpPr>
          <a:xfrm>
            <a:off x="868320" y="2438280"/>
            <a:ext cx="541080" cy="560160"/>
            <a:chOff x="868320" y="2438280"/>
            <a:chExt cx="541080" cy="560160"/>
          </a:xfrm>
        </p:grpSpPr>
        <p:sp>
          <p:nvSpPr>
            <p:cNvPr id="420" name="Oval 4"/>
            <p:cNvSpPr/>
            <p:nvPr/>
          </p:nvSpPr>
          <p:spPr>
            <a:xfrm>
              <a:off x="868320" y="2438280"/>
              <a:ext cx="541080" cy="560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5"/>
            <p:cNvSpPr/>
            <p:nvPr/>
          </p:nvSpPr>
          <p:spPr>
            <a:xfrm>
              <a:off x="884520" y="2474280"/>
              <a:ext cx="510480" cy="48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6"/>
            <p:cNvSpPr/>
            <p:nvPr/>
          </p:nvSpPr>
          <p:spPr>
            <a:xfrm>
              <a:off x="913320" y="2512440"/>
              <a:ext cx="448920" cy="42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515600" y="3482640"/>
            <a:ext cx="6048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逐步形成分辨是非、辨别善恶的能力。</a:t>
            </a:r>
            <a:r>
              <a:rPr b="0" lang="zh-CN" sz="3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pSp>
        <p:nvGrpSpPr>
          <p:cNvPr id="424" name="Group 460"/>
          <p:cNvGrpSpPr/>
          <p:nvPr/>
        </p:nvGrpSpPr>
        <p:grpSpPr>
          <a:xfrm>
            <a:off x="868320" y="3627360"/>
            <a:ext cx="541080" cy="560160"/>
            <a:chOff x="868320" y="3627360"/>
            <a:chExt cx="541080" cy="560160"/>
          </a:xfrm>
        </p:grpSpPr>
        <p:sp>
          <p:nvSpPr>
            <p:cNvPr id="425" name="Oval 461"/>
            <p:cNvSpPr/>
            <p:nvPr/>
          </p:nvSpPr>
          <p:spPr>
            <a:xfrm>
              <a:off x="868320" y="3627360"/>
              <a:ext cx="541080" cy="5601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62"/>
            <p:cNvSpPr/>
            <p:nvPr/>
          </p:nvSpPr>
          <p:spPr>
            <a:xfrm>
              <a:off x="884520" y="3663360"/>
              <a:ext cx="510480" cy="48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463"/>
            <p:cNvSpPr/>
            <p:nvPr/>
          </p:nvSpPr>
          <p:spPr>
            <a:xfrm>
              <a:off x="913320" y="3701520"/>
              <a:ext cx="448920" cy="42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588680" y="3230280"/>
            <a:ext cx="6769440" cy="36360"/>
            <a:chOff x="1588680" y="3230280"/>
            <a:chExt cx="6769440" cy="36360"/>
          </a:xfrm>
        </p:grpSpPr>
        <p:sp>
          <p:nvSpPr>
            <p:cNvPr id="429" name="Line 464"/>
            <p:cNvSpPr/>
            <p:nvPr/>
          </p:nvSpPr>
          <p:spPr>
            <a:xfrm flipV="1">
              <a:off x="1589040" y="3230280"/>
              <a:ext cx="6769080" cy="36360"/>
            </a:xfrm>
            <a:prstGeom prst="line">
              <a:avLst/>
            </a:prstGeom>
            <a:ln cap="rnd" w="28440">
              <a:solidFill>
                <a:srgbClr val="00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 rot="10800000">
              <a:off x="1588680" y="3229920"/>
              <a:ext cx="6769080" cy="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ectangle 695"/>
          <p:cNvSpPr/>
          <p:nvPr/>
        </p:nvSpPr>
        <p:spPr>
          <a:xfrm>
            <a:off x="1763640" y="657360"/>
            <a:ext cx="597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学 习 目 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32"/>
          <p:cNvSpPr/>
          <p:nvPr/>
        </p:nvSpPr>
        <p:spPr>
          <a:xfrm>
            <a:off x="2849040" y="218772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通过学习，了解犯罪的危害，知道不良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严重不良行为可能发展为违法犯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60"/>
          <p:cNvGrpSpPr/>
          <p:nvPr/>
        </p:nvGrpSpPr>
        <p:grpSpPr>
          <a:xfrm>
            <a:off x="868320" y="4759200"/>
            <a:ext cx="541080" cy="560160"/>
            <a:chOff x="868320" y="4759200"/>
            <a:chExt cx="541080" cy="560160"/>
          </a:xfrm>
        </p:grpSpPr>
        <p:sp>
          <p:nvSpPr>
            <p:cNvPr id="434" name="Oval 461"/>
            <p:cNvSpPr/>
            <p:nvPr/>
          </p:nvSpPr>
          <p:spPr>
            <a:xfrm>
              <a:off x="868320" y="4759200"/>
              <a:ext cx="541080" cy="560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58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462"/>
            <p:cNvSpPr/>
            <p:nvPr/>
          </p:nvSpPr>
          <p:spPr>
            <a:xfrm>
              <a:off x="884520" y="4795200"/>
              <a:ext cx="510480" cy="48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463"/>
            <p:cNvSpPr/>
            <p:nvPr/>
          </p:nvSpPr>
          <p:spPr>
            <a:xfrm>
              <a:off x="913320" y="4833360"/>
              <a:ext cx="448920" cy="42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 Box 240"/>
          <p:cNvSpPr/>
          <p:nvPr/>
        </p:nvSpPr>
        <p:spPr>
          <a:xfrm>
            <a:off x="4767120" y="47275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加强自身修养，增强法制观念，防微杜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552320" y="5283000"/>
            <a:ext cx="6769440" cy="36360"/>
            <a:chOff x="1552320" y="5283000"/>
            <a:chExt cx="6769440" cy="36360"/>
          </a:xfrm>
        </p:grpSpPr>
        <p:sp>
          <p:nvSpPr>
            <p:cNvPr id="439" name="Line 464"/>
            <p:cNvSpPr/>
            <p:nvPr/>
          </p:nvSpPr>
          <p:spPr>
            <a:xfrm flipV="1">
              <a:off x="1552680" y="5283000"/>
              <a:ext cx="6769080" cy="36360"/>
            </a:xfrm>
            <a:prstGeom prst="line">
              <a:avLst/>
            </a:prstGeom>
            <a:ln cap="rnd" w="28440">
              <a:solidFill>
                <a:srgbClr val="00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 txBox="1"/>
            <p:nvPr/>
          </p:nvSpPr>
          <p:spPr>
            <a:xfrm rot="10800000">
              <a:off x="1552320" y="5282640"/>
              <a:ext cx="6769080" cy="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552320" y="4238280"/>
            <a:ext cx="6769440" cy="36360"/>
            <a:chOff x="1552320" y="4238280"/>
            <a:chExt cx="6769440" cy="36360"/>
          </a:xfrm>
        </p:grpSpPr>
        <p:sp>
          <p:nvSpPr>
            <p:cNvPr id="442" name="Line 464"/>
            <p:cNvSpPr/>
            <p:nvPr/>
          </p:nvSpPr>
          <p:spPr>
            <a:xfrm flipV="1">
              <a:off x="1552680" y="4238280"/>
              <a:ext cx="6769080" cy="36360"/>
            </a:xfrm>
            <a:prstGeom prst="line">
              <a:avLst/>
            </a:prstGeom>
            <a:ln cap="rnd" w="28440">
              <a:solidFill>
                <a:srgbClr val="00cc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 rot="10800000">
              <a:off x="1552320" y="4237920"/>
              <a:ext cx="6769080" cy="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3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设疑自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324000" y="1773360"/>
            <a:ext cx="8496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请同学们用自己喜欢的方式读教材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97---P101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页内容，采用圈点、批注的方法，根据自己的理解提出问题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矩形 5"/>
          <p:cNvSpPr/>
          <p:nvPr/>
        </p:nvSpPr>
        <p:spPr>
          <a:xfrm>
            <a:off x="2879640" y="3500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31640" y="1844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4680" indent="-228600">
              <a:lnSpc>
                <a:spcPct val="100000"/>
              </a:lnSpc>
              <a:spcBef>
                <a:spcPts val="1001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Franklin Gothic Medium"/>
              </a:rPr>
              <a:t>要求：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  <a:p>
            <a:pPr marL="274680" indent="-228600">
              <a:lnSpc>
                <a:spcPct val="100000"/>
              </a:lnSpc>
              <a:spcBef>
                <a:spcPts val="1001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Franklin Gothic Medium"/>
              </a:rPr>
              <a:t>1</a:t>
            </a:r>
            <a:r>
              <a:rPr b="1" lang="zh-CN" sz="4000" spc="-1" strike="noStrike">
                <a:solidFill>
                  <a:srgbClr val="008000"/>
                </a:solidFill>
                <a:latin typeface="Franklin Gothic Medium"/>
              </a:rPr>
              <a:t>、限时</a:t>
            </a:r>
            <a:r>
              <a:rPr b="1" lang="en-US" sz="4000" spc="-1" strike="noStrike">
                <a:solidFill>
                  <a:srgbClr val="008000"/>
                </a:solidFill>
                <a:latin typeface="Franklin Gothic Medium"/>
              </a:rPr>
              <a:t>8</a:t>
            </a:r>
            <a:r>
              <a:rPr b="1" lang="zh-CN" sz="4000" spc="-1" strike="noStrike">
                <a:solidFill>
                  <a:srgbClr val="008000"/>
                </a:solidFill>
                <a:latin typeface="Franklin Gothic Medium"/>
              </a:rPr>
              <a:t>分钟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  <a:p>
            <a:pPr marL="274680" indent="-228600">
              <a:lnSpc>
                <a:spcPct val="100000"/>
              </a:lnSpc>
              <a:spcBef>
                <a:spcPts val="1001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Franklin Gothic Medium"/>
              </a:rPr>
              <a:t>2</a:t>
            </a:r>
            <a:r>
              <a:rPr b="1" lang="zh-CN" sz="4000" spc="-1" strike="noStrike">
                <a:solidFill>
                  <a:srgbClr val="008000"/>
                </a:solidFill>
                <a:latin typeface="Franklin Gothic Medium"/>
              </a:rPr>
              <a:t>、</a:t>
            </a:r>
            <a:r>
              <a:rPr b="1" lang="en-US" sz="4000" spc="-1" strike="noStrike">
                <a:solidFill>
                  <a:srgbClr val="008000"/>
                </a:solidFill>
                <a:latin typeface="Franklin Gothic Medium"/>
              </a:rPr>
              <a:t>5</a:t>
            </a:r>
            <a:r>
              <a:rPr b="1" lang="zh-CN" sz="4000" spc="-1" strike="noStrike">
                <a:solidFill>
                  <a:srgbClr val="008000"/>
                </a:solidFill>
                <a:latin typeface="Franklin Gothic Medium"/>
              </a:rPr>
              <a:t>分钟独立思考，</a:t>
            </a:r>
            <a:r>
              <a:rPr b="1" lang="en-US" sz="4000" spc="-1" strike="noStrike">
                <a:solidFill>
                  <a:srgbClr val="008000"/>
                </a:solidFill>
                <a:latin typeface="Franklin Gothic Medium"/>
              </a:rPr>
              <a:t>3</a:t>
            </a:r>
            <a:r>
              <a:rPr b="1" lang="zh-CN" sz="4000" spc="-1" strike="noStrike">
                <a:solidFill>
                  <a:srgbClr val="008000"/>
                </a:solidFill>
                <a:latin typeface="Franklin Gothic Medium"/>
              </a:rPr>
              <a:t>分钟小组交流，达成共识；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  <a:p>
            <a:pPr marL="274680" indent="-228600">
              <a:lnSpc>
                <a:spcPct val="100000"/>
              </a:lnSpc>
              <a:spcBef>
                <a:spcPts val="1001"/>
              </a:spcBef>
              <a:buClr>
                <a:srgbClr val="dddddd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Franklin Gothic Medium"/>
              </a:rPr>
              <a:t>3</a:t>
            </a:r>
            <a:r>
              <a:rPr b="1" lang="zh-CN" sz="4000" spc="-1" strike="noStrike">
                <a:solidFill>
                  <a:srgbClr val="008000"/>
                </a:solidFill>
                <a:latin typeface="Franklin Gothic Medium"/>
              </a:rPr>
              <a:t>、小组长做好记录，以备展示和点评。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250"/>
          <p:cNvSpPr/>
          <p:nvPr/>
        </p:nvSpPr>
        <p:spPr>
          <a:xfrm rot="1800000">
            <a:off x="8064360" y="4832280"/>
            <a:ext cx="1461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4"/>
          <p:cNvSpPr/>
          <p:nvPr/>
        </p:nvSpPr>
        <p:spPr>
          <a:xfrm>
            <a:off x="1116000" y="1281240"/>
            <a:ext cx="7658280" cy="51847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1224000" y="5553000"/>
            <a:ext cx="253800" cy="25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7"/>
          <p:cNvSpPr/>
          <p:nvPr/>
        </p:nvSpPr>
        <p:spPr>
          <a:xfrm>
            <a:off x="1476360" y="5373720"/>
            <a:ext cx="3888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1547640" y="1484280"/>
            <a:ext cx="716616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教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9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案例，思考并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陈某由一个品学兼优的好学生逐步走向犯罪深渊的原因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导致人们走向犯罪道路的原因主要有：道德水平低；法制观念淡薄；为获得某种满足，贪图便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249"/>
          <p:cNvSpPr/>
          <p:nvPr/>
        </p:nvSpPr>
        <p:spPr>
          <a:xfrm rot="14400000">
            <a:off x="8385480" y="1941840"/>
            <a:ext cx="129960" cy="4428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251"/>
          <p:cNvSpPr/>
          <p:nvPr/>
        </p:nvSpPr>
        <p:spPr>
          <a:xfrm rot="5400000">
            <a:off x="8172720" y="6133320"/>
            <a:ext cx="1414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252"/>
          <p:cNvSpPr/>
          <p:nvPr/>
        </p:nvSpPr>
        <p:spPr>
          <a:xfrm rot="17400000">
            <a:off x="8040600" y="3868560"/>
            <a:ext cx="181080" cy="53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253"/>
          <p:cNvSpPr/>
          <p:nvPr/>
        </p:nvSpPr>
        <p:spPr>
          <a:xfrm rot="5400000">
            <a:off x="8071920" y="2757240"/>
            <a:ext cx="1396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584280"/>
            <a:ext cx="4465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解疑合探一：</a:t>
            </a:r>
            <a:endParaRPr b="0" lang="en-US" sz="5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58" name="Rectangle 250"/>
          <p:cNvSpPr/>
          <p:nvPr/>
        </p:nvSpPr>
        <p:spPr>
          <a:xfrm>
            <a:off x="3672000" y="441360"/>
            <a:ext cx="53290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认清犯罪危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4"/>
          <p:cNvSpPr/>
          <p:nvPr/>
        </p:nvSpPr>
        <p:spPr>
          <a:xfrm>
            <a:off x="826920" y="981000"/>
            <a:ext cx="8137800" cy="547236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6"/>
          <p:cNvSpPr/>
          <p:nvPr/>
        </p:nvSpPr>
        <p:spPr>
          <a:xfrm>
            <a:off x="1224000" y="5553000"/>
            <a:ext cx="253800" cy="25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7"/>
          <p:cNvSpPr/>
          <p:nvPr/>
        </p:nvSpPr>
        <p:spPr>
          <a:xfrm>
            <a:off x="1476360" y="5373720"/>
            <a:ext cx="3888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4"/>
          <p:cNvSpPr/>
          <p:nvPr/>
        </p:nvSpPr>
        <p:spPr>
          <a:xfrm>
            <a:off x="1079640" y="1011240"/>
            <a:ext cx="72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结合陈某的经历说说道德水平高低与违法犯罪之间有何联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道德水平高低与违法犯罪有密切的关系。人的行为是思想观念支配的。①道德水平高、法制观念强，就会追求上进，不犯或少犯错误，行为上就不会做出违法犯罪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道德水平低、法制观念淡薄，就会追求低级趣味，难免犯违反纪律的错误，发展下去就会可能违法，甚至犯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249"/>
          <p:cNvSpPr/>
          <p:nvPr/>
        </p:nvSpPr>
        <p:spPr>
          <a:xfrm rot="14400000">
            <a:off x="8541360" y="1684800"/>
            <a:ext cx="130320" cy="4428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50"/>
          <p:cNvSpPr/>
          <p:nvPr/>
        </p:nvSpPr>
        <p:spPr>
          <a:xfrm rot="1800000">
            <a:off x="8424720" y="5229360"/>
            <a:ext cx="146160" cy="4428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251"/>
          <p:cNvSpPr/>
          <p:nvPr/>
        </p:nvSpPr>
        <p:spPr>
          <a:xfrm rot="5400000">
            <a:off x="8506080" y="604728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252"/>
          <p:cNvSpPr/>
          <p:nvPr/>
        </p:nvSpPr>
        <p:spPr>
          <a:xfrm rot="17400000">
            <a:off x="8312040" y="3865320"/>
            <a:ext cx="181080" cy="53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253"/>
          <p:cNvSpPr/>
          <p:nvPr/>
        </p:nvSpPr>
        <p:spPr>
          <a:xfrm rot="5400000">
            <a:off x="8469360" y="2878200"/>
            <a:ext cx="139680" cy="3045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4"/>
          <p:cNvSpPr/>
          <p:nvPr/>
        </p:nvSpPr>
        <p:spPr>
          <a:xfrm>
            <a:off x="900000" y="1268280"/>
            <a:ext cx="8064720" cy="518508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6"/>
          <p:cNvSpPr/>
          <p:nvPr/>
        </p:nvSpPr>
        <p:spPr>
          <a:xfrm>
            <a:off x="1224000" y="5553000"/>
            <a:ext cx="253800" cy="25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7"/>
          <p:cNvSpPr/>
          <p:nvPr/>
        </p:nvSpPr>
        <p:spPr>
          <a:xfrm>
            <a:off x="1476360" y="5373720"/>
            <a:ext cx="388800" cy="43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4"/>
          <p:cNvSpPr/>
          <p:nvPr/>
        </p:nvSpPr>
        <p:spPr>
          <a:xfrm>
            <a:off x="990720" y="1303200"/>
            <a:ext cx="788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教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9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案例，讨论：犯罪对自己、对他人、对家庭、对社会有什么危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对自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葬送自己的未来，并且最终受到法律的惩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对家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辜负父母的希望，可能使得家庭关系紧张，甚至造成家庭破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对他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犯别人的财产权和人身安全，对他人的财物和生命造成危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对社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扰乱社会治安秩序，影响了社会的稳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49"/>
          <p:cNvSpPr/>
          <p:nvPr/>
        </p:nvSpPr>
        <p:spPr>
          <a:xfrm rot="14400000">
            <a:off x="8385480" y="1941840"/>
            <a:ext cx="129960" cy="44280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250"/>
          <p:cNvSpPr/>
          <p:nvPr/>
        </p:nvSpPr>
        <p:spPr>
          <a:xfrm rot="1800000">
            <a:off x="8064360" y="4832280"/>
            <a:ext cx="1461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51"/>
          <p:cNvSpPr/>
          <p:nvPr/>
        </p:nvSpPr>
        <p:spPr>
          <a:xfrm rot="5400000">
            <a:off x="8172720" y="6133320"/>
            <a:ext cx="1414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52"/>
          <p:cNvSpPr/>
          <p:nvPr/>
        </p:nvSpPr>
        <p:spPr>
          <a:xfrm rot="17400000">
            <a:off x="8040600" y="3868560"/>
            <a:ext cx="181080" cy="53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53"/>
          <p:cNvSpPr/>
          <p:nvPr/>
        </p:nvSpPr>
        <p:spPr>
          <a:xfrm rot="5400000">
            <a:off x="8071920" y="2757240"/>
            <a:ext cx="13968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576360" y="112536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方正姚体"/>
                <a:ea typeface="方正姚体"/>
              </a:rPr>
              <a:t>思考一：</a:t>
            </a:r>
            <a:r>
              <a:rPr b="1" lang="en-US" sz="2400" spc="-1" strike="noStrike">
                <a:solidFill>
                  <a:srgbClr val="000066"/>
                </a:solidFill>
                <a:latin typeface="方正姚体"/>
                <a:ea typeface="方正姚体"/>
              </a:rPr>
              <a:t>98</a:t>
            </a:r>
            <a:r>
              <a:rPr b="1" lang="zh-CN" sz="2400" spc="-1" strike="noStrike">
                <a:solidFill>
                  <a:srgbClr val="000066"/>
                </a:solidFill>
                <a:latin typeface="方正姚体"/>
                <a:ea typeface="方正姚体"/>
              </a:rPr>
              <a:t>页材料中小迪的行为对自己、对他人、对家庭、对社会都有哪些危害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468360" y="33577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07ed"/>
                </a:solidFill>
                <a:latin typeface="Times New Roman"/>
                <a:ea typeface="黑体"/>
              </a:rPr>
              <a:t>对他人的危害：</a:t>
            </a:r>
            <a:r>
              <a:rPr b="1" lang="zh-CN" sz="2400" spc="-1" strike="noStrike">
                <a:solidFill>
                  <a:srgbClr val="4e07e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3059280" y="3213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损害他人财物、导致他人经济损失，危害他人人身安全、生命安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468360" y="2549520"/>
            <a:ext cx="29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07ed"/>
                </a:solidFill>
                <a:latin typeface="Times New Roman"/>
                <a:ea typeface="黑体"/>
              </a:rPr>
              <a:t>对自己的危害：</a:t>
            </a:r>
            <a:r>
              <a:rPr b="1" lang="zh-CN" sz="2400" spc="-1" strike="noStrike">
                <a:solidFill>
                  <a:srgbClr val="4e07e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5344920" y="2565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坐牢，失去人身自由，葬送前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1010520" y="4149720"/>
            <a:ext cx="17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07ed"/>
                </a:solidFill>
                <a:latin typeface="黑体"/>
                <a:ea typeface="黑体"/>
              </a:rPr>
              <a:t>对家庭的危害：</a:t>
            </a:r>
            <a:r>
              <a:rPr b="1" lang="zh-CN" sz="2400" spc="-1" strike="noStrike">
                <a:solidFill>
                  <a:srgbClr val="4e07ed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3059280" y="4221000"/>
            <a:ext cx="57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让家人伤心、失望，甚至危害家人的生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971280" y="486900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07ed"/>
                </a:solidFill>
                <a:latin typeface="Times New Roman"/>
                <a:ea typeface="黑体"/>
              </a:rPr>
              <a:t>对社会的危害：</a:t>
            </a:r>
            <a:r>
              <a:rPr b="1" lang="zh-CN" sz="2800" spc="-1" strike="noStrike">
                <a:solidFill>
                  <a:srgbClr val="4e07e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5173920" y="4797360"/>
            <a:ext cx="4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影响社会安定，败坏社会风气。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468360" y="5734080"/>
            <a:ext cx="5904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论：违法犯罪付出的代价太大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8199"/>
          <p:cNvSpPr/>
          <p:nvPr/>
        </p:nvSpPr>
        <p:spPr>
          <a:xfrm>
            <a:off x="1152360" y="641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2:32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58Z</dcterms:modified>
  <cp:revision>9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