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6.jpeg" ContentType="image/jpeg"/>
  <Override PartName="/ppt/media/image7.jpeg" ContentType="image/jpeg"/>
  <Override PartName="/ppt/media/camera.wav" ContentType="audio/x-wav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type.wav" ContentType="audio/x-wav"/>
  <Override PartName="/ppt/media/image5.jpeg" ContentType="image/jpeg"/>
  <Override PartName="/ppt/media/image10.jpeg" ContentType="image/jpeg"/>
  <Override PartName="/ppt/media/image8.jpeg" ContentType="image/jpeg"/>
  <Override PartName="/ppt/media/projctor.wav" ContentType="audio/x-wav"/>
  <Override PartName="/ppt/media/cashreg.wav" ContentType="audio/x-wav"/>
  <Override PartName="/ppt/media/image4.png" ContentType="image/png"/>
  <Override PartName="/ppt/media/lase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2947-1BEF-460C-B5E7-BCDCB201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F6F8-2FB0-4B2B-9674-6888C3B7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6CD8-9DBA-4659-99B3-8D9D115D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CC41-AEAA-4827-AED3-26E2141A4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4C8F-8441-4972-8674-F671A4E6D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6FD2-E4A0-44A4-AF7A-BC51506B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31C2-663F-4CBE-81C4-72EBE25D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0BEA-65AE-4154-8F8E-BEEC13CD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F13C-046C-474D-AEA8-3ABE2920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8CF0-2BE8-4885-8ACF-A68F96BB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5B43-39C9-402F-B52F-C3233E26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1136-D608-4287-A18A-C32EE3BC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8014-0B95-43C8-923A-980A0B4C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FDF7-5037-432E-8E03-B105FFA8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E971-17F8-4474-9332-19DF28A0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3F9B-7475-4623-92CC-79CAE92D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CEC6-4ECF-4A7E-BE54-10F495223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7762E-19E1-4FAC-AF3D-6657B7D3C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6FD1D-FD57-42CF-BBD8-DF4A65AE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456EB-4DE5-499E-8D50-0FFAA9D7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980D1-670B-4017-B5EE-47518526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5B13D-97BF-4E06-849F-8B3F731F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B215-0675-4AB1-BBEE-D21752D4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66AFF-9064-4C00-9A8B-6D56A7B4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9E9D8-2DE3-4317-AC51-CFC85974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69ACC-263E-4FAC-AFD4-1658AB7D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51EB7-FE45-4759-8F6B-1CC261FE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5D1A2-B55F-4B72-B4CD-EA786B8D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7C91E-A243-46CA-AD57-3312679B0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606F5-5402-4089-A3FD-4571776F3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D536-35D2-4C59-B521-90E10BDB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C3D8-06F1-4697-92FE-1A04E986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82FD-3864-4C82-B5A6-70FB8893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F40D-00A1-4D0C-94D5-3F49EBBD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700B-C2FC-4567-90DA-5D1A29AA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7402-793C-46BB-877C-58D3BA41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556D-CB23-4AD9-BA9B-4D6548DE2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29D9-4B2C-4CA9-AAD4-768DE869E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3915-E181-47CF-AE13-F0BA96A50B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ype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projctor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projctor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audio" Target="../media/laser.wav"/><Relationship Id="rId5" Type="http://schemas.openxmlformats.org/officeDocument/2006/relationships/audio" Target="../media/type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projctor.wav"/><Relationship Id="rId3" Type="http://schemas.openxmlformats.org/officeDocument/2006/relationships/audio" Target="../media/cashreg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shreg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1701720" y="1989000"/>
            <a:ext cx="56390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3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8000"/>
                  </a:solidFill>
                  <a:round/>
                </a:ln>
                <a:solidFill>
                  <a:srgbClr val="ff3300"/>
                </a:solidFill>
                <a:latin typeface="华文行楷"/>
              </a:rPr>
              <a:t>凡卡小学语文</a:t>
            </a:r>
            <a:r>
              <a:rPr b="1" lang="en-US" sz="4000" spc="1" strike="noStrike">
                <a:ln w="9360">
                  <a:solidFill>
                    <a:srgbClr val="008000"/>
                  </a:solidFill>
                  <a:round/>
                </a:ln>
                <a:solidFill>
                  <a:srgbClr val="ff3300"/>
                </a:solidFill>
                <a:latin typeface="华文行楷"/>
              </a:rPr>
              <a:t>PPT</a:t>
            </a:r>
            <a:r>
              <a:rPr b="1" lang="zh-CN" sz="4000" spc="1" strike="noStrike">
                <a:ln w="9360">
                  <a:solidFill>
                    <a:srgbClr val="008000"/>
                  </a:solidFill>
                  <a:round/>
                </a:ln>
                <a:solidFill>
                  <a:srgbClr val="ff3300"/>
                </a:solidFill>
                <a:latin typeface="华文行楷"/>
              </a:rPr>
              <a:t>课件下载</a:t>
            </a:r>
            <a:endParaRPr b="1" lang="en-US" sz="4000" spc="1" strike="noStrike">
              <a:ln w="9360">
                <a:solidFill>
                  <a:srgbClr val="008000"/>
                </a:solidFill>
                <a:round/>
              </a:ln>
              <a:solidFill>
                <a:srgbClr val="ff3300"/>
              </a:solidFill>
              <a:latin typeface="华文行楷"/>
              <a:ea typeface="华文行楷"/>
            </a:endParaRPr>
          </a:p>
        </p:txBody>
      </p:sp>
      <p:sp>
        <p:nvSpPr>
          <p:cNvPr id="12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FR20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3"/>
          <p:cNvSpPr/>
          <p:nvPr/>
        </p:nvSpPr>
        <p:spPr>
          <a:xfrm>
            <a:off x="1981080" y="152280"/>
            <a:ext cx="51055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课后练习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ff"/>
                </a:solidFill>
                <a:latin typeface="Times New Roman"/>
                <a:ea typeface="华文隶书"/>
              </a:rPr>
              <a:t>    </a:t>
            </a:r>
            <a:r>
              <a:rPr b="1" lang="zh-CN" sz="5400" spc="-1" strike="noStrike">
                <a:solidFill>
                  <a:srgbClr val="cc00ff"/>
                </a:solidFill>
                <a:latin typeface="Times New Roman"/>
                <a:ea typeface="华文隶书"/>
              </a:rPr>
              <a:t>把凡卡的故事讲给亲友听，看看身边有没有凡卡这样的人，请你设法帮助他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8058-63D0-49F0-BB9E-29CBC05C32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4284720" y="549360"/>
            <a:ext cx="446400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宋体"/>
              </a:rPr>
              <a:t>小结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读了凡卡，我们认识了什么？对今天的生活应该怎样珍惜？回家和父母聊一聊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1219320" y="457200"/>
            <a:ext cx="60958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教学目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、了解旧俄时代穷孩子的悲惨命运，理解作者表达的思想感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、学习课文的细节描写和叙述、信、凡卡的回忆交叉在一起描写的方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、有感情地朗读课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8199"/>
          <p:cNvSpPr/>
          <p:nvPr/>
        </p:nvSpPr>
        <p:spPr>
          <a:xfrm>
            <a:off x="2484360" y="981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6"/>
          <p:cNvSpPr/>
          <p:nvPr/>
        </p:nvSpPr>
        <p:spPr>
          <a:xfrm>
            <a:off x="2124000" y="639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p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1828800" y="115920"/>
            <a:ext cx="6172200" cy="37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  <a:ea typeface="华文隶书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华文隶书"/>
              </a:rPr>
              <a:t>学习文中写信的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讨论：凡卡在信中讲了哪几件事？说明他是个怎样的孩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FR2003"/>
          <p:cNvPicPr/>
          <p:nvPr/>
        </p:nvPicPr>
        <p:blipFill>
          <a:blip r:embed="rId1"/>
          <a:stretch/>
        </p:blipFill>
        <p:spPr>
          <a:xfrm>
            <a:off x="34920" y="0"/>
            <a:ext cx="9109080" cy="6813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971640" y="503280"/>
            <a:ext cx="7543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华文隶书"/>
                <a:ea typeface="华文隶书"/>
              </a:rPr>
              <a:t>1</a:t>
            </a:r>
            <a:r>
              <a:rPr b="1" lang="zh-CN" sz="3200" spc="-1" strike="noStrike">
                <a:solidFill>
                  <a:srgbClr val="a50021"/>
                </a:solidFill>
                <a:latin typeface="华文隶书"/>
                <a:ea typeface="华文隶书"/>
              </a:rPr>
              <a:t>、问候爷爷，表明自己的思念及自己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华文隶书"/>
                <a:ea typeface="华文隶书"/>
              </a:rPr>
              <a:t>   </a:t>
            </a:r>
            <a:r>
              <a:rPr b="1" lang="zh-CN" sz="3200" spc="-1" strike="noStrike">
                <a:solidFill>
                  <a:srgbClr val="a50021"/>
                </a:solidFill>
                <a:latin typeface="华文隶书"/>
                <a:ea typeface="华文隶书"/>
              </a:rPr>
              <a:t>孤儿身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华文隶书"/>
                <a:ea typeface="华文隶书"/>
              </a:rPr>
              <a:t>2</a:t>
            </a:r>
            <a:r>
              <a:rPr b="1" lang="zh-CN" sz="3200" spc="-1" strike="noStrike">
                <a:solidFill>
                  <a:srgbClr val="a50021"/>
                </a:solidFill>
                <a:latin typeface="华文隶书"/>
                <a:ea typeface="华文隶书"/>
              </a:rPr>
              <a:t>、痛苦的学徒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华文隶书"/>
                <a:ea typeface="华文隶书"/>
              </a:rPr>
              <a:t>3</a:t>
            </a:r>
            <a:r>
              <a:rPr b="1" lang="zh-CN" sz="3200" spc="-1" strike="noStrike">
                <a:solidFill>
                  <a:srgbClr val="a50021"/>
                </a:solidFill>
                <a:latin typeface="华文隶书"/>
                <a:ea typeface="华文隶书"/>
              </a:rPr>
              <a:t>、介绍莫斯科见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华文隶书"/>
                <a:ea typeface="华文隶书"/>
              </a:rPr>
              <a:t>4</a:t>
            </a:r>
            <a:r>
              <a:rPr b="1" lang="zh-CN" sz="3200" spc="-1" strike="noStrike">
                <a:solidFill>
                  <a:srgbClr val="a50021"/>
                </a:solidFill>
                <a:latin typeface="华文隶书"/>
                <a:ea typeface="华文隶书"/>
              </a:rPr>
              <a:t>、哀求爷爷、问候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FR20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2057400" y="1736640"/>
            <a:ext cx="6705720" cy="22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Times New Roman"/>
                <a:ea typeface="隶书"/>
              </a:rPr>
              <a:t>学习文中回忆的部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809880" y="3565440"/>
            <a:ext cx="556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思考讨论：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凡卡在写信的同时还插进去叙述了哪些内容？作者这么写的目的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8199"/>
          <p:cNvSpPr/>
          <p:nvPr/>
        </p:nvSpPr>
        <p:spPr>
          <a:xfrm>
            <a:off x="1835280" y="5475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FR2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-76320" y="2819520"/>
            <a:ext cx="9677520" cy="29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爷爷守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乡村雪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以欢乐反衬凡卡的凄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和爷爷砍圣诞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4280040" y="3276720"/>
            <a:ext cx="457200" cy="2313000"/>
          </a:xfrm>
          <a:custGeom>
            <a:avLst/>
            <a:gdLst>
              <a:gd name="textAreaLeft" fmla="*/ 0 w 457200"/>
              <a:gd name="textAreaRight" fmla="*/ 164880 w 457200"/>
              <a:gd name="textAreaTop" fmla="*/ 60120 h 2313000"/>
              <a:gd name="textAreaBottom" fmla="*/ 2252880 h 231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FR20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2438280" y="1432080"/>
            <a:ext cx="4876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  <a:ea typeface="华文隶书"/>
              </a:rPr>
              <a:t>学习文章最后一部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、凡卡的信爷爷能收到吗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宋体"/>
              </a:rPr>
              <a:t>、凡卡自己知道吗？如果你在场，你准备怎么帮他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914400" y="907920"/>
            <a:ext cx="82296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总结本文的写作手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隶书"/>
              </a:rPr>
              <a:t>一、抓住细节描写，使文章写得很感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隶书"/>
              </a:rPr>
              <a:t>二、对比的描写，反衬凡卡的凄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隶书"/>
              </a:rPr>
              <a:t>三、插叙的手法，读来自然、流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8199"/>
          <p:cNvSpPr/>
          <p:nvPr/>
        </p:nvSpPr>
        <p:spPr>
          <a:xfrm>
            <a:off x="755640" y="1413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5:11:2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5:04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