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088-D4D0-4ED5-9BBA-9D60FD4A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E4E-59DB-478C-A3DA-A9D6F8CF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D3D-B53C-415D-89A5-71F39CEF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97A-8F25-4156-A54B-F6878083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5E64-999F-4C29-8AA6-2DB0637A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EB5C-96DC-4C79-9BAF-F0794DC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E06D-7812-4FE2-A36E-D88DE83E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8F59-795C-4125-A0B1-97CAEFE8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56D6-DF42-4962-898A-5A0C1A4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B199-3CBB-4A02-9921-684A0453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1506-A816-4754-8DB6-C283292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E09-EE56-484E-BBE7-0BFDA76C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D421-F279-4B43-BFD6-C18F802A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BD13-5967-495C-81D5-92807DB3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5AD4-5228-467A-9209-679F9DB0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2933-C58D-476E-9160-FA70F82E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D7B5-2FDD-4C54-9EFD-876FDF2A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857-EF54-4006-A7A3-06BD1D3B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B81-8695-4ED5-9017-007A5B2D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C7E-9515-49D9-AF98-6A8D655A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A92-BED0-4866-A358-870F9207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60C-ABFE-4AEB-B77D-2CA97A02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E07-C332-4485-A65F-116D6646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A13-DD40-49BD-9ED9-22EE5F1B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7F92-DC2E-4E9B-8402-12ACEFFC4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B443-47D1-4D35-AE30-EAFD29C0F9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hl.net/gb/2000/freshman/philosophy.htm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1" descr="pic_957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55520" y="1557360"/>
            <a:ext cx="865188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细黑"/>
              </a:rPr>
              <a:t>福楼拜家的星期天语文</a:t>
            </a: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细黑"/>
              </a:rPr>
              <a:t>PPT</a:t>
            </a: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细黑"/>
              </a:rPr>
              <a:t>课件模板下载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600360" y="4292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莫泊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17B5-E5C9-4851-A513-DBDAAB5416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00000" y="907920"/>
            <a:ext cx="74170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读准红字的音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简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力　   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谬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戏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发　  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捋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辨析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┍鉴　　　┍魅　　　┍庞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　┕签　　　┕魁　　　┕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9"/>
          <p:cNvSpPr/>
          <p:nvPr/>
        </p:nvSpPr>
        <p:spPr>
          <a:xfrm>
            <a:off x="1692360" y="541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npo000458"/>
          <p:cNvPicPr/>
          <p:nvPr/>
        </p:nvPicPr>
        <p:blipFill>
          <a:blip r:embed="rId1"/>
          <a:srcRect l="0" t="0" r="0" b="8878"/>
          <a:stretch/>
        </p:blipFill>
        <p:spPr>
          <a:xfrm>
            <a:off x="5435640" y="189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00410384615883"/>
          <p:cNvPicPr/>
          <p:nvPr/>
        </p:nvPicPr>
        <p:blipFill>
          <a:blip r:embed="rId2"/>
          <a:srcRect l="0" t="0" r="0" b="10340"/>
          <a:stretch/>
        </p:blipFill>
        <p:spPr>
          <a:xfrm>
            <a:off x="826920" y="189000"/>
            <a:ext cx="2232360" cy="324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npo000460"/>
          <p:cNvPicPr/>
          <p:nvPr/>
        </p:nvPicPr>
        <p:blipFill>
          <a:blip r:embed="rId3"/>
          <a:srcRect l="19434" t="17478" r="33064" b="44304"/>
          <a:stretch/>
        </p:blipFill>
        <p:spPr>
          <a:xfrm>
            <a:off x="684360" y="3860640"/>
            <a:ext cx="2585880" cy="266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npo00045e"/>
          <p:cNvPicPr/>
          <p:nvPr/>
        </p:nvPicPr>
        <p:blipFill>
          <a:blip r:embed="rId4"/>
          <a:stretch/>
        </p:blipFill>
        <p:spPr>
          <a:xfrm>
            <a:off x="5292720" y="3357720"/>
            <a:ext cx="2739960" cy="3243240"/>
          </a:xfrm>
          <a:prstGeom prst="rect">
            <a:avLst/>
          </a:prstGeom>
          <a:ln w="0">
            <a:noFill/>
          </a:ln>
        </p:spPr>
      </p:pic>
      <p:sp>
        <p:nvSpPr>
          <p:cNvPr id="93" name="WordArt 9"/>
          <p:cNvSpPr txBox="1"/>
          <p:nvPr/>
        </p:nvSpPr>
        <p:spPr>
          <a:xfrm rot="1920000">
            <a:off x="2843280" y="2781360"/>
            <a:ext cx="302580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ffff99"/>
                    </a:gs>
                  </a:gsLst>
                  <a:lin ang="3480000"/>
                </a:gradFill>
                <a:latin typeface="宋体"/>
              </a:rPr>
              <a:t>猜一猜  </a:t>
            </a:r>
            <a:r>
              <a:rPr b="1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5f5f5f"/>
                    </a:gs>
                    <a:gs pos="100000">
                      <a:srgbClr val="ffff99"/>
                    </a:gs>
                  </a:gsLst>
                  <a:lin ang="3480000"/>
                </a:gradFill>
                <a:latin typeface="宋体"/>
              </a:rPr>
              <a:t>?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5f5f5f"/>
                  </a:gs>
                  <a:gs pos="100000">
                    <a:srgbClr val="ffff99"/>
                  </a:gs>
                </a:gsLst>
                <a:lin ang="348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npo000458"/>
          <p:cNvPicPr/>
          <p:nvPr/>
        </p:nvPicPr>
        <p:blipFill>
          <a:blip r:embed="rId1">
            <a:lum contrast="-6000"/>
          </a:blip>
          <a:srcRect l="0" t="0" r="0" b="8287"/>
          <a:stretch/>
        </p:blipFill>
        <p:spPr>
          <a:xfrm>
            <a:off x="6084720" y="1341360"/>
            <a:ext cx="2482920" cy="3284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336680" y="9079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1916280"/>
            <a:ext cx="526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法国批判现实主义小说家。出身于没落贵族家庭。童年在农村度过。普法战争时曾入伍作战。战后长期在政府部门任职员。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8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起，短短十年间，除一部处女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，共著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羊脂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三百多篇短篇小说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漂亮的朋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温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等六部长篇小说。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732720" y="4941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莫泊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文本框 8200"/>
          <p:cNvSpPr/>
          <p:nvPr/>
        </p:nvSpPr>
        <p:spPr>
          <a:xfrm>
            <a:off x="971640" y="260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npo00045a"/>
          <p:cNvPicPr/>
          <p:nvPr/>
        </p:nvPicPr>
        <p:blipFill>
          <a:blip r:embed="rId1"/>
          <a:srcRect l="0" t="0" r="0" b="8509"/>
          <a:stretch/>
        </p:blipFill>
        <p:spPr>
          <a:xfrm>
            <a:off x="5867280" y="765000"/>
            <a:ext cx="2813040" cy="4392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68360" y="836640"/>
            <a:ext cx="49672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隶书"/>
                <a:ea typeface="隶书"/>
              </a:rPr>
              <a:t>  </a:t>
            </a:r>
            <a:r>
              <a:rPr b="0" lang="zh-CN" sz="3600" spc="-1" strike="noStrike">
                <a:solidFill>
                  <a:srgbClr val="ff9900"/>
                </a:solidFill>
                <a:latin typeface="隶书"/>
                <a:ea typeface="隶书"/>
              </a:rPr>
              <a:t>福楼拜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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821-1880)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中叶法国重要的批判现实主义作家。出生于卢昂著名外科医生家庭。 他在中学时就热心阅读浪漫主义作品，并从事文学习作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4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福楼拜赴巴黎攻读法律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 4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后，埋头于写作，独身终其一生。重要著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包法利夫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描述了爱玛从一个单纯少女 变成放荡女性的堕落过程，反映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48-187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间法国的时代风貌。揭露了丑恶鄙俗的资产 阶级社会。本书因描写性而涉嫌风化遭查禁。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npo00045c"/>
          <p:cNvPicPr/>
          <p:nvPr/>
        </p:nvPicPr>
        <p:blipFill>
          <a:blip r:embed="rId1"/>
          <a:stretch/>
        </p:blipFill>
        <p:spPr>
          <a:xfrm>
            <a:off x="5076720" y="1125360"/>
            <a:ext cx="37800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8360" y="549360"/>
            <a:ext cx="43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8000"/>
                </a:solidFill>
                <a:latin typeface="Times New Roman"/>
                <a:ea typeface="楷体_GB2312"/>
              </a:rPr>
              <a:t>屠格涅夫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1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～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8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俄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批判现实主义作家，出生于世袭贵族之家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3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进莫斯科大学文学系，一年后转入彼得堡大学哲学系语文专业，毕业后到德国柏林大学攻读哲学、历史和希腊与拉丁文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屠格涅夫是一位有独特艺术风格的作家，他既擅长细腻的心理描写，又长于抒情。小说结构严整，情节紧凑，人物形象生动，尤其善于细致雕琢女性艺术形象，而他对旖旎的大自然的描写也充满诗情画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8908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npo00045e"/>
          <p:cNvPicPr/>
          <p:nvPr/>
        </p:nvPicPr>
        <p:blipFill>
          <a:blip r:embed="rId1"/>
          <a:stretch/>
        </p:blipFill>
        <p:spPr>
          <a:xfrm>
            <a:off x="5724360" y="1052640"/>
            <a:ext cx="3162600" cy="3743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50920" y="476280"/>
            <a:ext cx="5273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隶书"/>
              </a:rPr>
              <a:t>都 德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(1840─1897) 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十九世纪下半叶法国现实主义作家。出身法国南方一个破落的丝绸商人家庭，迫于穷困，十五岁起就独自谋生。先在一所小学校里担任学生自修辅导员。后来到巴黎，从事文艺创作，过着清苦的青年文人生活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866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年，发表了短篇小说集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磨坊文札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，才引起人们注意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868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年，长篇小说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小东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出版，获得巨大成功，都德因此赢得了著名小说家的声誉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磨坊文札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以都德故乡普罗旺斯的日常生活为题材，描写资本主义社会里小人物的苦恼和不幸，抒发作者对家乡自然景色和风土人情的怀恋之情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小东西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半自传式地记叙了作者青少年时期因家道中落，不得不为生计而奔波的经历，以俏皮和幽默的笔调描绘资本主义社会人与人之间的冷酷关系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npo000460"/>
          <p:cNvPicPr/>
          <p:nvPr/>
        </p:nvPicPr>
        <p:blipFill>
          <a:blip r:embed="rId1"/>
          <a:stretch/>
        </p:blipFill>
        <p:spPr>
          <a:xfrm>
            <a:off x="5580000" y="836640"/>
            <a:ext cx="3335400" cy="4267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95280" y="981000"/>
            <a:ext cx="4816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8000"/>
                </a:solidFill>
                <a:latin typeface="Times New Roman"/>
                <a:ea typeface="楷体_GB2312"/>
              </a:rPr>
              <a:t>左 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l84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～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90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世纪后半期法国重要的批判现实主义作家，自然主义文学理论的主要倡导者，一生写成数十部长篇小说，代表作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萌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左拉的创作和世界观充满矛盾：一方面对现存的制度进行毁灭性的批判，一方面又对资本主义社会抱有不切实际的幻想。他的创作从理论到实践都有其特色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，法兰西共和国政府以左拉生前对法国文学的卓越贡献，为他补行国葬，并使之进入伟人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1054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2771640" y="1125360"/>
            <a:ext cx="37450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写作秘笈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042920" y="2349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抓住特点，对人物进行各有侧重的描写是本文第一个写作的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116000" y="4149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与议论、抒情的结合来抓住人物的性格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philoso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9528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位大作家正在谈论着文学方面的事情，这时莫泊桑来了，请你首先对莫泊桑进行外貌、语言、动作的描写，然后想像一下此时这四位作家会用什么样的表情、语言和动作来迎接莫泊桑的到来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716280"/>
            <a:ext cx="784872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莫泊桑年龄最小，要在描述中注意他这一身份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．由于其他四人的性格各异，所以他们针对莫泊桑的语言与动作也应符合他们各自的性格特点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8" descr="1"/>
          <p:cNvPicPr/>
          <p:nvPr/>
        </p:nvPicPr>
        <p:blipFill>
          <a:blip r:embed="rId3"/>
          <a:stretch/>
        </p:blipFill>
        <p:spPr>
          <a:xfrm>
            <a:off x="260280" y="4537080"/>
            <a:ext cx="972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06:58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3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