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4871-28C2-4FE9-93CF-0046635C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583E-8787-45A6-B89E-B090AF6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85F-9377-4FE1-90AD-60743589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17D9-693C-4375-AF32-D44519193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2D51-E21C-4F64-96AB-1DC65F27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360-2994-4912-BA98-16BF0526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8979-6D3C-4648-B7B3-793E5780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F991-E88E-42EF-BA13-8752022C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0CF0-E26C-403D-A818-436752C8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4DA1-775E-4214-9668-027D3AE2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9227-C740-4D94-A98A-2C88EF87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01A-9B04-4F0D-9605-0D21C08E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5702-83DC-448F-9973-B10C1B29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E2AC-8B87-48EE-AA3A-8781939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AE5F-154B-4485-A589-1C613E65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3C19-D1D5-4A61-8C49-2BCE45CC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C5BA-6A2B-43E8-BA71-27ABE6D4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A97-3ED3-496B-9652-83CDFDB8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88E-A499-4697-803C-8AE8CB4E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40B-6462-4B70-9968-A884B9CA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002-DB35-401B-9666-5BDD04C5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EBF-E7E4-4EDE-9AB2-3AB35BD1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37C-0274-46FC-A266-26A6D93B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EF7-5247-4D40-BB3D-168A09FB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FC75-20F0-4025-9934-E0B765D22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CA3F-F6DE-434A-97FA-AED4DC1CF9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8"/>
          <p:cNvSpPr txBox="1"/>
          <p:nvPr/>
        </p:nvSpPr>
        <p:spPr>
          <a:xfrm>
            <a:off x="1538280" y="99072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分类和回收利用</a:t>
            </a:r>
            <a:r>
              <a:rPr b="1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rcRect l="0" t="4992" r="0" b="7542"/>
          <a:stretch/>
        </p:blipFill>
        <p:spPr>
          <a:xfrm>
            <a:off x="2133720" y="2743200"/>
            <a:ext cx="4919400" cy="337032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3"/>
          <p:cNvPicPr/>
          <p:nvPr/>
        </p:nvPicPr>
        <p:blipFill>
          <a:blip r:embed="rId1"/>
          <a:stretch/>
        </p:blipFill>
        <p:spPr>
          <a:xfrm>
            <a:off x="304920" y="990720"/>
            <a:ext cx="3962160" cy="4267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5"/>
          <p:cNvPicPr/>
          <p:nvPr/>
        </p:nvPicPr>
        <p:blipFill>
          <a:blip r:embed="rId2"/>
          <a:stretch/>
        </p:blipFill>
        <p:spPr>
          <a:xfrm>
            <a:off x="4572000" y="1371600"/>
            <a:ext cx="4343400" cy="3843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137160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软木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86728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瓦楞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78F-A65A-48FE-AF5F-5325832947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4"/>
          <p:cNvPicPr/>
          <p:nvPr/>
        </p:nvPicPr>
        <p:blipFill>
          <a:blip r:embed="rId1"/>
          <a:srcRect l="0" t="0" r="0" b="22642"/>
          <a:stretch/>
        </p:blipFill>
        <p:spPr>
          <a:xfrm>
            <a:off x="380880" y="12193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914400" y="5257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报纸和纸板做成的书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6"/>
          <p:cNvPicPr/>
          <p:nvPr/>
        </p:nvPicPr>
        <p:blipFill>
          <a:blip r:embed="rId2"/>
          <a:stretch/>
        </p:blipFill>
        <p:spPr>
          <a:xfrm>
            <a:off x="4648320" y="990720"/>
            <a:ext cx="428616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5257800" y="53341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用木板制作的挂钥匙的饰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295280" y="838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知道废品回收站都回收些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10047546"/>
          <p:cNvPicPr/>
          <p:nvPr/>
        </p:nvPicPr>
        <p:blipFill>
          <a:blip r:embed="rId1"/>
          <a:stretch/>
        </p:blipFill>
        <p:spPr>
          <a:xfrm>
            <a:off x="914400" y="1752480"/>
            <a:ext cx="2895480" cy="2895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838080" y="4876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塑料：能够多次熔化成形，回收利用塑料能够减少环境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29200" y="4800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玻璃：回收玻璃比直接用天然原料制取玻璃便宜。因为玻璃熔化的温度比用生料熔炼的温度低很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g33_1242819"/>
          <p:cNvPicPr/>
          <p:nvPr/>
        </p:nvPicPr>
        <p:blipFill>
          <a:blip r:embed="rId2"/>
          <a:stretch/>
        </p:blipFill>
        <p:spPr>
          <a:xfrm>
            <a:off x="5257800" y="18288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5029200" y="2362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属：许多金属可以被熔化后再利用。回收利用废金属，既节约能源又节约矿石资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219320" y="4724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家庭垃圾中，还有纸张、布料等可以被回收利用的材料。（完成作业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页填表题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3009960" cy="85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2"/>
          <a:stretch/>
        </p:blipFill>
        <p:spPr>
          <a:xfrm>
            <a:off x="1447920" y="3581280"/>
            <a:ext cx="31622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533520" y="380880"/>
            <a:ext cx="80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垃圾的回收利用，需要把其中可利用的材料区分和集中起来。要进行有效地回收，必须改变垃圾混装的旧习惯，对生活垃圾进行分类和分装，这是我们每个公民应尽的义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30481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垃圾分类的最终是一个资源循环型的社会。垃圾混装是把垃圾当成废物，而垃圾分装是把垃圾当成资源；混装的垃圾被送到填埋场，侵占了大量的土地，分装的垃圾被分送到各个回收再造部门，不占用土地；混装垃圾无论是填埋还是焚烧都会污染土地和大气，而分装垃圾则会促进无害化处理；混装垃圾增加环卫和环保部门的劳作，分装垃圾只需我们的举手之劳。而且垃圾分类、分装便于对有毒垃圾的处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1"/>
          <p:cNvSpPr txBox="1"/>
          <p:nvPr/>
        </p:nvSpPr>
        <p:spPr>
          <a:xfrm>
            <a:off x="566640" y="2209680"/>
            <a:ext cx="26672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分装的好处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7" name="文本框 8200"/>
          <p:cNvSpPr/>
          <p:nvPr/>
        </p:nvSpPr>
        <p:spPr>
          <a:xfrm>
            <a:off x="3233880" y="2346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800" y="-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1800" y="-7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795240" y="7621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回收废塑料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开发“第二油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少废塑料可以还原为再生塑料，而所有的废塑料、废餐盒、食品袋、编织袋、软包装盒等都可以回炼为燃油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吨废塑料至少能回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克汽油和柴油，难怪有人称回收旧塑料为开发“第二油田”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871560" y="3048120"/>
            <a:ext cx="762012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回收废电池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防止悲剧重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痛痛病”和“水俣病”都是在日本发生的工业公害病。这是由于含镉或汞的工业废水污染了土壤和水源，进入了人类的食物链。“水俣病”是汞中毒，患者由于体内大量的积蓄甲基汞而发生脑中枢神经和末梢神经损害，轻者手足麻木，重者死亡。“痛痛病”是镉中毒，患者手足疼痛，全身各处都很容易发生骨折。得这种病的人都一直喊着“痛啊！痛啊！”，直到死去，所以被叫做“痛痛病”。由于普通土干电池都含有这两种有毒金属元素，所以说电池从生产到废弃，时刻都潜伏着污染。电池的回收势在必行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1143000" y="1676520"/>
            <a:ext cx="7238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回收废纸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再造林木资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回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吨废纸能生产好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千克，可以少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棵大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节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立方米的垃圾填埋场空间，还可以节约一半以上的造纸能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减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%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水污染，每张纸至少可以回收两次。办公用纸、旧信封信纸、笔记本、书籍、报纸、广告宣传纸、贷物包装纸、纸箱纸盒、纸餐具等在第一次回收后，可再造纸印制成书籍、稿纸、名片、使条纸等。第二次回收后，还可制成卫生纸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66680" y="4495680"/>
            <a:ext cx="7467840" cy="12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回收生物垃圾</a:t>
            </a:r>
            <a:r>
              <a:rPr b="1" lang="en-US" sz="24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99"/>
                </a:solidFill>
                <a:latin typeface="黑体"/>
                <a:ea typeface="黑体"/>
              </a:rPr>
              <a:t>再造绿色肥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们日常生活的食物残渣可以通过堆肥再造、成为植树绿化的有机肥料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1143000" y="1828800"/>
            <a:ext cx="746748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回收各种废弃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            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所有的垃圾都能变成资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铝制易拉罐再制铝，比用铝土提取铝少消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1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能量，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空气污染；废玻璃再造玻璃，不仅可节约石英砂、纯碱、长石粉、煤炭，还可节电，减少大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能量消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减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空气污染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水污染。回收一个玻璃瓶节省的能量，可使灯泡发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时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219320" y="1523880"/>
            <a:ext cx="61722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堆肥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食品废料、杂草、落叶等掺入污水，堆积起来，表面覆盖一层土壤。腐熟时间一般需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~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月。腐熟后的垃圾可以用来做底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200"/>
          <p:cNvSpPr/>
          <p:nvPr/>
        </p:nvSpPr>
        <p:spPr>
          <a:xfrm>
            <a:off x="1501920" y="4641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"/>
          <p:cNvPicPr/>
          <p:nvPr/>
        </p:nvPicPr>
        <p:blipFill>
          <a:blip r:embed="rId1"/>
          <a:srcRect l="0" t="0" r="0" b="12590"/>
          <a:stretch/>
        </p:blipFill>
        <p:spPr>
          <a:xfrm>
            <a:off x="228600" y="152280"/>
            <a:ext cx="472428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环保坐椅"/>
          <p:cNvPicPr/>
          <p:nvPr/>
        </p:nvPicPr>
        <p:blipFill>
          <a:blip r:embed="rId2"/>
          <a:srcRect l="0" t="0" r="0" b="11891"/>
          <a:stretch/>
        </p:blipFill>
        <p:spPr>
          <a:xfrm>
            <a:off x="4038480" y="3352680"/>
            <a:ext cx="4648320" cy="3048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33520" y="44197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  <a:ea typeface="华文行楷"/>
              </a:rPr>
              <a:t>漂亮的环保坐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1T08:22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15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