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C33-D4E2-49EF-8F03-DD226D66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1E8-84ED-4740-84AD-C313051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78C99-5780-4085-9D34-5A453637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3FC62-734B-463F-8F17-B97603BE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CEDE-FEDC-4E28-A5F0-C95B0FBD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42B02-4B7F-49DD-AE9C-F196B0D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11CE-8CF2-47B9-BCF0-59E18B3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194F-79FE-42B8-AAB4-C2FA4A5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E59F0-4751-49B6-A5A7-2E05A4AF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CEB9A-7553-4377-9ABA-C9380F5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FE0FC-6012-46EC-B0A2-DC602FE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713D4-8AAF-48F6-BC18-EDD528CF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F0E-CAD2-4BE7-B716-785B8761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58ADA-C3B3-4C87-B71A-6B697F1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D58E2-284D-4AA8-98F0-03058FE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0D3DD-E541-44FC-8A61-14C5FA8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E7EE9-45E3-496C-B28E-99D07AB5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FC9C1-E884-4F2A-A630-67D6927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C400A-25D5-4A0E-A1B2-27D5157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B5066-C84B-43F1-84B9-584F513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B44F9-1B56-4D6F-B302-BA6DB608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F4074-F299-439D-88B8-AE1988E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B2F79-9E06-450B-B3B8-10B9CA3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AF2-9930-49C1-A7E7-9908C31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C8654-3BD2-4922-99C5-E30855E9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F9E39-2856-4B90-8829-F20661AB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F291-3FF2-4A28-973E-0BB59CBA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9235E-7A80-4D7C-A141-4950A279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3A6E-2588-4322-9DA1-145F51E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2AA50-8E2A-4179-87FD-2F9489A8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C3CE1-BD98-410B-9489-462FB7B5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D0E90-AF52-4D58-A200-DA4F938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7D0D8-14A7-46E2-9F05-7DB55A0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446EE-6611-4763-AE2D-D0757BF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FDC9-7887-4B1C-A26B-45CD346D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7A52-A232-4EA5-96C6-8D916D3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0F382-60A6-4A74-9DE8-6FC38C31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74913-84FA-4CEC-9192-4CBD951D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CB79-99F2-4C1F-88FA-AF167FF8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F933-0C2C-40C7-9119-58A000B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BEB77-1550-4049-82F4-7A3FD79A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E45BB-ED57-4D5E-AB46-C1811BC9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F52AF-41DF-4097-B0C7-89F544F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8F0CE-A2B3-434A-8A99-92C9EDD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9672A-3E72-43CF-989E-35B18E9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02EC-C30D-482B-AF53-E34EEE46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96C1B-5D53-4FD2-9F70-01EF068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3DB6-C03D-4437-9DD6-22E88C22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0476E-ACCF-4096-B7A6-019C4A7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151BA-1D8A-4BD6-BBEC-0DDAF47D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908C-88B4-4C36-84DF-64ECF704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5E917-5444-46E5-9D0A-B63659F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994A6-2BFF-42EF-BC99-0EF3146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DB5DF-2FCD-46F7-ADD1-E082A582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85A25-15F5-433E-B3A9-0E316AF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19C36-D115-4023-BB21-BF62895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1860-3E66-4357-AF84-109583B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BE4B2-55A5-4F39-A7CC-DAF38F9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D55B6-BFF0-449A-B457-061AF8D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ACC9C-A173-48F8-BF80-93DAF9F3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344EB-9103-4C5D-AB50-FA636A37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5A38D-FD55-49BF-B904-79242E01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992BF-2E99-4CDF-8239-B41E8B56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1C63C-F59E-4F31-9A6A-2A1B172C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08174-F542-4783-9AD5-FBCDA6D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2BCDE-7AD7-438E-AA10-D945158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410EC-1AA7-4A1E-A95D-F6CCF45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6587-E980-4F4F-A5BF-11C9FCA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F07F9-4095-4C19-9F22-EEC9D58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14652-336C-4DEC-B84D-5145F65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D0107-ACF1-4CC3-8873-D24BFB1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AF57A-5C56-48BB-8E6E-132BD698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7470F-3244-4B68-B5D6-EBB9CAB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7C9EB-639D-494A-8E22-F8460A2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29934-52BC-47B0-8516-9F465DB9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BCC12-1B6B-4275-B55F-8C601BDB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73A7E-1FEA-4CDE-8692-AFB80532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170FC-36A4-4EC6-AD76-AD3D5CCD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CB7-1C7A-4993-88F5-A962671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5F10F-A4B2-4787-A27A-88A5CE0F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E60B1-A8BC-4776-9822-8DAF2BB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C9E78-F217-4A70-BB43-9CEA14D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D34B4-A8EE-4BC7-A649-8C770BB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111FC-5A0A-47F5-9D6A-41FC5E4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55F07-4DF4-4FDC-A4E0-96FBCEF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C0903-174A-4C99-9F36-64783AE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6FE76-3F61-4447-AAC2-A4FB159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6D115-D2C6-48A2-9941-1DFDF460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23317-2BEB-4FC2-81E8-C2BE301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05F5-CC10-41C0-B54B-3092BD93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1F47D-2B78-4257-8174-20AA274F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D9FDD-311C-43C8-A715-50684AEB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74F58-A791-446D-A8B0-1E671C2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A2356-ED3F-402C-B57A-34A8464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5AC0A-E04F-4010-A84C-B04A9218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DEA6E-DFE4-422D-ADAA-949BC92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44E32-7A74-47E0-A11C-4EBC807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DCA07-A245-40BC-A53F-80E1C83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CD0A6-B004-4E0B-B787-480A68A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D4991-AE3B-45D1-AFE3-FD8CF57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D0B1-2837-41E7-9A6E-A4EF042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AA8E7-6C32-4837-9EFC-DE5EB6A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48F05-B86A-41E1-A8A6-63DFCEC7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B6DA6-73B6-4ED4-965E-DF9710A1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89569-AA08-49C1-AAF0-DC0B3A7A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C252E-0B46-44D6-844E-CABF352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02347-7715-4C78-90FB-5C027BF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30384-DFC1-4846-8E0E-DFD1AB7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0D1A8-B31F-4A26-B33E-43183968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A08B4-4AC4-4C1E-8D38-6094E5FC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5D8CD-A83D-4BE3-8959-5D958C8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783-ECBE-4BA0-9417-4DD98943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5226-398A-4ED6-B4BF-F476AA9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5EA65-9A1B-4ED7-97C5-BB09BFF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62074-608E-4670-8E34-2EF3E64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DC78B-0EA6-438D-8B55-74DBF81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9E780-4376-4B80-A5AF-5F86DB14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5922C-A101-413E-82B6-4240F801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726AD-832D-41F6-BC3E-8599BE78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4FE58-2E05-4BA2-9CD6-8C3B7D9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A6CFF-0673-4933-833B-8960634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BD45D-CB59-475E-B6D1-F455382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09441-C719-4FA0-89B9-02DD80D6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945-6958-4596-9827-B345438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A78D4-DAA8-40CE-8C95-8E73758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47F0C-9289-4CEA-B568-F77D310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F8B4F-A1E5-4FF6-BAF0-B62F8C7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D8D4E-9194-450A-9433-0ECC20B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3163F-ADB0-4CC7-9259-79D2CCB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07FD8-94AA-4AA0-89BE-B1236811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320AC-732D-4BDE-AFE6-412EC0B7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266AAE-29E4-407D-84C7-B3444375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92213-EE30-47E1-A593-93545D5A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3F276-374B-43E4-AE02-09EFF5A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679E-0208-4D49-B228-AD6B81C2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6D389-C860-47F9-B0C6-5EEAE03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0C057-D27E-4305-AFC6-9A006445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16290-27BC-4B17-8855-2F8D0EA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9E399-FE45-448D-AA91-89D5DC2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8D872-A7AE-441C-B1CC-2FFDC6F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5C3C9-7131-4066-8C9B-37A6CE8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0E4CA-1918-450F-9CA7-D3466FF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9EDA0-8C0B-4301-A256-83F94FC7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D46D7-2F1C-4D54-A2A3-5876C3F7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0C324-70C7-4B80-A0F7-AC6CD536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2DD-9872-4D51-8B76-2EB03820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141FF-D521-40AF-B060-655544F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48491-BB14-45B7-AA25-F454706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77A95-5E62-4E26-89EE-89011C4B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94782-75EB-439D-A218-01557F3E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A7E95-7197-44F2-98EA-B6A1EE3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FFBC9-D288-443F-B791-9874072F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31154-E17D-4809-A969-80917F4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F6A76-D8A3-450E-AA77-A20A77B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864E9-71AF-4A0B-B127-B06D3773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10518-0463-4322-A08F-774C976E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954-3475-43E4-954C-2F01269F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3A3F5-8E55-4098-9C9A-1A2310D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F72AC-075B-45BA-8931-AE99FCCF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EEAF1-5CC0-4FCB-98CA-254F514C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451D9-E7D9-48E7-BAC8-96082537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631D6-622D-44B4-9611-DB1B912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38D0E-FE0B-4A49-8495-429DCC7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3662A-1244-446E-9C58-D3D712A1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40381-96FE-4C88-B693-E80359B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F5E4A0-2CAA-4EE8-89F7-10BFB04E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F2363-A6B8-4210-89D8-A6220B5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AA99-05B3-4235-8714-EFDDCA37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872FE-8978-41E7-9B9E-B0319D2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1E03D-8B7D-4A11-8BD1-6E8276A6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C514D-8BB4-49BE-8AFE-E1A3970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B3F92-6A6C-46B2-955A-DF9B8FC9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D22416-8C56-424E-A05B-14395FD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F9637-279E-4EBC-9DDB-48A5C83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F9731-CA8F-42D7-ADED-F0718CCF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4E2F1B-5225-4B3C-8DA8-F183A69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FBDD3-E1F7-4A1E-8AC9-B6BD860D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B4C89-8377-4FC4-B550-95D9CD3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CE05-5DCD-4DBD-B304-BBCA559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E5482-C757-4A10-9205-656326A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D897D-B718-4E73-AC2B-0A459D0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B2B76A-61F7-4F86-9C08-1D30654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1542E-CC4A-45CF-82E1-8DD4AD81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CDD8C-230E-4970-BBB1-BFC8BA84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A2A6-E3A2-481B-8272-6A746A9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FB11-2489-4A25-99A1-5F65F48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3770-125A-4CE1-9590-8BCB21B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0F9-D4E5-4269-AA03-F57288BF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A1EE-08E6-495A-B838-B3858D0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4D2F-A6D9-44CF-8E96-63D0671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3650-62CE-42B4-9803-D9BA774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78B2-49C3-4699-B0DA-0185C48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95DA-9E0D-43B5-8A39-3EC74E4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7876-A8B4-4A61-B971-CD716BAE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18F0-6901-4B0E-A356-1DD51FA7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25FE-2844-4BA2-8473-52FCFA0C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8FAF-E9D5-4CAA-9569-CB7A738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D40C-6CF5-4D7D-B228-8F09B07E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4A9-AB54-4399-A734-B408A58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2C91-6192-4856-996F-E0EF7F4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2E61-4228-440A-9BCA-8DB29FD6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189F-B48A-40F9-BF22-8FEBF1C2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E6CA-16FC-49F4-B9D6-4A90F83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D658-1E5D-4FEB-B38E-F7803B1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6499-357A-4451-A3D0-2686C09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80F9-44BB-4EDD-A070-90B57B9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8D68-352F-4344-AE91-C1D6D18A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938D-E6D2-4174-8D82-9318FBA0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DA14-5AD6-466C-A1E8-BC772282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1F3-240B-4F9F-AF92-64DFC005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E34C-06F1-457C-90FC-1266BAF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82CE-BB30-4D4E-A07C-2A769CDE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9FF0-AA72-4F0C-B9DF-08E8944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883B-41CD-4052-99D4-09C5C48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E7C7-5E2E-443C-BF59-9B2FBD7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AFBA-C15A-4CFB-A4C5-F302714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069D-87FE-4A8F-B954-11EBE6F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79AFA-2A7E-4B1D-ADB4-1A30E7E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83EE-420C-4D7F-9F43-73BF649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CA80-3543-436C-B272-6D29E255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461-AD3E-4DCC-AF9A-4AEA7A86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95CC-F67F-4622-B5E5-2EC0D661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828D9-3D32-48FF-B2DF-D8AD3C0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13B3A-3B1C-4FB3-B575-02C9A5CB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9580-1D9B-4053-88EF-E4F8BFE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96B4-2CFF-488B-9C5B-1CEA1F93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8D87-38B1-476A-B388-830B5B8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95CF-641F-4B1D-87FF-6B14A65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2814C-1B94-4EF0-B50E-C3D1B50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0E97-DA92-4F1E-AE71-804DD1D4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46F3-AFE8-4F2E-B710-D4F518B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9AA-CE68-4D84-BB82-99B7EA5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FFD7-FD96-42B8-89E1-03855399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6F311-8D1E-46A0-B236-218C8287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16DE-4692-4462-9963-72A63E6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3725-2D3A-4E42-9E6B-24617516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C06F-AB3C-4DAD-831A-FA83F82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21D3-FF1C-441F-B8DB-7ACEC532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BCEC-2174-4475-A115-44AA7DB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2955-B420-4374-BF23-7EA0954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A858A-F9E2-4ADB-AEE5-61BD3C4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5B25-AD9A-498D-A6A9-62634B9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6DF-80A6-4544-826A-1A9C29B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3F30-DABC-46C6-B7C1-17D8C6E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2923-497B-4AA6-9251-839C579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93C0-101C-4875-8ECE-8B86CF6A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15D7D-8D5C-4670-A373-2107FB80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BCCA-D412-4280-A587-91E8D34E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D55C2-CF99-4921-8EF0-D3605ABF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A321-B96C-4F3B-9318-2E2C418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9CDE8-46F4-4499-82DA-A6AFB0B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9EE5-6B58-4C8A-834C-20F10DDE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F8ADC-626A-42A8-A784-404A354C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3B7-A707-40E8-B329-DB3A782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4C7F-41F2-4D6C-AFB2-AAC220DA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BE48-E8D2-449B-9305-2D430A9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1E7D-51A3-42A8-833F-FD7AA83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E4E2-D8DD-47F8-9A59-B1BF993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B7918-C48C-4378-B568-C057427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C0769-F71E-4AF5-822A-69CC2AB3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529B-A46B-4262-978F-B168BCB7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78578-3E56-4C47-8D5C-A656B319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BB896-3414-4686-A362-4E60089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AE655-A0CF-42DE-88D8-226ACD75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2EF-A2EB-4BC8-B300-9FC51752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D90A-8D56-4816-8A02-2CC000CD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05B-0399-47EB-B2A0-05225CBF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5C0-A062-440A-943A-799FE124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771-4F3C-42D3-93C3-7DBF5385E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625-6171-4B64-B0B3-707A7859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137D-E5E4-41A1-9F86-634FAB80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C4E-B8ED-4933-8331-9A757185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6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C1A3-AAE8-4D64-9526-0B228C754D1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DB5-5E0E-4098-9926-498E4C49458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76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F73-5129-4587-A627-42E3D57CB71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0595-5B88-41CD-9CD4-565C3956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0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80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B8B2-A184-4242-9AB5-7818D170465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85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82FA-3B4B-4556-85C9-DE66161BA641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90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089-66FC-4F74-9B2F-DFB17A00FB7A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84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95C-68D2-4305-9F7B-C9311F6938D4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B23-BBAE-4F2A-A853-D772D644E5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CD8-4DFD-4B11-B55C-A60E12C3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605-9908-4D92-B255-258EAF45A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606D-10CA-4145-9C13-F4A0C50F4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27DF-3E9E-4FDD-ACC7-43339048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030-F92A-4226-88FE-D1CFFE307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&#28014;&#21147;&#29616;&#35937;.DAT" TargetMode="External"/><Relationship Id="rId2" Type="http://schemas.openxmlformats.org/officeDocument/2006/relationships/hyperlink" Target="&#28014;&#21147;&#29616;&#35937;.DA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2"/>
          <p:cNvSpPr/>
          <p:nvPr/>
        </p:nvSpPr>
        <p:spPr>
          <a:xfrm>
            <a:off x="395280" y="1429560"/>
            <a:ext cx="88408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.1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浮力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矩形 1"/>
          <p:cNvSpPr/>
          <p:nvPr/>
        </p:nvSpPr>
        <p:spPr>
          <a:xfrm>
            <a:off x="539640" y="9810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浮力的大小可能与哪些因素有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等会 我们自己动手用实验探究你的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39640" y="551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写出疑问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Box 1"/>
          <p:cNvSpPr/>
          <p:nvPr/>
        </p:nvSpPr>
        <p:spPr>
          <a:xfrm>
            <a:off x="971640" y="765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三、互动释疑、精讲与实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9" name="TextBox 2"/>
          <p:cNvSpPr/>
          <p:nvPr/>
        </p:nvSpPr>
        <p:spPr>
          <a:xfrm>
            <a:off x="179280" y="1341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互动释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一）实验：称重法测浮力大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0" name="Picture 4" descr=""/>
          <p:cNvPicPr/>
          <p:nvPr/>
        </p:nvPicPr>
        <p:blipFill>
          <a:blip r:embed="rId1"/>
          <a:stretch/>
        </p:blipFill>
        <p:spPr>
          <a:xfrm>
            <a:off x="1332000" y="3162240"/>
            <a:ext cx="61196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"/>
          <p:cNvSpPr/>
          <p:nvPr/>
        </p:nvSpPr>
        <p:spPr>
          <a:xfrm>
            <a:off x="324000" y="2500200"/>
            <a:ext cx="748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小结：称重法测浮力：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F</a:t>
            </a:r>
            <a:r>
              <a:rPr b="1" lang="zh-CN" sz="3200" spc="-1" strike="noStrike" baseline="-25000">
                <a:solidFill>
                  <a:srgbClr val="660033"/>
                </a:solidFill>
                <a:latin typeface="Arial"/>
              </a:rPr>
              <a:t>浮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=G </a:t>
            </a:r>
            <a:r>
              <a:rPr b="1" lang="en-US" sz="3200" spc="-1" strike="noStrike">
                <a:solidFill>
                  <a:srgbClr val="660033"/>
                </a:solidFill>
                <a:latin typeface="宋体-方正超大字符集"/>
                <a:ea typeface="宋体-方正超大字符集"/>
              </a:rPr>
              <a:t>-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F</a:t>
            </a:r>
            <a:r>
              <a:rPr b="1" lang="zh-CN" sz="3200" spc="-1" strike="noStrike" baseline="-25000">
                <a:solidFill>
                  <a:srgbClr val="660033"/>
                </a:solidFill>
                <a:latin typeface="Arial"/>
              </a:rPr>
              <a:t>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1"/>
          <p:cNvSpPr/>
          <p:nvPr/>
        </p:nvSpPr>
        <p:spPr>
          <a:xfrm>
            <a:off x="611280" y="62064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知识拓展与巩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如右图所示，小明用测力计分别在空气中、水中和盐水中测出了物体的重，则当物体浸没在水中时，所受到的浮力为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______N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；物体浸没在盐水中时，所受到的浮力为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______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3" name="对象 2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5343480" y="3284640"/>
            <a:ext cx="3167280" cy="335736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1"/>
          <p:cNvSpPr/>
          <p:nvPr/>
        </p:nvSpPr>
        <p:spPr>
          <a:xfrm>
            <a:off x="3494520" y="38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5" name="TextBox 2"/>
          <p:cNvSpPr/>
          <p:nvPr/>
        </p:nvSpPr>
        <p:spPr>
          <a:xfrm>
            <a:off x="1048320" y="55198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Box 1"/>
          <p:cNvSpPr/>
          <p:nvPr/>
        </p:nvSpPr>
        <p:spPr>
          <a:xfrm>
            <a:off x="539640" y="119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：探究浮力的大小跟哪些因素有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7" name="TextBox 2"/>
          <p:cNvSpPr/>
          <p:nvPr/>
        </p:nvSpPr>
        <p:spPr>
          <a:xfrm>
            <a:off x="539640" y="404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四、决定浮力大小的因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8" name="TextBox 3"/>
          <p:cNvSpPr/>
          <p:nvPr/>
        </p:nvSpPr>
        <p:spPr>
          <a:xfrm>
            <a:off x="711360" y="2421000"/>
            <a:ext cx="166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709560" y="528336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设计实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进行实验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0" name="TextBox 5"/>
          <p:cNvSpPr/>
          <p:nvPr/>
        </p:nvSpPr>
        <p:spPr>
          <a:xfrm>
            <a:off x="2368440" y="2492280"/>
            <a:ext cx="59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跟浸没的深度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1" name="TextBox 6"/>
          <p:cNvSpPr/>
          <p:nvPr/>
        </p:nvSpPr>
        <p:spPr>
          <a:xfrm>
            <a:off x="2386080" y="3068640"/>
            <a:ext cx="61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浮力的大小与物体浸在液体中的体积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2" name="TextBox 7"/>
          <p:cNvSpPr/>
          <p:nvPr/>
        </p:nvSpPr>
        <p:spPr>
          <a:xfrm>
            <a:off x="2522520" y="407664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与液体的密度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711360" y="1843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提出问题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浮力的大小与哪些因素有关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4" name=""/>
          <p:cNvGraphicFramePr/>
          <p:nvPr/>
        </p:nvGraphicFramePr>
        <p:xfrm>
          <a:off x="179280" y="1484280"/>
          <a:ext cx="8621640" cy="5473800"/>
        </p:xfrm>
        <a:graphic>
          <a:graphicData uri="http://schemas.openxmlformats.org/drawingml/2006/table">
            <a:tbl>
              <a:tblPr/>
              <a:tblGrid>
                <a:gridCol w="1944720"/>
                <a:gridCol w="1871640"/>
                <a:gridCol w="2940120"/>
                <a:gridCol w="1865160"/>
              </a:tblGrid>
              <a:tr h="79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猜想因素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条件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所受浮力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N)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有无相关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6260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浸没深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浅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浸入体积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少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多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6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液体密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水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小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盐水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物体密度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铜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2699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铁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2699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2699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2699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TextBox 11"/>
          <p:cNvSpPr/>
          <p:nvPr/>
        </p:nvSpPr>
        <p:spPr>
          <a:xfrm>
            <a:off x="900000" y="40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实验记录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6" name="TextBox 12"/>
          <p:cNvSpPr/>
          <p:nvPr/>
        </p:nvSpPr>
        <p:spPr>
          <a:xfrm>
            <a:off x="3564000" y="404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注意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1.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控制变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2.F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浮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=G-F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测得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文本框 8200"/>
          <p:cNvSpPr/>
          <p:nvPr/>
        </p:nvSpPr>
        <p:spPr>
          <a:xfrm>
            <a:off x="2843280" y="3019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12"/>
          <p:cNvSpPr/>
          <p:nvPr/>
        </p:nvSpPr>
        <p:spPr>
          <a:xfrm>
            <a:off x="2046240" y="4927680"/>
            <a:ext cx="237636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浸没的深度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9" name="TextBox 1"/>
          <p:cNvSpPr/>
          <p:nvPr/>
        </p:nvSpPr>
        <p:spPr>
          <a:xfrm>
            <a:off x="468360" y="1019160"/>
            <a:ext cx="842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宋体"/>
              </a:rPr>
              <a:t>结论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：决定浮力大小的因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有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          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和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， </a:t>
            </a: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534960" indent="-534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       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越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大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,                 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越大，所受的浮力就越大。浮力的大小</a:t>
            </a:r>
            <a:r>
              <a:rPr b="0" lang="en-US" sz="4000" spc="-1" strike="noStrike">
                <a:solidFill>
                  <a:srgbClr val="00040c"/>
                </a:solidFill>
                <a:latin typeface="Calibri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与</a:t>
            </a:r>
            <a:r>
              <a:rPr b="0" lang="en-US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                                </a:t>
            </a:r>
            <a:r>
              <a:rPr b="0" lang="zh-CN" sz="4000" spc="-1" strike="noStrike" u="sng">
                <a:solidFill>
                  <a:srgbClr val="00040c"/>
                </a:solidFill>
                <a:uFillTx/>
                <a:latin typeface="Calibri"/>
                <a:ea typeface="宋体"/>
              </a:rPr>
              <a:t>、物体的密度、形状</a:t>
            </a:r>
            <a:r>
              <a:rPr b="0" lang="zh-CN" sz="4000" spc="-1" strike="noStrike">
                <a:solidFill>
                  <a:srgbClr val="00040c"/>
                </a:solidFill>
                <a:latin typeface="Calibri"/>
                <a:ea typeface="宋体"/>
              </a:rPr>
              <a:t>等无关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0" name="TextBox 2"/>
          <p:cNvSpPr/>
          <p:nvPr/>
        </p:nvSpPr>
        <p:spPr>
          <a:xfrm>
            <a:off x="111600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ndara"/>
                <a:ea typeface="宋体"/>
              </a:rPr>
              <a:t>浸入液体的体积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1" name="TextBox 6"/>
          <p:cNvSpPr/>
          <p:nvPr/>
        </p:nvSpPr>
        <p:spPr>
          <a:xfrm>
            <a:off x="5857200" y="2205000"/>
            <a:ext cx="14000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液体的密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2" name="TextBox 8"/>
          <p:cNvSpPr/>
          <p:nvPr/>
        </p:nvSpPr>
        <p:spPr>
          <a:xfrm>
            <a:off x="4903920" y="3144960"/>
            <a:ext cx="2771640" cy="581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液体的密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3" name="TextBox 9"/>
          <p:cNvSpPr/>
          <p:nvPr/>
        </p:nvSpPr>
        <p:spPr>
          <a:xfrm>
            <a:off x="468360" y="31734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ndara"/>
                <a:ea typeface="宋体"/>
              </a:rPr>
              <a:t>浸入液体的体积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4" name="TextBox 10"/>
          <p:cNvSpPr/>
          <p:nvPr/>
        </p:nvSpPr>
        <p:spPr>
          <a:xfrm>
            <a:off x="9144000" y="4365720"/>
            <a:ext cx="184320" cy="584280"/>
          </a:xfrm>
          <a:prstGeom prst="rect">
            <a:avLst/>
          </a:prstGeom>
          <a:solidFill>
            <a:srgbClr val="ffffff"/>
          </a:solidFill>
          <a:ln w="15840">
            <a:solidFill>
              <a:srgbClr val="305c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3" descr="CHILKAT-CID-62de419f-9541-b9db-c3e4-7fefdf980428"/>
          <p:cNvPicPr/>
          <p:nvPr/>
        </p:nvPicPr>
        <p:blipFill>
          <a:blip r:embed="rId1"/>
          <a:stretch/>
        </p:blipFill>
        <p:spPr>
          <a:xfrm>
            <a:off x="6014880" y="450864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 txBox="1"/>
          <p:nvPr/>
        </p:nvSpPr>
        <p:spPr>
          <a:xfrm>
            <a:off x="0" y="980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把甲、乙两个体积相等的物体放入水中，它们静止时的情况如图所示，下列说法中正确的是（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等于乙物体受到的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大于乙物体受到的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甲物体受到的浮力小于乙物体受到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的浮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无法判断谁受到的浮力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7" name="TextBox 4"/>
          <p:cNvSpPr/>
          <p:nvPr/>
        </p:nvSpPr>
        <p:spPr>
          <a:xfrm>
            <a:off x="18432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8" name="TextBox 5"/>
          <p:cNvSpPr/>
          <p:nvPr/>
        </p:nvSpPr>
        <p:spPr>
          <a:xfrm>
            <a:off x="1042920" y="476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应用与巩固</a:t>
            </a:r>
            <a:r>
              <a:rPr b="0" lang="zh-CN" sz="3200" spc="-1" strike="noStrike">
                <a:solidFill>
                  <a:srgbClr val="99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178920" y="953640"/>
            <a:ext cx="854100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同一物体分别浸没在煤油和水中，所受的浮力在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40c"/>
                </a:solidFill>
                <a:uFillTx/>
                <a:latin typeface="Arial"/>
              </a:rPr>
              <a:t>中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是四个体积、形状相同而材料不同的球，把它们投入水中静止后的情况如下图所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示，它们当中所受 浮力大小的是：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A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B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C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F</a:t>
            </a:r>
            <a:r>
              <a:rPr b="1" lang="en-US" sz="3600" spc="-1" strike="noStrike" baseline="-25000">
                <a:solidFill>
                  <a:srgbClr val="00040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0" name="图片 3" descr="CHILKAT-CID-85cbe7db-7154-551d-6d95-29339f86a25c"/>
          <p:cNvPicPr/>
          <p:nvPr/>
        </p:nvPicPr>
        <p:blipFill>
          <a:blip r:embed="rId1"/>
          <a:stretch/>
        </p:blipFill>
        <p:spPr>
          <a:xfrm>
            <a:off x="5364000" y="472428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8"/>
          <p:cNvSpPr/>
          <p:nvPr/>
        </p:nvSpPr>
        <p:spPr>
          <a:xfrm>
            <a:off x="2819520" y="14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2" name="TextBox 9"/>
          <p:cNvSpPr/>
          <p:nvPr/>
        </p:nvSpPr>
        <p:spPr>
          <a:xfrm>
            <a:off x="4984920" y="3894120"/>
            <a:ext cx="6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3" name="TextBox 10"/>
          <p:cNvSpPr/>
          <p:nvPr/>
        </p:nvSpPr>
        <p:spPr>
          <a:xfrm>
            <a:off x="4140360" y="38894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4" name="TextBox 3"/>
          <p:cNvSpPr/>
          <p:nvPr/>
        </p:nvSpPr>
        <p:spPr>
          <a:xfrm>
            <a:off x="6149880" y="378144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．图所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体积相同，将其放入水中处于不同位置，试比较各物体受到的浮力大小。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B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C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（填 “＞” “＝”或“＜”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6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4589640" y="4149720"/>
            <a:ext cx="2646360" cy="25192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630600" y="29592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2556000" y="3068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250920" y="119664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：观察右图判断：请你说说哪个鱼说得正确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0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3059280" y="1879560"/>
            <a:ext cx="5149800" cy="376092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1"/>
          <p:cNvSpPr/>
          <p:nvPr/>
        </p:nvSpPr>
        <p:spPr>
          <a:xfrm>
            <a:off x="755640" y="2781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面个鱼说法正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1"/>
          <p:cNvSpPr/>
          <p:nvPr/>
        </p:nvSpPr>
        <p:spPr>
          <a:xfrm>
            <a:off x="4211640" y="896760"/>
            <a:ext cx="403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浮力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现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6" name="TextBox 1"/>
          <p:cNvSpPr/>
          <p:nvPr/>
        </p:nvSpPr>
        <p:spPr>
          <a:xfrm>
            <a:off x="1241280" y="946080"/>
            <a:ext cx="36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7" name="TextBox 2"/>
          <p:cNvSpPr/>
          <p:nvPr/>
        </p:nvSpPr>
        <p:spPr>
          <a:xfrm>
            <a:off x="1069920" y="76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引入课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8" name="Picture 10" descr="xin_3501040410290301271340"/>
          <p:cNvPicPr/>
          <p:nvPr/>
        </p:nvPicPr>
        <p:blipFill>
          <a:blip r:embed="rId3"/>
          <a:stretch/>
        </p:blipFill>
        <p:spPr>
          <a:xfrm>
            <a:off x="684360" y="1776240"/>
            <a:ext cx="49212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5280" y="54936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小结：</a:t>
            </a: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本节课学到了哪些知识？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黑体"/>
              </a:rPr>
              <a:t>   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87120" y="1196640"/>
            <a:ext cx="8048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浮力：浸在液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气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里的物体受到液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或气体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向上托的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方向：竖直向上；施力物：液体或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93680" y="3643200"/>
            <a:ext cx="80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浮力产生的原因是液体对物体向上的压力大于向下的压力，这个压力差就是浮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5" name="TextBox 1"/>
          <p:cNvSpPr/>
          <p:nvPr/>
        </p:nvSpPr>
        <p:spPr>
          <a:xfrm>
            <a:off x="131760" y="2997360"/>
            <a:ext cx="688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称重法测浮力：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c00000"/>
                </a:solidFill>
                <a:latin typeface="Arial"/>
              </a:rPr>
              <a:t>浮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=G-F</a:t>
            </a:r>
            <a:r>
              <a:rPr b="1" lang="zh-CN" sz="3600" spc="-1" strike="noStrike" baseline="-25000">
                <a:solidFill>
                  <a:srgbClr val="c00000"/>
                </a:solidFill>
                <a:latin typeface="Arial"/>
              </a:rPr>
              <a:t>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6" name="TextBox 2"/>
          <p:cNvSpPr/>
          <p:nvPr/>
        </p:nvSpPr>
        <p:spPr>
          <a:xfrm>
            <a:off x="193680" y="4695840"/>
            <a:ext cx="78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40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40c"/>
                </a:solidFill>
                <a:latin typeface="Arial"/>
              </a:rPr>
              <a:t>决定浮力大小的因素：与浸在液体中的体积有关，与液体的密度有关。浸在液体中的体积越大，液体的密度越大，受的浮力就越大。与浸没的深度、物体的形状、物体的密度无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3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4572000" y="4076640"/>
            <a:ext cx="4608360" cy="26240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 txBox="1"/>
          <p:nvPr/>
        </p:nvSpPr>
        <p:spPr>
          <a:xfrm>
            <a:off x="250920" y="5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、某同学通过实验来研究影响浮力大小的因素，做了如图所示的一系列实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）对比分析②③两次实验，得出的结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是：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对比分析③④两次实验，得出的结论是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：                          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.                                                   </a:t>
            </a:r>
            <a:r>
              <a:rPr b="1" lang="zh-CN" sz="2400" spc="-1" strike="noStrike" u="sng">
                <a:solidFill>
                  <a:srgbClr val="00040c"/>
                </a:solidFill>
                <a:uFillTx/>
                <a:latin typeface="Arial"/>
              </a:rPr>
              <a:t>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对比分析④⑤两次实验，得出的结论是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.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　（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40c"/>
                </a:solidFill>
                <a:latin typeface="Arial"/>
              </a:rPr>
              <a:t>）综合分析和归纳上述实验，得到的较为完整的结论是：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___________________</a:t>
            </a:r>
            <a:r>
              <a:rPr b="1" lang="en-US" sz="2400" spc="-1" strike="noStrike" u="sng">
                <a:solidFill>
                  <a:srgbClr val="00040c"/>
                </a:solidFill>
                <a:uFillTx/>
                <a:latin typeface="Arial"/>
              </a:rPr>
              <a:t>_</a:t>
            </a:r>
            <a:r>
              <a:rPr b="1" lang="en-US" sz="2400" spc="-1" strike="noStrike">
                <a:solidFill>
                  <a:srgbClr val="00040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9" name="TextBox 1"/>
          <p:cNvSpPr/>
          <p:nvPr/>
        </p:nvSpPr>
        <p:spPr>
          <a:xfrm>
            <a:off x="1476360" y="1628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入的体积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0" name="TextBox 2"/>
          <p:cNvSpPr/>
          <p:nvPr/>
        </p:nvSpPr>
        <p:spPr>
          <a:xfrm>
            <a:off x="1300320" y="242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没的深度无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1042920" y="3095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液体的密度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2" name="TextBox 4"/>
          <p:cNvSpPr/>
          <p:nvPr/>
        </p:nvSpPr>
        <p:spPr>
          <a:xfrm>
            <a:off x="1476360" y="3860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浮力的大小与浸入的体积、液体的密度有关；与浸没的深度等无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06000" y="487440"/>
            <a:ext cx="883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一个边长为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的立方体铁块从图（甲）所示的实线位置（此时该立方体的下表面恰与水面齐平）下降至图中的虚线位置，则图（乙）中能正确反映铁块所受水的浮力的大小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和铁块下表面在水中的深度</a:t>
            </a:r>
            <a:r>
              <a:rPr b="1" i="1" lang="en-US" sz="3200" spc="-1" strike="noStrike">
                <a:solidFill>
                  <a:srgbClr val="00040c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关系的图像是（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54" name="组合 6"/>
          <p:cNvGrpSpPr/>
          <p:nvPr/>
        </p:nvGrpSpPr>
        <p:grpSpPr>
          <a:xfrm>
            <a:off x="146160" y="3490920"/>
            <a:ext cx="8746560" cy="2962080"/>
            <a:chOff x="146160" y="3490920"/>
            <a:chExt cx="8746560" cy="2962080"/>
          </a:xfrm>
        </p:grpSpPr>
        <p:grpSp>
          <p:nvGrpSpPr>
            <p:cNvPr id="1055" name="Group 67"/>
            <p:cNvGrpSpPr/>
            <p:nvPr/>
          </p:nvGrpSpPr>
          <p:grpSpPr>
            <a:xfrm>
              <a:off x="2009160" y="3942720"/>
              <a:ext cx="6883560" cy="2487240"/>
              <a:chOff x="2009160" y="3942720"/>
              <a:chExt cx="6883560" cy="2487240"/>
            </a:xfrm>
          </p:grpSpPr>
          <p:sp>
            <p:nvSpPr>
              <p:cNvPr id="1056" name="Line 68"/>
              <p:cNvSpPr/>
              <p:nvPr/>
            </p:nvSpPr>
            <p:spPr>
              <a:xfrm flipV="1">
                <a:off x="7512120" y="405612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7" name="Line 69"/>
              <p:cNvSpPr/>
              <p:nvPr/>
            </p:nvSpPr>
            <p:spPr>
              <a:xfrm>
                <a:off x="7512120" y="544140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8" name="Line 70"/>
              <p:cNvSpPr/>
              <p:nvPr/>
            </p:nvSpPr>
            <p:spPr>
              <a:xfrm>
                <a:off x="751212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9" name="Line 71"/>
              <p:cNvSpPr/>
              <p:nvPr/>
            </p:nvSpPr>
            <p:spPr>
              <a:xfrm>
                <a:off x="806688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0" name="Line 72"/>
              <p:cNvSpPr/>
              <p:nvPr/>
            </p:nvSpPr>
            <p:spPr>
              <a:xfrm>
                <a:off x="862056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1" name="Line 73"/>
              <p:cNvSpPr/>
              <p:nvPr/>
            </p:nvSpPr>
            <p:spPr>
              <a:xfrm flipV="1">
                <a:off x="7512120" y="4329720"/>
                <a:ext cx="1124640" cy="110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2" name="Line 74"/>
              <p:cNvSpPr/>
              <p:nvPr/>
            </p:nvSpPr>
            <p:spPr>
              <a:xfrm>
                <a:off x="8630280" y="4375440"/>
                <a:ext cx="0" cy="9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3" name="Line 75"/>
              <p:cNvSpPr/>
              <p:nvPr/>
            </p:nvSpPr>
            <p:spPr>
              <a:xfrm flipV="1">
                <a:off x="3958920" y="406728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4" name="Line 76"/>
              <p:cNvSpPr/>
              <p:nvPr/>
            </p:nvSpPr>
            <p:spPr>
              <a:xfrm>
                <a:off x="3958920" y="545292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5" name="Line 77"/>
              <p:cNvSpPr/>
              <p:nvPr/>
            </p:nvSpPr>
            <p:spPr>
              <a:xfrm>
                <a:off x="395892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6" name="Line 78"/>
              <p:cNvSpPr/>
              <p:nvPr/>
            </p:nvSpPr>
            <p:spPr>
              <a:xfrm>
                <a:off x="451368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7" name="Line 79"/>
              <p:cNvSpPr/>
              <p:nvPr/>
            </p:nvSpPr>
            <p:spPr>
              <a:xfrm>
                <a:off x="5067360" y="539460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8" name="Line 80"/>
              <p:cNvSpPr/>
              <p:nvPr/>
            </p:nvSpPr>
            <p:spPr>
              <a:xfrm flipH="1" flipV="1">
                <a:off x="3958920" y="4407120"/>
                <a:ext cx="1110960" cy="10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9" name="Line 81"/>
              <p:cNvSpPr/>
              <p:nvPr/>
            </p:nvSpPr>
            <p:spPr>
              <a:xfrm flipV="1">
                <a:off x="5749920" y="4056120"/>
                <a:ext cx="0" cy="13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0" name="Line 82"/>
              <p:cNvSpPr/>
              <p:nvPr/>
            </p:nvSpPr>
            <p:spPr>
              <a:xfrm>
                <a:off x="5749920" y="5441400"/>
                <a:ext cx="138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1" name="Line 83"/>
              <p:cNvSpPr/>
              <p:nvPr/>
            </p:nvSpPr>
            <p:spPr>
              <a:xfrm>
                <a:off x="574992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2" name="Line 84"/>
              <p:cNvSpPr/>
              <p:nvPr/>
            </p:nvSpPr>
            <p:spPr>
              <a:xfrm>
                <a:off x="630468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3" name="Line 85"/>
              <p:cNvSpPr/>
              <p:nvPr/>
            </p:nvSpPr>
            <p:spPr>
              <a:xfrm>
                <a:off x="6858360" y="5383080"/>
                <a:ext cx="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4" name="Line 86"/>
              <p:cNvSpPr/>
              <p:nvPr/>
            </p:nvSpPr>
            <p:spPr>
              <a:xfrm flipH="1" flipV="1">
                <a:off x="5752080" y="4394520"/>
                <a:ext cx="559440" cy="5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5" name="Line 87"/>
              <p:cNvSpPr/>
              <p:nvPr/>
            </p:nvSpPr>
            <p:spPr>
              <a:xfrm>
                <a:off x="6313320" y="4903560"/>
                <a:ext cx="55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6" name="Line 88"/>
              <p:cNvSpPr/>
              <p:nvPr/>
            </p:nvSpPr>
            <p:spPr>
              <a:xfrm>
                <a:off x="6298920" y="492228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7" name="Text Box 89"/>
              <p:cNvSpPr/>
              <p:nvPr/>
            </p:nvSpPr>
            <p:spPr>
              <a:xfrm>
                <a:off x="5302440" y="5402160"/>
                <a:ext cx="2030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h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8" name="Text Box 90"/>
              <p:cNvSpPr/>
              <p:nvPr/>
            </p:nvSpPr>
            <p:spPr>
              <a:xfrm>
                <a:off x="7079040" y="5389560"/>
                <a:ext cx="2030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h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79" name="Text Box 91"/>
              <p:cNvSpPr/>
              <p:nvPr/>
            </p:nvSpPr>
            <p:spPr>
              <a:xfrm>
                <a:off x="4465440" y="5389560"/>
                <a:ext cx="200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0" name="Text Box 92"/>
              <p:cNvSpPr/>
              <p:nvPr/>
            </p:nvSpPr>
            <p:spPr>
              <a:xfrm>
                <a:off x="6242040" y="5371560"/>
                <a:ext cx="20088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1" name="Text Box 93"/>
              <p:cNvSpPr/>
              <p:nvPr/>
            </p:nvSpPr>
            <p:spPr>
              <a:xfrm>
                <a:off x="8018640" y="5402160"/>
                <a:ext cx="200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2" name="Text Box 94"/>
              <p:cNvSpPr/>
              <p:nvPr/>
            </p:nvSpPr>
            <p:spPr>
              <a:xfrm>
                <a:off x="4955400" y="5421240"/>
                <a:ext cx="2012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3" name="Text Box 95"/>
              <p:cNvSpPr/>
              <p:nvPr/>
            </p:nvSpPr>
            <p:spPr>
              <a:xfrm>
                <a:off x="6746400" y="5402160"/>
                <a:ext cx="20124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4" name="Text Box 96"/>
              <p:cNvSpPr/>
              <p:nvPr/>
            </p:nvSpPr>
            <p:spPr>
              <a:xfrm>
                <a:off x="8508600" y="5384520"/>
                <a:ext cx="20124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5" name="Text Box 97"/>
              <p:cNvSpPr/>
              <p:nvPr/>
            </p:nvSpPr>
            <p:spPr>
              <a:xfrm>
                <a:off x="3771000" y="3980520"/>
                <a:ext cx="201240" cy="54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6" name="Text Box 98"/>
              <p:cNvSpPr/>
              <p:nvPr/>
            </p:nvSpPr>
            <p:spPr>
              <a:xfrm>
                <a:off x="5562000" y="3942720"/>
                <a:ext cx="2012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7" name="Text Box 99"/>
              <p:cNvSpPr/>
              <p:nvPr/>
            </p:nvSpPr>
            <p:spPr>
              <a:xfrm>
                <a:off x="7324200" y="3942720"/>
                <a:ext cx="2012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F</a:t>
                </a:r>
                <a:endParaRPr b="0" lang="en-US" sz="9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8" name="Text Box 100"/>
              <p:cNvSpPr/>
              <p:nvPr/>
            </p:nvSpPr>
            <p:spPr>
              <a:xfrm>
                <a:off x="2774520" y="580356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89" name="Text Box 101"/>
              <p:cNvSpPr/>
              <p:nvPr/>
            </p:nvSpPr>
            <p:spPr>
              <a:xfrm>
                <a:off x="4522320" y="582228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B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0" name="Text Box 102"/>
              <p:cNvSpPr/>
              <p:nvPr/>
            </p:nvSpPr>
            <p:spPr>
              <a:xfrm>
                <a:off x="6298920" y="5830200"/>
                <a:ext cx="303120" cy="58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C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1" name="Text Box 103"/>
              <p:cNvSpPr/>
              <p:nvPr/>
            </p:nvSpPr>
            <p:spPr>
              <a:xfrm>
                <a:off x="8046360" y="584136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D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2" name="Text Box 104"/>
              <p:cNvSpPr/>
              <p:nvPr/>
            </p:nvSpPr>
            <p:spPr>
              <a:xfrm>
                <a:off x="3858840" y="5365440"/>
                <a:ext cx="20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3" name="Text Box 105"/>
              <p:cNvSpPr/>
              <p:nvPr/>
            </p:nvSpPr>
            <p:spPr>
              <a:xfrm>
                <a:off x="5649840" y="5346360"/>
                <a:ext cx="20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94" name="Text Box 106"/>
              <p:cNvSpPr/>
              <p:nvPr/>
            </p:nvSpPr>
            <p:spPr>
              <a:xfrm>
                <a:off x="7412040" y="5346360"/>
                <a:ext cx="201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0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95" name="Group 107"/>
              <p:cNvGrpSpPr/>
              <p:nvPr/>
            </p:nvGrpSpPr>
            <p:grpSpPr>
              <a:xfrm>
                <a:off x="2009160" y="3999240"/>
                <a:ext cx="1689840" cy="1942920"/>
                <a:chOff x="2009160" y="3999240"/>
                <a:chExt cx="1689840" cy="1942920"/>
              </a:xfrm>
            </p:grpSpPr>
            <p:sp>
              <p:nvSpPr>
                <p:cNvPr id="1096" name="Line 108"/>
                <p:cNvSpPr/>
                <p:nvPr/>
              </p:nvSpPr>
              <p:spPr>
                <a:xfrm>
                  <a:off x="2195280" y="5448600"/>
                  <a:ext cx="138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09"/>
                <p:cNvSpPr/>
                <p:nvPr/>
              </p:nvSpPr>
              <p:spPr>
                <a:xfrm flipV="1">
                  <a:off x="2195280" y="4063320"/>
                  <a:ext cx="0" cy="138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10"/>
                <p:cNvSpPr/>
                <p:nvPr/>
              </p:nvSpPr>
              <p:spPr>
                <a:xfrm>
                  <a:off x="219528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11"/>
                <p:cNvSpPr/>
                <p:nvPr/>
              </p:nvSpPr>
              <p:spPr>
                <a:xfrm>
                  <a:off x="275112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12"/>
                <p:cNvSpPr/>
                <p:nvPr/>
              </p:nvSpPr>
              <p:spPr>
                <a:xfrm>
                  <a:off x="3306240" y="5390280"/>
                  <a:ext cx="0" cy="5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13"/>
                <p:cNvSpPr/>
                <p:nvPr/>
              </p:nvSpPr>
              <p:spPr>
                <a:xfrm flipV="1">
                  <a:off x="2198160" y="4906440"/>
                  <a:ext cx="552600" cy="54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114"/>
                <p:cNvSpPr/>
                <p:nvPr/>
              </p:nvSpPr>
              <p:spPr>
                <a:xfrm>
                  <a:off x="2751120" y="4914360"/>
                  <a:ext cx="0" cy="41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115"/>
                <p:cNvSpPr/>
                <p:nvPr/>
              </p:nvSpPr>
              <p:spPr>
                <a:xfrm>
                  <a:off x="2759760" y="4910760"/>
                  <a:ext cx="55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6"/>
                <p:cNvSpPr/>
                <p:nvPr/>
              </p:nvSpPr>
              <p:spPr>
                <a:xfrm>
                  <a:off x="3498120" y="539928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h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5" name="Text Box 117"/>
                <p:cNvSpPr/>
                <p:nvPr/>
              </p:nvSpPr>
              <p:spPr>
                <a:xfrm>
                  <a:off x="2673000" y="5367600"/>
                  <a:ext cx="20340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a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18"/>
                <p:cNvSpPr/>
                <p:nvPr/>
              </p:nvSpPr>
              <p:spPr>
                <a:xfrm>
                  <a:off x="3193920" y="539928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2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a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119"/>
                <p:cNvSpPr/>
                <p:nvPr/>
              </p:nvSpPr>
              <p:spPr>
                <a:xfrm>
                  <a:off x="2009160" y="3999240"/>
                  <a:ext cx="2008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F</a:t>
                  </a:r>
                  <a:endParaRPr b="0" lang="en-US" sz="9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20"/>
                <p:cNvSpPr/>
                <p:nvPr/>
              </p:nvSpPr>
              <p:spPr>
                <a:xfrm>
                  <a:off x="2094840" y="5361480"/>
                  <a:ext cx="2012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0</a:t>
                  </a:r>
                  <a:endParaRPr b="0" lang="en-US" sz="1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121"/>
                <p:cNvSpPr/>
                <p:nvPr/>
              </p:nvSpPr>
              <p:spPr>
                <a:xfrm>
                  <a:off x="3310200" y="4925880"/>
                  <a:ext cx="0" cy="41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122"/>
              <p:cNvSpPr/>
              <p:nvPr/>
            </p:nvSpPr>
            <p:spPr>
              <a:xfrm>
                <a:off x="450792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1" name="Line 123"/>
              <p:cNvSpPr/>
              <p:nvPr/>
            </p:nvSpPr>
            <p:spPr>
              <a:xfrm>
                <a:off x="686196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2" name="Line 124"/>
              <p:cNvSpPr/>
              <p:nvPr/>
            </p:nvSpPr>
            <p:spPr>
              <a:xfrm>
                <a:off x="8061120" y="4929840"/>
                <a:ext cx="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25"/>
            <p:cNvGrpSpPr/>
            <p:nvPr/>
          </p:nvGrpSpPr>
          <p:grpSpPr>
            <a:xfrm>
              <a:off x="146160" y="3490920"/>
              <a:ext cx="1732680" cy="2962080"/>
              <a:chOff x="146160" y="3490920"/>
              <a:chExt cx="1732680" cy="2962080"/>
            </a:xfrm>
          </p:grpSpPr>
          <p:sp>
            <p:nvSpPr>
              <p:cNvPr id="1114" name="Line 126"/>
              <p:cNvSpPr/>
              <p:nvPr/>
            </p:nvSpPr>
            <p:spPr>
              <a:xfrm>
                <a:off x="391320" y="4478040"/>
                <a:ext cx="143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5" name="Rectangle 127"/>
              <p:cNvSpPr/>
              <p:nvPr/>
            </p:nvSpPr>
            <p:spPr>
              <a:xfrm>
                <a:off x="904680" y="3863880"/>
                <a:ext cx="476280" cy="6253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6" name="Line 128"/>
              <p:cNvSpPr/>
              <p:nvPr/>
            </p:nvSpPr>
            <p:spPr>
              <a:xfrm>
                <a:off x="564840" y="3871800"/>
                <a:ext cx="31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7" name="Line 129"/>
              <p:cNvSpPr/>
              <p:nvPr/>
            </p:nvSpPr>
            <p:spPr>
              <a:xfrm>
                <a:off x="693720" y="387792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8" name="Line 130"/>
              <p:cNvSpPr/>
              <p:nvPr/>
            </p:nvSpPr>
            <p:spPr>
              <a:xfrm>
                <a:off x="1465200" y="5721840"/>
                <a:ext cx="31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9" name="Line 131"/>
              <p:cNvSpPr/>
              <p:nvPr/>
            </p:nvSpPr>
            <p:spPr>
              <a:xfrm>
                <a:off x="1138680" y="3490920"/>
                <a:ext cx="0" cy="37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0" name="Line 132"/>
              <p:cNvSpPr/>
              <p:nvPr/>
            </p:nvSpPr>
            <p:spPr>
              <a:xfrm>
                <a:off x="1146240" y="4714920"/>
                <a:ext cx="0" cy="370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1" name="Text Box 133"/>
              <p:cNvSpPr/>
              <p:nvPr/>
            </p:nvSpPr>
            <p:spPr>
              <a:xfrm>
                <a:off x="392400" y="3923640"/>
                <a:ext cx="303120" cy="58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122" name="Group 134"/>
              <p:cNvGrpSpPr/>
              <p:nvPr/>
            </p:nvGrpSpPr>
            <p:grpSpPr>
              <a:xfrm>
                <a:off x="362520" y="4808520"/>
                <a:ext cx="1466280" cy="201240"/>
                <a:chOff x="362520" y="4808520"/>
                <a:chExt cx="1466280" cy="201240"/>
              </a:xfrm>
            </p:grpSpPr>
            <p:sp>
              <p:nvSpPr>
                <p:cNvPr id="1123" name="Line 135"/>
                <p:cNvSpPr/>
                <p:nvPr/>
              </p:nvSpPr>
              <p:spPr>
                <a:xfrm>
                  <a:off x="452880" y="480852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136"/>
                <p:cNvSpPr/>
                <p:nvPr/>
              </p:nvSpPr>
              <p:spPr>
                <a:xfrm>
                  <a:off x="362520" y="500976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Group 137"/>
              <p:cNvGrpSpPr/>
              <p:nvPr/>
            </p:nvGrpSpPr>
            <p:grpSpPr>
              <a:xfrm>
                <a:off x="362520" y="5203800"/>
                <a:ext cx="1466280" cy="201240"/>
                <a:chOff x="362520" y="5203800"/>
                <a:chExt cx="1466280" cy="201240"/>
              </a:xfrm>
            </p:grpSpPr>
            <p:sp>
              <p:nvSpPr>
                <p:cNvPr id="1126" name="Line 138"/>
                <p:cNvSpPr/>
                <p:nvPr/>
              </p:nvSpPr>
              <p:spPr>
                <a:xfrm>
                  <a:off x="452880" y="520380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139"/>
                <p:cNvSpPr/>
                <p:nvPr/>
              </p:nvSpPr>
              <p:spPr>
                <a:xfrm>
                  <a:off x="362520" y="540504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Group 140"/>
              <p:cNvGrpSpPr/>
              <p:nvPr/>
            </p:nvGrpSpPr>
            <p:grpSpPr>
              <a:xfrm>
                <a:off x="362520" y="5598720"/>
                <a:ext cx="1466280" cy="201240"/>
                <a:chOff x="362520" y="5598720"/>
                <a:chExt cx="1466280" cy="201240"/>
              </a:xfrm>
            </p:grpSpPr>
            <p:sp>
              <p:nvSpPr>
                <p:cNvPr id="1129" name="Line 141"/>
                <p:cNvSpPr/>
                <p:nvPr/>
              </p:nvSpPr>
              <p:spPr>
                <a:xfrm>
                  <a:off x="452880" y="5598720"/>
                  <a:ext cx="137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142"/>
                <p:cNvSpPr/>
                <p:nvPr/>
              </p:nvSpPr>
              <p:spPr>
                <a:xfrm>
                  <a:off x="362520" y="5799960"/>
                  <a:ext cx="143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1" name="Rectangle 143"/>
              <p:cNvSpPr/>
              <p:nvPr/>
            </p:nvSpPr>
            <p:spPr>
              <a:xfrm>
                <a:off x="897120" y="5089680"/>
                <a:ext cx="477360" cy="62532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158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2" name="Line 144"/>
              <p:cNvSpPr/>
              <p:nvPr/>
            </p:nvSpPr>
            <p:spPr>
              <a:xfrm>
                <a:off x="424080" y="6012720"/>
                <a:ext cx="13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3" name="Line 145"/>
              <p:cNvSpPr/>
              <p:nvPr/>
            </p:nvSpPr>
            <p:spPr>
              <a:xfrm>
                <a:off x="1545120" y="4492080"/>
                <a:ext cx="0" cy="12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4" name="Text Box 146"/>
              <p:cNvSpPr/>
              <p:nvPr/>
            </p:nvSpPr>
            <p:spPr>
              <a:xfrm>
                <a:off x="1575720" y="4873320"/>
                <a:ext cx="303120" cy="58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0" i="1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5" name="Text Box 147"/>
              <p:cNvSpPr/>
              <p:nvPr/>
            </p:nvSpPr>
            <p:spPr>
              <a:xfrm>
                <a:off x="290160" y="4674600"/>
                <a:ext cx="158760" cy="177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 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6" name="Text Box 148"/>
              <p:cNvSpPr/>
              <p:nvPr/>
            </p:nvSpPr>
            <p:spPr>
              <a:xfrm>
                <a:off x="146160" y="5414040"/>
                <a:ext cx="303120" cy="500040"/>
              </a:xfrm>
              <a:prstGeom prst="rect">
                <a:avLst/>
              </a:prstGeom>
              <a:solidFill>
                <a:srgbClr val="ffffff">
                  <a:alpha val="9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水</a:t>
                </a:r>
                <a:endParaRPr b="0" lang="en-US" sz="1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TextBox 1"/>
          <p:cNvSpPr/>
          <p:nvPr/>
        </p:nvSpPr>
        <p:spPr>
          <a:xfrm>
            <a:off x="7512120" y="24271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395280" y="907920"/>
            <a:ext cx="85406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一个盛有盐水的容器中悬浮着一个鸡蛋，容器放在斜面上，如图所示。图上画出了几个力的方向，你认为鸡蛋所受浮力的方向应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选填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或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40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54080" indent="-1335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一金属块在空气中称重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27N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，把它全部浸没在水中称弹簧测力计的示数为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7N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，则该金属块受到的浮力</a:t>
            </a:r>
            <a:r>
              <a:rPr b="0" lang="zh-CN" sz="3200" spc="-1" strike="noStrike" u="sng">
                <a:solidFill>
                  <a:srgbClr val="00040c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9" name="Picture 2" descr=""/>
          <p:cNvPicPr/>
          <p:nvPr/>
        </p:nvPicPr>
        <p:blipFill>
          <a:blip r:embed="rId1"/>
          <a:stretch/>
        </p:blipFill>
        <p:spPr>
          <a:xfrm>
            <a:off x="6227640" y="2492280"/>
            <a:ext cx="2070360" cy="1657440"/>
          </a:xfrm>
          <a:prstGeom prst="rect">
            <a:avLst/>
          </a:prstGeom>
          <a:ln w="0">
            <a:noFill/>
          </a:ln>
        </p:spPr>
      </p:pic>
      <p:sp>
        <p:nvSpPr>
          <p:cNvPr id="1140" name="TextBox 3"/>
          <p:cNvSpPr/>
          <p:nvPr/>
        </p:nvSpPr>
        <p:spPr>
          <a:xfrm>
            <a:off x="8298000" y="20034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1" name="TextBox 4"/>
          <p:cNvSpPr/>
          <p:nvPr/>
        </p:nvSpPr>
        <p:spPr>
          <a:xfrm>
            <a:off x="3492360" y="573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24000" y="69228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跳水运动员离开跳台后，从接触水面到全部浸入水中，他受到的浮力将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；当他全部浸入水中下沉的过程中，受到的浮力将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.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将皮球按进水中，当放手以后，皮球会上浮。在皮球未露出水面之前，所受水的压强和浮力的变化情况，正确的是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(     )   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减小，浮力不变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增大，浮力不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不变，浮力变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压强不变，浮力变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3" name="TextBox 4"/>
          <p:cNvSpPr/>
          <p:nvPr/>
        </p:nvSpPr>
        <p:spPr>
          <a:xfrm>
            <a:off x="6084720" y="1341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4" name="TextBox 5"/>
          <p:cNvSpPr/>
          <p:nvPr/>
        </p:nvSpPr>
        <p:spPr>
          <a:xfrm>
            <a:off x="7740720" y="1709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5" name="TextBox 6"/>
          <p:cNvSpPr/>
          <p:nvPr/>
        </p:nvSpPr>
        <p:spPr>
          <a:xfrm>
            <a:off x="6300720" y="35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6" name="文本框 8200"/>
          <p:cNvSpPr/>
          <p:nvPr/>
        </p:nvSpPr>
        <p:spPr>
          <a:xfrm>
            <a:off x="1866960" y="357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5651640" y="3921120"/>
            <a:ext cx="3024000" cy="268128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 txBox="1"/>
          <p:nvPr/>
        </p:nvSpPr>
        <p:spPr>
          <a:xfrm>
            <a:off x="250920" y="476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、物体在液体中受到的浮力大小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(     )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本身的重力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的体积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的密度大小有关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和物体浸入液体的体积大小有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如图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11: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同一物体浸没在水中和酒精中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在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中弹簧测力计所受的拉力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在</a:t>
            </a:r>
            <a:r>
              <a:rPr b="0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40c"/>
                </a:solidFill>
                <a:latin typeface="Arial"/>
              </a:rPr>
              <a:t>中弹簧测力计的示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变化大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9" name="TextBox 3"/>
          <p:cNvSpPr/>
          <p:nvPr/>
        </p:nvSpPr>
        <p:spPr>
          <a:xfrm>
            <a:off x="6732720" y="692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0" name="TextBox 4"/>
          <p:cNvSpPr/>
          <p:nvPr/>
        </p:nvSpPr>
        <p:spPr>
          <a:xfrm>
            <a:off x="1116000" y="3382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酒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1" name="TextBox 5"/>
          <p:cNvSpPr/>
          <p:nvPr/>
        </p:nvSpPr>
        <p:spPr>
          <a:xfrm>
            <a:off x="1116000" y="39211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24000" y="907920"/>
            <a:ext cx="8540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右图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弹簧测力计的示数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随物体浸入水中深度的变化如图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2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则物体的重力为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N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没后浮力为 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3" name="Picture 2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4870440" cy="309564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5"/>
          <p:cNvSpPr/>
          <p:nvPr/>
        </p:nvSpPr>
        <p:spPr>
          <a:xfrm>
            <a:off x="8120160" y="14065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5" name="TextBox 6"/>
          <p:cNvSpPr/>
          <p:nvPr/>
        </p:nvSpPr>
        <p:spPr>
          <a:xfrm>
            <a:off x="3492360" y="19335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8F3-BAC8-4644-B85F-EF1D862DADCA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Box 1"/>
          <p:cNvSpPr/>
          <p:nvPr/>
        </p:nvSpPr>
        <p:spPr>
          <a:xfrm>
            <a:off x="684360" y="473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学质疑答案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1" name="TextBox 2"/>
          <p:cNvSpPr/>
          <p:nvPr/>
        </p:nvSpPr>
        <p:spPr>
          <a:xfrm>
            <a:off x="873000" y="1116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 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轻    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2" name="TextBox 3"/>
          <p:cNvSpPr/>
          <p:nvPr/>
        </p:nvSpPr>
        <p:spPr>
          <a:xfrm>
            <a:off x="922320" y="1701720"/>
            <a:ext cx="609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.    0.2      F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3" name="TextBox 5"/>
          <p:cNvSpPr/>
          <p:nvPr/>
        </p:nvSpPr>
        <p:spPr>
          <a:xfrm>
            <a:off x="968400" y="242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6.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压力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4" name="TextBox 6"/>
          <p:cNvSpPr/>
          <p:nvPr/>
        </p:nvSpPr>
        <p:spPr>
          <a:xfrm>
            <a:off x="968400" y="335772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浸没与浸在的不同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5" name="TextBox 8"/>
          <p:cNvSpPr/>
          <p:nvPr/>
        </p:nvSpPr>
        <p:spPr>
          <a:xfrm>
            <a:off x="822240" y="4076640"/>
            <a:ext cx="785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没指整个物体都淹没在液面以下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在可以部分淹没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也可全部淹没在液面下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浸在包括了浸没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Control 2" descr=""/>
          <p:cNvPicPr/>
          <p:nvPr/>
        </p:nvPicPr>
        <p:blipFill>
          <a:blip r:embed="rId1"/>
          <a:stretch/>
        </p:blipFill>
        <p:spPr>
          <a:xfrm>
            <a:off x="4724280" y="1628640"/>
            <a:ext cx="4240440" cy="3240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0" descr="水球"/>
          <p:cNvPicPr/>
          <p:nvPr/>
        </p:nvPicPr>
        <p:blipFill>
          <a:blip r:embed="rId2"/>
          <a:stretch/>
        </p:blipFill>
        <p:spPr>
          <a:xfrm>
            <a:off x="179280" y="1628640"/>
            <a:ext cx="4321440" cy="32403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961" name="WordArt 45"/>
          <p:cNvSpPr txBox="1"/>
          <p:nvPr/>
        </p:nvSpPr>
        <p:spPr>
          <a:xfrm>
            <a:off x="2268360" y="333360"/>
            <a:ext cx="4824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识浮力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2" descr="鸭子"/>
          <p:cNvPicPr/>
          <p:nvPr/>
        </p:nvPicPr>
        <p:blipFill>
          <a:blip r:embed="rId1"/>
          <a:stretch/>
        </p:blipFill>
        <p:spPr>
          <a:xfrm>
            <a:off x="-108000" y="3209760"/>
            <a:ext cx="4168800" cy="36482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" descr="轮船"/>
          <p:cNvPicPr/>
          <p:nvPr/>
        </p:nvPicPr>
        <p:blipFill>
          <a:blip r:embed="rId2"/>
          <a:stretch/>
        </p:blipFill>
        <p:spPr>
          <a:xfrm>
            <a:off x="3828960" y="3209760"/>
            <a:ext cx="5315040" cy="364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热气球"/>
          <p:cNvPicPr/>
          <p:nvPr/>
        </p:nvPicPr>
        <p:blipFill>
          <a:blip r:embed="rId3"/>
          <a:stretch/>
        </p:blipFill>
        <p:spPr>
          <a:xfrm>
            <a:off x="3828960" y="0"/>
            <a:ext cx="5315040" cy="3246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0" descr="xin_3501040410290301271340"/>
          <p:cNvPicPr/>
          <p:nvPr/>
        </p:nvPicPr>
        <p:blipFill>
          <a:blip r:embed="rId4"/>
          <a:stretch/>
        </p:blipFill>
        <p:spPr>
          <a:xfrm>
            <a:off x="-108000" y="1440"/>
            <a:ext cx="3936960" cy="32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"/>
          <p:cNvSpPr/>
          <p:nvPr/>
        </p:nvSpPr>
        <p:spPr>
          <a:xfrm>
            <a:off x="142920" y="1626480"/>
            <a:ext cx="9001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通过现象，认识什么叫浮力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浮力的方向及施力物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会用弹簧测力计测浮力的大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了解浮力产生的原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会用控制变量法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--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探究浮力大      小与哪些因素有关。并会初步判断所受浮力的大小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1d2e"/>
                </a:solidFill>
                <a:latin typeface="黑体"/>
                <a:ea typeface="黑体"/>
              </a:rPr>
              <a:t>难点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2771640" y="208080"/>
            <a:ext cx="33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学习目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1"/>
          <p:cNvSpPr/>
          <p:nvPr/>
        </p:nvSpPr>
        <p:spPr>
          <a:xfrm>
            <a:off x="1476360" y="549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9" name="TextBox 2"/>
          <p:cNvSpPr/>
          <p:nvPr/>
        </p:nvSpPr>
        <p:spPr>
          <a:xfrm>
            <a:off x="108000" y="148428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鸭子能浮在水面上，用钢铁做的轮船也能浮在水面上，说明它们受到了水对它们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飞艇、热气球能升上天空，说明它们也受到空气对它们向上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、我们从水中抬起一个石头要比在空气中抬起感觉要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40c"/>
                </a:solidFill>
                <a:uFillTx/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 “轻”或“重” ），这些事例都说明，在水中要下沉的物体也受到水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力。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………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0" name="TextBox 1"/>
          <p:cNvSpPr/>
          <p:nvPr/>
        </p:nvSpPr>
        <p:spPr>
          <a:xfrm>
            <a:off x="118728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1" name="TextBox 5"/>
          <p:cNvSpPr/>
          <p:nvPr/>
        </p:nvSpPr>
        <p:spPr>
          <a:xfrm>
            <a:off x="5456160" y="37306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2" name="TextBox 6"/>
          <p:cNvSpPr/>
          <p:nvPr/>
        </p:nvSpPr>
        <p:spPr>
          <a:xfrm>
            <a:off x="1971720" y="580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3" name="TextBox 3"/>
          <p:cNvSpPr/>
          <p:nvPr/>
        </p:nvSpPr>
        <p:spPr>
          <a:xfrm>
            <a:off x="3059280" y="479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4" name="TextBox 2"/>
          <p:cNvSpPr/>
          <p:nvPr/>
        </p:nvSpPr>
        <p:spPr>
          <a:xfrm>
            <a:off x="4427640" y="611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出疑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Box 1"/>
          <p:cNvSpPr/>
          <p:nvPr/>
        </p:nvSpPr>
        <p:spPr>
          <a:xfrm>
            <a:off x="900000" y="155736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、认识浮力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从以上这些浮力现象可总结出：一切浸在液体或气体中的物体都受到液体或气体对它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的托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这个力叫做浮力。浮力的方向总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与 重力的方向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（选填“相同”或“相反”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  <a:ea typeface="宋体"/>
              </a:rPr>
              <a:t>浮力的施力物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你认为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浸在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浸没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3b39"/>
                </a:solidFill>
                <a:latin typeface="Arial"/>
                <a:ea typeface="宋体"/>
              </a:rPr>
              <a:t>相同吗</a:t>
            </a:r>
            <a:r>
              <a:rPr b="1" lang="en-US" sz="3200" spc="-1" strike="noStrike">
                <a:solidFill>
                  <a:srgbClr val="003b39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6" name="TextBox 2"/>
          <p:cNvSpPr/>
          <p:nvPr/>
        </p:nvSpPr>
        <p:spPr>
          <a:xfrm>
            <a:off x="1476360" y="549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7" name="TextBox 2"/>
          <p:cNvSpPr/>
          <p:nvPr/>
        </p:nvSpPr>
        <p:spPr>
          <a:xfrm>
            <a:off x="1476360" y="306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8" name="TextBox 3"/>
          <p:cNvSpPr/>
          <p:nvPr/>
        </p:nvSpPr>
        <p:spPr>
          <a:xfrm>
            <a:off x="6959520" y="35082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4032360" y="428940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体或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2359080" y="33955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竖直向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4586400" y="1413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82" name="TextBox 1"/>
          <p:cNvSpPr/>
          <p:nvPr/>
        </p:nvSpPr>
        <p:spPr>
          <a:xfrm>
            <a:off x="554040" y="692280"/>
            <a:ext cx="403236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何用弹簧测力计测量物体浸没在水中所受的浮力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如果用测力计测出铜块重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1N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，将铜块没入水中，测力计的示数变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0.8N,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铜块受到的浮力是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。总结为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40c"/>
                </a:solidFill>
                <a:latin typeface="Arial"/>
              </a:rPr>
              <a:t>秤重法测浮力：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F</a:t>
            </a:r>
            <a:r>
              <a:rPr b="1" lang="zh-CN" sz="3200" spc="-1" strike="noStrike" baseline="-25000">
                <a:solidFill>
                  <a:srgbClr val="00040c"/>
                </a:solidFill>
                <a:latin typeface="Arial"/>
              </a:rPr>
              <a:t>浮</a:t>
            </a:r>
            <a:r>
              <a:rPr b="0" lang="en-US" sz="3200" spc="-1" strike="noStrike">
                <a:solidFill>
                  <a:srgbClr val="00040c"/>
                </a:solidFill>
                <a:latin typeface="Arial"/>
              </a:rPr>
              <a:t>=G  </a:t>
            </a:r>
            <a:r>
              <a:rPr b="1" lang="en-US" sz="3200" spc="-1" strike="noStrike">
                <a:solidFill>
                  <a:srgbClr val="00040c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40c"/>
                </a:solidFill>
                <a:uFillTx/>
                <a:latin typeface="Arial"/>
              </a:rPr>
              <a:t>    </a:t>
            </a:r>
            <a:r>
              <a:rPr b="1" lang="en-US" sz="3200" spc="-1" strike="noStrike" u="sng" baseline="-25000">
                <a:solidFill>
                  <a:srgbClr val="00040c"/>
                </a:solidFill>
                <a:uFillTx/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3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、自学质疑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2495520" y="4070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5" name="TextBox 2"/>
          <p:cNvSpPr/>
          <p:nvPr/>
        </p:nvSpPr>
        <p:spPr>
          <a:xfrm>
            <a:off x="2027160" y="5010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1"/>
          <p:cNvSpPr/>
          <p:nvPr/>
        </p:nvSpPr>
        <p:spPr>
          <a:xfrm>
            <a:off x="611280" y="98100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浮力产生的原因：浸在液体中的物体下表面受到液体对它向上的压力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液体对它上表面向下的压力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＜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。这个向上和向下的</a:t>
            </a:r>
            <a:r>
              <a:rPr b="1" lang="en-US" sz="3600" spc="-1" strike="noStrike" u="sng">
                <a:solidFill>
                  <a:srgbClr val="00040c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40c"/>
                </a:solidFill>
                <a:latin typeface="Arial"/>
              </a:rPr>
              <a:t>是浮力</a:t>
            </a:r>
            <a:r>
              <a:rPr b="1" lang="en-US" sz="3600" spc="-1" strike="noStrike">
                <a:solidFill>
                  <a:srgbClr val="00040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7" name="TextBox 2"/>
          <p:cNvSpPr/>
          <p:nvPr/>
        </p:nvSpPr>
        <p:spPr>
          <a:xfrm>
            <a:off x="205092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学质疑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988" name="直接箭头连接符 3"/>
          <p:cNvCxnSpPr/>
          <p:nvPr/>
        </p:nvCxnSpPr>
        <p:spPr>
          <a:xfrm>
            <a:off x="5003280" y="4220640"/>
            <a:ext cx="864360" cy="1080"/>
          </a:xfrm>
          <a:prstGeom prst="straightConnector1">
            <a:avLst/>
          </a:prstGeom>
          <a:ln w="9360">
            <a:solidFill>
              <a:srgbClr val="c6e7fb"/>
            </a:solidFill>
            <a:round/>
            <a:tailEnd len="med" type="arrow" w="med"/>
          </a:ln>
        </p:spPr>
      </p:cxnSp>
      <p:cxnSp>
        <p:nvCxnSpPr>
          <p:cNvPr id="989" name="直接箭头连接符 5"/>
          <p:cNvCxnSpPr/>
          <p:nvPr/>
        </p:nvCxnSpPr>
        <p:spPr>
          <a:xfrm>
            <a:off x="5003280" y="4652640"/>
            <a:ext cx="864360" cy="1080"/>
          </a:xfrm>
          <a:prstGeom prst="straightConnector1">
            <a:avLst/>
          </a:prstGeom>
          <a:ln w="9360">
            <a:solidFill>
              <a:srgbClr val="c6e7fb"/>
            </a:solidFill>
            <a:round/>
            <a:tailEnd len="med" type="arrow" w="med"/>
          </a:ln>
        </p:spPr>
      </p:cxnSp>
      <p:pic>
        <p:nvPicPr>
          <p:cNvPr id="990" name="Picture 4" descr=""/>
          <p:cNvPicPr/>
          <p:nvPr/>
        </p:nvPicPr>
        <p:blipFill>
          <a:blip r:embed="rId1"/>
          <a:stretch/>
        </p:blipFill>
        <p:spPr>
          <a:xfrm>
            <a:off x="5051520" y="3716280"/>
            <a:ext cx="3825720" cy="2870280"/>
          </a:xfrm>
          <a:prstGeom prst="rect">
            <a:avLst/>
          </a:prstGeom>
          <a:ln w="0">
            <a:noFill/>
          </a:ln>
        </p:spPr>
      </p:pic>
      <p:sp>
        <p:nvSpPr>
          <p:cNvPr id="991" name="右箭头 7"/>
          <p:cNvSpPr/>
          <p:nvPr/>
        </p:nvSpPr>
        <p:spPr>
          <a:xfrm>
            <a:off x="5219640" y="4967280"/>
            <a:ext cx="792360" cy="4608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ccecff"/>
          </a:solidFill>
          <a:ln w="25560">
            <a:solidFill>
              <a:srgbClr val="95a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右箭头 13"/>
          <p:cNvSpPr/>
          <p:nvPr/>
        </p:nvSpPr>
        <p:spPr>
          <a:xfrm flipH="1" flipV="1">
            <a:off x="7740720" y="4941720"/>
            <a:ext cx="792000" cy="4608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ccecff"/>
          </a:solidFill>
          <a:ln w="25560">
            <a:solidFill>
              <a:srgbClr val="95a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Box 1"/>
          <p:cNvSpPr/>
          <p:nvPr/>
        </p:nvSpPr>
        <p:spPr>
          <a:xfrm>
            <a:off x="7308720" y="162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TextBox 2"/>
          <p:cNvSpPr/>
          <p:nvPr/>
        </p:nvSpPr>
        <p:spPr>
          <a:xfrm>
            <a:off x="4067280" y="270828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压力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5:4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12Z</dcterms:modified>
  <cp:revision>1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