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52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0B9E-E4A6-43AB-83C1-6F6FE54C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23E8-099A-4E74-82FC-F6FC0FE4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82F7-F1A2-4119-8CE1-03F9BEB9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3828-3323-4696-8E6A-2D98BA66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9F99-6695-48ED-BEAB-79FBCF42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4725-F50A-4A8A-AE6C-A2A374F0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F426-54E5-470E-B2DA-3B63B172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392C-B277-4822-95EC-3CC81BCD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5012-1783-4C8A-9522-17D28920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E729-2DFA-487A-9FF1-AC45E0D0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F95D-170C-4435-94F6-6FF643B0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294D-CCBF-4A91-A625-18086424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9ADB-72E0-48C4-833A-47B11D24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CE8A-7F17-4504-A234-6F685A95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B322-154B-4003-B05E-A29FB52C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272D-E61A-4D75-AB2A-E21B684D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67B0-C2C8-43EA-9BF4-4602BAA7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4AD4-1550-4A53-942B-41D23538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F241-5491-48C4-90E8-26C9AE21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64E4-6104-4107-8618-2817975B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BBBF-F533-4C4E-B5A5-81B7FC14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9C49-8862-4E9E-B8A7-41FDF9DC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AB42-92C2-4259-9C67-79515C99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8FA0-F80B-4B6D-A06C-34EE1ECF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F7C4-BF9B-45FC-A2B1-EFB04CD48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847C-AFA0-4137-A1E6-91C91CF0987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880920" y="1773360"/>
            <a:ext cx="714852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告别贫困奔小康课件</a:t>
            </a:r>
            <a:r>
              <a:rPr b="1" i="1" lang="en-US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PPT</a:t>
            </a:r>
            <a:r>
              <a:rPr b="1" i="1" lang="zh-CN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免费下载</a:t>
            </a:r>
            <a:endParaRPr b="1" i="1" lang="en-US" sz="40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72776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272776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5"/>
          <p:cNvSpPr txBox="1"/>
          <p:nvPr/>
        </p:nvSpPr>
        <p:spPr>
          <a:xfrm>
            <a:off x="611280" y="193680"/>
            <a:ext cx="187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过去</a:t>
            </a:r>
            <a:endParaRPr b="1" lang="en-US" sz="4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30200" y="1844640"/>
            <a:ext cx="82090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72776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8f18b4"/>
                </a:solidFill>
                <a:latin typeface="楷体_GB2312"/>
                <a:ea typeface="楷体_GB2312"/>
              </a:rPr>
              <a:t>一块棉花糖就能使人高兴半天，一条胡同里只有</a:t>
            </a:r>
            <a:r>
              <a:rPr b="0" lang="en-US" sz="3200" spc="-1" strike="noStrike">
                <a:solidFill>
                  <a:srgbClr val="8f18b4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8f18b4"/>
                </a:solidFill>
                <a:latin typeface="楷体_GB2312"/>
                <a:ea typeface="楷体_GB2312"/>
              </a:rPr>
              <a:t>台的黑白电视成了连接邻里的纽带，小学生的一朵小红花能让家长孩子都脸上有光。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f18b4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8f18b4"/>
                </a:solidFill>
                <a:latin typeface="楷体_GB2312"/>
                <a:ea typeface="楷体_GB2312"/>
              </a:rPr>
              <a:t>家徒四壁，墙壁上糊的是纸，屋里地上那是没有砖的，土地，一下雨就泥泞的不行。吃的高梁米饭加咸菜，偶尔吃顿炒土豆丝那就简直太不错了。孩子们可怜的捡到街上的烂水果，还要好的那部分吃掉</a:t>
            </a:r>
            <a:r>
              <a:rPr b="0" lang="zh-CN" sz="3200" spc="-1" strike="noStrike">
                <a:solidFill>
                  <a:srgbClr val="ccccff"/>
                </a:solidFill>
                <a:latin typeface="楷体_GB2312"/>
                <a:ea typeface="楷体_GB2312"/>
              </a:rPr>
              <a:t>。</a:t>
            </a:r>
            <a:r>
              <a:rPr b="0" lang="zh-CN" sz="36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     </a:t>
            </a:r>
            <a:endParaRPr b="0" lang="en-US" sz="36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60020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72776"/>
                </a:solidFill>
                <a:latin typeface="Century Gothic"/>
              </a:rPr>
              <a:t>    </a:t>
            </a:r>
            <a:r>
              <a:rPr b="0" lang="zh-CN" sz="4000" spc="-1" strike="noStrike">
                <a:solidFill>
                  <a:srgbClr val="272776"/>
                </a:solidFill>
                <a:latin typeface="Century Gothic"/>
              </a:rPr>
              <a:t>红薯面窝窝、玉米面窝窝头、饸饹、捞水饭、小米粥、面条、土豆、白菜。 </a:t>
            </a:r>
            <a:endParaRPr b="0" lang="en-US" sz="40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539640" y="404640"/>
            <a:ext cx="1008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食品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1" name="Picture 9" descr="bki-20120202182537-1326124786"/>
          <p:cNvPicPr/>
          <p:nvPr/>
        </p:nvPicPr>
        <p:blipFill>
          <a:blip r:embed="rId4"/>
          <a:stretch/>
        </p:blipFill>
        <p:spPr>
          <a:xfrm>
            <a:off x="4067280" y="2781360"/>
            <a:ext cx="450036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79280" y="1557000"/>
            <a:ext cx="5051520" cy="57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72776"/>
                </a:solidFill>
                <a:latin typeface="Century Gothic"/>
              </a:rPr>
              <a:t>    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上了发条会走的铁皮动物玩具；各种各样的铁皮汽车；弹珠；各种人公卡片和恐龙卡片（方便面里有携带）；弹弓；用白糖制作的棉花糖（那时候路边才有人制作，把白糖放进一个机器里然后看到一条条的白线飞出来，用棍子不停的绕就成了）；士兵小玩偶（都是整套整套的）；各种恐龙的模型玩具；陀螺；玩具水枪；还有一种是上面是螺旋浆，下面插有根棍，用双手撮下面的棍子就会飞起来。 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684360" y="620640"/>
            <a:ext cx="1152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玩具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5" name="Picture 5" descr="u=366242829,681840503&amp;fm=23&amp;gp=0"/>
          <p:cNvPicPr/>
          <p:nvPr/>
        </p:nvPicPr>
        <p:blipFill>
          <a:blip r:embed="rId4"/>
          <a:stretch/>
        </p:blipFill>
        <p:spPr>
          <a:xfrm>
            <a:off x="3995640" y="1413000"/>
            <a:ext cx="4392720" cy="3744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u=897991877,3416207310&amp;fm=52&amp;gp=0"/>
          <p:cNvPicPr/>
          <p:nvPr/>
        </p:nvPicPr>
        <p:blipFill>
          <a:blip r:embed="rId5"/>
          <a:stretch/>
        </p:blipFill>
        <p:spPr>
          <a:xfrm>
            <a:off x="4140360" y="1700280"/>
            <a:ext cx="4032000" cy="3024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u=2496547595,1848549753&amp;fm=23&amp;gp=0"/>
          <p:cNvPicPr/>
          <p:nvPr/>
        </p:nvPicPr>
        <p:blipFill>
          <a:blip r:embed="rId6"/>
          <a:stretch/>
        </p:blipFill>
        <p:spPr>
          <a:xfrm>
            <a:off x="4140360" y="1700280"/>
            <a:ext cx="388908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衣服基本都是白色，奶白，灰色，奶灰，黑色，粉色等纯色，妈妈或者老一辈的就每个晚上在那豆大的煤油灯下做衣服。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Century Gothic"/>
              </a:rPr>
              <a:t>比较流行的是中山装，年轻人经常穿喇叭型的牛仔裤。没有什么名贵的材料，都是粗布，衣服上有几个印花或花边都算好的。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0" name="WordArt 4"/>
          <p:cNvSpPr txBox="1"/>
          <p:nvPr/>
        </p:nvSpPr>
        <p:spPr>
          <a:xfrm>
            <a:off x="611280" y="476280"/>
            <a:ext cx="11509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衣服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1" name="Picture 5" descr="6a3d28b767c0fad630add121"/>
          <p:cNvPicPr/>
          <p:nvPr/>
        </p:nvPicPr>
        <p:blipFill>
          <a:blip r:embed="rId4"/>
          <a:stretch/>
        </p:blipFill>
        <p:spPr>
          <a:xfrm>
            <a:off x="971640" y="1268280"/>
            <a:ext cx="684036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    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大多数都是单位分的房，能有一室一厅一卫的已经算很不错了，干部分的房能大一点，有的平民都没有地方住。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    </a:t>
            </a: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60——80</a:t>
            </a:r>
            <a:r>
              <a:rPr b="0" lang="zh-CN" sz="2800" spc="-1" strike="noStrike">
                <a:solidFill>
                  <a:srgbClr val="272776"/>
                </a:solidFill>
                <a:latin typeface="Century Gothic"/>
              </a:rPr>
              <a:t>年代大多数出行都是自行车，许多人连公交车都坐不起，有汽车的更是少而又少。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  <p:pic>
        <p:nvPicPr>
          <p:cNvPr id="164" name="WordArt 5" descr=""/>
          <p:cNvPicPr/>
          <p:nvPr/>
        </p:nvPicPr>
        <p:blipFill>
          <a:blip r:embed="rId2"/>
          <a:stretch/>
        </p:blipFill>
        <p:spPr>
          <a:xfrm>
            <a:off x="419040" y="-272880"/>
            <a:ext cx="2532240" cy="2477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u=4017383464,4057361131&amp;fm=52&amp;gp=0"/>
          <p:cNvPicPr/>
          <p:nvPr/>
        </p:nvPicPr>
        <p:blipFill>
          <a:blip r:embed="rId3"/>
          <a:stretch/>
        </p:blipFill>
        <p:spPr>
          <a:xfrm>
            <a:off x="4788000" y="2421000"/>
            <a:ext cx="4032000" cy="302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u=1403762066,3853527043&amp;fm=52&amp;gp=0"/>
          <p:cNvPicPr/>
          <p:nvPr/>
        </p:nvPicPr>
        <p:blipFill>
          <a:blip r:embed="rId4"/>
          <a:stretch/>
        </p:blipFill>
        <p:spPr>
          <a:xfrm>
            <a:off x="3276720" y="2205000"/>
            <a:ext cx="5440320" cy="3808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u=3779194938,1477126259&amp;fm=3&amp;gp=0"/>
          <p:cNvPicPr/>
          <p:nvPr/>
        </p:nvPicPr>
        <p:blipFill>
          <a:blip r:embed="rId5"/>
          <a:stretch/>
        </p:blipFill>
        <p:spPr>
          <a:xfrm>
            <a:off x="3780000" y="2060640"/>
            <a:ext cx="4444920" cy="3378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u=2701459963,3096194351&amp;fm=23&amp;gp=0"/>
          <p:cNvPicPr/>
          <p:nvPr/>
        </p:nvPicPr>
        <p:blipFill>
          <a:blip r:embed="rId6"/>
          <a:stretch/>
        </p:blipFill>
        <p:spPr>
          <a:xfrm>
            <a:off x="3635280" y="2205000"/>
            <a:ext cx="46656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1" name="WordArt 4"/>
          <p:cNvSpPr txBox="1"/>
          <p:nvPr/>
        </p:nvSpPr>
        <p:spPr>
          <a:xfrm>
            <a:off x="468360" y="476280"/>
            <a:ext cx="1828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生活用品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2" name="Picture 6" descr="u=2371755897,813445641&amp;fm=23&amp;gp=0"/>
          <p:cNvPicPr/>
          <p:nvPr/>
        </p:nvPicPr>
        <p:blipFill>
          <a:blip r:embed="rId4"/>
          <a:stretch/>
        </p:blipFill>
        <p:spPr>
          <a:xfrm>
            <a:off x="1763640" y="1989000"/>
            <a:ext cx="5256360" cy="3934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u=600172347,68752776&amp;fm=23&amp;gp=0"/>
          <p:cNvPicPr/>
          <p:nvPr/>
        </p:nvPicPr>
        <p:blipFill>
          <a:blip r:embed="rId5"/>
          <a:stretch/>
        </p:blipFill>
        <p:spPr>
          <a:xfrm>
            <a:off x="1908000" y="1844640"/>
            <a:ext cx="5185080" cy="3436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u=2253993155,3947995746&amp;fm=23&amp;gp=0"/>
          <p:cNvPicPr/>
          <p:nvPr/>
        </p:nvPicPr>
        <p:blipFill>
          <a:blip r:embed="rId6"/>
          <a:stretch/>
        </p:blipFill>
        <p:spPr>
          <a:xfrm>
            <a:off x="684360" y="1197000"/>
            <a:ext cx="591480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19fc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19fcf"/>
                </a:solidFill>
                <a:latin typeface="楷体_GB2312"/>
                <a:ea typeface="楷体_GB2312"/>
              </a:rPr>
              <a:t>请大家默读</a:t>
            </a:r>
            <a:r>
              <a:rPr b="1" lang="en-US" sz="4000" spc="-1" strike="noStrike">
                <a:solidFill>
                  <a:srgbClr val="519fcf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519fcf"/>
                </a:solidFill>
                <a:latin typeface="楷体_GB2312"/>
                <a:ea typeface="楷体_GB2312"/>
              </a:rPr>
              <a:t>两代人的账本 两种生活的滋味</a:t>
            </a:r>
            <a:r>
              <a:rPr b="1" lang="en-US" sz="4000" spc="-1" strike="noStrike">
                <a:solidFill>
                  <a:srgbClr val="519fcf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519fcf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19fc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19fc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519fcf"/>
                </a:solidFill>
                <a:latin typeface="楷体_GB2312"/>
                <a:ea typeface="楷体_GB2312"/>
              </a:rPr>
              <a:t>谈谈你看了这篇报道的感受</a:t>
            </a:r>
            <a:endParaRPr b="0" lang="en-US" sz="40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19fc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19fc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519fcf"/>
                </a:solidFill>
                <a:latin typeface="楷体_GB2312"/>
                <a:ea typeface="楷体_GB2312"/>
              </a:rPr>
              <a:t>分析下为什么会有这样的变化</a:t>
            </a:r>
            <a:endParaRPr b="0" lang="en-US" sz="40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19fc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19fcf"/>
                </a:solidFill>
                <a:latin typeface="楷体_GB2312"/>
                <a:ea typeface="楷体_GB2312"/>
              </a:rPr>
              <a:t>下面请一位同学来阅读我国居民消费水平的变化。</a:t>
            </a:r>
            <a:endParaRPr b="0" lang="en-US" sz="40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7" name="Rectangle 5"/>
          <p:cNvSpPr/>
          <p:nvPr/>
        </p:nvSpPr>
        <p:spPr>
          <a:xfrm flipH="1">
            <a:off x="970920" y="299736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272776"/>
                </a:solidFill>
                <a:latin typeface="Arial"/>
              </a:rPr>
              <a:t>？</a:t>
            </a:r>
            <a:endParaRPr b="0" lang="en-US" sz="96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</a:rPr>
              <a:t>       </a:t>
            </a:r>
            <a:r>
              <a:rPr b="1" i="1" lang="zh-CN" sz="36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根据</a:t>
            </a:r>
            <a:r>
              <a:rPr b="1" i="1" lang="en-US" sz="36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2004</a:t>
            </a:r>
            <a:r>
              <a:rPr b="1" i="1" lang="zh-CN" sz="36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年国家统计局的统计，</a:t>
            </a:r>
            <a:r>
              <a:rPr b="1" i="1" lang="en-US" sz="36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2003</a:t>
            </a:r>
            <a:r>
              <a:rPr b="1" i="1" lang="zh-CN" sz="36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年每人每年消费水平比</a:t>
            </a:r>
            <a:r>
              <a:rPr b="1" i="1" lang="en-US" sz="36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1952</a:t>
            </a:r>
            <a:r>
              <a:rPr b="1" i="1" lang="zh-CN" sz="36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年实际提高了</a:t>
            </a:r>
            <a:r>
              <a:rPr b="1" i="1" lang="en-US" sz="36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53</a:t>
            </a:r>
            <a:r>
              <a:rPr b="1" i="1" lang="zh-CN" sz="36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倍多。人们对消费品的购买从二十世纪五六十年代的</a:t>
            </a:r>
            <a:r>
              <a:rPr b="1" i="1" lang="zh-CN" sz="3600" spc="-1" strike="noStrike">
                <a:solidFill>
                  <a:srgbClr val="272776"/>
                </a:solidFill>
                <a:latin typeface="Century Gothic"/>
                <a:ea typeface="楷体_GB2312"/>
              </a:rPr>
              <a:t>“</a:t>
            </a:r>
            <a:r>
              <a:rPr b="1" i="1" lang="zh-CN" sz="36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老四件</a:t>
            </a:r>
            <a:r>
              <a:rPr b="1" i="1" lang="zh-CN" sz="3600" spc="-1" strike="noStrike">
                <a:solidFill>
                  <a:srgbClr val="272776"/>
                </a:solidFill>
                <a:latin typeface="Century Gothic"/>
                <a:ea typeface="楷体_GB2312"/>
              </a:rPr>
              <a:t>”</a:t>
            </a:r>
            <a:r>
              <a:rPr b="1" i="1" lang="zh-CN" sz="36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自行车，手表，缝纫机，收音机，八十年代的</a:t>
            </a:r>
            <a:r>
              <a:rPr b="1" i="1" lang="zh-CN" sz="3600" spc="-1" strike="noStrike">
                <a:solidFill>
                  <a:srgbClr val="272776"/>
                </a:solidFill>
                <a:latin typeface="Century Gothic"/>
                <a:ea typeface="楷体_GB2312"/>
              </a:rPr>
              <a:t>“</a:t>
            </a:r>
            <a:r>
              <a:rPr b="1" i="1" lang="zh-CN" sz="36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新三件</a:t>
            </a:r>
            <a:r>
              <a:rPr b="1" i="1" lang="zh-CN" sz="3600" spc="-1" strike="noStrike">
                <a:solidFill>
                  <a:srgbClr val="272776"/>
                </a:solidFill>
                <a:latin typeface="Century Gothic"/>
                <a:ea typeface="楷体_GB2312"/>
              </a:rPr>
              <a:t>”</a:t>
            </a:r>
            <a:r>
              <a:rPr b="1" i="1" lang="zh-CN" sz="36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电视机，洗衣机，电冰箱。到九十年代的电脑，小汽车，商品房，消费档次有了极大的提高。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9933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请同学们完成下列表格并进行小组讨论</a:t>
            </a:r>
            <a:r>
              <a:rPr b="0" lang="en-US" sz="48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.</a:t>
            </a:r>
            <a:endParaRPr b="0" lang="en-US" sz="4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2484360" y="549360"/>
            <a:ext cx="3908520" cy="18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小记者在行动</a:t>
            </a:r>
            <a:endParaRPr b="0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68360" y="134136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72776"/>
                </a:solidFill>
                <a:latin typeface="Century Gothic"/>
              </a:rPr>
              <a:t>    </a:t>
            </a:r>
            <a:r>
              <a:rPr b="1" i="1" lang="zh-CN" sz="32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一日，走在上海虹桥开发区前的天山路上，在陈旧的工房住宅楼下的街边，两个老太在互打招呼。其中一个手里端了一口小铝锅，铝锅看上去已经有年头了，换了底，盖上有一些瘪塘。这老太对那老太说，烧泡饭时不当心烧焦了锅底，她正要去那边工地上，问人要一些黄沙来擦一擦。两个老人说着话，她们身后是开发区林立的高楼。新型的光洁的建筑材料，以及抽象和理性的楼体线条，就像一面巨大的现代戏剧的天幕。这两个老人则是生动的，她们过着具体而仔细的生活，那是过去的生活。 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2916360" y="260280"/>
            <a:ext cx="228600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过去的生活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9640" y="227628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72776"/>
                </a:solidFill>
                <a:latin typeface="Century Gothic"/>
                <a:ea typeface="楷体_GB2312"/>
              </a:rPr>
              <a:t>随着经济的发展，人们的生活也在不断改善，真是“芝麻开花节节高”。你听说过以前买东西还需要多种票证吗？去问问爷爷、奶奶、爸爸、妈妈，他们一定会给你讲出许多有关票证的故事。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757600" y="1197000"/>
            <a:ext cx="331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走出紧缺的年代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59920"/>
            <a:ext cx="8229600" cy="74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那时候，生活其实是相当细致的，什么都是从长计议。在夏末秋初，豇豆老了，即将落市，价格也跟着下来了。于是，勤劳的主妇便购来一篮篮的豇豆，捡好，洗净。然后，用针穿一条长线，将豇豆一条一条穿起来，晾起来，晒干。冬天就好烧肉吃了。用过的线呢，清水里淘一淘，理顺，收好，来年晒豇豆时好再用。缝被子的线，也是横的竖的量准再剪断，缝到头正好。拆洗被子时，一针一针抽出来，理顺，洗净，晒干，再缝上。农人插秧拉秧行的线，就更要收好了，是一年之计，可传几代人的。电影院大多没有空调，可是供有纸扇，放在检票口的木箱里。进去时，拾一把，出来时，再扔回去，下一场的人好再用。这种生活养育着人生的希望，今年过了有明年，明年过了还有后年，一点不是得过且过。不像今天，四处是一次性的用具，用过了事，今天过了，明天就不过了。这样的短期行为，挥霍资源不说，还挥霍生活的兴致，多少带着些</a:t>
            </a:r>
            <a:r>
              <a:rPr b="1" i="1" lang="zh-CN" sz="2800" spc="-1" strike="noStrike">
                <a:solidFill>
                  <a:srgbClr val="272776"/>
                </a:solidFill>
                <a:latin typeface="Century Gothic"/>
                <a:ea typeface="楷体_GB2312"/>
              </a:rPr>
              <a:t>“</a:t>
            </a:r>
            <a:r>
              <a:rPr b="1" i="1" lang="zh-CN" sz="28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混</a:t>
            </a:r>
            <a:r>
              <a:rPr b="1" i="1" lang="zh-CN" sz="2800" spc="-1" strike="noStrike">
                <a:solidFill>
                  <a:srgbClr val="272776"/>
                </a:solidFill>
                <a:latin typeface="Century Gothic"/>
                <a:ea typeface="楷体_GB2312"/>
              </a:rPr>
              <a:t>”</a:t>
            </a:r>
            <a:r>
              <a:rPr b="1" i="1" lang="zh-CN" sz="28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。 </a:t>
            </a:r>
            <a:br>
              <a:rPr sz="2800"/>
            </a:br>
            <a:r>
              <a:rPr b="1" i="1" lang="zh-CN" sz="2800" spc="-1" strike="noStrike">
                <a:solidFill>
                  <a:srgbClr val="272776"/>
                </a:solidFill>
                <a:latin typeface="楷体_GB2312"/>
              </a:rPr>
              <a:t> 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333000"/>
            <a:ext cx="8229600" cy="77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2776"/>
                </a:solidFill>
                <a:latin typeface="Century Gothic"/>
              </a:rPr>
              <a:t>    </a:t>
            </a:r>
            <a:r>
              <a:rPr b="1" i="1" lang="zh-CN" sz="2800" spc="-1" strike="noStrike">
                <a:solidFill>
                  <a:srgbClr val="272776"/>
                </a:solidFill>
                <a:latin typeface="Century Gothic"/>
                <a:ea typeface="楷体_GB2312"/>
              </a:rPr>
              <a:t>梅雨季节时，满目的花尼龙伞，却大多是残败的。或是伞骨折了，或是伞面脱落下来，翻了一半边上去，雨水从不吃水的化纤布面上倾泻而下，伞又多半很小，柄也短，人缩在里面躲雨。过去，伞没有现在那么鲜艳好看，也没那么多的花样：两折、三折，又有自动的机关，“哗啦”一声张开来。那时的伞，多是黑的布伞，或者蜡黄的油布伞，大而且坚固，雨打下来，那声音也是结实的，啪、啪、啪。有一种油纸伞，比较有色彩，却也比较脆弱，不小心就会戳一个洞。但是油纸伞的木伞骨子排得很细密，并且那时候的人，用东西都很爱惜。不像现在的人，东西不当东西。那时候，人们用过了伞，都要撑开了阴干，再收起来。木伞骨子和伞柄渐渐地，就像上了油，越用久越结实。铁伞骨子，也绝不会生锈。伞面倘若破了，就会找修伞的工匠来补。他们都有一双巧手，补得服服帖帖，平平整整。撑出去，又是一把遮风避雨的好伞。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0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7277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那时候，工匠也多，还有补碗的呢</a:t>
            </a:r>
            <a:r>
              <a:rPr b="1" i="1" lang="en-US" sz="32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!</a:t>
            </a:r>
            <a:r>
              <a:rPr b="1" i="1" lang="zh-CN" sz="32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有碎了的碗，只要不是碎成渣，他就有本事对上茬口，再打上一排钉，一点不漏的。今天的人听起来就要以为是神话了。小孩子玩的皮球破了，也能找皮匠补的。藤椅，藤榻，甚至淘箩坏了，是找篾匠补。有多少好手艺人啊</a:t>
            </a:r>
            <a:r>
              <a:rPr b="1" i="1" lang="en-US" sz="32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!</a:t>
            </a:r>
            <a:r>
              <a:rPr b="1" i="1" lang="zh-CN" sz="32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现在全都没了。结果是，废品堆积成山。现在的生活其实是要粗糙得多，大量的物质被匆忙地吞吐着。而那时候的生活，是细嚼慢咽。</a:t>
            </a: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 </a:t>
            </a:r>
            <a:br>
              <a:rPr sz="1800"/>
            </a:b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7277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那时候，吃是有限制的。家境好的人家，大排骨也是每顿一人一块。一条鱼，要吃一家子。那时，吃一只鸡是大事情，简直带有隆重的气氛。现在鸡是多了，从传送带上啄食人工饲料，没练过腿脚，肉是松散的，味同嚼蜡。那时候，一块豆腐，都是用卤水点的。绿豆芽吃起来很费工，一根一根摘去根须。现在的绿豆芽却没有根须，而且肥胖，吃起来口感也不错，就是不像绿豆芽。现在的东西多是多了，好像都会繁殖，东西生东西，无限地多下去。可是，其实，好东西还是那么些，要想多，只能稀释了。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7277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这晚，去一家常去的饭店吃晚饭，因有事，只要了两碗冷面。其时，生意正旺。老板和伙计上上下下地跑，送上活蛇活鱼给客人检验，复又回去，过一时，就端上了滚热的鱼虾蛇鳖。就是不给你上冷面，死活催也不上，生生打发走人。现在的生意也是如此，做的是一锤子买卖。不像更远的过去，客人来一回，就面熟了，下一回，已经与你拉起了家常。店家靠的是回头客，这才是天长日久的生意之道。不像现在，今天做过了，明天就关门，后天，连个影子都不见了。生活，变得没什么指望。 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7277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f18b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8f18b4"/>
                </a:solidFill>
                <a:latin typeface="Century Gothic"/>
                <a:ea typeface="楷体_GB2312"/>
              </a:rPr>
              <a:t>物质生活条件改善了，人们对生活的要求也在发生着变化，不仅仅是吃饱穿好，还要生活得健康、愉快，丰富多彩。什么是小康生活呢？我们每个人都会有各自不同的理解，而发生在我们身边一点一滴的生活变化，却是实实在在的。</a:t>
            </a:r>
            <a:endParaRPr b="0" lang="en-US" sz="40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5" name="WordArt 4"/>
          <p:cNvSpPr txBox="1"/>
          <p:nvPr/>
        </p:nvSpPr>
        <p:spPr>
          <a:xfrm>
            <a:off x="2700360" y="598320"/>
            <a:ext cx="3476520" cy="92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ln w="0">
                  <a:noFill/>
                </a:ln>
                <a:solidFill>
                  <a:srgbClr val="ffff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向小康迈进</a:t>
            </a:r>
            <a:endParaRPr b="1" i="1" lang="en-US" sz="5400" spc="-1" strike="noStrike">
              <a:ln w="0">
                <a:noFill/>
              </a:ln>
              <a:solidFill>
                <a:srgbClr val="ffff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72776"/>
                </a:solidFill>
                <a:latin typeface="Century Gothic"/>
              </a:rPr>
              <a:t>同学们觉得什么是小康生活？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72776"/>
                </a:solidFill>
                <a:latin typeface="Century Gothic"/>
              </a:rPr>
              <a:t>你心目中小康生活又是什么样的呢？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8" name="文本框 8200"/>
          <p:cNvSpPr/>
          <p:nvPr/>
        </p:nvSpPr>
        <p:spPr>
          <a:xfrm>
            <a:off x="965160" y="23781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272776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27277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826920" y="2349360"/>
            <a:ext cx="734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1982</a:t>
            </a:r>
            <a:r>
              <a:rPr b="0" lang="zh-CN" sz="1800" spc="-1" strike="noStrike">
                <a:solidFill>
                  <a:srgbClr val="272776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272776"/>
                </a:solidFill>
                <a:latin typeface="Arial"/>
              </a:rPr>
              <a:t>月，党的十二大召开。制定了我国经济建设到本世纪末的奋斗目标：从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1981</a:t>
            </a:r>
            <a:r>
              <a:rPr b="0" lang="zh-CN" sz="1800" spc="-1" strike="noStrike">
                <a:solidFill>
                  <a:srgbClr val="272776"/>
                </a:solidFill>
                <a:latin typeface="Arial"/>
              </a:rPr>
              <a:t>年到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2000</a:t>
            </a:r>
            <a:r>
              <a:rPr b="0" lang="zh-CN" sz="1800" spc="-1" strike="noStrike">
                <a:solidFill>
                  <a:srgbClr val="272776"/>
                </a:solidFill>
                <a:latin typeface="Arial"/>
              </a:rPr>
              <a:t>年国民生产总值翻两番，人民生活水平达到小康水平。从此，“小康”，一词了国人生活中使用频率最高的词之一。那么，什么是中国的小康水平呢，什么是小康标准呢？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272776"/>
                </a:solidFill>
                <a:latin typeface="Arial"/>
              </a:rPr>
              <a:t>概括地说。小康是指人们在摆脱贫困解决温饱之后。“无饥无寒”的生活状况，是富裕生活的基础和起点。从我国的国情和现实水平出发，有关部门和人士对我国的小康标准进行了科学地制定。其主要内容包括；</a:t>
            </a:r>
            <a:br>
              <a:rPr sz="1800"/>
            </a:b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（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1</a:t>
            </a: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）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1990</a:t>
            </a: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年价格计算，人均国民（内）生产总值为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2500</a:t>
            </a: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元（按 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1980</a:t>
            </a: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年价格和汇率计算，人均国民（内）生产总值跨过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900</a:t>
            </a: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美元）。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（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2</a:t>
            </a: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）按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1990</a:t>
            </a: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年价格计算，城镇居民人均生活费收入为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2400</a:t>
            </a: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元，农村居民人均纯收入为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1200</a:t>
            </a: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元。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（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3</a:t>
            </a: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）根据小康阶段的生活要求，结合现实的生活条件，城镇居民人均居住面积定为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8</a:t>
            </a: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平方米，住房成套率有显著提高。农村要着力提高住房质量，人均钢筋砖木结构住房面积达到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15</a:t>
            </a: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平方米。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（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4</a:t>
            </a: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）人均每日主要营养供给量达到世界平均水平，人均蛋白质摄入量为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72</a:t>
            </a: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克。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（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5</a:t>
            </a: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）城市居民人均拥有铺装道路面积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8</a:t>
            </a: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平方米，同时提高路面标准和质量；农村通公路的行政村比重达到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85</a:t>
            </a: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％以上。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（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6</a:t>
            </a: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）成人识字率达到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90</a:t>
            </a: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％，超过美国社会学家提出的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80</a:t>
            </a: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％的现代化标准；青壮年文盲基本扫除。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（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7</a:t>
            </a: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）教育、文化，娱乐支出比重达到 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16</a:t>
            </a: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％。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（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8</a:t>
            </a: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）森林覆盖率达到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15.9</a:t>
            </a: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％。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（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9</a:t>
            </a: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）农村安全卫生饮用水普及率达到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85</a:t>
            </a: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％。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（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10</a:t>
            </a: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）每千人拥有病床数达</a:t>
            </a:r>
            <a:r>
              <a:rPr b="0" lang="en-US" sz="1800" spc="-1" strike="noStrike">
                <a:solidFill>
                  <a:srgbClr val="272776"/>
                </a:solidFill>
                <a:latin typeface="Century Gothic"/>
              </a:rPr>
              <a:t>3</a:t>
            </a: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张．</a:t>
            </a:r>
            <a:br>
              <a:rPr sz="1800"/>
            </a:br>
            <a:r>
              <a:rPr b="0" lang="zh-CN" sz="1800" spc="-1" strike="noStrike">
                <a:solidFill>
                  <a:srgbClr val="272776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72776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0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1BA3-3C41-4AB2-89E8-9A5130B7D3C1}" type="slidenum">
              <a:rPr b="0" lang="zh-CN" sz="1400" spc="-1" strike="noStrike">
                <a:solidFill>
                  <a:srgbClr val="27277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1"/>
          <p:cNvSpPr/>
          <p:nvPr/>
        </p:nvSpPr>
        <p:spPr>
          <a:xfrm>
            <a:off x="324000" y="122544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72776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我国最早实行的票证种类是</a:t>
            </a:r>
            <a:r>
              <a:rPr b="0" lang="zh-CN" sz="2400" spc="-1" strike="noStrike">
                <a:solidFill>
                  <a:srgbClr val="272776"/>
                </a:solidFill>
                <a:latin typeface="Arial"/>
                <a:ea typeface="楷体_GB2312"/>
              </a:rPr>
              <a:t>粮票</a:t>
            </a:r>
            <a:r>
              <a:rPr b="0" lang="zh-CN" sz="24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、食用油票、布票等票证。我国的票证种类数量堪称</a:t>
            </a:r>
            <a:r>
              <a:rPr b="0" lang="zh-CN" sz="2400" spc="-1" strike="noStrike">
                <a:solidFill>
                  <a:srgbClr val="272776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世界之最</a:t>
            </a:r>
            <a:r>
              <a:rPr b="0" lang="zh-CN" sz="2400" spc="-1" strike="noStrike">
                <a:solidFill>
                  <a:srgbClr val="272776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，全国</a:t>
            </a:r>
            <a:r>
              <a:rPr b="0" lang="en-US" sz="24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2500</a:t>
            </a:r>
            <a:r>
              <a:rPr b="0" lang="zh-CN" sz="24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多个市县，还有一些镇、乡都分别发放和使用了各种商品票证，进行计划供应，此外一些大企业、厂矿、农场、学校、部队、公社等也印发了各种票证，种类繁多。各地的商品票证通常分为</a:t>
            </a:r>
            <a:r>
              <a:rPr b="0" lang="zh-CN" sz="2400" spc="-1" strike="noStrike">
                <a:solidFill>
                  <a:srgbClr val="272776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吃、穿、用</a:t>
            </a:r>
            <a:r>
              <a:rPr b="0" lang="zh-CN" sz="2400" spc="-1" strike="noStrike">
                <a:solidFill>
                  <a:srgbClr val="272776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三大类。吃的除了各种粮油票外，还有猪、牛、羊肉票、鸡鸭鱼肉票、鸡鸭蛋票，各种糖类票，各种豆制品票及各种蔬菜票等等。穿的除了各种布票外，有化纤票、棉花票、汗衫票、背心票、布鞋票、棉胎票等等。用的有手帕、肥皂、手纸、洗衣粉、火柴、抹布票、煤油票，各种煤票、商品购买证、电器票、自行车票、手表票，还有临时票、机动票等，五花八门，涉及各个领域的方方面面。总之，大多数商品都是凭票供应的。什么样的商品就用相应的票证去购买，对号入座，缺一不可。为了照顾老干部、高级知识分子、科研人员和有特殊贡献的人，也分别发放了一些特供票证。</a:t>
            </a: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8" name="WordArt 42"/>
          <p:cNvSpPr txBox="1"/>
          <p:nvPr/>
        </p:nvSpPr>
        <p:spPr>
          <a:xfrm>
            <a:off x="3203640" y="333360"/>
            <a:ext cx="244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票证</a:t>
            </a:r>
            <a:endParaRPr b="1" lang="en-US" sz="4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9" name="Control 4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0" name="Control 5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1" name="Control 6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2" name="Control 7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3" name="Control 8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4" name="Control 9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5" name="Control 10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6" name="Control 11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7" name="Control 12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8" name="Control 13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9" name="Control 14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0" name="Control 15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1" name="Control 16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2" name="Control 17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3" name="Control 18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4" name="Control 19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5" name="Control 20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6" name="Control 21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7" name="Control 22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8" name="Control 23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9" name="Control 24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0" name="Control 25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1" name="Control 26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2" name="Control 27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3" name="Control 28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4" name="Control 29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5" name="Control 30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6" name="Control 31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7" name="Control 32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8" name="Control 33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19" name="Control 34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0" name="Control 35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1" name="Control 36"/>
          <p:cNvSpPr/>
          <p:nvPr/>
        </p:nvSpPr>
        <p:spPr>
          <a:xfrm>
            <a:off x="4114800" y="34052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2" name="Control 39"/>
          <p:cNvSpPr/>
          <p:nvPr/>
        </p:nvSpPr>
        <p:spPr>
          <a:xfrm>
            <a:off x="0" y="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2776"/>
                </a:solidFill>
                <a:latin typeface="Century Gothic"/>
              </a:rPr>
              <a:t>现在的小康标准是是十六大报告提出建设全面小康。上世纪末我们实现的小康是一个总体小康，也就是说从</a:t>
            </a: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80</a:t>
            </a:r>
            <a:r>
              <a:rPr b="0" lang="zh-CN" sz="2400" spc="-1" strike="noStrike">
                <a:solidFill>
                  <a:srgbClr val="272776"/>
                </a:solidFill>
                <a:latin typeface="Century Gothic"/>
              </a:rPr>
              <a:t>年到</a:t>
            </a: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2000</a:t>
            </a:r>
            <a:r>
              <a:rPr b="0" lang="zh-CN" sz="2400" spc="-1" strike="noStrike">
                <a:solidFill>
                  <a:srgbClr val="272776"/>
                </a:solidFill>
                <a:latin typeface="Century Gothic"/>
              </a:rPr>
              <a:t>年，我们的</a:t>
            </a: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GDP</a:t>
            </a:r>
            <a:r>
              <a:rPr b="0" lang="zh-CN" sz="2400" spc="-1" strike="noStrike">
                <a:solidFill>
                  <a:srgbClr val="272776"/>
                </a:solidFill>
                <a:latin typeface="Century Gothic"/>
              </a:rPr>
              <a:t>翻两番，人均</a:t>
            </a: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GDP</a:t>
            </a:r>
            <a:r>
              <a:rPr b="0" lang="zh-CN" sz="2400" spc="-1" strike="noStrike">
                <a:solidFill>
                  <a:srgbClr val="272776"/>
                </a:solidFill>
                <a:latin typeface="Century Gothic"/>
              </a:rPr>
              <a:t>达到</a:t>
            </a: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800</a:t>
            </a:r>
            <a:r>
              <a:rPr b="0" lang="zh-CN" sz="2400" spc="-1" strike="noStrike">
                <a:solidFill>
                  <a:srgbClr val="272776"/>
                </a:solidFill>
                <a:latin typeface="Century Gothic"/>
              </a:rPr>
              <a:t>美元。那个小康主要是以经济指标来衡量，所以又称上世纪末的小康为总体小康，实现</a:t>
            </a: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GDP</a:t>
            </a:r>
            <a:r>
              <a:rPr b="0" lang="zh-CN" sz="2400" spc="-1" strike="noStrike">
                <a:solidFill>
                  <a:srgbClr val="272776"/>
                </a:solidFill>
                <a:latin typeface="Century Gothic"/>
              </a:rPr>
              <a:t>翻两番的基础上，我们的社会发展还很不均衡，地区差别、城乡差别都很大，所以十六大又提出到</a:t>
            </a: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2020</a:t>
            </a:r>
            <a:r>
              <a:rPr b="0" lang="zh-CN" sz="2400" spc="-1" strike="noStrike">
                <a:solidFill>
                  <a:srgbClr val="272776"/>
                </a:solidFill>
                <a:latin typeface="Century Gothic"/>
              </a:rPr>
              <a:t>年我们要实现全面小康，全面小康的经济指标是到</a:t>
            </a:r>
            <a:r>
              <a:rPr b="0" lang="en-US" sz="2400" spc="-1" strike="noStrike">
                <a:solidFill>
                  <a:srgbClr val="272776"/>
                </a:solidFill>
                <a:latin typeface="Century Gothic"/>
              </a:rPr>
              <a:t>3</a:t>
            </a:r>
            <a:r>
              <a:rPr b="0" lang="zh-CN" sz="2400" spc="-1" strike="noStrike">
                <a:solidFill>
                  <a:srgbClr val="272776"/>
                </a:solidFill>
                <a:latin typeface="Century Gothic"/>
              </a:rPr>
              <a:t>千美元，同时还包括政治、经济、文化、环境和社会和谐等内容的要求，跟总体小康有很大的区别，所以，上世纪末我们已经实现了总体小康，现在我们要实现的是全面小康。  </a:t>
            </a:r>
            <a:endParaRPr b="0" lang="en-US" sz="24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7277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20</a:t>
            </a:r>
            <a:r>
              <a:rPr b="0" i="1" lang="zh-CN" sz="36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世纪</a:t>
            </a:r>
            <a:r>
              <a:rPr b="0" i="1" lang="en-US" sz="36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80</a:t>
            </a:r>
            <a:r>
              <a:rPr b="0" i="1" lang="zh-CN" sz="36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年代以前，由于一些生活必需品还不能满足人们的需要，只能限量供应。因此，那时候，买一些商品不仅要用钱，还要用票证，比如买布要布票，买粮要粮票，买油要油票，买副食品要副食本，买日用品要工业券</a:t>
            </a:r>
            <a:r>
              <a:rPr b="0" i="1" lang="en-US" sz="3600" spc="-1" strike="noStrike">
                <a:solidFill>
                  <a:srgbClr val="272776"/>
                </a:solidFill>
                <a:latin typeface="Century Gothic"/>
                <a:ea typeface="楷体_GB2312"/>
              </a:rPr>
              <a:t>······</a:t>
            </a:r>
            <a:endParaRPr b="0" lang="en-US" sz="36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15"/>
          <p:cNvSpPr/>
          <p:nvPr/>
        </p:nvSpPr>
        <p:spPr>
          <a:xfrm>
            <a:off x="2757600" y="18003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27277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3492360" y="189000"/>
            <a:ext cx="2016360" cy="12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粮票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3419640" y="1628640"/>
            <a:ext cx="2041200" cy="10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布票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7" name="Picture 7" descr="liang"/>
          <p:cNvPicPr/>
          <p:nvPr/>
        </p:nvPicPr>
        <p:blipFill>
          <a:blip r:embed="rId2"/>
          <a:stretch/>
        </p:blipFill>
        <p:spPr>
          <a:xfrm>
            <a:off x="1116000" y="260280"/>
            <a:ext cx="7559640" cy="5689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布"/>
          <p:cNvPicPr/>
          <p:nvPr/>
        </p:nvPicPr>
        <p:blipFill>
          <a:blip r:embed="rId3"/>
          <a:stretch/>
        </p:blipFill>
        <p:spPr>
          <a:xfrm>
            <a:off x="2700360" y="549360"/>
            <a:ext cx="3960720" cy="5713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油"/>
          <p:cNvPicPr/>
          <p:nvPr/>
        </p:nvPicPr>
        <p:blipFill>
          <a:blip r:embed="rId4"/>
          <a:stretch/>
        </p:blipFill>
        <p:spPr>
          <a:xfrm>
            <a:off x="1692360" y="1268280"/>
            <a:ext cx="6188040" cy="45356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10"/>
          <p:cNvSpPr txBox="1"/>
          <p:nvPr/>
        </p:nvSpPr>
        <p:spPr>
          <a:xfrm>
            <a:off x="3564000" y="2924280"/>
            <a:ext cx="2041560" cy="109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油票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1" name="WordArt 11" descr=""/>
          <p:cNvPicPr/>
          <p:nvPr/>
        </p:nvPicPr>
        <p:blipFill>
          <a:blip r:embed="rId5"/>
          <a:stretch/>
        </p:blipFill>
        <p:spPr>
          <a:xfrm>
            <a:off x="3132000" y="3897360"/>
            <a:ext cx="2880000" cy="2340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fu1"/>
          <p:cNvPicPr/>
          <p:nvPr/>
        </p:nvPicPr>
        <p:blipFill>
          <a:blip r:embed="rId6"/>
          <a:stretch/>
        </p:blipFill>
        <p:spPr>
          <a:xfrm>
            <a:off x="1079640" y="806400"/>
            <a:ext cx="6984720" cy="5245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fuer"/>
          <p:cNvPicPr/>
          <p:nvPr/>
        </p:nvPicPr>
        <p:blipFill>
          <a:blip r:embed="rId7"/>
          <a:stretch/>
        </p:blipFill>
        <p:spPr>
          <a:xfrm>
            <a:off x="1079640" y="812880"/>
            <a:ext cx="6984720" cy="5232240"/>
          </a:xfrm>
          <a:prstGeom prst="rect">
            <a:avLst/>
          </a:prstGeom>
          <a:ln w="0">
            <a:noFill/>
          </a:ln>
        </p:spPr>
      </p:pic>
      <p:sp>
        <p:nvSpPr>
          <p:cNvPr id="134" name="WordArt 14"/>
          <p:cNvSpPr txBox="1"/>
          <p:nvPr/>
        </p:nvSpPr>
        <p:spPr>
          <a:xfrm>
            <a:off x="3886200" y="2820960"/>
            <a:ext cx="20541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工业券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5" name="Picture 15" descr="个"/>
          <p:cNvPicPr/>
          <p:nvPr/>
        </p:nvPicPr>
        <p:blipFill>
          <a:blip r:embed="rId8"/>
          <a:stretch/>
        </p:blipFill>
        <p:spPr>
          <a:xfrm>
            <a:off x="1720800" y="254160"/>
            <a:ext cx="570240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1258920" y="2852640"/>
            <a:ext cx="583884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下面请观看《票证的故事》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2776"/>
                </a:solidFill>
                <a:latin typeface="Century Gothic"/>
              </a:rPr>
              <a:t>饥馑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72776"/>
                </a:solidFill>
                <a:latin typeface="Century Gothic"/>
              </a:rPr>
              <a:t>    </a:t>
            </a:r>
            <a:r>
              <a:rPr b="0" lang="zh-CN" sz="40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早上去买菜，得带上一种购菜卡，根据卡上的购菜限量标准，每人可买上二两或四两。很多小学生也挤在菜店前的长长队伍里，伸长颈脖对那些售货员大喊：</a:t>
            </a:r>
            <a:r>
              <a:rPr b="0" lang="zh-CN" sz="4000" spc="-1" strike="noStrike">
                <a:solidFill>
                  <a:srgbClr val="272776"/>
                </a:solidFill>
                <a:latin typeface="Century Gothic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爷爷</a:t>
            </a:r>
            <a:r>
              <a:rPr b="0" lang="zh-CN" sz="4000" spc="-1" strike="noStrike">
                <a:solidFill>
                  <a:srgbClr val="272776"/>
                </a:solidFill>
                <a:latin typeface="Century Gothic"/>
                <a:ea typeface="楷体_GB2312"/>
              </a:rPr>
              <a:t>”“</a:t>
            </a:r>
            <a:r>
              <a:rPr b="0" lang="zh-CN" sz="40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姑姑</a:t>
            </a:r>
            <a:r>
              <a:rPr b="0" lang="zh-CN" sz="4000" spc="-1" strike="noStrike">
                <a:solidFill>
                  <a:srgbClr val="272776"/>
                </a:solidFill>
                <a:latin typeface="Century Gothic"/>
                <a:ea typeface="楷体_GB2312"/>
              </a:rPr>
              <a:t>”</a:t>
            </a:r>
            <a:r>
              <a:rPr b="0" lang="en-US" sz="4000" spc="-1" strike="noStrike">
                <a:solidFill>
                  <a:srgbClr val="272776"/>
                </a:solidFill>
                <a:latin typeface="Century Gothic"/>
                <a:ea typeface="楷体_GB2312"/>
              </a:rPr>
              <a:t>······</a:t>
            </a:r>
            <a:r>
              <a:rPr b="0" lang="zh-CN" sz="4000" spc="-1" strike="noStrike">
                <a:solidFill>
                  <a:srgbClr val="272776"/>
                </a:solidFill>
                <a:latin typeface="楷体_GB2312"/>
                <a:ea typeface="楷体_GB2312"/>
              </a:rPr>
              <a:t>他们竞相讨好售货员，无非是为了在买菜时能多得到一个小萝卜或一根小苋菜。</a:t>
            </a:r>
            <a:endParaRPr b="0" lang="en-US" sz="4000" spc="-1" strike="noStrike">
              <a:solidFill>
                <a:srgbClr val="272776"/>
              </a:solidFill>
              <a:latin typeface="Century Gothic"/>
            </a:endParaRPr>
          </a:p>
        </p:txBody>
      </p:sp>
      <p:pic>
        <p:nvPicPr>
          <p:cNvPr id="139" name="轻音乐-飘渺的风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270315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pic>
        <p:nvPicPr>
          <p:cNvPr id="142" name="Picture 4" descr="maidongxi"/>
          <p:cNvPicPr/>
          <p:nvPr/>
        </p:nvPicPr>
        <p:blipFill>
          <a:blip r:embed="rId2"/>
          <a:stretch/>
        </p:blipFill>
        <p:spPr>
          <a:xfrm>
            <a:off x="179280" y="189000"/>
            <a:ext cx="6193080" cy="6408720"/>
          </a:xfrm>
          <a:prstGeom prst="rect">
            <a:avLst/>
          </a:prstGeom>
          <a:ln w="0">
            <a:noFill/>
          </a:ln>
        </p:spPr>
      </p:pic>
      <p:sp>
        <p:nvSpPr>
          <p:cNvPr id="143" name="WordArt 5"/>
          <p:cNvSpPr txBox="1"/>
          <p:nvPr/>
        </p:nvSpPr>
        <p:spPr>
          <a:xfrm rot="5400000">
            <a:off x="5650920" y="2997000"/>
            <a:ext cx="4464000" cy="1438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1" strike="noStrike">
                <a:ln w="12600">
                  <a:solidFill>
                    <a:srgbClr val="c4b596"/>
                  </a:solidFill>
                  <a:round/>
                </a:ln>
                <a:solidFill>
                  <a:srgbClr val="faa62a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楷体_GB2312"/>
              </a:rPr>
              <a:t>用票证买粮</a:t>
            </a:r>
            <a:endParaRPr b="0" i="1" lang="en-US" sz="4400" spc="1" strike="noStrike">
              <a:ln w="12600">
                <a:solidFill>
                  <a:srgbClr val="c4b596"/>
                </a:solidFill>
                <a:round/>
              </a:ln>
              <a:solidFill>
                <a:srgbClr val="faa62a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Century Gothic"/>
                <a:ea typeface="文鼎CS楷体"/>
              </a:rPr>
              <a:t>    </a:t>
            </a:r>
            <a:r>
              <a:rPr b="0" lang="zh-CN" sz="4800" spc="-1" strike="noStrike">
                <a:solidFill>
                  <a:srgbClr val="0066ff"/>
                </a:solidFill>
                <a:latin typeface="Century Gothic"/>
                <a:ea typeface="文鼎CS楷体"/>
              </a:rPr>
              <a:t>过去，人们在描述未来生活的前景时，常说：“楼上楼下，电灯电话”“耕地不用牛，电灯不用油”。现在这些愿望早已变成了现实，人们有了更新更美的生活。</a:t>
            </a:r>
            <a:endParaRPr b="0" lang="en-US" sz="48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2771640" y="0"/>
            <a:ext cx="3672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现在与过去</a:t>
            </a:r>
            <a:endParaRPr b="1" i="1" lang="en-US" sz="4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1:15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6:56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