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5.gif" ContentType="image/gif"/>
  <Override PartName="/ppt/media/image11.jpeg" ContentType="image/jpeg"/>
  <Override PartName="/ppt/media/image9.jpeg" ContentType="image/jpeg"/>
  <Override PartName="/ppt/media/image6.jpeg" ContentType="image/jpeg"/>
  <Override PartName="/ppt/media/image21.png" ContentType="image/png"/>
  <Override PartName="/ppt/media/image20.gif" ContentType="image/gif"/>
  <Override PartName="/ppt/media/image18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3.jpeg" ContentType="image/jpeg"/>
  <Override PartName="/ppt/media/type.wav" ContentType="audio/x-wav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269-AEC2-4B2D-AA3B-08708F3F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6500-35B8-4FBD-89C7-9A83794AE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C18-3B91-47FE-ACA9-2FD70393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155-E353-4A8A-A07D-2BB7256F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8D85-D9C4-4679-A483-A864C32A7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7CAA-4663-43C0-A6F2-21CD19AC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14F1-9E08-4FE5-AF9F-CC35666E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9E05-FBE9-40D3-98FE-21618999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EC09-6C4A-447F-91DE-58C0667B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8DC1-CF67-4227-BD9D-D0FA9C98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9CBD-9C3D-4496-961E-8871E664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692-DEC2-4FB3-9B70-D4950CF1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6C8B-5E61-45DD-9A5E-2C3B04AB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0923-1F3B-4A33-9F02-82D9ACAB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1A75-425B-4C23-A6D0-AB49EFC6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F3C4-0B27-484C-BDEC-3AB911D5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5D04-DAD3-479A-AAF1-BDA934B2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CF4D-0D47-4A5A-8861-14AC2D47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4F7-92B3-40CB-AEFC-DAE24C0B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2195-9493-41DF-9D05-1C16DD68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E5A2-CC11-4B3C-8BB8-B1902FB9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5FB-3CB1-4B13-84E7-59500CFF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C43E-0E92-4ACD-8767-2D851C7E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BC71-BE51-4502-BB42-4E20A694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8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EACA-2412-46B0-8CA3-98B26BA3D7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B01B-32BE-4E49-95F9-1E944BE3DE5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3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人教新课标   四年级品德与社会上册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1042920" y="2349360"/>
            <a:ext cx="7058160" cy="200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公共场所拒绝危险课件</a:t>
            </a:r>
            <a:r>
              <a:rPr b="1" lang="en-US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下载</a:t>
            </a:r>
            <a:endParaRPr b="1" lang="en-US" sz="40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8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8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5" descr="E:\大全集送审样盘\品德与社会\01.gif"/>
          <p:cNvPicPr/>
          <p:nvPr/>
        </p:nvPicPr>
        <p:blipFill>
          <a:blip r:embed="rId1"/>
          <a:stretch/>
        </p:blipFill>
        <p:spPr>
          <a:xfrm>
            <a:off x="990720" y="1050840"/>
            <a:ext cx="247968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6"/>
          <p:cNvGrpSpPr/>
          <p:nvPr/>
        </p:nvGrpSpPr>
        <p:grpSpPr>
          <a:xfrm>
            <a:off x="1143000" y="1600200"/>
            <a:ext cx="7010280" cy="4814280"/>
            <a:chOff x="1143000" y="1600200"/>
            <a:chExt cx="7010280" cy="4814280"/>
          </a:xfrm>
        </p:grpSpPr>
        <p:pic>
          <p:nvPicPr>
            <p:cNvPr id="115" name="Picture 17" descr="E:\大全集送审样盘\品德与社会\小四\公共场所拒绝危险\！资料\！衡阳火灾\医疗小组到现场抢救伤员.jpg"/>
            <p:cNvPicPr/>
            <p:nvPr/>
          </p:nvPicPr>
          <p:blipFill>
            <a:blip r:embed="rId2"/>
            <a:stretch/>
          </p:blipFill>
          <p:spPr>
            <a:xfrm>
              <a:off x="1143000" y="1600200"/>
              <a:ext cx="7010280" cy="47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8"/>
            <p:cNvSpPr/>
            <p:nvPr/>
          </p:nvSpPr>
          <p:spPr>
            <a:xfrm>
              <a:off x="3558960" y="5954760"/>
              <a:ext cx="219240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  <a:ea typeface="楷体_GB2312"/>
                </a:rPr>
                <a:t>医疗小组到现场抢救伤员</a:t>
              </a:r>
              <a:endParaRPr b="0" lang="en-US" sz="2400" spc="-1" strike="noStrike">
                <a:solidFill>
                  <a:srgbClr val="008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6" dur="1" fill="hold"/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416320" y="2452680"/>
            <a:ext cx="4914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这些事故给在场的人们及他们的家人的生活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带来了哪些影响。 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234320" y="3747960"/>
            <a:ext cx="127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在我们的生活中，哪些行为容易给自己、他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人带来危害，如何避免类似事故的发生。 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19" name="Picture 6" descr="E:\大全集送审样盘\品德与社会\02.gif"/>
          <p:cNvPicPr/>
          <p:nvPr/>
        </p:nvPicPr>
        <p:blipFill>
          <a:blip r:embed="rId1"/>
          <a:stretch/>
        </p:blipFill>
        <p:spPr>
          <a:xfrm>
            <a:off x="990720" y="993600"/>
            <a:ext cx="2435040" cy="6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3043080" y="256536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公共场所的安全需要每个人来维护 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468160" y="3429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交通安全歌 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2" name="Picture 10" descr="E:\大全集送审样盘\品德与社会\02.gif"/>
          <p:cNvPicPr/>
          <p:nvPr/>
        </p:nvPicPr>
        <p:blipFill>
          <a:blip r:embed="rId1"/>
          <a:stretch/>
        </p:blipFill>
        <p:spPr>
          <a:xfrm>
            <a:off x="990720" y="993600"/>
            <a:ext cx="2435040" cy="606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小蜜蜂"/>
          <p:cNvPicPr/>
          <p:nvPr/>
        </p:nvPicPr>
        <p:blipFill>
          <a:blip r:embed="rId2"/>
          <a:stretch/>
        </p:blipFill>
        <p:spPr>
          <a:xfrm>
            <a:off x="6516720" y="3860640"/>
            <a:ext cx="2219400" cy="23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1835280" y="2708280"/>
            <a:ext cx="51051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针对下面的危险行为，谈谈如何有效的排除安全隐患，保证公共场所的安全。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25" name="Picture 5" descr="E:\大全集送审样盘\品德与社会\02.gif"/>
          <p:cNvPicPr/>
          <p:nvPr/>
        </p:nvPicPr>
        <p:blipFill>
          <a:blip r:embed="rId1"/>
          <a:stretch/>
        </p:blipFill>
        <p:spPr>
          <a:xfrm>
            <a:off x="990720" y="993600"/>
            <a:ext cx="2435040" cy="606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小蜜蜂4"/>
          <p:cNvPicPr/>
          <p:nvPr/>
        </p:nvPicPr>
        <p:blipFill>
          <a:blip r:embed="rId2"/>
          <a:stretch/>
        </p:blipFill>
        <p:spPr>
          <a:xfrm>
            <a:off x="6659640" y="4653000"/>
            <a:ext cx="165240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E:\大全集送审样盘\品德与社会\小四\公共场所拒绝危险\！资料\！！安全第一 快乐打折.jpg"/>
          <p:cNvPicPr/>
          <p:nvPr/>
        </p:nvPicPr>
        <p:blipFill>
          <a:blip r:embed="rId1"/>
          <a:stretch/>
        </p:blipFill>
        <p:spPr>
          <a:xfrm>
            <a:off x="2819520" y="1600200"/>
            <a:ext cx="3060720" cy="4952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E:\大全集送审样盘\品德与社会\02.gif"/>
          <p:cNvPicPr/>
          <p:nvPr/>
        </p:nvPicPr>
        <p:blipFill>
          <a:blip r:embed="rId2"/>
          <a:stretch/>
        </p:blipFill>
        <p:spPr>
          <a:xfrm>
            <a:off x="990720" y="993600"/>
            <a:ext cx="2435040" cy="60660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8199"/>
          <p:cNvSpPr/>
          <p:nvPr/>
        </p:nvSpPr>
        <p:spPr>
          <a:xfrm>
            <a:off x="1770120" y="455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3333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E:\大全集送审样盘\品德与社会\示例\zl\！公共交通安全.JPG"/>
          <p:cNvPicPr/>
          <p:nvPr/>
        </p:nvPicPr>
        <p:blipFill>
          <a:blip r:embed="rId1"/>
          <a:stretch/>
        </p:blipFill>
        <p:spPr>
          <a:xfrm>
            <a:off x="1790640" y="1692360"/>
            <a:ext cx="5600880" cy="4556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E:\大全集送审样盘\品德与社会\02.gif"/>
          <p:cNvPicPr/>
          <p:nvPr/>
        </p:nvPicPr>
        <p:blipFill>
          <a:blip r:embed="rId2"/>
          <a:stretch/>
        </p:blipFill>
        <p:spPr>
          <a:xfrm>
            <a:off x="990720" y="993600"/>
            <a:ext cx="2435040" cy="6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E:\大全集送审样盘\品德与社会\示例\zl\！不要在高压线附近放风筝.jpg"/>
          <p:cNvPicPr/>
          <p:nvPr/>
        </p:nvPicPr>
        <p:blipFill>
          <a:blip r:embed="rId1"/>
          <a:stretch/>
        </p:blipFill>
        <p:spPr>
          <a:xfrm>
            <a:off x="1104840" y="1984320"/>
            <a:ext cx="6972480" cy="3578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E:\大全集送审样盘\品德与社会\02.gif"/>
          <p:cNvPicPr/>
          <p:nvPr/>
        </p:nvPicPr>
        <p:blipFill>
          <a:blip r:embed="rId2"/>
          <a:stretch/>
        </p:blipFill>
        <p:spPr>
          <a:xfrm>
            <a:off x="990720" y="993600"/>
            <a:ext cx="2435040" cy="6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8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E2D1-EE53-47BF-B88F-148082C2B7D6}" type="slidenum">
              <a:rPr b="0" lang="zh-CN" sz="1400" spc="-1" strike="noStrike">
                <a:solidFill>
                  <a:srgbClr val="008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2590920" y="2370240"/>
            <a:ext cx="5486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小朋友，赶紧找一找我们生活中哪里地方需要添加新的安全标志（设施），或者哪些设施和标志与现代化的城市建设不配套。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139" name="Picture 4" descr="E:\大全集送审样盘\品德与社会\小四\公共场所拒绝危险\047\047\gif004.gif"/>
          <p:cNvPicPr/>
          <p:nvPr/>
        </p:nvPicPr>
        <p:blipFill>
          <a:blip r:embed="rId1"/>
          <a:stretch/>
        </p:blipFill>
        <p:spPr>
          <a:xfrm>
            <a:off x="576360" y="2192400"/>
            <a:ext cx="1938240" cy="2074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E:\大全集送审样盘\品德与社会\04.gif"/>
          <p:cNvPicPr/>
          <p:nvPr/>
        </p:nvPicPr>
        <p:blipFill>
          <a:blip r:embed="rId2"/>
          <a:stretch/>
        </p:blipFill>
        <p:spPr>
          <a:xfrm>
            <a:off x="990720" y="993600"/>
            <a:ext cx="2446200" cy="6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E:\大全集送审样盘\品德与社会\01.gif"/>
          <p:cNvPicPr/>
          <p:nvPr/>
        </p:nvPicPr>
        <p:blipFill>
          <a:blip r:embed="rId1"/>
          <a:stretch/>
        </p:blipFill>
        <p:spPr>
          <a:xfrm>
            <a:off x="990720" y="1050840"/>
            <a:ext cx="2479680" cy="54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E:\大全集送审样盘\品德与社会\小四\公共场所拒绝危险\公共场所拒绝危险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3"/>
          <p:cNvSpPr/>
          <p:nvPr/>
        </p:nvSpPr>
        <p:spPr>
          <a:xfrm>
            <a:off x="1128600" y="2514600"/>
            <a:ext cx="71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3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月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4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日，甘肃平凉发生特大交通事故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死亡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8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受伤。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88" name="Picture 38" descr="E:\大全集送审样盘\品德与社会\01.gif"/>
          <p:cNvPicPr/>
          <p:nvPr/>
        </p:nvPicPr>
        <p:blipFill>
          <a:blip r:embed="rId1"/>
          <a:stretch/>
        </p:blipFill>
        <p:spPr>
          <a:xfrm>
            <a:off x="990720" y="1050840"/>
            <a:ext cx="247968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75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3499920" y="1538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警民正在全力抢救受伤乘客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0" name="Picture 7" descr="E:\大全集送审样盘\品德与社会\小四\公共场所拒绝危险\！资料\！交通事故\警民正在全力抢救受伤乘客。.jpg"/>
          <p:cNvPicPr/>
          <p:nvPr/>
        </p:nvPicPr>
        <p:blipFill>
          <a:blip r:embed="rId1"/>
          <a:stretch/>
        </p:blipFill>
        <p:spPr>
          <a:xfrm>
            <a:off x="1790640" y="2057400"/>
            <a:ext cx="5583240" cy="4187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E:\大全集送审样盘\品德与社会\小四\公共场所拒绝危险\！资料\！交通事故\警民正在全力抢救受伤乘客。123.jpg"/>
          <p:cNvPicPr/>
          <p:nvPr/>
        </p:nvPicPr>
        <p:blipFill>
          <a:blip r:embed="rId2"/>
          <a:stretch/>
        </p:blipFill>
        <p:spPr>
          <a:xfrm>
            <a:off x="1828800" y="207324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E:\大全集送审样盘\品德与社会\小四\公共场所拒绝危险\！资料\！交通事故\警民正在全力抢救受伤乘客。2.jpg"/>
          <p:cNvPicPr/>
          <p:nvPr/>
        </p:nvPicPr>
        <p:blipFill>
          <a:blip r:embed="rId3"/>
          <a:stretch/>
        </p:blipFill>
        <p:spPr>
          <a:xfrm>
            <a:off x="1979640" y="206064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E:\大全集送审样盘\品德与社会\01.gif"/>
          <p:cNvPicPr/>
          <p:nvPr/>
        </p:nvPicPr>
        <p:blipFill>
          <a:blip r:embed="rId4"/>
          <a:stretch/>
        </p:blipFill>
        <p:spPr>
          <a:xfrm>
            <a:off x="990720" y="1050840"/>
            <a:ext cx="247968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5"/>
          <p:cNvSpPr/>
          <p:nvPr/>
        </p:nvSpPr>
        <p:spPr>
          <a:xfrm>
            <a:off x="1467000" y="16956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5" name="Picture 2" descr="E:\大全集送审样盘\品德与社会\小四\公共场所拒绝危险\！资料\！交通事故\这就是肇事的大货车。.jpg"/>
          <p:cNvPicPr/>
          <p:nvPr/>
        </p:nvPicPr>
        <p:blipFill>
          <a:blip r:embed="rId1"/>
          <a:stretch/>
        </p:blipFill>
        <p:spPr>
          <a:xfrm>
            <a:off x="1523880" y="1695600"/>
            <a:ext cx="6172200" cy="462888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4"/>
          <p:cNvSpPr/>
          <p:nvPr/>
        </p:nvSpPr>
        <p:spPr>
          <a:xfrm flipH="1" flipV="1">
            <a:off x="4876920" y="1676520"/>
            <a:ext cx="3200400" cy="1371600"/>
          </a:xfrm>
          <a:prstGeom prst="cloudCallout">
            <a:avLst>
              <a:gd name="adj1" fmla="val 66666"/>
              <a:gd name="adj2" fmla="val -72569"/>
            </a:avLst>
          </a:pr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这就是肇事的大货车！</a:t>
            </a:r>
            <a:endParaRPr b="0" lang="en-US" sz="28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7" name="Picture 6" descr="E:\大全集送审样盘\品德与社会\01.gif"/>
          <p:cNvPicPr/>
          <p:nvPr/>
        </p:nvPicPr>
        <p:blipFill>
          <a:blip r:embed="rId2"/>
          <a:stretch/>
        </p:blipFill>
        <p:spPr>
          <a:xfrm>
            <a:off x="990720" y="1050840"/>
            <a:ext cx="2479680" cy="5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835200" y="2438280"/>
            <a:ext cx="754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03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年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1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月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日，湖南衡阳发生特大火灾坍塌事件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名消防官兵英勇殉职。</a:t>
            </a:r>
            <a:endParaRPr b="0" lang="en-US" sz="4000" spc="-1" strike="noStrike">
              <a:solidFill>
                <a:srgbClr val="008000"/>
              </a:solidFill>
              <a:latin typeface="Times New Roman"/>
            </a:endParaRPr>
          </a:p>
        </p:txBody>
      </p:sp>
      <p:pic>
        <p:nvPicPr>
          <p:cNvPr id="99" name="Picture 4" descr="E:\大全集送审样盘\品德与社会\01.gif"/>
          <p:cNvPicPr/>
          <p:nvPr/>
        </p:nvPicPr>
        <p:blipFill>
          <a:blip r:embed="rId1"/>
          <a:stretch/>
        </p:blipFill>
        <p:spPr>
          <a:xfrm>
            <a:off x="990720" y="1050840"/>
            <a:ext cx="2479680" cy="54936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8199"/>
          <p:cNvSpPr/>
          <p:nvPr/>
        </p:nvSpPr>
        <p:spPr>
          <a:xfrm>
            <a:off x="1082520" y="1749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3333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8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75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6" descr="E:\大全集送审样盘\品德与社会\小四\公共场所拒绝危险\！资料\！衡阳火灾\11月3日，救援人员在湖南衡阳市珠晖区火灾现场进行抢救。.jpg"/>
          <p:cNvPicPr/>
          <p:nvPr/>
        </p:nvPicPr>
        <p:blipFill>
          <a:blip r:embed="rId1"/>
          <a:stretch/>
        </p:blipFill>
        <p:spPr>
          <a:xfrm>
            <a:off x="1371600" y="1687680"/>
            <a:ext cx="6248520" cy="4027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3" descr="E:\大全集送审样盘\品德与社会\01.gif"/>
          <p:cNvPicPr/>
          <p:nvPr/>
        </p:nvPicPr>
        <p:blipFill>
          <a:blip r:embed="rId2"/>
          <a:stretch/>
        </p:blipFill>
        <p:spPr>
          <a:xfrm>
            <a:off x="990720" y="1050840"/>
            <a:ext cx="2479680" cy="54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4" descr="E:\大全集送审样盘\品德与社会\小四\公共场所拒绝危险\！资料\！衡阳火灾\救火.jpg"/>
          <p:cNvPicPr/>
          <p:nvPr/>
        </p:nvPicPr>
        <p:blipFill>
          <a:blip r:embed="rId3"/>
          <a:stretch/>
        </p:blipFill>
        <p:spPr>
          <a:xfrm>
            <a:off x="1371600" y="1623960"/>
            <a:ext cx="6248520" cy="40910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7"/>
          <p:cNvSpPr/>
          <p:nvPr/>
        </p:nvSpPr>
        <p:spPr>
          <a:xfrm>
            <a:off x="1906560" y="5653080"/>
            <a:ext cx="52563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010000"/>
                </a:solidFill>
                <a:latin typeface="楷体_GB2312"/>
                <a:ea typeface="楷体_GB2312"/>
              </a:rPr>
              <a:t>　</a:t>
            </a:r>
            <a:r>
              <a:rPr b="1" lang="zh-CN" sz="2400" spc="-1" strike="noStrike">
                <a:solidFill>
                  <a:srgbClr val="010000"/>
                </a:solidFill>
                <a:latin typeface="楷体_GB2312"/>
                <a:ea typeface="楷体_GB2312"/>
              </a:rPr>
              <a:t>11</a:t>
            </a:r>
            <a:r>
              <a:rPr b="1" lang="zh-CN" sz="2400" spc="-1" strike="noStrike">
                <a:solidFill>
                  <a:srgbClr val="010000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1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10000"/>
                </a:solidFill>
                <a:latin typeface="楷体_GB2312"/>
                <a:ea typeface="楷体_GB2312"/>
              </a:rPr>
              <a:t>日，救援人员在湖南衡阳市珠晖区火灾现场进行抢救。</a:t>
            </a:r>
            <a:endParaRPr b="0" lang="en-US" sz="2400" spc="-1" strike="noStrike">
              <a:solidFill>
                <a:srgbClr val="008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E:\大全集送审样盘\品德与社会\01.gif"/>
          <p:cNvPicPr/>
          <p:nvPr/>
        </p:nvPicPr>
        <p:blipFill>
          <a:blip r:embed="rId1"/>
          <a:stretch/>
        </p:blipFill>
        <p:spPr>
          <a:xfrm>
            <a:off x="990720" y="1050840"/>
            <a:ext cx="2479680" cy="54936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3"/>
          <p:cNvGrpSpPr/>
          <p:nvPr/>
        </p:nvGrpSpPr>
        <p:grpSpPr>
          <a:xfrm>
            <a:off x="1203480" y="1600200"/>
            <a:ext cx="6721200" cy="4672800"/>
            <a:chOff x="1203480" y="1600200"/>
            <a:chExt cx="6721200" cy="4672800"/>
          </a:xfrm>
        </p:grpSpPr>
        <p:pic>
          <p:nvPicPr>
            <p:cNvPr id="107" name="Picture 4" descr="E:\大全集送审样盘\品德与社会\小四\公共场所拒绝危险\！资料\！衡阳火灾\湖南衡阳市消防支队官兵正在抢救伤员.jpg"/>
            <p:cNvPicPr/>
            <p:nvPr/>
          </p:nvPicPr>
          <p:blipFill>
            <a:blip r:embed="rId2"/>
            <a:stretch/>
          </p:blipFill>
          <p:spPr>
            <a:xfrm>
              <a:off x="1203480" y="1600200"/>
              <a:ext cx="6721200" cy="45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5"/>
            <p:cNvSpPr/>
            <p:nvPr/>
          </p:nvSpPr>
          <p:spPr>
            <a:xfrm>
              <a:off x="3123360" y="5813280"/>
              <a:ext cx="328968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10000"/>
                  </a:solidFill>
                  <a:latin typeface="Times New Roman"/>
                  <a:ea typeface="楷体_GB2312"/>
                </a:rPr>
                <a:t>湖南衡阳市消防支队官兵正在抢救伤员</a:t>
              </a:r>
              <a:endParaRPr b="0" lang="en-US" sz="2400" spc="-1" strike="noStrike">
                <a:solidFill>
                  <a:srgbClr val="008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6" dur="1" fill="hold"/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E:\大全集送审样盘\品德与社会\01.gif"/>
          <p:cNvPicPr/>
          <p:nvPr/>
        </p:nvPicPr>
        <p:blipFill>
          <a:blip r:embed="rId1"/>
          <a:stretch/>
        </p:blipFill>
        <p:spPr>
          <a:xfrm>
            <a:off x="990720" y="1050840"/>
            <a:ext cx="247968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6"/>
          <p:cNvGrpSpPr/>
          <p:nvPr/>
        </p:nvGrpSpPr>
        <p:grpSpPr>
          <a:xfrm>
            <a:off x="1219320" y="1676520"/>
            <a:ext cx="6629400" cy="4505040"/>
            <a:chOff x="1219320" y="1676520"/>
            <a:chExt cx="6629400" cy="4505040"/>
          </a:xfrm>
        </p:grpSpPr>
        <p:pic>
          <p:nvPicPr>
            <p:cNvPr id="111" name="Picture 7" descr="E:\大全集送审样盘\品德与社会\小四\公共场所拒绝危险\！资料\！衡阳火灾\医疗小组在搜救现场抢险救灾.jpg"/>
            <p:cNvPicPr/>
            <p:nvPr/>
          </p:nvPicPr>
          <p:blipFill>
            <a:blip r:embed="rId2"/>
            <a:stretch/>
          </p:blipFill>
          <p:spPr>
            <a:xfrm>
              <a:off x="1219320" y="1676520"/>
              <a:ext cx="6629400" cy="44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8"/>
            <p:cNvSpPr/>
            <p:nvPr/>
          </p:nvSpPr>
          <p:spPr>
            <a:xfrm>
              <a:off x="3346920" y="5721840"/>
              <a:ext cx="255816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10000"/>
                  </a:solidFill>
                  <a:latin typeface="Times New Roman"/>
                  <a:ea typeface="楷体_GB2312"/>
                </a:rPr>
                <a:t>医疗小组在搜救现场抢险救灾</a:t>
              </a:r>
              <a:endParaRPr b="0" lang="en-US" sz="2400" spc="-1" strike="noStrike">
                <a:solidFill>
                  <a:srgbClr val="008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3:51:2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35Z</dcterms:modified>
  <cp:revision>3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460f000000000001024120</vt:lpwstr>
  </property>
</Properties>
</file>