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795-EA36-4FF7-9237-3013B814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61D-7E9C-4C93-A9B1-E923D24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468-D4C8-49F9-B49C-6BA6C0FB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3B8-CCFB-4D82-A575-F4ACBD5A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F40B-0C2B-4212-99BC-55954099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06D-2818-4049-A564-38096130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4FE5-F4F4-45DC-8875-C7D003D3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6A0A-0A60-49B1-968E-C8DC7AE1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FA54-A563-4CA3-B784-EE44F9C0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0115-D385-4588-8483-B691744B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FABE-24CA-4907-87BD-72F4F61B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294-AF28-46E6-841B-C1268D3E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D161-F2D8-461F-831A-DE84A799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BEA-497A-4440-8519-E97B2992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5293-1369-46A5-82EF-427F0FA5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8A49-62F9-4385-93D4-C21E055C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4D2A-162C-4F9B-AED4-AC459E59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A47-0656-4CA2-BC50-CA01A4CC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723-B76E-47D4-A8C4-82F89281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F47-537C-41E4-A3D5-73CB991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8C5-7E4F-49BF-9DA7-F543743F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EF3-9C18-41EF-8DB4-46E4547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181-E9C4-4729-A2F1-DCC7A08A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E5B-C165-4285-AC8F-EC9C4555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8571-644B-492B-9565-8F3C13ED4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B41-CB05-4C30-97B8-6324A17CEA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5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68360" y="1628640"/>
            <a:ext cx="3887640" cy="373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8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498920" y="1628640"/>
            <a:ext cx="4176720" cy="372132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971640" y="1052640"/>
            <a:ext cx="7057800" cy="31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351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各具特色的民居课件</a:t>
            </a:r>
            <a:r>
              <a:rPr b="1" lang="en-US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模板免费下载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4360" y="62064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　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闽西南、粤东北的崇山峻岭中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作　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防备盗匪骚扰和当地人排挤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材　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在土中掺石灰，用糯米饭、鸡蛋清作黏合剂，以竹片、木条作筋骨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结　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大多为三至六层楼，一百至二百多间房屋如橘瓣状排列，布局均匀，宏伟壮观；土楼围成圆形的房屋均按八卦布局排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文化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吉祥、幸福、安宁；和睦相处；勤俭持家；平等互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95E1-697D-4C79-8CFC-FCECE287BE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260280"/>
            <a:ext cx="8424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读一读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客家民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部分，思考是围绕哪段话来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读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自然段，客家民居“奇”在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作者用了哪些方法对民居的特点进行说明的，有什么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客家民居中，体现了哪些中华传统文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161928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2"/>
          <a:stretch/>
        </p:blipFill>
        <p:spPr>
          <a:xfrm>
            <a:off x="325440" y="404640"/>
            <a:ext cx="7126200" cy="6048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744680" y="692280"/>
            <a:ext cx="789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福建客家土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"/>
          <p:cNvPicPr/>
          <p:nvPr/>
        </p:nvPicPr>
        <p:blipFill>
          <a:blip r:embed="rId2"/>
          <a:stretch/>
        </p:blipFill>
        <p:spPr>
          <a:xfrm>
            <a:off x="1258920" y="260280"/>
            <a:ext cx="7634160" cy="6337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54880" y="1052640"/>
            <a:ext cx="789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蒙古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"/>
          <p:cNvPicPr/>
          <p:nvPr/>
        </p:nvPicPr>
        <p:blipFill>
          <a:blip r:embed="rId2"/>
          <a:stretch/>
        </p:blipFill>
        <p:spPr>
          <a:xfrm>
            <a:off x="611280" y="333360"/>
            <a:ext cx="4248000" cy="32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"/>
          <p:cNvPicPr/>
          <p:nvPr/>
        </p:nvPicPr>
        <p:blipFill>
          <a:blip r:embed="rId3"/>
          <a:stretch/>
        </p:blipFill>
        <p:spPr>
          <a:xfrm>
            <a:off x="3564000" y="2523960"/>
            <a:ext cx="5083200" cy="403092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197"/>
          <p:cNvSpPr/>
          <p:nvPr/>
        </p:nvSpPr>
        <p:spPr>
          <a:xfrm>
            <a:off x="2771640" y="44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3"/>
          <p:cNvPicPr/>
          <p:nvPr/>
        </p:nvPicPr>
        <p:blipFill>
          <a:blip r:embed="rId2"/>
          <a:stretch/>
        </p:blipFill>
        <p:spPr>
          <a:xfrm>
            <a:off x="395280" y="932040"/>
            <a:ext cx="3745080" cy="336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4"/>
          <p:cNvPicPr/>
          <p:nvPr/>
        </p:nvPicPr>
        <p:blipFill>
          <a:blip r:embed="rId3"/>
          <a:stretch/>
        </p:blipFill>
        <p:spPr>
          <a:xfrm>
            <a:off x="4284720" y="333360"/>
            <a:ext cx="4464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5"/>
          <p:cNvPicPr/>
          <p:nvPr/>
        </p:nvPicPr>
        <p:blipFill>
          <a:blip r:embed="rId2"/>
          <a:stretch/>
        </p:blipFill>
        <p:spPr>
          <a:xfrm>
            <a:off x="684360" y="333360"/>
            <a:ext cx="4319280" cy="42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6"/>
          <p:cNvPicPr/>
          <p:nvPr/>
        </p:nvPicPr>
        <p:blipFill>
          <a:blip r:embed="rId3"/>
          <a:stretch/>
        </p:blipFill>
        <p:spPr>
          <a:xfrm>
            <a:off x="4284720" y="2997360"/>
            <a:ext cx="446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7"/>
          <p:cNvPicPr/>
          <p:nvPr/>
        </p:nvPicPr>
        <p:blipFill>
          <a:blip r:embed="rId2"/>
          <a:stretch/>
        </p:blipFill>
        <p:spPr>
          <a:xfrm>
            <a:off x="539640" y="765000"/>
            <a:ext cx="4032360" cy="496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8"/>
          <p:cNvPicPr/>
          <p:nvPr/>
        </p:nvPicPr>
        <p:blipFill>
          <a:blip r:embed="rId3"/>
          <a:stretch/>
        </p:blipFill>
        <p:spPr>
          <a:xfrm>
            <a:off x="4859280" y="765000"/>
            <a:ext cx="3960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4000" y="174600"/>
            <a:ext cx="8496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语认读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闽西南    粤东北　奇葩　骚扰　夯筑　竹篾　布局　均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雨侵蚀　      安然无恙      和睦相处　勤俭持家　     秩序井然　   遮天盖地　        清风徐来　蜂拥而来　家道兴旺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承前祖德勤和俭、启后子孙读与耕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起竹楼，傍水而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树满寨，花满园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476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按表格要求在文中画出相关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2349360"/>
          <a:ext cx="7777080" cy="4064040"/>
        </p:xfrm>
        <a:graphic>
          <a:graphicData uri="http://schemas.openxmlformats.org/drawingml/2006/table">
            <a:tbl>
              <a:tblPr/>
              <a:tblGrid>
                <a:gridCol w="2808360"/>
                <a:gridCol w="4968720"/>
              </a:tblGrid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材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化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7"/>
          <p:cNvSpPr/>
          <p:nvPr/>
        </p:nvSpPr>
        <p:spPr>
          <a:xfrm>
            <a:off x="3276720" y="1341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家民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197"/>
          <p:cNvSpPr/>
          <p:nvPr/>
        </p:nvSpPr>
        <p:spPr>
          <a:xfrm>
            <a:off x="1908000" y="170172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1:16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8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