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7.jpeg" ContentType="image/jpeg"/>
  <Override PartName="/ppt/media/image12.jpeg" ContentType="image/jpeg"/>
  <Override PartName="/ppt/media/image10.gif" ContentType="image/gif"/>
  <Override PartName="/ppt/media/image8.wmf" ContentType="image/x-wmf"/>
  <Override PartName="/ppt/media/image14.gif" ContentType="image/gif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7.gif" ContentType="image/gi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878-2D57-455C-8136-ED1CA0AE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E38-BBF1-4948-B80F-B8CDDA3C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E0C-B1B6-4907-B74E-03B73B28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22D-4092-4C2A-84C1-0F4CB391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8398-3F25-4669-9D31-B6B13D83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1CAB-87B7-419F-82D5-B8B32385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8553-5BCF-46B0-932A-4BAEA789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3DC7-B82C-4BD0-863F-1B3FEBF9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A234-FA26-42F1-946F-C0906882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83D3-58DB-469B-AD37-647C8D29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E6F-80FF-413F-BBF7-2CF5B55F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A9D-3235-48B1-A584-9AECAEED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3A2B-4D4D-41D3-972B-52DE1DCB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A040-D05D-45BE-9F0B-E448E9E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F7EC-1DA9-45BC-976C-8FA84563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E54D-9E77-482D-92DE-72F89B26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D334-C188-4D2D-A394-1E6C1854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F6FA-2408-4C75-8911-2CAB7ECD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8BF0-4AA8-4871-A0F8-BC1CDE0E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BED6-AF48-4600-8EE0-92DB986B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89F5-DFC1-49A2-9CC7-1A6910BF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BC03-7B75-4EF4-8267-830A54C2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FAC-B968-439C-A2E7-001C4D4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20A6E-2F6A-448D-B944-515E32EA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630F-960D-4313-A15E-AB8AE3A0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9CC5-82D5-4681-811A-5A80CA9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2329-2A7F-4BD1-961C-AFAC7129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2BC5-C4C3-4FA7-AF31-96F776CA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CF8C-F037-46D0-87E0-C44A4DB6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E161-39A5-438B-BED7-1B52A308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BF6-FACC-41AB-B359-9F311C80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72D-FFF1-4281-A3B8-1EA1A568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7E6-7173-45CB-B3B6-244B3950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893-67E3-4FB3-B15E-C6A7F1B8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9F2-C1F6-4556-8645-B245E80E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F35-5E75-4B3A-AB86-273C59AC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31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0750-CA70-4539-BDA4-C0732D3E97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78C-9783-4DF9-BCD1-94EE41C047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C396-F6BB-4174-8C5F-3B8E48EB4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59,4,&#20844;&#27665;&#20026;&#20160;&#20040;&#22312;&#20139;&#21463;&#26435;&#21033;&#30340;&#21516;&#26102;&#24517;&#39035;&#23653;&#34892;&#20041;&#21153;&#65311;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hyperlink" Target="http://www.ok250.net/xhbook/index.asp" TargetMode="Externa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hya.zghx.com.cn/bbs/printpage.asp?BoardID=13&amp;ID=45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530950750&amp;tn=baiduimagedetail&amp;word=&#27946;&#25112;&#36745;&amp;in=14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ic_202360"/>
          <p:cNvPicPr/>
          <p:nvPr/>
        </p:nvPicPr>
        <p:blipFill>
          <a:blip r:embed="rId1"/>
          <a:srcRect l="0" t="0" r="0" b="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WordArt 3"/>
          <p:cNvSpPr txBox="1"/>
          <p:nvPr/>
        </p:nvSpPr>
        <p:spPr>
          <a:xfrm>
            <a:off x="684360" y="981000"/>
            <a:ext cx="6868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5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ffff"/>
                </a:solidFill>
                <a:latin typeface="隶书"/>
              </a:rPr>
              <a:t>第二课 我们应尽的义务</a:t>
            </a:r>
            <a:endParaRPr b="0" lang="en-US" sz="4800" spc="-1" strike="noStrike">
              <a:ln w="0">
                <a:noFill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546" name="WordArt 4"/>
          <p:cNvSpPr txBox="1"/>
          <p:nvPr/>
        </p:nvSpPr>
        <p:spPr>
          <a:xfrm>
            <a:off x="1154160" y="2565360"/>
            <a:ext cx="5927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公民的义务课件</a:t>
            </a:r>
            <a:r>
              <a:rPr b="0" lang="en-US" sz="4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模板下载</a:t>
            </a:r>
            <a:endParaRPr b="0" lang="en-US" sz="40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539280" y="206028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首先，公民享受权利，同时要履行义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其次，权利与义务本身是相互依存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第三，有些权利本身也是义务。（劳动和受教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第四，权利和义务是相互促进、相辅相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611280" y="40464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权利与义务的关系：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一致性、统一的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表现在四个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图片7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533520" y="8380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304920" y="1676520"/>
            <a:ext cx="8839080" cy="21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任何公民享有宪法和法律规定的权利，同时必须履行宪法和法律规定的义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　　　－－《中华人民共和国宪法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图片7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3"/>
          <p:cNvSpPr/>
          <p:nvPr/>
        </p:nvSpPr>
        <p:spPr>
          <a:xfrm>
            <a:off x="533520" y="8380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马克思1"/>
          <p:cNvPicPr/>
          <p:nvPr/>
        </p:nvPicPr>
        <p:blipFill>
          <a:blip r:embed="rId3"/>
          <a:stretch/>
        </p:blipFill>
        <p:spPr>
          <a:xfrm>
            <a:off x="0" y="1052640"/>
            <a:ext cx="3200400" cy="47242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6"/>
          <p:cNvSpPr/>
          <p:nvPr/>
        </p:nvSpPr>
        <p:spPr>
          <a:xfrm>
            <a:off x="3429000" y="155736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没有无义务的权利，也没有无权利的义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guestboo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380880"/>
            <a:ext cx="1676160" cy="125748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8"/>
          <p:cNvSpPr/>
          <p:nvPr/>
        </p:nvSpPr>
        <p:spPr>
          <a:xfrm>
            <a:off x="5364000" y="4724280"/>
            <a:ext cx="33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马克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468360" y="1052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书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页下面的小龚故事，回答故事后的两个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539640" y="242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、小龚照料孤身老人，体现了什么美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900000" y="299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中华民族关爱老人、孝敬老人的美德，应推崇的一种社会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684360" y="4005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、为什么社会给小龚高度赞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826920" y="472608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是时代的傍样，弘扬了中华民族的传统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1619280" y="0"/>
            <a:ext cx="54720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我们的道德义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2005717223044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3240000" cy="2664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3"/>
          <p:cNvSpPr/>
          <p:nvPr/>
        </p:nvSpPr>
        <p:spPr>
          <a:xfrm>
            <a:off x="250920" y="3933720"/>
            <a:ext cx="3097080" cy="1169280"/>
          </a:xfrm>
          <a:prstGeom prst="rect">
            <a:avLst/>
          </a:prstGeom>
          <a:noFill/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时间献给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——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丛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635280" y="2102400"/>
            <a:ext cx="5329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从看到失学儿童的第一眼到被死神眷顾之前，他把所有的时间都给了那些需要帮助的孩子，没有丝毫保留，甚至不惜向生命借贷，他曾经用舞台构筑课堂，用歌声点亮希望。今天他的歌喉也许不如往昔嘹亮，却赢得了最饱含敬意的喝彩。事迹：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年前一次义演改变了丛飞的人生，从此他热心公益事业，为社会公益演出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400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多场，义工服务时间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6000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多小时，无私捐助失学儿童和残疾人达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146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人，认养孤儿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37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人，捐助金额超过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300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万元。但丛飞的家俭朴得令人难以置信。去年，丛飞患胃癌晚期，而他却把大家捐给他治病的钱拿出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万元捎往贵州织金县贫困山区。</a:t>
            </a:r>
            <a:r>
              <a:rPr b="1" lang="zh-CN" sz="18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u=2557548014,246517995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2830680" cy="309564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3"/>
          <p:cNvSpPr/>
          <p:nvPr/>
        </p:nvSpPr>
        <p:spPr>
          <a:xfrm>
            <a:off x="3348000" y="1890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洪战辉携妹求学，道德精神感动中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3348000" y="1268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的最后一个月，一个名叫洪战辉的大三学生成为中国互联网上点击率最高的人物。洪战辉，湖南怀化学院的一名在读大学生，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那年家庭突发重大变故：父亲疯了，亲妹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50920" y="378936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死了，父亲又捡回一个遗弃女婴，母亲和弟弟后来也相继离家出走。洪战辉稚嫩的肩膀过早地压上了生活的重担。从读高中时，洪战辉就把这个和自己并没有血缘关系的妹妹带在身边，一边读书一边照顾年幼的妹妹，靠做点小生意和打零工来维持生活，并把妹妹带到自己上大学的异地他乡上学，如今已经照顾妹妹整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1042920" y="105228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所谓道德义务是指社会成员依据社会道德规范，自觉自愿地承担对他人、对社会的道德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432080" cy="1789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r053"/>
          <p:cNvPicPr/>
          <p:nvPr/>
        </p:nvPicPr>
        <p:blipFill>
          <a:blip r:embed="rId2"/>
          <a:stretch/>
        </p:blipFill>
        <p:spPr>
          <a:xfrm>
            <a:off x="250920" y="3679920"/>
            <a:ext cx="2765160" cy="31780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5"/>
          <p:cNvSpPr/>
          <p:nvPr/>
        </p:nvSpPr>
        <p:spPr>
          <a:xfrm>
            <a:off x="2195640" y="328464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作用：既利于形成温馨、和谐的人际关系，又能够促进整个社会的文明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395280" y="765000"/>
            <a:ext cx="64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1116000" y="692280"/>
            <a:ext cx="144360" cy="151272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1403280" y="404640"/>
            <a:ext cx="180036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法定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1476360" y="1844640"/>
            <a:ext cx="180036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道德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341964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宪法和法律规定公民必须履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3492360" y="148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社会成员依据社会道德规范，自觉自愿地承担对他人、对社会的道德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466560" y="2852640"/>
            <a:ext cx="468180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法定义务与道德义务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395280" y="350208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密切联系：有些道德义务被国家认可为法律规范，即成为法定义务。例如爱护公共财产、遵守社会公共秩序、尊重社会公德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二者有区别：法定义务是由法律规定的，道德义务是在社会生活中自发形成的；法定义务以国家强制力作后盾确保履行，道德义务靠舆论、习惯和社会成员自觉自愿来履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Idiom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755640" y="836640"/>
            <a:ext cx="58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468360" y="2492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4800600" y="1523880"/>
            <a:ext cx="40194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爱 国 守 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明 礼 诚 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团 结 友 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勤 俭 自 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敬 业 奉 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387880" y="457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国基本道德规范的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7" descr="SC20040818111257390"/>
          <p:cNvPicPr/>
          <p:nvPr/>
        </p:nvPicPr>
        <p:blipFill>
          <a:blip r:embed="rId2"/>
          <a:stretch/>
        </p:blipFill>
        <p:spPr>
          <a:xfrm>
            <a:off x="468360" y="1268280"/>
            <a:ext cx="363528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AE51-71AE-4B45-800F-48F2D17255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539280" y="148572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法定义务的含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权利与义务的关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公民基本义务的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道德义务的含义及作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法定义务与道德义务的关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公民的基本道德规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611280" y="40464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Arial"/>
              </a:rPr>
              <a:t>阅读与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250920" y="2492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义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2124000" y="69228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法定义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2195640" y="400536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道德义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5170680" y="428760"/>
            <a:ext cx="23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定义务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4606920" y="1197000"/>
            <a:ext cx="40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权利与义务的一致性（关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5099400" y="2708280"/>
            <a:ext cx="23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德义务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4500720" y="342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履行道德义务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4500720" y="4076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德义务与法定义务的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5192280" y="5430960"/>
            <a:ext cx="28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民的基本道德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1"/>
          <p:cNvSpPr/>
          <p:nvPr/>
        </p:nvSpPr>
        <p:spPr>
          <a:xfrm>
            <a:off x="1692360" y="1125360"/>
            <a:ext cx="431640" cy="35989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3600 h 3598920"/>
              <a:gd name="textAreaBottom" fmla="*/ 3505320 h 35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7"/>
                </a:lnTo>
                <a:cubicBezTo>
                  <a:pt x="10800" y="9906"/>
                  <a:pt x="5400" y="10805"/>
                  <a:pt x="0" y="10805"/>
                </a:cubicBezTo>
                <a:cubicBezTo>
                  <a:pt x="5400" y="10805"/>
                  <a:pt x="10800" y="11704"/>
                  <a:pt x="10800" y="12603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2"/>
          <p:cNvSpPr/>
          <p:nvPr/>
        </p:nvSpPr>
        <p:spPr>
          <a:xfrm>
            <a:off x="4140360" y="47628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3"/>
          <p:cNvSpPr/>
          <p:nvPr/>
        </p:nvSpPr>
        <p:spPr>
          <a:xfrm>
            <a:off x="3924360" y="2924280"/>
            <a:ext cx="576360" cy="2952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611280" y="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我们的法定义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533520" y="8380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57200" y="1371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明的上述活动，分别履行哪方面的义务？哪项是法定义务？把有关内容填入下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5" descr="gif008"/>
          <p:cNvPicPr/>
          <p:nvPr/>
        </p:nvPicPr>
        <p:blipFill>
          <a:blip r:embed="rId2"/>
          <a:stretch/>
        </p:blipFill>
        <p:spPr>
          <a:xfrm>
            <a:off x="0" y="0"/>
            <a:ext cx="163044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6168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950760" y="411120"/>
            <a:ext cx="25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付出的根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3759120" y="41112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付出的好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6443640" y="4381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这样做的后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79280" y="141912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230040" y="2651040"/>
            <a:ext cx="5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231840" y="401796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231840" y="538020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1187280" y="1270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家庭亲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1239840" y="264312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人承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1260360" y="393372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集体一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1332000" y="522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社会规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4"/>
          <p:cNvSpPr/>
          <p:nvPr/>
        </p:nvSpPr>
        <p:spPr>
          <a:xfrm>
            <a:off x="385128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进了父子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3995640" y="26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让同学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3708360" y="3860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帮助班级、集体贡献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6516720" y="134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令家人失望、难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6732720" y="270972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产生信任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6477120" y="3789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自已成为一个自私自利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3924360" y="52293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维护了公园的秩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6661080" y="52293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治安管理处罚法的处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8"/>
          <p:cNvSpPr/>
          <p:nvPr/>
        </p:nvSpPr>
        <p:spPr>
          <a:xfrm>
            <a:off x="582480" y="12445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533520" y="8380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457200" y="1371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们在社会中生活，不仅享有宪法规定的各项基本权利，还要对他人、对社会履行相应的义务。这些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义务来自亲情、道德、纪律、法律等各个方面。其中，法定义务是宪法和法律规定公民必须履行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gif008"/>
          <p:cNvPicPr/>
          <p:nvPr/>
        </p:nvPicPr>
        <p:blipFill>
          <a:blip r:embed="rId2"/>
          <a:stretch/>
        </p:blipFill>
        <p:spPr>
          <a:xfrm>
            <a:off x="0" y="0"/>
            <a:ext cx="163044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2"/>
          <p:cNvSpPr/>
          <p:nvPr/>
        </p:nvSpPr>
        <p:spPr>
          <a:xfrm>
            <a:off x="7391520" y="0"/>
            <a:ext cx="1752480" cy="1219320"/>
          </a:xfrm>
          <a:prstGeom prst="cloudCallout">
            <a:avLst>
              <a:gd name="adj1" fmla="val -148189"/>
              <a:gd name="adj2" fmla="val 83592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案例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543800" cy="449568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4"/>
          <p:cNvSpPr/>
          <p:nvPr/>
        </p:nvSpPr>
        <p:spPr>
          <a:xfrm>
            <a:off x="539640" y="4784760"/>
            <a:ext cx="8001000" cy="947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小珊是否需要纳税？为什么？</a:t>
            </a:r>
            <a:r>
              <a:rPr b="1" lang="zh-CN" sz="2800" spc="-1" strike="noStrike">
                <a:solidFill>
                  <a:srgbClr val="990033"/>
                </a:solidFill>
                <a:latin typeface="华文中宋"/>
                <a:ea typeface="华文中宋"/>
              </a:rPr>
              <a:t>（提示：用权利和义务一致性观点来分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学生讨论回答自己所了解的公民的基本义务还有哪些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5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4248000" cy="574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公民的基本义务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94920" y="1197000"/>
            <a:ext cx="822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维护国家统一和全国各民族团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保守国家机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爱护公共财物，遵守劳动纪律，遵守公共秩序，尊重社会公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维护祖国安全、荣誉和利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依法服兵役和参加民兵组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依法纳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乐铃"/>
          <p:cNvPicPr/>
          <p:nvPr/>
        </p:nvPicPr>
        <p:blipFill>
          <a:blip r:embed="rId1"/>
          <a:stretch/>
        </p:blipFill>
        <p:spPr>
          <a:xfrm>
            <a:off x="7151760" y="0"/>
            <a:ext cx="19922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85080" cy="43923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1908000" y="508464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黑体"/>
              </a:rPr>
              <a:t>思考：这幅漫画说明什么情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2:01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