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chimes.wav" ContentType="audio/x-wav"/>
  <Override PartName="/ppt/media/type.wav" ContentType="audio/x-wav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ACE-4D29-485D-994A-52E14DBE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B41-0CCC-4E2C-9F3E-BED97640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F3E-7F46-462B-96B2-59F8E987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D3B-0982-4494-BDE8-DA1D74CE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EF88-8D85-4CC7-BEF7-E44D10DD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B854-79CC-4D88-A217-B3D6C536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1C29-7A70-4F13-821E-AAF40A97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FDF3-C149-4749-B130-9CD0C9B9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6F11-4A72-492E-A9F7-4979706D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0A3E-0056-42AA-BC63-8279C448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EE4E-9365-4AFD-8899-FEFC8AAE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329-024B-4D04-92A0-F4274340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B3B7-B30C-48F9-BBC4-7C23AB2A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62E8-CAC5-4E5B-929C-E3CD263C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717A-D022-448F-BD40-579421F6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5530-3648-41C3-A6AD-837AC303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C841-9456-4893-9F4E-A14F8319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5A75F-F676-4FB8-AFC9-61E8FF4B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E207-0514-4C21-8CDE-3A6A9742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374F7-C5B5-49AB-9F15-B29940F4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87C04-9566-4152-9E79-82CEF70C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8512C-675E-417F-AEDD-2555BBC2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649-BCD1-4113-9E67-0E088E25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20420-4B3D-411F-8DBC-88D95AD6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59F37-1600-4039-B152-BE016BBC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030AD-AF85-4D59-8EB0-B8C393A0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E101D-23F6-4341-9DAA-661A5CE8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52C1-B9B7-48A9-B800-7EE870E8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F3E92-5AE5-49D7-85F9-E42AB03C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31CCE-6FAB-4511-BD34-44C741FD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336-AA11-4C32-B9E6-4D304F74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167-6368-4C39-93A9-19F2E5D8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66B-466C-4FD8-8F00-C1341D07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91A-C025-4513-8BE2-A6A102C8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E74-398B-4419-AF97-CF016214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D66-FEC4-48F7-836D-247BB217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258E-B82F-4E1A-8455-A2CC4731E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6E31-3304-4295-A0B5-856E5FC4EB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紙角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12F1-8F56-44DE-A409-1BD9DDCAF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3"/>
          <p:cNvSpPr txBox="1"/>
          <p:nvPr/>
        </p:nvSpPr>
        <p:spPr>
          <a:xfrm>
            <a:off x="395280" y="1197000"/>
            <a:ext cx="701532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公输语文课件</a:t>
            </a:r>
            <a:r>
              <a:rPr b="1" lang="en-US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362320" y="3500280"/>
            <a:ext cx="401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《墨子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395360" y="47242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《墨子》一书现在一般认为是墨子的弟子及其再传弟子记述墨子言行的辑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2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重点理解并记忆加横线词语的含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1219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文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邻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敝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欲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28600" y="175248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锦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邻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短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欲窃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28600" y="2590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梁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邻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糠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欲窃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304920" y="3124080"/>
            <a:ext cx="19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何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30492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304920" y="4191120"/>
            <a:ext cx="39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轩之与敝舆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04920" y="4800600"/>
            <a:ext cx="48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臣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吏之攻宋也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此同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228600" y="571500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虽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公输盘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云梯，必取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4343400" y="1219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华丽的车子；破车子；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304920" y="213372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舍弃，丢掉；锦绣衣裳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8098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粗布短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4572000" y="2590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好饭好菜；粗劣食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220968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怎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1905120" y="365760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方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3336840" y="421164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如同，好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30492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我；认为；是；以上行为；一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5029200" y="5715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虽是这样；替；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楷体简体"/>
              </a:rPr>
              <a:t>重点理解下列句子的含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304920" y="609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其文轩，邻有敝舆而欲窃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28600" y="13716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其锦绣，邻有短褐而欲窃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28600" y="2133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其梁肉，邻有糠糟而欲窃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28600" y="327672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犹文轩之与敝舆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228600" y="502920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臣以王吏之攻宋也，为与此同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304920" y="5791320"/>
            <a:ext cx="51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虽然，公输盘为我为云梯，必取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304920" y="990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抛掉自己彩饰的车子，看到邻居有破车子便想去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228600" y="1752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放着自己的锦绣衣裳不穿，看见邻居有粗布短袄就想去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228600" y="25146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Times New Roman"/>
              </a:rPr>
              <a:t>抛掉自己的好饭好菜不吃，看见邻居有糟糠这样粗劣的食物便想去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22860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为有窃疾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2362320" y="2895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这个人一定犯有偷窃的毛病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3124080" y="32767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这就好像华丽的车子同破旧的车子相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228600" y="3733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荆有云梦，犀兕麋鹿满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1"/>
          <p:cNvSpPr/>
          <p:nvPr/>
        </p:nvSpPr>
        <p:spPr>
          <a:xfrm>
            <a:off x="3733920" y="37339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楚国有云梦泽，犀牛麋鹿到处都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2"/>
          <p:cNvSpPr/>
          <p:nvPr/>
        </p:nvSpPr>
        <p:spPr>
          <a:xfrm>
            <a:off x="228600" y="4191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宋，所谓无雉兔鲋鱼者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3"/>
          <p:cNvSpPr/>
          <p:nvPr/>
        </p:nvSpPr>
        <p:spPr>
          <a:xfrm>
            <a:off x="228600" y="4572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宋国，是大家所说的没有野鸡、兔子、鲫鱼的地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304920" y="5410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我认为您派人攻打宋国，是同这个害偷窃病的人一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5"/>
          <p:cNvSpPr/>
          <p:nvPr/>
        </p:nvSpPr>
        <p:spPr>
          <a:xfrm>
            <a:off x="304920" y="6172200"/>
            <a:ext cx="8229600" cy="4597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虽是这样，但是公输盘给我造好了云梯，我一定要打下宋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文本框 8198"/>
          <p:cNvSpPr/>
          <p:nvPr/>
        </p:nvSpPr>
        <p:spPr>
          <a:xfrm>
            <a:off x="4284720" y="1413000"/>
            <a:ext cx="3936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228600" y="0"/>
            <a:ext cx="30481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7621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拜见了楚王，说：“现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在这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有个人，抛掉自己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华丽的车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看到邻人有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破车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便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去偷；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抛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自己的锦绣衣裳，看见邻人有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粗布短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就想去偷；抛掉自己的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好饭好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吃，看见邻人有糟糠这样粗劣的食物便想去偷。这是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什么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的人呢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80880" y="4952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楚王说：“这个人一定患了偷窃的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毛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28600" y="53352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说：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楚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土地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方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五千里，宋国的土地，方圆只有五百里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就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好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华丽的车子和破车子相比。楚国有云梦泽，那里满是犀牛、麋鹿之类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长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汉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里的鱼、鳖、鼋、鼍多得天下无比，宋国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就像人们说的那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是个连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野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兔子、鲫鱼都没有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的地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这就好像好饭好菜和糟糠相比。楚国有松、梓、楩、楠、樟这些名贵的木材，宋国却没有什么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大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这就好像锦绣衣裳和粗布短袄相比。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为大王派人攻打宋国，正是和这个害偷窃病的人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隶书"/>
              </a:rPr>
              <a:t>一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228600" y="0"/>
            <a:ext cx="29718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3"/>
          <p:cNvSpPr/>
          <p:nvPr/>
        </p:nvSpPr>
        <p:spPr>
          <a:xfrm>
            <a:off x="228600" y="609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重点理解并记忆下列加横线词的意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28600" y="1752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攻城之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机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子墨子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28600" y="3886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吾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所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距子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228600" y="2743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之攻械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子墨子之守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304920" y="4572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楚王问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304920" y="5105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宋城上而待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30492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不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228600" y="3276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228600" y="1219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墨子解带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4343400" y="1219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城墙；木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228600" y="2286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多次；巧妙的战术；同“拒”，抵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533412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用完；同“御”，抵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2819520" y="3276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同“屈”，折服；可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2819520" y="38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用什么办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7"/>
          <p:cNvSpPr/>
          <p:nvPr/>
        </p:nvSpPr>
        <p:spPr>
          <a:xfrm>
            <a:off x="2133720" y="4572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用意、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8"/>
          <p:cNvSpPr/>
          <p:nvPr/>
        </p:nvSpPr>
        <p:spPr>
          <a:xfrm>
            <a:off x="32767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入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12408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即使；我；杀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228600" y="0"/>
            <a:ext cx="335268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04920" y="609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于是，楚王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召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。先生墨子解下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衣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在地上围个圈儿作为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城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用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木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作为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守城的器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公输盘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多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用了攻城的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巧妙战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先生墨子多次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抵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了回去。公输盘攻城的办法都用完了，先生墨子守城的办法还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绰绰有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04920" y="35053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折服了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还说：“我知道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用什么办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对付您了，我不说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04920" y="44956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也说：“我知道你要用什么办法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对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我，我也不说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914400" y="55627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楚王问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他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说这些话的用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228600" y="0"/>
            <a:ext cx="30481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80880" y="83808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说：“公输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先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的意思，不过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杀死我。杀了我，宋国就守不住了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以破城而入了。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但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我的学生禽滑厘等三百人，已经拿着我的守城器械，在宋国城墙上等待楚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入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了。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即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杀了我，也不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杀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保卫宋国的人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380880" y="4724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楚王说：“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好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我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不攻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宋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44B2-2428-4676-AC85-8B9061BBF8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228600" y="0"/>
            <a:ext cx="21337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请你总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50920" y="76500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《公输》通过墨子（              　）的故事，生动地叙述了墨子为实现自己的（          　）主张，所表现出的（              　）和（                ）的精神，同时也暴露了公输盘和楚王（                  ），从而说明只有把（          ）和（           ）结合起来，才能迫使侵略者收敛其野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0880" y="36576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墨子最终制止了这场战争，他采用（                             ）的办法，从道义上谴责楚攻宋之不义，他善用（        ），层层说理，在说理中运用大量（       ）句，增强了说服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581280" y="685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止楚攻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5029200" y="1219320"/>
            <a:ext cx="14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非攻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438280" y="16002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艰苦实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076720" y="162864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顽强斗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684360" y="2492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阴险狡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5796000" y="2421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道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684360" y="2924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实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762120" y="4191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以子之矛攻子之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5715000" y="4648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571500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排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6"/>
          <p:cNvSpPr/>
          <p:nvPr/>
        </p:nvSpPr>
        <p:spPr>
          <a:xfrm>
            <a:off x="3635280" y="422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墨子</a:t>
            </a: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墨子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书现在一般认为是墨子的弟子及其再传弟子记述墨子言行的辑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墨子（约前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7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前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90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名翟，相传为战国时期宋国人，后长期住在鲁国，战国初期的思想家、教育家、政治家，是墨家的创始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背景介绍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春秋战国时期，各国统治者为了各自的利益，进行了长期的兼并战争，给当时的人民带来了无穷的灾难。为了阻止楚王伐宋，墨子历尽千辛万苦，不怕牺牲，用自己的智慧使战争发动者理屈词穷，又凭借谋略使他们不敢轻举妄动，最终组织了战争的发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380880" y="990720"/>
            <a:ext cx="62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你想学好本文吗？请跟我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57200" y="18288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第一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：读准字音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57200" y="2438280"/>
            <a:ext cx="82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第二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：读准句读，根据意义正确划分句子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节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，       坚持多读，不读破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57200" y="35053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第三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：走近墨子其人其世界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457200" y="4191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第四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：熟读全文后，初步把握墨子劝阻楚国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攻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宋国的三个步骤，试着全盘分析课文的内容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结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80880" y="5334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第五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：学习第一步骤的内容，记忆重点词语的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方正楷体简体"/>
              </a:rPr>
              <a:t>含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，努力让自己能流畅地翻译此部分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04920" y="609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读准字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295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楚造云梯之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行十日十夜而至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57200" y="1828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夫子何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                       北方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臣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57200" y="2362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             胡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于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" y="31240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有余于地而不足于民          邻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敝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欲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57200" y="3886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犀兕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鹿满之           江汉之鱼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天下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57200" y="4648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谓无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兔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鱼者也                     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80880" y="5334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荆有长松文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豫章           子墨子之守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380880" y="5715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然臣之弟子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等三百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12408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xi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647712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ǐ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2362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ā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594360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w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205740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u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3657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shu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64771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xi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457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jī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18148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b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548640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4572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x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76212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s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1066680" y="3581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4267080" y="3505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bi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5"/>
          <p:cNvSpPr/>
          <p:nvPr/>
        </p:nvSpPr>
        <p:spPr>
          <a:xfrm>
            <a:off x="48006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u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55627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tu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1371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zh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198108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f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502920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di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190512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z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23623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pi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304812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n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640080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y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4"/>
          <p:cNvSpPr/>
          <p:nvPr/>
        </p:nvSpPr>
        <p:spPr>
          <a:xfrm>
            <a:off x="175248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q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5"/>
          <p:cNvSpPr/>
          <p:nvPr/>
        </p:nvSpPr>
        <p:spPr>
          <a:xfrm>
            <a:off x="6781680" y="5638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g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6"/>
          <p:cNvSpPr/>
          <p:nvPr/>
        </p:nvSpPr>
        <p:spPr>
          <a:xfrm>
            <a:off x="6324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qi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7"/>
          <p:cNvSpPr/>
          <p:nvPr/>
        </p:nvSpPr>
        <p:spPr>
          <a:xfrm>
            <a:off x="990720" y="990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bā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28600" y="6858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重点理解并记忆加横线的词的意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" y="1295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闻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" y="1752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愿借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57200" y="2209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输盘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57200" y="2666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7200" y="3200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荆国有余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而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808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可谓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不可谓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不可谓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不可谓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不可谓</a:t>
            </a:r>
            <a:r>
              <a:rPr b="1" lang="zh-CN" sz="2400" spc="-1" strike="noStrike" u="sng">
                <a:solidFill>
                  <a:srgbClr val="ff33cc"/>
                </a:solidFill>
                <a:uFillTx/>
                <a:latin typeface="Times New Roman"/>
              </a:rPr>
              <a:t>知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57200" y="5334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既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言之王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57200" y="5791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45720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胡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1908000" y="129528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夫子，先生、老师；对建立了自己学派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的尊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133720" y="1752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133720" y="2209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同“悦”，高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13372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解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6708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在；足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1143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聪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268360" y="4114800"/>
            <a:ext cx="212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对人亲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友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4191120" y="411480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忠诚，尽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57913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坚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7162920" y="4191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明白事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2633760" y="4941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既然这样；停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2695680" y="53481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已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2666880" y="573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为什么；引见；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28600" y="68580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重点语句理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4920" y="1219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夫子何命焉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04920" y="1676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献十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04920" y="21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吾义固不杀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04920" y="2666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墨子起，再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28600" y="3657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杀所不足而争所有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2860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义不杀少而杀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30492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胡不已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2286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可，吾既已言之王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304920" y="5791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胡不见我于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30492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宋何罪之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438280" y="1219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先生您有什么见教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2438280" y="1676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请允许我奉送给您十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2438280" y="21337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我坚持合宜的道德情理，坚决不杀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2819520" y="26668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先生墨子站起身来，拜了两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2819520" y="3124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宋国有什么罪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3276720" y="36576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</a:rPr>
              <a:t>杀害自己缺少的民众而争夺自己并不缺少的土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2743200" y="40384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</a:rPr>
              <a:t>自己说是讲道义，懂得不去杀少数人，如今却要去杀众多的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1828800" y="4724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为什么不停止制造云梯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3581280" y="5257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不行，我已经对楚王说过这件事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2438280" y="57913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为什么不向楚王引见我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文本框 8198"/>
          <p:cNvSpPr/>
          <p:nvPr/>
        </p:nvSpPr>
        <p:spPr>
          <a:xfrm>
            <a:off x="2700360" y="836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28600" y="0"/>
            <a:ext cx="376704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80880" y="6858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给楚国制造云梯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这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器械，制成后，要用它去攻打宋国。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先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墨子听到这个消息，就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鲁国动身，走了十天十夜到达郢都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会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533520" y="26668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说：“先生有什么指教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04920" y="32004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墨子说：“北方有人欺侮我，我希望借重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力量杀掉他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990720" y="4114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不高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533520" y="45720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说：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请允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我奉送给您十金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04920" y="51055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公输盘说：“我是个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讲道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人，绝不  能平白无故杀人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68580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先生墨子站起身来，拜了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两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说：“请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我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解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件事。我在北方听说您造了云梯，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用它攻打宋国。宋国有什么罪呢？楚国有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的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土地，缺少的是民众，如今却去牺牲自己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缺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民众而争夺自己并不缺少的土地，这不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能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是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聪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之举；宋国没有罪却去攻打它，这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不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说是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友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行为；你懂得这个道理，却不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据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力争，这不能说你对楚王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尽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；你去力争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了，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却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没有结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这不能说你是一个坚强的人。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自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说讲道义，懂得不去杀少数人，如今却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去</a:t>
            </a:r>
            <a:r>
              <a:rPr b="1" lang="zh-CN" sz="3200" spc="-1" strike="noStrike">
                <a:solidFill>
                  <a:srgbClr val="969696"/>
                </a:solidFill>
                <a:latin typeface="Times New Roman"/>
                <a:ea typeface="隶书"/>
              </a:rPr>
              <a:t>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众多的人，这不能说你是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明白事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人。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28600" y="0"/>
            <a:ext cx="29718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部分内容翻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10:20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41Z</dcterms:modified>
  <cp:revision>4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