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07E-7F8F-4094-BB9D-CB59AEB3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DD7-87F6-48B7-8137-96987CB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41EF3-60FA-4151-A499-91D3F60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EE716-1F5E-44CC-BC5E-7E1A84B7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BBD51-A815-4577-893E-2020B397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84ADE-670D-45C4-B113-8807B29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0F98A-98B3-48C7-BC52-7B3EECB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65588-C212-406D-AEC4-E03194F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56A38-0BD8-4653-BC6D-06D4307D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69AC6-56D1-4A5D-9090-EFF59E1B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E177C-47AA-480D-8260-8C0B42AD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52627-14E4-4349-8695-6261AD1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C46-0F3E-4113-9295-0903650E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238A0-DC0E-4633-9D2A-B4E5765F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700EC-DE5D-48C9-8C62-15124F2B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41056-8C05-4B2E-AD63-8815325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249AC-C773-42D3-8AFE-0C385989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56688-9116-4BE3-94A9-50B117C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C54D-A603-4204-8D13-BFB5D5E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DACC5-254B-4285-9477-73316A6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AACF4-AAB3-40E2-A957-7D5746A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2292-13BA-48E0-8E2E-0417FF26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DC0C2-9285-415E-BE70-BB326826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EE5-86AA-4D67-85B4-75EE4F55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9943-5B62-4EF8-A04D-CF45A72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6339A-4894-4E3F-B37C-FCC78757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7E29-25CB-4E11-8EB2-C86B489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676A6-1553-4864-A8E8-8034801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EB9B4-6B05-4FE9-A039-26E40456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A622E-7F96-4FFF-8D46-E6A7CF2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63D54-4982-48DE-9B10-EDD7DD34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F7D94-9D70-4BEE-B563-4D36FAD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BF7D0-974C-4E41-A39C-22098CC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03CE-A0B7-43FC-92DD-A81E1272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055F-F2A9-4279-B1B8-1263E65E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C18EC-A801-43D5-BDEC-0631E62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AA79-6026-434E-8A47-CAAEE0C2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CF23-8FCA-4E40-B40A-204407EA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03997-23C2-43F5-BAF9-9B4E8AD0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A392E-FE77-444C-9627-93731387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D80C5-81A0-47F1-8D4C-032CC694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77671-DA03-4DB7-8C93-8DEF778B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B9190-BA65-46DD-A4CD-17D0A9FB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70D1E-39ED-4AFF-8FA8-11AC9E72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8DD43-DB26-45C9-93F3-EB2C097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94E9-4652-4125-9CB2-6D864B9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49B46-00E5-4BCB-A326-3E15CCD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57515-99D9-43D9-B6E5-602F8F2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8B3B4-DF43-42ED-B28B-29D7AA0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A2E08-30A3-48B4-8AB0-855D85A4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CCDDE-CC32-4F21-B745-3DFD9EC9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4742F-F64C-43A2-983F-D9A50AE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80C91-DD71-4C5F-BA9E-6416627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CC77C-E435-422D-9540-B1AC1DD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B8B43-35D2-4B35-9E0A-80B84592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532B9-22BB-45D7-953C-953077E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BA3E-A032-4045-AF48-3B185EB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56462-501C-46BB-A736-427C602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AEB01-4DD7-41D3-9E81-DCD50F7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CB5EE-39D8-419C-85B8-9B1D039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7DD33-064C-44BD-A3F4-EA69900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1E623-2EE2-4C6B-BFDB-79310DBD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A94E3-97E9-4EF0-A925-5153F9F9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9A0DC-4501-46E1-B3A8-57C43242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F98-2206-4923-98FD-882E406B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A6FC-8B0A-4C9A-A8C3-7C0C6EAA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961-9A9F-4690-91DC-BE6D2A8F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4C7E-BC90-4B47-AEB1-FEEBB12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33D-D832-44D6-87E6-F486AF7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B1D8-EEC2-439E-98C4-28D1A8A6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A94D-B9E7-40CF-A753-A5FD551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FF4-64CE-4C63-A8E2-6ED3CEF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0B06-FF3F-48E9-88E7-6274343A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341-01C0-406B-8C26-C22A7AF8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99CD-7E49-440E-9F1C-BC069799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1DC7-7E29-4CB2-9904-B00518B6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809C-8C7E-497A-A466-825B832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DDAF-80DE-47B5-87B2-3BC14C3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7153-1B58-45D0-A5AF-6EA40580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634-EBED-4B76-80C8-F110FE2F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1B5E-C9A9-4906-9E55-23C16869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FE30-CAA2-4C19-B502-1CDC4FD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F856-1EF9-4B99-9A0B-E015784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3553-2E4E-43D2-ABB0-C1A4A43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4A8E-AA0A-4617-8569-3E8DFD6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0286-3D6C-43ED-B9DC-7616C1D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0075-80A7-4E3D-BD23-CB42C1F3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E5D9-66F3-4256-8960-1757CDEC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1C70-FE01-4FE7-8BC4-9ACB7BDD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E550F-EC0D-4F3B-9274-0B4B6134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910-2DF7-4BD1-9CC6-F088A56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95D7-F5A8-4DD5-ABF5-B2FAB05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7861-E3DA-4506-B0B3-56AC7D44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58DF-25A4-4443-8473-1A53BCD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3FDC-027A-45DB-8D58-7F3B32C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2C32-4BF4-4D1C-A1D9-1F008CD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C240-436B-4E1D-B19C-D5FE0723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8F12-AA29-4A42-BB50-D8938D0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4F12-6DBD-4DF2-9FF9-AE7E0A1C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C7AE-B48C-42A8-A2FA-79FDC25E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039F-A77D-48BE-B4E3-FBBC48E4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42B6-95FB-45FF-83A4-73201BF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32A42-13E2-417C-86F3-99B5662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9625-71E1-4FD2-B48A-6A5276AC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04C0-56A2-4B9B-9E06-B13BDEC3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9C92-6D97-4E3F-83FE-79F0598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5E58-17CB-43A3-8ECA-2193EE1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DC0E-F888-433C-BD86-B69E2BB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727C9-5D7D-4FDF-8045-A7D0650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334C-93B1-4D3B-BEE4-13A543B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8B0A-4B53-4860-958A-0CCFA982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52365-B092-404B-9AEE-1B4E5608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96C-BD28-49AE-86E0-EAF2EC0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A6CC-D007-42C8-AD43-CE3A7D69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A60C-38BF-45D8-90B5-2D7052AC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BF55-86BF-4583-BF1C-E64484B7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94E4E-67B2-460E-AD65-28959777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64B6-FFE6-4B29-AE02-258E2F3B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894C-8F52-4B9E-9746-C458D12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0DAE-30D6-4FCF-B4C4-4732A073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2647-9F3F-4CEC-89FC-54BCD46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86311-DE5A-47F5-8B2E-6F04BB1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E28A-E4AF-4C5F-A14B-CDDDFA1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061-9D2C-40CE-B5D0-036E477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CEF30-6E5E-4B2C-A827-C9CCED9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CA8E-ACBE-4746-8AC1-9EB46584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7B2E-C8C6-410C-8684-5699A40C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4388-8E11-4178-841F-3B8C3D61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87D3B-995F-4ED1-9CF6-8BD7ACFB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B0B4-3302-4461-95CA-18691AC7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979A-2026-4E68-A399-F4AA0D5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7CAF-52C8-44A2-A19A-04E4F1A9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0A8DE-0C17-47DB-A3B5-E63B8CA9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2ACC-9ED2-4A04-A746-895EA368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527-98B8-4B19-96E5-F339FB8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57F8-DA24-43C1-9D55-D4EDAF5E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14FE9-D06B-4122-AF6C-3BCB8305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8EA95-C2CE-440F-997F-D81AC349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05644-E551-4CD0-ADDA-A01D118D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60B57-3BC1-4587-AE39-1A6FD0C9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B244-1896-4F0B-B8CF-C8EEDE0B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3FB85-32D1-4543-B799-FE7BE39C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95BD2-E416-439C-BF67-474877D1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F23B-722C-44EA-827D-01748E1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EBDC7-0A24-4103-A677-7A0581A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BBE-186F-45FC-8867-85ADFDD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EE16-7A3C-447F-9860-FEE62EA3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8BE6-ECED-418F-8398-91EE9CF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B87D-C8D2-485B-AD2C-7AA2752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9C12-666C-4833-8CAD-9FD13FE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CDAD5-2215-442D-BF0D-BBE528A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B13E9-3FAC-48E3-8D74-53AFFB11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C0BA-8673-44C6-B4E0-CD4A177E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DA4E1-0D82-4FAA-BD1C-813A33E7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672B-54E2-4A57-A7FF-E0327903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D18C1-31C3-45A4-BBBC-1101DADE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ED10-1BE1-4E41-92FA-07E2E17C22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F83-D992-43AA-B48C-12D7716F82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A214-AB6F-4A6B-BBE1-7B95BAA016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E23-2AB0-4FDD-849C-66D5056BB3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A33-8EA5-4E89-8739-9977189EC2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773E-3A56-48AD-A4E8-109A4FD04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E08-1F95-45CB-B051-4B22FB669F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CEE6-A87C-4BAD-AC21-B0A0C9A7EB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C5D9-755A-479A-9352-AE09A4FDAB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CAA-9DC1-4CF3-87B1-684E9C396C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8CD-CEBB-4645-9131-CE173346B4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9653-E4E1-4391-93CB-FF50612F3B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D4C-D77D-4150-863E-EF0FC611D2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684360" y="1989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购物场所我知道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395280" y="134136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</a:rPr>
              <a:t>你记住了几处购物场所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0"/>
          <p:cNvPicPr/>
          <p:nvPr/>
        </p:nvPicPr>
        <p:blipFill>
          <a:blip r:embed="rId2"/>
          <a:stretch/>
        </p:blipFill>
        <p:spPr>
          <a:xfrm>
            <a:off x="6443640" y="5516640"/>
            <a:ext cx="234000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47628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504d"/>
                </a:solidFill>
                <a:latin typeface="Arial"/>
              </a:rPr>
              <a:t>第二关    竞猜智乐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请你选择一个或一类购物场所，把该购物场所的特点叙述出来，由其他同学判断这是哪个或哪类购物场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gif014"/>
          <p:cNvPicPr/>
          <p:nvPr/>
        </p:nvPicPr>
        <p:blipFill>
          <a:blip r:embed="rId2"/>
          <a:stretch/>
        </p:blipFill>
        <p:spPr>
          <a:xfrm>
            <a:off x="8101080" y="5864400"/>
            <a:ext cx="104292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0" y="333360"/>
            <a:ext cx="9144000" cy="67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Arial"/>
              </a:rPr>
              <a:t>第三关　快乐赢家大比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请你根据顾客的购物需求，为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客选择合适的购物场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现实生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随着社会的进步和科学技术的发展，人们的购物方式也发生了变化。现在我们不用现金，甚至不用去商店就可以买到东西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8200"/>
          <p:cNvSpPr/>
          <p:nvPr/>
        </p:nvSpPr>
        <p:spPr>
          <a:xfrm>
            <a:off x="1222200" y="12654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1476360" y="278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" descr="57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生活瞭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未来商店会使什么样子的呢？我们来设计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57E6-E177-43E5-8034-2172F4811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4047082_175349468000_2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4483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1116000" y="314172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50920" y="3141720"/>
            <a:ext cx="8496360" cy="308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形象好，气质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热爱本岗位，有责任心，积极向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口齿伶俐，讲普通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态度亲切，微笑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熟知购物场所特点，为顾客选择适宜的购物场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324000" y="620640"/>
            <a:ext cx="8496000" cy="48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504d"/>
                </a:solidFill>
                <a:latin typeface="Arial"/>
              </a:rPr>
              <a:t>第一关　火眼金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在快速转换的画面中，尽可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多地记住其中的购物场所的名称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4"/>
          <p:cNvPicPr/>
          <p:nvPr/>
        </p:nvPicPr>
        <p:blipFill>
          <a:blip r:embed="rId2"/>
          <a:stretch/>
        </p:blipFill>
        <p:spPr>
          <a:xfrm>
            <a:off x="7531200" y="5934240"/>
            <a:ext cx="1612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8200"/>
          <p:cNvSpPr/>
          <p:nvPr/>
        </p:nvSpPr>
        <p:spPr>
          <a:xfrm>
            <a:off x="2400480" y="5994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SC00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DSC0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4:43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