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10.gif" ContentType="image/gif"/>
  <Override PartName="/ppt/media/image5.gif" ContentType="image/gif"/>
  <Override PartName="/ppt/media/image1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602-4A20-487F-ABF3-A8F5B576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9BE-7C29-459D-9D37-666A077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409-430F-447D-AFDD-8690B6DF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88D-56BC-4A43-9A0C-491B2E24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A789-8BAD-4F7D-B394-C3BD0FFC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E5DF-BD23-40D4-8C79-23B98958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D877-D28A-4F9A-ABA9-5AE0A185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6127-0D1A-4908-A3E6-1EFA9A78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1CA4-E1F2-430F-9306-6673B1D8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58CA-4B39-4909-8F1D-7D51E042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5F69-0189-4D4E-8E52-2CDE8455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371-F744-46F9-89CE-1189C3C8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3246-C68A-4766-9FAA-F3998519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8E69-1C6A-468D-8645-2A4C5E6A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4983-8638-41EC-824E-9F11FF60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6F6B-4B97-4111-88A9-B70D56CA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AEC4-E700-45A0-AA51-82BFF441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5B5-C03C-4085-8D21-9D7276B9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72E-B799-4FC0-8270-0499FDE2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101-2816-4E83-BD52-D282ACC1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2FA-D468-4670-961E-BE07C292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17B-FCF9-4DD3-92C3-F4786C4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4C0-0997-4198-B80A-6A0703D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265-75B8-4FE1-81B8-A930AB7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6B0D-EAEA-46ED-A52D-A56B5D761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AE90-3F24-468A-8C3D-1897CEE2DE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.baidu.com/i?ct=503316480&amp;z=&amp;tn=baiduimagedetail&amp;word=%BB%A8%B2%DD%CA%F7&#318;&#892;&#428;&amp;in=11949&amp;cl=2&amp;lm=-1&amp;st=&amp;pn=12&amp;rn=1&amp;di=90415843110&amp;ln=1999&amp;fr=ala0&amp;fm=ala0&amp;fmq=1328441814546_R&amp;ic=&amp;s=&amp;se=&amp;sme=0&amp;tab=&amp;width=&amp;height=&amp;face=&amp;is=&amp;istype=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2451240" y="3068640"/>
            <a:ext cx="4190760" cy="279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4520" y="380880"/>
            <a:ext cx="77724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课  欢快的青春节拍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感悟青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95280" y="26028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二单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20111011151231740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ic001"/>
          <p:cNvPicPr/>
          <p:nvPr/>
        </p:nvPicPr>
        <p:blipFill>
          <a:blip r:embed="rId2"/>
          <a:stretch/>
        </p:blipFill>
        <p:spPr>
          <a:xfrm>
            <a:off x="8715240" y="5734080"/>
            <a:ext cx="857520" cy="946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755640" y="21337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彬彬担心的是什么？为什么会有这样的担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你赞成彬彬的处理方式吗？说说你的理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男女生之间要不要交往？应该如何交往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云形标注 6"/>
          <p:cNvSpPr/>
          <p:nvPr/>
        </p:nvSpPr>
        <p:spPr>
          <a:xfrm>
            <a:off x="0" y="1052640"/>
            <a:ext cx="4286160" cy="1000080"/>
          </a:xfrm>
          <a:prstGeom prst="cloudCallout">
            <a:avLst>
              <a:gd name="adj1" fmla="val -42629"/>
              <a:gd name="adj2" fmla="val 501745"/>
            </a:avLst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适当把握交往的“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20111011151231740"/>
          <p:cNvPicPr/>
          <p:nvPr/>
        </p:nvPicPr>
        <p:blipFill>
          <a:blip r:embed="rId1"/>
          <a:stretch/>
        </p:blipFill>
        <p:spPr>
          <a:xfrm>
            <a:off x="11736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868680" y="33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出谋划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0111011151231740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20111011151231740"/>
          <p:cNvPicPr/>
          <p:nvPr/>
        </p:nvPicPr>
        <p:blipFill>
          <a:blip r:embed="rId3"/>
          <a:stretch/>
        </p:blipFill>
        <p:spPr>
          <a:xfrm>
            <a:off x="179280" y="333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线形标注 2 5"/>
          <p:cNvSpPr/>
          <p:nvPr/>
        </p:nvSpPr>
        <p:spPr>
          <a:xfrm>
            <a:off x="6156360" y="476280"/>
            <a:ext cx="3643200" cy="1785960"/>
          </a:xfrm>
          <a:prstGeom prst="borderCallout2">
            <a:avLst>
              <a:gd name="adj1" fmla="val 18750"/>
              <a:gd name="adj2" fmla="val -8333"/>
              <a:gd name="adj3" fmla="val 6398"/>
              <a:gd name="adj4" fmla="val -8759"/>
              <a:gd name="adj5" fmla="val 271023"/>
              <a:gd name="adj6" fmla="val -32722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春期的异性交往是正常的，是有益于身心发展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云形标注 6"/>
          <p:cNvSpPr/>
          <p:nvPr/>
        </p:nvSpPr>
        <p:spPr>
          <a:xfrm>
            <a:off x="0" y="333360"/>
            <a:ext cx="4284720" cy="2016000"/>
          </a:xfrm>
          <a:prstGeom prst="cloudCallout">
            <a:avLst>
              <a:gd name="adj1" fmla="val -18430"/>
              <a:gd name="adj2" fmla="val -8504"/>
            </a:avLst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坦诚相待，互相激励，优势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24000" y="450864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云形标注 7"/>
          <p:cNvSpPr/>
          <p:nvPr/>
        </p:nvSpPr>
        <p:spPr>
          <a:xfrm>
            <a:off x="395280" y="5229360"/>
            <a:ext cx="4067280" cy="1628640"/>
          </a:xfrm>
          <a:prstGeom prst="cloudCallout">
            <a:avLst>
              <a:gd name="adj1" fmla="val 44925"/>
              <a:gd name="adj2" fmla="val 122833"/>
            </a:avLst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适当把握交往的“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2009042412190421"/>
          <p:cNvPicPr/>
          <p:nvPr/>
        </p:nvPicPr>
        <p:blipFill>
          <a:blip r:embed="rId4"/>
          <a:stretch/>
        </p:blipFill>
        <p:spPr>
          <a:xfrm>
            <a:off x="2700360" y="2522520"/>
            <a:ext cx="410364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200954043725552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"/>
          <p:cNvSpPr/>
          <p:nvPr/>
        </p:nvSpPr>
        <p:spPr>
          <a:xfrm>
            <a:off x="1042920" y="836640"/>
            <a:ext cx="34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利用“异性效应”取长补短、丰富完善个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利用“异性效应”提高学习与活动效率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利用“异性效应”提高自我评价的能力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利用“异性效应”激励自己奋发向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2_101027090402_1"/>
          <p:cNvPicPr/>
          <p:nvPr/>
        </p:nvPicPr>
        <p:blipFill>
          <a:blip r:embed="rId2"/>
          <a:stretch/>
        </p:blipFill>
        <p:spPr>
          <a:xfrm>
            <a:off x="5292720" y="1368360"/>
            <a:ext cx="26640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200954043725552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矩形 6" descr=""/>
          <p:cNvPicPr/>
          <p:nvPr/>
        </p:nvPicPr>
        <p:blipFill>
          <a:blip r:embed="rId2"/>
          <a:stretch/>
        </p:blipFill>
        <p:spPr>
          <a:xfrm>
            <a:off x="831960" y="471600"/>
            <a:ext cx="3051000" cy="922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68360" y="1576440"/>
            <a:ext cx="738324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：你会把青春和以下 哪些词相连，并组成一句话来解释青春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翱翔   春天   朝阳   落叶   蓬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歌唱  萧瑟   落日  自立   奋斗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昂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还能想到哪些和青春有关的词？说一说你为什么会这样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95280" y="1341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活动一    青春的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春野.mp3" descr=""/>
          <p:cNvPicPr/>
          <p:nvPr/>
        </p:nvPicPr>
        <p:blipFill>
          <a:blip r:embed="rId3"/>
          <a:stretch/>
        </p:blipFill>
        <p:spPr>
          <a:xfrm>
            <a:off x="5940360" y="5084640"/>
            <a:ext cx="10238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68088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u=3399806824,2073142927&amp;fm=23&amp;gp=0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2438280" y="43164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每个人的年龄有四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220560" y="1700280"/>
            <a:ext cx="1521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实际年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心理年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生理年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社会年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200954043725552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684360" y="141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真正意义上的青春更多地体现在一个的心态、气质、想象力和情感中，是从生命潜流涌动的一种全新的感觉。青春是活力饿象征，它蕴含着智慧、勇敢和意志。要使我们的青春焕发光彩，我们应永远保持健康乐观、积极向上的良好心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906200" y="660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解读青春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u=1423479512,468074791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56320" y="4869000"/>
            <a:ext cx="16876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2009540437255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10"/>
          <p:cNvSpPr txBox="1"/>
          <p:nvPr/>
        </p:nvSpPr>
        <p:spPr>
          <a:xfrm>
            <a:off x="1547640" y="522936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决定青春的最重要因素是心境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2124000" y="47556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春的意义与价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11280" y="1125360"/>
            <a:ext cx="712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真正意义上的青春更多地体现在一个人的心态、气质、想象力和情感中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,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是从生命潜流中涌动的一种全新的感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青春是活力的象征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,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它蕴涵着智慧、勇敢和意志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青春将使我们对未来充满新奇，使我们有勇气去面对眼前的一切，使我们能够尽情地享受人生竞赛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013040" y="241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我的未来不是梦.mp3" descr=""/>
          <p:cNvPicPr/>
          <p:nvPr/>
        </p:nvPicPr>
        <p:blipFill>
          <a:blip r:embed="rId2"/>
          <a:stretch/>
        </p:blipFill>
        <p:spPr>
          <a:xfrm>
            <a:off x="7164360" y="5300640"/>
            <a:ext cx="8002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1294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2009480113636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WordArt 5"/>
          <p:cNvSpPr txBox="1"/>
          <p:nvPr/>
        </p:nvSpPr>
        <p:spPr>
          <a:xfrm>
            <a:off x="2195640" y="333360"/>
            <a:ext cx="4647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一、青春的幸福</a:t>
            </a:r>
            <a:endParaRPr b="1" i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116000" y="2781360"/>
            <a:ext cx="67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和儿童相比，我们拥有更多的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85760" y="342900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和父母相比，我们拥有更多的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116000" y="4005360"/>
            <a:ext cx="76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和老人相比，我们拥有更多的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1187280" y="1989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比一比我们所拥有的幸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200865211244305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68436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儿童相比，我们拥有更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971640" y="1773360"/>
            <a:ext cx="698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在认知上，拥有更多的知识，更多的智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在能力上，有更强的社会生存能力、自理自立能力、动手实践能力、自我认识与自我评价能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在情感上，情感认识更加深刻，感情更加丰富多彩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kurhan090100267"/>
          <p:cNvPicPr/>
          <p:nvPr/>
        </p:nvPicPr>
        <p:blipFill>
          <a:blip r:embed="rId1"/>
          <a:stretch/>
        </p:blipFill>
        <p:spPr>
          <a:xfrm>
            <a:off x="1116000" y="644400"/>
            <a:ext cx="4896000" cy="26607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24000" y="189000"/>
            <a:ext cx="407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父母相比，我们拥有更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611280" y="37893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活力、朝气、精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梦想、追求、激情、想象力、创造力、适应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更多学习的时间，发展的空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200471218543068137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324000" y="476280"/>
            <a:ext cx="5219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青春误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彬彬的困惑之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-334980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48"/>
          <p:cNvPicPr/>
          <p:nvPr/>
        </p:nvPicPr>
        <p:blipFill>
          <a:blip r:embed="rId1"/>
          <a:stretch/>
        </p:blipFill>
        <p:spPr>
          <a:xfrm>
            <a:off x="6732720" y="2349360"/>
            <a:ext cx="2195280" cy="4318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3"/>
          <p:cNvSpPr/>
          <p:nvPr/>
        </p:nvSpPr>
        <p:spPr>
          <a:xfrm>
            <a:off x="250920" y="981000"/>
            <a:ext cx="597852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知道从什么时候起，我们班的一些同学开始拿另外一些同学的生理发育特点说三道四，有时候还开玩笑。李明长得胖一点被叫做“大象”，小红长得瘦被喊成“金丝猴”，我长得高一些，本以为大家会羡慕我呢，谁知道也成了“长颈鹿”了，我只好弯着腰走路，谁知他们又叫我“鸵鸟”。哎，我们班成了“动物园”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他们是不是太过分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4A30-F4F7-4EF3-B988-ABAFC84479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762120" y="155412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老人相比，我们拥有更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89040" y="210348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强的记忆力，充满活力与朝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强的自信心、好奇心，丰富的想象力和创造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多学习的时间，强烈的求知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健康的体魄，更多的时间享受美好的生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多的机遇与挑战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…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20111011151231740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pic020"/>
          <p:cNvPicPr/>
          <p:nvPr/>
        </p:nvPicPr>
        <p:blipFill>
          <a:blip r:embed="rId2"/>
          <a:stretch/>
        </p:blipFill>
        <p:spPr>
          <a:xfrm>
            <a:off x="395280" y="47628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1476360" y="40464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826920" y="1268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拿别人的生理发育特点开玩笑是否合适？如果你也被别人取笑，你会有什么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云形标注 6"/>
          <p:cNvSpPr/>
          <p:nvPr/>
        </p:nvSpPr>
        <p:spPr>
          <a:xfrm>
            <a:off x="684360" y="2492280"/>
            <a:ext cx="5294160" cy="2881440"/>
          </a:xfrm>
          <a:prstGeom prst="cloudCallout">
            <a:avLst>
              <a:gd name="adj1" fmla="val -7333"/>
              <a:gd name="adj2" fmla="val -17800"/>
            </a:avLst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互交流、彼此尊重是我们需要遵循的基本准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20111011151231740"/>
          <p:cNvPicPr/>
          <p:nvPr/>
        </p:nvPicPr>
        <p:blipFill>
          <a:blip r:embed="rId1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"/>
          <p:cNvGrpSpPr/>
          <p:nvPr/>
        </p:nvGrpSpPr>
        <p:grpSpPr>
          <a:xfrm>
            <a:off x="179280" y="-316080"/>
            <a:ext cx="3384720" cy="1224000"/>
            <a:chOff x="179280" y="-316080"/>
            <a:chExt cx="3384720" cy="1224000"/>
          </a:xfrm>
        </p:grpSpPr>
        <p:pic>
          <p:nvPicPr>
            <p:cNvPr id="101" name="Picture 4" descr="zjk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79280" y="-316080"/>
              <a:ext cx="3384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794880" y="200520"/>
              <a:ext cx="1569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9"/>
          <p:cNvSpPr/>
          <p:nvPr/>
        </p:nvSpPr>
        <p:spPr>
          <a:xfrm>
            <a:off x="539640" y="2462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Arial"/>
              </a:rPr>
              <a:t>指   点   迷    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00000" y="981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于青春，我们充满了好奇，需要通过同学间的相互交流，彼此共享成长的体验。因此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彼此尊重是我们应遵循的基本准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尊重与关爱的环境中，我们将进一步体会到青春成长的美好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48"/>
          <p:cNvPicPr/>
          <p:nvPr/>
        </p:nvPicPr>
        <p:blipFill>
          <a:blip r:embed="rId3"/>
          <a:stretch/>
        </p:blipFill>
        <p:spPr>
          <a:xfrm>
            <a:off x="-684360" y="2611440"/>
            <a:ext cx="2195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900000" y="148428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最近，班里不少同学都在议论李强留了披肩发，感觉像歌星似的，“帅呆了” “酷毙了”，很有“个性”。我也赶新潮做了个发型，买了条很新潮的裤子，可妈妈说：“你是一个中学生，这样可不太好。”我很郁闷，我已经长大了，打扮是自己的事情，妈妈为什么还唠叨呢？真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116000" y="90792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青春误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彬彬的困惑之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48"/>
          <p:cNvPicPr/>
          <p:nvPr/>
        </p:nvPicPr>
        <p:blipFill>
          <a:blip r:embed="rId1"/>
          <a:stretch/>
        </p:blipFill>
        <p:spPr>
          <a:xfrm>
            <a:off x="7308720" y="2421000"/>
            <a:ext cx="2195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7"/>
          <p:cNvSpPr/>
          <p:nvPr/>
        </p:nvSpPr>
        <p:spPr>
          <a:xfrm>
            <a:off x="6875640" y="4653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20111011151231740"/>
          <p:cNvPicPr/>
          <p:nvPr/>
        </p:nvPicPr>
        <p:blipFill>
          <a:blip r:embed="rId1"/>
          <a:stretch/>
        </p:blipFill>
        <p:spPr>
          <a:xfrm>
            <a:off x="-108000" y="-243000"/>
            <a:ext cx="9609120" cy="7101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755640" y="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一说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24000" y="1413000"/>
            <a:ext cx="8388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彬彬所理解的“个性”是什么？你是怎样理解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彬彬对妈妈的唠叨很反感，这反映了他的一种什么心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00219b7b06491215218d4b"/>
          <p:cNvPicPr/>
          <p:nvPr/>
        </p:nvPicPr>
        <p:blipFill>
          <a:blip r:embed="rId1"/>
          <a:stretch/>
        </p:blipFill>
        <p:spPr>
          <a:xfrm>
            <a:off x="0" y="0"/>
            <a:ext cx="6985080" cy="463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luocj-1211188_b"/>
          <p:cNvPicPr/>
          <p:nvPr/>
        </p:nvPicPr>
        <p:blipFill>
          <a:blip r:embed="rId2"/>
          <a:stretch/>
        </p:blipFill>
        <p:spPr>
          <a:xfrm>
            <a:off x="0" y="2220840"/>
            <a:ext cx="6948360" cy="4637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20111211115722339"/>
          <p:cNvPicPr/>
          <p:nvPr/>
        </p:nvPicPr>
        <p:blipFill>
          <a:blip r:embed="rId3"/>
          <a:stretch/>
        </p:blipFill>
        <p:spPr>
          <a:xfrm>
            <a:off x="7559640" y="501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20111011151231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684360" y="692280"/>
            <a:ext cx="2819160" cy="99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教师寄语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74680" y="1658880"/>
            <a:ext cx="85946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着装上追求标新立异并不意味着有个性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成熟的标志也不是毫无原则地反对父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真正的个性在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从内心深处散发的魅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真正的独立是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逐渐摆脱依赖，勇于为自己行为负责的精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真正的青春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外在美和内在美的统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971640" y="1341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同桌丽丽成绩特别好，特别爱帮助人。我有些什么问题都喜欢和她讨论、交流，她也很乐意帮助我。可是没多久，就有同学在我们背后指手画脚，说我对她“有意思”。我很怕别人这样说，从此我便远远地躲着丽丽，丽丽也疏远我了，好郁闷！ 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48"/>
          <p:cNvPicPr/>
          <p:nvPr/>
        </p:nvPicPr>
        <p:blipFill>
          <a:blip r:embed="rId1"/>
          <a:stretch/>
        </p:blipFill>
        <p:spPr>
          <a:xfrm>
            <a:off x="7164360" y="2708280"/>
            <a:ext cx="1751040" cy="3384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2251440" y="423720"/>
            <a:ext cx="33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青春误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彬彬的困惑之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4:46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30Z</dcterms:modified>
  <cp:revision>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