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6.jpeg" ContentType="image/jpeg"/>
  <Override PartName="/ppt/media/image2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png" ContentType="image/png"/>
  <Override PartName="/ppt/media/image3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2524-6C3E-40DD-AB56-A668D1717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B24F-1B24-41C1-8719-0895FC9E5B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26C4A-1092-48A0-870D-5BCA29A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C0B83-DECB-4C94-8737-9D9E9D1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9F890-411E-4C78-B2EA-C3C0E49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3634E-3CAF-4DFC-8A98-D781F09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34B8F-3170-41BD-A734-D1B467C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CA002-611C-4270-97F2-BE88F4B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A02B6-5CA4-489A-9BB1-927C8AD1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37229-B4DC-400E-834D-237D96C8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30716-8215-4971-90B9-CF5FCC4F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C9D3C-4281-4871-AE27-7C64B62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FCBF-ABD3-45D0-B7BC-55F3A7AD642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0530C-F6CD-4F88-9FC2-860139D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0E4CE-829F-43AE-8A3A-E0A4C6DA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ED25C-E802-4D82-95B6-343B80F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D695B-0C64-4374-8268-D938F0C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BA9F3-36CD-4B1C-84CB-B7AFDD72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A293C-C9F6-402D-AE9F-D8FBF3C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D4019-5051-4502-8DD9-B52E656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41D13-9D12-4FCF-BD5B-440CD7D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4BE2D-791B-480F-8B94-BE7D5AC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0AD71-C207-4484-A5E4-0DF47105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4644-AE14-4382-88EE-0A10B2A0D8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1A7FC-6F0F-4E66-A18E-182D5AE5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0913A0-2954-484A-BEDD-D3F7CA99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04B397-E173-4328-8F52-F2C4E720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F269BC-7DDB-4D2A-A943-31772F3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822B9B-8578-49C2-A1CE-A19B45F8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3CC2F8-244D-465C-BA40-0AAA247A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581639-0B3D-433B-9BAF-D4A5C9A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15FFC7-1782-43FA-B795-77E59E5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BFBAF-95AC-41DA-9149-9BCAFF0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C85F5D-CD59-4CA9-A180-4B6AF82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E5CA0-B01F-4B3F-85BC-48221EF9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F06A5C-A97B-46DC-8EAA-E93F509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169123-3418-4ECD-9CE2-A2EA9EF4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950031-12E9-496F-9365-227DD85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78214-5C64-4DE4-BF83-4E240200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965F2-C4BA-4D59-9044-BD0B6297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8FFC7-070D-4D74-A471-3F69BD1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48C4D-79A1-40EE-8E71-CF68D5DF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E6A27-57D0-4D4E-80E8-5F03B24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1E6DE-2540-45AE-85BD-1D896DE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F3D8E-7D8B-41AA-A84D-568E2A7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F7448-6465-4366-8ACF-79109A0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06952-1BA8-4E36-AAB0-B5DEDC8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6F676-A357-46F3-88CF-6B9387A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0BC10-C102-4CDB-A424-B28CFE27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7D8F6-970F-4957-9EA8-FD953DF3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73A84-43A7-4670-AE75-29F731C4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8B03AE-85B3-468A-92ED-1FA2E5D6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0B2986-C77B-402C-9A15-7E1E72A6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89AA56-E5C6-4698-B8F3-AC20DA2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667442-2513-4A46-BECD-7D82E1E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01AC59-C847-406C-9283-EB16832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D7480-DF4F-42D4-8BFB-1A18EA48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A53BC3-4E56-41CE-AE74-67B96E8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E030E6-9D8A-4BEE-A3C3-BD52CAE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CFBA83-A53E-48CF-BC3E-18A8899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0ADC9A-DE1E-44A3-B065-482DC9F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E0F6FF-E963-4BDA-8956-E21C71E7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CF7A79-CC71-456D-A1C9-D8C9C6B0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FE400F-0CD9-4EB0-B09A-DC40623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83100D-E8AA-47A1-87C5-0EA5B054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1DBD39-A5F4-4DB8-8382-81EBC11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E26A3F-D68C-4206-86C4-DA6FBE06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52973-F0D3-4DAF-9F0E-E88783C2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1195AC-F0D1-40B2-BFAE-47099F2A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23D70C-270D-4F59-A929-B4D02B7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1ADBDF-3899-4461-935D-502D00B5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4EE172-4FEB-461F-9D0B-7FA4249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B3B035-99A6-43D6-8113-E661BCF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80A74B-656B-4DAE-8256-3B901E8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4AACD5-895D-401C-84C3-A778D7D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9A4A72-D459-4131-B3B8-61D48E23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88795E-1386-45A9-A877-84BE1A94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ABD68-2A7B-4F6D-9D52-B307CA0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A5643-9B54-4151-8B6B-710F8890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958BC-6CA3-41A4-B6BB-0B9B1A1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FA4E-CA77-4534-B2CD-79D95A631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7F999-28FE-409A-94A7-2BB66F7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D191-BED7-488A-B7E6-4BE4499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8C17-B29C-4CF4-90D9-CC59672A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6FB90-72FD-45FB-B5B9-F4E9425B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B926-CF64-40DE-A3A8-74950B90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679E8-D075-4BA7-B26A-952EBAE8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E5070-46A4-4362-897D-C227BF0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D4416-B55A-4EA6-AF14-17D3A329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A4AFF-4D37-4F1E-ABB7-D2E0EB36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64923-AFC9-4A62-BA78-B426245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C039-87B8-4D67-9AF1-A2A440997A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1AFE1-987A-4735-9E2E-541D0CA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13CC2-C926-4387-8C72-23E8E05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F6E59-8885-44F6-8C34-D942BD1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F499B-D14D-41A9-B869-2D08A4F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15E78-3C5B-4DB5-95C8-0552786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43E09-99F9-483C-864C-DA8E4EFD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E4125-0663-4E43-872F-F24657F3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C10FA-D50A-4482-98DA-A8AAE19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0B122-E15D-4432-A166-689ADB6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4A120-30EF-4DAB-87A3-70521B9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8F72-7645-4293-ADB4-28E8E16063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BF5A9-7A1C-4776-BCC0-B7134D7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2D108-74EC-4BF7-8272-AA5E2CF7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C6418-882A-4B1B-A322-1820F77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EACD1-C499-40FC-BFB9-58B9794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1CBD2-86ED-4CEF-8249-3B7A27B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A081A-D8CA-45FF-9436-5B88150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B8424-76E6-49CD-8901-50E2A54D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5E0AA-84F1-49C3-9E13-DD337874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A0ABC-8067-44F0-9E40-6065E72A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33B02-8FC0-401D-A5A1-FD1D6F0B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A44E-68A4-4DAC-8490-08DDDA0FBC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AE7D5-287C-4B50-8D3F-C122425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27108-5201-40BD-96D5-99A9E1D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D5FB0-E155-4F04-BBCD-96F3E2D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E95BB-C493-4A40-A066-FB7803A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B05FB-5C4E-4945-A2A8-3FEE895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28D9F-00BD-4856-9A98-285F709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A733C3-F251-436A-A164-56A72E8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87CAC9-040F-4F40-B6C1-D3995C5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34159-2AA0-4237-AB95-F5235D64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A2EC2-9882-4139-80AE-A39DAD56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66F5-F4FC-493C-89B8-60C6875F06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A6A78-3B6F-4063-A8B7-3F07F45D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C877A-B8D4-461B-967E-B2BB5656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B87BE-624D-4C22-B56A-0189F495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4B7EF-1EEC-44EA-949F-1641608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1C255-1CA8-41D0-B97D-DF94F790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6F650-798B-4B09-8B83-F93E06D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C9A0E1-75DA-4365-98DE-2F40C40A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8CDEF-EBD0-4968-B8BD-AC734F4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6DB18F-CA5A-43A6-8969-8E35C8D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89F9B-83DE-4124-B786-8CCF4A8E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2049-BAF3-4768-95BB-D4B1F22E36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A8C196-09A8-48AC-A4E6-D0A63B6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D95A4-9704-4C44-8847-ABFDC85F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56B9A-11FA-41A7-9824-92F6838B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AE66A-3A77-4263-A1BF-7315711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F15BE-CE07-4F87-8243-7C2E279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9F8EB-8073-4F4B-9452-54EFF9FC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32A2ED-3814-412B-92AF-7508D70D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652344-0943-4B90-BA84-2A79F06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87FAB-9CE0-4801-96D6-AEF1E1FE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7AE37-5038-4C47-86C7-16A11BC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9761-62BF-49D3-A168-41101676FF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20F29E-DCDC-4DC1-BA6A-16ED414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856D8-99F9-48C8-AE07-60C73F3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3DDD67-9860-4426-BB3C-B9C9572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5DD9E-7D58-4884-8732-049F5835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1A628-6111-40E2-A93B-06D82BEE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30667-5866-48DB-962C-63C6DE66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CD7BFF-3854-419B-874D-5B63108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6748C-6141-48D6-BB7D-CB04890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28A4B-7335-42B3-8D70-6819CBC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55CAF-E769-42B8-9058-F0115FFB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4A53-6C81-4AFB-97B7-9B2CC0E763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70245-A5DA-4D81-A5BE-6790C2B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35B93-684D-4D6F-9283-68925B2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316D94-7DA5-454C-97D8-7F09470B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EC881-6E42-4225-AB55-9F80DF7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51CE2-E90C-4D71-A147-EDBD98D9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08479-F6EE-4686-8957-E3E714BE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FC4B9-4D68-4A4E-8A51-FA179489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74FDD-BBB9-42CF-8058-2891F393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C27F4-46E6-4499-A682-F0B8F77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0B20F-3D4F-469E-B41A-2E5175F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:\ppt素材\b_12449129833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731-E6A1-429F-88CF-70CFB231BD5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88F-4AB1-4A89-8BD0-C7091AA69B9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089-04F4-48A8-9AE8-91E4E9B2A86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1053-EBF3-4EC8-8F94-A3EAEF19890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E5E9-B667-40A4-8F87-55F57A0045D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8F3-490F-4889-B798-8A8375551DE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E83A-C93E-497B-B04D-58D6F27DD79C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D56E-C0E7-49F7-AA49-C7BA0A56A2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94B-7859-4961-AC61-D4CA58C952F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3BE1-1528-44C5-B244-750879A878F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3E3-503C-444D-AB10-9B4577912C5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D84-B7A7-45E6-AF0D-AC4F703632F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C4F-5328-4231-BD75-2BF4058F6AA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7C55-92BE-4F12-85B2-5EF58C88489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1" descr=""/>
          <p:cNvPicPr/>
          <p:nvPr/>
        </p:nvPicPr>
        <p:blipFill>
          <a:blip r:embed="rId1"/>
          <a:stretch/>
        </p:blipFill>
        <p:spPr>
          <a:xfrm>
            <a:off x="1227240" y="2289240"/>
            <a:ext cx="6337080" cy="39355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1658160" y="941400"/>
            <a:ext cx="46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a3a3a"/>
                </a:solidFill>
                <a:latin typeface="宋体"/>
                <a:ea typeface="宋体"/>
              </a:rPr>
              <a:t>各族儿女手拉手课件</a:t>
            </a:r>
            <a:r>
              <a:rPr b="1" i="1" lang="en-US" sz="4000" spc="-1" strike="noStrike">
                <a:solidFill>
                  <a:srgbClr val="3a3a3a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3a3a3a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20061016955175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06" name="Picture 5" descr="eff7b22bb1bbcb04d52af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"/>
          <p:cNvSpPr/>
          <p:nvPr/>
        </p:nvSpPr>
        <p:spPr>
          <a:xfrm>
            <a:off x="2244960" y="390600"/>
            <a:ext cx="1534320" cy="642600"/>
          </a:xfrm>
          <a:prstGeom prst="rect">
            <a:avLst/>
          </a:prstGeom>
          <a:solidFill>
            <a:srgbClr val="ffff00"/>
          </a:soli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傣 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" descr="20090324114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6"/>
          <p:cNvSpPr/>
          <p:nvPr/>
        </p:nvSpPr>
        <p:spPr>
          <a:xfrm>
            <a:off x="1295280" y="174600"/>
            <a:ext cx="1895760" cy="642600"/>
          </a:xfrm>
          <a:prstGeom prst="rect">
            <a:avLst/>
          </a:prstGeom>
          <a:solidFill>
            <a:srgbClr val="77ae26"/>
          </a:solidFill>
          <a:ln w="25560">
            <a:solidFill>
              <a:srgbClr val="567f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Arial"/>
              </a:rPr>
              <a:t>蒙古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C:\Users\wangyx\AppData\Local\Microsoft\Windows\Temporary Internet Files\Content.IE5\KXOUI0VH\MC900066098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     “</a:t>
            </a: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那达慕”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191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那达慕是中国蒙古族人民具有鲜明民族特色的传统活动，也是蒙古族人民喜爱的一种传统体育活动形式。锡林郭勒盟的那达慕最具代表性。</a:t>
            </a: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那达慕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是蒙古语的译音，意为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娱乐、游戏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，以表示丰收的喜悦之情。每年农历六月初四（多在草绿花红、羊肥马壮的阳历七、八月）开始的那达慕，是草原上一年一度的传统盛会。 </a:t>
            </a: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13" name="图片 3" descr=""/>
          <p:cNvPicPr/>
          <p:nvPr/>
        </p:nvPicPr>
        <p:blipFill>
          <a:blip r:embed="rId2"/>
          <a:stretch/>
        </p:blipFill>
        <p:spPr>
          <a:xfrm>
            <a:off x="826920" y="0"/>
            <a:ext cx="1908360" cy="1927080"/>
          </a:xfrm>
          <a:prstGeom prst="rect">
            <a:avLst/>
          </a:prstGeom>
          <a:ln w="0">
            <a:noFill/>
          </a:ln>
        </p:spPr>
      </p:pic>
    </p:spTree>
  </p:cSld>
  <p:transition advTm="4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200801251627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Text Box 7" descr=""/>
          <p:cNvPicPr/>
          <p:nvPr/>
        </p:nvPicPr>
        <p:blipFill>
          <a:blip r:embed="rId2"/>
          <a:stretch/>
        </p:blipFill>
        <p:spPr>
          <a:xfrm>
            <a:off x="90360" y="316080"/>
            <a:ext cx="2195640" cy="148104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8199"/>
          <p:cNvSpPr/>
          <p:nvPr/>
        </p:nvSpPr>
        <p:spPr>
          <a:xfrm>
            <a:off x="276228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hiphotos.baidu.com/545744011/pic/item/df0fc0b00b44fb398ad4b2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雪顿节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515f"/>
                </a:solidFill>
                <a:latin typeface="Verdana"/>
              </a:rPr>
              <a:t>          </a:t>
            </a:r>
            <a:r>
              <a:rPr b="1" lang="zh-CN" sz="3800" spc="-1" strike="noStrike">
                <a:solidFill>
                  <a:srgbClr val="26515f"/>
                </a:solidFill>
                <a:latin typeface="Verdana"/>
              </a:rPr>
              <a:t>雪顿节是每年藏历六月底七月初，是西藏传统的节日。在藏语中，“雪”是酸奶子的意思，“顿”是“吃”、“宴”的意思，雪顿节按藏语解释就是吃酸奶子的节日，因此又叫“酸奶节”。因为雪顿节期间有隆重热烈的藏戏演出和规模盛大的晒佛仪式，所以有人也称之为“藏戏节”、“晒佛节”。</a:t>
            </a:r>
            <a:endParaRPr b="1" lang="en-US" sz="38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2"/>
          <a:stretch/>
        </p:blipFill>
        <p:spPr>
          <a:xfrm>
            <a:off x="395280" y="0"/>
            <a:ext cx="197964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WordArt 3"/>
          <p:cNvSpPr txBox="1"/>
          <p:nvPr/>
        </p:nvSpPr>
        <p:spPr>
          <a:xfrm>
            <a:off x="684360" y="1773360"/>
            <a:ext cx="7488000" cy="26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10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43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214200" y="835200"/>
            <a:ext cx="89298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回族人忌食猪肉、狗肉、马肉、驴肉和螺肉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忌讳别人在自己家里吸烟、喝酒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禁止在人前袒胸露臂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忌讳在背后诽谤和议论他人短处。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1" descr="u=3480304599,355284690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TextBox 2"/>
          <p:cNvSpPr/>
          <p:nvPr/>
        </p:nvSpPr>
        <p:spPr>
          <a:xfrm>
            <a:off x="395280" y="765000"/>
            <a:ext cx="7643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进入傣家竹楼，要把鞋脱在门外，而且在屋内走路要轻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不能进主人内室，不能坐门槛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不准用衣服当枕头或做枕头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晒衣服时，上衣要晒在高处，裤子和裙子要晒在低处。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图片 3" descr="u=2254444510,13453150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"/>
          <p:cNvSpPr/>
          <p:nvPr/>
        </p:nvSpPr>
        <p:spPr>
          <a:xfrm>
            <a:off x="6739200" y="42876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傣族竹楼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1" descr="u=9488321,26502152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33404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" descr="u=203257847,240499401&amp;fm=23&amp;gp=0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extBox 4"/>
          <p:cNvSpPr/>
          <p:nvPr/>
        </p:nvSpPr>
        <p:spPr>
          <a:xfrm>
            <a:off x="2563560" y="500040"/>
            <a:ext cx="138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蒙古包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755640" y="333360"/>
            <a:ext cx="216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9" name="图片 6" descr="u=1554587943,394612381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7" descr="u=1150586898,3548833301&amp;fm=23&amp;gp=0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9"/>
          <p:cNvSpPr/>
          <p:nvPr/>
        </p:nvSpPr>
        <p:spPr>
          <a:xfrm>
            <a:off x="33894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d4d4d"/>
                </a:solidFill>
                <a:latin typeface="Arial"/>
              </a:rPr>
              <a:t>壮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1" descr="u=2894709063,309007104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2" descr="u=3290177235,475831776&amp;fm=23&amp;gp=0.jpg"/>
          <p:cNvPicPr/>
          <p:nvPr/>
        </p:nvPicPr>
        <p:blipFill>
          <a:blip r:embed="rId2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Box 3"/>
          <p:cNvSpPr/>
          <p:nvPr/>
        </p:nvSpPr>
        <p:spPr>
          <a:xfrm>
            <a:off x="1286640" y="42876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孔雀舞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1" descr="u=2199555991,161174431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" descr="u=174599957,464791685&amp;fm=23&amp;gp=0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3"/>
          <p:cNvSpPr/>
          <p:nvPr/>
        </p:nvSpPr>
        <p:spPr>
          <a:xfrm>
            <a:off x="643680" y="85716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蒙古舞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4881600" y="35712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维吾尔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2" descr="u=696527980,2457980489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3" descr="u=1136517191,4185813867&amp;fm=21&amp;gp=0.jpg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" descr="u=3162309451,607624438&amp;fm=23&amp;gp=0.jpg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1" descr="u=1764757606,1275699553&amp;fm=90&amp;gp=0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2" descr="u=2624696338,4145164224&amp;fm=21&amp;gp=0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u=1154335279,253640529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2746440" y="47628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d4d4d"/>
                </a:solidFill>
                <a:latin typeface="Arial"/>
              </a:rPr>
              <a:t>祖国江山的保卫者 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文本框 8199"/>
          <p:cNvSpPr/>
          <p:nvPr/>
        </p:nvSpPr>
        <p:spPr>
          <a:xfrm>
            <a:off x="919080" y="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1" descr="u=146594719,1704335353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3071880" cy="192888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2" descr="u=1674019812,3283662697&amp;fm=21&amp;gp=0.jpg"/>
          <p:cNvPicPr/>
          <p:nvPr/>
        </p:nvPicPr>
        <p:blipFill>
          <a:blip r:embed="rId2"/>
          <a:stretch/>
        </p:blipFill>
        <p:spPr>
          <a:xfrm>
            <a:off x="3071880" y="0"/>
            <a:ext cx="3571920" cy="328608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" descr="u=3673002071,1053218192&amp;fm=23&amp;gp=0.jpg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4" descr="u=1612128684,3035387795&amp;fm=21&amp;gp=0.jpg"/>
          <p:cNvPicPr/>
          <p:nvPr/>
        </p:nvPicPr>
        <p:blipFill>
          <a:blip r:embed="rId4"/>
          <a:stretch/>
        </p:blipFill>
        <p:spPr>
          <a:xfrm>
            <a:off x="3143160" y="3286080"/>
            <a:ext cx="6000840" cy="357192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u=3495832667,1438292896&amp;fm=23&amp;gp=0.jpg"/>
          <p:cNvPicPr/>
          <p:nvPr/>
        </p:nvPicPr>
        <p:blipFill>
          <a:blip r:embed="rId5"/>
          <a:stretch/>
        </p:blipFill>
        <p:spPr>
          <a:xfrm>
            <a:off x="0" y="192888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" descr="u=457540755,405216054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2" descr="u=4264472814,3085918882&amp;fm=21&amp;gp=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" descr="u=3064415475,2586016495&amp;fm=21&amp;gp=0.jpg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4" descr="u=3758614813,4278470239&amp;fm=23&amp;gp=0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129-026C-4DCE-B306-987B89B497E0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1" descr="u=3271418849,840647075&amp;fm=21&amp;gp=0.jpg"/>
          <p:cNvPicPr/>
          <p:nvPr/>
        </p:nvPicPr>
        <p:blipFill>
          <a:blip r:embed="rId1"/>
          <a:stretch/>
        </p:blipFill>
        <p:spPr>
          <a:xfrm>
            <a:off x="5214960" y="328608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2" descr="u=222935496,4005439232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2714760" cy="333360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3" descr="u=3048282216,146745167&amp;fm=23&amp;gp=0.jpg"/>
          <p:cNvPicPr/>
          <p:nvPr/>
        </p:nvPicPr>
        <p:blipFill>
          <a:blip r:embed="rId3"/>
          <a:stretch/>
        </p:blipFill>
        <p:spPr>
          <a:xfrm>
            <a:off x="0" y="3286080"/>
            <a:ext cx="5214960" cy="357192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4" descr="u=1602987981,225545163&amp;fm=23&amp;gp=0.jpg"/>
          <p:cNvPicPr/>
          <p:nvPr/>
        </p:nvPicPr>
        <p:blipFill>
          <a:blip r:embed="rId4"/>
          <a:stretch/>
        </p:blipFill>
        <p:spPr>
          <a:xfrm>
            <a:off x="2714760" y="0"/>
            <a:ext cx="642924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7" descr="xinsrc_512020204191325718835105"/>
          <p:cNvPicPr/>
          <p:nvPr/>
        </p:nvPicPr>
        <p:blipFill>
          <a:blip r:embed="rId1"/>
          <a:stretch/>
        </p:blipFill>
        <p:spPr>
          <a:xfrm>
            <a:off x="0" y="642960"/>
            <a:ext cx="4716360" cy="4869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2008112217341541"/>
          <p:cNvPicPr/>
          <p:nvPr/>
        </p:nvPicPr>
        <p:blipFill>
          <a:blip r:embed="rId2"/>
          <a:stretch/>
        </p:blipFill>
        <p:spPr>
          <a:xfrm>
            <a:off x="5003640" y="1628640"/>
            <a:ext cx="3930840" cy="5031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0"/>
          <p:cNvSpPr/>
          <p:nvPr/>
        </p:nvSpPr>
        <p:spPr>
          <a:xfrm>
            <a:off x="521964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5" name="矩形 7" descr=""/>
          <p:cNvPicPr/>
          <p:nvPr/>
        </p:nvPicPr>
        <p:blipFill>
          <a:blip r:embed="rId3"/>
          <a:stretch/>
        </p:blipFill>
        <p:spPr>
          <a:xfrm>
            <a:off x="4429080" y="357120"/>
            <a:ext cx="4071960" cy="92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vip-minzu-00087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38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20081022110734"/>
          <p:cNvPicPr/>
          <p:nvPr/>
        </p:nvPicPr>
        <p:blipFill>
          <a:blip r:embed="rId2"/>
          <a:stretch/>
        </p:blipFill>
        <p:spPr>
          <a:xfrm>
            <a:off x="0" y="333360"/>
            <a:ext cx="3995640" cy="6524640"/>
          </a:xfrm>
          <a:prstGeom prst="rect">
            <a:avLst/>
          </a:prstGeom>
          <a:ln w="0">
            <a:noFill/>
          </a:ln>
        </p:spPr>
      </p:pic>
      <p:pic>
        <p:nvPicPr>
          <p:cNvPr id="588" name="矩形 8" descr=""/>
          <p:cNvPicPr/>
          <p:nvPr/>
        </p:nvPicPr>
        <p:blipFill>
          <a:blip r:embed="rId3"/>
          <a:stretch/>
        </p:blipFill>
        <p:spPr>
          <a:xfrm>
            <a:off x="3838680" y="1771560"/>
            <a:ext cx="133020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3" descr="傣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4"/>
          <p:cNvSpPr/>
          <p:nvPr/>
        </p:nvSpPr>
        <p:spPr>
          <a:xfrm>
            <a:off x="3668040" y="304920"/>
            <a:ext cx="124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d4d4d"/>
                </a:solidFill>
                <a:latin typeface="Arial"/>
              </a:rPr>
              <a:t>傣族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3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矩形 5"/>
          <p:cNvSpPr/>
          <p:nvPr/>
        </p:nvSpPr>
        <p:spPr>
          <a:xfrm>
            <a:off x="5076720" y="3573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92" name="Picture 5" descr="20090722135141"/>
          <p:cNvPicPr/>
          <p:nvPr/>
        </p:nvPicPr>
        <p:blipFill>
          <a:blip r:embed="rId1"/>
          <a:stretch/>
        </p:blipFill>
        <p:spPr>
          <a:xfrm>
            <a:off x="0" y="0"/>
            <a:ext cx="3780000" cy="53006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20090722140657(1)"/>
          <p:cNvPicPr/>
          <p:nvPr/>
        </p:nvPicPr>
        <p:blipFill>
          <a:blip r:embed="rId2"/>
          <a:stretch/>
        </p:blipFill>
        <p:spPr>
          <a:xfrm>
            <a:off x="4932360" y="981000"/>
            <a:ext cx="4211640" cy="5877000"/>
          </a:xfrm>
          <a:prstGeom prst="rect">
            <a:avLst/>
          </a:prstGeom>
          <a:ln w="0">
            <a:noFill/>
          </a:ln>
        </p:spPr>
      </p:pic>
      <p:pic>
        <p:nvPicPr>
          <p:cNvPr id="594" name="矩形 8" descr=""/>
          <p:cNvPicPr/>
          <p:nvPr/>
        </p:nvPicPr>
        <p:blipFill>
          <a:blip r:embed="rId3"/>
          <a:stretch/>
        </p:blipFill>
        <p:spPr>
          <a:xfrm>
            <a:off x="447840" y="5234040"/>
            <a:ext cx="3267000" cy="1641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4"/>
          <p:cNvSpPr/>
          <p:nvPr/>
        </p:nvSpPr>
        <p:spPr>
          <a:xfrm>
            <a:off x="826920" y="981000"/>
            <a:ext cx="3313440" cy="1008360"/>
          </a:xfrm>
          <a:prstGeom prst="rect">
            <a:avLst/>
          </a:prstGeom>
          <a:gradFill rotWithShape="0">
            <a:gsLst>
              <a:gs pos="0">
                <a:srgbClr val="2065a5"/>
              </a:gs>
              <a:gs pos="100000">
                <a:srgbClr val="2a87d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维吾尔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96" name="Picture 7" descr="FC83C53246800EFF776CB1914D6CC3B9"/>
          <p:cNvPicPr/>
          <p:nvPr/>
        </p:nvPicPr>
        <p:blipFill>
          <a:blip r:embed="rId1"/>
          <a:stretch/>
        </p:blipFill>
        <p:spPr>
          <a:xfrm>
            <a:off x="395280" y="2852640"/>
            <a:ext cx="5048280" cy="37148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0805103042531"/>
          <p:cNvPicPr/>
          <p:nvPr/>
        </p:nvPicPr>
        <p:blipFill>
          <a:blip r:embed="rId2"/>
          <a:stretch/>
        </p:blipFill>
        <p:spPr>
          <a:xfrm>
            <a:off x="5508720" y="620640"/>
            <a:ext cx="3348000" cy="4791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3249-t03"/>
          <p:cNvPicPr/>
          <p:nvPr/>
        </p:nvPicPr>
        <p:blipFill>
          <a:blip r:embed="rId1"/>
          <a:stretch/>
        </p:blipFill>
        <p:spPr>
          <a:xfrm>
            <a:off x="4643280" y="1484280"/>
            <a:ext cx="3830760" cy="51134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4857840" y="214200"/>
            <a:ext cx="3213000" cy="1922760"/>
          </a:xfrm>
          <a:prstGeom prst="rect">
            <a:avLst/>
          </a:prstGeom>
          <a:gradFill rotWithShape="0">
            <a:gsLst>
              <a:gs pos="0">
                <a:srgbClr val="508107"/>
              </a:gs>
              <a:gs pos="100000">
                <a:srgbClr val="6cae0b"/>
              </a:gs>
            </a:gsLst>
            <a:lin ang="16200000"/>
          </a:gradFill>
          <a:ln w="9360">
            <a:solidFill>
              <a:srgbClr val="699c1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满   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0" name="图片 4" descr="u=1178515136,1473966589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3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中国是一个统一的多民族国家，共有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。其中汉族人口最多，约占总人口的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92%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；其余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人口约占总人口的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8%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，因其人口较少，习惯上统称少数民族。在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少数民族中，人口超过或接近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的，有壮族、满族、回族、彝族、苗族、维吾尔族、土家族、藏族、蒙古族等，其中壮族人口超过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50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，是少数民族中人口最多的民族。人口在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以下的门巴族、鄂伦春族、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独龙族、塔塔尔族、赫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哲族、高山族、珞巴族，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是少数民族中人口较少的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。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2" name="Picture 11" descr="20066178532926238"/>
          <p:cNvPicPr/>
          <p:nvPr/>
        </p:nvPicPr>
        <p:blipFill>
          <a:blip r:embed="rId1"/>
          <a:stretch/>
        </p:blipFill>
        <p:spPr>
          <a:xfrm>
            <a:off x="4427640" y="3645000"/>
            <a:ext cx="4464000" cy="302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2:47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9Z</dcterms:modified>
  <cp:revision>2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