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B13-9610-47B8-8A82-06435BA3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F47-34F0-4186-9AC3-0ECE164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53C-DAD7-4479-A23A-CA602C78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9AC-3EF7-450C-9686-A90C7D2A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FD17-A445-4246-8D62-0156A009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7CE-10F8-4A55-9320-BB85D58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04F-3805-40C9-9918-BD08842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CA81-2FC9-45CE-BFA8-AD0ABFF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D6D-4BFD-47EC-9E42-05D048BD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3DEA-F1D5-4F1A-897C-D238F00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83C-2CB1-4D88-817C-E114045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4F0-A2D0-4148-968B-6FAF0348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94B0-7C46-4AC5-A373-7825FC4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F1C-89DE-4F3B-B7B7-CA834177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0B6E-387B-4C7A-823F-055B43C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E1BE-CD42-4470-9123-29367A5B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8ED7-E794-4A06-8774-4CDD8F7A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8A8-D071-465B-A6B5-8E094195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9BF-360F-4362-845B-3D77E9E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886-70F2-465D-A54A-596CBB1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CDF-FF78-403C-AC6F-F482B9D5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4ED-899D-4C85-87E7-0F2EB8C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0A3-DE22-4ED0-B7CE-7EF0328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FEC-DA62-4457-B07F-D1C6484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A239-6FA7-4329-BB66-08C0EA48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E7D-7AF0-4982-830D-637AA7A7BF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278,16,&#24187;&#28783;&#29255; 16" TargetMode="External"/><Relationship Id="rId3" Type="http://schemas.openxmlformats.org/officeDocument/2006/relationships/hyperlink" Target="270,17,&#24187;&#28783;&#29255; 17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1187280" y="1268280"/>
            <a:ext cx="6769440" cy="7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规则在哪里课件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solidFill>
                <a:srgbClr val="00206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Picture 4" descr="0feb68fdc79574a0b801a0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863640" y="1052640"/>
              <a:ext cx="6307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6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你们在生活中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还发现哪些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则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3f011b7ef1a9b92b29388a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476360" y="2852640"/>
            <a:ext cx="71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ff"/>
                </a:solidFill>
                <a:latin typeface="Arial"/>
              </a:rPr>
              <a:t>生活中处处有规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200"/>
          <p:cNvSpPr/>
          <p:nvPr/>
        </p:nvSpPr>
        <p:spPr>
          <a:xfrm>
            <a:off x="2824200" y="2517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121001a508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250920" y="350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课的时候，张伟争着举手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，得到老师的同意了，他站起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回答。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260280"/>
            <a:ext cx="22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练习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08472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84360" y="9079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明过马路时没有走人行横道。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7164360" y="907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"/>
              </a:rPr>
              <a:t>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4000" y="1413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红在排队买电影票的时候看见了很多人，她不想排在后面，向前面的朋友小花挤挤眼睛，想排到她的面前去，小花摆摆手，说“不行”。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859280" y="2708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071320" y="4365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9518062787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228680" y="126828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电影院没有规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378520" y="404640"/>
            <a:ext cx="9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楷体_GB2312"/>
              </a:rPr>
              <a:t>请同学们设想一下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228680" y="2060640"/>
            <a:ext cx="4587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医院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没有规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2852640"/>
            <a:ext cx="6335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马路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规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908000" y="36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20095131794088244"/>
          <p:cNvPicPr/>
          <p:nvPr/>
        </p:nvPicPr>
        <p:blipFill>
          <a:blip r:embed="rId4"/>
          <a:stretch/>
        </p:blipFill>
        <p:spPr>
          <a:xfrm>
            <a:off x="250920" y="4508640"/>
            <a:ext cx="6553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2176560" y="5667480"/>
            <a:ext cx="498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bbec67b46612abed37d3ca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900000" y="260280"/>
            <a:ext cx="720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温暖的家庭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里有孝敬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里有关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华礼仪美德忘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温暖的家庭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华礼仪美德忘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DB52-23F8-4D5D-9FBB-E919338E16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bbec67b46612abed37d3ca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260280"/>
            <a:ext cx="784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哪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文明的校园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尊敬师长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谦让有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明礼貌常伴你我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嘀哩哩嘀哩嘀哩哩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嘀哩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规则在那文明校园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明礼貌常伴你我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68360" y="90792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楷体_GB2312"/>
              </a:rPr>
              <a:t>游戏中有什么规则</a:t>
            </a:r>
            <a:r>
              <a:rPr b="0" lang="zh-CN" sz="6000" spc="-1" strike="noStrike">
                <a:solidFill>
                  <a:srgbClr val="9900cc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②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没有这些规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行不行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826920" y="692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476280"/>
            <a:ext cx="7561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你们在做游戏时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没有遵守规则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④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如果不按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则做会怎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样</a:t>
            </a:r>
            <a:r>
              <a:rPr b="0" lang="zh-CN" sz="6000" spc="-1" strike="noStrike">
                <a:solidFill>
                  <a:srgbClr val="9933ff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8200"/>
          <p:cNvSpPr/>
          <p:nvPr/>
        </p:nvSpPr>
        <p:spPr>
          <a:xfrm>
            <a:off x="2492280" y="23907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DC113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SDC113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napshot200910171955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4480" y="765000"/>
            <a:ext cx="449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说说图片上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人们都遵守了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些规则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4:41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4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