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B0B-F52F-466C-86DF-8D6F33AD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69E-02AF-4C93-90E8-2452D1EC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9E9-E093-4394-8198-6307A389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31B-8C5A-4664-BF12-49992558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8CC3-C2F8-4A6A-A23B-E442B368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C9B-0E55-4D3D-A88A-02C3ACBA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26A7-DFE4-46DD-AFED-9EC74A6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28C-8ACA-4D1D-B64F-81DBD09E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FE85-4C9D-4294-BCCF-A2080F03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DCE3-546F-4767-BD45-AE018E1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1A3-C98E-482E-8814-754A500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50D-F022-41FB-BCDC-B51D9F5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382C-6CBD-452C-A82F-8AEE8B1C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AD9B-E85E-4A01-8CC0-5059B6B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A1C8-7968-40DE-B267-B9D9F3EB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A644-BC0B-4C34-B026-16A9508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2792-F3C2-4D9B-9A8D-ED34AC1D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3797-6E9C-4B02-99B7-1535A802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8154-7575-4F1C-AB2D-AECBF252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82B2-0516-4FD4-A7E5-D87551C8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7A4A-DBF7-443B-9F38-907E7948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A207-1C45-4B7E-BE40-8E3CB190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B7C-2640-45A8-836C-B8179E1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3AAF9-F931-4B09-A393-A12C850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2095-89C1-443E-A7B2-CF80286B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1D17-5182-4F48-B297-30E48E4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D0E2-3B5B-49D1-BE1F-90B1B5F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577E-7976-465C-98F8-715D93A2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BA51-6A92-4176-A754-E60BA925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A302-9AC2-4E42-8562-F06DC4C3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5BE4-3841-47B7-8BD3-319A5170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72EF-490E-4E57-A852-5DDB61C3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2D65-311F-412F-86DA-C3312E58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1E4-E1D8-459B-A977-FE3130E4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7FEC-8375-410C-84A9-901832A2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F76A-9571-4BFB-B2F1-2842E0A2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3BC7-5C8C-4F65-9A41-8255B98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12B0-589E-49B8-A08E-8DFE4764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EA45-9B71-4CCF-80E2-D3FA4346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FC97-EDC1-4EEC-A14F-37CE23D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5AC7-8610-4678-983B-B80F85AF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621D-BF75-4790-A9BF-F7B7A604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A6F0-52FF-45B1-9570-5FB3EE09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54C3-A462-43B1-8732-E6234472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C6B-0082-482A-9201-8AFC6657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A07D-BA10-483F-B71F-073FA9CB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6B0C8-764B-4C6B-8501-A41EE6C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9AEC7-72F0-4156-B82F-0F1ABC7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71F4-F6BF-4451-B5ED-8B0EB46A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0439-EE79-4480-9E19-04E7C3E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8D06-B252-4768-86EC-DC4B6A4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B8BF-F0DE-4767-BEB5-802CAB03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83BD-69C3-4B83-93F5-DF09382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EE7C7-FBB9-4A87-BFBB-DB2CC793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56D4F-AE98-4623-A019-653DF388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9BA-713F-42F9-8CC0-837DD33A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53E7-926B-41F5-81E2-305B738C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BDDD6-85E7-4F81-8A7E-65DD2E85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277F3-81D5-4F7F-A8C5-3A21D5E6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1E8FB-D53B-45DB-896C-1C1198A7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67380-EBD8-4880-B352-7B206AEE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7A44E-80EE-49F9-8D56-8876770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A95C-0266-4E92-AF1D-B390FD4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0CEA-23EF-426F-B28B-318A0ED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4CA7-0376-4BD1-A197-6665F13C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EC00-AD6A-4AAB-9CC1-7FBDAD8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C9B-306F-425D-9F3F-3F81EA0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992DF-73AD-4B36-B376-B2C681C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D891-9440-40D4-9769-3DDF0623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240A-7584-4D14-98E9-0D34D521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877DC-F05D-4C1D-8B50-7D1AC5C9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A32E-CE2D-4803-9A09-E450265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C2F7-3904-4A2F-8DBE-67D8EE91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47C0-7395-42DD-8B0B-D42FD2E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4F2A-8198-4A99-9D80-6FE54AEF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F310-82F2-46C6-B288-A360CCB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B94AB-D66C-4758-A83E-667D86E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5B7-616E-42B5-B528-D87C9C7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7D2B7-3C41-4784-A3FF-467D7CB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2A447-6420-48C6-B9C2-690F8D3C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07EB-D143-418D-A719-4A34B215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E94C-8A5A-493D-8021-3C0BD357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AF219-4130-46BF-9541-B14F5AD1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63BE4-FF07-4B76-8349-151BFA7A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4122E-D222-4B44-B917-211FA1C1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9D64-C9E7-41EF-8C20-A3A65E6B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0C1A1-71F7-4134-981D-9C2812E3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E9AE-B221-4D34-8C71-3933AD4E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000-71FE-4439-A73B-ED9E097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FB2AE-8E81-4025-AC9A-89CA9B3A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587DF-A499-4F1A-803F-E7BD5A40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6C1C3-CBC0-4605-B557-DA9BA6C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9AEF-6FE1-49A0-B823-4310B18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57F43-F5CE-4FA2-9362-761CDDF6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5377F-5DC8-4465-AEB7-22F50722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5583D-D982-4220-8640-F170109B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50000">
              <a:srgbClr val="00b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91D-595C-4034-827C-FE61720053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8C86-2D79-4949-B73A-262E3632BA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50000">
              <a:srgbClr val="00b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等腰三角形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D60B-AC62-4985-A7E6-5DE719399B48}" type="slidenum">
              <a:rPr b="0" lang="zh-CN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50000">
              <a:srgbClr val="00b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11C-B6AE-4A0F-BB9D-0ABDDF97F7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50000">
              <a:srgbClr val="00b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直角三角形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等腰三角形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直接连接符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直接连接符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05B-5B9F-41ED-B8BF-839447B6C4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50000">
              <a:srgbClr val="00b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A23D-530A-4E03-8E6F-95FFD62393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50000">
              <a:srgbClr val="00b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B53F-8B0B-4FAD-8732-F3E34A7602EC}" type="slidenum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50000">
              <a:srgbClr val="00b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54F-E91B-48F5-A315-635244B9B32A}" type="slidenum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1" descr=""/>
          <p:cNvPicPr/>
          <p:nvPr/>
        </p:nvPicPr>
        <p:blipFill>
          <a:blip r:embed="rId1"/>
          <a:stretch/>
        </p:blipFill>
        <p:spPr>
          <a:xfrm>
            <a:off x="774720" y="2050920"/>
            <a:ext cx="7608960" cy="42260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5"/>
          <p:cNvSpPr/>
          <p:nvPr/>
        </p:nvSpPr>
        <p:spPr>
          <a:xfrm>
            <a:off x="993600" y="54936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第二单元  让家园更美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774720" y="1127160"/>
            <a:ext cx="76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花草树木点头笑课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539280" y="764640"/>
            <a:ext cx="8425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情境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：放学时间到了，小明所乘坐的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1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路班车停在草坪的另一侧，穿过草坪就可以直接上车，小明该怎样做？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情境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：春天到了，校园里的榆树长出了嫩嫩的榆树钱，小刚说：“榆树钱能吃，而且味道还不错呢，我们去摘点吧！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情境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：奶奶说吃蒲公英有清火的功效，校园的草地上长了好多蒲公英，小丽想下课的时候去挖一点回家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情境</a:t>
            </a:r>
            <a:r>
              <a:rPr b="1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：春天，校园里的丁香花开放了，青青想摘一些丁香花插在花瓶里，送给老师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2340000" y="249228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楷体"/>
                <a:ea typeface="楷体"/>
              </a:rPr>
              <a:t>花草有生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楷体"/>
                <a:ea typeface="楷体"/>
              </a:rPr>
              <a:t>脚下请留情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内容占位符 3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2484360" y="1916280"/>
            <a:ext cx="51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楷体"/>
                <a:ea typeface="楷体"/>
              </a:rPr>
              <a:t>绿色家园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楷体"/>
                <a:ea typeface="楷体"/>
              </a:rPr>
              <a:t>伴我成长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07f6d"/>
              </a:solidFill>
              <a:latin typeface="Century Gothic"/>
            </a:endParaRPr>
          </a:p>
        </p:txBody>
      </p:sp>
      <p:pic>
        <p:nvPicPr>
          <p:cNvPr id="391" name="内容占位符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35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2104920" y="2060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楷体"/>
                <a:ea typeface="楷体"/>
              </a:rPr>
              <a:t>人人爱花草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楷体"/>
                <a:ea typeface="楷体"/>
              </a:rPr>
              <a:t>空气环境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468360" y="277236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利用光能，制造氧气。据估算，每公顷森林和公园绿地，夏季每天分别释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75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公斤和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60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公斤的氧气。一个成年人每天呼吸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万多次，吸入空气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5-2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立方米，消耗氧气约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.75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公斤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68360" y="246780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固定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O2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，合成有机物。每公顷森林和公园绿地，每天可分别吸收固定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05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和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90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公斤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O2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0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年前地球空气中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O2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的浓度为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.028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，而现在为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.036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多，浓度加速升高，温室效应将使海平面上升，多种灾害频发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文本框 8199"/>
          <p:cNvSpPr/>
          <p:nvPr/>
        </p:nvSpPr>
        <p:spPr>
          <a:xfrm>
            <a:off x="1012680" y="1003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a3d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a3d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468360" y="28090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防风固沙、加速降尘。在风害区营造防护林带，风速可降低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0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左右；有防护林带的农田比没有的要增产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0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左右。树木大的叶片上的毛状结构对尘埃有很大的吸附作用。据测算，在绿化的街道上，空气中含尘量比没有绿化的地区低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56.7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，草地上空的尘粉量只有裸地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/6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到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/3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68360" y="241524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保持水土，涵养水源。在林木茂盛的地区，地表径流只占总雨量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0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以下；平时一次降雨树冠可截留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5-40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的降雨量；枯枝落叶持水量可达自身干重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-4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倍；每公顷森林土壤能蓄水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640-68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吨；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万亩森林相当于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00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万立方米贮量的水库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468360" y="250416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五、调节气候，增加降水。森林上空的空气湿度比无林区高达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0-25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左右，比农田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5-10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，而夏天绿地中地温要比广场中空白地低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0-17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度，比柏油路低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2-2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度；冬季草坪地表平均气温要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4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度，森林能使降水量平均增加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%-5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。林地的降雨量比无林地平均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6-17%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539640" y="3195360"/>
            <a:ext cx="820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六、吸收毒物，杀灭病菌。每公顷柳杉林每月可吸收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6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公斤的二氧化硫，每公顷刺槐林和银桦林每年可吸收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2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公斤氯气和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公斤的氟化物。现已发现有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0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多种植物能分泌出挥发性的杀菌物质；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亩松柏每天可分泌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公斤杀菌素，新鲜的桃树叶可驱赶臭虫，黄瓜的气味可使蟑螂逃之夭夭，洋葱和番茄植株可赶走苍蝇，木本夜来香或罗勒能驱蚊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022400" y="2000160"/>
            <a:ext cx="72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Calibri"/>
              </a:rPr>
              <a:t>有药用价值的植物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9" name="图片 1" descr=""/>
          <p:cNvPicPr/>
          <p:nvPr/>
        </p:nvPicPr>
        <p:blipFill>
          <a:blip r:embed="rId1"/>
          <a:stretch/>
        </p:blipFill>
        <p:spPr>
          <a:xfrm>
            <a:off x="1547640" y="5946840"/>
            <a:ext cx="808200" cy="57456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" descr=""/>
          <p:cNvPicPr/>
          <p:nvPr/>
        </p:nvPicPr>
        <p:blipFill>
          <a:blip r:embed="rId2"/>
          <a:stretch/>
        </p:blipFill>
        <p:spPr>
          <a:xfrm>
            <a:off x="6012000" y="5950080"/>
            <a:ext cx="807840" cy="57600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" descr=""/>
          <p:cNvPicPr/>
          <p:nvPr/>
        </p:nvPicPr>
        <p:blipFill>
          <a:blip r:embed="rId3"/>
          <a:stretch/>
        </p:blipFill>
        <p:spPr>
          <a:xfrm>
            <a:off x="3132000" y="5943600"/>
            <a:ext cx="808200" cy="57456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4" descr=""/>
          <p:cNvPicPr/>
          <p:nvPr/>
        </p:nvPicPr>
        <p:blipFill>
          <a:blip r:embed="rId4"/>
          <a:stretch/>
        </p:blipFill>
        <p:spPr>
          <a:xfrm>
            <a:off x="4629240" y="5950080"/>
            <a:ext cx="807840" cy="576000"/>
          </a:xfrm>
          <a:prstGeom prst="rect">
            <a:avLst/>
          </a:prstGeom>
          <a:ln w="0">
            <a:noFill/>
          </a:ln>
        </p:spPr>
      </p:pic>
      <p:sp>
        <p:nvSpPr>
          <p:cNvPr id="363" name="上弧形箭头 5"/>
          <p:cNvSpPr/>
          <p:nvPr/>
        </p:nvSpPr>
        <p:spPr>
          <a:xfrm>
            <a:off x="7899480" y="5973840"/>
            <a:ext cx="792000" cy="436320"/>
          </a:xfrm>
          <a:custGeom>
            <a:avLst/>
            <a:gdLst>
              <a:gd name="textAreaLeft" fmla="*/ 156960 w 792000"/>
              <a:gd name="textAreaRight" fmla="*/ 580320 w 792000"/>
              <a:gd name="textAreaTop" fmla="*/ 58320 h 436320"/>
              <a:gd name="textAreaBottom" fmla="*/ 378000 h 43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68" hR="21600" stAng="10800000" swAng="5400000"/>
                <a:lnTo>
                  <a:pt x="11544" y="0"/>
                </a:lnTo>
                <a:arcTo wR="8568" hR="21600" stAng="-5400000" swAng="3416342"/>
                <a:lnTo>
                  <a:pt x="21328" y="16200"/>
                </a:lnTo>
                <a:lnTo>
                  <a:pt x="18624" y="21600"/>
                </a:lnTo>
                <a:lnTo>
                  <a:pt x="15376" y="16200"/>
                </a:lnTo>
                <a:lnTo>
                  <a:pt x="16864" y="16200"/>
                </a:lnTo>
                <a:arcTo wR="8568" hR="21600" stAng="-1983658" swAng="-3176256"/>
                <a:lnTo>
                  <a:pt x="10056" y="328"/>
                </a:lnTo>
                <a:arcTo wR="8568" hR="21600" stAng="-5640086" swAng="-5159914"/>
                <a:close/>
              </a:path>
              <a:path fill="darkenLess" w="21600" h="21600">
                <a:moveTo>
                  <a:pt x="0" y="21600"/>
                </a:moveTo>
                <a:arcTo wR="8568" hR="21600" stAng="10800000" swAng="5400000"/>
                <a:lnTo>
                  <a:pt x="8568" y="0"/>
                </a:lnTo>
                <a:arcTo wR="8568" hR="21600" stAng="-5400000" swAng="240086"/>
                <a:lnTo>
                  <a:pt x="10056" y="328"/>
                </a:lnTo>
                <a:arcTo wR="8568" hR="21600" stAng="-5640086" swAng="-5159914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68360" y="277236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七、指示植物，检测环境。利用敏感度高的植物，可检测大气污染及污染物质。空气中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2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浓度达到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-5ppm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时，人才能闻到气味，而紫花苜蓿在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.3ppm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时就会出现症状。唐菖蒲对氟化物特别敏感，用它可检测磷肥厂周围大气的氟污染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468360" y="215208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八、减弱噪音，利人健康。实验证明，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5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公斤炸药的爆炸声，在空气中能传播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公里，而在森林中只能传播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米。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米宽的林带可降低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的噪音；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5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平方米草坪可使声音衰减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分贝；据测定，城市公园的成片树林可减低噪音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6-43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分贝，绿化的街道比没有绿化的减少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0-2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分贝；沿街房屋与街道之间，留有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5-7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米宽的地带种树绿化，可以减低车辆噪音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5-25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分贝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2E01-0F37-4200-A81B-5E3B52DEDF2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5280" y="34614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九、五颜六色，美化生活。植物是绿化美化城乡的最佳材料。五颜六色的植物花朵、许多植物散发的芳香，给人以赏心悦目、心旷神怡的感觉。例如菊花的香味对头痛、头晕和感冒均有疗效。绿地和森林里的新鲜空气中含有丰富的负氧离子，负氧离子能给人以清新的感觉，对肺病有一定的治疗作用。此外，凡是环境绿化美化的地方，事故发生率减少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0%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，工作效率可提高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5-35%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。优美的环境还能极大的激发人的创造创作灵感。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250920" y="189000"/>
            <a:ext cx="4680000" cy="627120"/>
          </a:xfrm>
          <a:prstGeom prst="rect">
            <a:avLst/>
          </a:prstGeom>
          <a:solidFill>
            <a:srgbClr val="d16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植物对人类的贡献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5"/>
          <p:cNvSpPr/>
          <p:nvPr/>
        </p:nvSpPr>
        <p:spPr>
          <a:xfrm>
            <a:off x="1700280" y="5113440"/>
            <a:ext cx="635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蒲公英主治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淋巴腺炎，疔毒疮肿，急性结膜炎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感冒发热，急性扁桃体炎，急性支气管炎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胃炎，肝炎，胆囊炎，尿路感染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1555920" y="1006560"/>
            <a:ext cx="5951520" cy="40831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"/>
          <p:cNvSpPr/>
          <p:nvPr/>
        </p:nvSpPr>
        <p:spPr>
          <a:xfrm>
            <a:off x="3348000" y="17604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蒲公英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下弧形箭头 2"/>
          <p:cNvSpPr/>
          <p:nvPr/>
        </p:nvSpPr>
        <p:spPr>
          <a:xfrm>
            <a:off x="8058240" y="5946840"/>
            <a:ext cx="723960" cy="438120"/>
          </a:xfrm>
          <a:custGeom>
            <a:avLst/>
            <a:gdLst>
              <a:gd name="textAreaLeft" fmla="*/ 139680 w 723960"/>
              <a:gd name="textAreaRight" fmla="*/ 529200 w 723960"/>
              <a:gd name="textAreaTop" fmla="*/ 58680 h 438120"/>
              <a:gd name="textAreaBottom" fmla="*/ 37944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-3375340"/>
                <a:lnTo>
                  <a:pt x="21335" y="5400"/>
                </a:lnTo>
                <a:lnTo>
                  <a:pt x="18332" y="0"/>
                </a:lnTo>
                <a:lnTo>
                  <a:pt x="14798" y="5400"/>
                </a:lnTo>
                <a:lnTo>
                  <a:pt x="16432" y="5400"/>
                </a:lnTo>
                <a:arcTo wR="8349" hR="21600" stAng="2024660" swAng="3110592"/>
                <a:lnTo>
                  <a:pt x="9983" y="21182"/>
                </a:lnTo>
                <a:arcTo wR="8349" hR="21600" stAng="5664748" swAng="5135252"/>
                <a:close/>
              </a:path>
              <a:path fill="darkenLess"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264748"/>
                <a:lnTo>
                  <a:pt x="9983" y="21182"/>
                </a:lnTo>
                <a:arcTo wR="8349" hR="21600" stAng="5664748" swAng="5135252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72096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4" descr=""/>
          <p:cNvPicPr/>
          <p:nvPr/>
        </p:nvPicPr>
        <p:blipFill>
          <a:blip r:embed="rId2"/>
          <a:stretch/>
        </p:blipFill>
        <p:spPr>
          <a:xfrm>
            <a:off x="-28440" y="3573360"/>
            <a:ext cx="5032080" cy="3409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5651640" y="1413000"/>
            <a:ext cx="3049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甘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根可以入药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功效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清热解毒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祛痰止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下弧形箭头 4"/>
          <p:cNvSpPr/>
          <p:nvPr/>
        </p:nvSpPr>
        <p:spPr>
          <a:xfrm>
            <a:off x="8058240" y="5946840"/>
            <a:ext cx="723960" cy="438120"/>
          </a:xfrm>
          <a:custGeom>
            <a:avLst/>
            <a:gdLst>
              <a:gd name="textAreaLeft" fmla="*/ 139680 w 723960"/>
              <a:gd name="textAreaRight" fmla="*/ 529200 w 723960"/>
              <a:gd name="textAreaTop" fmla="*/ 58680 h 438120"/>
              <a:gd name="textAreaBottom" fmla="*/ 37944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-3375340"/>
                <a:lnTo>
                  <a:pt x="21335" y="5400"/>
                </a:lnTo>
                <a:lnTo>
                  <a:pt x="18332" y="0"/>
                </a:lnTo>
                <a:lnTo>
                  <a:pt x="14798" y="5400"/>
                </a:lnTo>
                <a:lnTo>
                  <a:pt x="16432" y="5400"/>
                </a:lnTo>
                <a:arcTo wR="8349" hR="21600" stAng="2024660" swAng="3110592"/>
                <a:lnTo>
                  <a:pt x="9983" y="21182"/>
                </a:lnTo>
                <a:arcTo wR="8349" hR="21600" stAng="5664748" swAng="5135252"/>
                <a:close/>
              </a:path>
              <a:path fill="darkenLess"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264748"/>
                <a:lnTo>
                  <a:pt x="9983" y="21182"/>
                </a:lnTo>
                <a:arcTo wR="8349" hR="21600" stAng="5664748" swAng="5135252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3" descr=""/>
          <p:cNvPicPr/>
          <p:nvPr/>
        </p:nvPicPr>
        <p:blipFill>
          <a:blip r:embed="rId1"/>
          <a:stretch/>
        </p:blipFill>
        <p:spPr>
          <a:xfrm>
            <a:off x="-31680" y="0"/>
            <a:ext cx="5546520" cy="73548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103800" y="1268280"/>
            <a:ext cx="302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黄连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根部入药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功效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清热燥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泻火解毒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下弧形箭头 3"/>
          <p:cNvSpPr/>
          <p:nvPr/>
        </p:nvSpPr>
        <p:spPr>
          <a:xfrm>
            <a:off x="8058240" y="5946840"/>
            <a:ext cx="723960" cy="438120"/>
          </a:xfrm>
          <a:custGeom>
            <a:avLst/>
            <a:gdLst>
              <a:gd name="textAreaLeft" fmla="*/ 139680 w 723960"/>
              <a:gd name="textAreaRight" fmla="*/ 529200 w 723960"/>
              <a:gd name="textAreaTop" fmla="*/ 58680 h 438120"/>
              <a:gd name="textAreaBottom" fmla="*/ 37944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-3375340"/>
                <a:lnTo>
                  <a:pt x="21335" y="5400"/>
                </a:lnTo>
                <a:lnTo>
                  <a:pt x="18332" y="0"/>
                </a:lnTo>
                <a:lnTo>
                  <a:pt x="14798" y="5400"/>
                </a:lnTo>
                <a:lnTo>
                  <a:pt x="16432" y="5400"/>
                </a:lnTo>
                <a:arcTo wR="8349" hR="21600" stAng="2024660" swAng="3110592"/>
                <a:lnTo>
                  <a:pt x="9983" y="21182"/>
                </a:lnTo>
                <a:arcTo wR="8349" hR="21600" stAng="5664748" swAng="5135252"/>
                <a:close/>
              </a:path>
              <a:path fill="darkenLess"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264748"/>
                <a:lnTo>
                  <a:pt x="9983" y="21182"/>
                </a:lnTo>
                <a:arcTo wR="8349" hR="21600" stAng="5664748" swAng="5135252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184720" cy="63104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6268320" y="1646280"/>
            <a:ext cx="188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银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叶子和果实入药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功效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活血化瘀通络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治疗心脑血管疾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下弧形箭头 3"/>
          <p:cNvSpPr/>
          <p:nvPr/>
        </p:nvSpPr>
        <p:spPr>
          <a:xfrm>
            <a:off x="8058240" y="5946840"/>
            <a:ext cx="723960" cy="438120"/>
          </a:xfrm>
          <a:custGeom>
            <a:avLst/>
            <a:gdLst>
              <a:gd name="textAreaLeft" fmla="*/ 139680 w 723960"/>
              <a:gd name="textAreaRight" fmla="*/ 529200 w 723960"/>
              <a:gd name="textAreaTop" fmla="*/ 58680 h 438120"/>
              <a:gd name="textAreaBottom" fmla="*/ 37944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-3375340"/>
                <a:lnTo>
                  <a:pt x="21335" y="5400"/>
                </a:lnTo>
                <a:lnTo>
                  <a:pt x="18332" y="0"/>
                </a:lnTo>
                <a:lnTo>
                  <a:pt x="14798" y="5400"/>
                </a:lnTo>
                <a:lnTo>
                  <a:pt x="16432" y="5400"/>
                </a:lnTo>
                <a:arcTo wR="8349" hR="21600" stAng="2024660" swAng="3110592"/>
                <a:lnTo>
                  <a:pt x="9983" y="21182"/>
                </a:lnTo>
                <a:arcTo wR="8349" hR="21600" stAng="5664748" swAng="5135252"/>
                <a:close/>
              </a:path>
              <a:path fill="darkenLess" w="21600" h="21600">
                <a:moveTo>
                  <a:pt x="0" y="0"/>
                </a:moveTo>
                <a:arcTo wR="8349" hR="21600" stAng="10800000" swAng="-5400000"/>
                <a:lnTo>
                  <a:pt x="11618" y="21600"/>
                </a:lnTo>
                <a:arcTo wR="8349" hR="21600" stAng="5400000" swAng="264748"/>
                <a:lnTo>
                  <a:pt x="9983" y="21182"/>
                </a:lnTo>
                <a:arcTo wR="8349" hR="21600" stAng="5664748" swAng="5135252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405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1310760" y="620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校园采风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图片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9770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1310760" y="620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校园采风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文本框 8199"/>
          <p:cNvSpPr/>
          <p:nvPr/>
        </p:nvSpPr>
        <p:spPr>
          <a:xfrm>
            <a:off x="395280" y="645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a3d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a3d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5"/>
          <p:cNvSpPr/>
          <p:nvPr/>
        </p:nvSpPr>
        <p:spPr>
          <a:xfrm>
            <a:off x="3643560" y="692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花草树木小档案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55640" y="1773360"/>
          <a:ext cx="7561440" cy="4627440"/>
        </p:xfrm>
        <a:graphic>
          <a:graphicData uri="http://schemas.openxmlformats.org/drawingml/2006/table">
            <a:tbl>
              <a:tblPr/>
              <a:tblGrid>
                <a:gridCol w="1349280"/>
                <a:gridCol w="1543320"/>
                <a:gridCol w="2311200"/>
                <a:gridCol w="2357640"/>
              </a:tblGrid>
              <a:tr h="53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植物名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主要生长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特  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贡  献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松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合在多种不同的环境生长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针叶树类、耐寒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药用价值 、净化空气、固定风沙、美化环境、果实可以吃、松木是最好的木材等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3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1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3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31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