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8.png" ContentType="image/png"/>
  <Override PartName="/ppt/media/image11.jpeg" ContentType="image/jpeg"/>
  <Override PartName="/ppt/media/chimes.wav" ContentType="audio/x-wav"/>
  <Override PartName="/ppt/media/image16.png" ContentType="image/png"/>
  <Override PartName="/ppt/media/image29.jpeg" ContentType="image/jpeg"/>
  <Override PartName="/ppt/media/image30.jpeg" ContentType="image/jpeg"/>
  <Override PartName="/ppt/media/image15.png" ContentType="image/png"/>
  <Override PartName="/ppt/media/image9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9BF-A3C8-413B-8B07-75AFE92A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249-BFC5-4414-BC55-88E4350E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08D2-AA45-4BAC-9C31-2A7E3DE4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8B4-B179-4E1D-8D6B-1FD16380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3264-7AFF-4BCF-B70D-2C511002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08CB-514D-46B7-94A9-8CD78CAB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6B6E-E17C-4840-899C-E26F4B2D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8AEC-393B-4B15-A21A-EC11927D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96A2-4992-41C0-83D3-25CB69A6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7E6A-143A-4429-BC6E-8CE4D080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EE7C-DBF4-446C-A794-0E537AD6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CC9-BEBA-404B-A586-BD7DFD0B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8D62-A2D6-4535-B905-D89FDA12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CA7E-B25E-426B-B184-18A7A659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98A3-3099-4AC4-B902-9D57F9F1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4D76-D565-4913-B9B1-77DCAB51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748B-1A9F-4D11-95EF-7ED211CB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5808-BDF3-4915-B9DA-C63A3236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8FF49-1CEE-4442-9FF0-738945E9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35C3-87E5-4B9B-8572-947F295A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39A96-3F2F-40D1-B720-6E906EAC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7EDE-125C-4E41-B311-E78AA48D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C88-0AB5-4DD1-8361-F404A7C6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AC019-D439-4291-AE78-2FB2D766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7E35-3F1C-4FF8-9A98-77005DC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3E54-51DC-4D6B-A296-05755084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D6049-12EE-48CD-9910-6D79421E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D7FD-F158-4907-861E-80D90F59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44C5B-68FB-4D6D-981E-5F1052DA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472E0-0307-401C-8590-88754368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A1B81-53B7-4BA3-9938-C8D4572D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8498D-F5EF-4793-88E2-7A6B13CF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8DC7A-5B69-4054-B11E-FB01D052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87C-0040-4BEE-9D3A-E610A436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84927-9E01-4290-8C6A-65F1779B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1043-C3D1-4A73-AEE8-CBD6CB56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83EBA-2750-4F01-9704-E6059039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D1140-F98D-44ED-8C5B-DD789B91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3F107-A519-491F-95BD-8097A3BA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FEDA7-6568-425B-9794-8E4128EC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C1B78-9E2C-4C24-9232-BD5E2475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850DE-EDDF-4255-90BD-80685BA6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40F13-C8E6-4ACE-814B-62492168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25948-4BDF-42ED-A889-047DF606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15C-7821-47B0-865B-8F2ACECF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8D7E6-B98D-43D3-9EF9-0FA6A502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0FC39-F8F4-4384-BB48-DCED2EF6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3EB77-8F15-4D30-B412-7883404A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E5A9A-7124-46C9-B0A2-DFA29413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FFF60-8731-45F5-94E5-68BE5DCA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10B3A-C4C4-4474-B890-21F14BBE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71588-16ED-4E79-A1B6-8FED4E68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C0835-F955-4753-982C-BDA664E7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DA7E4-83A3-4EF8-AF28-8EE82A45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2EDC2-22F1-4BAE-8880-BF096A53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728-FE49-40B7-AA32-4EBF56F0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EF763-FB54-45BA-AB3B-4520583F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507B7-83F4-4444-97C5-F67C6768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A1D47-1FDF-42FB-9C6E-303AB684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932DC-9E08-46ED-92E4-B3C5E78C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8C155-BCAF-499D-A4C6-276C706A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16B83-3781-40D0-9461-5BB784BC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12E49-9CED-4E24-99E4-9A9C39F8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72885-1E11-4E57-878E-85E23F20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850B1-D81E-484E-8C91-D030351A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442F3-A133-424B-81A7-3514CAB2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A55-50B2-4B81-A690-C922CDBF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51D6E-BF4C-478E-98F0-C89EB170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FD082-A093-42FB-9799-EFA75F1D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F49A-A637-4F3A-B1C5-F81B72F0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9B9-8A1A-47A4-A5D9-D20338B6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8FC-610F-4CDF-B7A2-174BA00B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1767-0F89-40FE-8B60-2632D0196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B01F-037D-4A72-9D73-2708567BE03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7962840" y="152280"/>
            <a:ext cx="360" cy="1524240"/>
            <a:chOff x="7962840" y="152280"/>
            <a:chExt cx="360" cy="1524240"/>
          </a:xfrm>
        </p:grpSpPr>
        <p:sp>
          <p:nvSpPr>
            <p:cNvPr id="90" name="Line 2"/>
            <p:cNvSpPr/>
            <p:nvPr/>
          </p:nvSpPr>
          <p:spPr>
            <a:xfrm>
              <a:off x="7962840" y="152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7962840" y="152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7933-52A0-4EF6-A5A8-5263ABCC51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2DB7-1EBB-42D9-B975-F320F632B9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0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1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E4CE-2C4A-4065-9723-0D817D4A692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7315200" y="1066680"/>
            <a:ext cx="360" cy="4496040"/>
            <a:chOff x="7315200" y="1066680"/>
            <a:chExt cx="360" cy="4496040"/>
          </a:xfrm>
        </p:grpSpPr>
        <p:sp>
          <p:nvSpPr>
            <p:cNvPr id="254" name="Line 2"/>
            <p:cNvSpPr/>
            <p:nvPr/>
          </p:nvSpPr>
          <p:spPr>
            <a:xfrm>
              <a:off x="7315200" y="10666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7315200" y="10666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5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04920" y="2819520"/>
            <a:ext cx="8229600" cy="360"/>
            <a:chOff x="304920" y="2819520"/>
            <a:chExt cx="8229600" cy="360"/>
          </a:xfrm>
        </p:grpSpPr>
        <p:sp>
          <p:nvSpPr>
            <p:cNvPr id="289" name="Line 40"/>
            <p:cNvSpPr/>
            <p:nvPr/>
          </p:nvSpPr>
          <p:spPr>
            <a:xfrm>
              <a:off x="304920" y="2819520"/>
              <a:ext cx="8229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304920" y="28195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3E98-E53E-4A6D-9BB5-70C7AF65B1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0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3" descr="f1ac11843bd8820966096e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8" descr="捕获1"/>
          <p:cNvPicPr/>
          <p:nvPr/>
        </p:nvPicPr>
        <p:blipFill>
          <a:blip r:embed="rId2"/>
          <a:stretch/>
        </p:blipFill>
        <p:spPr>
          <a:xfrm>
            <a:off x="990720" y="0"/>
            <a:ext cx="8153280" cy="137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7" descr="捕获"/>
          <p:cNvPicPr/>
          <p:nvPr/>
        </p:nvPicPr>
        <p:blipFill>
          <a:blip r:embed="rId3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0"/>
          <p:cNvSpPr/>
          <p:nvPr/>
        </p:nvSpPr>
        <p:spPr>
          <a:xfrm>
            <a:off x="2061360" y="1828800"/>
            <a:ext cx="528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第三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合理营养与食品安全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"/>
          <p:cNvSpPr/>
          <p:nvPr/>
        </p:nvSpPr>
        <p:spPr>
          <a:xfrm>
            <a:off x="3581640" y="69840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章 人体的营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34920" y="980640"/>
            <a:ext cx="496404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爱心大比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79280" y="2276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家长设计一份合理的午餐食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3759480" y="2924280"/>
            <a:ext cx="14914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温馨提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、食谱中要含有五类食物并且比例合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、应考虑当地常吃的食物种类、营养成分、价格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pic_33855"/>
          <p:cNvPicPr/>
          <p:nvPr/>
        </p:nvPicPr>
        <p:blipFill>
          <a:blip r:embed="rId1"/>
          <a:stretch/>
        </p:blipFill>
        <p:spPr>
          <a:xfrm>
            <a:off x="5940360" y="4454640"/>
            <a:ext cx="28447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品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755640" y="213372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3c2a"/>
                </a:solidFill>
                <a:latin typeface="Arial"/>
              </a:rPr>
              <a:t>今天小明代替生病的妈妈去购物（一袋速冻水饺、一千克猪肉、一些绿色蔬菜），到了超市，看到同一品种繁多的商品，该如何选择呢？小明犯了难</a:t>
            </a:r>
            <a:r>
              <a:rPr b="1" lang="en-US" sz="4000" spc="-1" strike="noStrike">
                <a:solidFill>
                  <a:srgbClr val="2e3c2a"/>
                </a:solidFill>
                <a:latin typeface="Arial"/>
              </a:rPr>
              <a:t>…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1033560" y="1905120"/>
            <a:ext cx="7991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购买包装食品：注意包装上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生产日期，保质期，生产厂家，厂址，应注意营养成分是否合理，是否含有添加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购买肉：看是否盖有检疫部门的印章，瘦肉颜色是否鲜红，再用手捏一下，如果手湿了，说明肉被灌了水，不能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购买蔬菜：看颜色是否新鲜，再用手摸一摸是否硬挺，就知道它的新鲜程度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056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购物小常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WordArt 4"/>
          <p:cNvSpPr txBox="1"/>
          <p:nvPr/>
        </p:nvSpPr>
        <p:spPr>
          <a:xfrm>
            <a:off x="1905120" y="380880"/>
            <a:ext cx="43434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你知道吗？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838080" y="1600200"/>
            <a:ext cx="8534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马铃薯块茎一般含有少量的龙葵素，不会引起食物中毒。但在发芽的马铃薯中，龙葵素的含量大大增加。吃了这种马铃薯就会引起中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一些蘑菇有毒，如毒蝇鹅膏等，误食后会引起中毒，轻的发生呕吐、腹泻等，重的危及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684360" y="1719000"/>
            <a:ext cx="5903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海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：颜色特别绿的不能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                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4608360" cy="275112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4"/>
          <p:cNvSpPr/>
          <p:nvPr/>
        </p:nvSpPr>
        <p:spPr>
          <a:xfrm>
            <a:off x="2255040" y="1058400"/>
            <a:ext cx="42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警惕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种最易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食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"/>
          <p:cNvSpPr txBox="1"/>
          <p:nvPr/>
        </p:nvSpPr>
        <p:spPr>
          <a:xfrm>
            <a:off x="395280" y="119160"/>
            <a:ext cx="388764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latin typeface="隶书"/>
              </a:rPr>
              <a:t>食品安全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97164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蘑菇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注意：雪白透亮的蘑菇多中看不中吃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446436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1979640" y="1267200"/>
            <a:ext cx="66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虾米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5040360" cy="29415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4"/>
          <p:cNvSpPr/>
          <p:nvPr/>
        </p:nvSpPr>
        <p:spPr>
          <a:xfrm>
            <a:off x="1979640" y="1989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：要选干爽不粘手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3178080" y="1195920"/>
            <a:ext cx="111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西瓜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：子是白的别买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3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4746600" cy="2958840"/>
          </a:xfrm>
          <a:prstGeom prst="rect">
            <a:avLst/>
          </a:prstGeom>
          <a:ln w="0">
            <a:noFill/>
          </a:ln>
        </p:spPr>
      </p:pic>
      <p:sp>
        <p:nvSpPr>
          <p:cNvPr id="454" name="文本框 8200"/>
          <p:cNvSpPr/>
          <p:nvPr/>
        </p:nvSpPr>
        <p:spPr>
          <a:xfrm>
            <a:off x="2354400" y="6159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3567600" y="1268280"/>
            <a:ext cx="995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银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：并非颜色越白越好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1476360" y="2297160"/>
            <a:ext cx="5688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6" descr="pic_33851"/>
          <p:cNvPicPr/>
          <p:nvPr/>
        </p:nvPicPr>
        <p:blipFill>
          <a:blip r:embed="rId1"/>
          <a:stretch/>
        </p:blipFill>
        <p:spPr>
          <a:xfrm>
            <a:off x="2133720" y="1447920"/>
            <a:ext cx="3024000" cy="2384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2" descr="捕获1"/>
          <p:cNvPicPr/>
          <p:nvPr/>
        </p:nvPicPr>
        <p:blipFill>
          <a:blip r:embed="rId2"/>
          <a:stretch/>
        </p:blipFill>
        <p:spPr>
          <a:xfrm>
            <a:off x="990720" y="0"/>
            <a:ext cx="8153280" cy="1371600"/>
          </a:xfrm>
          <a:prstGeom prst="rect">
            <a:avLst/>
          </a:prstGeom>
          <a:ln w="0">
            <a:noFill/>
          </a:ln>
        </p:spPr>
      </p:pic>
      <p:sp>
        <p:nvSpPr>
          <p:cNvPr id="340" name="WordArt 9"/>
          <p:cNvSpPr txBox="1"/>
          <p:nvPr/>
        </p:nvSpPr>
        <p:spPr>
          <a:xfrm>
            <a:off x="1676520" y="914400"/>
            <a:ext cx="1981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想一想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41" name="Picture 11" descr="捕获"/>
          <p:cNvPicPr/>
          <p:nvPr/>
        </p:nvPicPr>
        <p:blipFill>
          <a:blip r:embed="rId3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7" descr="pic_33853"/>
          <p:cNvPicPr/>
          <p:nvPr/>
        </p:nvPicPr>
        <p:blipFill>
          <a:blip r:embed="rId4"/>
          <a:stretch/>
        </p:blipFill>
        <p:spPr>
          <a:xfrm>
            <a:off x="1295280" y="3886200"/>
            <a:ext cx="3672000" cy="2816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8" descr="pic_33854"/>
          <p:cNvPicPr/>
          <p:nvPr/>
        </p:nvPicPr>
        <p:blipFill>
          <a:blip r:embed="rId5"/>
          <a:stretch/>
        </p:blipFill>
        <p:spPr>
          <a:xfrm>
            <a:off x="5410080" y="2209680"/>
            <a:ext cx="29656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2453400" y="141192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豆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警惕：化肥浸泡，不能选太粗壮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1403280" y="2595600"/>
            <a:ext cx="590544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973080" y="12952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米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警惕：工业产品白蜡油和矿物油抛光，鲜亮无比可能有毒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7200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2621880" y="1411920"/>
            <a:ext cx="464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黑木耳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警惕：明矾、碱水泡，有怪味可能掺假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2006640" y="2708280"/>
            <a:ext cx="4581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250920" y="260280"/>
            <a:ext cx="7702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100" spc="-1" strike="noStrike">
                <a:solidFill>
                  <a:srgbClr val="ff0000"/>
                </a:solidFill>
                <a:latin typeface="Arial"/>
              </a:rPr>
              <a:t>我倡议：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吃过期变质腐烂食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吃垃圾食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饭前饭后勤洗手，不喝生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吃瓜果要洗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体育锻炼，保证充足的休息，不暴饮暴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2"/>
          <p:cNvSpPr txBox="1"/>
          <p:nvPr/>
        </p:nvSpPr>
        <p:spPr>
          <a:xfrm>
            <a:off x="1447920" y="762120"/>
            <a:ext cx="259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盘点收获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66" name="Picture 3" descr="187"/>
          <p:cNvPicPr/>
          <p:nvPr/>
        </p:nvPicPr>
        <p:blipFill>
          <a:blip r:embed="rId1"/>
          <a:stretch/>
        </p:blipFill>
        <p:spPr>
          <a:xfrm>
            <a:off x="6659640" y="2997360"/>
            <a:ext cx="2195280" cy="36604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4"/>
          <p:cNvSpPr/>
          <p:nvPr/>
        </p:nvSpPr>
        <p:spPr>
          <a:xfrm>
            <a:off x="2771640" y="3645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合理营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2843280" y="465300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食品安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6"/>
          <p:cNvSpPr/>
          <p:nvPr/>
        </p:nvSpPr>
        <p:spPr>
          <a:xfrm>
            <a:off x="1143000" y="53244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一：油炸食品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7" descr="d-tc5"/>
          <p:cNvPicPr/>
          <p:nvPr/>
        </p:nvPicPr>
        <p:blipFill>
          <a:blip r:embed="rId3"/>
          <a:stretch/>
        </p:blipFill>
        <p:spPr>
          <a:xfrm>
            <a:off x="0" y="1981080"/>
            <a:ext cx="4572000" cy="417672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8"/>
          <p:cNvSpPr/>
          <p:nvPr/>
        </p:nvSpPr>
        <p:spPr>
          <a:xfrm>
            <a:off x="4485600" y="1370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导致心血管疾病；含致癌物质；破坏维生素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9" descr="200616121919-44359"/>
          <p:cNvPicPr/>
          <p:nvPr/>
        </p:nvPicPr>
        <p:blipFill>
          <a:blip r:embed="rId4"/>
          <a:stretch/>
        </p:blipFill>
        <p:spPr>
          <a:xfrm>
            <a:off x="4572000" y="1981080"/>
            <a:ext cx="457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6"/>
          <p:cNvSpPr/>
          <p:nvPr/>
        </p:nvSpPr>
        <p:spPr>
          <a:xfrm>
            <a:off x="1842840" y="608760"/>
            <a:ext cx="32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二：腌制类食品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7" descr="按此在新窗口浏览图片"/>
          <p:cNvPicPr/>
          <p:nvPr/>
        </p:nvPicPr>
        <p:blipFill>
          <a:blip r:embed="rId3"/>
          <a:stretch/>
        </p:blipFill>
        <p:spPr>
          <a:xfrm>
            <a:off x="990720" y="1905120"/>
            <a:ext cx="5472000" cy="475596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8"/>
          <p:cNvSpPr/>
          <p:nvPr/>
        </p:nvSpPr>
        <p:spPr>
          <a:xfrm>
            <a:off x="4856400" y="13406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导致高血压，肾负担过重，导致鼻咽癌等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4"/>
          <p:cNvSpPr/>
          <p:nvPr/>
        </p:nvSpPr>
        <p:spPr>
          <a:xfrm>
            <a:off x="1940040" y="380160"/>
            <a:ext cx="395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三：加工类肉食品       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4139280" y="1370880"/>
            <a:ext cx="10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含致癌物质：亚硝酸盐；含大量防腐剂。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6" descr="200411819424548120"/>
          <p:cNvPicPr/>
          <p:nvPr/>
        </p:nvPicPr>
        <p:blipFill>
          <a:blip r:embed="rId3"/>
          <a:stretch/>
        </p:blipFill>
        <p:spPr>
          <a:xfrm>
            <a:off x="990720" y="1981080"/>
            <a:ext cx="6912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4"/>
          <p:cNvSpPr/>
          <p:nvPr/>
        </p:nvSpPr>
        <p:spPr>
          <a:xfrm>
            <a:off x="1995120" y="456120"/>
            <a:ext cx="32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四：饼干类食品   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200627"/>
          <p:cNvPicPr/>
          <p:nvPr/>
        </p:nvPicPr>
        <p:blipFill>
          <a:blip r:embed="rId3"/>
          <a:stretch/>
        </p:blipFill>
        <p:spPr>
          <a:xfrm>
            <a:off x="990720" y="1981080"/>
            <a:ext cx="6408720" cy="446112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6"/>
          <p:cNvSpPr/>
          <p:nvPr/>
        </p:nvSpPr>
        <p:spPr>
          <a:xfrm>
            <a:off x="3755160" y="1294560"/>
            <a:ext cx="31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食用香精和色素过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严重破坏维生素；营养成分低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7"/>
          <p:cNvSpPr/>
          <p:nvPr/>
        </p:nvSpPr>
        <p:spPr>
          <a:xfrm>
            <a:off x="3100680" y="332280"/>
            <a:ext cx="37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五：汽水可乐类食品   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200739"/>
          <p:cNvPicPr/>
          <p:nvPr/>
        </p:nvPicPr>
        <p:blipFill>
          <a:blip r:embed="rId3"/>
          <a:stretch/>
        </p:blipFill>
        <p:spPr>
          <a:xfrm>
            <a:off x="990720" y="1981080"/>
            <a:ext cx="6553080" cy="43689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9"/>
          <p:cNvSpPr/>
          <p:nvPr/>
        </p:nvSpPr>
        <p:spPr>
          <a:xfrm>
            <a:off x="5021280" y="134064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含磷酸、碳酸，会带走体内大量的钙；含糖量过高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04560" y="990720"/>
            <a:ext cx="83739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挑食偏食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讨厌蔬菜和水果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是否存在狼吞虎咽、看着电视吃饭的现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曾因食物问题而患胃肠炎、腹泻、中毒、发烧等疾病吗？</a:t>
            </a:r>
            <a:r>
              <a:rPr b="1" lang="en-US" sz="800" spc="-1" strike="noStrike">
                <a:solidFill>
                  <a:srgbClr val="d8d8ec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烧烤、火腿、辣皮、可乐等零食是你的最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有过因晚起而不吃早餐的经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是否尝试通过节食的方法来减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395280" y="18900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饮食小调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900000" y="202896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228600" y="48769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回忆一下你在生活中是否也有此类情况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从中你又有什么启发呢？处在生长发育期的青少年的日常饮食应注意些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4"/>
          <p:cNvSpPr/>
          <p:nvPr/>
        </p:nvSpPr>
        <p:spPr>
          <a:xfrm>
            <a:off x="3176280" y="259560"/>
            <a:ext cx="32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六：方便类食品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5" descr="uvRB6o0u"/>
          <p:cNvPicPr/>
          <p:nvPr/>
        </p:nvPicPr>
        <p:blipFill>
          <a:blip r:embed="rId3"/>
          <a:stretch/>
        </p:blipFill>
        <p:spPr>
          <a:xfrm>
            <a:off x="914400" y="1905120"/>
            <a:ext cx="6335640" cy="47527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6"/>
          <p:cNvSpPr/>
          <p:nvPr/>
        </p:nvSpPr>
        <p:spPr>
          <a:xfrm>
            <a:off x="4523040" y="129456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盐分过高；热量过高，营养价值极低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4"/>
          <p:cNvSpPr/>
          <p:nvPr/>
        </p:nvSpPr>
        <p:spPr>
          <a:xfrm>
            <a:off x="3608280" y="472320"/>
            <a:ext cx="32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七：罐头类食品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1088254492"/>
          <p:cNvPicPr/>
          <p:nvPr/>
        </p:nvPicPr>
        <p:blipFill>
          <a:blip r:embed="rId3"/>
          <a:stretch/>
        </p:blipFill>
        <p:spPr>
          <a:xfrm>
            <a:off x="0" y="1981080"/>
            <a:ext cx="4500720" cy="43927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1111132118"/>
          <p:cNvPicPr/>
          <p:nvPr/>
        </p:nvPicPr>
        <p:blipFill>
          <a:blip r:embed="rId4"/>
          <a:stretch/>
        </p:blipFill>
        <p:spPr>
          <a:xfrm>
            <a:off x="4500720" y="1981080"/>
            <a:ext cx="4643280" cy="43927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7"/>
          <p:cNvSpPr/>
          <p:nvPr/>
        </p:nvSpPr>
        <p:spPr>
          <a:xfrm>
            <a:off x="4896360" y="1370880"/>
            <a:ext cx="6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破坏维生素，使蛋白质变性；热量过多，营养成分低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2086920" y="532440"/>
            <a:ext cx="388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八：话梅蜜饯类食品    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5" descr="141551092291305232_QtntLWPgQZiu"/>
          <p:cNvPicPr/>
          <p:nvPr/>
        </p:nvPicPr>
        <p:blipFill>
          <a:blip r:embed="rId3"/>
          <a:stretch/>
        </p:blipFill>
        <p:spPr>
          <a:xfrm>
            <a:off x="990720" y="1981080"/>
            <a:ext cx="5545080" cy="46260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6"/>
          <p:cNvSpPr/>
          <p:nvPr/>
        </p:nvSpPr>
        <p:spPr>
          <a:xfrm>
            <a:off x="3937320" y="149328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含致癌物质：亚硝酸盐，含防腐剂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8200"/>
          <p:cNvSpPr/>
          <p:nvPr/>
        </p:nvSpPr>
        <p:spPr>
          <a:xfrm>
            <a:off x="1546200" y="21448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66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4"/>
          <p:cNvSpPr/>
          <p:nvPr/>
        </p:nvSpPr>
        <p:spPr>
          <a:xfrm>
            <a:off x="3207600" y="403920"/>
            <a:ext cx="38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九：冷冻甜品类食品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xinsrc_0520702150823638083812"/>
          <p:cNvPicPr/>
          <p:nvPr/>
        </p:nvPicPr>
        <p:blipFill>
          <a:blip r:embed="rId3"/>
          <a:stretch/>
        </p:blipFill>
        <p:spPr>
          <a:xfrm>
            <a:off x="0" y="1981080"/>
            <a:ext cx="4191120" cy="39592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2005714164117202"/>
          <p:cNvPicPr/>
          <p:nvPr/>
        </p:nvPicPr>
        <p:blipFill>
          <a:blip r:embed="rId4"/>
          <a:stretch/>
        </p:blipFill>
        <p:spPr>
          <a:xfrm>
            <a:off x="4246560" y="1981080"/>
            <a:ext cx="4897440" cy="39592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7"/>
          <p:cNvSpPr/>
          <p:nvPr/>
        </p:nvSpPr>
        <p:spPr>
          <a:xfrm>
            <a:off x="5066280" y="1386720"/>
            <a:ext cx="9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含奶油极易引起肥胖；含糖量过高影响正餐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9A9C-E955-4E3D-B526-34C9308749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4"/>
          <p:cNvSpPr/>
          <p:nvPr/>
        </p:nvSpPr>
        <p:spPr>
          <a:xfrm>
            <a:off x="3429720" y="475200"/>
            <a:ext cx="318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十：烧烤类食品  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5" descr="201238"/>
          <p:cNvPicPr/>
          <p:nvPr/>
        </p:nvPicPr>
        <p:blipFill>
          <a:blip r:embed="rId3"/>
          <a:stretch/>
        </p:blipFill>
        <p:spPr>
          <a:xfrm>
            <a:off x="0" y="1981080"/>
            <a:ext cx="4284720" cy="38671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200462194947"/>
          <p:cNvPicPr/>
          <p:nvPr/>
        </p:nvPicPr>
        <p:blipFill>
          <a:blip r:embed="rId4"/>
          <a:stretch/>
        </p:blipFill>
        <p:spPr>
          <a:xfrm>
            <a:off x="4191120" y="1981080"/>
            <a:ext cx="4762440" cy="388800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7"/>
          <p:cNvSpPr/>
          <p:nvPr/>
        </p:nvSpPr>
        <p:spPr>
          <a:xfrm>
            <a:off x="4606560" y="1370880"/>
            <a:ext cx="7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含大量致癌物质三苯四丙吡，导致蛋白质碳化变性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8"/>
          <p:cNvSpPr/>
          <p:nvPr/>
        </p:nvSpPr>
        <p:spPr>
          <a:xfrm>
            <a:off x="1219320" y="50472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合理营养的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447920" y="2286000"/>
            <a:ext cx="52736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理营养是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全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营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092I92527-0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38019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179280" y="3068640"/>
            <a:ext cx="74883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居民需要哪些营养物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物金字塔对这些物质是如何搭配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做到合理营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组卷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0" y="2060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阅读课本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页小组内交流探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5"/>
          <p:cNvSpPr txBox="1"/>
          <p:nvPr/>
        </p:nvSpPr>
        <p:spPr>
          <a:xfrm>
            <a:off x="324000" y="189000"/>
            <a:ext cx="4263840" cy="15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作 探究 交流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pic_33855"/>
          <p:cNvPicPr/>
          <p:nvPr/>
        </p:nvPicPr>
        <p:blipFill>
          <a:blip r:embed="rId1"/>
          <a:stretch/>
        </p:blipFill>
        <p:spPr>
          <a:xfrm>
            <a:off x="34920" y="619200"/>
            <a:ext cx="7345440" cy="590544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2771640" y="6284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衡膳食宝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547280" y="1916280"/>
            <a:ext cx="2520000" cy="4392360"/>
            <a:chOff x="1547280" y="1916280"/>
            <a:chExt cx="2520000" cy="4392360"/>
          </a:xfrm>
        </p:grpSpPr>
        <p:sp>
          <p:nvSpPr>
            <p:cNvPr id="359" name="Line 4"/>
            <p:cNvSpPr/>
            <p:nvPr/>
          </p:nvSpPr>
          <p:spPr>
            <a:xfrm flipH="1">
              <a:off x="1547280" y="1916280"/>
              <a:ext cx="2519640" cy="4392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1547640" y="1916280"/>
              <a:ext cx="2519640" cy="43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843280" y="3067200"/>
            <a:ext cx="1800000" cy="3241440"/>
            <a:chOff x="2843280" y="3067200"/>
            <a:chExt cx="1800000" cy="3241440"/>
          </a:xfrm>
        </p:grpSpPr>
        <p:sp>
          <p:nvSpPr>
            <p:cNvPr id="362" name="Line 5"/>
            <p:cNvSpPr/>
            <p:nvPr/>
          </p:nvSpPr>
          <p:spPr>
            <a:xfrm flipH="1">
              <a:off x="2843280" y="3067200"/>
              <a:ext cx="1800000" cy="324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2843280" y="3067200"/>
              <a:ext cx="1800000" cy="324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138560" y="4149720"/>
            <a:ext cx="1154160" cy="2160720"/>
            <a:chOff x="4138560" y="4149720"/>
            <a:chExt cx="1154160" cy="2160720"/>
          </a:xfrm>
        </p:grpSpPr>
        <p:sp>
          <p:nvSpPr>
            <p:cNvPr id="365" name="Line 6"/>
            <p:cNvSpPr/>
            <p:nvPr/>
          </p:nvSpPr>
          <p:spPr>
            <a:xfrm flipH="1">
              <a:off x="4138560" y="4149720"/>
              <a:ext cx="1154160" cy="2160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4138560" y="4149720"/>
              <a:ext cx="1154160" cy="21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365800" y="5302080"/>
            <a:ext cx="574560" cy="1079640"/>
            <a:chOff x="5365800" y="5302080"/>
            <a:chExt cx="574560" cy="1079640"/>
          </a:xfrm>
        </p:grpSpPr>
        <p:sp>
          <p:nvSpPr>
            <p:cNvPr id="368" name="Line 7"/>
            <p:cNvSpPr/>
            <p:nvPr/>
          </p:nvSpPr>
          <p:spPr>
            <a:xfrm flipH="1">
              <a:off x="5365800" y="5302080"/>
              <a:ext cx="574560" cy="1079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5365800" y="5302080"/>
              <a:ext cx="57456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843280" y="1917720"/>
            <a:ext cx="2520720" cy="4464000"/>
            <a:chOff x="2843280" y="1917720"/>
            <a:chExt cx="2520720" cy="4464000"/>
          </a:xfrm>
        </p:grpSpPr>
        <p:sp>
          <p:nvSpPr>
            <p:cNvPr id="371" name="Line 8"/>
            <p:cNvSpPr/>
            <p:nvPr/>
          </p:nvSpPr>
          <p:spPr>
            <a:xfrm>
              <a:off x="2843280" y="1917720"/>
              <a:ext cx="2520720" cy="4464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2843280" y="1917720"/>
              <a:ext cx="2520720" cy="446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197080" y="2995560"/>
            <a:ext cx="1943280" cy="3313080"/>
            <a:chOff x="2197080" y="2995560"/>
            <a:chExt cx="1943280" cy="3313080"/>
          </a:xfrm>
        </p:grpSpPr>
        <p:sp>
          <p:nvSpPr>
            <p:cNvPr id="374" name="Line 9"/>
            <p:cNvSpPr/>
            <p:nvPr/>
          </p:nvSpPr>
          <p:spPr>
            <a:xfrm>
              <a:off x="2197080" y="2995560"/>
              <a:ext cx="1943280" cy="331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2197080" y="2995560"/>
              <a:ext cx="194328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547640" y="4075200"/>
            <a:ext cx="1295640" cy="2233440"/>
            <a:chOff x="1547640" y="4075200"/>
            <a:chExt cx="1295640" cy="2233440"/>
          </a:xfrm>
        </p:grpSpPr>
        <p:sp>
          <p:nvSpPr>
            <p:cNvPr id="377" name="Line 10"/>
            <p:cNvSpPr/>
            <p:nvPr/>
          </p:nvSpPr>
          <p:spPr>
            <a:xfrm>
              <a:off x="1547640" y="4075200"/>
              <a:ext cx="1295640" cy="223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1547640" y="4075200"/>
              <a:ext cx="1295640" cy="223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98560" y="5156280"/>
            <a:ext cx="649080" cy="1152360"/>
            <a:chOff x="898560" y="5156280"/>
            <a:chExt cx="649080" cy="1152360"/>
          </a:xfrm>
        </p:grpSpPr>
        <p:sp>
          <p:nvSpPr>
            <p:cNvPr id="380" name="Line 11"/>
            <p:cNvSpPr/>
            <p:nvPr/>
          </p:nvSpPr>
          <p:spPr>
            <a:xfrm>
              <a:off x="898560" y="5156280"/>
              <a:ext cx="649080" cy="1152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898560" y="5156280"/>
              <a:ext cx="64908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2"/>
          <p:cNvGrpSpPr/>
          <p:nvPr/>
        </p:nvGrpSpPr>
        <p:grpSpPr>
          <a:xfrm>
            <a:off x="6227640" y="5013360"/>
            <a:ext cx="1871640" cy="459720"/>
            <a:chOff x="6227640" y="5013360"/>
            <a:chExt cx="1871640" cy="459720"/>
          </a:xfrm>
        </p:grpSpPr>
        <p:grpSp>
          <p:nvGrpSpPr>
            <p:cNvPr id="383" name=""/>
            <p:cNvGrpSpPr/>
            <p:nvPr/>
          </p:nvGrpSpPr>
          <p:grpSpPr>
            <a:xfrm>
              <a:off x="6227640" y="5373720"/>
              <a:ext cx="1150920" cy="360"/>
              <a:chOff x="6227640" y="5373720"/>
              <a:chExt cx="1150920" cy="360"/>
            </a:xfrm>
          </p:grpSpPr>
          <p:sp>
            <p:nvSpPr>
              <p:cNvPr id="384" name="Line 13"/>
              <p:cNvSpPr/>
              <p:nvPr/>
            </p:nvSpPr>
            <p:spPr>
              <a:xfrm>
                <a:off x="6227640" y="5373720"/>
                <a:ext cx="1150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6227640" y="5373720"/>
                <a:ext cx="115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Text Box 14"/>
            <p:cNvSpPr/>
            <p:nvPr/>
          </p:nvSpPr>
          <p:spPr>
            <a:xfrm>
              <a:off x="7524720" y="501336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5"/>
          <p:cNvGrpSpPr/>
          <p:nvPr/>
        </p:nvGrpSpPr>
        <p:grpSpPr>
          <a:xfrm>
            <a:off x="5508720" y="3830760"/>
            <a:ext cx="2590560" cy="459720"/>
            <a:chOff x="5508720" y="3830760"/>
            <a:chExt cx="2590560" cy="459720"/>
          </a:xfrm>
        </p:grpSpPr>
        <p:grpSp>
          <p:nvGrpSpPr>
            <p:cNvPr id="388" name=""/>
            <p:cNvGrpSpPr/>
            <p:nvPr/>
          </p:nvGrpSpPr>
          <p:grpSpPr>
            <a:xfrm>
              <a:off x="5508720" y="4221000"/>
              <a:ext cx="2016000" cy="360"/>
              <a:chOff x="5508720" y="4221000"/>
              <a:chExt cx="2016000" cy="360"/>
            </a:xfrm>
          </p:grpSpPr>
          <p:sp>
            <p:nvSpPr>
              <p:cNvPr id="389" name="Line 16"/>
              <p:cNvSpPr/>
              <p:nvPr/>
            </p:nvSpPr>
            <p:spPr>
              <a:xfrm>
                <a:off x="5508720" y="4221000"/>
                <a:ext cx="2016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 txBox="1"/>
              <p:nvPr/>
            </p:nvSpPr>
            <p:spPr>
              <a:xfrm>
                <a:off x="5508720" y="4221000"/>
                <a:ext cx="20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Text Box 17"/>
            <p:cNvSpPr/>
            <p:nvPr/>
          </p:nvSpPr>
          <p:spPr>
            <a:xfrm>
              <a:off x="7524720" y="383076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果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18"/>
          <p:cNvGrpSpPr/>
          <p:nvPr/>
        </p:nvGrpSpPr>
        <p:grpSpPr>
          <a:xfrm>
            <a:off x="4932360" y="2708280"/>
            <a:ext cx="3166920" cy="459720"/>
            <a:chOff x="4932360" y="2708280"/>
            <a:chExt cx="3166920" cy="459720"/>
          </a:xfrm>
        </p:grpSpPr>
        <p:grpSp>
          <p:nvGrpSpPr>
            <p:cNvPr id="393" name=""/>
            <p:cNvGrpSpPr/>
            <p:nvPr/>
          </p:nvGrpSpPr>
          <p:grpSpPr>
            <a:xfrm>
              <a:off x="4932360" y="3141720"/>
              <a:ext cx="2665440" cy="360"/>
              <a:chOff x="4932360" y="3141720"/>
              <a:chExt cx="2665440" cy="360"/>
            </a:xfrm>
          </p:grpSpPr>
          <p:sp>
            <p:nvSpPr>
              <p:cNvPr id="394" name="Line 19"/>
              <p:cNvSpPr/>
              <p:nvPr/>
            </p:nvSpPr>
            <p:spPr>
              <a:xfrm>
                <a:off x="4932360" y="3141720"/>
                <a:ext cx="26654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4932360" y="3141720"/>
                <a:ext cx="266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20"/>
            <p:cNvSpPr/>
            <p:nvPr/>
          </p:nvSpPr>
          <p:spPr>
            <a:xfrm>
              <a:off x="7524720" y="270828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肉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21"/>
          <p:cNvGrpSpPr/>
          <p:nvPr/>
        </p:nvGrpSpPr>
        <p:grpSpPr>
          <a:xfrm>
            <a:off x="4356000" y="1628640"/>
            <a:ext cx="3743280" cy="459720"/>
            <a:chOff x="4356000" y="1628640"/>
            <a:chExt cx="3743280" cy="459720"/>
          </a:xfrm>
        </p:grpSpPr>
        <p:grpSp>
          <p:nvGrpSpPr>
            <p:cNvPr id="398" name=""/>
            <p:cNvGrpSpPr/>
            <p:nvPr/>
          </p:nvGrpSpPr>
          <p:grpSpPr>
            <a:xfrm>
              <a:off x="4356000" y="2060640"/>
              <a:ext cx="3241800" cy="360"/>
              <a:chOff x="4356000" y="2060640"/>
              <a:chExt cx="3241800" cy="360"/>
            </a:xfrm>
          </p:grpSpPr>
          <p:sp>
            <p:nvSpPr>
              <p:cNvPr id="399" name="Line 22"/>
              <p:cNvSpPr/>
              <p:nvPr/>
            </p:nvSpPr>
            <p:spPr>
              <a:xfrm>
                <a:off x="4356000" y="2060640"/>
                <a:ext cx="32418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>
                <a:off x="4356000" y="2060640"/>
                <a:ext cx="324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23"/>
            <p:cNvSpPr/>
            <p:nvPr/>
          </p:nvSpPr>
          <p:spPr>
            <a:xfrm>
              <a:off x="7524720" y="162864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乳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4"/>
          <p:cNvGrpSpPr/>
          <p:nvPr/>
        </p:nvGrpSpPr>
        <p:grpSpPr>
          <a:xfrm>
            <a:off x="3780000" y="620640"/>
            <a:ext cx="4319280" cy="459720"/>
            <a:chOff x="3780000" y="620640"/>
            <a:chExt cx="4319280" cy="459720"/>
          </a:xfrm>
        </p:grpSpPr>
        <p:grpSp>
          <p:nvGrpSpPr>
            <p:cNvPr id="403" name=""/>
            <p:cNvGrpSpPr/>
            <p:nvPr/>
          </p:nvGrpSpPr>
          <p:grpSpPr>
            <a:xfrm>
              <a:off x="3780000" y="1052640"/>
              <a:ext cx="3816360" cy="360"/>
              <a:chOff x="3780000" y="1052640"/>
              <a:chExt cx="3816360" cy="360"/>
            </a:xfrm>
          </p:grpSpPr>
          <p:sp>
            <p:nvSpPr>
              <p:cNvPr id="404" name="Line 25"/>
              <p:cNvSpPr/>
              <p:nvPr/>
            </p:nvSpPr>
            <p:spPr>
              <a:xfrm>
                <a:off x="3780000" y="1052640"/>
                <a:ext cx="3816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 txBox="1"/>
              <p:nvPr/>
            </p:nvSpPr>
            <p:spPr>
              <a:xfrm>
                <a:off x="3780000" y="1052640"/>
                <a:ext cx="381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26"/>
            <p:cNvSpPr/>
            <p:nvPr/>
          </p:nvSpPr>
          <p:spPr>
            <a:xfrm>
              <a:off x="7524720" y="62064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油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27"/>
          <p:cNvSpPr/>
          <p:nvPr/>
        </p:nvSpPr>
        <p:spPr>
          <a:xfrm>
            <a:off x="8139240" y="811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8"/>
          <p:cNvSpPr/>
          <p:nvPr/>
        </p:nvSpPr>
        <p:spPr>
          <a:xfrm>
            <a:off x="8064360" y="18194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9"/>
          <p:cNvSpPr/>
          <p:nvPr/>
        </p:nvSpPr>
        <p:spPr>
          <a:xfrm>
            <a:off x="8064360" y="39783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8064360" y="2900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8064360" y="5157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WordArt 32"/>
          <p:cNvSpPr txBox="1"/>
          <p:nvPr/>
        </p:nvSpPr>
        <p:spPr>
          <a:xfrm>
            <a:off x="324000" y="44280"/>
            <a:ext cx="50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如何做到合理营养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WordArt 4"/>
          <p:cNvSpPr txBox="1"/>
          <p:nvPr/>
        </p:nvSpPr>
        <p:spPr>
          <a:xfrm>
            <a:off x="1523880" y="38088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如何做到合理营养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均衡的吃平衡膳食宝塔中的五类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日三餐，按时进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早中晚能量比分别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WordArt 4"/>
          <p:cNvSpPr txBox="1"/>
          <p:nvPr/>
        </p:nvSpPr>
        <p:spPr>
          <a:xfrm>
            <a:off x="1447920" y="304920"/>
            <a:ext cx="3816360" cy="14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round/>
                </a:ln>
                <a:solidFill>
                  <a:srgbClr val="ff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是小小营养师</a:t>
            </a:r>
            <a:endParaRPr b="1" lang="en-US" sz="1800" spc="1" strike="noStrike">
              <a:ln w="9360">
                <a:solidFill>
                  <a:srgbClr val="ffff99"/>
                </a:solidFill>
                <a:round/>
              </a:ln>
              <a:solidFill>
                <a:srgbClr val="ff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1219320" y="1676520"/>
            <a:ext cx="79246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果家中有下面的病人，我们应为他们考虑在饮食方面应注意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患肝炎的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经常牙龈出血的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患有糖尿病的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6" descr="捕获1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捕获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青少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吃谷类，供给充足的能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证鱼、肉、蛋、奶、豆类和蔬菜的摄入，从中获得高蛋白和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参加体力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避免盲目节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120"/>
          <p:cNvPicPr/>
          <p:nvPr/>
        </p:nvPicPr>
        <p:blipFill>
          <a:blip r:embed="rId3"/>
          <a:stretch/>
        </p:blipFill>
        <p:spPr>
          <a:xfrm>
            <a:off x="6516720" y="4869000"/>
            <a:ext cx="223200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4:18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47Z</dcterms:modified>
  <cp:revision>7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