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807-E399-4DFD-80A8-A98FA89E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8AB-BB2A-46ED-83A4-D3D8F0ED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0DF-7316-423C-A1F8-92C6373B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6A4-C458-4707-B7DA-D8095FAE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AFCD-2A9E-4011-9D43-A3F430BD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0459-1241-42B4-9C6F-2E415762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A7D3-0A56-4186-A3E4-5691F2B9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A732-75FA-4C61-8C65-E0DD16A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0F0E-DCC0-418D-ACE4-B98A832D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FEAB-5CC4-41AD-95D0-2226CB64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870D-C515-4D4D-BED2-84A6BD9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418-5247-48A2-B7EC-8DABD772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4938-DA56-45FD-9249-1756539F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7C5C-981D-475C-81C2-154B0067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371B-92FE-4C4D-9F05-5FA86AE8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34D4-9776-47B3-AE33-7D5657DE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8171-49C0-4777-9301-9293854C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B5F-584A-42AA-A16E-8CC0F089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27F-B11F-488F-B0F4-3A76530F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9F2-FBB9-45A8-B361-9B9F6EE9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478-DB1E-45B3-894A-43B6D912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02A-20A5-4A22-8436-D1EB5E4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FAF-FD07-425E-BCF5-122F7A2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5F2-2BD8-40DE-934B-DF3910DE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C89C-870C-40EF-ADDC-87A0785F78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D72E-64A4-4EB6-8D3A-DFDCA4C969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5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1008000" y="14493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能课件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免费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684360" y="7002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十二章　能源与可持续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8" descr="17204006"/>
          <p:cNvPicPr/>
          <p:nvPr/>
        </p:nvPicPr>
        <p:blipFill>
          <a:blip r:embed="rId1"/>
          <a:stretch/>
        </p:blipFill>
        <p:spPr>
          <a:xfrm>
            <a:off x="4464000" y="1341360"/>
            <a:ext cx="4427640" cy="38577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1"/>
          <p:cNvSpPr/>
          <p:nvPr/>
        </p:nvSpPr>
        <p:spPr>
          <a:xfrm>
            <a:off x="431640" y="12682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将质量较小的原子核结合起来，也会释放出巨大的核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6"/>
          <p:cNvGrpSpPr/>
          <p:nvPr/>
        </p:nvGrpSpPr>
        <p:grpSpPr>
          <a:xfrm>
            <a:off x="1332000" y="2529000"/>
            <a:ext cx="1855800" cy="520560"/>
            <a:chOff x="1332000" y="2529000"/>
            <a:chExt cx="1855800" cy="520560"/>
          </a:xfrm>
        </p:grpSpPr>
        <p:sp>
          <p:nvSpPr>
            <p:cNvPr id="228" name="矩形 15"/>
            <p:cNvSpPr/>
            <p:nvPr/>
          </p:nvSpPr>
          <p:spPr>
            <a:xfrm>
              <a:off x="1332000" y="252900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16"/>
            <p:cNvSpPr/>
            <p:nvPr/>
          </p:nvSpPr>
          <p:spPr>
            <a:xfrm>
              <a:off x="2664000" y="2529000"/>
              <a:ext cx="52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22"/>
          <p:cNvSpPr/>
          <p:nvPr/>
        </p:nvSpPr>
        <p:spPr>
          <a:xfrm>
            <a:off x="792000" y="454500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氦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3"/>
          <p:cNvSpPr/>
          <p:nvPr/>
        </p:nvSpPr>
        <p:spPr>
          <a:xfrm>
            <a:off x="2843280" y="450864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中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431640" y="55897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氘核与氚核在超高温下结合形成氦核和一个中子，能释放大量核能。这一过程就是聚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34" name="矩形 4"/>
          <p:cNvSpPr/>
          <p:nvPr/>
        </p:nvSpPr>
        <p:spPr>
          <a:xfrm>
            <a:off x="431640" y="404640"/>
            <a:ext cx="262764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聚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7"/>
          <p:cNvGrpSpPr/>
          <p:nvPr/>
        </p:nvGrpSpPr>
        <p:grpSpPr>
          <a:xfrm>
            <a:off x="1692360" y="3033720"/>
            <a:ext cx="1152360" cy="539640"/>
            <a:chOff x="1692360" y="3033720"/>
            <a:chExt cx="1152360" cy="539640"/>
          </a:xfrm>
        </p:grpSpPr>
        <p:grpSp>
          <p:nvGrpSpPr>
            <p:cNvPr id="236" name=""/>
            <p:cNvGrpSpPr/>
            <p:nvPr/>
          </p:nvGrpSpPr>
          <p:grpSpPr>
            <a:xfrm>
              <a:off x="1692360" y="3033720"/>
              <a:ext cx="360360" cy="539640"/>
              <a:chOff x="1692360" y="3033720"/>
              <a:chExt cx="360360" cy="539640"/>
            </a:xfrm>
          </p:grpSpPr>
          <p:sp>
            <p:nvSpPr>
              <p:cNvPr id="237" name="Line 20"/>
              <p:cNvSpPr/>
              <p:nvPr/>
            </p:nvSpPr>
            <p:spPr>
              <a:xfrm>
                <a:off x="1692360" y="3033720"/>
                <a:ext cx="360360" cy="53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1692360" y="3033720"/>
                <a:ext cx="360360" cy="5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448000" y="3033720"/>
              <a:ext cx="396720" cy="539640"/>
              <a:chOff x="2448000" y="3033720"/>
              <a:chExt cx="396720" cy="539640"/>
            </a:xfrm>
          </p:grpSpPr>
          <p:sp>
            <p:nvSpPr>
              <p:cNvPr id="240" name="Line 21"/>
              <p:cNvSpPr/>
              <p:nvPr/>
            </p:nvSpPr>
            <p:spPr>
              <a:xfrm flipH="1">
                <a:off x="2448000" y="3033720"/>
                <a:ext cx="396720" cy="53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2448000" y="3033720"/>
                <a:ext cx="396720" cy="5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矩形 23"/>
          <p:cNvSpPr/>
          <p:nvPr/>
        </p:nvSpPr>
        <p:spPr>
          <a:xfrm>
            <a:off x="1835280" y="4834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7"/>
          <p:cNvSpPr/>
          <p:nvPr/>
        </p:nvSpPr>
        <p:spPr>
          <a:xfrm>
            <a:off x="1945800" y="36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聚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584000" y="4076640"/>
            <a:ext cx="432000" cy="468360"/>
            <a:chOff x="1584000" y="4076640"/>
            <a:chExt cx="432000" cy="468360"/>
          </a:xfrm>
        </p:grpSpPr>
        <p:sp>
          <p:nvSpPr>
            <p:cNvPr id="245" name="Line 22"/>
            <p:cNvSpPr/>
            <p:nvPr/>
          </p:nvSpPr>
          <p:spPr>
            <a:xfrm flipH="1">
              <a:off x="1584000" y="4076640"/>
              <a:ext cx="431640" cy="468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1584360" y="4076640"/>
              <a:ext cx="431640" cy="4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519280" y="4076640"/>
            <a:ext cx="432000" cy="504720"/>
            <a:chOff x="2519280" y="4076640"/>
            <a:chExt cx="432000" cy="504720"/>
          </a:xfrm>
        </p:grpSpPr>
        <p:sp>
          <p:nvSpPr>
            <p:cNvPr id="248" name="Line 23"/>
            <p:cNvSpPr/>
            <p:nvPr/>
          </p:nvSpPr>
          <p:spPr>
            <a:xfrm>
              <a:off x="2519280" y="4076640"/>
              <a:ext cx="432000" cy="504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2519280" y="407664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68360" y="4111560"/>
            <a:ext cx="360" cy="720720"/>
            <a:chOff x="2268360" y="4111560"/>
            <a:chExt cx="360" cy="720720"/>
          </a:xfrm>
        </p:grpSpPr>
        <p:sp>
          <p:nvSpPr>
            <p:cNvPr id="251" name="Line 25"/>
            <p:cNvSpPr/>
            <p:nvPr/>
          </p:nvSpPr>
          <p:spPr>
            <a:xfrm>
              <a:off x="2268360" y="411156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2268360" y="411156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E:\电子课件编制\22章\2\hydrogen-bomb.jpg"/>
          <p:cNvPicPr/>
          <p:nvPr/>
        </p:nvPicPr>
        <p:blipFill>
          <a:blip r:embed="rId2"/>
          <a:stretch/>
        </p:blipFill>
        <p:spPr>
          <a:xfrm>
            <a:off x="390528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1"/>
          <p:cNvSpPr/>
          <p:nvPr/>
        </p:nvSpPr>
        <p:spPr>
          <a:xfrm>
            <a:off x="396720" y="7794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氘核和氚核都属于氢核的一种。大量氢核的聚变，可以在瞬间释放惊人的能量。氢弹利用的就是聚变瞬间释放的能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431640" y="3860640"/>
            <a:ext cx="41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可控聚变尚未实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，海水中蕴藏着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富的氘核，科学家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言，通过可控聚变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用核能，将有望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底解决人类能源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E:\电子课件编制\22章\2\77.jpg"/>
          <p:cNvPicPr/>
          <p:nvPr/>
        </p:nvPicPr>
        <p:blipFill>
          <a:blip r:embed="rId3"/>
          <a:stretch/>
        </p:blipFill>
        <p:spPr>
          <a:xfrm>
            <a:off x="3895560" y="0"/>
            <a:ext cx="5256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E47B-CC4D-4C6E-A7DA-FC8ABA090C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"/>
          <p:cNvGrpSpPr/>
          <p:nvPr/>
        </p:nvGrpSpPr>
        <p:grpSpPr>
          <a:xfrm>
            <a:off x="826920" y="2097000"/>
            <a:ext cx="3043440" cy="828720"/>
            <a:chOff x="826920" y="2097000"/>
            <a:chExt cx="3043440" cy="828720"/>
          </a:xfrm>
        </p:grpSpPr>
        <p:pic>
          <p:nvPicPr>
            <p:cNvPr id="263" name="矩形 3" descr=""/>
            <p:cNvPicPr/>
            <p:nvPr/>
          </p:nvPicPr>
          <p:blipFill>
            <a:blip r:embed="rId1"/>
            <a:stretch/>
          </p:blipFill>
          <p:spPr>
            <a:xfrm>
              <a:off x="826920" y="2097000"/>
              <a:ext cx="30434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5"/>
            <p:cNvSpPr/>
            <p:nvPr/>
          </p:nvSpPr>
          <p:spPr>
            <a:xfrm>
              <a:off x="873720" y="2205000"/>
              <a:ext cx="2953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核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"/>
          <p:cNvGrpSpPr/>
          <p:nvPr/>
        </p:nvGrpSpPr>
        <p:grpSpPr>
          <a:xfrm>
            <a:off x="838080" y="3127320"/>
            <a:ext cx="3043440" cy="804960"/>
            <a:chOff x="838080" y="3127320"/>
            <a:chExt cx="3043440" cy="804960"/>
          </a:xfrm>
        </p:grpSpPr>
        <p:pic>
          <p:nvPicPr>
            <p:cNvPr id="266" name="矩形 4" descr=""/>
            <p:cNvPicPr/>
            <p:nvPr/>
          </p:nvPicPr>
          <p:blipFill>
            <a:blip r:embed="rId2"/>
            <a:stretch/>
          </p:blipFill>
          <p:spPr>
            <a:xfrm>
              <a:off x="838080" y="3127320"/>
              <a:ext cx="3043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8"/>
            <p:cNvSpPr/>
            <p:nvPr/>
          </p:nvSpPr>
          <p:spPr>
            <a:xfrm>
              <a:off x="884880" y="3213000"/>
              <a:ext cx="2953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裂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838080" y="4065480"/>
            <a:ext cx="3043440" cy="804960"/>
            <a:chOff x="838080" y="4065480"/>
            <a:chExt cx="3043440" cy="804960"/>
          </a:xfrm>
        </p:grpSpPr>
        <p:pic>
          <p:nvPicPr>
            <p:cNvPr id="269" name="矩形 5" descr=""/>
            <p:cNvPicPr/>
            <p:nvPr/>
          </p:nvPicPr>
          <p:blipFill>
            <a:blip r:embed="rId3"/>
            <a:stretch/>
          </p:blipFill>
          <p:spPr>
            <a:xfrm>
              <a:off x="838080" y="4065480"/>
              <a:ext cx="3043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1"/>
            <p:cNvSpPr/>
            <p:nvPr/>
          </p:nvSpPr>
          <p:spPr>
            <a:xfrm>
              <a:off x="884880" y="4149720"/>
              <a:ext cx="2953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聚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887640" y="2011320"/>
            <a:ext cx="4335480" cy="1522080"/>
            <a:chOff x="3887640" y="2011320"/>
            <a:chExt cx="4335480" cy="1522080"/>
          </a:xfrm>
        </p:grpSpPr>
        <p:grpSp>
          <p:nvGrpSpPr>
            <p:cNvPr id="272" name="Group 13"/>
            <p:cNvGrpSpPr/>
            <p:nvPr/>
          </p:nvGrpSpPr>
          <p:grpSpPr>
            <a:xfrm>
              <a:off x="5508360" y="2011320"/>
              <a:ext cx="2714760" cy="835200"/>
              <a:chOff x="5508360" y="2011320"/>
              <a:chExt cx="2714760" cy="835200"/>
            </a:xfrm>
          </p:grpSpPr>
          <p:pic>
            <p:nvPicPr>
              <p:cNvPr id="273" name="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5508360" y="2011320"/>
                <a:ext cx="271476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15"/>
              <p:cNvSpPr/>
              <p:nvPr/>
            </p:nvSpPr>
            <p:spPr>
              <a:xfrm>
                <a:off x="5556960" y="2126160"/>
                <a:ext cx="2626920" cy="64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Calibri"/>
                  </a:rPr>
                  <a:t>原子弹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直接连接符 10"/>
            <p:cNvSpPr/>
            <p:nvPr/>
          </p:nvSpPr>
          <p:spPr>
            <a:xfrm flipV="1">
              <a:off x="3887640" y="2444400"/>
              <a:ext cx="1627200" cy="1089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7"/>
          <p:cNvGrpSpPr/>
          <p:nvPr/>
        </p:nvGrpSpPr>
        <p:grpSpPr>
          <a:xfrm>
            <a:off x="3924360" y="2835360"/>
            <a:ext cx="4333320" cy="858600"/>
            <a:chOff x="3924360" y="2835360"/>
            <a:chExt cx="4333320" cy="858600"/>
          </a:xfrm>
        </p:grpSpPr>
        <p:grpSp>
          <p:nvGrpSpPr>
            <p:cNvPr id="277" name="Group 18"/>
            <p:cNvGrpSpPr/>
            <p:nvPr/>
          </p:nvGrpSpPr>
          <p:grpSpPr>
            <a:xfrm>
              <a:off x="5543280" y="2835360"/>
              <a:ext cx="2714400" cy="858600"/>
              <a:chOff x="5543280" y="2835360"/>
              <a:chExt cx="2714400" cy="858600"/>
            </a:xfrm>
          </p:grpSpPr>
          <p:pic>
            <p:nvPicPr>
              <p:cNvPr id="278" name="矩形 7" descr=""/>
              <p:cNvPicPr/>
              <p:nvPr/>
            </p:nvPicPr>
            <p:blipFill>
              <a:blip r:embed="rId5"/>
              <a:stretch/>
            </p:blipFill>
            <p:spPr>
              <a:xfrm>
                <a:off x="5543280" y="2835360"/>
                <a:ext cx="2714400" cy="85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20"/>
              <p:cNvSpPr/>
              <p:nvPr/>
            </p:nvSpPr>
            <p:spPr>
              <a:xfrm>
                <a:off x="5591880" y="2972880"/>
                <a:ext cx="262656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Calibri"/>
                  </a:rPr>
                  <a:t>核反应堆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直接连接符 12"/>
            <p:cNvSpPr/>
            <p:nvPr/>
          </p:nvSpPr>
          <p:spPr>
            <a:xfrm flipV="1">
              <a:off x="3924360" y="3260160"/>
              <a:ext cx="1611000" cy="396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2"/>
          <p:cNvGrpSpPr/>
          <p:nvPr/>
        </p:nvGrpSpPr>
        <p:grpSpPr>
          <a:xfrm>
            <a:off x="3887640" y="4005360"/>
            <a:ext cx="4370400" cy="858600"/>
            <a:chOff x="3887640" y="4005360"/>
            <a:chExt cx="4370400" cy="858600"/>
          </a:xfrm>
        </p:grpSpPr>
        <p:grpSp>
          <p:nvGrpSpPr>
            <p:cNvPr id="282" name="Group 23"/>
            <p:cNvGrpSpPr/>
            <p:nvPr/>
          </p:nvGrpSpPr>
          <p:grpSpPr>
            <a:xfrm>
              <a:off x="5543280" y="4005360"/>
              <a:ext cx="2714760" cy="858600"/>
              <a:chOff x="5543280" y="4005360"/>
              <a:chExt cx="2714760" cy="858600"/>
            </a:xfrm>
          </p:grpSpPr>
          <p:pic>
            <p:nvPicPr>
              <p:cNvPr id="283" name="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543280" y="4005360"/>
                <a:ext cx="2714760" cy="85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Text Box 25"/>
              <p:cNvSpPr/>
              <p:nvPr/>
            </p:nvSpPr>
            <p:spPr>
              <a:xfrm>
                <a:off x="5591880" y="4142880"/>
                <a:ext cx="262692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Calibri"/>
                  </a:rPr>
                  <a:t>氢弹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直接连接符 14"/>
            <p:cNvSpPr/>
            <p:nvPr/>
          </p:nvSpPr>
          <p:spPr>
            <a:xfrm flipV="1">
              <a:off x="3887640" y="4436640"/>
              <a:ext cx="1662120" cy="33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28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88" name="圆角矩形 1" descr=""/>
            <p:cNvPicPr/>
            <p:nvPr/>
          </p:nvPicPr>
          <p:blipFill>
            <a:blip r:embed="rId8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30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8"/>
          <p:cNvSpPr/>
          <p:nvPr/>
        </p:nvSpPr>
        <p:spPr>
          <a:xfrm>
            <a:off x="431640" y="126828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原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:\电子课件编制\22章\2\th.jpg"/>
          <p:cNvPicPr/>
          <p:nvPr/>
        </p:nvPicPr>
        <p:blipFill>
          <a:blip r:embed="rId1"/>
          <a:stretch/>
        </p:blipFill>
        <p:spPr>
          <a:xfrm>
            <a:off x="431640" y="3033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E:\电子课件编制\22章\2\Hydrogen-Bonds-Colored-JC_2012.png"/>
          <p:cNvPicPr/>
          <p:nvPr/>
        </p:nvPicPr>
        <p:blipFill>
          <a:blip r:embed="rId2"/>
          <a:stretch/>
        </p:blipFill>
        <p:spPr>
          <a:xfrm rot="19231200">
            <a:off x="3600360" y="2420640"/>
            <a:ext cx="4573800" cy="42656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3315240" y="4149720"/>
            <a:ext cx="2336400" cy="579600"/>
            <a:chOff x="3315240" y="4149720"/>
            <a:chExt cx="2336400" cy="579600"/>
          </a:xfrm>
        </p:grpSpPr>
        <p:sp>
          <p:nvSpPr>
            <p:cNvPr id="89" name="矩形 7"/>
            <p:cNvSpPr/>
            <p:nvPr/>
          </p:nvSpPr>
          <p:spPr>
            <a:xfrm>
              <a:off x="3315240" y="4149720"/>
              <a:ext cx="134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直接箭头连接符 9"/>
            <p:cNvCxnSpPr>
              <a:endCxn id="89" idx="3"/>
            </p:cNvCxnSpPr>
            <p:nvPr/>
          </p:nvCxnSpPr>
          <p:spPr>
            <a:xfrm flipH="1" flipV="1">
              <a:off x="4721040" y="4411440"/>
              <a:ext cx="930960" cy="17064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91" name="矩形 12"/>
          <p:cNvSpPr/>
          <p:nvPr/>
        </p:nvSpPr>
        <p:spPr>
          <a:xfrm>
            <a:off x="431640" y="1835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以水分子为例：它由一个氧原子和两个氢原子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3" name="矩形 4"/>
          <p:cNvSpPr/>
          <p:nvPr/>
        </p:nvSpPr>
        <p:spPr>
          <a:xfrm>
            <a:off x="766440" y="411120"/>
            <a:ext cx="11559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核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3672000" y="3679920"/>
            <a:ext cx="3743280" cy="3021480"/>
            <a:chOff x="3672000" y="3679920"/>
            <a:chExt cx="3743280" cy="3021480"/>
          </a:xfrm>
        </p:grpSpPr>
        <p:grpSp>
          <p:nvGrpSpPr>
            <p:cNvPr id="95" name="Group 3"/>
            <p:cNvGrpSpPr/>
            <p:nvPr/>
          </p:nvGrpSpPr>
          <p:grpSpPr>
            <a:xfrm>
              <a:off x="5262840" y="3679920"/>
              <a:ext cx="2152440" cy="3021480"/>
              <a:chOff x="5262840" y="3679920"/>
              <a:chExt cx="2152440" cy="3021480"/>
            </a:xfrm>
          </p:grpSpPr>
          <p:sp>
            <p:nvSpPr>
              <p:cNvPr id="96" name="椭圆 10"/>
              <p:cNvSpPr/>
              <p:nvPr/>
            </p:nvSpPr>
            <p:spPr>
              <a:xfrm>
                <a:off x="5262840" y="3679920"/>
                <a:ext cx="2152440" cy="2215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12"/>
              <p:cNvSpPr/>
              <p:nvPr/>
            </p:nvSpPr>
            <p:spPr>
              <a:xfrm>
                <a:off x="6200280" y="61200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6"/>
              <p:cNvGrpSpPr/>
              <p:nvPr/>
            </p:nvGrpSpPr>
            <p:grpSpPr>
              <a:xfrm>
                <a:off x="5450040" y="3744000"/>
                <a:ext cx="412560" cy="424440"/>
                <a:chOff x="5450040" y="3744000"/>
                <a:chExt cx="412560" cy="424440"/>
              </a:xfrm>
            </p:grpSpPr>
            <p:sp>
              <p:nvSpPr>
                <p:cNvPr id="99" name="椭圆 11"/>
                <p:cNvSpPr/>
                <p:nvPr/>
              </p:nvSpPr>
              <p:spPr>
                <a:xfrm>
                  <a:off x="5450040" y="3744000"/>
                  <a:ext cx="412560" cy="42444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矩形 13"/>
                <p:cNvSpPr/>
                <p:nvPr/>
              </p:nvSpPr>
              <p:spPr>
                <a:xfrm rot="501600">
                  <a:off x="5531040" y="3925800"/>
                  <a:ext cx="249480" cy="640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椭圆 21"/>
              <p:cNvSpPr/>
              <p:nvPr/>
            </p:nvSpPr>
            <p:spPr>
              <a:xfrm>
                <a:off x="6129000" y="4578840"/>
                <a:ext cx="412560" cy="4244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0"/>
              <p:cNvGrpSpPr/>
              <p:nvPr/>
            </p:nvGrpSpPr>
            <p:grpSpPr>
              <a:xfrm>
                <a:off x="6206760" y="4660920"/>
                <a:ext cx="256320" cy="262800"/>
                <a:chOff x="6206760" y="4660920"/>
                <a:chExt cx="256320" cy="262800"/>
              </a:xfrm>
            </p:grpSpPr>
            <p:sp>
              <p:nvSpPr>
                <p:cNvPr id="103" name="矩形 22"/>
                <p:cNvSpPr/>
                <p:nvPr/>
              </p:nvSpPr>
              <p:spPr>
                <a:xfrm rot="501600">
                  <a:off x="6210000" y="4761000"/>
                  <a:ext cx="249480" cy="640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矩形 27"/>
                <p:cNvSpPr/>
                <p:nvPr/>
              </p:nvSpPr>
              <p:spPr>
                <a:xfrm rot="5880000">
                  <a:off x="6206040" y="4761000"/>
                  <a:ext cx="256680" cy="622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05" name="直接箭头连接符 143"/>
            <p:cNvCxnSpPr/>
            <p:nvPr/>
          </p:nvCxnSpPr>
          <p:spPr>
            <a:xfrm flipV="1">
              <a:off x="3672000" y="4963680"/>
              <a:ext cx="1310400" cy="45000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106" name="TextBox 8"/>
          <p:cNvSpPr/>
          <p:nvPr/>
        </p:nvSpPr>
        <p:spPr>
          <a:xfrm>
            <a:off x="431640" y="692280"/>
            <a:ext cx="81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原子由原子核和核外电子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氢原子由原子核和一个核外电子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原子核有一个质子，质子带正电荷，核外电子带负电荷。二者电荷量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E:\电子课件编制\22章\2\Hydrogen-Bonds-Colored-JC_2012.png"/>
          <p:cNvPicPr/>
          <p:nvPr/>
        </p:nvPicPr>
        <p:blipFill>
          <a:blip r:embed="rId1"/>
          <a:stretch/>
        </p:blipFill>
        <p:spPr>
          <a:xfrm rot="19231200">
            <a:off x="1511280" y="3536640"/>
            <a:ext cx="2260800" cy="274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3598920" y="2924280"/>
            <a:ext cx="4392720" cy="3738960"/>
            <a:chOff x="3598920" y="2924280"/>
            <a:chExt cx="4392720" cy="3738960"/>
          </a:xfrm>
        </p:grpSpPr>
        <p:grpSp>
          <p:nvGrpSpPr>
            <p:cNvPr id="110" name="Group 3"/>
            <p:cNvGrpSpPr/>
            <p:nvPr/>
          </p:nvGrpSpPr>
          <p:grpSpPr>
            <a:xfrm>
              <a:off x="5028120" y="2924280"/>
              <a:ext cx="2963520" cy="3738960"/>
              <a:chOff x="5028120" y="2924280"/>
              <a:chExt cx="2963520" cy="3738960"/>
            </a:xfrm>
          </p:grpSpPr>
          <p:sp>
            <p:nvSpPr>
              <p:cNvPr id="111" name="椭圆 24"/>
              <p:cNvSpPr/>
              <p:nvPr/>
            </p:nvSpPr>
            <p:spPr>
              <a:xfrm>
                <a:off x="5028120" y="3085560"/>
                <a:ext cx="2956320" cy="2932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20"/>
              <p:cNvSpPr/>
              <p:nvPr/>
            </p:nvSpPr>
            <p:spPr>
              <a:xfrm>
                <a:off x="5385240" y="3439800"/>
                <a:ext cx="2241720" cy="2223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6"/>
              <p:cNvGrpSpPr/>
              <p:nvPr/>
            </p:nvGrpSpPr>
            <p:grpSpPr>
              <a:xfrm>
                <a:off x="5222880" y="4341960"/>
                <a:ext cx="429480" cy="425880"/>
                <a:chOff x="5222880" y="4341960"/>
                <a:chExt cx="429480" cy="425880"/>
              </a:xfrm>
            </p:grpSpPr>
            <p:sp>
              <p:nvSpPr>
                <p:cNvPr id="114" name="椭圆 94"/>
                <p:cNvSpPr/>
                <p:nvPr/>
              </p:nvSpPr>
              <p:spPr>
                <a:xfrm>
                  <a:off x="5222880" y="434196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矩形 95"/>
                <p:cNvSpPr/>
                <p:nvPr/>
              </p:nvSpPr>
              <p:spPr>
                <a:xfrm rot="501600">
                  <a:off x="5307120" y="452412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9"/>
              <p:cNvGrpSpPr/>
              <p:nvPr/>
            </p:nvGrpSpPr>
            <p:grpSpPr>
              <a:xfrm>
                <a:off x="6013080" y="4057920"/>
                <a:ext cx="985680" cy="982440"/>
                <a:chOff x="6013080" y="4057920"/>
                <a:chExt cx="985680" cy="982440"/>
              </a:xfrm>
            </p:grpSpPr>
            <p:grpSp>
              <p:nvGrpSpPr>
                <p:cNvPr id="117" name="Group 10"/>
                <p:cNvGrpSpPr/>
                <p:nvPr/>
              </p:nvGrpSpPr>
              <p:grpSpPr>
                <a:xfrm>
                  <a:off x="6172200" y="4233960"/>
                  <a:ext cx="214200" cy="213480"/>
                  <a:chOff x="6172200" y="4233960"/>
                  <a:chExt cx="214200" cy="213480"/>
                </a:xfrm>
              </p:grpSpPr>
              <p:sp>
                <p:nvSpPr>
                  <p:cNvPr id="118" name="椭圆 90"/>
                  <p:cNvSpPr/>
                  <p:nvPr/>
                </p:nvSpPr>
                <p:spPr>
                  <a:xfrm rot="1457400">
                    <a:off x="6198120" y="425988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" name="Group 12"/>
                  <p:cNvGrpSpPr/>
                  <p:nvPr/>
                </p:nvGrpSpPr>
                <p:grpSpPr>
                  <a:xfrm>
                    <a:off x="6238800" y="4300560"/>
                    <a:ext cx="80640" cy="80640"/>
                    <a:chOff x="6238800" y="4300560"/>
                    <a:chExt cx="80640" cy="80640"/>
                  </a:xfrm>
                </p:grpSpPr>
                <p:sp>
                  <p:nvSpPr>
                    <p:cNvPr id="120" name="矩形 92"/>
                    <p:cNvSpPr/>
                    <p:nvPr/>
                  </p:nvSpPr>
                  <p:spPr>
                    <a:xfrm rot="2540400">
                      <a:off x="6229800" y="433440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矩形 93"/>
                    <p:cNvSpPr/>
                    <p:nvPr/>
                  </p:nvSpPr>
                  <p:spPr>
                    <a:xfrm rot="7918200">
                      <a:off x="6230880" y="433476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2" name="Group 15"/>
                <p:cNvGrpSpPr/>
                <p:nvPr/>
              </p:nvGrpSpPr>
              <p:grpSpPr>
                <a:xfrm>
                  <a:off x="6251760" y="4057920"/>
                  <a:ext cx="214200" cy="213480"/>
                  <a:chOff x="6251760" y="4057920"/>
                  <a:chExt cx="214200" cy="213480"/>
                </a:xfrm>
              </p:grpSpPr>
              <p:sp>
                <p:nvSpPr>
                  <p:cNvPr id="123" name="椭圆 86"/>
                  <p:cNvSpPr/>
                  <p:nvPr/>
                </p:nvSpPr>
                <p:spPr>
                  <a:xfrm rot="1457400">
                    <a:off x="6277680" y="408384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Group 17"/>
                  <p:cNvGrpSpPr/>
                  <p:nvPr/>
                </p:nvGrpSpPr>
                <p:grpSpPr>
                  <a:xfrm>
                    <a:off x="6318360" y="4124520"/>
                    <a:ext cx="80640" cy="80640"/>
                    <a:chOff x="6318360" y="4124520"/>
                    <a:chExt cx="80640" cy="80640"/>
                  </a:xfrm>
                </p:grpSpPr>
                <p:sp>
                  <p:nvSpPr>
                    <p:cNvPr id="125" name="矩形 88"/>
                    <p:cNvSpPr/>
                    <p:nvPr/>
                  </p:nvSpPr>
                  <p:spPr>
                    <a:xfrm rot="2540400">
                      <a:off x="6309360" y="415836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矩形 89"/>
                    <p:cNvSpPr/>
                    <p:nvPr/>
                  </p:nvSpPr>
                  <p:spPr>
                    <a:xfrm rot="7918200">
                      <a:off x="6310080" y="415872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7" name="Group 20"/>
                <p:cNvGrpSpPr/>
                <p:nvPr/>
              </p:nvGrpSpPr>
              <p:grpSpPr>
                <a:xfrm>
                  <a:off x="6013080" y="4586400"/>
                  <a:ext cx="214200" cy="213480"/>
                  <a:chOff x="6013080" y="4586400"/>
                  <a:chExt cx="214200" cy="213480"/>
                </a:xfrm>
              </p:grpSpPr>
              <p:sp>
                <p:nvSpPr>
                  <p:cNvPr id="128" name="椭圆 63"/>
                  <p:cNvSpPr/>
                  <p:nvPr/>
                </p:nvSpPr>
                <p:spPr>
                  <a:xfrm rot="1457400">
                    <a:off x="6039000" y="461232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" name="Group 22"/>
                  <p:cNvGrpSpPr/>
                  <p:nvPr/>
                </p:nvGrpSpPr>
                <p:grpSpPr>
                  <a:xfrm>
                    <a:off x="6079680" y="4653000"/>
                    <a:ext cx="80640" cy="80640"/>
                    <a:chOff x="6079680" y="4653000"/>
                    <a:chExt cx="80640" cy="80640"/>
                  </a:xfrm>
                </p:grpSpPr>
                <p:sp>
                  <p:nvSpPr>
                    <p:cNvPr id="130" name="矩形 84"/>
                    <p:cNvSpPr/>
                    <p:nvPr/>
                  </p:nvSpPr>
                  <p:spPr>
                    <a:xfrm rot="2540400">
                      <a:off x="6070680" y="468684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矩形 85"/>
                    <p:cNvSpPr/>
                    <p:nvPr/>
                  </p:nvSpPr>
                  <p:spPr>
                    <a:xfrm rot="7918200">
                      <a:off x="6071760" y="468720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" name="Group 25"/>
                <p:cNvGrpSpPr/>
                <p:nvPr/>
              </p:nvGrpSpPr>
              <p:grpSpPr>
                <a:xfrm>
                  <a:off x="6429240" y="4137840"/>
                  <a:ext cx="214200" cy="213480"/>
                  <a:chOff x="6429240" y="4137840"/>
                  <a:chExt cx="214200" cy="213480"/>
                </a:xfrm>
              </p:grpSpPr>
              <p:sp>
                <p:nvSpPr>
                  <p:cNvPr id="133" name="椭圆 78"/>
                  <p:cNvSpPr/>
                  <p:nvPr/>
                </p:nvSpPr>
                <p:spPr>
                  <a:xfrm rot="1457400">
                    <a:off x="6455160" y="416376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" name="Group 27"/>
                  <p:cNvGrpSpPr/>
                  <p:nvPr/>
                </p:nvGrpSpPr>
                <p:grpSpPr>
                  <a:xfrm>
                    <a:off x="6495840" y="4204800"/>
                    <a:ext cx="80640" cy="80640"/>
                    <a:chOff x="6495840" y="4204800"/>
                    <a:chExt cx="80640" cy="80640"/>
                  </a:xfrm>
                </p:grpSpPr>
                <p:sp>
                  <p:nvSpPr>
                    <p:cNvPr id="135" name="矩形 80"/>
                    <p:cNvSpPr/>
                    <p:nvPr/>
                  </p:nvSpPr>
                  <p:spPr>
                    <a:xfrm rot="2540400">
                      <a:off x="6486840" y="423864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矩形 71"/>
                    <p:cNvSpPr/>
                    <p:nvPr/>
                  </p:nvSpPr>
                  <p:spPr>
                    <a:xfrm rot="7918200">
                      <a:off x="6487920" y="423900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" name="Group 30"/>
                <p:cNvGrpSpPr/>
                <p:nvPr/>
              </p:nvGrpSpPr>
              <p:grpSpPr>
                <a:xfrm>
                  <a:off x="6349680" y="4314240"/>
                  <a:ext cx="214200" cy="213480"/>
                  <a:chOff x="6349680" y="4314240"/>
                  <a:chExt cx="214200" cy="213480"/>
                </a:xfrm>
              </p:grpSpPr>
              <p:sp>
                <p:nvSpPr>
                  <p:cNvPr id="138" name="椭圆 74"/>
                  <p:cNvSpPr/>
                  <p:nvPr/>
                </p:nvSpPr>
                <p:spPr>
                  <a:xfrm rot="1457400">
                    <a:off x="6375600" y="434016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9" name="Group 32"/>
                  <p:cNvGrpSpPr/>
                  <p:nvPr/>
                </p:nvGrpSpPr>
                <p:grpSpPr>
                  <a:xfrm>
                    <a:off x="6416280" y="4380840"/>
                    <a:ext cx="80640" cy="80640"/>
                    <a:chOff x="6416280" y="4380840"/>
                    <a:chExt cx="80640" cy="80640"/>
                  </a:xfrm>
                </p:grpSpPr>
                <p:sp>
                  <p:nvSpPr>
                    <p:cNvPr id="140" name="矩形 75"/>
                    <p:cNvSpPr/>
                    <p:nvPr/>
                  </p:nvSpPr>
                  <p:spPr>
                    <a:xfrm rot="2540400">
                      <a:off x="6407280" y="441468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矩形 77"/>
                    <p:cNvSpPr/>
                    <p:nvPr/>
                  </p:nvSpPr>
                  <p:spPr>
                    <a:xfrm rot="7918200">
                      <a:off x="6408360" y="441504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2" name="Group 35"/>
                <p:cNvGrpSpPr/>
                <p:nvPr/>
              </p:nvGrpSpPr>
              <p:grpSpPr>
                <a:xfrm>
                  <a:off x="6270120" y="4490280"/>
                  <a:ext cx="214200" cy="213480"/>
                  <a:chOff x="6270120" y="4490280"/>
                  <a:chExt cx="214200" cy="213480"/>
                </a:xfrm>
              </p:grpSpPr>
              <p:sp>
                <p:nvSpPr>
                  <p:cNvPr id="143" name="椭圆 70"/>
                  <p:cNvSpPr/>
                  <p:nvPr/>
                </p:nvSpPr>
                <p:spPr>
                  <a:xfrm rot="1457400">
                    <a:off x="6296040" y="451620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4" name="Group 37"/>
                  <p:cNvGrpSpPr/>
                  <p:nvPr/>
                </p:nvGrpSpPr>
                <p:grpSpPr>
                  <a:xfrm>
                    <a:off x="6336720" y="4556880"/>
                    <a:ext cx="80640" cy="80640"/>
                    <a:chOff x="6336720" y="4556880"/>
                    <a:chExt cx="80640" cy="80640"/>
                  </a:xfrm>
                </p:grpSpPr>
                <p:sp>
                  <p:nvSpPr>
                    <p:cNvPr id="145" name="矩形 72"/>
                    <p:cNvSpPr/>
                    <p:nvPr/>
                  </p:nvSpPr>
                  <p:spPr>
                    <a:xfrm rot="2540400">
                      <a:off x="6327720" y="459072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矩形 73"/>
                    <p:cNvSpPr/>
                    <p:nvPr/>
                  </p:nvSpPr>
                  <p:spPr>
                    <a:xfrm rot="7918200">
                      <a:off x="6328800" y="459108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7" name="Group 40"/>
                <p:cNvGrpSpPr/>
                <p:nvPr/>
              </p:nvGrpSpPr>
              <p:grpSpPr>
                <a:xfrm>
                  <a:off x="6190560" y="4666320"/>
                  <a:ext cx="214200" cy="213480"/>
                  <a:chOff x="6190560" y="4666320"/>
                  <a:chExt cx="214200" cy="213480"/>
                </a:xfrm>
              </p:grpSpPr>
              <p:sp>
                <p:nvSpPr>
                  <p:cNvPr id="148" name="椭圆 66"/>
                  <p:cNvSpPr/>
                  <p:nvPr/>
                </p:nvSpPr>
                <p:spPr>
                  <a:xfrm rot="1457400">
                    <a:off x="6216480" y="469224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Group 42"/>
                  <p:cNvGrpSpPr/>
                  <p:nvPr/>
                </p:nvGrpSpPr>
                <p:grpSpPr>
                  <a:xfrm>
                    <a:off x="6257160" y="4733280"/>
                    <a:ext cx="80640" cy="80640"/>
                    <a:chOff x="6257160" y="4733280"/>
                    <a:chExt cx="80640" cy="80640"/>
                  </a:xfrm>
                </p:grpSpPr>
                <p:sp>
                  <p:nvSpPr>
                    <p:cNvPr id="150" name="矩形 68"/>
                    <p:cNvSpPr/>
                    <p:nvPr/>
                  </p:nvSpPr>
                  <p:spPr>
                    <a:xfrm rot="2540400">
                      <a:off x="6248160" y="476712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矩形 69"/>
                    <p:cNvSpPr/>
                    <p:nvPr/>
                  </p:nvSpPr>
                  <p:spPr>
                    <a:xfrm rot="7918200">
                      <a:off x="6249240" y="476748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2" name="Group 45"/>
                <p:cNvGrpSpPr/>
                <p:nvPr/>
              </p:nvGrpSpPr>
              <p:grpSpPr>
                <a:xfrm>
                  <a:off x="6092640" y="4410000"/>
                  <a:ext cx="214200" cy="213480"/>
                  <a:chOff x="6092640" y="4410000"/>
                  <a:chExt cx="214200" cy="213480"/>
                </a:xfrm>
              </p:grpSpPr>
              <p:sp>
                <p:nvSpPr>
                  <p:cNvPr id="153" name="椭圆 62"/>
                  <p:cNvSpPr/>
                  <p:nvPr/>
                </p:nvSpPr>
                <p:spPr>
                  <a:xfrm rot="1457400">
                    <a:off x="6118560" y="443592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4" name="Group 47"/>
                  <p:cNvGrpSpPr/>
                  <p:nvPr/>
                </p:nvGrpSpPr>
                <p:grpSpPr>
                  <a:xfrm>
                    <a:off x="6159240" y="4476960"/>
                    <a:ext cx="80640" cy="80640"/>
                    <a:chOff x="6159240" y="4476960"/>
                    <a:chExt cx="80640" cy="80640"/>
                  </a:xfrm>
                </p:grpSpPr>
                <p:sp>
                  <p:nvSpPr>
                    <p:cNvPr id="155" name="矩形 64"/>
                    <p:cNvSpPr/>
                    <p:nvPr/>
                  </p:nvSpPr>
                  <p:spPr>
                    <a:xfrm rot="2540400">
                      <a:off x="6150240" y="451080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矩形 65"/>
                    <p:cNvSpPr/>
                    <p:nvPr/>
                  </p:nvSpPr>
                  <p:spPr>
                    <a:xfrm rot="7918200">
                      <a:off x="6151320" y="451116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7" name="椭圆 54"/>
                <p:cNvSpPr/>
                <p:nvPr/>
              </p:nvSpPr>
              <p:spPr>
                <a:xfrm rot="1457400">
                  <a:off x="6633000" y="424404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椭圆 55"/>
                <p:cNvSpPr/>
                <p:nvPr/>
              </p:nvSpPr>
              <p:spPr>
                <a:xfrm rot="1457400">
                  <a:off x="6394680" y="477252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椭圆 56"/>
                <p:cNvSpPr/>
                <p:nvPr/>
              </p:nvSpPr>
              <p:spPr>
                <a:xfrm rot="1457400">
                  <a:off x="6810480" y="432432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椭圆 57"/>
                <p:cNvSpPr/>
                <p:nvPr/>
              </p:nvSpPr>
              <p:spPr>
                <a:xfrm rot="1457400">
                  <a:off x="6553440" y="442008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58"/>
                <p:cNvSpPr/>
                <p:nvPr/>
              </p:nvSpPr>
              <p:spPr>
                <a:xfrm rot="1457400">
                  <a:off x="6730920" y="450036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椭圆 59"/>
                <p:cNvSpPr/>
                <p:nvPr/>
              </p:nvSpPr>
              <p:spPr>
                <a:xfrm rot="1457400">
                  <a:off x="6651720" y="467640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椭圆 60"/>
                <p:cNvSpPr/>
                <p:nvPr/>
              </p:nvSpPr>
              <p:spPr>
                <a:xfrm rot="1457400">
                  <a:off x="6572160" y="485280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椭圆 61"/>
                <p:cNvSpPr/>
                <p:nvPr/>
              </p:nvSpPr>
              <p:spPr>
                <a:xfrm rot="1457400">
                  <a:off x="6473880" y="459648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58"/>
              <p:cNvGrpSpPr/>
              <p:nvPr/>
            </p:nvGrpSpPr>
            <p:grpSpPr>
              <a:xfrm>
                <a:off x="5417640" y="3117600"/>
                <a:ext cx="429480" cy="425880"/>
                <a:chOff x="5417640" y="3117600"/>
                <a:chExt cx="429480" cy="425880"/>
              </a:xfrm>
            </p:grpSpPr>
            <p:sp>
              <p:nvSpPr>
                <p:cNvPr id="166" name="椭圆 44"/>
                <p:cNvSpPr/>
                <p:nvPr/>
              </p:nvSpPr>
              <p:spPr>
                <a:xfrm>
                  <a:off x="5417640" y="311760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矩形 45"/>
                <p:cNvSpPr/>
                <p:nvPr/>
              </p:nvSpPr>
              <p:spPr>
                <a:xfrm rot="501600">
                  <a:off x="5501880" y="329976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61"/>
              <p:cNvGrpSpPr/>
              <p:nvPr/>
            </p:nvGrpSpPr>
            <p:grpSpPr>
              <a:xfrm>
                <a:off x="7367040" y="4277520"/>
                <a:ext cx="429480" cy="425880"/>
                <a:chOff x="7367040" y="4277520"/>
                <a:chExt cx="429480" cy="425880"/>
              </a:xfrm>
            </p:grpSpPr>
            <p:sp>
              <p:nvSpPr>
                <p:cNvPr id="169" name="椭圆 42"/>
                <p:cNvSpPr/>
                <p:nvPr/>
              </p:nvSpPr>
              <p:spPr>
                <a:xfrm>
                  <a:off x="7367040" y="427752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矩形 43"/>
                <p:cNvSpPr/>
                <p:nvPr/>
              </p:nvSpPr>
              <p:spPr>
                <a:xfrm rot="501600">
                  <a:off x="7451280" y="445968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64"/>
              <p:cNvGrpSpPr/>
              <p:nvPr/>
            </p:nvGrpSpPr>
            <p:grpSpPr>
              <a:xfrm>
                <a:off x="5872680" y="2924280"/>
                <a:ext cx="429480" cy="425880"/>
                <a:chOff x="5872680" y="2924280"/>
                <a:chExt cx="429480" cy="425880"/>
              </a:xfrm>
            </p:grpSpPr>
            <p:sp>
              <p:nvSpPr>
                <p:cNvPr id="172" name="椭圆 40"/>
                <p:cNvSpPr/>
                <p:nvPr/>
              </p:nvSpPr>
              <p:spPr>
                <a:xfrm>
                  <a:off x="5872680" y="292428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矩形 41"/>
                <p:cNvSpPr/>
                <p:nvPr/>
              </p:nvSpPr>
              <p:spPr>
                <a:xfrm rot="501600">
                  <a:off x="5956920" y="310644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67"/>
              <p:cNvGrpSpPr/>
              <p:nvPr/>
            </p:nvGrpSpPr>
            <p:grpSpPr>
              <a:xfrm>
                <a:off x="7302240" y="5437800"/>
                <a:ext cx="429480" cy="425880"/>
                <a:chOff x="7302240" y="5437800"/>
                <a:chExt cx="429480" cy="425880"/>
              </a:xfrm>
            </p:grpSpPr>
            <p:sp>
              <p:nvSpPr>
                <p:cNvPr id="175" name="椭圆 38"/>
                <p:cNvSpPr/>
                <p:nvPr/>
              </p:nvSpPr>
              <p:spPr>
                <a:xfrm>
                  <a:off x="7302240" y="543780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矩形 39"/>
                <p:cNvSpPr/>
                <p:nvPr/>
              </p:nvSpPr>
              <p:spPr>
                <a:xfrm rot="501600">
                  <a:off x="7386480" y="561996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70"/>
              <p:cNvGrpSpPr/>
              <p:nvPr/>
            </p:nvGrpSpPr>
            <p:grpSpPr>
              <a:xfrm>
                <a:off x="6782400" y="5695560"/>
                <a:ext cx="429480" cy="425880"/>
                <a:chOff x="6782400" y="5695560"/>
                <a:chExt cx="429480" cy="425880"/>
              </a:xfrm>
            </p:grpSpPr>
            <p:sp>
              <p:nvSpPr>
                <p:cNvPr id="178" name="椭圆 36"/>
                <p:cNvSpPr/>
                <p:nvPr/>
              </p:nvSpPr>
              <p:spPr>
                <a:xfrm>
                  <a:off x="6782400" y="569556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矩形 37"/>
                <p:cNvSpPr/>
                <p:nvPr/>
              </p:nvSpPr>
              <p:spPr>
                <a:xfrm rot="501600">
                  <a:off x="6866640" y="587772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73"/>
              <p:cNvGrpSpPr/>
              <p:nvPr/>
            </p:nvGrpSpPr>
            <p:grpSpPr>
              <a:xfrm>
                <a:off x="5052960" y="5115600"/>
                <a:ext cx="429480" cy="425880"/>
                <a:chOff x="5052960" y="5115600"/>
                <a:chExt cx="429480" cy="425880"/>
              </a:xfrm>
            </p:grpSpPr>
            <p:sp>
              <p:nvSpPr>
                <p:cNvPr id="181" name="椭圆 34"/>
                <p:cNvSpPr/>
                <p:nvPr/>
              </p:nvSpPr>
              <p:spPr>
                <a:xfrm>
                  <a:off x="5052960" y="511560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矩形 35"/>
                <p:cNvSpPr/>
                <p:nvPr/>
              </p:nvSpPr>
              <p:spPr>
                <a:xfrm rot="501600">
                  <a:off x="5137200" y="529776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76"/>
              <p:cNvGrpSpPr/>
              <p:nvPr/>
            </p:nvGrpSpPr>
            <p:grpSpPr>
              <a:xfrm>
                <a:off x="7562160" y="3568680"/>
                <a:ext cx="429480" cy="425880"/>
                <a:chOff x="7562160" y="3568680"/>
                <a:chExt cx="429480" cy="425880"/>
              </a:xfrm>
            </p:grpSpPr>
            <p:sp>
              <p:nvSpPr>
                <p:cNvPr id="184" name="椭圆 32"/>
                <p:cNvSpPr/>
                <p:nvPr/>
              </p:nvSpPr>
              <p:spPr>
                <a:xfrm>
                  <a:off x="7562160" y="356868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矩形 33"/>
                <p:cNvSpPr/>
                <p:nvPr/>
              </p:nvSpPr>
              <p:spPr>
                <a:xfrm rot="501600">
                  <a:off x="7646400" y="375084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Box 31"/>
              <p:cNvSpPr/>
              <p:nvPr/>
            </p:nvSpPr>
            <p:spPr>
              <a:xfrm>
                <a:off x="6329160" y="60818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7" name="直接箭头连接符 19"/>
            <p:cNvCxnSpPr/>
            <p:nvPr/>
          </p:nvCxnSpPr>
          <p:spPr>
            <a:xfrm flipV="1">
              <a:off x="3598920" y="4277520"/>
              <a:ext cx="1364400" cy="12924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188" name="TextBox 8"/>
          <p:cNvSpPr/>
          <p:nvPr/>
        </p:nvSpPr>
        <p:spPr>
          <a:xfrm>
            <a:off x="431640" y="692280"/>
            <a:ext cx="8280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原子由原子核和八个核外电子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原子核有八个质子和八个中子，由于中子不带电，所以正负电荷量仍然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E:\电子课件编制\22章\2\Hydrogen-Bonds-Colored-JC_2012.png"/>
          <p:cNvPicPr/>
          <p:nvPr/>
        </p:nvPicPr>
        <p:blipFill>
          <a:blip r:embed="rId1"/>
          <a:stretch/>
        </p:blipFill>
        <p:spPr>
          <a:xfrm rot="19231200">
            <a:off x="1253880" y="3645000"/>
            <a:ext cx="2347920" cy="2851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C:\Users\John\AppData\Roaming\Tencent\Users\76476908\QQ\WinTemp\RichOle\SCP_BBN$4WULZFMWK(N%8ON.jpg"/>
          <p:cNvPicPr/>
          <p:nvPr/>
        </p:nvPicPr>
        <p:blipFill>
          <a:blip r:embed="rId1"/>
          <a:stretch/>
        </p:blipFill>
        <p:spPr>
          <a:xfrm>
            <a:off x="790560" y="2468520"/>
            <a:ext cx="2325600" cy="154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E:\电子课件编制\22章\2\12313123.jpg"/>
          <p:cNvPicPr/>
          <p:nvPr/>
        </p:nvPicPr>
        <p:blipFill>
          <a:blip r:embed="rId2"/>
          <a:stretch/>
        </p:blipFill>
        <p:spPr>
          <a:xfrm>
            <a:off x="6230880" y="2176560"/>
            <a:ext cx="21574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3422520" y="2133720"/>
            <a:ext cx="2016360" cy="2028600"/>
            <a:chOff x="3422520" y="2133720"/>
            <a:chExt cx="2016360" cy="2028600"/>
          </a:xfrm>
        </p:grpSpPr>
        <p:pic>
          <p:nvPicPr>
            <p:cNvPr id="194" name="Picture 2" descr="E:\电子课件编制\22章\2\12313123.jpg"/>
            <p:cNvPicPr/>
            <p:nvPr/>
          </p:nvPicPr>
          <p:blipFill>
            <a:blip r:embed="rId3"/>
            <a:stretch/>
          </p:blipFill>
          <p:spPr>
            <a:xfrm>
              <a:off x="3422520" y="2133720"/>
              <a:ext cx="2016360" cy="20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" descr="E:\电子课件编制\22章\2\12313123.jpg"/>
            <p:cNvPicPr/>
            <p:nvPr/>
          </p:nvPicPr>
          <p:blipFill>
            <a:blip r:embed="rId4"/>
            <a:stretch/>
          </p:blipFill>
          <p:spPr>
            <a:xfrm rot="5958600">
              <a:off x="3605400" y="2871720"/>
              <a:ext cx="55224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" descr="E:\电子课件编制\22章\2\12313123.jpg"/>
            <p:cNvPicPr/>
            <p:nvPr/>
          </p:nvPicPr>
          <p:blipFill>
            <a:blip r:embed="rId5"/>
            <a:stretch/>
          </p:blipFill>
          <p:spPr>
            <a:xfrm rot="9509400">
              <a:off x="4175280" y="3276000"/>
              <a:ext cx="523440" cy="2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Box 8"/>
          <p:cNvSpPr/>
          <p:nvPr/>
        </p:nvSpPr>
        <p:spPr>
          <a:xfrm>
            <a:off x="431640" y="42879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质量较大的原子核发生分裂或者质量较小的原子核相互结合时，就有可能释放出惊人的能量，这就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核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431640" y="51264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核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431640" y="10317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质子和中子依靠强大的核力紧密地结合在一起。要使它们分裂或结合都是极其困难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E:\李燃\教师教学用书\2012人教教师用书项目\ppt\物理\图标.png"/>
          <p:cNvPicPr/>
          <p:nvPr/>
        </p:nvPicPr>
        <p:blipFill>
          <a:blip r:embed="rId6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1"/>
          <p:cNvSpPr/>
          <p:nvPr/>
        </p:nvSpPr>
        <p:spPr>
          <a:xfrm>
            <a:off x="431640" y="1268280"/>
            <a:ext cx="7920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科学家用中子轰击质量比较大的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子核，使其发生了裂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铀全部裂变，释放的能量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000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煤完全燃烧时释放的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11280" y="4581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用中子轰击铀核，铀核才能发生裂变，放出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外界中子停止轰击，裂变也就停止了。怎样才能让裂变继续下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31640" y="3897360"/>
            <a:ext cx="39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发生裂变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05" name="矩形 4"/>
          <p:cNvSpPr/>
          <p:nvPr/>
        </p:nvSpPr>
        <p:spPr>
          <a:xfrm>
            <a:off x="431640" y="404640"/>
            <a:ext cx="205272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裂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3" descr="C:\Users\John\AppData\Roaming\Tencent\Users\76476908\QQ\WinTemp\RichOle\RP_]GTIF40XPBRKGB4P4G7C.jpg"/>
          <p:cNvPicPr/>
          <p:nvPr/>
        </p:nvPicPr>
        <p:blipFill>
          <a:blip r:embed="rId1"/>
          <a:stretch/>
        </p:blipFill>
        <p:spPr>
          <a:xfrm>
            <a:off x="2087640" y="2744640"/>
            <a:ext cx="2052720" cy="20448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0" y="585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那么，地球上的能源是否是无尽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431640" y="1773360"/>
            <a:ext cx="82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火柴搭成左下图所示结构，点燃第一根火柴后，会发生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31640" y="7491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链式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431640" y="483408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中子轰击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子核，铀核在分裂时，会释放出核能，同时还会产生几个新的中子，这些中子会继续轰击其他铀核。于是就导致一系列铀核持续裂变，并释放出大量核能，这就是裂变中的链式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"/>
          <p:cNvSpPr/>
          <p:nvPr/>
        </p:nvSpPr>
        <p:spPr>
          <a:xfrm>
            <a:off x="431640" y="1268280"/>
            <a:ext cx="32767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想想议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8@9VH_%MW93WVL%~3%OP@4U"/>
          <p:cNvPicPr/>
          <p:nvPr/>
        </p:nvPicPr>
        <p:blipFill>
          <a:blip r:embed="rId3"/>
          <a:stretch/>
        </p:blipFill>
        <p:spPr>
          <a:xfrm>
            <a:off x="4608360" y="2506680"/>
            <a:ext cx="3672000" cy="2290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E:\电子课件编制\22章\2\2531170_084404870773_2.jpg"/>
          <p:cNvPicPr/>
          <p:nvPr/>
        </p:nvPicPr>
        <p:blipFill>
          <a:blip r:embed="rId4"/>
          <a:stretch/>
        </p:blipFill>
        <p:spPr>
          <a:xfrm>
            <a:off x="324000" y="2781360"/>
            <a:ext cx="1393560" cy="1778040"/>
          </a:xfrm>
          <a:prstGeom prst="rect">
            <a:avLst/>
          </a:prstGeom>
          <a:ln w="0">
            <a:noFill/>
          </a:ln>
        </p:spPr>
      </p:pic>
      <p:sp>
        <p:nvSpPr>
          <p:cNvPr id="215" name="文本框 8199"/>
          <p:cNvSpPr/>
          <p:nvPr/>
        </p:nvSpPr>
        <p:spPr>
          <a:xfrm>
            <a:off x="272736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18EW8Y5A@X70$ET_2KL1GKP"/>
          <p:cNvPicPr/>
          <p:nvPr/>
        </p:nvPicPr>
        <p:blipFill>
          <a:blip r:embed="rId1"/>
          <a:stretch/>
        </p:blipFill>
        <p:spPr>
          <a:xfrm>
            <a:off x="3816360" y="1319040"/>
            <a:ext cx="5040360" cy="36226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1"/>
          <p:cNvSpPr/>
          <p:nvPr/>
        </p:nvSpPr>
        <p:spPr>
          <a:xfrm>
            <a:off x="431640" y="1306440"/>
            <a:ext cx="3565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核电站的核心设备是核反应堆。核反应堆是原子核发生链式反应的场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人类利用核反应堆第一次实现了可控制的铀核裂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7"/>
          <p:cNvSpPr/>
          <p:nvPr/>
        </p:nvSpPr>
        <p:spPr>
          <a:xfrm>
            <a:off x="431640" y="5300640"/>
            <a:ext cx="8317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目前，全世界已经建成了几百座核电站，核电发电量接近全球发电量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109520" y="74916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核电站利用核能发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1"/>
          <p:cNvSpPr/>
          <p:nvPr/>
        </p:nvSpPr>
        <p:spPr>
          <a:xfrm>
            <a:off x="431640" y="1093680"/>
            <a:ext cx="428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链式反应如果不加以控制，大量原子核就在一瞬间发生裂变。释放出极大的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468360" y="3543480"/>
            <a:ext cx="4211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在人类实现可控核裂变大约三年后，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利用不加控制的核裂变制造的毁灭性武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子弹爆炸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E:\电子课件编制\22章\2\Nuclear-Weapons.jpg"/>
          <p:cNvPicPr/>
          <p:nvPr/>
        </p:nvPicPr>
        <p:blipFill>
          <a:blip r:embed="rId1"/>
          <a:stretch/>
        </p:blipFill>
        <p:spPr>
          <a:xfrm>
            <a:off x="4967280" y="1376280"/>
            <a:ext cx="3687840" cy="4767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04Z</dcterms:modified>
  <cp:revision>4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