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7.jpeg" ContentType="image/jpeg"/>
  <Override PartName="/ppt/media/image6.png" ContentType="image/png"/>
  <Override PartName="/ppt/media/image14.wmf" ContentType="image/x-wmf"/>
  <Override PartName="/ppt/media/image21.jpeg" ContentType="image/jpeg"/>
  <Override PartName="/ppt/media/image20.jpeg" ContentType="image/jpeg"/>
  <Override PartName="/ppt/media/image17.wmf" ContentType="image/x-wmf"/>
  <Override PartName="/ppt/media/image19.png" ContentType="image/png"/>
  <Override PartName="/ppt/media/image18.gif" ContentType="image/gif"/>
  <Override PartName="/ppt/media/image16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C9F-2158-4F1D-92CF-398E9699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F97-B3C7-4FB1-BB51-9D01867F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C79-3F0B-4CCA-B853-A1F4E4CD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3CC-627E-4F58-A8C4-62FE07FC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1DBB-05C9-4240-ADA8-493E4DF1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EBB5-1491-438E-941B-347B0A9C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22AD-FDEE-4F0A-AA30-19EEC7BE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8670-DCFA-4176-9FA2-8ABACA87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DB51-CD0A-4CCB-AB13-714A1725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F900-41E3-438E-8288-2BE431E4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989B-D0BA-4EBD-B7DE-EEBAD2AC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591-E057-47ED-B6C6-C0C8D1D5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028D-B7B9-471D-ACAD-0152B4BF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2814-09B4-41F8-9E16-F1A886B5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BE06-3BDC-4C5F-91B7-9378E721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4825-D533-4780-8D99-6A4BFD20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F6DF-DE98-444A-9F38-73BD7972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6E685-AAD2-4F41-9EE0-B2E31035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7295A-4B74-4BF3-995B-55928A52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8F882-98F7-406E-90D0-9BF34688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80D59-A66E-444A-91E4-AB2962BF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0208-F30E-4C8F-957B-283EF9EF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D3E-1138-4F9E-BD13-CA0C200E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85576-F37A-4633-A6C1-A812C0E2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AEAFB-56C5-4B9F-BB95-318DA249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F6BBE-D01E-44E5-B59B-80C168B6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F70CD-B536-4772-B99C-317ECC59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89035-9E6B-4AA3-B6CE-2B84C1DF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A0996-8A6A-4B50-9EC7-EB69E48C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D2F76-3C69-41AB-A285-AF2A2CF6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2703A-7895-4BAC-9DC4-ED0733F6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3C5D7-F184-4CFB-B71D-6DA7C251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15194-C99D-43D0-B2D2-9064A9A7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FC7-1A3F-4283-B74E-8F1E8237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16A4-DC3B-418E-8E2B-24977D18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BAB45-E8EF-4EEF-9209-C990D214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D8801-CED7-4B38-81B6-24E90FA0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9ACC1-0D34-4815-A69F-B447A2EF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2A29F-57BF-45CC-9C10-9793857A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4AC18-A218-4DEB-9651-1869F49A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D0046-4165-4E85-AD5A-40B0A3F5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1661F-A4CF-4D79-916D-8D4BED28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D3F64-7F50-4589-B802-A399B210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370-9D9A-4402-8870-51D9CDB6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1A5-B3C4-4491-953B-9A744551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3C1-6DEB-412D-8DD2-DD3EC6AF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626-D6E3-4A0F-9BF7-FB24AA19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CED-5DFA-4D9D-93B8-8253A64F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8C49-70B0-4C35-A91C-08288BEBF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B0F0-C201-4292-977D-DADA27DE17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0428-FCAF-4A76-9E9C-3ACCB05F4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A422-C517-4FD4-984B-11560215D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2003220102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5"/>
          <p:cNvSpPr txBox="1"/>
          <p:nvPr/>
        </p:nvSpPr>
        <p:spPr>
          <a:xfrm>
            <a:off x="1560600" y="1635120"/>
            <a:ext cx="5869080" cy="687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函数数学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课件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畅所欲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你能举出一些函数的例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8199"/>
          <p:cNvSpPr/>
          <p:nvPr/>
        </p:nvSpPr>
        <p:spPr>
          <a:xfrm>
            <a:off x="1619280" y="4888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3"/>
          <p:cNvSpPr/>
          <p:nvPr/>
        </p:nvSpPr>
        <p:spPr>
          <a:xfrm>
            <a:off x="985680" y="1469880"/>
            <a:ext cx="76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计算器上按照下面的程序进行操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990720" y="2062080"/>
            <a:ext cx="7162200" cy="2654280"/>
            <a:chOff x="990720" y="2062080"/>
            <a:chExt cx="7162200" cy="2654280"/>
          </a:xfrm>
        </p:grpSpPr>
        <p:sp>
          <p:nvSpPr>
            <p:cNvPr id="256" name="Text Box 5"/>
            <p:cNvSpPr/>
            <p:nvPr/>
          </p:nvSpPr>
          <p:spPr>
            <a:xfrm>
              <a:off x="1523880" y="2062080"/>
              <a:ext cx="32760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输入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任意一个数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3276360" y="2595600"/>
              <a:ext cx="360" cy="1600200"/>
              <a:chOff x="3276360" y="2595600"/>
              <a:chExt cx="360" cy="1600200"/>
            </a:xfrm>
          </p:grpSpPr>
          <p:sp>
            <p:nvSpPr>
              <p:cNvPr id="258" name="Line 6"/>
              <p:cNvSpPr/>
              <p:nvPr/>
            </p:nvSpPr>
            <p:spPr>
              <a:xfrm>
                <a:off x="3276360" y="2595600"/>
                <a:ext cx="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 txBox="1"/>
              <p:nvPr/>
            </p:nvSpPr>
            <p:spPr>
              <a:xfrm>
                <a:off x="3276360" y="2595600"/>
                <a:ext cx="36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Text Box 7"/>
            <p:cNvSpPr/>
            <p:nvPr/>
          </p:nvSpPr>
          <p:spPr>
            <a:xfrm>
              <a:off x="3504960" y="2976480"/>
              <a:ext cx="91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按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8"/>
            <p:cNvSpPr/>
            <p:nvPr/>
          </p:nvSpPr>
          <p:spPr>
            <a:xfrm>
              <a:off x="4419360" y="3052800"/>
              <a:ext cx="60912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"/>
            <p:cNvSpPr/>
            <p:nvPr/>
          </p:nvSpPr>
          <p:spPr>
            <a:xfrm>
              <a:off x="5105160" y="3052800"/>
              <a:ext cx="60912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0"/>
            <p:cNvSpPr/>
            <p:nvPr/>
          </p:nvSpPr>
          <p:spPr>
            <a:xfrm>
              <a:off x="5943240" y="3052800"/>
              <a:ext cx="6094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1"/>
            <p:cNvSpPr/>
            <p:nvPr/>
          </p:nvSpPr>
          <p:spPr>
            <a:xfrm>
              <a:off x="6781680" y="3052800"/>
              <a:ext cx="60912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2"/>
            <p:cNvSpPr/>
            <p:nvPr/>
          </p:nvSpPr>
          <p:spPr>
            <a:xfrm>
              <a:off x="7543440" y="3052800"/>
              <a:ext cx="6094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3"/>
            <p:cNvSpPr/>
            <p:nvPr/>
          </p:nvSpPr>
          <p:spPr>
            <a:xfrm>
              <a:off x="990720" y="4195800"/>
              <a:ext cx="480024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显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计算结果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042920" y="4836960"/>
          <a:ext cx="5943600" cy="1041480"/>
        </p:xfrm>
        <a:graphic>
          <a:graphicData uri="http://schemas.openxmlformats.org/drawingml/2006/table">
            <a:tbl>
              <a:tblPr/>
              <a:tblGrid>
                <a:gridCol w="990720"/>
                <a:gridCol w="1066680"/>
                <a:gridCol w="914400"/>
                <a:gridCol w="973080"/>
                <a:gridCol w="1008000"/>
                <a:gridCol w="990720"/>
              </a:tblGrid>
              <a:tr h="522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Text Box 37"/>
          <p:cNvSpPr/>
          <p:nvPr/>
        </p:nvSpPr>
        <p:spPr>
          <a:xfrm>
            <a:off x="2124000" y="5357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8"/>
          <p:cNvSpPr/>
          <p:nvPr/>
        </p:nvSpPr>
        <p:spPr>
          <a:xfrm>
            <a:off x="3200400" y="5302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9"/>
          <p:cNvSpPr/>
          <p:nvPr/>
        </p:nvSpPr>
        <p:spPr>
          <a:xfrm>
            <a:off x="4067280" y="52862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0"/>
          <p:cNvSpPr/>
          <p:nvPr/>
        </p:nvSpPr>
        <p:spPr>
          <a:xfrm>
            <a:off x="518292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1"/>
          <p:cNvSpPr/>
          <p:nvPr/>
        </p:nvSpPr>
        <p:spPr>
          <a:xfrm>
            <a:off x="5944320" y="53020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2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2"/>
          <p:cNvSpPr/>
          <p:nvPr/>
        </p:nvSpPr>
        <p:spPr>
          <a:xfrm>
            <a:off x="838080" y="60199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问题：显示的数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是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的函数吗？为什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43"/>
          <p:cNvSpPr txBox="1"/>
          <p:nvPr/>
        </p:nvSpPr>
        <p:spPr>
          <a:xfrm rot="589200">
            <a:off x="206280" y="109080"/>
            <a:ext cx="2438640" cy="9334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展示质疑</a:t>
            </a:r>
            <a:endParaRPr b="0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324000" y="260280"/>
            <a:ext cx="7990920" cy="5202000"/>
            <a:chOff x="324000" y="260280"/>
            <a:chExt cx="7990920" cy="5202000"/>
          </a:xfrm>
        </p:grpSpPr>
        <p:grpSp>
          <p:nvGrpSpPr>
            <p:cNvPr id="276" name="Group 3"/>
            <p:cNvGrpSpPr/>
            <p:nvPr/>
          </p:nvGrpSpPr>
          <p:grpSpPr>
            <a:xfrm>
              <a:off x="466560" y="3905280"/>
              <a:ext cx="7848360" cy="1557000"/>
              <a:chOff x="466560" y="3905280"/>
              <a:chExt cx="7848360" cy="1557000"/>
            </a:xfrm>
          </p:grpSpPr>
          <p:sp>
            <p:nvSpPr>
              <p:cNvPr id="277" name="Rectangle 4"/>
              <p:cNvSpPr/>
              <p:nvPr/>
            </p:nvSpPr>
            <p:spPr>
              <a:xfrm>
                <a:off x="466560" y="3905280"/>
                <a:ext cx="78483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上面操作程序中所按的第三个键和第四个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应是</a:t>
                </a:r>
                <a:r>
                  <a:rPr b="1" lang="zh-CN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           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Group 5"/>
              <p:cNvGrpSpPr/>
              <p:nvPr/>
            </p:nvGrpSpPr>
            <p:grpSpPr>
              <a:xfrm>
                <a:off x="7095600" y="3935160"/>
                <a:ext cx="761400" cy="426600"/>
                <a:chOff x="7095600" y="3935160"/>
                <a:chExt cx="761400" cy="426600"/>
              </a:xfrm>
            </p:grpSpPr>
            <p:sp>
              <p:nvSpPr>
                <p:cNvPr id="279" name="AutoShape 6"/>
                <p:cNvSpPr/>
                <p:nvPr/>
              </p:nvSpPr>
              <p:spPr>
                <a:xfrm>
                  <a:off x="7095600" y="3935160"/>
                  <a:ext cx="304560" cy="42660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7"/>
                <p:cNvSpPr/>
                <p:nvPr/>
              </p:nvSpPr>
              <p:spPr>
                <a:xfrm>
                  <a:off x="7552440" y="3935160"/>
                  <a:ext cx="304560" cy="42660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1" name="Group 8"/>
            <p:cNvGrpSpPr/>
            <p:nvPr/>
          </p:nvGrpSpPr>
          <p:grpSpPr>
            <a:xfrm>
              <a:off x="324000" y="260280"/>
              <a:ext cx="7703640" cy="3384720"/>
              <a:chOff x="324000" y="260280"/>
              <a:chExt cx="7703640" cy="3384720"/>
            </a:xfrm>
          </p:grpSpPr>
          <p:sp>
            <p:nvSpPr>
              <p:cNvPr id="282" name="Rectangle 9"/>
              <p:cNvSpPr/>
              <p:nvPr/>
            </p:nvSpPr>
            <p:spPr>
              <a:xfrm>
                <a:off x="324000" y="260280"/>
                <a:ext cx="7703640" cy="26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在计算器上按照下面的程序进行操作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下表中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与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分别是输入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个数及相应的计算结果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Group 10"/>
              <p:cNvGrpSpPr/>
              <p:nvPr/>
            </p:nvGrpSpPr>
            <p:grpSpPr>
              <a:xfrm>
                <a:off x="2128680" y="2563920"/>
                <a:ext cx="5106240" cy="1081080"/>
                <a:chOff x="2128680" y="2563920"/>
                <a:chExt cx="5106240" cy="1081080"/>
              </a:xfrm>
            </p:grpSpPr>
            <p:grpSp>
              <p:nvGrpSpPr>
                <p:cNvPr id="284" name="Group 11"/>
                <p:cNvGrpSpPr/>
                <p:nvPr/>
              </p:nvGrpSpPr>
              <p:grpSpPr>
                <a:xfrm>
                  <a:off x="2136240" y="2567880"/>
                  <a:ext cx="5090040" cy="1072440"/>
                  <a:chOff x="2136240" y="2567880"/>
                  <a:chExt cx="5090040" cy="1072440"/>
                </a:xfrm>
              </p:grpSpPr>
              <p:grpSp>
                <p:nvGrpSpPr>
                  <p:cNvPr id="285" name="Group 12"/>
                  <p:cNvGrpSpPr/>
                  <p:nvPr/>
                </p:nvGrpSpPr>
                <p:grpSpPr>
                  <a:xfrm>
                    <a:off x="2136240" y="2567880"/>
                    <a:ext cx="726480" cy="536040"/>
                    <a:chOff x="2136240" y="2567880"/>
                    <a:chExt cx="726480" cy="536040"/>
                  </a:xfrm>
                </p:grpSpPr>
                <p:sp>
                  <p:nvSpPr>
                    <p:cNvPr id="286" name="Rectangle 13"/>
                    <p:cNvSpPr/>
                    <p:nvPr/>
                  </p:nvSpPr>
                  <p:spPr>
                    <a:xfrm>
                      <a:off x="2248560" y="2567880"/>
                      <a:ext cx="501120" cy="53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Rectangle 14"/>
                    <p:cNvSpPr/>
                    <p:nvPr/>
                  </p:nvSpPr>
                  <p:spPr>
                    <a:xfrm>
                      <a:off x="2136240" y="2567880"/>
                      <a:ext cx="726480" cy="5360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" name="Group 15"/>
                  <p:cNvGrpSpPr/>
                  <p:nvPr/>
                </p:nvGrpSpPr>
                <p:grpSpPr>
                  <a:xfrm>
                    <a:off x="2863080" y="2567880"/>
                    <a:ext cx="726480" cy="536040"/>
                    <a:chOff x="2863080" y="2567880"/>
                    <a:chExt cx="726480" cy="536040"/>
                  </a:xfrm>
                </p:grpSpPr>
                <p:sp>
                  <p:nvSpPr>
                    <p:cNvPr id="289" name="Rectangle 16"/>
                    <p:cNvSpPr/>
                    <p:nvPr/>
                  </p:nvSpPr>
                  <p:spPr>
                    <a:xfrm>
                      <a:off x="2975400" y="2567880"/>
                      <a:ext cx="501120" cy="53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Rectangle 17"/>
                    <p:cNvSpPr/>
                    <p:nvPr/>
                  </p:nvSpPr>
                  <p:spPr>
                    <a:xfrm>
                      <a:off x="2863080" y="2567880"/>
                      <a:ext cx="726480" cy="5360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Group 18"/>
                  <p:cNvGrpSpPr/>
                  <p:nvPr/>
                </p:nvGrpSpPr>
                <p:grpSpPr>
                  <a:xfrm>
                    <a:off x="3589920" y="2567880"/>
                    <a:ext cx="726480" cy="536040"/>
                    <a:chOff x="3589920" y="2567880"/>
                    <a:chExt cx="726480" cy="536040"/>
                  </a:xfrm>
                </p:grpSpPr>
                <p:sp>
                  <p:nvSpPr>
                    <p:cNvPr id="292" name="Rectangle 19"/>
                    <p:cNvSpPr/>
                    <p:nvPr/>
                  </p:nvSpPr>
                  <p:spPr>
                    <a:xfrm>
                      <a:off x="3702240" y="2567880"/>
                      <a:ext cx="501120" cy="53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Rectangle 20"/>
                    <p:cNvSpPr/>
                    <p:nvPr/>
                  </p:nvSpPr>
                  <p:spPr>
                    <a:xfrm>
                      <a:off x="3589920" y="2567880"/>
                      <a:ext cx="726480" cy="5360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Group 21"/>
                  <p:cNvGrpSpPr/>
                  <p:nvPr/>
                </p:nvGrpSpPr>
                <p:grpSpPr>
                  <a:xfrm>
                    <a:off x="4316760" y="2567880"/>
                    <a:ext cx="726480" cy="536040"/>
                    <a:chOff x="4316760" y="2567880"/>
                    <a:chExt cx="726480" cy="536040"/>
                  </a:xfrm>
                </p:grpSpPr>
                <p:sp>
                  <p:nvSpPr>
                    <p:cNvPr id="295" name="Rectangle 22"/>
                    <p:cNvSpPr/>
                    <p:nvPr/>
                  </p:nvSpPr>
                  <p:spPr>
                    <a:xfrm>
                      <a:off x="4429080" y="2567880"/>
                      <a:ext cx="501120" cy="53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Rectangle 23"/>
                    <p:cNvSpPr/>
                    <p:nvPr/>
                  </p:nvSpPr>
                  <p:spPr>
                    <a:xfrm>
                      <a:off x="4316760" y="2567880"/>
                      <a:ext cx="726480" cy="5360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Group 24"/>
                  <p:cNvGrpSpPr/>
                  <p:nvPr/>
                </p:nvGrpSpPr>
                <p:grpSpPr>
                  <a:xfrm>
                    <a:off x="5043600" y="2567880"/>
                    <a:ext cx="726480" cy="536040"/>
                    <a:chOff x="5043600" y="2567880"/>
                    <a:chExt cx="726480" cy="536040"/>
                  </a:xfrm>
                </p:grpSpPr>
                <p:sp>
                  <p:nvSpPr>
                    <p:cNvPr id="298" name="Rectangle 25"/>
                    <p:cNvSpPr/>
                    <p:nvPr/>
                  </p:nvSpPr>
                  <p:spPr>
                    <a:xfrm>
                      <a:off x="5155920" y="2567880"/>
                      <a:ext cx="501120" cy="53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Rectangle 26"/>
                    <p:cNvSpPr/>
                    <p:nvPr/>
                  </p:nvSpPr>
                  <p:spPr>
                    <a:xfrm>
                      <a:off x="5043600" y="2567880"/>
                      <a:ext cx="726480" cy="5360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Group 27"/>
                  <p:cNvGrpSpPr/>
                  <p:nvPr/>
                </p:nvGrpSpPr>
                <p:grpSpPr>
                  <a:xfrm>
                    <a:off x="5770440" y="2567880"/>
                    <a:ext cx="725760" cy="536040"/>
                    <a:chOff x="5770440" y="2567880"/>
                    <a:chExt cx="725760" cy="536040"/>
                  </a:xfrm>
                </p:grpSpPr>
                <p:sp>
                  <p:nvSpPr>
                    <p:cNvPr id="301" name="Rectangle 28"/>
                    <p:cNvSpPr/>
                    <p:nvPr/>
                  </p:nvSpPr>
                  <p:spPr>
                    <a:xfrm>
                      <a:off x="5882760" y="2567880"/>
                      <a:ext cx="500760" cy="53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Rectangle 29"/>
                    <p:cNvSpPr/>
                    <p:nvPr/>
                  </p:nvSpPr>
                  <p:spPr>
                    <a:xfrm>
                      <a:off x="5770440" y="2567880"/>
                      <a:ext cx="725760" cy="5360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Group 30"/>
                  <p:cNvGrpSpPr/>
                  <p:nvPr/>
                </p:nvGrpSpPr>
                <p:grpSpPr>
                  <a:xfrm>
                    <a:off x="6496920" y="2567880"/>
                    <a:ext cx="729360" cy="536040"/>
                    <a:chOff x="6496920" y="2567880"/>
                    <a:chExt cx="729360" cy="536040"/>
                  </a:xfrm>
                </p:grpSpPr>
                <p:sp>
                  <p:nvSpPr>
                    <p:cNvPr id="304" name="Rectangle 31"/>
                    <p:cNvSpPr/>
                    <p:nvPr/>
                  </p:nvSpPr>
                  <p:spPr>
                    <a:xfrm>
                      <a:off x="6609600" y="2567880"/>
                      <a:ext cx="504360" cy="53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Rectangle 32"/>
                    <p:cNvSpPr/>
                    <p:nvPr/>
                  </p:nvSpPr>
                  <p:spPr>
                    <a:xfrm>
                      <a:off x="6496920" y="2567880"/>
                      <a:ext cx="729360" cy="5360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" name="Group 33"/>
                  <p:cNvGrpSpPr/>
                  <p:nvPr/>
                </p:nvGrpSpPr>
                <p:grpSpPr>
                  <a:xfrm>
                    <a:off x="2136240" y="3103920"/>
                    <a:ext cx="726480" cy="536400"/>
                    <a:chOff x="2136240" y="3103920"/>
                    <a:chExt cx="726480" cy="536400"/>
                  </a:xfrm>
                </p:grpSpPr>
                <p:sp>
                  <p:nvSpPr>
                    <p:cNvPr id="307" name="Rectangle 34"/>
                    <p:cNvSpPr/>
                    <p:nvPr/>
                  </p:nvSpPr>
                  <p:spPr>
                    <a:xfrm>
                      <a:off x="2248560" y="3103920"/>
                      <a:ext cx="501120" cy="536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Rectangle 35"/>
                    <p:cNvSpPr/>
                    <p:nvPr/>
                  </p:nvSpPr>
                  <p:spPr>
                    <a:xfrm>
                      <a:off x="2136240" y="3103920"/>
                      <a:ext cx="726480" cy="53640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36"/>
                  <p:cNvGrpSpPr/>
                  <p:nvPr/>
                </p:nvGrpSpPr>
                <p:grpSpPr>
                  <a:xfrm>
                    <a:off x="2863080" y="3103920"/>
                    <a:ext cx="726480" cy="536400"/>
                    <a:chOff x="2863080" y="3103920"/>
                    <a:chExt cx="726480" cy="536400"/>
                  </a:xfrm>
                </p:grpSpPr>
                <p:sp>
                  <p:nvSpPr>
                    <p:cNvPr id="310" name="Rectangle 37"/>
                    <p:cNvSpPr/>
                    <p:nvPr/>
                  </p:nvSpPr>
                  <p:spPr>
                    <a:xfrm>
                      <a:off x="2975400" y="3103920"/>
                      <a:ext cx="501120" cy="536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Rectangle 38"/>
                    <p:cNvSpPr/>
                    <p:nvPr/>
                  </p:nvSpPr>
                  <p:spPr>
                    <a:xfrm>
                      <a:off x="2863080" y="3103920"/>
                      <a:ext cx="726480" cy="53640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Group 39"/>
                  <p:cNvGrpSpPr/>
                  <p:nvPr/>
                </p:nvGrpSpPr>
                <p:grpSpPr>
                  <a:xfrm>
                    <a:off x="3589920" y="3103920"/>
                    <a:ext cx="726480" cy="536400"/>
                    <a:chOff x="3589920" y="3103920"/>
                    <a:chExt cx="726480" cy="536400"/>
                  </a:xfrm>
                </p:grpSpPr>
                <p:sp>
                  <p:nvSpPr>
                    <p:cNvPr id="313" name="Rectangle 40"/>
                    <p:cNvSpPr/>
                    <p:nvPr/>
                  </p:nvSpPr>
                  <p:spPr>
                    <a:xfrm>
                      <a:off x="3702240" y="3103920"/>
                      <a:ext cx="501120" cy="536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Rectangle 41"/>
                    <p:cNvSpPr/>
                    <p:nvPr/>
                  </p:nvSpPr>
                  <p:spPr>
                    <a:xfrm>
                      <a:off x="3589920" y="3103920"/>
                      <a:ext cx="726480" cy="53640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Group 42"/>
                  <p:cNvGrpSpPr/>
                  <p:nvPr/>
                </p:nvGrpSpPr>
                <p:grpSpPr>
                  <a:xfrm>
                    <a:off x="4316760" y="3103920"/>
                    <a:ext cx="726480" cy="536400"/>
                    <a:chOff x="4316760" y="3103920"/>
                    <a:chExt cx="726480" cy="536400"/>
                  </a:xfrm>
                </p:grpSpPr>
                <p:sp>
                  <p:nvSpPr>
                    <p:cNvPr id="316" name="Rectangle 43"/>
                    <p:cNvSpPr/>
                    <p:nvPr/>
                  </p:nvSpPr>
                  <p:spPr>
                    <a:xfrm>
                      <a:off x="4429080" y="3103920"/>
                      <a:ext cx="501120" cy="536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Rectangle 44"/>
                    <p:cNvSpPr/>
                    <p:nvPr/>
                  </p:nvSpPr>
                  <p:spPr>
                    <a:xfrm>
                      <a:off x="4316760" y="3103920"/>
                      <a:ext cx="726480" cy="53640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Group 45"/>
                  <p:cNvGrpSpPr/>
                  <p:nvPr/>
                </p:nvGrpSpPr>
                <p:grpSpPr>
                  <a:xfrm>
                    <a:off x="5043600" y="3103920"/>
                    <a:ext cx="726480" cy="536400"/>
                    <a:chOff x="5043600" y="3103920"/>
                    <a:chExt cx="726480" cy="536400"/>
                  </a:xfrm>
                </p:grpSpPr>
                <p:sp>
                  <p:nvSpPr>
                    <p:cNvPr id="319" name="Rectangle 46"/>
                    <p:cNvSpPr/>
                    <p:nvPr/>
                  </p:nvSpPr>
                  <p:spPr>
                    <a:xfrm>
                      <a:off x="5155920" y="3103920"/>
                      <a:ext cx="501120" cy="536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Rectangle 47"/>
                    <p:cNvSpPr/>
                    <p:nvPr/>
                  </p:nvSpPr>
                  <p:spPr>
                    <a:xfrm>
                      <a:off x="5043600" y="3103920"/>
                      <a:ext cx="726480" cy="53640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Group 48"/>
                  <p:cNvGrpSpPr/>
                  <p:nvPr/>
                </p:nvGrpSpPr>
                <p:grpSpPr>
                  <a:xfrm>
                    <a:off x="5770440" y="3103920"/>
                    <a:ext cx="725760" cy="536400"/>
                    <a:chOff x="5770440" y="3103920"/>
                    <a:chExt cx="725760" cy="536400"/>
                  </a:xfrm>
                </p:grpSpPr>
                <p:sp>
                  <p:nvSpPr>
                    <p:cNvPr id="322" name="Rectangle 49"/>
                    <p:cNvSpPr/>
                    <p:nvPr/>
                  </p:nvSpPr>
                  <p:spPr>
                    <a:xfrm>
                      <a:off x="5882760" y="3103920"/>
                      <a:ext cx="500760" cy="536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Rectangle 50"/>
                    <p:cNvSpPr/>
                    <p:nvPr/>
                  </p:nvSpPr>
                  <p:spPr>
                    <a:xfrm>
                      <a:off x="5770440" y="3103920"/>
                      <a:ext cx="725760" cy="53640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Group 51"/>
                  <p:cNvGrpSpPr/>
                  <p:nvPr/>
                </p:nvGrpSpPr>
                <p:grpSpPr>
                  <a:xfrm>
                    <a:off x="6496920" y="3103920"/>
                    <a:ext cx="729360" cy="536400"/>
                    <a:chOff x="6496920" y="3103920"/>
                    <a:chExt cx="729360" cy="536400"/>
                  </a:xfrm>
                </p:grpSpPr>
                <p:sp>
                  <p:nvSpPr>
                    <p:cNvPr id="325" name="Rectangle 52"/>
                    <p:cNvSpPr/>
                    <p:nvPr/>
                  </p:nvSpPr>
                  <p:spPr>
                    <a:xfrm>
                      <a:off x="6609600" y="3103920"/>
                      <a:ext cx="504360" cy="536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Rectangle 53"/>
                    <p:cNvSpPr/>
                    <p:nvPr/>
                  </p:nvSpPr>
                  <p:spPr>
                    <a:xfrm>
                      <a:off x="6496920" y="3103920"/>
                      <a:ext cx="729360" cy="53640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27" name="Rectangle 54"/>
                <p:cNvSpPr/>
                <p:nvPr/>
              </p:nvSpPr>
              <p:spPr>
                <a:xfrm>
                  <a:off x="2128680" y="2563920"/>
                  <a:ext cx="5106240" cy="108108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8" name="Picture 55" descr="计算程序"/>
              <p:cNvPicPr/>
              <p:nvPr/>
            </p:nvPicPr>
            <p:blipFill>
              <a:blip r:embed="rId1"/>
              <a:stretch/>
            </p:blipFill>
            <p:spPr>
              <a:xfrm>
                <a:off x="1474560" y="1052280"/>
                <a:ext cx="6202080" cy="878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29" name="Group 56"/>
          <p:cNvGrpSpPr/>
          <p:nvPr/>
        </p:nvGrpSpPr>
        <p:grpSpPr>
          <a:xfrm>
            <a:off x="1332000" y="4508640"/>
            <a:ext cx="1371600" cy="520560"/>
            <a:chOff x="1332000" y="4508640"/>
            <a:chExt cx="1371600" cy="520560"/>
          </a:xfrm>
        </p:grpSpPr>
        <p:sp>
          <p:nvSpPr>
            <p:cNvPr id="330" name="Text Box 57"/>
            <p:cNvSpPr/>
            <p:nvPr/>
          </p:nvSpPr>
          <p:spPr>
            <a:xfrm>
              <a:off x="1332000" y="4508640"/>
              <a:ext cx="6094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99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6699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58"/>
            <p:cNvSpPr/>
            <p:nvPr/>
          </p:nvSpPr>
          <p:spPr>
            <a:xfrm>
              <a:off x="2198880" y="4508640"/>
              <a:ext cx="50472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99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6699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59"/>
          <p:cNvSpPr/>
          <p:nvPr/>
        </p:nvSpPr>
        <p:spPr>
          <a:xfrm>
            <a:off x="539640" y="5445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函数吗？若是，写出它的表达式（用含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式子表示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556000" y="620640"/>
            <a:ext cx="635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一辆汽车的油箱中现有汽油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40L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，如果不再加油，那么油箱中的油量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（单位：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）随行驶里程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i="1" lang="zh-CN" sz="24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单位：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km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）的增加而减少，平均耗油量为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0.1L/km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611280" y="2492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）写出表示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与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的函数关系的式子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611280" y="285264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）指出自变量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的取值范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611280" y="32846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）汽车行驶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300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km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时，油箱中还有多少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755640" y="386064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解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:(1) 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函数关系式为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:  y = 40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0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187280" y="4292640"/>
            <a:ext cx="7129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由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x≥0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0.1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≥0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　得　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0 ≤ x ≤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自变量的取值范围是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:   0 ≤ x ≤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611280" y="537372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当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x = 300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函数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的值为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:y=40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0.1×300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1042920" y="5877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因此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当汽车行驶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300 km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油箱中还有油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10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0" descr="汽车"/>
          <p:cNvPicPr/>
          <p:nvPr/>
        </p:nvPicPr>
        <p:blipFill>
          <a:blip r:embed="rId1"/>
          <a:stretch/>
        </p:blipFill>
        <p:spPr>
          <a:xfrm>
            <a:off x="395280" y="765000"/>
            <a:ext cx="2089080" cy="15638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1"/>
          <p:cNvSpPr/>
          <p:nvPr/>
        </p:nvSpPr>
        <p:spPr>
          <a:xfrm>
            <a:off x="250920" y="-2397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2"/>
          <p:cNvSpPr txBox="1"/>
          <p:nvPr/>
        </p:nvSpPr>
        <p:spPr>
          <a:xfrm rot="589200">
            <a:off x="0" y="0"/>
            <a:ext cx="2438280" cy="9334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走组互助</a:t>
            </a:r>
            <a:endParaRPr b="0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hecker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684360" y="305424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腰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底边的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684360" y="2349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变量的取值范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684360" y="1628640"/>
            <a:ext cx="50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304920" y="152280"/>
            <a:ext cx="8388360" cy="1371600"/>
            <a:chOff x="304920" y="152280"/>
            <a:chExt cx="8388360" cy="1371600"/>
          </a:xfrm>
        </p:grpSpPr>
        <p:sp>
          <p:nvSpPr>
            <p:cNvPr id="348" name="Text Box 8"/>
            <p:cNvSpPr/>
            <p:nvPr/>
          </p:nvSpPr>
          <p:spPr>
            <a:xfrm>
              <a:off x="304920" y="152280"/>
              <a:ext cx="838836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2.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等腰三角形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周长为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,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底边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长为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腰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长为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求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Object 9" descr=""/>
            <p:cNvPicPr/>
            <p:nvPr/>
          </p:nvPicPr>
          <p:blipFill>
            <a:blip r:embed="rId1"/>
            <a:stretch/>
          </p:blipFill>
          <p:spPr>
            <a:xfrm>
              <a:off x="3265560" y="939600"/>
              <a:ext cx="60948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Object 10" descr=""/>
            <p:cNvPicPr/>
            <p:nvPr/>
          </p:nvPicPr>
          <p:blipFill>
            <a:blip r:embed="rId2"/>
            <a:stretch/>
          </p:blipFill>
          <p:spPr>
            <a:xfrm>
              <a:off x="750960" y="927000"/>
              <a:ext cx="60948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Rectangle 16"/>
          <p:cNvSpPr/>
          <p:nvPr/>
        </p:nvSpPr>
        <p:spPr>
          <a:xfrm>
            <a:off x="1221480" y="1773360"/>
            <a:ext cx="427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表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关系的式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96000" y="-298080"/>
            <a:ext cx="1090440" cy="313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53964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下列问题中哪些量是自变量？哪些量是自变量的函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试写出用自变量表示函数的式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611280" y="19890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改变正方形的边长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，正方形的面积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随之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611280" y="407664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ff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秀水村的耕地面积是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Arial"/>
              </a:rPr>
              <a:t>6  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这个村人均占有耕地面积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随这个村人数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的变化而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99564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684360" y="2708280"/>
            <a:ext cx="58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_______</a:t>
            </a:r>
            <a:r>
              <a:rPr b="0" lang="zh-CN" sz="2000" spc="-1" strike="noStrike">
                <a:solidFill>
                  <a:srgbClr val="3333ff"/>
                </a:solidFill>
                <a:latin typeface="Arial"/>
              </a:rPr>
              <a:t>是自变量，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_____</a:t>
            </a:r>
            <a:r>
              <a:rPr b="0" lang="zh-CN" sz="2000" spc="-1" strike="noStrike">
                <a:solidFill>
                  <a:srgbClr val="3333ff"/>
                </a:solidFill>
                <a:latin typeface="Arial"/>
              </a:rPr>
              <a:t>是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______</a:t>
            </a:r>
            <a:r>
              <a:rPr b="0" lang="zh-CN" sz="2000" spc="-1" strike="noStrike">
                <a:solidFill>
                  <a:srgbClr val="3333ff"/>
                </a:solidFill>
                <a:latin typeface="Arial"/>
              </a:rPr>
              <a:t>的函数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826920" y="328464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关系式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1298160" y="4941720"/>
            <a:ext cx="41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_______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是自变量，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_____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是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______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的函数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971640" y="5734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关系式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1042920" y="2637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3203640" y="256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4211640" y="2565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2124000" y="3213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=x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7"/>
          <p:cNvSpPr/>
          <p:nvPr/>
        </p:nvSpPr>
        <p:spPr>
          <a:xfrm>
            <a:off x="11872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8"/>
          <p:cNvSpPr/>
          <p:nvPr/>
        </p:nvSpPr>
        <p:spPr>
          <a:xfrm>
            <a:off x="3203640" y="486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9"/>
          <p:cNvSpPr/>
          <p:nvPr/>
        </p:nvSpPr>
        <p:spPr>
          <a:xfrm>
            <a:off x="4213440" y="479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20"/>
          <p:cNvGrpSpPr/>
          <p:nvPr/>
        </p:nvGrpSpPr>
        <p:grpSpPr>
          <a:xfrm>
            <a:off x="2340000" y="5516640"/>
            <a:ext cx="1726920" cy="598680"/>
            <a:chOff x="2340000" y="5516640"/>
            <a:chExt cx="1726920" cy="598680"/>
          </a:xfrm>
        </p:grpSpPr>
        <p:grpSp>
          <p:nvGrpSpPr>
            <p:cNvPr id="369" name="Group 21"/>
            <p:cNvGrpSpPr/>
            <p:nvPr/>
          </p:nvGrpSpPr>
          <p:grpSpPr>
            <a:xfrm>
              <a:off x="2771640" y="5516640"/>
              <a:ext cx="1295280" cy="598680"/>
              <a:chOff x="2771640" y="5516640"/>
              <a:chExt cx="1295280" cy="598680"/>
            </a:xfrm>
          </p:grpSpPr>
          <p:sp>
            <p:nvSpPr>
              <p:cNvPr id="370" name="Text Box 22"/>
              <p:cNvSpPr/>
              <p:nvPr/>
            </p:nvSpPr>
            <p:spPr>
              <a:xfrm>
                <a:off x="2771640" y="551664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2872440" y="5823360"/>
                <a:ext cx="397080" cy="360"/>
                <a:chOff x="2872440" y="5823360"/>
                <a:chExt cx="397080" cy="360"/>
              </a:xfrm>
            </p:grpSpPr>
            <p:sp>
              <p:nvSpPr>
                <p:cNvPr id="372" name="Line 23"/>
                <p:cNvSpPr/>
                <p:nvPr/>
              </p:nvSpPr>
              <p:spPr>
                <a:xfrm>
                  <a:off x="2872440" y="5823360"/>
                  <a:ext cx="39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 txBox="1"/>
                <p:nvPr/>
              </p:nvSpPr>
              <p:spPr>
                <a:xfrm>
                  <a:off x="2872440" y="5823360"/>
                  <a:ext cx="397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Text Box 24"/>
              <p:cNvSpPr/>
              <p:nvPr/>
            </p:nvSpPr>
            <p:spPr>
              <a:xfrm>
                <a:off x="2872440" y="5747040"/>
                <a:ext cx="79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Text Box 25"/>
            <p:cNvSpPr/>
            <p:nvPr/>
          </p:nvSpPr>
          <p:spPr>
            <a:xfrm>
              <a:off x="2340000" y="566100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WordArt 26"/>
          <p:cNvSpPr txBox="1"/>
          <p:nvPr/>
        </p:nvSpPr>
        <p:spPr>
          <a:xfrm rot="589200">
            <a:off x="250920" y="188640"/>
            <a:ext cx="2247840" cy="8604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检测反馈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250920" y="476280"/>
            <a:ext cx="8604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三角形的底边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任意伸缩，三角形的面积也随之发生了变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化的关系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自变量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变量的取值范围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=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=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=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=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tretch/>
        </p:blipFill>
        <p:spPr>
          <a:xfrm>
            <a:off x="6012000" y="3319560"/>
            <a:ext cx="2813040" cy="2917800"/>
          </a:xfrm>
          <a:prstGeom prst="rect">
            <a:avLst/>
          </a:prstGeom>
          <a:ln w="0">
            <a:noFill/>
          </a:ln>
        </p:spPr>
      </p:pic>
      <p:pic>
        <p:nvPicPr>
          <p:cNvPr id="379" name="Object 4" descr=""/>
          <p:cNvPicPr/>
          <p:nvPr/>
        </p:nvPicPr>
        <p:blipFill>
          <a:blip r:embed="rId2"/>
          <a:stretch/>
        </p:blipFill>
        <p:spPr>
          <a:xfrm>
            <a:off x="6880320" y="1008000"/>
            <a:ext cx="601560" cy="9810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7"/>
          <p:cNvSpPr/>
          <p:nvPr/>
        </p:nvSpPr>
        <p:spPr>
          <a:xfrm>
            <a:off x="1547640" y="2060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4572000" y="2205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6012000" y="2133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211640" y="3573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4572000" y="443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Object 12" descr=""/>
          <p:cNvPicPr/>
          <p:nvPr/>
        </p:nvPicPr>
        <p:blipFill>
          <a:blip r:embed="rId3"/>
          <a:stretch/>
        </p:blipFill>
        <p:spPr>
          <a:xfrm>
            <a:off x="4500720" y="2637000"/>
            <a:ext cx="79200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3"/>
          <p:cNvSpPr/>
          <p:nvPr/>
        </p:nvSpPr>
        <p:spPr>
          <a:xfrm>
            <a:off x="826920" y="134136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    y=8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Object 4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1365480" cy="9399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901440" y="21337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Object 6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1927080" cy="6778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7"/>
          <p:cNvSpPr/>
          <p:nvPr/>
        </p:nvSpPr>
        <p:spPr>
          <a:xfrm>
            <a:off x="973440" y="3068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972720" y="3860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Object 10" descr=""/>
          <p:cNvPicPr/>
          <p:nvPr/>
        </p:nvPicPr>
        <p:blipFill>
          <a:blip r:embed="rId3"/>
          <a:stretch/>
        </p:blipFill>
        <p:spPr>
          <a:xfrm>
            <a:off x="1692360" y="3789360"/>
            <a:ext cx="1604880" cy="90972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1"/>
          <p:cNvSpPr/>
          <p:nvPr/>
        </p:nvSpPr>
        <p:spPr>
          <a:xfrm>
            <a:off x="1044360" y="479736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4271760" y="836640"/>
            <a:ext cx="36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变量取值范围的确定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4042440" y="134136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整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全体实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4499280" y="213372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变量在分母位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使分母不等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4504680" y="2852640"/>
            <a:ext cx="31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开平方中：被开方数为非负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4343040" y="3933720"/>
            <a:ext cx="27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)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考虑全面，取公共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4686120" y="587700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注：对于实际问题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其自变量的取值范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还应使实际问题有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9"/>
          <p:cNvSpPr/>
          <p:nvPr/>
        </p:nvSpPr>
        <p:spPr>
          <a:xfrm>
            <a:off x="0" y="-1000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 .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下列各式中，请判断ｙ是不是ｘ的函数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0"/>
          <p:cNvSpPr/>
          <p:nvPr/>
        </p:nvSpPr>
        <p:spPr>
          <a:xfrm>
            <a:off x="755640" y="476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若是，求出自变量的取值范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2"/>
          <p:cNvGrpSpPr/>
          <p:nvPr/>
        </p:nvGrpSpPr>
        <p:grpSpPr>
          <a:xfrm>
            <a:off x="-468360" y="4724280"/>
            <a:ext cx="6781680" cy="764280"/>
            <a:chOff x="-468360" y="4724280"/>
            <a:chExt cx="6781680" cy="764280"/>
          </a:xfrm>
        </p:grpSpPr>
        <p:sp>
          <p:nvSpPr>
            <p:cNvPr id="403" name="Rectangle 33"/>
            <p:cNvSpPr/>
            <p:nvPr/>
          </p:nvSpPr>
          <p:spPr>
            <a:xfrm>
              <a:off x="-468360" y="4724280"/>
              <a:ext cx="6781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y 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= x</a:t>
              </a: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4"/>
            <p:cNvSpPr/>
            <p:nvPr/>
          </p:nvSpPr>
          <p:spPr>
            <a:xfrm>
              <a:off x="1971000" y="4724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304920" y="1484280"/>
            <a:ext cx="88390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华文新魏"/>
                <a:ea typeface="华文新魏"/>
              </a:rPr>
              <a:t>4.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用</a:t>
            </a:r>
            <a:r>
              <a:rPr b="1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60m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的篱笆围成矩形，使矩形一边靠墙，另三边用篱笆围成</a:t>
            </a:r>
            <a:r>
              <a:rPr b="1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请写出矩形面积</a:t>
            </a:r>
            <a:r>
              <a:rPr b="1" lang="en-US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s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m</a:t>
            </a:r>
            <a:r>
              <a:rPr b="1" lang="en-US" sz="3200" spc="-1" strike="noStrike" baseline="30000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）与平行于墙的一边长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m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）的关系式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并写出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的取值范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5435640" y="2421000"/>
            <a:ext cx="259236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219640" y="2421000"/>
            <a:ext cx="3168720" cy="360"/>
            <a:chOff x="5219640" y="2421000"/>
            <a:chExt cx="3168720" cy="360"/>
          </a:xfrm>
        </p:grpSpPr>
        <p:sp>
          <p:nvSpPr>
            <p:cNvPr id="408" name="Line 4"/>
            <p:cNvSpPr/>
            <p:nvPr/>
          </p:nvSpPr>
          <p:spPr>
            <a:xfrm>
              <a:off x="5219640" y="2421000"/>
              <a:ext cx="31687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5219640" y="2421000"/>
              <a:ext cx="31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5"/>
          <p:cNvSpPr/>
          <p:nvPr/>
        </p:nvSpPr>
        <p:spPr>
          <a:xfrm>
            <a:off x="8244000" y="220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6516720" y="3357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7"/>
          <p:cNvGrpSpPr/>
          <p:nvPr/>
        </p:nvGrpSpPr>
        <p:grpSpPr>
          <a:xfrm>
            <a:off x="971640" y="5300640"/>
            <a:ext cx="3872880" cy="1323000"/>
            <a:chOff x="971640" y="5300640"/>
            <a:chExt cx="3872880" cy="1323000"/>
          </a:xfrm>
        </p:grpSpPr>
        <p:pic>
          <p:nvPicPr>
            <p:cNvPr id="413" name="Object 8" descr=""/>
            <p:cNvPicPr/>
            <p:nvPr/>
          </p:nvPicPr>
          <p:blipFill>
            <a:blip r:embed="rId1"/>
            <a:stretch/>
          </p:blipFill>
          <p:spPr>
            <a:xfrm>
              <a:off x="971640" y="5408640"/>
              <a:ext cx="114120" cy="2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Rectangle 9"/>
            <p:cNvSpPr/>
            <p:nvPr/>
          </p:nvSpPr>
          <p:spPr>
            <a:xfrm>
              <a:off x="1388880" y="5300640"/>
              <a:ext cx="3455640" cy="12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10"/>
            <p:cNvGrpSpPr/>
            <p:nvPr/>
          </p:nvGrpSpPr>
          <p:grpSpPr>
            <a:xfrm>
              <a:off x="1749240" y="5300640"/>
              <a:ext cx="2482200" cy="1323000"/>
              <a:chOff x="1749240" y="5300640"/>
              <a:chExt cx="2482200" cy="1323000"/>
            </a:xfrm>
          </p:grpSpPr>
          <p:sp>
            <p:nvSpPr>
              <p:cNvPr id="416" name="Text Box 11"/>
              <p:cNvSpPr/>
              <p:nvPr/>
            </p:nvSpPr>
            <p:spPr>
              <a:xfrm>
                <a:off x="2936160" y="5300640"/>
                <a:ext cx="1295280" cy="13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60-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2936160" y="5948280"/>
                <a:ext cx="1008000" cy="360"/>
                <a:chOff x="2936160" y="5948280"/>
                <a:chExt cx="1008000" cy="360"/>
              </a:xfrm>
            </p:grpSpPr>
            <p:sp>
              <p:nvSpPr>
                <p:cNvPr id="418" name="Line 12"/>
                <p:cNvSpPr/>
                <p:nvPr/>
              </p:nvSpPr>
              <p:spPr>
                <a:xfrm>
                  <a:off x="2936160" y="5948280"/>
                  <a:ext cx="1008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 txBox="1"/>
                <p:nvPr/>
              </p:nvSpPr>
              <p:spPr>
                <a:xfrm>
                  <a:off x="2936160" y="5948280"/>
                  <a:ext cx="1008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13"/>
              <p:cNvSpPr/>
              <p:nvPr/>
            </p:nvSpPr>
            <p:spPr>
              <a:xfrm>
                <a:off x="1749240" y="5587920"/>
                <a:ext cx="125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S=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Text Box 14"/>
          <p:cNvSpPr/>
          <p:nvPr/>
        </p:nvSpPr>
        <p:spPr>
          <a:xfrm>
            <a:off x="4140360" y="5157720"/>
            <a:ext cx="35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Object 15" descr=""/>
          <p:cNvPicPr/>
          <p:nvPr/>
        </p:nvPicPr>
        <p:blipFill>
          <a:blip r:embed="rId2"/>
          <a:stretch/>
        </p:blipFill>
        <p:spPr>
          <a:xfrm>
            <a:off x="5076720" y="5805360"/>
            <a:ext cx="159552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2629080" y="83664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800000"/>
                </a:solidFill>
                <a:latin typeface="Arial"/>
              </a:rPr>
              <a:t>数学日记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539640" y="1700280"/>
          <a:ext cx="8353440" cy="4500360"/>
        </p:xfrm>
        <a:graphic>
          <a:graphicData uri="http://schemas.openxmlformats.org/drawingml/2006/table">
            <a:tbl>
              <a:tblPr/>
              <a:tblGrid>
                <a:gridCol w="4103640"/>
                <a:gridCol w="4249800"/>
              </a:tblGrid>
              <a:tr h="5760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 </a:t>
                      </a:r>
                      <a:r>
                        <a:rPr b="0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0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r>
                        <a:rPr b="0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星期</a:t>
                      </a:r>
                      <a:r>
                        <a:rPr b="0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4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习课题 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知识归纳与整理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的收获与困惑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我评价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悄悄话：老师我想对您说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Rectangle 13"/>
          <p:cNvSpPr/>
          <p:nvPr/>
        </p:nvSpPr>
        <p:spPr>
          <a:xfrm>
            <a:off x="468360" y="333360"/>
            <a:ext cx="274320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回顾与反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8199"/>
          <p:cNvSpPr/>
          <p:nvPr/>
        </p:nvSpPr>
        <p:spPr>
          <a:xfrm>
            <a:off x="4498920" y="5691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全运会火炬手以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米／秒的速度跑步前进传递火炬，传递路程为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米，传递时间为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秒，填写下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 flipH="1">
            <a:off x="6835680" y="155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11280" y="5229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怎样用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的 式子表示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8101080" y="3357720"/>
            <a:ext cx="79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500720" y="5229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=3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826920" y="587700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________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随着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</a:rPr>
              <a:t>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的变化而变化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当 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</a:rPr>
              <a:t>                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确定一个值时，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</a:rPr>
              <a:t>                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就随之确定一个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84360" y="58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传递路程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484360" y="58053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传递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1187280" y="616572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传递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4241880" y="6165720"/>
            <a:ext cx="10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传递路程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71640" y="4005360"/>
          <a:ext cx="5905440" cy="1036440"/>
        </p:xfrm>
        <a:graphic>
          <a:graphicData uri="http://schemas.openxmlformats.org/drawingml/2006/table">
            <a:tbl>
              <a:tblPr/>
              <a:tblGrid>
                <a:gridCol w="1617840"/>
                <a:gridCol w="1052280"/>
                <a:gridCol w="957240"/>
                <a:gridCol w="1154160"/>
                <a:gridCol w="11239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(</a:t>
                      </a: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32"/>
          <p:cNvSpPr/>
          <p:nvPr/>
        </p:nvSpPr>
        <p:spPr>
          <a:xfrm>
            <a:off x="324000" y="155736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思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每个问题中有几个变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同一个问题中的变量之间有什么联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33"/>
          <p:cNvSpPr txBox="1"/>
          <p:nvPr/>
        </p:nvSpPr>
        <p:spPr>
          <a:xfrm rot="589200">
            <a:off x="206280" y="109080"/>
            <a:ext cx="2438640" cy="9334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个体预习</a:t>
            </a:r>
            <a:endParaRPr b="0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0" name="文本框 8199"/>
          <p:cNvSpPr/>
          <p:nvPr/>
        </p:nvSpPr>
        <p:spPr>
          <a:xfrm>
            <a:off x="1444680" y="1222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4419720" y="3736800"/>
            <a:ext cx="4685760" cy="3062160"/>
            <a:chOff x="4419720" y="3736800"/>
            <a:chExt cx="4685760" cy="3062160"/>
          </a:xfrm>
        </p:grpSpPr>
        <p:pic>
          <p:nvPicPr>
            <p:cNvPr id="428" name="Picture 3" descr="GIF-502"/>
            <p:cNvPicPr/>
            <p:nvPr/>
          </p:nvPicPr>
          <p:blipFill>
            <a:blip r:embed="rId1"/>
            <a:stretch/>
          </p:blipFill>
          <p:spPr>
            <a:xfrm>
              <a:off x="7297560" y="3859200"/>
              <a:ext cx="1807920" cy="29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AutoShape 4"/>
            <p:cNvSpPr/>
            <p:nvPr/>
          </p:nvSpPr>
          <p:spPr>
            <a:xfrm>
              <a:off x="4419720" y="3736800"/>
              <a:ext cx="2895120" cy="1444680"/>
            </a:xfrm>
            <a:prstGeom prst="cloudCallout">
              <a:avLst>
                <a:gd name="adj1" fmla="val 70287"/>
                <a:gd name="adj2" fmla="val 125384"/>
              </a:avLst>
            </a:prstGeom>
            <a:solidFill>
              <a:srgbClr val="bbe0e3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5"/>
            <p:cNvSpPr/>
            <p:nvPr/>
          </p:nvSpPr>
          <p:spPr>
            <a:xfrm>
              <a:off x="4686120" y="4082760"/>
              <a:ext cx="21711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今日作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Object 6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210492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7"/>
          <p:cNvSpPr/>
          <p:nvPr/>
        </p:nvSpPr>
        <p:spPr>
          <a:xfrm>
            <a:off x="1908000" y="1916280"/>
            <a:ext cx="4969080" cy="35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课本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i="1" lang="en-US" sz="4000" spc="-1" strike="noStrike" baseline="-25000">
                <a:solidFill>
                  <a:srgbClr val="333399"/>
                </a:solidFill>
                <a:latin typeface="Arial"/>
              </a:rPr>
              <a:t>106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  2</a:t>
            </a: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预习：函数的图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7A69-C403-445A-BB74-4801CD805F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00-奥林匹克公园2"/>
          <p:cNvPicPr/>
          <p:nvPr/>
        </p:nvPicPr>
        <p:blipFill>
          <a:blip r:embed="rId1"/>
          <a:stretch/>
        </p:blipFill>
        <p:spPr>
          <a:xfrm>
            <a:off x="0" y="20520"/>
            <a:ext cx="9067680" cy="6837480"/>
          </a:xfrm>
          <a:prstGeom prst="rect">
            <a:avLst/>
          </a:prstGeom>
          <a:ln w="0">
            <a:noFill/>
          </a:ln>
        </p:spPr>
      </p:pic>
      <p:sp>
        <p:nvSpPr>
          <p:cNvPr id="438" name="WordArt 3"/>
          <p:cNvSpPr txBox="1"/>
          <p:nvPr/>
        </p:nvSpPr>
        <p:spPr>
          <a:xfrm>
            <a:off x="2286000" y="1905120"/>
            <a:ext cx="4648320" cy="1904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再见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54000" y="1200240"/>
            <a:ext cx="90900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</a:rPr>
              <a:t>弹簧的长度与所挂重物有关．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如果弹簧原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0cm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，每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千克重物使弹簧伸长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0.5cm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，试填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2413440" y="5805360"/>
            <a:ext cx="301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ff"/>
                </a:solidFill>
                <a:latin typeface="Times New Roman"/>
              </a:rPr>
              <a:t>L</a:t>
            </a:r>
            <a:r>
              <a:rPr b="0" lang="en-US" sz="4800" spc="-1" strike="noStrike">
                <a:solidFill>
                  <a:srgbClr val="3333ff"/>
                </a:solidFill>
                <a:latin typeface="Times New Roman"/>
              </a:rPr>
              <a:t>=10+0.5</a:t>
            </a:r>
            <a:r>
              <a:rPr b="0" i="1" lang="en-US" sz="4800" spc="-1" strike="noStrike">
                <a:solidFill>
                  <a:srgbClr val="3333ff"/>
                </a:solidFill>
                <a:latin typeface="Times New Roman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7020000" y="3357720"/>
            <a:ext cx="1954080" cy="29509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481680" y="511200"/>
            <a:ext cx="126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</a:rPr>
              <a:t>问题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11280" y="2637000"/>
          <a:ext cx="6095880" cy="198108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悬挂重物的质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弹簧长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29"/>
          <p:cNvSpPr/>
          <p:nvPr/>
        </p:nvSpPr>
        <p:spPr>
          <a:xfrm>
            <a:off x="1738440" y="38606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0"/>
          <p:cNvSpPr/>
          <p:nvPr/>
        </p:nvSpPr>
        <p:spPr>
          <a:xfrm>
            <a:off x="2937960" y="386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1"/>
          <p:cNvSpPr/>
          <p:nvPr/>
        </p:nvSpPr>
        <p:spPr>
          <a:xfrm>
            <a:off x="3826080" y="38606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4880880" y="386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3"/>
          <p:cNvSpPr/>
          <p:nvPr/>
        </p:nvSpPr>
        <p:spPr>
          <a:xfrm>
            <a:off x="5770440" y="38606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1410480" y="4724280"/>
            <a:ext cx="50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怎样用含重物质量</a:t>
            </a: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kg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的式子表示受力后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弹簧长度</a:t>
            </a:r>
            <a:r>
              <a:rPr b="1" i="1" lang="zh-CN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3333ff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(cm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571760" y="1104840"/>
            <a:ext cx="494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用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10 m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长的绳子围成长方形，若改变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方形的长度，长方形的面积会怎样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00000" y="2205000"/>
          <a:ext cx="7559640" cy="2274840"/>
        </p:xfrm>
        <a:graphic>
          <a:graphicData uri="http://schemas.openxmlformats.org/drawingml/2006/table">
            <a:tbl>
              <a:tblPr/>
              <a:tblGrid>
                <a:gridCol w="2917800"/>
                <a:gridCol w="887400"/>
                <a:gridCol w="901800"/>
                <a:gridCol w="1087200"/>
                <a:gridCol w="884520"/>
                <a:gridCol w="880920"/>
              </a:tblGrid>
              <a:tr h="506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边长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( m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另一边长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长方形面积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m</a:t>
                      </a:r>
                      <a:r>
                        <a:rPr b="1" lang="en-US" sz="2400" spc="-1" strike="noStrike" baseline="4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33"/>
          <p:cNvSpPr/>
          <p:nvPr/>
        </p:nvSpPr>
        <p:spPr>
          <a:xfrm>
            <a:off x="1042920" y="4649040"/>
            <a:ext cx="7274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设长方形的面积为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s(m</a:t>
            </a:r>
            <a:r>
              <a:rPr b="1" lang="en-US" sz="2800" spc="-1" strike="noStrike" baseline="40000">
                <a:solidFill>
                  <a:srgbClr val="3333ff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),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一边长为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x,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怎样用含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的式子表示长方形的面积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316080" y="222120"/>
            <a:ext cx="177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Verdana"/>
              </a:rPr>
              <a:t>问题</a:t>
            </a:r>
            <a:r>
              <a:rPr b="0" lang="en-US" sz="4400" spc="-1" strike="noStrike">
                <a:solidFill>
                  <a:srgbClr val="3333ff"/>
                </a:solidFill>
                <a:latin typeface="Verdana"/>
              </a:rPr>
              <a:t>3</a:t>
            </a:r>
            <a:r>
              <a:rPr b="0" lang="zh-CN" sz="4400" spc="-1" strike="noStrike">
                <a:solidFill>
                  <a:srgbClr val="3333ff"/>
                </a:solidFill>
                <a:latin typeface="Verdana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5"/>
          <p:cNvSpPr/>
          <p:nvPr/>
        </p:nvSpPr>
        <p:spPr>
          <a:xfrm>
            <a:off x="3985920" y="3860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3995640" y="2997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7"/>
          <p:cNvSpPr/>
          <p:nvPr/>
        </p:nvSpPr>
        <p:spPr>
          <a:xfrm>
            <a:off x="4932360" y="2997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8"/>
          <p:cNvSpPr/>
          <p:nvPr/>
        </p:nvSpPr>
        <p:spPr>
          <a:xfrm>
            <a:off x="5868360" y="3068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9"/>
          <p:cNvSpPr/>
          <p:nvPr/>
        </p:nvSpPr>
        <p:spPr>
          <a:xfrm>
            <a:off x="6877080" y="3068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5003640" y="39337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5867280" y="39337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6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6948360" y="39337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1692360" y="3141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-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4"/>
          <p:cNvSpPr/>
          <p:nvPr/>
        </p:nvSpPr>
        <p:spPr>
          <a:xfrm>
            <a:off x="4284720" y="5373720"/>
            <a:ext cx="3168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5079960" y="5403960"/>
            <a:ext cx="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5086440" y="6084720"/>
            <a:ext cx="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2916360" y="587700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s=x(5-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95280" y="162864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上述三个问题有什么共同之处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3"/>
          <p:cNvSpPr txBox="1"/>
          <p:nvPr/>
        </p:nvSpPr>
        <p:spPr>
          <a:xfrm rot="589200">
            <a:off x="250560" y="0"/>
            <a:ext cx="3311280" cy="1224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比较思考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55640" y="378936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当一个变量确定一个值时，另一个变量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唯一确定的值与其对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755640" y="2997360"/>
            <a:ext cx="59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.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每个变化的过程中都存在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个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变量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76320" y="2438280"/>
            <a:ext cx="9144000" cy="4267080"/>
            <a:chOff x="76320" y="2438280"/>
            <a:chExt cx="9144000" cy="4267080"/>
          </a:xfrm>
        </p:grpSpPr>
        <p:pic>
          <p:nvPicPr>
            <p:cNvPr id="214" name="Object 3" descr=""/>
            <p:cNvPicPr/>
            <p:nvPr/>
          </p:nvPicPr>
          <p:blipFill>
            <a:blip r:embed="rId1"/>
            <a:stretch/>
          </p:blipFill>
          <p:spPr>
            <a:xfrm>
              <a:off x="76320" y="2438280"/>
              <a:ext cx="9144000" cy="426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"/>
            <p:cNvGrpSpPr/>
            <p:nvPr/>
          </p:nvGrpSpPr>
          <p:grpSpPr>
            <a:xfrm>
              <a:off x="2514600" y="5181480"/>
              <a:ext cx="360" cy="304560"/>
              <a:chOff x="2514600" y="5181480"/>
              <a:chExt cx="360" cy="304560"/>
            </a:xfrm>
          </p:grpSpPr>
          <p:sp>
            <p:nvSpPr>
              <p:cNvPr id="216" name="Line 4"/>
              <p:cNvSpPr/>
              <p:nvPr/>
            </p:nvSpPr>
            <p:spPr>
              <a:xfrm>
                <a:off x="2514600" y="5181480"/>
                <a:ext cx="0" cy="3045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2514600" y="518148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762120" y="5486040"/>
              <a:ext cx="1752480" cy="360"/>
              <a:chOff x="762120" y="5486040"/>
              <a:chExt cx="1752480" cy="360"/>
            </a:xfrm>
          </p:grpSpPr>
          <p:sp>
            <p:nvSpPr>
              <p:cNvPr id="219" name="Line 5"/>
              <p:cNvSpPr/>
              <p:nvPr/>
            </p:nvSpPr>
            <p:spPr>
              <a:xfrm>
                <a:off x="762120" y="5486040"/>
                <a:ext cx="17524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762120" y="5486040"/>
                <a:ext cx="1752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Rectangle 6"/>
          <p:cNvSpPr/>
          <p:nvPr/>
        </p:nvSpPr>
        <p:spPr>
          <a:xfrm>
            <a:off x="685800" y="609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图是自动测温仪记录的图象，随着时间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变化，气温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也随之变化．对于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每一个确定的值，温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都有唯一确定的对应值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7"/>
          <p:cNvGrpSpPr/>
          <p:nvPr/>
        </p:nvGrpSpPr>
        <p:grpSpPr>
          <a:xfrm>
            <a:off x="745920" y="3743280"/>
            <a:ext cx="4124520" cy="1438200"/>
            <a:chOff x="745920" y="3743280"/>
            <a:chExt cx="4124520" cy="1438200"/>
          </a:xfrm>
        </p:grpSpPr>
        <p:grpSp>
          <p:nvGrpSpPr>
            <p:cNvPr id="223" name=""/>
            <p:cNvGrpSpPr/>
            <p:nvPr/>
          </p:nvGrpSpPr>
          <p:grpSpPr>
            <a:xfrm>
              <a:off x="4870080" y="3743280"/>
              <a:ext cx="360" cy="1438200"/>
              <a:chOff x="4870080" y="3743280"/>
              <a:chExt cx="360" cy="143820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4870080" y="3743280"/>
                <a:ext cx="0" cy="1438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4870080" y="3743280"/>
                <a:ext cx="360" cy="1438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745920" y="3743280"/>
              <a:ext cx="4124160" cy="360"/>
              <a:chOff x="745920" y="3743280"/>
              <a:chExt cx="4124160" cy="360"/>
            </a:xfrm>
          </p:grpSpPr>
          <p:sp>
            <p:nvSpPr>
              <p:cNvPr id="227" name="Line 9"/>
              <p:cNvSpPr/>
              <p:nvPr/>
            </p:nvSpPr>
            <p:spPr>
              <a:xfrm flipH="1">
                <a:off x="745920" y="3743280"/>
                <a:ext cx="4123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>
                <a:off x="746280" y="3743280"/>
                <a:ext cx="4123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Text Box 10"/>
          <p:cNvSpPr/>
          <p:nvPr/>
        </p:nvSpPr>
        <p:spPr>
          <a:xfrm>
            <a:off x="179280" y="333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1116000" y="26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）下图是体检时的心电图．其中图上点的横坐标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表示时间，纵坐标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y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表示心脏部位的生物电流，它们是两个变量．在心电图中，对于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的每一个确定的值，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都有唯一确定的对应值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http:/www.pep.com.cn/images/200410/pic_204240.jpg"/>
          <p:cNvPicPr/>
          <p:nvPr/>
        </p:nvPicPr>
        <p:blipFill>
          <a:blip r:embed="rId1"/>
          <a:srcRect l="29091" t="23714" r="25702" b="64950"/>
          <a:stretch/>
        </p:blipFill>
        <p:spPr>
          <a:xfrm>
            <a:off x="395280" y="2924280"/>
            <a:ext cx="8424720" cy="24480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0" y="5229360"/>
            <a:ext cx="8748720" cy="360"/>
            <a:chOff x="0" y="5229360"/>
            <a:chExt cx="8748720" cy="360"/>
          </a:xfrm>
        </p:grpSpPr>
        <p:sp>
          <p:nvSpPr>
            <p:cNvPr id="233" name="Line 6"/>
            <p:cNvSpPr/>
            <p:nvPr/>
          </p:nvSpPr>
          <p:spPr>
            <a:xfrm>
              <a:off x="0" y="5229360"/>
              <a:ext cx="874872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0" y="5229360"/>
              <a:ext cx="874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50920" y="3068640"/>
            <a:ext cx="360" cy="2664000"/>
            <a:chOff x="250920" y="3068640"/>
            <a:chExt cx="360" cy="2664000"/>
          </a:xfrm>
        </p:grpSpPr>
        <p:sp>
          <p:nvSpPr>
            <p:cNvPr id="236" name="Line 7"/>
            <p:cNvSpPr/>
            <p:nvPr/>
          </p:nvSpPr>
          <p:spPr>
            <a:xfrm>
              <a:off x="250920" y="3068640"/>
              <a:ext cx="0" cy="26640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250920" y="3068640"/>
              <a:ext cx="360" cy="266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8"/>
          <p:cNvSpPr/>
          <p:nvPr/>
        </p:nvSpPr>
        <p:spPr>
          <a:xfrm>
            <a:off x="0" y="5300640"/>
            <a:ext cx="2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8459640" y="5373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0" y="3213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459280" y="-4224240"/>
            <a:ext cx="22716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532720" y="6021000"/>
            <a:ext cx="15408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187280" y="54936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）在下面的我国人口数统计表中，年份与人口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可以记作两个变量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与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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对于表中每一个确定的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份（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），都对应着一个确定的人口数（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）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http:/www.pep.com.cn/images/200410/pic_204240.jpg"/>
          <p:cNvPicPr/>
          <p:nvPr/>
        </p:nvPicPr>
        <p:blipFill>
          <a:blip r:embed="rId1"/>
          <a:srcRect l="28137" t="45411" r="24475" b="37256"/>
          <a:stretch/>
        </p:blipFill>
        <p:spPr>
          <a:xfrm>
            <a:off x="1187280" y="2708280"/>
            <a:ext cx="7239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244000" y="5733720"/>
            <a:ext cx="44280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125000" y="48276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函数的概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84360" y="1341360"/>
            <a:ext cx="79912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.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在一个变化过程中，如果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个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变量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与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并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对于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每一个确定的值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都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唯 一确定的值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与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对应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那么我们就说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变量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是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函数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.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如果当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时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y=b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那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叫做当自变量的值为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时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函数值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684360" y="5734080"/>
            <a:ext cx="64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826920" y="4797360"/>
            <a:ext cx="727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</a:rPr>
              <a:t>例如在问题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</a:rPr>
              <a:t>中，时间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</a:rPr>
              <a:t>是自变量，</a:t>
            </a:r>
            <a:r>
              <a:rPr b="0" lang="zh-CN" sz="2200" spc="-1" strike="noStrike">
                <a:solidFill>
                  <a:srgbClr val="0000ff"/>
                </a:solidFill>
                <a:latin typeface="Arial"/>
              </a:rPr>
              <a:t>里程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zh-CN" sz="22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zh-CN" sz="2200" spc="-1" strike="noStrike">
                <a:solidFill>
                  <a:srgbClr val="0000ff"/>
                </a:solidFill>
                <a:latin typeface="Arial"/>
              </a:rPr>
              <a:t>的函数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=1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时，其函数值为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=2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时，其函数值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08:2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09Z</dcterms:modified>
  <cp:revision>1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