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105-BFAA-4E76-925F-320A3B9B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0AD-2F76-4F1C-A028-94F0695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347-53C3-46EB-88A0-78D6811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65E-AB54-41D7-98D9-2497DE0C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1DD7-331F-4B3E-A565-88AE9E03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DF62-D6DB-4BF6-8D31-17C6FB4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41D-743A-4363-87EB-EFA42AC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6BE4-A311-46DE-930A-74A35A4A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C68F-2D8A-4542-B18E-122A88EA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BB5-6473-4204-9E5E-ED8CF078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438-BE83-455A-902B-F90866C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89A-5294-4A2A-8C33-AEEE529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BD1-6DCB-4AD9-8CDB-526F663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EB3-C0A1-45B5-B179-F45297C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17B3-5B57-4B52-AAAC-3B34C5F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AEA-B2D0-4F37-85D4-480B55F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2CB-792B-4792-8012-8FB76287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E98-0989-46BF-9F83-05852482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532-54E3-4235-80E3-6B626EA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BC9-F98C-4F6A-9BCD-B89E92E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9F8-3CD8-4370-81F3-4707D4F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3C9-48D1-4C84-998A-04F825C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5C7-80A0-4C55-83C9-3AB8B3C2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110-7D72-4B0F-8C82-4E7103B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B7F8-5019-4DE4-8EFA-6011AD3CC90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B81B-79B8-45AA-AB47-81BFD8C3E6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1720"/>
            <a:ext cx="2427840" cy="2247840"/>
            <a:chOff x="7171200" y="-8172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1720"/>
              <a:ext cx="2427840" cy="2247840"/>
              <a:chOff x="7171200" y="-8172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1720"/>
                <a:ext cx="2427840" cy="2247840"/>
                <a:chOff x="7171200" y="-8172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08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0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412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72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248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44E8-0F5C-4A56-A243-5CF9B5030C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00,4,&#22303;&#19968;&#26679;&#30340;&#32500;&#21566;&#23572;" TargetMode="External"/><Relationship Id="rId2" Type="http://schemas.openxmlformats.org/officeDocument/2006/relationships/hyperlink" Target="301,5,&#33457;&#19968;&#26679;&#30340;&#32500;&#21566;&#23572;" TargetMode="External"/><Relationship Id="rId3" Type="http://schemas.openxmlformats.org/officeDocument/2006/relationships/hyperlink" Target="302,6,&#35868;&#19968;&#26679;&#30340;&#32500;&#21566;&#23572;" TargetMode="External"/><Relationship Id="rId4" Type="http://schemas.openxmlformats.org/officeDocument/2006/relationships/hyperlink" Target="303,7,&#27468;&#19968;&#26679;&#30340;&#32500;&#21566;&#23572;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9"/>
          <p:cNvSpPr/>
          <p:nvPr/>
        </p:nvSpPr>
        <p:spPr>
          <a:xfrm>
            <a:off x="3492360" y="696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5527112853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18172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田的维吾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66643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歌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唱歌跳舞不受人员、场地和时间的限制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想跳就跳，想唱就唱 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聚餐的目的不在于吃，而在于载歌载舞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33200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图片1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SC00509"/>
          <p:cNvPicPr/>
          <p:nvPr/>
        </p:nvPicPr>
        <p:blipFill>
          <a:blip r:embed="rId2"/>
          <a:stretch/>
        </p:blipFill>
        <p:spPr>
          <a:xfrm>
            <a:off x="2771640" y="4508640"/>
            <a:ext cx="360072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79280" y="2393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活在豁达乐观、载歌载舞之中的和田维吾尔人，纵使生活再苦，感觉也是甜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1862111"/>
          <p:cNvPicPr/>
          <p:nvPr/>
        </p:nvPicPr>
        <p:blipFill>
          <a:blip r:embed="rId1"/>
          <a:stretch/>
        </p:blipFill>
        <p:spPr>
          <a:xfrm>
            <a:off x="4572000" y="3716280"/>
            <a:ext cx="3672000" cy="2592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68360" y="333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隶书"/>
              </a:rPr>
              <a:t>谈一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7"/>
          <p:cNvSpPr/>
          <p:nvPr/>
        </p:nvSpPr>
        <p:spPr>
          <a:xfrm>
            <a:off x="1476360" y="321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30" descr="005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84720" y="5078520"/>
            <a:ext cx="3059280" cy="1779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1" name="Picture 1031" descr="图片1"/>
          <p:cNvPicPr/>
          <p:nvPr/>
        </p:nvPicPr>
        <p:blipFill>
          <a:blip r:embed="rId2"/>
          <a:stretch/>
        </p:blipFill>
        <p:spPr>
          <a:xfrm>
            <a:off x="7415280" y="5557680"/>
            <a:ext cx="1728720" cy="13003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7451640" y="4941720"/>
            <a:ext cx="73080" cy="360"/>
            <a:chOff x="7451640" y="4941720"/>
            <a:chExt cx="73080" cy="360"/>
          </a:xfrm>
        </p:grpSpPr>
        <p:sp>
          <p:nvSpPr>
            <p:cNvPr id="193" name="Line 1036"/>
            <p:cNvSpPr/>
            <p:nvPr/>
          </p:nvSpPr>
          <p:spPr>
            <a:xfrm>
              <a:off x="7451640" y="4941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7451640" y="4941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041"/>
          <p:cNvSpPr/>
          <p:nvPr/>
        </p:nvSpPr>
        <p:spPr>
          <a:xfrm>
            <a:off x="900000" y="134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开朗豁达，乐观豪迈，热爱土地，热爱生活，这使他们能够战胜一切生活的磨难。这是一个让人喜爱和尊敬的民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42"/>
          <p:cNvSpPr/>
          <p:nvPr/>
        </p:nvSpPr>
        <p:spPr>
          <a:xfrm>
            <a:off x="3780000" y="476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43"/>
          <p:cNvSpPr/>
          <p:nvPr/>
        </p:nvSpPr>
        <p:spPr>
          <a:xfrm>
            <a:off x="826920" y="2852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生活在沙漠中的和田维吾尔人，物质条件虽然很差，但是他们有豁达、乐观、善良、友好的品性；能歌善舞的特点使他们热爱生活，善于在生活中发现美、创造美、享受美。所以无论生活有多苦，他们仍感觉是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05B-E204-446C-97DA-958E2199AB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189000"/>
            <a:ext cx="727236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作业</a:t>
            </a: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字杂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课，加上小标题，使文章条理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利用查阅资料（可通过书籍或网络），至少解开维吾尔族的一个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29"/>
          <p:cNvPicPr/>
          <p:nvPr/>
        </p:nvPicPr>
        <p:blipFill>
          <a:blip r:embed="rId1"/>
          <a:stretch/>
        </p:blipFill>
        <p:spPr>
          <a:xfrm>
            <a:off x="4859280" y="4005360"/>
            <a:ext cx="4032360" cy="269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26"/>
          <p:cNvSpPr/>
          <p:nvPr/>
        </p:nvSpPr>
        <p:spPr>
          <a:xfrm>
            <a:off x="395280" y="126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用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字概括维吾尔风情特点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2050920" y="2727360"/>
            <a:ext cx="7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1"/>
              </a:rPr>
              <a:t>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349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2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493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3"/>
              </a:rPr>
              <a:t>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30"/>
          <p:cNvSpPr/>
          <p:nvPr/>
        </p:nvSpPr>
        <p:spPr>
          <a:xfrm>
            <a:off x="6372360" y="2727360"/>
            <a:ext cx="72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4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31" descr="x1pM0jCSUoiRhDjW1F47OhzpL4POgaKUudtRlAiQfxC4wL2OO8GfN4I88TCqmOJHO3lgaynW6INCt9Gct7xz3WKUYmsJuLRYPN_BAqd66RXF_nniDFsmHAsGznEumYbeyw1C8DBC4AWVLY"/>
          <p:cNvPicPr/>
          <p:nvPr/>
        </p:nvPicPr>
        <p:blipFill>
          <a:blip r:embed="rId5"/>
          <a:stretch/>
        </p:blipFill>
        <p:spPr>
          <a:xfrm>
            <a:off x="7236000" y="5084640"/>
            <a:ext cx="1368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560" y="307152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珍惜生命中的四分之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把生命分为“四分之一的绿色”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分之一的紫色”、“四分之一的灰色”、“四分之一的空白”，他们拼成了令人耳目一新的感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030"/>
          <p:cNvSpPr/>
          <p:nvPr/>
        </p:nvSpPr>
        <p:spPr>
          <a:xfrm>
            <a:off x="1116000" y="1413000"/>
            <a:ext cx="69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胖子”变奏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时，拟设了“喜”、“怒”、“哀”、“乐”四个方面的小标题连缀，为文增色不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31"/>
          <p:cNvSpPr/>
          <p:nvPr/>
        </p:nvSpPr>
        <p:spPr>
          <a:xfrm>
            <a:off x="395280" y="26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班级演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设置了“第一回选盟主”、“第二回唇舌之战”、“第三回笔墨之争”、“第四回男女联盟”四个小标题，以时间为顺序写出了男女生之间有趣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028"/>
          <p:cNvSpPr/>
          <p:nvPr/>
        </p:nvSpPr>
        <p:spPr>
          <a:xfrm>
            <a:off x="795672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32"/>
          <p:cNvSpPr/>
          <p:nvPr/>
        </p:nvSpPr>
        <p:spPr>
          <a:xfrm>
            <a:off x="468360" y="404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33"/>
          <p:cNvSpPr/>
          <p:nvPr/>
        </p:nvSpPr>
        <p:spPr>
          <a:xfrm>
            <a:off x="1619280" y="5300640"/>
            <a:ext cx="1368360" cy="4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行文中的小标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20606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便于将材料分门别类地组织，多方面多角度展示材料、表达主题，使行文条理清楚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能吸引读者，对主要内容有一个概括性的了解，更快速更准确地理解文章内容和写作意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161928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ff"/>
                </a:solidFill>
                <a:uFillTx/>
                <a:latin typeface="Comic Sans MS"/>
              </a:rPr>
              <a:t>小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31"/>
          <p:cNvSpPr/>
          <p:nvPr/>
        </p:nvSpPr>
        <p:spPr>
          <a:xfrm>
            <a:off x="2556000" y="5300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小标题一般用在篇幅较长、内容复杂的文章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32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52600"/>
            <a:ext cx="68706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阅读课文，小组讨论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为什么是土一样的维吾尔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从“土一样的维吾尔”中你可以看出维吾尔民族怎样的特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1028"/>
          <p:cNvSpPr/>
          <p:nvPr/>
        </p:nvSpPr>
        <p:spPr>
          <a:xfrm>
            <a:off x="8028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8197"/>
          <p:cNvSpPr/>
          <p:nvPr/>
        </p:nvSpPr>
        <p:spPr>
          <a:xfrm>
            <a:off x="682560" y="465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土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77336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当沙尘暴铺天盖地地袭来时，一个汉子迎风引吭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沙尘漫天飞扬，人们长年摘不下“防尘装”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喜食土馕坑、沙土灰里烧制的食物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把衣服直接摊铺在沙漠上晾晒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5"/>
          <p:cNvPicPr/>
          <p:nvPr/>
        </p:nvPicPr>
        <p:blipFill>
          <a:blip r:embed="rId1"/>
          <a:stretch/>
        </p:blipFill>
        <p:spPr>
          <a:xfrm>
            <a:off x="6084720" y="4746600"/>
            <a:ext cx="3059280" cy="2111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29"/>
          <p:cNvSpPr/>
          <p:nvPr/>
        </p:nvSpPr>
        <p:spPr>
          <a:xfrm>
            <a:off x="536400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花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总说：和田维吾尔人尤为爱美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分述：他们爱花的天性和他们在许多物品上营造出的鲜花般的幽香和情调；维吾尔姑娘有花一样的容貌和花一般的名字；维吾尔姑娘的名字中还有激励自信的意味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78800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4b11cb554461aafbb705c"/>
          <p:cNvPicPr/>
          <p:nvPr/>
        </p:nvPicPr>
        <p:blipFill>
          <a:blip r:embed="rId1"/>
          <a:stretch/>
        </p:blipFill>
        <p:spPr>
          <a:xfrm>
            <a:off x="0" y="0"/>
            <a:ext cx="4419720" cy="781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地毯"/>
          <p:cNvPicPr/>
          <p:nvPr/>
        </p:nvPicPr>
        <p:blipFill>
          <a:blip r:embed="rId2"/>
          <a:stretch/>
        </p:blipFill>
        <p:spPr>
          <a:xfrm>
            <a:off x="5508720" y="4838760"/>
            <a:ext cx="363528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谜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267920"/>
            <a:ext cx="7056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生活并不富，却很好客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的睫毛长，维吾尔姑娘跳舞时“摆脖子”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单手提壶洗手洗脸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少有戴近视眼镜的，少有单眼皮的，用“奥斯曼”草染过的头发浓黑发亮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8280360" y="649908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17"/>
          <p:cNvPicPr/>
          <p:nvPr/>
        </p:nvPicPr>
        <p:blipFill>
          <a:blip r:embed="rId1"/>
          <a:stretch/>
        </p:blipFill>
        <p:spPr>
          <a:xfrm>
            <a:off x="7410600" y="2421000"/>
            <a:ext cx="173340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2:10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3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