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7A10-B69E-4376-8822-2EB4D15A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8101-C985-48EE-8059-608863DD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E1E-2A78-4BB7-81C0-C0182583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8FE-D279-4802-B5DD-E31217CF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309A-EB86-4A63-AE7C-9A2134DE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295B-1F5F-406C-8F63-18A70ECF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8137-7882-4525-B715-5D8A5118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D67F-472C-43C2-9EF2-47B2B14E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1FDD-EEAF-4C68-B173-5F2535DB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040" y="151920"/>
            <a:ext cx="6248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8F37-E710-4915-96AC-67E137D1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0147-D675-4936-A3A8-36F1A407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1D9-4274-421A-A2B6-589F4AB8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AC2A-FF4C-4225-8020-B8D3DA44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C949-9368-494E-A067-61374A20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6876-9367-43FF-8737-63FE7E47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541B-EA9E-4C3B-ADD1-CDD96E7D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3FD2-0A78-411E-ADFB-F5FBA77F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8892A-2BEC-4AA4-A05D-22E3171D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7F4B6-4782-45E0-808F-71FDDB71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056E2-BE17-4957-8D0A-267A3954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534A8-9F2F-407B-BF91-BB3138FC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31422-57CF-4E33-90B6-B6E70410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1F2-1667-457E-8464-B3835533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14040" y="151920"/>
            <a:ext cx="6248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57F80-7AC4-478B-B85A-31CDA298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6B879-FD95-4B3A-89F4-2844A33E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0D01A-C126-471E-9846-725D780C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93B72-CADD-4C05-A0DE-C79F7A6D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615A0-E630-4B17-B48E-8FB7C11D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77012-1EDD-4FB4-A466-410726DB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702F3-5282-475E-B313-6A012FDC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558-5D2C-4BC9-B64B-66711996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A0F-93BB-4D17-A3A9-35940F7B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151920"/>
            <a:ext cx="6248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CF08-5FC0-434A-B011-3327317E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967-670D-4E64-A6B3-C7C20192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B1BF-BF46-43A2-AB76-47335150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F0E-B79D-4964-9E0E-2F38336E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025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D888-0AD1-43FC-A579-9DF801AA203B}" type="slidenum">
              <a:rPr b="0" lang="en-US" sz="1400" spc="-1" strike="noStrike">
                <a:solidFill>
                  <a:srgbClr val="ebd189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F1D9-7656-4C0C-843B-D37A72BEDCF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DFAB-8B3B-4023-BE3F-DA026B817AF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025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922E-C45F-4128-8121-9ABE5179BB26}" type="slidenum">
              <a:rPr b="0" lang="en-US" sz="1400" spc="-1" strike="noStrike">
                <a:solidFill>
                  <a:srgbClr val="ebd189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773892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54"/>
                </a:solidFill>
                <a:latin typeface="Impact"/>
              </a:rPr>
              <a:t>国外毕业论文</a:t>
            </a:r>
            <a:r>
              <a:rPr b="0" lang="en-GB" sz="4000" spc="-1" strike="noStrike">
                <a:solidFill>
                  <a:srgbClr val="000054"/>
                </a:solidFill>
                <a:latin typeface="Impact"/>
              </a:rPr>
              <a:t>PPT</a:t>
            </a:r>
            <a:r>
              <a:rPr b="0" lang="en-GB" sz="4000" spc="-1" strike="noStrike">
                <a:solidFill>
                  <a:srgbClr val="000054"/>
                </a:solidFill>
                <a:latin typeface="Impact"/>
              </a:rPr>
              <a:t>模板</a:t>
            </a:r>
            <a:r>
              <a:rPr b="0" lang="zh-CN" sz="4000" spc="-1" strike="noStrike">
                <a:solidFill>
                  <a:srgbClr val="000054"/>
                </a:solidFill>
                <a:latin typeface="Impact"/>
              </a:rPr>
              <a:t>在线下载</a:t>
            </a: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bd189"/>
                </a:solidFill>
                <a:latin typeface="Arial Black"/>
              </a:rPr>
              <a:t>Sustitle Here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879C-A87A-4F75-9CF9-661C76ABD9F2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32" name="文本框 8200"/>
          <p:cNvSpPr/>
          <p:nvPr/>
        </p:nvSpPr>
        <p:spPr>
          <a:xfrm>
            <a:off x="1676520" y="2286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97c0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20:48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41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