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0BB-53FE-41B4-ADD2-7E805AAA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706-39E6-4D4B-852F-E8AFABA3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362-731B-4655-9B2C-861441A6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DDA-E667-469A-B15F-47D5406E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72A5-7E3A-4D98-B2C7-C26F585C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6027-6E6B-4DFA-9C6C-04EB7E28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8509-124D-43EB-A6FB-63F27D5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ADE5-21DF-41C5-929F-94BEA01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2C4A-51C1-4632-9E09-7077441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3DE3-D447-4B2D-80BE-18F71F86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1D53-3917-448F-A37F-4D4E8A32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5C8-99E0-46AE-AE00-0F0A33D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302D-F035-43FA-A57C-CB1AE80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8CB6-B69E-4A88-A004-93BE411A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B8B3-1E32-48FD-A43C-64932E4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9586-25D6-475E-AB59-05E9925B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2D15-4464-440A-AC3F-F32FFB7A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6D2-25F1-400C-BA27-74B1217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18D-BD83-45E2-A758-161B5E0B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AB8-DF1F-4627-BF62-D4DDFE12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943-7444-4B30-9DEF-370E918C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E22-5AE0-47F4-AC6E-DE3A3CF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0E6-46A0-4442-A66D-868A76B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6E5-7C48-47EC-906C-10493FD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558CF-C16E-4814-9253-394EE8BF3B11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CF1D0-1CE5-4F9B-B124-2B3D016D4D5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9261C-944D-42AB-BEBC-A46A3A4743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简洁曲线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2 CuadroTexto"/>
          <p:cNvSpPr/>
          <p:nvPr/>
        </p:nvSpPr>
        <p:spPr>
          <a:xfrm>
            <a:off x="971640" y="1989000"/>
            <a:ext cx="7358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ingún servicio de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salud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00"/>
          <p:cNvSpPr/>
          <p:nvPr/>
        </p:nvSpPr>
        <p:spPr>
          <a:xfrm>
            <a:off x="2050920" y="2276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1" descr="12.80X7.jpg"/>
          <p:cNvPicPr/>
          <p:nvPr/>
        </p:nvPicPr>
        <p:blipFill>
          <a:blip r:embed="rId1"/>
          <a:stretch/>
        </p:blipFill>
        <p:spPr>
          <a:xfrm>
            <a:off x="1908000" y="836640"/>
            <a:ext cx="676944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图片 2" descr=""/>
          <p:cNvPicPr/>
          <p:nvPr/>
        </p:nvPicPr>
        <p:blipFill>
          <a:blip r:embed="rId2"/>
          <a:stretch/>
        </p:blipFill>
        <p:spPr>
          <a:xfrm>
            <a:off x="6365880" y="5805360"/>
            <a:ext cx="2765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2" descr="DIPTICO SEMIFINAL-2.jpg"/>
          <p:cNvPicPr/>
          <p:nvPr/>
        </p:nvPicPr>
        <p:blipFill>
          <a:blip r:embed="rId1"/>
          <a:stretch/>
        </p:blipFill>
        <p:spPr>
          <a:xfrm>
            <a:off x="1979640" y="47628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6365880" y="5805360"/>
            <a:ext cx="2765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2" descr="VOLANTE SEMIFINAL-2.jpg"/>
          <p:cNvPicPr/>
          <p:nvPr/>
        </p:nvPicPr>
        <p:blipFill>
          <a:blip r:embed="rId1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6365880" y="5805360"/>
            <a:ext cx="2765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9B245-86F9-40FE-B7C4-9D5BA7C34A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4"/>
          <p:cNvSpPr/>
          <p:nvPr/>
        </p:nvSpPr>
        <p:spPr>
          <a:xfrm>
            <a:off x="1220760" y="4005360"/>
            <a:ext cx="795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2286000"/>
            <a:ext cx="9144000" cy="2222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9" descr=""/>
          <p:cNvPicPr/>
          <p:nvPr/>
        </p:nvPicPr>
        <p:blipFill>
          <a:blip r:embed="rId11"/>
          <a:stretch/>
        </p:blipFill>
        <p:spPr>
          <a:xfrm>
            <a:off x="1878120" y="714240"/>
            <a:ext cx="5789520" cy="1346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57200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png-0644"/>
          <p:cNvPicPr/>
          <p:nvPr/>
        </p:nvPicPr>
        <p:blipFill>
          <a:blip r:embed="rId12"/>
          <a:stretch/>
        </p:blipFill>
        <p:spPr>
          <a:xfrm>
            <a:off x="3703680" y="24876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png-0652"/>
          <p:cNvPicPr/>
          <p:nvPr/>
        </p:nvPicPr>
        <p:blipFill>
          <a:blip r:embed="rId13"/>
          <a:stretch/>
        </p:blipFill>
        <p:spPr>
          <a:xfrm>
            <a:off x="7645320" y="24876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4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