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9E9-6CA4-4DA2-9FE0-31A5F78D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24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486-3BB2-40AB-B56D-6C1D6F4C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2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768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E92D-3A8A-4D55-8C4D-7831F5E6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808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2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11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808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B5BB-9DB9-4FA8-A651-25D73549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8B2B-FC97-4149-B93D-F7AB18E7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137A-958E-46C7-9DD4-BDF29A4A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B821-17D1-43CC-AF29-FCF192B8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34B9-2335-4BF5-AB23-F35655F3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49D1-6C0F-45CA-83F1-FB43CD76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74320"/>
            <a:ext cx="815328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278E-01B5-4B0F-A157-BB5EF900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142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37A3-DAC4-4E14-9870-17036371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460-B872-4B8F-89F2-0E0428F4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768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BB15-F001-414D-A658-EE44A64E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1424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F4E6-355D-4991-B02C-94950E41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1424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4F8B-9550-4185-AEC4-AE80F9B2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2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768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85FD-F50B-4AD7-9721-E155C58D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11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8808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142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11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8808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161B-3BB9-49B8-A213-043B58B7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3C26A-8F93-48A5-9EB5-29C8A4F9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BB980-A2B7-454B-B5FC-2DBE2603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A462A-A62E-432E-8089-B6DDD056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026F1-13DF-4D3B-9953-45B91CDE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AB6E3-1339-4B61-A62E-5899E782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28C-BB9B-4241-BB5D-78FE54CD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74320"/>
            <a:ext cx="815328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3D770-B147-4B76-ACF4-428C502F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5142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ED5DB-E792-490E-BD55-E1799596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768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D9FB0-7205-4F3B-9D5E-50C26B5D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1424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B5208-E152-48C5-9CF1-57DB2DEB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1424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AE84C-2F99-43C6-B0DD-57067E14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142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768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58860-931D-48B9-9B7B-140846E2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011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8808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5142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011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8808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E3635-2D69-4371-B1A3-883A3B2B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93C1-9B6C-4DE8-A1E2-12912771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771-3D97-4F8C-9BD9-A2C07BA3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74320"/>
            <a:ext cx="815328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40E1-C807-4176-A639-EF149952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2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2A6-BE28-4F9B-8D48-6ADDD43C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768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081-457C-4D19-BDC3-B1568956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24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DA5-2351-4C79-95D5-815D06A0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1" marL="447840" indent="447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2" marL="89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3" marL="1343880" indent="-447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4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5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6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7C01-4F31-4359-B877-BBD0E83770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D17F-2AA7-4C9D-8D87-2A569926F3E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BE1A-A374-482F-8E6E-6C530B78FAA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1" marL="447840" indent="447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2" marL="89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3" marL="1343880" indent="-447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4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5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6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F1EF-0A8D-43BA-96F9-DEDCF069A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SLASH</a:t>
            </a: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430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SUBTOPIC GOES HERE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1940040" y="144792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国外科幻图片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SLASH</a:t>
            </a: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SUBTOPICS GO HERE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TRANSITION</a:t>
            </a: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30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3CA5-11BD-44F0-9D02-E67510E50C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PRINT PAGE</a:t>
            </a: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6:05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42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