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CFDA-0A01-4266-A675-87B18F8E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C83-7BD2-4052-A000-84D2B7BC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F523-B628-4FC1-9C07-72D5E800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BA9-12C9-4AFD-9D14-B69EF9D4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6954-43B2-45A8-89D3-E08FD7EF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7182-43D8-48B2-8286-23C05095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01B6-B41D-430D-8F39-4BE5C302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F760-CEE0-419B-A65A-C95F22B7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22CA-E2A3-4A92-9459-3BB500A2F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CBFB-1022-4288-9DEB-2DEA3FBA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A1B1-9552-4DAC-A86B-9505FB02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41AA-5EA1-459B-BF73-4BADDBB7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910B-9625-437C-90D3-DFB98F54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9BDE-C74C-4F21-8DBC-CCE53FBB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DA3C-608C-4D39-AFB7-794705A4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1F24-725E-4325-8498-FDCDA5EA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C07E-40BF-443E-A847-09262B56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D2C1-5EDD-421E-9394-D0EB2CD3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DDB-0012-4E98-BF24-62B3767E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879-F6E1-4516-B581-62099C07A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6951-F937-4FEB-B1E3-7C43D2CA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655D-7BEC-4099-B2D5-F259656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BB1-BAFC-4F0D-8617-53B7315A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37C9-2DFD-481C-ACDB-F5B47F3E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CC75-DA6D-4C78-ADE4-B3BADC75EDC2}" type="slidenum">
              <a:rPr b="0" lang="en-US" sz="1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1649-5C0A-4BD6-94F3-3BA469DBC1A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3854-679D-424A-B5CC-C919CC91986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68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 Rounded MT Bold"/>
              </a:rPr>
              <a:t>国外卡通家庭</a:t>
            </a:r>
            <a:r>
              <a:rPr b="0" lang="en-US" sz="4000" spc="-1" strike="noStrike">
                <a:solidFill>
                  <a:srgbClr val="336600"/>
                </a:solidFill>
                <a:latin typeface="Arial Rounded MT Bold"/>
              </a:rPr>
              <a:t>PPT</a:t>
            </a:r>
            <a:r>
              <a:rPr b="0" lang="en-US" sz="4000" spc="-1" strike="noStrike">
                <a:solidFill>
                  <a:srgbClr val="336600"/>
                </a:solidFill>
                <a:latin typeface="Arial Rounded MT Bold"/>
              </a:rPr>
              <a:t>模板</a:t>
            </a:r>
            <a:r>
              <a:rPr b="0" lang="zh-CN" sz="4000" spc="-1" strike="noStrike">
                <a:solidFill>
                  <a:srgbClr val="336600"/>
                </a:solidFill>
                <a:latin typeface="Arial Rounded MT Bold"/>
              </a:rPr>
              <a:t>免费下载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Your 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200"/>
          <p:cNvSpPr/>
          <p:nvPr/>
        </p:nvSpPr>
        <p:spPr>
          <a:xfrm>
            <a:off x="1219320" y="3276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4099"/>
          <p:cNvSpPr/>
          <p:nvPr/>
        </p:nvSpPr>
        <p:spPr>
          <a:xfrm>
            <a:off x="228600" y="2035080"/>
            <a:ext cx="59436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 Rounded MT Bold"/>
                <a:ea typeface="Arial"/>
              </a:rPr>
              <a:t>Transitional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100"/>
          <p:cNvSpPr/>
          <p:nvPr/>
        </p:nvSpPr>
        <p:spPr>
          <a:xfrm>
            <a:off x="457200" y="3886200"/>
            <a:ext cx="5486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Your 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3E52-17BC-470F-A3BA-28F6DECC14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Your Topic Goes Here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7T15:35:1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1:20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