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442-8891-42B6-BF3E-CCDEBDCF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D27-0F43-4C76-BABE-D88B7EEF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D42-7EB8-4F88-A024-E92A5CEB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67E-62E0-4749-B07E-3952F4C6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CD80-11F4-4C19-A7F3-C3EDFF1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F1A-BE67-40D4-9C04-ADBB9E6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9373-7293-4AD8-8985-CFAD41D4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C7F9-CA96-41FA-B16C-1B1A775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04EC-50A3-4093-8578-5FFC200F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5DC6-2051-43C8-A8AF-B92D151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B2FE-A235-4C8F-A4B3-8F80BE1A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0CA-975A-4AB2-BB7C-4C6EF0F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4226-6193-4038-96B5-FAB0E04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9D9A-0B4C-403A-BE6E-BB524B0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EA1A-14E6-4849-B184-4994D3DE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9B9-9FC8-4E71-A818-4E5B043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E2DC-CB33-42A1-9678-6064348E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68A5-F124-4F89-9AC4-7D9DF0D5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39FA-53E1-43F3-A65A-9CEA277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49FA-B415-418C-9CA6-9A1E6EE5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A422-8EE6-4C1C-A4C9-8F4458F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327D-7D0B-446E-AC5A-8197ADAA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1A8-8848-4F1F-B4C4-8192CA21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B1EC-2050-47AE-901B-24D6E468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59BA-8C6D-4428-9488-8AC1B801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DDF1-6B76-4801-A5B4-DE19E12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D864-6DA8-4FB8-95C2-0820409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100F1-FB29-4DA2-9AC5-F7288963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FC05D-7F95-4BFA-BE21-42F6FCB0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17C0-C423-4412-8AF4-2DB0BB1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9C7-6E98-4495-B4ED-D1498FA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1E9-283C-4F64-A441-5292262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2DC-953F-45CC-AF0B-C26E16B4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7CC-6F7C-4BA2-87F5-D8060C75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9BA-48D0-41B1-9A89-85A65CC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7B8-7C17-47F2-A8CA-547619CE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FF8-A112-4609-81AE-75BCC8801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4CE-10E9-495A-BE86-2F58F74B3FF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C27-D71A-4BD0-A459-3632FA0693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B51-4FA0-4625-A8FB-B3305F8A8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2051" descr="Z:\newtek\_backgrounds_1.02\Tim\_powerpoint templates\mad_scientist\vessel.jpg"/>
          <p:cNvPicPr/>
          <p:nvPr/>
        </p:nvPicPr>
        <p:blipFill>
          <a:blip r:embed="rId1"/>
          <a:stretch/>
        </p:blipFill>
        <p:spPr>
          <a:xfrm>
            <a:off x="298440" y="3772080"/>
            <a:ext cx="474516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533520"/>
            <a:ext cx="66294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mi Head 426"/>
              </a:rPr>
              <a:t>A Mad Scientist’s Chemistry Presentation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320" y="274320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d7e"/>
                </a:solidFill>
                <a:latin typeface="Arial Black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056"/>
          <p:cNvSpPr/>
          <p:nvPr/>
        </p:nvSpPr>
        <p:spPr>
          <a:xfrm>
            <a:off x="7086600" y="4800600"/>
            <a:ext cx="1676520" cy="167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图片 2058" descr="Z:\newtek\_backgrounds_1.02\Tim\_powerpoint templates\mad_scientist\mad science anims\mad_scientist_swirling_beaker_example.gif"/>
          <p:cNvPicPr/>
          <p:nvPr/>
        </p:nvPicPr>
        <p:blipFill>
          <a:blip r:embed="rId2"/>
          <a:stretch/>
        </p:blipFill>
        <p:spPr>
          <a:xfrm>
            <a:off x="7467480" y="5029200"/>
            <a:ext cx="857520" cy="12574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711520" y="315900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卡通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椭圆 4102"/>
          <p:cNvSpPr/>
          <p:nvPr/>
        </p:nvSpPr>
        <p:spPr>
          <a:xfrm>
            <a:off x="19080" y="533520"/>
            <a:ext cx="1828800" cy="18288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101" descr="Z:\newtek\_backgrounds_1.02\Tim\_powerpoint templates\mad_scientist\mad science anims\mad_scientist_shaking_test_tube_example.gif"/>
          <p:cNvPicPr/>
          <p:nvPr/>
        </p:nvPicPr>
        <p:blipFill>
          <a:blip r:embed="rId1"/>
          <a:stretch/>
        </p:blipFill>
        <p:spPr>
          <a:xfrm>
            <a:off x="457200" y="76212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4105" descr="Z:\newtek\_backgrounds_1.02\Tim\_powerpoint templates\mad_scientist\molecule.png"/>
          <p:cNvPicPr/>
          <p:nvPr/>
        </p:nvPicPr>
        <p:blipFill>
          <a:blip r:embed="rId2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200"/>
          <p:cNvSpPr/>
          <p:nvPr/>
        </p:nvSpPr>
        <p:spPr>
          <a:xfrm>
            <a:off x="1917720" y="603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123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2819520" y="4267080"/>
            <a:ext cx="327636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580920"/>
            <a:ext cx="9067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d7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mi Head 426"/>
              </a:rPr>
              <a:t>Transitional Page</a:t>
            </a:r>
            <a:endParaRPr b="0" lang="en-US" sz="48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057040" y="563868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139" name="椭圆 5124"/>
          <p:cNvSpPr/>
          <p:nvPr/>
        </p:nvSpPr>
        <p:spPr>
          <a:xfrm>
            <a:off x="3657600" y="1828800"/>
            <a:ext cx="160020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图片 5125" descr="Z:\newtek\_backgrounds_1.02\Tim\_powerpoint templates\mad_scientist\mad science anims\mad_scientist_head_inquisitive_example.gif"/>
          <p:cNvPicPr/>
          <p:nvPr/>
        </p:nvPicPr>
        <p:blipFill>
          <a:blip r:embed="rId2"/>
          <a:stretch/>
        </p:blipFill>
        <p:spPr>
          <a:xfrm>
            <a:off x="3962520" y="2133720"/>
            <a:ext cx="1028520" cy="971280"/>
          </a:xfrm>
          <a:prstGeom prst="rect">
            <a:avLst/>
          </a:prstGeom>
          <a:ln w="0">
            <a:noFill/>
          </a:ln>
        </p:spPr>
      </p:pic>
      <p:sp>
        <p:nvSpPr>
          <p:cNvPr id="141" name="矩形标注 5126"/>
          <p:cNvSpPr/>
          <p:nvPr/>
        </p:nvSpPr>
        <p:spPr>
          <a:xfrm>
            <a:off x="5200560" y="685800"/>
            <a:ext cx="3124440" cy="1527120"/>
          </a:xfrm>
          <a:prstGeom prst="wedgeRectCallout">
            <a:avLst>
              <a:gd name="adj1" fmla="val -53810"/>
              <a:gd name="adj2" fmla="val 7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5128"/>
          <p:cNvSpPr/>
          <p:nvPr/>
        </p:nvSpPr>
        <p:spPr>
          <a:xfrm>
            <a:off x="5257800" y="685800"/>
            <a:ext cx="295272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several expressions and can provide additional comments for your presentation, search the Premium Gold Site for more animations of m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d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5602-CF0A-4B70-86BB-6AC8ECA78C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005d7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147" descr="Z:\newtek\_backgrounds_1.02\Tim\_powerpoint templates\mad_scientist\mad science anims\mad_scientist_thinking_equation_example.gif"/>
          <p:cNvPicPr/>
          <p:nvPr/>
        </p:nvPicPr>
        <p:blipFill>
          <a:blip r:embed="rId2"/>
          <a:stretch/>
        </p:blipFill>
        <p:spPr>
          <a:xfrm>
            <a:off x="304920" y="838080"/>
            <a:ext cx="1143000" cy="1200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151" descr="Z:\newtek\_backgrounds_1.02\Tim\_powerpoint templates\mad_scientist\molecule.png"/>
          <p:cNvPicPr/>
          <p:nvPr/>
        </p:nvPicPr>
        <p:blipFill>
          <a:blip r:embed="rId3"/>
          <a:stretch/>
        </p:blipFill>
        <p:spPr>
          <a:xfrm>
            <a:off x="6553080" y="5362560"/>
            <a:ext cx="2438640" cy="137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15:19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