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C2E0-1B69-4D83-8664-BE2C0DBA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7760" y="37497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E12B-2129-4B3E-BF52-C993126C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776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17148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8DD2-1CDB-4D8D-B208-4F9D405F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912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7012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776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0912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7012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41A5-A75D-4A55-97EB-261FD6E6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B7D7-D45A-43C0-AEFC-02889099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86F6-4C60-4913-9317-585AF747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FCAE-3112-4A58-B04E-965626B7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8BFD-FA37-4BD6-8C8D-661C569A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7B94-2C76-4BED-8E5F-8DF71998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F8D7-A8A2-4FCF-AECD-88FD797E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776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C097-7E91-4020-95AF-CC0EB7E9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7DE6-BAE8-4ABB-A14D-042A83B1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7148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182C-640F-41C7-AEE9-A56C1B77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7760" y="37497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1AA4-F10C-44FF-88E1-2475B3FB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7760" y="37497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EFA3-5F14-44AC-9946-19930057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776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17148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CB19-14DF-45CF-A8B5-A6B6E3F2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0912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7012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776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10912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17012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A353-2655-4219-A67D-01C1076D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8DDBB-5757-4379-B7D5-94EEA461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13578-2B4B-4800-BCAA-1999108B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4708F-9E14-459C-91B2-047F8196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364F0-55F8-4A7B-AE71-A7A8FFAD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A71C8-511F-4361-986C-29D49983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356F-7C7F-4167-89BB-867575F0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B9098-10E6-4298-B19B-CE56D546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776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30920-FEA6-4F5C-8798-61E7AB2B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17148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CA504-92DC-4DA5-BC17-A4EC0B11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7760" y="37497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A8F40-A827-46FC-BB09-05F3EA16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7760" y="37497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DC41A-6BDF-4F9B-BF8B-4C0684F3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776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17148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1727A-5043-4BED-9655-E94810C2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0912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170120" y="1600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776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510912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170120" y="37497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98DAD-4931-4522-A3F1-FF5A9D3F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924A-680C-42E9-B308-CC11FDDA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B580-0A1F-4BA9-B2AD-44DD3A23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F634-18D9-4AEF-A043-91E345A9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776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E6DA-9196-4EB7-98CC-23F40545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71480" y="37497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D99-DDA6-47B9-AFE0-D0281857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171480" y="1600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7760" y="37497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D9BE-2B79-4391-BC17-83073B80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1944-C85F-4C97-BCB4-26C1A9A7F0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848F-10C3-40A6-913B-60D9257BA9F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938F-B031-4A2B-AB47-3900D3A5434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CFCD-1561-4755-A94E-4794CEDB32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Very Violin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1294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Sub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1422360" y="6489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2980800" y="198900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国外卡通小提琴幻灯片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dd Title He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Print Pag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8200"/>
          <p:cNvSpPr/>
          <p:nvPr/>
        </p:nvSpPr>
        <p:spPr>
          <a:xfrm>
            <a:off x="2050920" y="34732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3370-E616-4C32-A005-70A20653648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4:18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21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