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BE5-8503-4268-899C-F1E50E03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1E8-E4A9-4116-B161-BE5A024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E70-92C3-448B-ADB7-F7B8006C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726-5A13-495B-A588-9DE0F3D9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23CF-78E0-4276-B881-1F628D0F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51A5-8861-453B-9C31-0CE2B9E3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39E6-B9BB-45C3-8057-67E099F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A5F0-43AC-4664-BAFE-06E144B8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9BCC-56A4-47DF-AC51-5D57D07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C940-184A-4585-8ED1-AA68E7C6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520B-ECE4-4871-A5A7-BEAFB78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4AD-9E3E-4326-AF15-D4B36517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A684-362E-4663-98D9-8EE69C3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6E4-95B2-4815-BB54-051DD18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7055-F70A-4009-A4C7-979062B2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853B-F2BF-4A45-A416-6200D7C1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A1FB-34AE-41B4-9B08-98744AC2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FE1D-221B-4F28-81B7-0E6FC579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A74C-485D-4354-A606-5D5EC255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D970-794B-488A-9388-B3A26A2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C492-29EF-4B0F-902F-77876F3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A436-1773-4BDF-AEE1-1ED9B31E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157-13BF-4101-BA1F-2691F496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82C4-6480-4E99-AFD0-39C877DC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095B-3C33-42D6-AF6C-68F76DB7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F87E-389D-4906-B2E5-F1E0B54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326C-364C-4352-89B0-881F260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DB1C-CC4D-4CAC-B088-20531CC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614F-C9EC-4215-AB94-00C20A7C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9BE7-B64A-4730-8940-E972691A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B84-E6A0-4FD1-A274-C6060DFC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906-07DE-4317-B507-B21411B1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D6B-311B-4B8C-9EB7-78D7F363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678-CA71-4D6A-B521-90F9F9D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C94-9CBD-4A34-A14D-95C066A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F04-0DAC-4E03-A2F1-BDF4373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C8E2-FBFD-4232-83EE-0B9B660DAD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8CB-83C3-40E1-8BC8-FE507660272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9B74-88D2-4D7E-B15F-28E45302A5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0327-E58C-4862-A3E0-7338AF366F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69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卡通校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0880" y="45720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200"/>
          <p:cNvSpPr/>
          <p:nvPr/>
        </p:nvSpPr>
        <p:spPr>
          <a:xfrm>
            <a:off x="1044720" y="2781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276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25D-DBA1-4CFA-A7C7-5421F5B568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759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9221" descr="old_schoolhouse_prt"/>
          <p:cNvPicPr/>
          <p:nvPr/>
        </p:nvPicPr>
        <p:blipFill>
          <a:blip r:embed="rId1"/>
          <a:stretch/>
        </p:blipFill>
        <p:spPr>
          <a:xfrm>
            <a:off x="563868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8" name="图片 9222" descr="old_schoolhouse_qx"/>
          <p:cNvPicPr/>
          <p:nvPr/>
        </p:nvPicPr>
        <p:blipFill>
          <a:blip r:embed="rId2"/>
          <a:stretch/>
        </p:blipFill>
        <p:spPr>
          <a:xfrm>
            <a:off x="205740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9" name="图片 9223" descr="old_schoolhouse_sld"/>
          <p:cNvPicPr/>
          <p:nvPr/>
        </p:nvPicPr>
        <p:blipFill>
          <a:blip r:embed="rId3"/>
          <a:stretch/>
        </p:blipFill>
        <p:spPr>
          <a:xfrm>
            <a:off x="2057400" y="409572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40" name="图片 9224" descr="old_schoolhouse_trs"/>
          <p:cNvPicPr/>
          <p:nvPr/>
        </p:nvPicPr>
        <p:blipFill>
          <a:blip r:embed="rId4"/>
          <a:stretch/>
        </p:blipFill>
        <p:spPr>
          <a:xfrm>
            <a:off x="563868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880" y="45720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0:38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2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