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09B-C37D-4194-AB10-51ED93E8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CA1-9316-4883-A60B-1B0A1E2F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9E1B-3AD5-4E95-B8B1-0B9ED844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369-C019-46DB-95FF-52CC8310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38C4-EB33-44B6-98DC-82A0501E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10C0-3B77-4996-B0E8-F7129FB7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986F-8002-4F2E-BB09-7A4DF09C3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4271-E79D-4F57-B778-949ADEE0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83AE-2447-4FB3-9115-A03C5460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9C33-42B2-42FF-8187-A6D5F9C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A3F9-F0C3-4360-9BAA-0D4067D3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D54-EF69-4E0F-B918-EEC4ABBA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0435-8D2D-4C34-897E-A857CB31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B98E-3E06-4E3A-8358-007E942A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2E28-2560-499D-861D-E75FAE63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B873-41F5-4544-B948-FBD960DC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E9D49-2920-4F91-A452-8F7C6DD5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F8F9-C91E-4753-A008-20DE3DB7B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4E3A5-A654-4976-95F6-5102B97E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B51B5-3689-408A-B1C1-84207999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ED33D-CF1A-408D-A5CA-E41008A9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6E82-6C5C-4AE1-AE91-F18FAA09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F74-88C4-4C05-B304-6239308C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C1BF0-0C69-4014-BB1F-8D5264A7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CE1EB-A8E3-46A7-A587-264F911B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0069-BF7D-4C6C-A432-70BBD5C4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6552B-096A-4CC0-A13B-46FFE54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589C-595F-4CED-9071-C66BB5BF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BE00D-E3DA-4B1E-8DD1-E796985D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428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77640" y="9810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205092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6428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77640" y="3425400"/>
            <a:ext cx="22028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7D6F6-E771-46DD-B739-0BA7307F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76B-EE1A-4F75-A816-895A7939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6D7A-48B1-4C57-B7C4-0792D5D9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0920" y="333000"/>
            <a:ext cx="50421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70A1-FF30-4823-A398-3DA83997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0FA-EA04-42C2-8218-F73418FD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6960" y="34254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25D-73DB-4ABC-BC87-204B7434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092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6960" y="981000"/>
            <a:ext cx="33386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0920" y="3425400"/>
            <a:ext cx="6842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6E7-C9A5-4880-B27E-0788C68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050920" y="5877000"/>
            <a:ext cx="2232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5876640"/>
            <a:ext cx="4465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5640" y="333000"/>
            <a:ext cx="1657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E6FC-012A-4826-B6B6-255FEFD721A3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3BA4-4799-4BE1-AC81-CB40E6D7E99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D3B8-69A2-459E-B77F-FA92196DB5D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078"/>
          <p:cNvSpPr txBox="1"/>
          <p:nvPr/>
        </p:nvSpPr>
        <p:spPr>
          <a:xfrm>
            <a:off x="1763640" y="1125360"/>
            <a:ext cx="5688000" cy="1582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33"/>
                </a:solidFill>
                <a:latin typeface="Arial"/>
              </a:rPr>
              <a:t>St. Valentine's Day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457200" indent="4572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91440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78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484000" y="6237000"/>
            <a:ext cx="4824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478640" y="6237000"/>
            <a:ext cx="1486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1CD2-8117-4A53-B2CF-3A5862CF2D24}" type="slidenum">
              <a:rPr b="1" lang="zh-CN" sz="1400" spc="-1" strike="noStrike">
                <a:solidFill>
                  <a:srgbClr val="8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3851280" y="5516280"/>
            <a:ext cx="511344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文本框 2051"/>
          <p:cNvSpPr/>
          <p:nvPr/>
        </p:nvSpPr>
        <p:spPr>
          <a:xfrm>
            <a:off x="395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71280" y="44280"/>
            <a:ext cx="6985080" cy="9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国外情人节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模板免费下载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E177-59BC-48C9-95AF-E81773D66D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042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0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050920" y="981000"/>
            <a:ext cx="6842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14:18:5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39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