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CB04-BE40-45D7-8024-BE36D3DA8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0B49-3844-4DDE-8853-2F63C0A29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147F-7891-41C7-9FCF-7A378D701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A5FE-A466-41D7-BCA7-D954FFB9C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84CBB-B89F-4284-9CCD-D971668B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4AB2-7574-49FB-BAFA-33D4CBB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45A5-6F47-4B14-9231-16601F7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7546-ECDF-4CE4-83FA-6114C40F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BB6D-89EB-4FDB-BB6B-1941435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5FF02-994D-4D7C-9BF5-1E6275F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5E03E-2B9D-46A7-9DF0-87839A6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539D-84B5-4F31-AF55-C07CCD87D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CC217-083F-4255-84C4-BEC69F1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577FD-2DF2-4D00-A610-735091E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D4E3A-121D-4CF0-B05D-B330366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45F8-CB77-4CB3-91FE-9EFCEF4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85A18-DCD4-4DEF-A363-598071AE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B3CF-8389-473D-92FA-18AE563048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73EB-9800-4BC0-90AB-6691D542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05C7-4BE3-4610-8EBF-C59078C8B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77EC-1808-4B2A-ADE5-5EC5DD422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8CF6-36AF-4CE1-96E3-A103BD4B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789D-1BB6-40CE-A2FB-785D036F0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6417-D8F6-4296-A504-D70D1764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397" descr="back_gr"/>
          <p:cNvPicPr/>
          <p:nvPr/>
        </p:nvPicPr>
        <p:blipFill>
          <a:blip r:embed="rId2"/>
          <a:srcRect l="0" t="0" r="26719" b="-795"/>
          <a:stretch/>
        </p:blipFill>
        <p:spPr>
          <a:xfrm>
            <a:off x="36360" y="4248000"/>
            <a:ext cx="9093240" cy="263700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12381"/>
          <p:cNvSpPr/>
          <p:nvPr/>
        </p:nvSpPr>
        <p:spPr>
          <a:xfrm>
            <a:off x="34920" y="1440"/>
            <a:ext cx="9121680" cy="1587600"/>
          </a:xfrm>
          <a:custGeom>
            <a:avLst/>
            <a:gdLst/>
            <a:ahLst/>
            <a:rect l="l" t="t" r="r" b="b"/>
            <a:pathLst>
              <a:path w="5746" h="1000">
                <a:moveTo>
                  <a:pt x="0" y="597"/>
                </a:moveTo>
                <a:cubicBezTo>
                  <a:pt x="314" y="564"/>
                  <a:pt x="1218" y="424"/>
                  <a:pt x="1887" y="400"/>
                </a:cubicBezTo>
                <a:cubicBezTo>
                  <a:pt x="2556" y="376"/>
                  <a:pt x="3514" y="406"/>
                  <a:pt x="4233" y="518"/>
                </a:cubicBezTo>
                <a:cubicBezTo>
                  <a:pt x="4919" y="635"/>
                  <a:pt x="5665" y="919"/>
                  <a:pt x="5738" y="1000"/>
                </a:cubicBezTo>
                <a:lnTo>
                  <a:pt x="5746" y="0"/>
                </a:lnTo>
                <a:lnTo>
                  <a:pt x="1" y="7"/>
                </a:lnTo>
              </a:path>
            </a:pathLst>
          </a:cu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1D9-9FFB-4B8A-9040-FFE5DE228E53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椭圆 12398"/>
          <p:cNvSpPr/>
          <p:nvPr/>
        </p:nvSpPr>
        <p:spPr>
          <a:xfrm>
            <a:off x="8459640" y="1197000"/>
            <a:ext cx="35892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椭圆 12399"/>
          <p:cNvSpPr/>
          <p:nvPr/>
        </p:nvSpPr>
        <p:spPr>
          <a:xfrm>
            <a:off x="7956720" y="98100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椭圆 12400"/>
          <p:cNvSpPr/>
          <p:nvPr/>
        </p:nvSpPr>
        <p:spPr>
          <a:xfrm>
            <a:off x="7426440" y="81108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8" name="组合 12407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9" name="任意多边形 12408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" name="圆角矩形 12409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1" name="任意多边形 12410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2" name="任意多边形 12411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3" name="任意多边形 12412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84720" y="6453360"/>
            <a:ext cx="2895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E783-8667-49FF-8643-7F0C1309B7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C4D-697F-4DEE-ABCB-5766678738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3408"/>
          <p:cNvSpPr/>
          <p:nvPr/>
        </p:nvSpPr>
        <p:spPr>
          <a:xfrm>
            <a:off x="41400" y="260280"/>
            <a:ext cx="9083520" cy="6264360"/>
          </a:xfrm>
          <a:prstGeom prst="rect">
            <a:avLst/>
          </a:prstGeom>
          <a:gradFill rotWithShape="0">
            <a:gsLst>
              <a:gs pos="0">
                <a:srgbClr val="072b30"/>
              </a:gs>
              <a:gs pos="100000">
                <a:srgbClr val="0f5d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3" name="椭圆 13432"/>
          <p:cNvSpPr/>
          <p:nvPr/>
        </p:nvSpPr>
        <p:spPr>
          <a:xfrm>
            <a:off x="4067280" y="2133720"/>
            <a:ext cx="4610160" cy="4724280"/>
          </a:xfrm>
          <a:prstGeom prst="ellipse">
            <a:avLst/>
          </a:prstGeom>
          <a:gradFill rotWithShape="0">
            <a:gsLst>
              <a:gs pos="0">
                <a:srgbClr val="072b30"/>
              </a:gs>
              <a:gs pos="100000">
                <a:srgbClr val="0f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4" name="任意多边形 13396"/>
          <p:cNvSpPr/>
          <p:nvPr/>
        </p:nvSpPr>
        <p:spPr>
          <a:xfrm>
            <a:off x="19080" y="-934920"/>
            <a:ext cx="9059760" cy="5284800"/>
          </a:xfrm>
          <a:custGeom>
            <a:avLst/>
            <a:gdLst/>
            <a:ahLst/>
            <a:rect l="l" t="t" r="r" b="b"/>
            <a:pathLst>
              <a:path w="5707" h="3329">
                <a:moveTo>
                  <a:pt x="0" y="1248"/>
                </a:moveTo>
                <a:cubicBezTo>
                  <a:pt x="4541" y="0"/>
                  <a:pt x="5513" y="2381"/>
                  <a:pt x="5536" y="3329"/>
                </a:cubicBezTo>
                <a:lnTo>
                  <a:pt x="5699" y="3263"/>
                </a:lnTo>
                <a:lnTo>
                  <a:pt x="5707" y="600"/>
                </a:lnTo>
                <a:lnTo>
                  <a:pt x="0" y="600"/>
                </a:lnTo>
              </a:path>
            </a:pathLst>
          </a:custGeom>
          <a:gradFill rotWithShape="0">
            <a:gsLst>
              <a:gs pos="0">
                <a:srgbClr val="036741"/>
              </a:gs>
              <a:gs pos="100000">
                <a:srgbClr val="0593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pic>
        <p:nvPicPr>
          <p:cNvPr id="95" name="图片 13407" descr="back_g"/>
          <p:cNvPicPr/>
          <p:nvPr/>
        </p:nvPicPr>
        <p:blipFill>
          <a:blip r:embed="rId2"/>
          <a:stretch/>
        </p:blipFill>
        <p:spPr>
          <a:xfrm>
            <a:off x="30240" y="4221000"/>
            <a:ext cx="9075600" cy="26067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3406"/>
          <p:cNvSpPr/>
          <p:nvPr/>
        </p:nvSpPr>
        <p:spPr>
          <a:xfrm>
            <a:off x="7451640" y="47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7" name="椭圆 13414"/>
          <p:cNvSpPr/>
          <p:nvPr/>
        </p:nvSpPr>
        <p:spPr>
          <a:xfrm>
            <a:off x="6934320" y="1152360"/>
            <a:ext cx="380880" cy="40356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8" name="椭圆 13415"/>
          <p:cNvSpPr/>
          <p:nvPr/>
        </p:nvSpPr>
        <p:spPr>
          <a:xfrm>
            <a:off x="7451640" y="1557360"/>
            <a:ext cx="38124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9" name="椭圆 13416"/>
          <p:cNvSpPr/>
          <p:nvPr/>
        </p:nvSpPr>
        <p:spPr>
          <a:xfrm>
            <a:off x="7885080" y="2060640"/>
            <a:ext cx="38088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00" name="组合 13431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101" name="任意多边形 13425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2" name="圆角矩形 13427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3" name="任意多边形 13428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4" name="任意多边形 13429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5" name="任意多边形 13430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06" name="椭圆 13433"/>
          <p:cNvSpPr/>
          <p:nvPr/>
        </p:nvSpPr>
        <p:spPr>
          <a:xfrm>
            <a:off x="1835280" y="5661000"/>
            <a:ext cx="934920" cy="9367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3a2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7" name="椭圆 13434"/>
          <p:cNvSpPr/>
          <p:nvPr/>
        </p:nvSpPr>
        <p:spPr>
          <a:xfrm>
            <a:off x="900000" y="5830920"/>
            <a:ext cx="505080" cy="503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2e3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3360" y="3111120"/>
            <a:ext cx="8196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国外企业介绍</a:t>
            </a: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f5d6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5d6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4D6C-C283-4847-98B3-50AFA8DA74A6}" type="slidenum">
              <a:rPr b="0" lang="zh-CN" sz="1400" spc="-1" strike="noStrike">
                <a:solidFill>
                  <a:srgbClr val="0f5d6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49153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5935d"/>
                    </a:gs>
                    <a:gs pos="100000">
                      <a:srgbClr val="69aab1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5935d"/>
                  </a:gs>
                  <a:gs pos="100000">
                    <a:srgbClr val="69aab1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矩形 49154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0f5d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Your Company Slogan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圆角矩形 35843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442b"/>
              </a:gs>
              <a:gs pos="50000">
                <a:srgbClr val="05935d"/>
              </a:gs>
              <a:gs pos="100000">
                <a:srgbClr val="02442b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. Introduct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0" name="圆角矩形 35844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14f52"/>
              </a:gs>
              <a:gs pos="50000">
                <a:srgbClr val="69aab1"/>
              </a:gs>
              <a:gs pos="100000">
                <a:srgbClr val="314f5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. Strategy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1" name="圆角矩形 35845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. Challenges Forward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2" name="圆角矩形 35846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32b"/>
              </a:gs>
              <a:gs pos="50000">
                <a:srgbClr val="326e5d"/>
              </a:gs>
              <a:gs pos="100000">
                <a:srgbClr val="17332b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. Conclus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9a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ab1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77960" y="1900080"/>
          <a:ext cx="7524720" cy="3556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  <a:gridCol w="1504800"/>
              </a:tblGrid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c4a7"/>
                        </a:gs>
                        <a:gs pos="100000">
                          <a:srgbClr val="05935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ed4"/>
                        </a:gs>
                        <a:gs pos="100000">
                          <a:srgbClr val="c8e0b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e374"/>
                        </a:gs>
                        <a:gs pos="100000">
                          <a:srgbClr val="99cc0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fb0a7"/>
                        </a:gs>
                        <a:gs pos="100000">
                          <a:srgbClr val="326e5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5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9aab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椭圆 44033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9" name="椭圆 44034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44036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2" name="椭圆 44037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26e5d"/>
              </a:gs>
              <a:gs pos="100000">
                <a:srgbClr val="11262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3" name="椭圆 44038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100000">
                <a:srgbClr val="243b3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4" name="椭圆 44039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5" name="椭圆 44040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74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6" name="矩形 44041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d67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圆角矩形 45058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6e5d"/>
              </a:gs>
              <a:gs pos="100000">
                <a:srgbClr val="17332b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9" name="圆角矩形 45059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e0b0"/>
              </a:gs>
              <a:gs pos="100000">
                <a:srgbClr val="555f4b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0" name="圆角矩形 45060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1" name="燕尾形 45061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2" name="燕尾形 45062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69aab1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3" name="燕尾形 45063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326e5d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圆角矩形 47106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6" name="圆角矩形 47107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7" name="圆角矩形 47108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8" name="圆角矩形 47109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79" name="组合 47110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80" name="矩形 47111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26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81" name="组合 47112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82" name="椭圆 47113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3" name="矩形 47114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4" name="椭圆 47115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5" name="椭圆 47116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86" name="矩形 47117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87" name="组合 47118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88" name="椭圆 47119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9" name="矩形 47120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0" name="椭圆 47121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1" name="椭圆 47122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92" name="矩形 47123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326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93" name="组合 47124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194" name="椭圆 47125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5" name="矩形 47126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6" name="椭圆 47127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7" name="椭圆 47128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98" name="矩形 47129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99" name="圆角矩形 47130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0" name="圆角矩形 47131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1" name="圆角矩形 47132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2" name="圆角矩形 47133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内容占位符 37891" descr=""/>
          <p:cNvPicPr/>
          <p:nvPr/>
        </p:nvPicPr>
        <p:blipFill>
          <a:blip r:embed="rId1"/>
          <a:stretch/>
        </p:blipFill>
        <p:spPr>
          <a:xfrm>
            <a:off x="1765440" y="1247760"/>
            <a:ext cx="56386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椭圆 48130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7" name="椭圆 48131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50000">
                <a:srgbClr val="c5d8da"/>
              </a:gs>
              <a:gs pos="100000">
                <a:srgbClr val="0f5d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8" name="椭圆 48132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36c70"/>
              </a:gs>
              <a:gs pos="100000">
                <a:srgbClr val="69aab1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9" name="任意多边形 48133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0" name="任意多边形 48134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c8e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1" name="任意多边形 48135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2" name="任意多边形 48136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3" name="任意多边形 48137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4" name="任意多边形 48138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5" name="任意多边形 48139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f5d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216" name="组合 48140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217" name="任意多边形 48141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218" name="任意多边形 48142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219" name="任意多边形 48143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220" name="任意多边形 48144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1" name="任意多边形 48145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2" name="任意多边形 48146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3" name="椭圆 48147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50000">
                <a:srgbClr val="dbeaec"/>
              </a:gs>
              <a:gs pos="100000">
                <a:srgbClr val="69aa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4" name="椭圆 48148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5" name="圆角矩形 48149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6" name="圆角矩形 48150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7" name="圆角矩形 48151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8" name="圆角矩形 48152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9" name="圆角矩形 48153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30" name="圆角矩形 48154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8:2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1:0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